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0E6-DBC2-4E57-8476-98D95D8E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B62-9EED-48A2-8BC6-47C60B8A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652-6090-4D0F-A8BC-71AF8F7D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4D7-96EB-4C20-A427-4868A219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4BB8-4EFA-470B-AFA7-776D575A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0589-1340-4CDA-B7E7-377069B7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DB40-2E15-4F57-BE59-8397F385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241E-9933-40F2-B68F-0F2D0E70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25B8-559A-4AC6-B8F9-A6AA0970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93BF-7B6F-444F-9D0F-3422350B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C327-37D8-49A0-99A4-6908B7D1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2E5-4AD8-4BDC-8411-E350041B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7E59-9250-44FD-9893-334FBB8D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6C41-FD69-4BE4-AFDA-90D67D31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082B-113A-4033-8F82-4A3DB580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3A84-3AC4-422B-9FA1-6E202C96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600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216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600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216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1EDC-561D-4B22-8754-6DF5FFA7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1A2-9CEA-486D-B307-C4576BB6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C1E-F49C-4BDE-8A07-1880A1F8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92B-8FE7-44AE-A24A-3B658590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6A1-2E5D-4904-84BB-F120A538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E89-84EA-42EF-B1E9-0B9CC0CD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F68-DE5E-4C2F-974A-95DFA3BB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353-C73C-4399-9D92-A0213CB3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1" marL="690840" indent="-265680">
              <a:lnSpc>
                <a:spcPct val="125000"/>
              </a:lnSpc>
              <a:spcBef>
                <a:spcPts val="7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4767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678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767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2C4B-B58B-4CA4-BBFE-2B8478D8D05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819160" y="6400440"/>
            <a:ext cx="342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4320" y="6400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C16F-D663-46EB-8FBE-7FF4BF094A2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  <a:p>
            <a:pPr lvl="1" marL="457200" indent="0"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505050"/>
              </a:solidFill>
              <a:latin typeface="Trebuchet MS"/>
            </a:endParaRPr>
          </a:p>
          <a:p>
            <a:pPr lvl="2" marL="914400" algn="ctr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lvl="3" marL="1371600" algn="ctr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5050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4" marL="1828800" algn="ctr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5050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5050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5050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391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Trebuchet MS"/>
              </a:rPr>
              <a:t>UML 2.0 </a:t>
            </a:r>
            <a:r>
              <a:rPr b="0" lang="sr-Latn-CS" sz="3600" spc="-1" strike="noStrike">
                <a:solidFill>
                  <a:srgbClr val="e3ebf1"/>
                </a:solidFill>
                <a:latin typeface="Trebuchet MS"/>
              </a:rPr>
              <a:t>Dijagrami aktivnosti</a:t>
            </a:r>
            <a:endParaRPr b="0" lang="en-US" sz="36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57146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rebuchet MS"/>
              </a:rPr>
              <a:t>Beograd, 200</a:t>
            </a:r>
            <a:r>
              <a:rPr b="0" lang="en-US" sz="2400" spc="-1" strike="noStrike">
                <a:solidFill>
                  <a:srgbClr val="eaeaea"/>
                </a:solidFill>
                <a:latin typeface="Trebuchet MS"/>
              </a:rPr>
              <a:t>7</a:t>
            </a:r>
            <a:r>
              <a:rPr b="0" lang="sr-Latn-CS" sz="2400" spc="-1" strike="noStrike">
                <a:solidFill>
                  <a:srgbClr val="eaeae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rebuchet MS"/>
              </a:rPr>
              <a:t>Laboratorija za informacione sisteme, F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odprocesi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Subactivities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4680" y="762120"/>
          <a:ext cx="4459320" cy="58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4680" y="762120"/>
                    <a:ext cx="445932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3581280"/>
            <a:ext cx="1371600" cy="2286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352680" y="4266720"/>
            <a:ext cx="1447920" cy="17528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29000"/>
          <a:ext cx="3479760" cy="270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429000"/>
                    <a:ext cx="34797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0E6-85F4-49ED-93BC-FD98BB842121}" type="slidenum">
              <a:t>10</a:t>
            </a:fld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articije (Partitions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67000" y="790560"/>
          <a:ext cx="5877000" cy="55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7000" y="790560"/>
                    <a:ext cx="587700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1066680"/>
            <a:ext cx="33526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322200" indent="-322200">
              <a:lnSpc>
                <a:spcPts val="4000"/>
              </a:lnSpc>
              <a:spcBef>
                <a:spcPts val="55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505050"/>
                </a:solidFill>
                <a:latin typeface="Trebuchet MS"/>
              </a:rPr>
              <a:t>Particije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 predstavljaju uloge (izvršioce) u modelu odvijanja  poslovnog proces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2BD-4180-4B14-9EB1-0D52EEB77FA6}" type="slidenum">
              <a:t>11</a:t>
            </a:fld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articije (Partitions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914400"/>
            <a:ext cx="79246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05050"/>
                </a:solidFill>
                <a:latin typeface="Trebuchet MS"/>
              </a:rPr>
              <a:t>Uloga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 (izvršilac) može predstavljati poslovnog partnera, organizacioni deo, radno mesto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Uključivanje organizacionog aspek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Od verzije UML 2.0 moguće je konstruisati dvodimenzionalni grid (particije po kolonama i redovim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Moguće je particije deliti na podparticije i tako prikazati hijerarhiju particij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60E-ADED-4CA7-BF08-CCEC79CF3E67}" type="slidenum">
              <a:t>12</a:t>
            </a:fld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articije (Partitions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61960" y="792000"/>
          <a:ext cx="6218280" cy="553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792000"/>
                    <a:ext cx="621828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346-A861-4A1D-BD7E-B8A3B6C41C5B}" type="slidenum">
              <a:t>13</a:t>
            </a:fld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Tokovi (Flows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00080" y="1066680"/>
          <a:ext cx="714384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1066680"/>
                    <a:ext cx="7143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205740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505050"/>
                </a:solidFill>
                <a:latin typeface="Trebuchet MS"/>
              </a:rPr>
              <a:t>Kontrolni tok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 (Control flow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487692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505050"/>
                </a:solidFill>
                <a:latin typeface="Trebuchet MS"/>
              </a:rPr>
              <a:t>Tok objekta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 (Object flow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00080" y="3657600"/>
          <a:ext cx="7143840" cy="75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3657600"/>
                    <a:ext cx="7143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DB6-024C-4DF9-976B-1562CC9736B3}" type="slidenum">
              <a:t>14</a:t>
            </a:fld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Kraj toka (Flow final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42900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505050"/>
                </a:solidFill>
                <a:latin typeface="Trebuchet MS"/>
              </a:rPr>
              <a:t>Kraj toka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 (Flow final) – služi za označavanje kraja jednog toka ili jedne niti, dok neka druga grana ili nit imaju završetak celog procesa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847880" y="1143000"/>
          <a:ext cx="5448240" cy="189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7880" y="1143000"/>
                    <a:ext cx="544824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096-B998-4689-8A7A-3F524C4AF852}" type="slidenum">
              <a:t>15</a:t>
            </a:fld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Konektori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Connectors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0080" y="1752480"/>
          <a:ext cx="714384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1752480"/>
                    <a:ext cx="7143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762120" y="3429000"/>
            <a:ext cx="79246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505050"/>
                </a:solidFill>
                <a:latin typeface="Trebuchet MS"/>
              </a:rPr>
              <a:t>Konektori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 (</a:t>
            </a:r>
            <a:r>
              <a:rPr b="0" lang="en-US" sz="2200" spc="-1" strike="noStrike">
                <a:solidFill>
                  <a:srgbClr val="505050"/>
                </a:solidFill>
                <a:latin typeface="Trebuchet MS"/>
              </a:rPr>
              <a:t>Connectors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) služe kao pomoćno sredstvo da se ogroman dijagram aktivnosti podeli na više delova. Tačka prekida prvog dela se označi sa imenovanim konektorom a onda se isti simbol koristi kao početna tačka narednog dela dijagrama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ED2-43BA-4CBC-826E-8A448ADE020C}" type="slidenum">
              <a:t>16</a:t>
            </a:fld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Objekat (Object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00080" y="914400"/>
          <a:ext cx="714384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914400"/>
                    <a:ext cx="7143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051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Objekat (Object) – predstavlja dokument koji se prosleđuje od jedne do druge aktivnost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5486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322200" indent="-32220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Skladište (Datastore) – skladište podataka (dokumenat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5400" y="3657600"/>
          <a:ext cx="715176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5400" y="3657600"/>
                    <a:ext cx="715176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41A-F788-40AA-885B-2640295932D4}" type="slidenum">
              <a:t>17</a:t>
            </a:fld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Događaji - Signali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Signals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81532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Slanje signala (send signal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Prijem signala (receive signal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Vremenski okidač (time signal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Slanje signala sa priključenim objektom (send object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C31-6447-4CC9-A35B-A368FDD8B53C}" type="slidenum">
              <a:t>18</a:t>
            </a:fld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Događaji - Signali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Signals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371600" y="2249640"/>
          <a:ext cx="2124000" cy="23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49640"/>
                    <a:ext cx="2124000" cy="23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715000" y="2286000"/>
          <a:ext cx="2170080" cy="27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2286000"/>
                    <a:ext cx="21700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CA8-2C65-47AF-9AB6-115ECCD6AF36}" type="slidenum">
              <a:t>19</a:t>
            </a:fld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Sadržaj izlaganja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924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UML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Dijagrami aktivnosti - istorijat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Osnovni koncepti UML 2.0 dijagrama aktivnosti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Napredni koncepti UML 2.0 dijagrama aktivnosti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Primeri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ECF-03BF-4527-B755-D763DA1B80F3}" type="slidenum">
              <a:t>2</a:t>
            </a:fld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Događaji - Signali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Signals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 primer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39760" y="2604960"/>
            <a:ext cx="1968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90920"/>
            <a:ext cx="20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reiranje kvota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stock exchange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1600" y="3722760"/>
            <a:ext cx="1941480" cy="48564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5080" y="37465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nje kvota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8200" y="31510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40240" y="374796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65560" y="3124080"/>
            <a:ext cx="14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3124080"/>
            <a:ext cx="4158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213080" y="3557520"/>
            <a:ext cx="3938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86560" y="3151080"/>
            <a:ext cx="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3080" y="403848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19720" y="3151080"/>
            <a:ext cx="1258920" cy="82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34040" y="32511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jizen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ak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9080" y="5157720"/>
            <a:ext cx="727200" cy="444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4429080" y="4712760"/>
            <a:ext cx="727200" cy="444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43760" y="4662360"/>
            <a:ext cx="1258920" cy="82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762440"/>
            <a:ext cx="15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nistavan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nu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27280" y="39132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895200" y="3544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95560" y="3544920"/>
            <a:ext cx="1296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27280" y="4535640"/>
            <a:ext cx="3682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08520" y="456084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921120" y="513252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73600" y="3532320"/>
            <a:ext cx="5209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22920" y="514512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97760" y="4116240"/>
            <a:ext cx="308160" cy="303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077320" y="4179960"/>
            <a:ext cx="152280" cy="16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124840" y="358272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37440" y="4408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388280" y="501804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464240" y="3583080"/>
            <a:ext cx="67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19320" y="39513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9760" y="393876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9760" y="429408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31320" y="483876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slanje signal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622520" y="4268520"/>
            <a:ext cx="330120" cy="54612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99720" y="236232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prijem signal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6920" y="2744640"/>
            <a:ext cx="291960" cy="36828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37320" y="52070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Vremenski sign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13280" y="5181480"/>
            <a:ext cx="787320" cy="17784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08160" y="579132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nakon 15 minuta]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1676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1080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3200400"/>
            <a:ext cx="1295280" cy="7621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60" y="0"/>
                </a:lnTo>
                <a:lnTo>
                  <a:pt x="21600" y="10800"/>
                </a:lnTo>
                <a:lnTo>
                  <a:pt x="15060" y="21600"/>
                </a:lnTo>
                <a:lnTo>
                  <a:pt x="0" y="21600"/>
                </a:lnTo>
                <a:lnTo>
                  <a:pt x="654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3200400"/>
            <a:ext cx="457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320040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hvatan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vota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8BE-B967-4558-89FC-E89CABB2A032}" type="slidenum">
              <a:t>20</a:t>
            </a:fld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Ekspanzioni region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Expansion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 region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2000" y="838080"/>
            <a:ext cx="815328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Koriste se za opis interacije nad nekom kolekcij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ts val="4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interne akcije se izvrsavaju jednom za svaki element kolekci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ts val="4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Interne akcije mogu biti sekvencijalne ili paralelne (sto se prikazuje preko stereotipa &lt;&lt;concurrent&gt;&gt;) il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85760" y="2965320"/>
            <a:ext cx="2301840" cy="615960"/>
            <a:chOff x="1085760" y="2965320"/>
            <a:chExt cx="2301840" cy="615960"/>
          </a:xfrm>
        </p:grpSpPr>
        <p:sp>
          <p:nvSpPr>
            <p:cNvPr id="237" name=""/>
            <p:cNvSpPr/>
            <p:nvPr/>
          </p:nvSpPr>
          <p:spPr>
            <a:xfrm>
              <a:off x="1120680" y="300060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kazivanje termin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85760" y="2965320"/>
              <a:ext cx="2298960" cy="59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20680" y="3000600"/>
              <a:ext cx="226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efinisanje grupa za seminarske radove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9000" y="4518000"/>
            <a:ext cx="2301840" cy="406440"/>
            <a:chOff x="819000" y="4518000"/>
            <a:chExt cx="2301840" cy="406440"/>
          </a:xfrm>
        </p:grpSpPr>
        <p:sp>
          <p:nvSpPr>
            <p:cNvPr id="241" name=""/>
            <p:cNvSpPr/>
            <p:nvPr/>
          </p:nvSpPr>
          <p:spPr>
            <a:xfrm>
              <a:off x="853920" y="454212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kazivanje termin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9000" y="4518000"/>
              <a:ext cx="2298960" cy="406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53920" y="4542120"/>
              <a:ext cx="22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zrada seminarskog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362400" y="4518000"/>
            <a:ext cx="2368080" cy="464760"/>
            <a:chOff x="3362400" y="4518000"/>
            <a:chExt cx="2368080" cy="464760"/>
          </a:xfrm>
        </p:grpSpPr>
        <p:sp>
          <p:nvSpPr>
            <p:cNvPr id="245" name=""/>
            <p:cNvSpPr/>
            <p:nvPr/>
          </p:nvSpPr>
          <p:spPr>
            <a:xfrm>
              <a:off x="3398040" y="4545360"/>
              <a:ext cx="23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kazivanje termin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62400" y="4518000"/>
              <a:ext cx="2365200" cy="464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98040" y="4545360"/>
              <a:ext cx="23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dbrana seminarskog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496200" y="5518080"/>
            <a:ext cx="2530080" cy="699840"/>
            <a:chOff x="6496200" y="5518080"/>
            <a:chExt cx="2530080" cy="699840"/>
          </a:xfrm>
        </p:grpSpPr>
        <p:sp>
          <p:nvSpPr>
            <p:cNvPr id="249" name=""/>
            <p:cNvSpPr/>
            <p:nvPr/>
          </p:nvSpPr>
          <p:spPr>
            <a:xfrm>
              <a:off x="6534360" y="5559480"/>
              <a:ext cx="24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kazivanje termin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96200" y="5518080"/>
              <a:ext cx="2527200" cy="69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34360" y="5559480"/>
              <a:ext cx="249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ormiranje liste odbranjenih radov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774720" y="4137120"/>
            <a:ext cx="11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&lt;concurrent&gt;&gt;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5160" y="4070520"/>
            <a:ext cx="5266080" cy="153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914480" y="3933720"/>
            <a:ext cx="428400" cy="123840"/>
            <a:chOff x="1914480" y="3933720"/>
            <a:chExt cx="428400" cy="123840"/>
          </a:xfrm>
        </p:grpSpPr>
        <p:sp>
          <p:nvSpPr>
            <p:cNvPr id="255" name=""/>
            <p:cNvSpPr/>
            <p:nvPr/>
          </p:nvSpPr>
          <p:spPr>
            <a:xfrm>
              <a:off x="1914480" y="393372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25720" y="393372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27240" y="393372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28760" y="393372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952960" y="4572000"/>
            <a:ext cx="123840" cy="428400"/>
            <a:chOff x="5952960" y="4572000"/>
            <a:chExt cx="123840" cy="428400"/>
          </a:xfrm>
        </p:grpSpPr>
        <p:sp>
          <p:nvSpPr>
            <p:cNvPr id="260" name=""/>
            <p:cNvSpPr/>
            <p:nvPr/>
          </p:nvSpPr>
          <p:spPr>
            <a:xfrm rot="16200000">
              <a:off x="5957640" y="488124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5957640" y="477000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200000">
              <a:off x="5957640" y="466848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200000">
              <a:off x="5957640" y="456696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H="1">
            <a:off x="2123640" y="3524400"/>
            <a:ext cx="1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990440" y="4057560"/>
            <a:ext cx="15228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4743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4791240"/>
            <a:ext cx="2286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3840" y="378792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Spisak grup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76800" y="4791240"/>
            <a:ext cx="171468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C55-342A-40DD-AA9F-C03BADB96131}" type="slidenum">
              <a:t>21</a:t>
            </a:fld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arametri (Pins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1080" y="1266840"/>
            <a:ext cx="896292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322200" indent="-322200">
              <a:lnSpc>
                <a:spcPts val="4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Koncept pina se koristi za definisanje ulaznih I izlaznih parametara akci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ts val="4000"/>
              </a:lnSpc>
              <a:spcBef>
                <a:spcPts val="45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5050"/>
                </a:solidFill>
                <a:latin typeface="Trebuchet MS"/>
              </a:rPr>
              <a:t>Akcije mogu imati parametre (kao metode operacije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ts val="4000"/>
              </a:lnSpc>
              <a:spcBef>
                <a:spcPts val="45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5050"/>
                </a:solidFill>
                <a:latin typeface="Trebuchet MS"/>
              </a:rPr>
              <a:t>Izlazi iz neke akcije moraju odgovarati ulazima sledece ak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ts val="4000"/>
              </a:lnSpc>
              <a:spcBef>
                <a:spcPts val="45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05050"/>
                </a:solidFill>
                <a:latin typeface="Trebuchet MS"/>
              </a:rPr>
              <a:t>Ukoliko je izlazni parametar razlicit od ulaznog paramtera mora se prikazati preko transforma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3289320"/>
            <a:ext cx="2298600" cy="406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68840" y="33130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kazivanje termin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75040" y="3695760"/>
            <a:ext cx="177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2273400" y="3517920"/>
            <a:ext cx="596880" cy="2844720"/>
          </a:xfrm>
          <a:prstGeom prst="foldedCorner">
            <a:avLst>
              <a:gd name="adj" fmla="val 2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 rot="10800000">
            <a:off x="1095480" y="46144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&lt;transformation&gt;&gt;           Termin.Poruk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6616800" y="3581280"/>
            <a:ext cx="596880" cy="2844720"/>
          </a:xfrm>
          <a:prstGeom prst="foldedCorner">
            <a:avLst>
              <a:gd name="adj" fmla="val 2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 rot="10800000">
            <a:off x="5576400" y="4674240"/>
            <a:ext cx="22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&lt;transformation&gt;&gt;           Termin.Stud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829480"/>
            <a:ext cx="2298600" cy="406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92520" y="585324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avesti stud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54760" y="5651640"/>
            <a:ext cx="1774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92640" y="5651640"/>
            <a:ext cx="177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81560" y="4838760"/>
            <a:ext cx="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56280" y="4851360"/>
            <a:ext cx="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8960" y="485136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63960" y="3860640"/>
            <a:ext cx="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00680" y="501660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143680" y="49910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56520" y="3745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rm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71880" y="3998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Pin za paramet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28840" y="3848040"/>
            <a:ext cx="762120" cy="27936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59560" y="5726160"/>
            <a:ext cx="17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Izraz za tranforma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7023240" y="5358960"/>
            <a:ext cx="622080" cy="36828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31360" y="540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ruk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05960" y="5408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9C0-AAED-4A02-8BEA-A36136487ADD}" type="slidenum">
              <a:t>22</a:t>
            </a:fld>
          </a:p>
        </p:txBody>
      </p: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Region mogućeg prekida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Interruptible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region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985680" y="1519200"/>
          <a:ext cx="7172640" cy="38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1519200"/>
                    <a:ext cx="717264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AFE-4CDA-4BE2-AE75-06BEFE4859AA}" type="slidenum">
              <a:t>23</a:t>
            </a:fld>
          </a:p>
        </p:txBody>
      </p:sp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rimer 1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Trebuchet MS"/>
              </a:rPr>
              <a:t>Automat za napitk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235240" y="804960"/>
          <a:ext cx="4672080" cy="57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5240" y="804960"/>
                    <a:ext cx="4672080" cy="57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153-3BCF-4A8A-A11C-9C62625A001C}" type="slidenum">
              <a:t>24</a:t>
            </a:fld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rimer 2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400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Priprema i obrada sednica Vla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0" y="871560"/>
          <a:ext cx="8975880" cy="514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71560"/>
                    <a:ext cx="897588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C03-783C-4ED6-9FA2-3BE28A28823D}" type="slidenum">
              <a:t>25</a:t>
            </a:fld>
          </a:p>
        </p:txBody>
      </p:sp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rimer 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3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Primer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914400"/>
            <a:ext cx="79246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Primer Koji prikazuje Exception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BF3-C722-46FF-A2AB-53D6506BE0A2}" type="slidenum">
              <a:t>26</a:t>
            </a:fld>
          </a:p>
        </p:txBody>
      </p:sp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 rot="10800000">
            <a:off x="4714560" y="1054080"/>
            <a:ext cx="406440" cy="6415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065000">
            <a:off x="4620240" y="1173240"/>
            <a:ext cx="631800" cy="4240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67960" y="-360"/>
            <a:ext cx="797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Dijagram aktivnosti – Pregled elemenata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581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Initial node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Activity final node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Action 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Decision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</a:rPr>
              <a:t>Merge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Fork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Join 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Flow/edge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Action decomposition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16" name=""/>
          <p:cNvSpPr/>
          <p:nvPr/>
        </p:nvSpPr>
        <p:spPr>
          <a:xfrm>
            <a:off x="495360" y="1447920"/>
            <a:ext cx="241200" cy="23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6280" y="1863720"/>
            <a:ext cx="279360" cy="268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6120" y="1936800"/>
            <a:ext cx="13320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0280" y="2349360"/>
            <a:ext cx="851040" cy="45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6120" y="2357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3680" y="2921040"/>
            <a:ext cx="419040" cy="3254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6600" y="40258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9200" y="457200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1520" y="5118120"/>
            <a:ext cx="74916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2920" y="3390840"/>
            <a:ext cx="457200" cy="3682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7360" y="5308560"/>
            <a:ext cx="1117800" cy="77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2120" y="53164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31840" y="5765760"/>
            <a:ext cx="0" cy="25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1840" y="576576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87520" y="5765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2280" y="5587920"/>
            <a:ext cx="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19520" y="1866960"/>
            <a:ext cx="1567080" cy="485640"/>
          </a:xfrm>
          <a:custGeom>
            <a:avLst/>
            <a:gdLst>
              <a:gd name="textAreaLeft" fmla="*/ 0 w 1567080"/>
              <a:gd name="textAreaRight" fmla="*/ 1567440 w 15670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2" y="0"/>
                </a:lnTo>
                <a:lnTo>
                  <a:pt x="21600" y="10800"/>
                </a:lnTo>
                <a:lnTo>
                  <a:pt x="141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43560" y="193032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nd sign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3760" y="1028880"/>
            <a:ext cx="12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95840" y="102888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729320" y="1409760"/>
            <a:ext cx="1951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954760" y="1030320"/>
            <a:ext cx="1440" cy="67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75200" y="1050840"/>
            <a:ext cx="952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pt sign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89520" y="2890800"/>
            <a:ext cx="63828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0800000">
            <a:off x="4889160" y="2585520"/>
            <a:ext cx="63828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29320" y="1704960"/>
            <a:ext cx="1230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72120" y="3522600"/>
            <a:ext cx="2919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5105160" y="3223800"/>
            <a:ext cx="469800" cy="1860480"/>
          </a:xfrm>
          <a:prstGeom prst="foldedCorner">
            <a:avLst>
              <a:gd name="adj" fmla="val 2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 rot="10800000">
            <a:off x="4333680" y="395964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&lt;transformation&gt;&gt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24360" y="442116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03560" y="44323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76800" y="4925880"/>
            <a:ext cx="482760" cy="4701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63880" y="54388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00720" y="5413320"/>
            <a:ext cx="3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83920" y="549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81560" y="1133640"/>
            <a:ext cx="3943440" cy="65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Accept (Receive) sig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40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Send sig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24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Time or event sig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2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P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</a:rPr>
              <a:t>Transformati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(Expansion) reg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Flow fi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Join Specific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43400" y="762120"/>
            <a:ext cx="0" cy="556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3D2-3EFB-4E16-8DD1-9E08D04EC5C5}" type="slidenum">
              <a:t>27</a:t>
            </a:fld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UML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924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UML (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Unified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 M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odeling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 L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anguage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)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OMG (Object Managemrnt Group) – organizacija zadužena za brigu o standardizaciji UML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UML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– de facto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standardni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jezik za modelovanje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Sadrži skup dijagrama za opis strukture i dinamike svih vrsta sistema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Najviše se koristi u razvoju informacionih sistema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Aktuelna verzija – UML 2.0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B75-BCA4-448B-B03F-491EDF06ACBA}" type="slidenum">
              <a:t>3</a:t>
            </a:fld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UML 2.0 dijagrami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5409720"/>
            <a:ext cx="73152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lnSpc>
                <a:spcPts val="4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05050"/>
                </a:solidFill>
                <a:latin typeface="Trebuchet MS"/>
              </a:rPr>
              <a:t>UML</a:t>
            </a: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 2.0 </a:t>
            </a:r>
            <a:r>
              <a:rPr b="0" lang="sr-Latn-CS" sz="2000" spc="-1" strike="noStrike">
                <a:solidFill>
                  <a:srgbClr val="505050"/>
                </a:solidFill>
                <a:latin typeface="Trebuchet MS"/>
              </a:rPr>
              <a:t>definiše 13 vrsta dijagrama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0080" y="914400"/>
          <a:ext cx="8943840" cy="35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80" y="914400"/>
                    <a:ext cx="894384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2CB-8A68-4983-B050-BE9B361993FB}" type="slidenum">
              <a:t>4</a:t>
            </a:fld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UML 2.0 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Dijagrami aktivnosti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924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DA se koristi na najrazlicitijim nivoima projektovanja softvera i to za opis: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-285840">
              <a:lnSpc>
                <a:spcPts val="2999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Poslovnih procesa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-285840">
              <a:lnSpc>
                <a:spcPts val="2999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Workflow-a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-285840">
              <a:lnSpc>
                <a:spcPts val="2999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Slozenih use-case tokova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-285840">
              <a:lnSpc>
                <a:spcPts val="2999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Proceduralne logike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-285840">
              <a:lnSpc>
                <a:spcPts val="2999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Algoritama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19B-BD32-4CD2-B901-6D9858877717}" type="slidenum">
              <a:t>5</a:t>
            </a:fld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UML 2.0 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Dijagrami aktivnosti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924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7000"/>
          </a:bodyPr>
          <a:p>
            <a:pPr marL="332640" indent="-332640">
              <a:lnSpc>
                <a:spcPts val="2999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U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prethodnim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verzijama,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Dijagrami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aktivnosti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(DA) su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bi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li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zasnovani na konceptima dijagrama prelaza stanja (teorija konačnih automata) a od verzije UML 2.0 zasnovani su na teoriji Petrijevih mreža.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32640" indent="-33264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Token – koncept preko kojeg se prati izvršenje dijagrama aktivnosti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32640" indent="-33264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Dijagrami aktivnosti predstavljaju tehniku za opis proceduralne logike i poslovnih procesa. Sa tog aspekta su slični staroj tehnici flowchart ali glavna razlika je što DA podržava modelovanje paralelnog izvršavanja aktivnosti.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C9F-D1AC-452C-BB01-08CD77B0E605}" type="slidenum">
              <a:t>6</a:t>
            </a:fld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Osnovni grafički simboli DA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33720" y="760320"/>
          <a:ext cx="5045040" cy="571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760320"/>
                    <a:ext cx="504504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203120" y="17524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Fork (račvanje niti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1981080"/>
            <a:ext cx="1523880" cy="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57440" y="914400"/>
            <a:ext cx="762120" cy="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762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Initial Node (inicijalni čvor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00480" y="2933640"/>
            <a:ext cx="1257120" cy="34308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52280" y="2681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Decision (odlučivanje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809880" y="5105160"/>
            <a:ext cx="990720" cy="22860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800" y="519588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Join (spajanje-sinhronizacija niti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4648320"/>
            <a:ext cx="838080" cy="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0" y="435780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Merge (spajanje OR grana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33760" y="6172200"/>
            <a:ext cx="1066680" cy="76320"/>
          </a:xfrm>
          <a:prstGeom prst="line">
            <a:avLst/>
          </a:prstGeom>
          <a:ln w="9360">
            <a:solidFill>
              <a:srgbClr val="ccff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07120" y="594360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Acitvity Final (kraj procesa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794640" y="1981080"/>
            <a:ext cx="241200" cy="43200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92760" y="1600200"/>
            <a:ext cx="19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Action (aktivnost ili akcija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3443400"/>
            <a:ext cx="19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Flow (tok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400800" y="3657600"/>
            <a:ext cx="990720" cy="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017-6ADB-4ABA-A1FD-514DB45E554D}" type="slidenum">
              <a:t>7</a:t>
            </a:fld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Odlučivanje – OR grananje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Decision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0" y="1676520"/>
          <a:ext cx="4390920" cy="314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676520"/>
                    <a:ext cx="439092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1676520"/>
          <a:ext cx="4170240" cy="3141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676520"/>
                    <a:ext cx="41702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DC7-AAB0-4890-8069-8D41F0C7079A}" type="slidenum">
              <a:t>8</a:t>
            </a:fld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Račvanje – AND grananje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Fork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71800" y="914400"/>
          <a:ext cx="4998960" cy="23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1800" y="914400"/>
                    <a:ext cx="499896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77920" y="3886200"/>
          <a:ext cx="4988160" cy="231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7920" y="3886200"/>
                    <a:ext cx="498816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ED9-946E-432B-90AE-8D78EEED6D77}" type="slidenum">
              <a:t>9</a:t>
            </a:fld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10:55:13Z</dcterms:created>
  <dc:creator>Slađan Babarogić</dc:creator>
  <dc:description/>
  <cp:keywords>UML 2.0 Dijagrami aktivnosti</cp:keywords>
  <dc:language>en-US</dc:language>
  <cp:lastModifiedBy>sinisa</cp:lastModifiedBy>
  <dcterms:modified xsi:type="dcterms:W3CDTF">2007-03-06T10:05:38Z</dcterms:modified>
  <cp:revision>219</cp:revision>
  <dc:subject/>
  <dc:title>Dijagrami aktivnosti UML 2.0</dc:title>
</cp:coreProperties>
</file>