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34E-C875-4B04-B368-AB9BBF8B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C2D-C058-4E48-856C-3F00C2A0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DF5-1D37-4555-97F8-CD6C3A9C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ECD-D493-4A1F-85EE-C353F7B9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8F43-944C-4FBD-A1D6-F846F876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0923-8955-4C9A-AF5E-DE48B3F9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6D0C-7AD9-478E-B00D-AE7EF1DD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B0B0-A208-4584-A3C9-CD49936C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A15E-D40C-41CA-A417-B0B71432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B803-5565-4793-BFCD-3E224166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451-3BBC-4E0D-8D53-F260EE8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273-8EAC-47E9-8561-F00F2007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B4F5-2BDF-424D-BBD8-428EBDE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E6E8-C4B1-4C14-8932-8D670726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9356-1FC0-47E2-84C0-98EF9A02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6E28-7297-4CE4-9EA0-95E395FD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5ECF-5B8A-4379-BADF-D61FA8CF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287-DE15-43B2-9909-A15E0405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5B7-B762-4C97-9A95-7DEC2287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4B7-623B-44D1-8BE2-EE179BEF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BA3-CCB7-4C76-9B70-4AA0A673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130-23C9-4CC1-AA80-D5DF6734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37A-0E2F-4FEA-AAEA-9185CFB3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FC1-4810-4334-95CC-B4761808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6094-4052-4F11-953B-6A9E36E6C5BB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071F-E20D-4570-94C5-336C67794E37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orkflow Patter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5790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Beograd, 200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Laboratorija za informacione sisteme, F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ultiple merg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34920" y="1828800"/>
          <a:ext cx="7274160" cy="25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4920" y="1828800"/>
                    <a:ext cx="72741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C33-1E03-42BE-8114-088CFADCE3B9}" type="slidenum">
              <a:t>10</a:t>
            </a:fld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Discriminato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34920" y="1905120"/>
          <a:ext cx="7274160" cy="25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4920" y="1905120"/>
                    <a:ext cx="72741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288-3333-4353-B64E-D480913C5EBB}" type="slidenum">
              <a:t>11</a:t>
            </a:fld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 out of M joi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2000160"/>
          <a:ext cx="7859880" cy="28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0160"/>
                    <a:ext cx="785988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DE0-0872-4C73-A32C-E55021BD22B0}" type="slidenum">
              <a:t>12</a:t>
            </a:fld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ynchronizing merg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34920" y="1905120"/>
          <a:ext cx="7274160" cy="25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4920" y="1905120"/>
                    <a:ext cx="72741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553-99D8-4B13-AC28-3464705375DE}" type="slidenum">
              <a:t>13</a:t>
            </a:fld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rbitrary cycl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uctur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17520" y="1676520"/>
          <a:ext cx="8507520" cy="30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7520" y="1676520"/>
                    <a:ext cx="8507520" cy="30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CBD-C354-42E2-B39E-41D3477505E9}" type="slidenum">
              <a:t>14</a:t>
            </a:fld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Implicit termin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uctur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1981080"/>
          <a:ext cx="7081560" cy="19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81080"/>
                    <a:ext cx="708156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CC6-C72E-4F98-B3E6-A76FDEF172C5}" type="slidenum">
              <a:t>15</a:t>
            </a:fld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 with a priori design time knowled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 involving multiple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92240" y="2114640"/>
          <a:ext cx="4707000" cy="21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2240" y="2114640"/>
                    <a:ext cx="470700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F07-123A-4057-9E9F-442D437AB717}" type="slidenum">
              <a:t>16</a:t>
            </a:fld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I with a priori runtime knowledg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 involving multiple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89040" y="2036880"/>
          <a:ext cx="5859360" cy="22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9040" y="2036880"/>
                    <a:ext cx="585936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9EA-7EB8-4A30-B114-D2C8FCE01078}" type="slidenum">
              <a:t>17</a:t>
            </a:fld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 with no a priori knowled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 involving multiple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1440" y="990720"/>
          <a:ext cx="8059680" cy="38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440" y="990720"/>
                    <a:ext cx="805968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64F-C2A3-445C-8F16-146929B418A0}" type="slidenum">
              <a:t>18</a:t>
            </a:fld>
          </a:p>
        </p:txBody>
      </p:sp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 requiring synchroniz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 involving multiple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89040" y="1952640"/>
          <a:ext cx="5865840" cy="24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9040" y="1952640"/>
                    <a:ext cx="586584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654-FDE8-46D5-8426-9A67241DDA79}" type="slidenum">
              <a:t>19</a:t>
            </a:fld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ad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ržaj izlag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Uvodna razmatranja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tructural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atterns involving multiple instanc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tate-based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ancellation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Zaključak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A12-2305-49B6-94CF-94107C69D3DD}" type="slidenum">
              <a:t>2</a:t>
            </a:fld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ferred choi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e-based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66680" y="1752480"/>
          <a:ext cx="6470640" cy="28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752480"/>
                    <a:ext cx="647064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F7B-E191-467C-8273-CDBDB16D6176}" type="slidenum">
              <a:t>20</a:t>
            </a:fld>
          </a:p>
        </p:txBody>
      </p:sp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leaved parallel rout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e-based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2057400"/>
          <a:ext cx="9144000" cy="204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91440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86A-AF3B-409B-8559-248D6EB61776}" type="slidenum">
              <a:t>21</a:t>
            </a:fld>
          </a:p>
        </p:txBody>
      </p:sp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lesto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e-based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2360" y="1905120"/>
          <a:ext cx="8637480" cy="22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905120"/>
                    <a:ext cx="86374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9E3-8BBF-4176-9DCE-9178F6AB5582}" type="slidenum">
              <a:t>22</a:t>
            </a:fld>
          </a:p>
        </p:txBody>
      </p:sp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ncel activ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cell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38080" y="1568520"/>
          <a:ext cx="6939000" cy="37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68520"/>
                    <a:ext cx="693900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627-017D-402C-97E1-F47005388F83}" type="slidenum">
              <a:t>23</a:t>
            </a:fld>
          </a:p>
        </p:txBody>
      </p:sp>
    </p:spTree>
  </p:cSld>
  <p:transition spd="med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ncel ca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cell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1066680"/>
          <a:ext cx="7172280" cy="381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172280" cy="38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95A-4EBF-4297-96C3-D8C11DF50865}" type="slidenum">
              <a:t>24</a:t>
            </a:fld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Uvodna razmatr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Van der Aalst i istraživačke grupe u Holandiji i Australiji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ephen A. White, IBM Corp.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FBF-8FA5-454E-BCA4-EBBA766B2801}" type="slidenum">
              <a:t>3</a:t>
            </a:fld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25480" y="2571840"/>
          <a:ext cx="74930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2571840"/>
                    <a:ext cx="74930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E0A-3DAE-4474-AC27-5D03B38437AA}" type="slidenum">
              <a:t>4</a:t>
            </a:fld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arallel spli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24080" y="1752480"/>
          <a:ext cx="4695840" cy="25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4080" y="1752480"/>
                    <a:ext cx="4695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E63-0187-482E-98F6-0A95F5CDC913}" type="slidenum">
              <a:t>5</a:t>
            </a:fld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316240" y="1828800"/>
          <a:ext cx="4510080" cy="25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6240" y="1828800"/>
                    <a:ext cx="451008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4E4-FC64-4768-ABA2-C15BC99E5FB3}" type="slidenum">
              <a:t>6</a:t>
            </a:fld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xclusive choic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92240" y="1838160"/>
          <a:ext cx="4707000" cy="25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2240" y="1838160"/>
                    <a:ext cx="4707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3BE-7CAC-4CCF-9794-0A7019309E89}" type="slidenum">
              <a:t>7</a:t>
            </a:fld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mple merg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20680" y="2462040"/>
          <a:ext cx="6902640" cy="19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0680" y="2462040"/>
                    <a:ext cx="6902640" cy="19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82D-AAB3-4B38-A349-E8C971BE3CD6}" type="slidenum">
              <a:t>8</a:t>
            </a:fld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ultiple choic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92240" y="1838160"/>
          <a:ext cx="4707000" cy="25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2240" y="1838160"/>
                    <a:ext cx="4707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3E3-9AFD-4644-AB89-444C5C1D3C63}" type="slidenum">
              <a:t>9</a:t>
            </a:fld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0:55:13Z</dcterms:created>
  <dc:creator>Slađan Babarogić</dc:creator>
  <dc:description/>
  <cp:keywords>Workflow patterns</cp:keywords>
  <dc:language>en-US</dc:language>
  <cp:lastModifiedBy>sladjan</cp:lastModifiedBy>
  <dcterms:modified xsi:type="dcterms:W3CDTF">2007-03-21T12:38:13Z</dcterms:modified>
  <cp:revision>122</cp:revision>
  <dc:subject/>
  <dc:title>Workflow patterns</dc:title>
</cp:coreProperties>
</file>