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28.wmf" ContentType="image/x-wmf"/>
  <Override PartName="/ppt/media/image15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11.png" ContentType="image/png"/>
  <Override PartName="/ppt/media/image35.wmf" ContentType="image/x-wmf"/>
  <Override PartName="/ppt/media/image8.wmf" ContentType="image/x-wmf"/>
  <Override PartName="/ppt/media/image13.wmf" ContentType="image/x-wmf"/>
  <Override PartName="/ppt/media/image30.jpeg" ContentType="image/jpeg"/>
  <Override PartName="/ppt/media/image37.wmf" ContentType="image/x-wmf"/>
  <Override PartName="/ppt/media/image12.wmf" ContentType="image/x-wmf"/>
  <Override PartName="/ppt/media/image3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AEC-D2AA-4BA4-BEF1-90B3F617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2E9-3D8B-4619-A2B7-DA79F8D1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C4A-D77F-48A4-8FC2-C0B0AE56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56C-6243-42C2-9402-930D09D8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6B61-35E4-4F76-A230-065C7D43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CB5E-CFC1-4D68-9484-99F500B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CBC2-F706-4B51-91E6-85415FD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D2D-15D6-4035-AE7E-DB0BEC45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6D7-050E-4558-AE5B-4A34CCDB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25B8-B7CA-4FDB-9B19-E68472B9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A22A-E71F-4F8D-90AF-826A119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918-7E50-4E1E-BB34-6B6B1CA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2335-DA29-4FCC-9316-0797EF2A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9FB-3FDB-4817-8F73-35E41CA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3468-6912-4758-A2BF-9BD1C5B5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1051-54CF-4AAC-B70E-6DD234C5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BA7E-0C60-4704-A851-AD9F2CB1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2AA-E456-4007-82AE-C3AD3DF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726-B646-4A48-96C2-FFE3AED6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5D9-9D1A-4646-B2E2-E296A71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0F5-016F-4385-BF64-07AB4415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E55-54F3-460A-A38E-3778205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289-9B6A-4C3B-91AA-40C4B9A9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7B0-2E4E-4BF7-BAB8-CB63387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68B-DF15-4CA4-B8B7-13BE0DE9CC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CB0E-A50D-4FEA-8E67-B4AE8EF130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2.wmf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mg.org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3c.org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oasis-open.org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bpmi.org/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nad Aniči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rocesa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 standardizacija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snovni skup grafičkih elemena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3068640"/>
            <a:ext cx="33526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novni skup koncepata omogućava lak prikaz poslovnih procesa koji je blizak poslovnim analitičarim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flowchart diagram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838080" y="1979640"/>
            <a:ext cx="3810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- dogadjaj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ogadjaj (event) je nešto što se “dešava” prilikom realizacije poslovnog proces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Ovi dogadjaji utiču na tok procesa i imaju okidač ili neki rezultat. Mogu inicirati, prekinuti ili zaustaviti tok proces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914400" y="1752480"/>
            <a:ext cx="3282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-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 je posao (akcija) koji se izvršava u okviru procesa.  Može biti atomska ili složen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compound)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Tipovi aktivnosti s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Process, Sub-Process, and Tas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2280" y="1990800"/>
            <a:ext cx="5257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dproces (složena aktivnost) može biti prikazan u eksenzivnom obliku kojim se prikazuje niži nivo skupa aktivnos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066680" y="190512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podproce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konekto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4365720"/>
            <a:ext cx="3132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ektor 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ssociation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” se korisiti za pridruživanje informacija i činjenica sa tokom objek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403280" y="1700280"/>
            <a:ext cx="6193080" cy="2432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4000" y="4292640"/>
            <a:ext cx="287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ektor 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quenc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flow” se koristi za definisanje redosleda izvršavanja aktivnosti u okviru proces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2000" y="4292640"/>
            <a:ext cx="288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ektor 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ssage Flow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e korisiti za prikaz tokova poruka izmedju dva entiteta koja pripremaju i primaju poruk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ntrolni čvorovi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ateway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) su elementi dijagrama koji se koriste pri definisanju kako s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kovi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razdvajaju ili spajaju u okviru proces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304920" y="1981080"/>
            <a:ext cx="4876560" cy="442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kontrolni čvoro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plivačke sta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ol” su grafički kontejneri za razdvajanje skupa aktivnosti, najčešće u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2B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tekst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livačke staze su podelementi (particije) u okviru “pool”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elementa, prikazani vertikalno ili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rizontal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79280" y="2133720"/>
            <a:ext cx="51055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- pomoćni elemeti (artifac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bjekti podataka obezbedjuju informacije o tome kako dokumeti, podaci i ostali objekte se koriste i menjaju u okviru proces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notations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je mehanizam za specificiranje dodatnih informacija za “čitaoce”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PMN diagram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Grupa obezbedjuje mehanizam za vizuelno grupisanje elemenat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752480" y="1905120"/>
            <a:ext cx="1994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primer - Normalan to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primer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2B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odelov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28600" y="1981080"/>
            <a:ext cx="8610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Životni ciklus poslovnog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76360" y="1108080"/>
          <a:ext cx="517536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08080"/>
                    <a:ext cx="517536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012000" y="6308640"/>
            <a:ext cx="31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40458c"/>
                </a:solidFill>
                <a:latin typeface="Arial"/>
              </a:rPr>
              <a:t>M. zur Muehlen: Workflow-based Process Controlling, 2004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obrada izuzeta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ogadjaj  pridružen aktivnosti definiše okidač kojim se može prekinuti aktivnos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Svi poslovni u okviru aktivnosti biće stopirani i tok će se nastaviti od dogadjaja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kidač može biti v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enski ili neki izuzetak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295280" y="2514600"/>
            <a:ext cx="3276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transkacije i obrade otka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4643280" y="1197000"/>
            <a:ext cx="4114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Transakcija je aktivnost koja se predstavlja duplim okvirom. Ove aktivnosti su podržane nekim transakcionim porotokolom kao što je na primer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S-Transactio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Normalno izvršavanje prestavlja tok uspeđnog izvršavanja proces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Dogadjaj 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ancel Intermediate Event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edstavlja alternativni tok izvršavanja pri prekidu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Dogadjaj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ception Intermediate Event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edstavlja alternativni tok izvršavanja pri otkazu sistem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ktivnosti koje se koriste za komezaciju su izvan normalnog toka izvršavanj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" descr="Rectangle: Click to edit Master text styles&#13;&#10;Second level&#13;&#10;Third level&#13;&#10;Fourth level&#13;&#10;Fifth level"/>
          <p:cNvPicPr/>
          <p:nvPr/>
        </p:nvPicPr>
        <p:blipFill>
          <a:blip r:embed="rId6"/>
          <a:stretch/>
        </p:blipFill>
        <p:spPr>
          <a:xfrm>
            <a:off x="469800" y="1905120"/>
            <a:ext cx="425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primer složenog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-36360" y="1812960"/>
            <a:ext cx="918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 preslikavanja izmedju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i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SzPct val="1127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process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ailVotingProces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-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The Process data is defined fir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equenc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receive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partnerLink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nal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portTyp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ns:processPor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opera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IssueLi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createInstanc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viewIssueLi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artnerLink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nal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ortTyp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ns:internalPor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opera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ndIssueLi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input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output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yissuesready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--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Ye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cas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condi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pws:getVariableProperty(ProcessData,NumIssues)&gt;0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invoke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ussionCyc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“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artnerLink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nal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ortTyp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ns:processPor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opera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lDiscussionCyc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input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–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Other Activities not shown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--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name="No"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cas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otherwis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empty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otherwis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witch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equenc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proces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5" name="" descr="Rectangle: Click to edit Master text styles&#13;&#10;Second level&#13;&#10;Third level&#13;&#10;Fourth level&#13;&#10;Fifth level"/>
          <p:cNvPicPr/>
          <p:nvPr/>
        </p:nvPicPr>
        <p:blipFill>
          <a:blip r:embed="rId25"/>
          <a:stretch/>
        </p:blipFill>
        <p:spPr>
          <a:xfrm>
            <a:off x="380880" y="1905120"/>
            <a:ext cx="291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vent-Driven</a:t>
            </a: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 Process Chains (EPC)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– SAP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716360" y="1197000"/>
          <a:ext cx="28465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28465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116000" y="1268280"/>
          <a:ext cx="233208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268280"/>
                    <a:ext cx="23320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7524720" y="1557360"/>
          <a:ext cx="1184400" cy="28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720" y="1557360"/>
                    <a:ext cx="118440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-357120" y="-204840"/>
            <a:ext cx="9858240" cy="72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cesi i </a:t>
            </a: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ork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836720" y="1341360"/>
            <a:ext cx="23036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40458c"/>
                </a:solidFill>
                <a:latin typeface="Arial"/>
              </a:rPr>
              <a:t>Ručno izvršavanje 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58920" y="1844640"/>
          <a:ext cx="273852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273852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003640" y="1341360"/>
            <a:ext cx="34560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Automat</a:t>
            </a:r>
            <a:r>
              <a:rPr b="1" lang="sr-Latn-CS" sz="1600" spc="-1" strike="noStrike">
                <a:solidFill>
                  <a:srgbClr val="40458c"/>
                </a:solidFill>
                <a:latin typeface="Arial"/>
              </a:rPr>
              <a:t>iza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174600" indent="-174600" algn="ctr"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40458c"/>
                </a:solidFill>
                <a:latin typeface="Arial"/>
              </a:rPr>
              <a:t>Proces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003640" y="1844640"/>
          <a:ext cx="2738520" cy="41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844640"/>
                    <a:ext cx="273852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01760" y="2549520"/>
            <a:ext cx="68644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88640" y="233280"/>
            <a:ext cx="538164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Workflow </a:t>
            </a:r>
            <a:r>
              <a:rPr b="0" lang="sr-Latn-CS" sz="4400" spc="-1" strike="noStrike">
                <a:solidFill>
                  <a:srgbClr val="b2b2b2"/>
                </a:solidFill>
                <a:latin typeface="Tahoma"/>
              </a:rPr>
              <a:t>pregl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889360" y="3855960"/>
            <a:ext cx="368280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2280" y="5992920"/>
            <a:ext cx="1243080" cy="6444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440" y="60087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likaci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64920" y="6302520"/>
            <a:ext cx="91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IT Ala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19640" y="64231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346640" y="6229440"/>
            <a:ext cx="6523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553000" y="52038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791320" y="5167440"/>
            <a:ext cx="1440" cy="74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081320" y="5264280"/>
            <a:ext cx="0" cy="70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7640" y="522756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9120" y="6059520"/>
            <a:ext cx="954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Korisnic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46360" y="3600360"/>
            <a:ext cx="652320" cy="12960"/>
          </a:xfrm>
          <a:prstGeom prst="line">
            <a:avLst/>
          </a:prstGeom>
          <a:ln w="12600">
            <a:solidFill>
              <a:srgbClr val="40458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3400" y="3435480"/>
            <a:ext cx="138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"/>
              </a:rPr>
              <a:t>/ Superviz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36680" y="3263760"/>
            <a:ext cx="297000" cy="792360"/>
            <a:chOff x="2236680" y="3263760"/>
            <a:chExt cx="297000" cy="792360"/>
          </a:xfrm>
        </p:grpSpPr>
        <p:sp>
          <p:nvSpPr>
            <p:cNvPr id="329" name=""/>
            <p:cNvSpPr/>
            <p:nvPr/>
          </p:nvSpPr>
          <p:spPr>
            <a:xfrm>
              <a:off x="2290680" y="3700440"/>
              <a:ext cx="71640" cy="353880"/>
            </a:xfrm>
            <a:custGeom>
              <a:avLst/>
              <a:gdLst/>
              <a:ahLst/>
              <a:rect l="l" t="t" r="r" b="b"/>
              <a:pathLst>
                <a:path w="45" h="223">
                  <a:moveTo>
                    <a:pt x="0" y="211"/>
                  </a:moveTo>
                  <a:lnTo>
                    <a:pt x="0" y="212"/>
                  </a:lnTo>
                  <a:lnTo>
                    <a:pt x="0" y="213"/>
                  </a:lnTo>
                  <a:lnTo>
                    <a:pt x="1" y="213"/>
                  </a:lnTo>
                  <a:lnTo>
                    <a:pt x="1" y="215"/>
                  </a:lnTo>
                  <a:lnTo>
                    <a:pt x="1" y="216"/>
                  </a:lnTo>
                  <a:lnTo>
                    <a:pt x="1" y="217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7" y="222"/>
                  </a:lnTo>
                  <a:lnTo>
                    <a:pt x="8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3" y="222"/>
                  </a:lnTo>
                  <a:lnTo>
                    <a:pt x="35" y="222"/>
                  </a:lnTo>
                  <a:lnTo>
                    <a:pt x="36" y="220"/>
                  </a:lnTo>
                  <a:lnTo>
                    <a:pt x="37" y="220"/>
                  </a:lnTo>
                  <a:lnTo>
                    <a:pt x="38" y="220"/>
                  </a:lnTo>
                  <a:lnTo>
                    <a:pt x="38" y="219"/>
                  </a:lnTo>
                  <a:lnTo>
                    <a:pt x="40" y="219"/>
                  </a:lnTo>
                  <a:lnTo>
                    <a:pt x="41" y="219"/>
                  </a:lnTo>
                  <a:lnTo>
                    <a:pt x="41" y="217"/>
                  </a:lnTo>
                  <a:lnTo>
                    <a:pt x="41" y="216"/>
                  </a:lnTo>
                  <a:lnTo>
                    <a:pt x="41" y="215"/>
                  </a:lnTo>
                  <a:lnTo>
                    <a:pt x="44" y="215"/>
                  </a:lnTo>
                  <a:lnTo>
                    <a:pt x="44" y="213"/>
                  </a:lnTo>
                  <a:lnTo>
                    <a:pt x="44" y="212"/>
                  </a:lnTo>
                  <a:lnTo>
                    <a:pt x="44" y="211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1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1280" y="3705120"/>
              <a:ext cx="71640" cy="351000"/>
            </a:xfrm>
            <a:custGeom>
              <a:avLst/>
              <a:gdLst/>
              <a:ahLst/>
              <a:rect l="l" t="t" r="r" b="b"/>
              <a:pathLst>
                <a:path w="45" h="221">
                  <a:moveTo>
                    <a:pt x="0" y="210"/>
                  </a:moveTo>
                  <a:lnTo>
                    <a:pt x="0" y="211"/>
                  </a:lnTo>
                  <a:lnTo>
                    <a:pt x="0" y="213"/>
                  </a:lnTo>
                  <a:lnTo>
                    <a:pt x="0" y="214"/>
                  </a:lnTo>
                  <a:lnTo>
                    <a:pt x="1" y="215"/>
                  </a:lnTo>
                  <a:lnTo>
                    <a:pt x="3" y="215"/>
                  </a:lnTo>
                  <a:lnTo>
                    <a:pt x="3" y="217"/>
                  </a:lnTo>
                  <a:lnTo>
                    <a:pt x="5" y="217"/>
                  </a:lnTo>
                  <a:lnTo>
                    <a:pt x="5" y="218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8" y="220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32" y="220"/>
                  </a:lnTo>
                  <a:lnTo>
                    <a:pt x="33" y="220"/>
                  </a:lnTo>
                  <a:lnTo>
                    <a:pt x="35" y="220"/>
                  </a:lnTo>
                  <a:lnTo>
                    <a:pt x="37" y="220"/>
                  </a:lnTo>
                  <a:lnTo>
                    <a:pt x="37" y="218"/>
                  </a:lnTo>
                  <a:lnTo>
                    <a:pt x="38" y="218"/>
                  </a:lnTo>
                  <a:lnTo>
                    <a:pt x="38" y="217"/>
                  </a:lnTo>
                  <a:lnTo>
                    <a:pt x="40" y="217"/>
                  </a:lnTo>
                  <a:lnTo>
                    <a:pt x="40" y="215"/>
                  </a:lnTo>
                  <a:lnTo>
                    <a:pt x="41" y="215"/>
                  </a:lnTo>
                  <a:lnTo>
                    <a:pt x="42" y="214"/>
                  </a:lnTo>
                  <a:lnTo>
                    <a:pt x="42" y="213"/>
                  </a:lnTo>
                  <a:lnTo>
                    <a:pt x="42" y="211"/>
                  </a:lnTo>
                  <a:lnTo>
                    <a:pt x="42" y="210"/>
                  </a:lnTo>
                  <a:lnTo>
                    <a:pt x="44" y="210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3160" y="3400560"/>
              <a:ext cx="287280" cy="96840"/>
            </a:xfrm>
            <a:prstGeom prst="roundRect">
              <a:avLst>
                <a:gd name="adj" fmla="val 39181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03640" y="3263760"/>
              <a:ext cx="155520" cy="13680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92480" y="3411360"/>
              <a:ext cx="190440" cy="331920"/>
            </a:xfrm>
            <a:custGeom>
              <a:avLst/>
              <a:gdLst/>
              <a:ahLst/>
              <a:rect l="l" t="t" r="r" b="b"/>
              <a:pathLst>
                <a:path w="120" h="209">
                  <a:moveTo>
                    <a:pt x="0" y="181"/>
                  </a:moveTo>
                  <a:lnTo>
                    <a:pt x="0" y="183"/>
                  </a:lnTo>
                  <a:lnTo>
                    <a:pt x="0" y="184"/>
                  </a:lnTo>
                  <a:lnTo>
                    <a:pt x="1" y="184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3" y="192"/>
                  </a:lnTo>
                  <a:lnTo>
                    <a:pt x="3" y="194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6" y="196"/>
                  </a:lnTo>
                  <a:lnTo>
                    <a:pt x="7" y="198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5" y="203"/>
                  </a:lnTo>
                  <a:lnTo>
                    <a:pt x="15" y="205"/>
                  </a:lnTo>
                  <a:lnTo>
                    <a:pt x="16" y="205"/>
                  </a:lnTo>
                  <a:lnTo>
                    <a:pt x="16" y="206"/>
                  </a:lnTo>
                  <a:lnTo>
                    <a:pt x="17" y="206"/>
                  </a:lnTo>
                  <a:lnTo>
                    <a:pt x="19" y="206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21" y="208"/>
                  </a:lnTo>
                  <a:lnTo>
                    <a:pt x="23" y="208"/>
                  </a:lnTo>
                  <a:lnTo>
                    <a:pt x="24" y="208"/>
                  </a:lnTo>
                  <a:lnTo>
                    <a:pt x="25" y="208"/>
                  </a:lnTo>
                  <a:lnTo>
                    <a:pt x="26" y="208"/>
                  </a:lnTo>
                  <a:lnTo>
                    <a:pt x="28" y="208"/>
                  </a:lnTo>
                  <a:lnTo>
                    <a:pt x="29" y="208"/>
                  </a:lnTo>
                  <a:lnTo>
                    <a:pt x="89" y="208"/>
                  </a:lnTo>
                  <a:lnTo>
                    <a:pt x="90" y="208"/>
                  </a:lnTo>
                  <a:lnTo>
                    <a:pt x="92" y="208"/>
                  </a:lnTo>
                  <a:lnTo>
                    <a:pt x="94" y="208"/>
                  </a:lnTo>
                  <a:lnTo>
                    <a:pt x="95" y="208"/>
                  </a:lnTo>
                  <a:lnTo>
                    <a:pt x="97" y="208"/>
                  </a:lnTo>
                  <a:lnTo>
                    <a:pt x="98" y="208"/>
                  </a:lnTo>
                  <a:lnTo>
                    <a:pt x="99" y="206"/>
                  </a:lnTo>
                  <a:lnTo>
                    <a:pt x="101" y="206"/>
                  </a:lnTo>
                  <a:lnTo>
                    <a:pt x="102" y="206"/>
                  </a:lnTo>
                  <a:lnTo>
                    <a:pt x="103" y="205"/>
                  </a:lnTo>
                  <a:lnTo>
                    <a:pt x="103" y="203"/>
                  </a:lnTo>
                  <a:lnTo>
                    <a:pt x="106" y="203"/>
                  </a:lnTo>
                  <a:lnTo>
                    <a:pt x="106" y="202"/>
                  </a:lnTo>
                  <a:lnTo>
                    <a:pt x="107" y="202"/>
                  </a:lnTo>
                  <a:lnTo>
                    <a:pt x="108" y="202"/>
                  </a:lnTo>
                  <a:lnTo>
                    <a:pt x="108" y="201"/>
                  </a:lnTo>
                  <a:lnTo>
                    <a:pt x="110" y="201"/>
                  </a:lnTo>
                  <a:lnTo>
                    <a:pt x="110" y="199"/>
                  </a:lnTo>
                  <a:lnTo>
                    <a:pt x="112" y="199"/>
                  </a:lnTo>
                  <a:lnTo>
                    <a:pt x="112" y="198"/>
                  </a:lnTo>
                  <a:lnTo>
                    <a:pt x="112" y="196"/>
                  </a:lnTo>
                  <a:lnTo>
                    <a:pt x="113" y="196"/>
                  </a:lnTo>
                  <a:lnTo>
                    <a:pt x="113" y="195"/>
                  </a:lnTo>
                  <a:lnTo>
                    <a:pt x="113" y="194"/>
                  </a:lnTo>
                  <a:lnTo>
                    <a:pt x="115" y="192"/>
                  </a:lnTo>
                  <a:lnTo>
                    <a:pt x="115" y="191"/>
                  </a:lnTo>
                  <a:lnTo>
                    <a:pt x="116" y="191"/>
                  </a:lnTo>
                  <a:lnTo>
                    <a:pt x="116" y="189"/>
                  </a:lnTo>
                  <a:lnTo>
                    <a:pt x="116" y="188"/>
                  </a:lnTo>
                  <a:lnTo>
                    <a:pt x="117" y="187"/>
                  </a:lnTo>
                  <a:lnTo>
                    <a:pt x="117" y="185"/>
                  </a:lnTo>
                  <a:lnTo>
                    <a:pt x="117" y="184"/>
                  </a:lnTo>
                  <a:lnTo>
                    <a:pt x="117" y="183"/>
                  </a:lnTo>
                  <a:lnTo>
                    <a:pt x="117" y="181"/>
                  </a:lnTo>
                  <a:lnTo>
                    <a:pt x="119" y="181"/>
                  </a:lnTo>
                  <a:lnTo>
                    <a:pt x="119" y="29"/>
                  </a:lnTo>
                  <a:lnTo>
                    <a:pt x="117" y="27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7" y="23"/>
                  </a:lnTo>
                  <a:lnTo>
                    <a:pt x="117" y="22"/>
                  </a:lnTo>
                  <a:lnTo>
                    <a:pt x="117" y="20"/>
                  </a:lnTo>
                  <a:lnTo>
                    <a:pt x="116" y="20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3" y="13"/>
                  </a:lnTo>
                  <a:lnTo>
                    <a:pt x="112" y="12"/>
                  </a:lnTo>
                  <a:lnTo>
                    <a:pt x="112" y="11"/>
                  </a:lnTo>
                  <a:lnTo>
                    <a:pt x="110" y="11"/>
                  </a:lnTo>
                  <a:lnTo>
                    <a:pt x="110" y="9"/>
                  </a:lnTo>
                  <a:lnTo>
                    <a:pt x="108" y="9"/>
                  </a:lnTo>
                  <a:lnTo>
                    <a:pt x="108" y="8"/>
                  </a:lnTo>
                  <a:lnTo>
                    <a:pt x="108" y="6"/>
                  </a:lnTo>
                  <a:lnTo>
                    <a:pt x="107" y="6"/>
                  </a:lnTo>
                  <a:lnTo>
                    <a:pt x="107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3" y="4"/>
                  </a:lnTo>
                  <a:lnTo>
                    <a:pt x="102" y="4"/>
                  </a:lnTo>
                  <a:lnTo>
                    <a:pt x="101" y="4"/>
                  </a:lnTo>
                  <a:lnTo>
                    <a:pt x="99" y="2"/>
                  </a:lnTo>
                  <a:lnTo>
                    <a:pt x="98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181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3405240"/>
              <a:ext cx="50760" cy="342720"/>
            </a:xfrm>
            <a:custGeom>
              <a:avLst/>
              <a:gdLst>
                <a:gd name="textAreaLeft" fmla="*/ 5760 w 50760"/>
                <a:gd name="textAreaRight" fmla="*/ 45000 w 50760"/>
                <a:gd name="textAreaTop" fmla="*/ 5760 h 342720"/>
                <a:gd name="textAreaBottom" fmla="*/ 336960 h 342720"/>
              </a:gdLst>
              <a:ahLst/>
              <a:rect l="textAreaLeft" t="textAreaTop" r="textAreaRight" b="textAreaBottom"/>
              <a:pathLst>
                <a:path w="21600" h="144963">
                  <a:moveTo>
                    <a:pt x="8463" y="0"/>
                  </a:moveTo>
                  <a:arcTo wR="8463" hR="8463" stAng="16200000" swAng="-5400000"/>
                  <a:lnTo>
                    <a:pt x="0" y="136500"/>
                  </a:lnTo>
                  <a:arcTo wR="8463" hR="8463" stAng="10800000" swAng="-5400000"/>
                  <a:lnTo>
                    <a:pt x="13137" y="144963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36680" y="3398760"/>
              <a:ext cx="54000" cy="346320"/>
            </a:xfrm>
            <a:custGeom>
              <a:avLst/>
              <a:gdLst>
                <a:gd name="textAreaLeft" fmla="*/ 6120 w 54000"/>
                <a:gd name="textAreaRight" fmla="*/ 47880 w 54000"/>
                <a:gd name="textAreaTop" fmla="*/ 6120 h 346320"/>
                <a:gd name="textAreaBottom" fmla="*/ 340200 h 346320"/>
              </a:gdLst>
              <a:ahLst/>
              <a:rect l="textAreaLeft" t="textAreaTop" r="textAreaRight" b="textAreaBottom"/>
              <a:pathLst>
                <a:path w="21600" h="137754">
                  <a:moveTo>
                    <a:pt x="8463" y="0"/>
                  </a:moveTo>
                  <a:arcTo wR="8463" hR="8463" stAng="16200000" swAng="-5400000"/>
                  <a:lnTo>
                    <a:pt x="0" y="129291"/>
                  </a:lnTo>
                  <a:arcTo wR="8463" hR="8463" stAng="10800000" swAng="-5400000"/>
                  <a:lnTo>
                    <a:pt x="13137" y="137754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49840" y="5956200"/>
            <a:ext cx="298440" cy="793800"/>
            <a:chOff x="3849840" y="5956200"/>
            <a:chExt cx="298440" cy="793800"/>
          </a:xfrm>
        </p:grpSpPr>
        <p:sp>
          <p:nvSpPr>
            <p:cNvPr id="337" name=""/>
            <p:cNvSpPr/>
            <p:nvPr/>
          </p:nvSpPr>
          <p:spPr>
            <a:xfrm>
              <a:off x="3903840" y="6394320"/>
              <a:ext cx="74520" cy="354240"/>
            </a:xfrm>
            <a:custGeom>
              <a:avLst/>
              <a:gdLst/>
              <a:ahLst/>
              <a:rect l="l" t="t" r="r" b="b"/>
              <a:pathLst>
                <a:path w="47" h="223">
                  <a:moveTo>
                    <a:pt x="0" y="211"/>
                  </a:moveTo>
                  <a:lnTo>
                    <a:pt x="0" y="212"/>
                  </a:lnTo>
                  <a:lnTo>
                    <a:pt x="0" y="213"/>
                  </a:lnTo>
                  <a:lnTo>
                    <a:pt x="1" y="213"/>
                  </a:lnTo>
                  <a:lnTo>
                    <a:pt x="1" y="215"/>
                  </a:lnTo>
                  <a:lnTo>
                    <a:pt x="1" y="216"/>
                  </a:lnTo>
                  <a:lnTo>
                    <a:pt x="1" y="217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7" y="222"/>
                  </a:lnTo>
                  <a:lnTo>
                    <a:pt x="9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5" y="222"/>
                  </a:lnTo>
                  <a:lnTo>
                    <a:pt x="36" y="222"/>
                  </a:lnTo>
                  <a:lnTo>
                    <a:pt x="38" y="220"/>
                  </a:lnTo>
                  <a:lnTo>
                    <a:pt x="39" y="220"/>
                  </a:lnTo>
                  <a:lnTo>
                    <a:pt x="40" y="220"/>
                  </a:lnTo>
                  <a:lnTo>
                    <a:pt x="40" y="219"/>
                  </a:lnTo>
                  <a:lnTo>
                    <a:pt x="42" y="219"/>
                  </a:lnTo>
                  <a:lnTo>
                    <a:pt x="43" y="219"/>
                  </a:lnTo>
                  <a:lnTo>
                    <a:pt x="43" y="217"/>
                  </a:lnTo>
                  <a:lnTo>
                    <a:pt x="43" y="216"/>
                  </a:lnTo>
                  <a:lnTo>
                    <a:pt x="43" y="215"/>
                  </a:lnTo>
                  <a:lnTo>
                    <a:pt x="46" y="215"/>
                  </a:lnTo>
                  <a:lnTo>
                    <a:pt x="46" y="213"/>
                  </a:lnTo>
                  <a:lnTo>
                    <a:pt x="46" y="212"/>
                  </a:lnTo>
                  <a:lnTo>
                    <a:pt x="46" y="2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1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24440" y="6396120"/>
              <a:ext cx="71280" cy="353880"/>
            </a:xfrm>
            <a:custGeom>
              <a:avLst/>
              <a:gdLst/>
              <a:ahLst/>
              <a:rect l="l" t="t" r="r" b="b"/>
              <a:pathLst>
                <a:path w="45" h="223">
                  <a:moveTo>
                    <a:pt x="0" y="212"/>
                  </a:moveTo>
                  <a:lnTo>
                    <a:pt x="0" y="213"/>
                  </a:lnTo>
                  <a:lnTo>
                    <a:pt x="0" y="215"/>
                  </a:lnTo>
                  <a:lnTo>
                    <a:pt x="0" y="216"/>
                  </a:lnTo>
                  <a:lnTo>
                    <a:pt x="1" y="217"/>
                  </a:lnTo>
                  <a:lnTo>
                    <a:pt x="3" y="217"/>
                  </a:lnTo>
                  <a:lnTo>
                    <a:pt x="3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5" y="222"/>
                  </a:lnTo>
                  <a:lnTo>
                    <a:pt x="6" y="222"/>
                  </a:lnTo>
                  <a:lnTo>
                    <a:pt x="7" y="222"/>
                  </a:lnTo>
                  <a:lnTo>
                    <a:pt x="8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2" y="222"/>
                  </a:lnTo>
                  <a:lnTo>
                    <a:pt x="33" y="222"/>
                  </a:lnTo>
                  <a:lnTo>
                    <a:pt x="35" y="222"/>
                  </a:lnTo>
                  <a:lnTo>
                    <a:pt x="37" y="222"/>
                  </a:lnTo>
                  <a:lnTo>
                    <a:pt x="37" y="220"/>
                  </a:lnTo>
                  <a:lnTo>
                    <a:pt x="38" y="220"/>
                  </a:lnTo>
                  <a:lnTo>
                    <a:pt x="38" y="219"/>
                  </a:lnTo>
                  <a:lnTo>
                    <a:pt x="40" y="219"/>
                  </a:lnTo>
                  <a:lnTo>
                    <a:pt x="40" y="217"/>
                  </a:lnTo>
                  <a:lnTo>
                    <a:pt x="41" y="217"/>
                  </a:lnTo>
                  <a:lnTo>
                    <a:pt x="42" y="216"/>
                  </a:lnTo>
                  <a:lnTo>
                    <a:pt x="42" y="215"/>
                  </a:lnTo>
                  <a:lnTo>
                    <a:pt x="42" y="213"/>
                  </a:lnTo>
                  <a:lnTo>
                    <a:pt x="42" y="212"/>
                  </a:lnTo>
                  <a:lnTo>
                    <a:pt x="44" y="212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2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59200" y="6094440"/>
              <a:ext cx="284040" cy="96840"/>
            </a:xfrm>
            <a:prstGeom prst="roundRect">
              <a:avLst>
                <a:gd name="adj" fmla="val 39181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17880" y="5956200"/>
              <a:ext cx="155520" cy="1382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6103800"/>
              <a:ext cx="190440" cy="331920"/>
            </a:xfrm>
            <a:custGeom>
              <a:avLst/>
              <a:gdLst/>
              <a:ahLst/>
              <a:rect l="l" t="t" r="r" b="b"/>
              <a:pathLst>
                <a:path w="120" h="209">
                  <a:moveTo>
                    <a:pt x="0" y="181"/>
                  </a:moveTo>
                  <a:lnTo>
                    <a:pt x="0" y="183"/>
                  </a:lnTo>
                  <a:lnTo>
                    <a:pt x="0" y="184"/>
                  </a:lnTo>
                  <a:lnTo>
                    <a:pt x="1" y="184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3" y="192"/>
                  </a:lnTo>
                  <a:lnTo>
                    <a:pt x="3" y="194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6" y="196"/>
                  </a:lnTo>
                  <a:lnTo>
                    <a:pt x="7" y="198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5" y="203"/>
                  </a:lnTo>
                  <a:lnTo>
                    <a:pt x="15" y="205"/>
                  </a:lnTo>
                  <a:lnTo>
                    <a:pt x="16" y="205"/>
                  </a:lnTo>
                  <a:lnTo>
                    <a:pt x="16" y="206"/>
                  </a:lnTo>
                  <a:lnTo>
                    <a:pt x="17" y="206"/>
                  </a:lnTo>
                  <a:lnTo>
                    <a:pt x="19" y="206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21" y="208"/>
                  </a:lnTo>
                  <a:lnTo>
                    <a:pt x="23" y="208"/>
                  </a:lnTo>
                  <a:lnTo>
                    <a:pt x="24" y="208"/>
                  </a:lnTo>
                  <a:lnTo>
                    <a:pt x="25" y="208"/>
                  </a:lnTo>
                  <a:lnTo>
                    <a:pt x="26" y="208"/>
                  </a:lnTo>
                  <a:lnTo>
                    <a:pt x="28" y="208"/>
                  </a:lnTo>
                  <a:lnTo>
                    <a:pt x="29" y="208"/>
                  </a:lnTo>
                  <a:lnTo>
                    <a:pt x="89" y="208"/>
                  </a:lnTo>
                  <a:lnTo>
                    <a:pt x="90" y="208"/>
                  </a:lnTo>
                  <a:lnTo>
                    <a:pt x="92" y="208"/>
                  </a:lnTo>
                  <a:lnTo>
                    <a:pt x="94" y="208"/>
                  </a:lnTo>
                  <a:lnTo>
                    <a:pt x="95" y="208"/>
                  </a:lnTo>
                  <a:lnTo>
                    <a:pt x="97" y="208"/>
                  </a:lnTo>
                  <a:lnTo>
                    <a:pt x="98" y="208"/>
                  </a:lnTo>
                  <a:lnTo>
                    <a:pt x="99" y="206"/>
                  </a:lnTo>
                  <a:lnTo>
                    <a:pt x="101" y="206"/>
                  </a:lnTo>
                  <a:lnTo>
                    <a:pt x="102" y="206"/>
                  </a:lnTo>
                  <a:lnTo>
                    <a:pt x="103" y="205"/>
                  </a:lnTo>
                  <a:lnTo>
                    <a:pt x="103" y="203"/>
                  </a:lnTo>
                  <a:lnTo>
                    <a:pt x="106" y="203"/>
                  </a:lnTo>
                  <a:lnTo>
                    <a:pt x="106" y="202"/>
                  </a:lnTo>
                  <a:lnTo>
                    <a:pt x="107" y="202"/>
                  </a:lnTo>
                  <a:lnTo>
                    <a:pt x="108" y="202"/>
                  </a:lnTo>
                  <a:lnTo>
                    <a:pt x="108" y="201"/>
                  </a:lnTo>
                  <a:lnTo>
                    <a:pt x="110" y="201"/>
                  </a:lnTo>
                  <a:lnTo>
                    <a:pt x="110" y="199"/>
                  </a:lnTo>
                  <a:lnTo>
                    <a:pt x="112" y="199"/>
                  </a:lnTo>
                  <a:lnTo>
                    <a:pt x="112" y="198"/>
                  </a:lnTo>
                  <a:lnTo>
                    <a:pt x="112" y="196"/>
                  </a:lnTo>
                  <a:lnTo>
                    <a:pt x="113" y="196"/>
                  </a:lnTo>
                  <a:lnTo>
                    <a:pt x="113" y="195"/>
                  </a:lnTo>
                  <a:lnTo>
                    <a:pt x="113" y="194"/>
                  </a:lnTo>
                  <a:lnTo>
                    <a:pt x="115" y="192"/>
                  </a:lnTo>
                  <a:lnTo>
                    <a:pt x="115" y="191"/>
                  </a:lnTo>
                  <a:lnTo>
                    <a:pt x="116" y="191"/>
                  </a:lnTo>
                  <a:lnTo>
                    <a:pt x="116" y="189"/>
                  </a:lnTo>
                  <a:lnTo>
                    <a:pt x="116" y="188"/>
                  </a:lnTo>
                  <a:lnTo>
                    <a:pt x="117" y="187"/>
                  </a:lnTo>
                  <a:lnTo>
                    <a:pt x="117" y="185"/>
                  </a:lnTo>
                  <a:lnTo>
                    <a:pt x="117" y="184"/>
                  </a:lnTo>
                  <a:lnTo>
                    <a:pt x="117" y="183"/>
                  </a:lnTo>
                  <a:lnTo>
                    <a:pt x="117" y="181"/>
                  </a:lnTo>
                  <a:lnTo>
                    <a:pt x="119" y="181"/>
                  </a:lnTo>
                  <a:lnTo>
                    <a:pt x="119" y="29"/>
                  </a:lnTo>
                  <a:lnTo>
                    <a:pt x="117" y="27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7" y="23"/>
                  </a:lnTo>
                  <a:lnTo>
                    <a:pt x="117" y="22"/>
                  </a:lnTo>
                  <a:lnTo>
                    <a:pt x="117" y="20"/>
                  </a:lnTo>
                  <a:lnTo>
                    <a:pt x="116" y="20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3" y="13"/>
                  </a:lnTo>
                  <a:lnTo>
                    <a:pt x="112" y="12"/>
                  </a:lnTo>
                  <a:lnTo>
                    <a:pt x="112" y="11"/>
                  </a:lnTo>
                  <a:lnTo>
                    <a:pt x="110" y="11"/>
                  </a:lnTo>
                  <a:lnTo>
                    <a:pt x="110" y="9"/>
                  </a:lnTo>
                  <a:lnTo>
                    <a:pt x="108" y="9"/>
                  </a:lnTo>
                  <a:lnTo>
                    <a:pt x="108" y="8"/>
                  </a:lnTo>
                  <a:lnTo>
                    <a:pt x="108" y="6"/>
                  </a:lnTo>
                  <a:lnTo>
                    <a:pt x="107" y="6"/>
                  </a:lnTo>
                  <a:lnTo>
                    <a:pt x="107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3" y="4"/>
                  </a:lnTo>
                  <a:lnTo>
                    <a:pt x="102" y="4"/>
                  </a:lnTo>
                  <a:lnTo>
                    <a:pt x="101" y="4"/>
                  </a:lnTo>
                  <a:lnTo>
                    <a:pt x="99" y="2"/>
                  </a:lnTo>
                  <a:lnTo>
                    <a:pt x="98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181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95720" y="6097680"/>
              <a:ext cx="52560" cy="344520"/>
            </a:xfrm>
            <a:custGeom>
              <a:avLst/>
              <a:gdLst>
                <a:gd name="textAreaLeft" fmla="*/ 5760 w 52560"/>
                <a:gd name="textAreaRight" fmla="*/ 46800 w 52560"/>
                <a:gd name="textAreaTop" fmla="*/ 5760 h 344520"/>
                <a:gd name="textAreaBottom" fmla="*/ 338760 h 344520"/>
              </a:gdLst>
              <a:ahLst/>
              <a:rect l="textAreaLeft" t="textAreaTop" r="textAreaRight" b="textAreaBottom"/>
              <a:pathLst>
                <a:path w="21600" h="140767">
                  <a:moveTo>
                    <a:pt x="8463" y="0"/>
                  </a:moveTo>
                  <a:arcTo wR="8463" hR="8463" stAng="16200000" swAng="-5400000"/>
                  <a:lnTo>
                    <a:pt x="0" y="132304"/>
                  </a:lnTo>
                  <a:arcTo wR="8463" hR="8463" stAng="10800000" swAng="-5400000"/>
                  <a:lnTo>
                    <a:pt x="13137" y="140767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49840" y="6093000"/>
              <a:ext cx="55440" cy="344160"/>
            </a:xfrm>
            <a:custGeom>
              <a:avLst/>
              <a:gdLst>
                <a:gd name="textAreaLeft" fmla="*/ 6120 w 55440"/>
                <a:gd name="textAreaRight" fmla="*/ 49320 w 55440"/>
                <a:gd name="textAreaTop" fmla="*/ 6120 h 344160"/>
                <a:gd name="textAreaBottom" fmla="*/ 338040 h 344160"/>
              </a:gdLst>
              <a:ahLst/>
              <a:rect l="textAreaLeft" t="textAreaTop" r="textAreaRight" b="textAreaBottom"/>
              <a:pathLst>
                <a:path w="21600" h="133363">
                  <a:moveTo>
                    <a:pt x="8463" y="0"/>
                  </a:moveTo>
                  <a:arcTo wR="8463" hR="8463" stAng="16200000" swAng="-5400000"/>
                  <a:lnTo>
                    <a:pt x="0" y="124900"/>
                  </a:lnTo>
                  <a:arcTo wR="8463" hR="8463" stAng="10800000" swAng="-5400000"/>
                  <a:lnTo>
                    <a:pt x="13137" y="133363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934720" y="4098960"/>
            <a:ext cx="3603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istributed Infrastructure Environ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94080" y="4545000"/>
            <a:ext cx="1206360" cy="592200"/>
          </a:xfrm>
          <a:prstGeom prst="rect">
            <a:avLst/>
          </a:prstGeom>
          <a:solidFill>
            <a:srgbClr val="99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5400" y="4535640"/>
            <a:ext cx="130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rezenta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osl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32440" y="4535640"/>
            <a:ext cx="1204920" cy="591840"/>
          </a:xfrm>
          <a:prstGeom prst="rect">
            <a:avLst/>
          </a:prstGeom>
          <a:solidFill>
            <a:srgbClr val="99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36400" y="4557600"/>
            <a:ext cx="115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okret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Aplikaci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660920" y="1916280"/>
            <a:ext cx="0" cy="14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92760" y="1886040"/>
            <a:ext cx="1440" cy="15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3720" y="2224080"/>
            <a:ext cx="1112760" cy="708120"/>
          </a:xfrm>
          <a:prstGeom prst="roundRect">
            <a:avLst>
              <a:gd name="adj" fmla="val 31218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7160" y="2719440"/>
            <a:ext cx="208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</a:t>
            </a:r>
            <a:r>
              <a:rPr b="1" i="1" lang="sr-Latn-CS" sz="1600" spc="-1" strike="noStrike">
                <a:solidFill>
                  <a:srgbClr val="000000"/>
                </a:solidFill>
                <a:latin typeface="ICL Classical Garamond"/>
              </a:rPr>
              <a:t>z</a:t>
            </a: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vr</a:t>
            </a:r>
            <a:r>
              <a:rPr b="1" i="1" lang="sr-Latn-CS" sz="1600" spc="-1" strike="noStrike">
                <a:solidFill>
                  <a:srgbClr val="000000"/>
                </a:solidFill>
                <a:latin typeface="ICL Classical Garamond"/>
              </a:rPr>
              <a:t>š</a:t>
            </a: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avanje 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49440" y="2278080"/>
            <a:ext cx="1056240" cy="624600"/>
          </a:xfrm>
          <a:prstGeom prst="roundRect">
            <a:avLst>
              <a:gd name="adj" fmla="val 12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i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13440" y="1152360"/>
            <a:ext cx="3191760" cy="706680"/>
            <a:chOff x="3313440" y="1152360"/>
            <a:chExt cx="3191760" cy="706680"/>
          </a:xfrm>
        </p:grpSpPr>
        <p:sp>
          <p:nvSpPr>
            <p:cNvPr id="355" name=""/>
            <p:cNvSpPr/>
            <p:nvPr/>
          </p:nvSpPr>
          <p:spPr>
            <a:xfrm>
              <a:off x="3351240" y="1152360"/>
              <a:ext cx="2881440" cy="70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313440" y="1209600"/>
              <a:ext cx="3191760" cy="590040"/>
              <a:chOff x="3313440" y="1209600"/>
              <a:chExt cx="3191760" cy="590040"/>
            </a:xfrm>
          </p:grpSpPr>
          <p:sp>
            <p:nvSpPr>
              <p:cNvPr id="357" name=""/>
              <p:cNvSpPr/>
              <p:nvPr/>
            </p:nvSpPr>
            <p:spPr>
              <a:xfrm>
                <a:off x="3448800" y="1209600"/>
                <a:ext cx="2670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Arial"/>
                  </a:rPr>
                  <a:t>Analiza poslovnog procesa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13440" y="1463760"/>
                <a:ext cx="319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Arial"/>
                  </a:rPr>
                  <a:t>Alati za modelovanje i definisanj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6801840" y="1628640"/>
            <a:ext cx="1584000" cy="578880"/>
            <a:chOff x="6801840" y="1628640"/>
            <a:chExt cx="1584000" cy="578880"/>
          </a:xfrm>
        </p:grpSpPr>
        <p:sp>
          <p:nvSpPr>
            <p:cNvPr id="360" name=""/>
            <p:cNvSpPr/>
            <p:nvPr/>
          </p:nvSpPr>
          <p:spPr>
            <a:xfrm>
              <a:off x="6801840" y="1628640"/>
              <a:ext cx="1584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ICL Classical Garamond"/>
                </a:rPr>
                <a:t>Dizajn proces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32440" y="1871640"/>
              <a:ext cx="119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ICL Classical Garamond"/>
                </a:rPr>
                <a:t>i definicij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708280" y="1452600"/>
            <a:ext cx="606600" cy="0"/>
          </a:xfrm>
          <a:prstGeom prst="line">
            <a:avLst/>
          </a:prstGeom>
          <a:ln w="12600">
            <a:solidFill>
              <a:srgbClr val="40458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368440" y="1098720"/>
            <a:ext cx="300240" cy="793440"/>
            <a:chOff x="2368440" y="1098720"/>
            <a:chExt cx="300240" cy="793440"/>
          </a:xfrm>
        </p:grpSpPr>
        <p:sp>
          <p:nvSpPr>
            <p:cNvPr id="364" name=""/>
            <p:cNvSpPr/>
            <p:nvPr/>
          </p:nvSpPr>
          <p:spPr>
            <a:xfrm>
              <a:off x="2424240" y="1536840"/>
              <a:ext cx="72720" cy="353880"/>
            </a:xfrm>
            <a:custGeom>
              <a:avLst/>
              <a:gdLst/>
              <a:ahLst/>
              <a:rect l="l" t="t" r="r" b="b"/>
              <a:pathLst>
                <a:path w="46" h="223">
                  <a:moveTo>
                    <a:pt x="0" y="211"/>
                  </a:moveTo>
                  <a:lnTo>
                    <a:pt x="0" y="212"/>
                  </a:lnTo>
                  <a:lnTo>
                    <a:pt x="0" y="213"/>
                  </a:lnTo>
                  <a:lnTo>
                    <a:pt x="1" y="213"/>
                  </a:lnTo>
                  <a:lnTo>
                    <a:pt x="1" y="215"/>
                  </a:lnTo>
                  <a:lnTo>
                    <a:pt x="1" y="216"/>
                  </a:lnTo>
                  <a:lnTo>
                    <a:pt x="1" y="217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7" y="222"/>
                  </a:lnTo>
                  <a:lnTo>
                    <a:pt x="9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4" y="222"/>
                  </a:lnTo>
                  <a:lnTo>
                    <a:pt x="36" y="222"/>
                  </a:lnTo>
                  <a:lnTo>
                    <a:pt x="37" y="220"/>
                  </a:lnTo>
                  <a:lnTo>
                    <a:pt x="38" y="220"/>
                  </a:lnTo>
                  <a:lnTo>
                    <a:pt x="39" y="220"/>
                  </a:lnTo>
                  <a:lnTo>
                    <a:pt x="39" y="219"/>
                  </a:lnTo>
                  <a:lnTo>
                    <a:pt x="41" y="219"/>
                  </a:lnTo>
                  <a:lnTo>
                    <a:pt x="42" y="219"/>
                  </a:lnTo>
                  <a:lnTo>
                    <a:pt x="42" y="217"/>
                  </a:lnTo>
                  <a:lnTo>
                    <a:pt x="42" y="216"/>
                  </a:lnTo>
                  <a:lnTo>
                    <a:pt x="42" y="215"/>
                  </a:lnTo>
                  <a:lnTo>
                    <a:pt x="45" y="215"/>
                  </a:lnTo>
                  <a:lnTo>
                    <a:pt x="45" y="213"/>
                  </a:lnTo>
                  <a:lnTo>
                    <a:pt x="45" y="212"/>
                  </a:lnTo>
                  <a:lnTo>
                    <a:pt x="45" y="211"/>
                  </a:lnTo>
                  <a:lnTo>
                    <a:pt x="45" y="9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4840" y="1538280"/>
              <a:ext cx="73080" cy="353880"/>
            </a:xfrm>
            <a:custGeom>
              <a:avLst/>
              <a:gdLst/>
              <a:ahLst/>
              <a:rect l="l" t="t" r="r" b="b"/>
              <a:pathLst>
                <a:path w="46" h="223">
                  <a:moveTo>
                    <a:pt x="0" y="212"/>
                  </a:moveTo>
                  <a:lnTo>
                    <a:pt x="0" y="213"/>
                  </a:lnTo>
                  <a:lnTo>
                    <a:pt x="0" y="215"/>
                  </a:lnTo>
                  <a:lnTo>
                    <a:pt x="0" y="216"/>
                  </a:lnTo>
                  <a:lnTo>
                    <a:pt x="1" y="217"/>
                  </a:lnTo>
                  <a:lnTo>
                    <a:pt x="3" y="217"/>
                  </a:lnTo>
                  <a:lnTo>
                    <a:pt x="3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5" y="222"/>
                  </a:lnTo>
                  <a:lnTo>
                    <a:pt x="6" y="222"/>
                  </a:lnTo>
                  <a:lnTo>
                    <a:pt x="7" y="222"/>
                  </a:lnTo>
                  <a:lnTo>
                    <a:pt x="9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3" y="222"/>
                  </a:lnTo>
                  <a:lnTo>
                    <a:pt x="34" y="222"/>
                  </a:lnTo>
                  <a:lnTo>
                    <a:pt x="36" y="222"/>
                  </a:lnTo>
                  <a:lnTo>
                    <a:pt x="38" y="222"/>
                  </a:lnTo>
                  <a:lnTo>
                    <a:pt x="38" y="220"/>
                  </a:lnTo>
                  <a:lnTo>
                    <a:pt x="39" y="220"/>
                  </a:lnTo>
                  <a:lnTo>
                    <a:pt x="39" y="219"/>
                  </a:lnTo>
                  <a:lnTo>
                    <a:pt x="41" y="219"/>
                  </a:lnTo>
                  <a:lnTo>
                    <a:pt x="41" y="217"/>
                  </a:lnTo>
                  <a:lnTo>
                    <a:pt x="42" y="217"/>
                  </a:lnTo>
                  <a:lnTo>
                    <a:pt x="43" y="216"/>
                  </a:lnTo>
                  <a:lnTo>
                    <a:pt x="43" y="215"/>
                  </a:lnTo>
                  <a:lnTo>
                    <a:pt x="43" y="213"/>
                  </a:lnTo>
                  <a:lnTo>
                    <a:pt x="43" y="212"/>
                  </a:lnTo>
                  <a:lnTo>
                    <a:pt x="45" y="212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8160" y="1235160"/>
              <a:ext cx="285840" cy="98280"/>
            </a:xfrm>
            <a:prstGeom prst="roundRect">
              <a:avLst>
                <a:gd name="adj" fmla="val 3918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38280" y="1098720"/>
              <a:ext cx="15552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25680" y="1247760"/>
              <a:ext cx="192240" cy="331920"/>
            </a:xfrm>
            <a:custGeom>
              <a:avLst/>
              <a:gdLst/>
              <a:ahLst/>
              <a:rect l="l" t="t" r="r" b="b"/>
              <a:pathLst>
                <a:path w="121" h="209">
                  <a:moveTo>
                    <a:pt x="0" y="181"/>
                  </a:moveTo>
                  <a:lnTo>
                    <a:pt x="0" y="183"/>
                  </a:lnTo>
                  <a:lnTo>
                    <a:pt x="0" y="184"/>
                  </a:lnTo>
                  <a:lnTo>
                    <a:pt x="1" y="184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3" y="192"/>
                  </a:lnTo>
                  <a:lnTo>
                    <a:pt x="3" y="194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6" y="196"/>
                  </a:lnTo>
                  <a:lnTo>
                    <a:pt x="7" y="198"/>
                  </a:lnTo>
                  <a:lnTo>
                    <a:pt x="9" y="199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5" y="203"/>
                  </a:lnTo>
                  <a:lnTo>
                    <a:pt x="15" y="205"/>
                  </a:lnTo>
                  <a:lnTo>
                    <a:pt x="16" y="205"/>
                  </a:lnTo>
                  <a:lnTo>
                    <a:pt x="16" y="206"/>
                  </a:lnTo>
                  <a:lnTo>
                    <a:pt x="18" y="206"/>
                  </a:lnTo>
                  <a:lnTo>
                    <a:pt x="19" y="206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21" y="208"/>
                  </a:lnTo>
                  <a:lnTo>
                    <a:pt x="23" y="208"/>
                  </a:lnTo>
                  <a:lnTo>
                    <a:pt x="24" y="208"/>
                  </a:lnTo>
                  <a:lnTo>
                    <a:pt x="25" y="208"/>
                  </a:lnTo>
                  <a:lnTo>
                    <a:pt x="27" y="208"/>
                  </a:lnTo>
                  <a:lnTo>
                    <a:pt x="28" y="208"/>
                  </a:lnTo>
                  <a:lnTo>
                    <a:pt x="29" y="208"/>
                  </a:lnTo>
                  <a:lnTo>
                    <a:pt x="90" y="208"/>
                  </a:lnTo>
                  <a:lnTo>
                    <a:pt x="91" y="208"/>
                  </a:lnTo>
                  <a:lnTo>
                    <a:pt x="92" y="208"/>
                  </a:lnTo>
                  <a:lnTo>
                    <a:pt x="95" y="208"/>
                  </a:lnTo>
                  <a:lnTo>
                    <a:pt x="96" y="208"/>
                  </a:lnTo>
                  <a:lnTo>
                    <a:pt x="98" y="208"/>
                  </a:lnTo>
                  <a:lnTo>
                    <a:pt x="99" y="208"/>
                  </a:lnTo>
                  <a:lnTo>
                    <a:pt x="100" y="206"/>
                  </a:lnTo>
                  <a:lnTo>
                    <a:pt x="101" y="206"/>
                  </a:lnTo>
                  <a:lnTo>
                    <a:pt x="103" y="206"/>
                  </a:lnTo>
                  <a:lnTo>
                    <a:pt x="104" y="205"/>
                  </a:lnTo>
                  <a:lnTo>
                    <a:pt x="104" y="203"/>
                  </a:lnTo>
                  <a:lnTo>
                    <a:pt x="107" y="203"/>
                  </a:lnTo>
                  <a:lnTo>
                    <a:pt x="107" y="202"/>
                  </a:lnTo>
                  <a:lnTo>
                    <a:pt x="108" y="202"/>
                  </a:lnTo>
                  <a:lnTo>
                    <a:pt x="109" y="202"/>
                  </a:lnTo>
                  <a:lnTo>
                    <a:pt x="109" y="201"/>
                  </a:lnTo>
                  <a:lnTo>
                    <a:pt x="110" y="201"/>
                  </a:lnTo>
                  <a:lnTo>
                    <a:pt x="110" y="199"/>
                  </a:lnTo>
                  <a:lnTo>
                    <a:pt x="113" y="199"/>
                  </a:lnTo>
                  <a:lnTo>
                    <a:pt x="113" y="198"/>
                  </a:lnTo>
                  <a:lnTo>
                    <a:pt x="113" y="196"/>
                  </a:lnTo>
                  <a:lnTo>
                    <a:pt x="114" y="196"/>
                  </a:lnTo>
                  <a:lnTo>
                    <a:pt x="114" y="195"/>
                  </a:lnTo>
                  <a:lnTo>
                    <a:pt x="114" y="194"/>
                  </a:lnTo>
                  <a:lnTo>
                    <a:pt x="116" y="192"/>
                  </a:lnTo>
                  <a:lnTo>
                    <a:pt x="116" y="191"/>
                  </a:lnTo>
                  <a:lnTo>
                    <a:pt x="117" y="191"/>
                  </a:lnTo>
                  <a:lnTo>
                    <a:pt x="117" y="189"/>
                  </a:lnTo>
                  <a:lnTo>
                    <a:pt x="117" y="188"/>
                  </a:lnTo>
                  <a:lnTo>
                    <a:pt x="118" y="187"/>
                  </a:lnTo>
                  <a:lnTo>
                    <a:pt x="118" y="185"/>
                  </a:lnTo>
                  <a:lnTo>
                    <a:pt x="118" y="184"/>
                  </a:lnTo>
                  <a:lnTo>
                    <a:pt x="118" y="183"/>
                  </a:lnTo>
                  <a:lnTo>
                    <a:pt x="118" y="181"/>
                  </a:lnTo>
                  <a:lnTo>
                    <a:pt x="120" y="181"/>
                  </a:lnTo>
                  <a:lnTo>
                    <a:pt x="120" y="29"/>
                  </a:lnTo>
                  <a:lnTo>
                    <a:pt x="118" y="27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3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7" y="20"/>
                  </a:lnTo>
                  <a:lnTo>
                    <a:pt x="117" y="19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4" y="15"/>
                  </a:lnTo>
                  <a:lnTo>
                    <a:pt x="114" y="13"/>
                  </a:lnTo>
                  <a:lnTo>
                    <a:pt x="113" y="12"/>
                  </a:lnTo>
                  <a:lnTo>
                    <a:pt x="113" y="11"/>
                  </a:lnTo>
                  <a:lnTo>
                    <a:pt x="110" y="11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9" y="8"/>
                  </a:lnTo>
                  <a:lnTo>
                    <a:pt x="109" y="6"/>
                  </a:lnTo>
                  <a:lnTo>
                    <a:pt x="108" y="6"/>
                  </a:lnTo>
                  <a:lnTo>
                    <a:pt x="108" y="5"/>
                  </a:lnTo>
                  <a:lnTo>
                    <a:pt x="107" y="5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8" y="2"/>
                  </a:lnTo>
                  <a:lnTo>
                    <a:pt x="98" y="1"/>
                  </a:lnTo>
                  <a:lnTo>
                    <a:pt x="96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18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14680" y="1239840"/>
              <a:ext cx="54000" cy="344520"/>
            </a:xfrm>
            <a:custGeom>
              <a:avLst/>
              <a:gdLst>
                <a:gd name="textAreaLeft" fmla="*/ 6120 w 54000"/>
                <a:gd name="textAreaRight" fmla="*/ 47880 w 54000"/>
                <a:gd name="textAreaTop" fmla="*/ 6120 h 344520"/>
                <a:gd name="textAreaBottom" fmla="*/ 338400 h 344520"/>
              </a:gdLst>
              <a:ahLst/>
              <a:rect l="textAreaLeft" t="textAreaTop" r="textAreaRight" b="textAreaBottom"/>
              <a:pathLst>
                <a:path w="21600" h="137038">
                  <a:moveTo>
                    <a:pt x="8463" y="0"/>
                  </a:moveTo>
                  <a:arcTo wR="8463" hR="8463" stAng="16200000" swAng="-5400000"/>
                  <a:lnTo>
                    <a:pt x="0" y="128575"/>
                  </a:lnTo>
                  <a:arcTo wR="8463" hR="8463" stAng="10800000" swAng="-5400000"/>
                  <a:lnTo>
                    <a:pt x="13137" y="137038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8440" y="1233360"/>
              <a:ext cx="57240" cy="346320"/>
            </a:xfrm>
            <a:custGeom>
              <a:avLst/>
              <a:gdLst>
                <a:gd name="textAreaLeft" fmla="*/ 6480 w 57240"/>
                <a:gd name="textAreaRight" fmla="*/ 50760 w 57240"/>
                <a:gd name="textAreaTop" fmla="*/ 6480 h 346320"/>
                <a:gd name="textAreaBottom" fmla="*/ 339840 h 346320"/>
              </a:gdLst>
              <a:ahLst/>
              <a:rect l="textAreaLeft" t="textAreaTop" r="textAreaRight" b="textAreaBottom"/>
              <a:pathLst>
                <a:path w="21600" h="130005">
                  <a:moveTo>
                    <a:pt x="8463" y="0"/>
                  </a:moveTo>
                  <a:arcTo wR="8463" hR="8463" stAng="16200000" swAng="-5400000"/>
                  <a:lnTo>
                    <a:pt x="0" y="121542"/>
                  </a:lnTo>
                  <a:arcTo wR="8463" hR="8463" stAng="10800000" swAng="-5400000"/>
                  <a:lnTo>
                    <a:pt x="13137" y="130005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411560" y="1170000"/>
            <a:ext cx="93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Dizaj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40080" y="3457440"/>
            <a:ext cx="2870280" cy="6001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71520" y="2922480"/>
            <a:ext cx="9075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zm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99760" y="3627360"/>
            <a:ext cx="299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orkflow Management Syst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5840" y="1223640"/>
            <a:ext cx="0" cy="11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1400" y="291600"/>
            <a:ext cx="77724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WfMC –</a:t>
            </a:r>
            <a:br>
              <a:rPr sz="4400"/>
            </a:b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Workflow Referentni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6405480" y="2627280"/>
            <a:ext cx="2560680" cy="174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20880" y="2627280"/>
            <a:ext cx="3008520" cy="171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27400" y="1079640"/>
            <a:ext cx="1809720" cy="79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58640" y="1171440"/>
            <a:ext cx="1936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ati 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isanje 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2997360"/>
            <a:ext cx="1652760" cy="9223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92760" y="2997360"/>
            <a:ext cx="1530720" cy="822600"/>
            <a:chOff x="392760" y="2997360"/>
            <a:chExt cx="1530720" cy="822600"/>
          </a:xfrm>
        </p:grpSpPr>
        <p:sp>
          <p:nvSpPr>
            <p:cNvPr id="383" name=""/>
            <p:cNvSpPr/>
            <p:nvPr/>
          </p:nvSpPr>
          <p:spPr>
            <a:xfrm>
              <a:off x="392760" y="2997360"/>
              <a:ext cx="15307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lati z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ministraciju i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nitoring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8360" y="323712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4880" y="34718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777040" y="198612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68320" y="4508640"/>
            <a:ext cx="200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4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- Interoperabilnos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53080" y="251136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82000" y="2687760"/>
            <a:ext cx="1641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flow Serv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01960" y="2592360"/>
            <a:ext cx="156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ugi Workflo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s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5013360"/>
            <a:ext cx="1854000" cy="7891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62800" y="5135400"/>
            <a:ext cx="117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rad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noglis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27960" y="45338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46720" y="451152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68840" y="5600880"/>
            <a:ext cx="1349280" cy="7603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11040" y="5657760"/>
            <a:ext cx="104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ug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likaci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56200" y="1905120"/>
            <a:ext cx="1440" cy="67140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51400" y="4370400"/>
            <a:ext cx="0" cy="60480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9120" y="4414680"/>
            <a:ext cx="0" cy="58752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83400" y="3581280"/>
            <a:ext cx="642960" cy="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68560" y="3446640"/>
            <a:ext cx="623880" cy="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76760" y="5010120"/>
            <a:ext cx="1357200" cy="4111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5451480"/>
            <a:ext cx="0" cy="123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82520" y="504684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Tool Ag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05080" y="1986120"/>
            <a:ext cx="309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40458c"/>
                </a:solidFill>
                <a:latin typeface="ICL Classical Garamond"/>
              </a:rPr>
              <a:t>Dedfinicije procesa Uvoz/Izvo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77360" y="5135400"/>
            <a:ext cx="73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lij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l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62760" y="5657760"/>
            <a:ext cx="131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Legacy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sktop, et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71800" y="3103560"/>
            <a:ext cx="1227240" cy="7747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92440" y="3189240"/>
            <a:ext cx="1392480" cy="790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86160" y="3402000"/>
            <a:ext cx="1351080" cy="54936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9600" y="3290760"/>
            <a:ext cx="1532160" cy="790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0320" y="3429000"/>
            <a:ext cx="1332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13080" y="3387600"/>
            <a:ext cx="140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(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57480" y="5064120"/>
            <a:ext cx="0" cy="77328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48560" y="3227400"/>
            <a:ext cx="1819080" cy="977760"/>
            <a:chOff x="6748560" y="3227400"/>
            <a:chExt cx="1819080" cy="977760"/>
          </a:xfrm>
        </p:grpSpPr>
        <p:sp>
          <p:nvSpPr>
            <p:cNvPr id="416" name=""/>
            <p:cNvSpPr/>
            <p:nvPr/>
          </p:nvSpPr>
          <p:spPr>
            <a:xfrm>
              <a:off x="7340760" y="3227400"/>
              <a:ext cx="1226880" cy="7747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040" y="3313080"/>
              <a:ext cx="1392480" cy="7905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4760" y="3525840"/>
              <a:ext cx="1351080" cy="5493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560" y="3414600"/>
              <a:ext cx="1531800" cy="7905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38920" y="3552840"/>
              <a:ext cx="13320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3511440"/>
              <a:ext cx="1403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(s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100920" y="3051000"/>
            <a:ext cx="554760" cy="167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14" y="21598"/>
                </a:moveTo>
                <a:arcTo wR="10800" hR="10800" stAng="5459095" swAng="6363836"/>
                <a:lnTo>
                  <a:pt x="10800" y="10800"/>
                </a:lnTo>
                <a:close/>
              </a:path>
              <a:path fill="none" w="21600" h="21600">
                <a:moveTo>
                  <a:pt x="10614" y="21598"/>
                </a:moveTo>
                <a:arcTo wR="10800" hR="10800" stAng="5459095" swAng="6363836"/>
              </a:path>
            </a:pathLst>
          </a:custGeom>
          <a:noFill/>
          <a:ln cap="rnd"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43280" y="1778040"/>
            <a:ext cx="6667200" cy="2781360"/>
          </a:xfrm>
          <a:prstGeom prst="rect">
            <a:avLst/>
          </a:prstGeom>
          <a:noFill/>
          <a:ln w="25560">
            <a:solidFill>
              <a:srgbClr val="081d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16524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fMC Specifikaci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719520" y="397980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24200" y="359244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63960" y="5472000"/>
            <a:ext cx="1522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48160" y="473868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05520" y="2133720"/>
            <a:ext cx="774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63960" y="5688000"/>
            <a:ext cx="1522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89320" y="5769000"/>
            <a:ext cx="741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71920" y="2152800"/>
            <a:ext cx="6094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09960" y="1841400"/>
            <a:ext cx="14004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86280" y="1457280"/>
            <a:ext cx="0" cy="447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48160" y="537228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39960" y="621036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30600" y="399744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880240" y="2143080"/>
            <a:ext cx="1440" cy="2860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71760" y="3219480"/>
            <a:ext cx="1171440" cy="324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803680" y="3395520"/>
            <a:ext cx="1440" cy="2872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184640" y="1911240"/>
            <a:ext cx="1511280" cy="444600"/>
            <a:chOff x="4184640" y="1911240"/>
            <a:chExt cx="1511280" cy="444600"/>
          </a:xfrm>
        </p:grpSpPr>
        <p:sp>
          <p:nvSpPr>
            <p:cNvPr id="442" name=""/>
            <p:cNvSpPr/>
            <p:nvPr/>
          </p:nvSpPr>
          <p:spPr>
            <a:xfrm>
              <a:off x="4184640" y="1911240"/>
              <a:ext cx="15112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3640" y="1996920"/>
              <a:ext cx="131436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Definit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240080" y="1017720"/>
            <a:ext cx="1359000" cy="457560"/>
            <a:chOff x="4240080" y="1017720"/>
            <a:chExt cx="1359000" cy="457560"/>
          </a:xfrm>
        </p:grpSpPr>
        <p:sp>
          <p:nvSpPr>
            <p:cNvPr id="445" name=""/>
            <p:cNvSpPr/>
            <p:nvPr/>
          </p:nvSpPr>
          <p:spPr>
            <a:xfrm>
              <a:off x="4240080" y="1023840"/>
              <a:ext cx="1359000" cy="44460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49800" y="1017720"/>
              <a:ext cx="1339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Definit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Tool / Task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315040" y="2901960"/>
            <a:ext cx="1282680" cy="444600"/>
            <a:chOff x="5315040" y="2901960"/>
            <a:chExt cx="1282680" cy="444600"/>
          </a:xfrm>
        </p:grpSpPr>
        <p:sp>
          <p:nvSpPr>
            <p:cNvPr id="448" name=""/>
            <p:cNvSpPr/>
            <p:nvPr/>
          </p:nvSpPr>
          <p:spPr>
            <a:xfrm>
              <a:off x="5315040" y="2901960"/>
              <a:ext cx="12826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96760" y="2987640"/>
              <a:ext cx="1193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Instanc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70160" y="6270480"/>
            <a:ext cx="10922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95440" y="6310440"/>
            <a:ext cx="84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Participa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381400" y="4054320"/>
            <a:ext cx="856440" cy="444600"/>
            <a:chOff x="2381400" y="4054320"/>
            <a:chExt cx="856440" cy="444600"/>
          </a:xfrm>
        </p:grpSpPr>
        <p:sp>
          <p:nvSpPr>
            <p:cNvPr id="453" name=""/>
            <p:cNvSpPr/>
            <p:nvPr/>
          </p:nvSpPr>
          <p:spPr>
            <a:xfrm>
              <a:off x="2381400" y="4054320"/>
              <a:ext cx="8125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89680" y="4140360"/>
              <a:ext cx="84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Work Item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211880" y="2895480"/>
            <a:ext cx="1282680" cy="457560"/>
            <a:chOff x="7211880" y="2895480"/>
            <a:chExt cx="1282680" cy="457560"/>
          </a:xfrm>
        </p:grpSpPr>
        <p:sp>
          <p:nvSpPr>
            <p:cNvPr id="456" name=""/>
            <p:cNvSpPr/>
            <p:nvPr/>
          </p:nvSpPr>
          <p:spPr>
            <a:xfrm>
              <a:off x="7211880" y="2901960"/>
              <a:ext cx="12826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7240" y="2895480"/>
              <a:ext cx="1193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Instanc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History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884840" y="1550880"/>
            <a:ext cx="3240" cy="2415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46480" y="1554120"/>
            <a:ext cx="649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reates /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odifi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338360" y="2352600"/>
            <a:ext cx="4680" cy="49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36560" y="2424240"/>
            <a:ext cx="105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s instantiated b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27400" y="5454720"/>
            <a:ext cx="977760" cy="4446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57720" y="5448240"/>
            <a:ext cx="718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Worklis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81120" y="3123720"/>
            <a:ext cx="1009800" cy="97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47880" y="2922480"/>
            <a:ext cx="62244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reate, destro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odif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785600" y="2971800"/>
            <a:ext cx="3240" cy="48276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60920" y="3124080"/>
            <a:ext cx="6476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87800" y="4254480"/>
            <a:ext cx="2679480" cy="14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00960" y="3124080"/>
            <a:ext cx="6094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14640" y="1930320"/>
            <a:ext cx="14493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87640" y="2016000"/>
            <a:ext cx="151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Organisational Mod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77640" y="3614760"/>
            <a:ext cx="678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generat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09800" y="3508200"/>
            <a:ext cx="0" cy="860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66160" y="3532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 invok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18000" y="387684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26240" y="4210200"/>
            <a:ext cx="91800" cy="824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21200" y="4257720"/>
            <a:ext cx="154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875200" y="3685680"/>
            <a:ext cx="0" cy="572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79280" y="2925720"/>
            <a:ext cx="63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reate &amp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destro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38560" y="3124080"/>
            <a:ext cx="860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39400" y="2925720"/>
            <a:ext cx="637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intai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audi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trail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00920" y="3124080"/>
            <a:ext cx="950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79920" y="1949400"/>
            <a:ext cx="5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refer 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49552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62280" y="2152800"/>
            <a:ext cx="123840" cy="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52760" y="2371680"/>
            <a:ext cx="0" cy="4669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52760" y="253368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08480" y="2440080"/>
            <a:ext cx="5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refer 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23000" y="2220840"/>
            <a:ext cx="706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nheri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operti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80240" y="268596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76920" y="5151600"/>
            <a:ext cx="87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ocessed  b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5120" y="4911840"/>
            <a:ext cx="0" cy="1332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80000" y="5878440"/>
            <a:ext cx="835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esente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for action b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05120" y="5996160"/>
            <a:ext cx="0" cy="950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75800" y="5732640"/>
            <a:ext cx="51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nvok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41680" y="5765760"/>
            <a:ext cx="1144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63840" y="4724280"/>
            <a:ext cx="565200" cy="648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30360" y="4653000"/>
            <a:ext cx="89064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Worklist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Handler I/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29040" y="4997520"/>
            <a:ext cx="10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79160" y="3510000"/>
            <a:ext cx="722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ovid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nvoc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ontex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56080" y="4997520"/>
            <a:ext cx="154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492800" y="4254480"/>
            <a:ext cx="4896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87760" y="4237200"/>
            <a:ext cx="0" cy="42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48240" y="4237200"/>
            <a:ext cx="0" cy="42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175280" y="4660560"/>
            <a:ext cx="1095120" cy="324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32600" y="5214960"/>
            <a:ext cx="105228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vocation I/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19520" y="1571760"/>
            <a:ext cx="1162080" cy="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88080" y="1198440"/>
            <a:ext cx="131436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Process Defini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70400" y="4648320"/>
            <a:ext cx="0" cy="57132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75440" y="4033800"/>
            <a:ext cx="159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Workflow Enactm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45200" y="2401920"/>
            <a:ext cx="1433160" cy="27504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Audit Specif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12160" y="2717640"/>
            <a:ext cx="0" cy="58428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2200" y="2922480"/>
            <a:ext cx="866160" cy="45756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Extern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S/W objec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18000" y="3395520"/>
            <a:ext cx="0" cy="2043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038480" y="5429160"/>
            <a:ext cx="978120" cy="444600"/>
            <a:chOff x="4038480" y="5429160"/>
            <a:chExt cx="978120" cy="444600"/>
          </a:xfrm>
        </p:grpSpPr>
        <p:sp>
          <p:nvSpPr>
            <p:cNvPr id="516" name=""/>
            <p:cNvSpPr/>
            <p:nvPr/>
          </p:nvSpPr>
          <p:spPr>
            <a:xfrm>
              <a:off x="4038480" y="5429160"/>
              <a:ext cx="9781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06520" y="5514840"/>
              <a:ext cx="904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Applicat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797280" y="5549760"/>
            <a:ext cx="2286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06800" y="4791240"/>
            <a:ext cx="978120" cy="44424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54320" y="4867200"/>
            <a:ext cx="95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Tool   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58640" y="339552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 us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97280" y="347508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45920" y="4957920"/>
            <a:ext cx="39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se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792600" y="4753080"/>
            <a:ext cx="0" cy="56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763800" y="4241880"/>
            <a:ext cx="60480" cy="42840"/>
            <a:chOff x="3763800" y="4241880"/>
            <a:chExt cx="60480" cy="42840"/>
          </a:xfrm>
        </p:grpSpPr>
        <p:sp>
          <p:nvSpPr>
            <p:cNvPr id="526" name=""/>
            <p:cNvSpPr/>
            <p:nvPr/>
          </p:nvSpPr>
          <p:spPr>
            <a:xfrm flipV="1">
              <a:off x="3768840" y="4258800"/>
              <a:ext cx="4896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63800" y="4241880"/>
              <a:ext cx="0" cy="428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24280" y="4241880"/>
              <a:ext cx="0" cy="428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3795840" y="3390840"/>
            <a:ext cx="1440" cy="2162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41520" y="3625920"/>
            <a:ext cx="965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99400" y="362736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Work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Relevant 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635200" y="2851200"/>
            <a:ext cx="2019240" cy="546120"/>
            <a:chOff x="2635200" y="2851200"/>
            <a:chExt cx="2019240" cy="546120"/>
          </a:xfrm>
        </p:grpSpPr>
        <p:sp>
          <p:nvSpPr>
            <p:cNvPr id="533" name=""/>
            <p:cNvSpPr/>
            <p:nvPr/>
          </p:nvSpPr>
          <p:spPr>
            <a:xfrm>
              <a:off x="2635200" y="2851200"/>
              <a:ext cx="2019240" cy="54612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40720" y="2916360"/>
              <a:ext cx="810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Workflow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Manag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H="1">
            <a:off x="4516200" y="4767120"/>
            <a:ext cx="4680" cy="4860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60920" y="5992920"/>
            <a:ext cx="387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1. Workflow Manager may be distributed, but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assumed to maintain consistent internal sta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59840" y="6526080"/>
            <a:ext cx="442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. Scope of a Process Definition is the enactment servic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520" y="3463920"/>
            <a:ext cx="1785960" cy="64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Process &amp; Activ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Control / Interoperabi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04880" y="1127160"/>
            <a:ext cx="118620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Resource Mod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37080" y="1627200"/>
            <a:ext cx="0" cy="58428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rganizacije koje se bave standardizacijom modelovanja proces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640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G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 Management Gro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fMC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orkflow Management Coal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MI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Business Process Management Initia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ASIS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rganization for the Advancement of Structured Information Standard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            (+ UN/CEF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3C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orld Wide Web Consorti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kademske ustano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orkFlow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andar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di i jezic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PDL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orkflow Process Definitio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nguage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- WfM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XPDL (XML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orkflow Process Definitio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nguage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) – WfM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BPMN (Business Process Modelling Notation) - BPM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BPML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usiness Process Modelling Language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BPQL (Business Process Query Language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BPSS (Business Process Specification Schema) – ebX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BPDL (Business Process Describing Language) – Stefan Heber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EPC (Event-Driven Process Chains) – SA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CN (The Information-Control Net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ML 2.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SCL (Web Services Composition Language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XLANG – (Web Services for Business Process Design) – Microsof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FL (Web Services Flow Language) – IB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imesNewRomanPSMT"/>
              </a:rPr>
              <a:t>BPEL4WS (Business Process Execution Language for Web Services)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CI – (Web Services Choreography Interface) -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un, BEA, Intalio and SAP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-CDL (Web Services Choreography Description Language) – W3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CL (Web Services Conversation Language)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eb Bond – Georgia State Universit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-357120" y="-380880"/>
            <a:ext cx="985824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Standar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ML Schema &amp; DT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i pakovanje podata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DF, RDFS, OW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efinisanje resursa i semantike podata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novno pakovanje i slanje por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širenja z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ap-RPC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SD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že se proširiti za podršku kolaborativnih por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eb Services Choreography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escription Language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WS-CD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ni pogled na pona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nje skupa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rvi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el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vanje koreograf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Centralizova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top-down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is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ces koji se ne izvrša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n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oreografije mogu biti generisane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z pomoć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WS-CDL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, kao i okvir (skeleton) za orkestracij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-CD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– način korišće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51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124000" y="1486080"/>
            <a:ext cx="3942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6652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bXML Ar</a:t>
            </a:r>
            <a:r>
              <a:rPr b="0" lang="sr-Latn-CS" sz="4400" spc="-1" strike="noStrike">
                <a:solidFill>
                  <a:srgbClr val="40458c"/>
                </a:solidFill>
                <a:latin typeface="Tahoma"/>
              </a:rPr>
              <a:t>hitek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16128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0" y="1338120"/>
            <a:ext cx="9144000" cy="3124080"/>
            <a:chOff x="0" y="1338120"/>
            <a:chExt cx="9144000" cy="3124080"/>
          </a:xfrm>
        </p:grpSpPr>
        <p:sp>
          <p:nvSpPr>
            <p:cNvPr id="558" name=""/>
            <p:cNvSpPr/>
            <p:nvPr/>
          </p:nvSpPr>
          <p:spPr>
            <a:xfrm>
              <a:off x="4643280" y="2211120"/>
              <a:ext cx="0" cy="45720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3760" y="2703240"/>
              <a:ext cx="1753920" cy="839880"/>
            </a:xfrm>
            <a:custGeom>
              <a:avLst/>
              <a:gdLst/>
              <a:ahLst/>
              <a:rect l="l" t="t" r="r" b="b"/>
              <a:pathLst>
                <a:path w="1105" h="529">
                  <a:moveTo>
                    <a:pt x="553" y="0"/>
                  </a:moveTo>
                  <a:lnTo>
                    <a:pt x="441" y="1"/>
                  </a:lnTo>
                  <a:lnTo>
                    <a:pt x="386" y="3"/>
                  </a:lnTo>
                  <a:lnTo>
                    <a:pt x="336" y="5"/>
                  </a:lnTo>
                  <a:lnTo>
                    <a:pt x="287" y="7"/>
                  </a:lnTo>
                  <a:lnTo>
                    <a:pt x="243" y="11"/>
                  </a:lnTo>
                  <a:lnTo>
                    <a:pt x="200" y="15"/>
                  </a:lnTo>
                  <a:lnTo>
                    <a:pt x="161" y="20"/>
                  </a:lnTo>
                  <a:lnTo>
                    <a:pt x="126" y="24"/>
                  </a:lnTo>
                  <a:lnTo>
                    <a:pt x="94" y="30"/>
                  </a:lnTo>
                  <a:lnTo>
                    <a:pt x="67" y="34"/>
                  </a:lnTo>
                  <a:lnTo>
                    <a:pt x="43" y="41"/>
                  </a:lnTo>
                  <a:lnTo>
                    <a:pt x="25" y="46"/>
                  </a:lnTo>
                  <a:lnTo>
                    <a:pt x="11" y="53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462"/>
                  </a:lnTo>
                  <a:lnTo>
                    <a:pt x="2" y="469"/>
                  </a:lnTo>
                  <a:lnTo>
                    <a:pt x="11" y="475"/>
                  </a:lnTo>
                  <a:lnTo>
                    <a:pt x="25" y="482"/>
                  </a:lnTo>
                  <a:lnTo>
                    <a:pt x="43" y="487"/>
                  </a:lnTo>
                  <a:lnTo>
                    <a:pt x="67" y="494"/>
                  </a:lnTo>
                  <a:lnTo>
                    <a:pt x="94" y="499"/>
                  </a:lnTo>
                  <a:lnTo>
                    <a:pt x="126" y="504"/>
                  </a:lnTo>
                  <a:lnTo>
                    <a:pt x="161" y="508"/>
                  </a:lnTo>
                  <a:lnTo>
                    <a:pt x="200" y="513"/>
                  </a:lnTo>
                  <a:lnTo>
                    <a:pt x="243" y="517"/>
                  </a:lnTo>
                  <a:lnTo>
                    <a:pt x="287" y="521"/>
                  </a:lnTo>
                  <a:lnTo>
                    <a:pt x="336" y="523"/>
                  </a:lnTo>
                  <a:lnTo>
                    <a:pt x="386" y="525"/>
                  </a:lnTo>
                  <a:lnTo>
                    <a:pt x="441" y="527"/>
                  </a:lnTo>
                  <a:lnTo>
                    <a:pt x="553" y="528"/>
                  </a:lnTo>
                  <a:lnTo>
                    <a:pt x="664" y="527"/>
                  </a:lnTo>
                  <a:lnTo>
                    <a:pt x="717" y="525"/>
                  </a:lnTo>
                  <a:lnTo>
                    <a:pt x="768" y="523"/>
                  </a:lnTo>
                  <a:lnTo>
                    <a:pt x="817" y="521"/>
                  </a:lnTo>
                  <a:lnTo>
                    <a:pt x="861" y="517"/>
                  </a:lnTo>
                  <a:lnTo>
                    <a:pt x="904" y="513"/>
                  </a:lnTo>
                  <a:lnTo>
                    <a:pt x="943" y="508"/>
                  </a:lnTo>
                  <a:lnTo>
                    <a:pt x="978" y="504"/>
                  </a:lnTo>
                  <a:lnTo>
                    <a:pt x="1010" y="499"/>
                  </a:lnTo>
                  <a:lnTo>
                    <a:pt x="1037" y="494"/>
                  </a:lnTo>
                  <a:lnTo>
                    <a:pt x="1060" y="487"/>
                  </a:lnTo>
                  <a:lnTo>
                    <a:pt x="1079" y="482"/>
                  </a:lnTo>
                  <a:lnTo>
                    <a:pt x="1093" y="475"/>
                  </a:lnTo>
                  <a:lnTo>
                    <a:pt x="1102" y="469"/>
                  </a:lnTo>
                  <a:lnTo>
                    <a:pt x="1104" y="462"/>
                  </a:lnTo>
                  <a:lnTo>
                    <a:pt x="1104" y="66"/>
                  </a:lnTo>
                  <a:lnTo>
                    <a:pt x="1102" y="60"/>
                  </a:lnTo>
                  <a:lnTo>
                    <a:pt x="1093" y="53"/>
                  </a:lnTo>
                  <a:lnTo>
                    <a:pt x="1079" y="46"/>
                  </a:lnTo>
                  <a:lnTo>
                    <a:pt x="1060" y="41"/>
                  </a:lnTo>
                  <a:lnTo>
                    <a:pt x="1037" y="34"/>
                  </a:lnTo>
                  <a:lnTo>
                    <a:pt x="1010" y="30"/>
                  </a:lnTo>
                  <a:lnTo>
                    <a:pt x="978" y="24"/>
                  </a:lnTo>
                  <a:lnTo>
                    <a:pt x="943" y="20"/>
                  </a:lnTo>
                  <a:lnTo>
                    <a:pt x="904" y="15"/>
                  </a:lnTo>
                  <a:lnTo>
                    <a:pt x="861" y="11"/>
                  </a:lnTo>
                  <a:lnTo>
                    <a:pt x="817" y="7"/>
                  </a:lnTo>
                  <a:lnTo>
                    <a:pt x="768" y="5"/>
                  </a:lnTo>
                  <a:lnTo>
                    <a:pt x="717" y="3"/>
                  </a:lnTo>
                  <a:lnTo>
                    <a:pt x="664" y="1"/>
                  </a:lnTo>
                  <a:lnTo>
                    <a:pt x="553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3760" y="2703240"/>
              <a:ext cx="1753920" cy="211320"/>
            </a:xfrm>
            <a:custGeom>
              <a:avLst/>
              <a:gdLst/>
              <a:ahLst/>
              <a:rect l="l" t="t" r="r" b="b"/>
              <a:pathLst>
                <a:path w="1105" h="133">
                  <a:moveTo>
                    <a:pt x="0" y="66"/>
                  </a:moveTo>
                  <a:lnTo>
                    <a:pt x="2" y="72"/>
                  </a:lnTo>
                  <a:lnTo>
                    <a:pt x="11" y="79"/>
                  </a:lnTo>
                  <a:lnTo>
                    <a:pt x="25" y="86"/>
                  </a:lnTo>
                  <a:lnTo>
                    <a:pt x="43" y="91"/>
                  </a:lnTo>
                  <a:lnTo>
                    <a:pt x="67" y="97"/>
                  </a:lnTo>
                  <a:lnTo>
                    <a:pt x="94" y="103"/>
                  </a:lnTo>
                  <a:lnTo>
                    <a:pt x="126" y="108"/>
                  </a:lnTo>
                  <a:lnTo>
                    <a:pt x="161" y="112"/>
                  </a:lnTo>
                  <a:lnTo>
                    <a:pt x="200" y="116"/>
                  </a:lnTo>
                  <a:lnTo>
                    <a:pt x="243" y="121"/>
                  </a:lnTo>
                  <a:lnTo>
                    <a:pt x="287" y="124"/>
                  </a:lnTo>
                  <a:lnTo>
                    <a:pt x="336" y="126"/>
                  </a:lnTo>
                  <a:lnTo>
                    <a:pt x="386" y="129"/>
                  </a:lnTo>
                  <a:lnTo>
                    <a:pt x="441" y="131"/>
                  </a:lnTo>
                  <a:lnTo>
                    <a:pt x="553" y="132"/>
                  </a:lnTo>
                  <a:lnTo>
                    <a:pt x="664" y="131"/>
                  </a:lnTo>
                  <a:lnTo>
                    <a:pt x="717" y="129"/>
                  </a:lnTo>
                  <a:lnTo>
                    <a:pt x="768" y="126"/>
                  </a:lnTo>
                  <a:lnTo>
                    <a:pt x="817" y="124"/>
                  </a:lnTo>
                  <a:lnTo>
                    <a:pt x="861" y="121"/>
                  </a:lnTo>
                  <a:lnTo>
                    <a:pt x="904" y="116"/>
                  </a:lnTo>
                  <a:lnTo>
                    <a:pt x="943" y="112"/>
                  </a:lnTo>
                  <a:lnTo>
                    <a:pt x="978" y="108"/>
                  </a:lnTo>
                  <a:lnTo>
                    <a:pt x="1010" y="103"/>
                  </a:lnTo>
                  <a:lnTo>
                    <a:pt x="1037" y="97"/>
                  </a:lnTo>
                  <a:lnTo>
                    <a:pt x="1060" y="91"/>
                  </a:lnTo>
                  <a:lnTo>
                    <a:pt x="1079" y="86"/>
                  </a:lnTo>
                  <a:lnTo>
                    <a:pt x="1093" y="79"/>
                  </a:lnTo>
                  <a:lnTo>
                    <a:pt x="1102" y="72"/>
                  </a:lnTo>
                  <a:lnTo>
                    <a:pt x="1104" y="66"/>
                  </a:lnTo>
                  <a:lnTo>
                    <a:pt x="1102" y="60"/>
                  </a:lnTo>
                  <a:lnTo>
                    <a:pt x="1093" y="53"/>
                  </a:lnTo>
                  <a:lnTo>
                    <a:pt x="1079" y="46"/>
                  </a:lnTo>
                  <a:lnTo>
                    <a:pt x="1060" y="41"/>
                  </a:lnTo>
                  <a:lnTo>
                    <a:pt x="1037" y="34"/>
                  </a:lnTo>
                  <a:lnTo>
                    <a:pt x="1010" y="30"/>
                  </a:lnTo>
                  <a:lnTo>
                    <a:pt x="978" y="24"/>
                  </a:lnTo>
                  <a:lnTo>
                    <a:pt x="943" y="20"/>
                  </a:lnTo>
                  <a:lnTo>
                    <a:pt x="904" y="15"/>
                  </a:lnTo>
                  <a:lnTo>
                    <a:pt x="861" y="11"/>
                  </a:lnTo>
                  <a:lnTo>
                    <a:pt x="817" y="7"/>
                  </a:lnTo>
                  <a:lnTo>
                    <a:pt x="768" y="5"/>
                  </a:lnTo>
                  <a:lnTo>
                    <a:pt x="717" y="3"/>
                  </a:lnTo>
                  <a:lnTo>
                    <a:pt x="664" y="1"/>
                  </a:lnTo>
                  <a:lnTo>
                    <a:pt x="553" y="0"/>
                  </a:lnTo>
                  <a:lnTo>
                    <a:pt x="441" y="1"/>
                  </a:lnTo>
                  <a:lnTo>
                    <a:pt x="386" y="3"/>
                  </a:lnTo>
                  <a:lnTo>
                    <a:pt x="336" y="5"/>
                  </a:lnTo>
                  <a:lnTo>
                    <a:pt x="287" y="7"/>
                  </a:lnTo>
                  <a:lnTo>
                    <a:pt x="243" y="11"/>
                  </a:lnTo>
                  <a:lnTo>
                    <a:pt x="200" y="15"/>
                  </a:lnTo>
                  <a:lnTo>
                    <a:pt x="161" y="20"/>
                  </a:lnTo>
                  <a:lnTo>
                    <a:pt x="126" y="24"/>
                  </a:lnTo>
                  <a:lnTo>
                    <a:pt x="94" y="30"/>
                  </a:lnTo>
                  <a:lnTo>
                    <a:pt x="67" y="34"/>
                  </a:lnTo>
                  <a:lnTo>
                    <a:pt x="43" y="41"/>
                  </a:lnTo>
                  <a:lnTo>
                    <a:pt x="25" y="46"/>
                  </a:lnTo>
                  <a:lnTo>
                    <a:pt x="11" y="53"/>
                  </a:lnTo>
                  <a:lnTo>
                    <a:pt x="2" y="60"/>
                  </a:lnTo>
                  <a:lnTo>
                    <a:pt x="0" y="66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03760" y="2703240"/>
              <a:ext cx="1753920" cy="839880"/>
            </a:xfrm>
            <a:custGeom>
              <a:avLst/>
              <a:gdLst/>
              <a:ahLst/>
              <a:rect l="l" t="t" r="r" b="b"/>
              <a:pathLst>
                <a:path w="1105" h="529">
                  <a:moveTo>
                    <a:pt x="553" y="0"/>
                  </a:moveTo>
                  <a:lnTo>
                    <a:pt x="441" y="1"/>
                  </a:lnTo>
                  <a:lnTo>
                    <a:pt x="386" y="3"/>
                  </a:lnTo>
                  <a:lnTo>
                    <a:pt x="336" y="5"/>
                  </a:lnTo>
                  <a:lnTo>
                    <a:pt x="287" y="7"/>
                  </a:lnTo>
                  <a:lnTo>
                    <a:pt x="243" y="11"/>
                  </a:lnTo>
                  <a:lnTo>
                    <a:pt x="200" y="15"/>
                  </a:lnTo>
                  <a:lnTo>
                    <a:pt x="161" y="20"/>
                  </a:lnTo>
                  <a:lnTo>
                    <a:pt x="126" y="24"/>
                  </a:lnTo>
                  <a:lnTo>
                    <a:pt x="94" y="30"/>
                  </a:lnTo>
                  <a:lnTo>
                    <a:pt x="67" y="34"/>
                  </a:lnTo>
                  <a:lnTo>
                    <a:pt x="43" y="41"/>
                  </a:lnTo>
                  <a:lnTo>
                    <a:pt x="25" y="46"/>
                  </a:lnTo>
                  <a:lnTo>
                    <a:pt x="11" y="53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462"/>
                  </a:lnTo>
                  <a:lnTo>
                    <a:pt x="2" y="469"/>
                  </a:lnTo>
                  <a:lnTo>
                    <a:pt x="11" y="475"/>
                  </a:lnTo>
                  <a:lnTo>
                    <a:pt x="25" y="482"/>
                  </a:lnTo>
                  <a:lnTo>
                    <a:pt x="43" y="487"/>
                  </a:lnTo>
                  <a:lnTo>
                    <a:pt x="67" y="494"/>
                  </a:lnTo>
                  <a:lnTo>
                    <a:pt x="94" y="499"/>
                  </a:lnTo>
                  <a:lnTo>
                    <a:pt x="126" y="504"/>
                  </a:lnTo>
                  <a:lnTo>
                    <a:pt x="161" y="508"/>
                  </a:lnTo>
                  <a:lnTo>
                    <a:pt x="200" y="513"/>
                  </a:lnTo>
                  <a:lnTo>
                    <a:pt x="243" y="517"/>
                  </a:lnTo>
                  <a:lnTo>
                    <a:pt x="287" y="521"/>
                  </a:lnTo>
                  <a:lnTo>
                    <a:pt x="336" y="523"/>
                  </a:lnTo>
                  <a:lnTo>
                    <a:pt x="386" y="525"/>
                  </a:lnTo>
                  <a:lnTo>
                    <a:pt x="441" y="527"/>
                  </a:lnTo>
                  <a:lnTo>
                    <a:pt x="553" y="528"/>
                  </a:lnTo>
                  <a:lnTo>
                    <a:pt x="664" y="527"/>
                  </a:lnTo>
                  <a:lnTo>
                    <a:pt x="717" y="525"/>
                  </a:lnTo>
                  <a:lnTo>
                    <a:pt x="768" y="523"/>
                  </a:lnTo>
                  <a:lnTo>
                    <a:pt x="817" y="521"/>
                  </a:lnTo>
                  <a:lnTo>
                    <a:pt x="861" y="517"/>
                  </a:lnTo>
                  <a:lnTo>
                    <a:pt x="904" y="513"/>
                  </a:lnTo>
                  <a:lnTo>
                    <a:pt x="943" y="508"/>
                  </a:lnTo>
                  <a:lnTo>
                    <a:pt x="978" y="504"/>
                  </a:lnTo>
                  <a:lnTo>
                    <a:pt x="1010" y="499"/>
                  </a:lnTo>
                  <a:lnTo>
                    <a:pt x="1037" y="494"/>
                  </a:lnTo>
                  <a:lnTo>
                    <a:pt x="1060" y="487"/>
                  </a:lnTo>
                  <a:lnTo>
                    <a:pt x="1079" y="482"/>
                  </a:lnTo>
                  <a:lnTo>
                    <a:pt x="1093" y="475"/>
                  </a:lnTo>
                  <a:lnTo>
                    <a:pt x="1102" y="469"/>
                  </a:lnTo>
                  <a:lnTo>
                    <a:pt x="1104" y="462"/>
                  </a:lnTo>
                  <a:lnTo>
                    <a:pt x="1104" y="66"/>
                  </a:lnTo>
                  <a:lnTo>
                    <a:pt x="1102" y="60"/>
                  </a:lnTo>
                  <a:lnTo>
                    <a:pt x="1093" y="53"/>
                  </a:lnTo>
                  <a:lnTo>
                    <a:pt x="1079" y="46"/>
                  </a:lnTo>
                  <a:lnTo>
                    <a:pt x="1060" y="41"/>
                  </a:lnTo>
                  <a:lnTo>
                    <a:pt x="1037" y="34"/>
                  </a:lnTo>
                  <a:lnTo>
                    <a:pt x="1010" y="30"/>
                  </a:lnTo>
                  <a:lnTo>
                    <a:pt x="978" y="24"/>
                  </a:lnTo>
                  <a:lnTo>
                    <a:pt x="943" y="20"/>
                  </a:lnTo>
                  <a:lnTo>
                    <a:pt x="904" y="15"/>
                  </a:lnTo>
                  <a:lnTo>
                    <a:pt x="861" y="11"/>
                  </a:lnTo>
                  <a:lnTo>
                    <a:pt x="817" y="7"/>
                  </a:lnTo>
                  <a:lnTo>
                    <a:pt x="768" y="5"/>
                  </a:lnTo>
                  <a:lnTo>
                    <a:pt x="717" y="3"/>
                  </a:lnTo>
                  <a:lnTo>
                    <a:pt x="664" y="1"/>
                  </a:lnTo>
                  <a:lnTo>
                    <a:pt x="553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3760" y="2808000"/>
              <a:ext cx="1753920" cy="106560"/>
            </a:xfrm>
            <a:custGeom>
              <a:avLst/>
              <a:gdLst/>
              <a:ahLst/>
              <a:rect l="l" t="t" r="r" b="b"/>
              <a:pathLst>
                <a:path w="1105" h="67">
                  <a:moveTo>
                    <a:pt x="0" y="0"/>
                  </a:moveTo>
                  <a:lnTo>
                    <a:pt x="2" y="6"/>
                  </a:lnTo>
                  <a:lnTo>
                    <a:pt x="11" y="13"/>
                  </a:lnTo>
                  <a:lnTo>
                    <a:pt x="25" y="20"/>
                  </a:lnTo>
                  <a:lnTo>
                    <a:pt x="43" y="25"/>
                  </a:lnTo>
                  <a:lnTo>
                    <a:pt x="67" y="32"/>
                  </a:lnTo>
                  <a:lnTo>
                    <a:pt x="94" y="37"/>
                  </a:lnTo>
                  <a:lnTo>
                    <a:pt x="126" y="42"/>
                  </a:lnTo>
                  <a:lnTo>
                    <a:pt x="161" y="46"/>
                  </a:lnTo>
                  <a:lnTo>
                    <a:pt x="200" y="50"/>
                  </a:lnTo>
                  <a:lnTo>
                    <a:pt x="243" y="55"/>
                  </a:lnTo>
                  <a:lnTo>
                    <a:pt x="287" y="58"/>
                  </a:lnTo>
                  <a:lnTo>
                    <a:pt x="336" y="60"/>
                  </a:lnTo>
                  <a:lnTo>
                    <a:pt x="386" y="63"/>
                  </a:lnTo>
                  <a:lnTo>
                    <a:pt x="441" y="65"/>
                  </a:lnTo>
                  <a:lnTo>
                    <a:pt x="553" y="66"/>
                  </a:lnTo>
                  <a:lnTo>
                    <a:pt x="664" y="65"/>
                  </a:lnTo>
                  <a:lnTo>
                    <a:pt x="717" y="63"/>
                  </a:lnTo>
                  <a:lnTo>
                    <a:pt x="768" y="60"/>
                  </a:lnTo>
                  <a:lnTo>
                    <a:pt x="817" y="58"/>
                  </a:lnTo>
                  <a:lnTo>
                    <a:pt x="861" y="55"/>
                  </a:lnTo>
                  <a:lnTo>
                    <a:pt x="904" y="50"/>
                  </a:lnTo>
                  <a:lnTo>
                    <a:pt x="943" y="46"/>
                  </a:lnTo>
                  <a:lnTo>
                    <a:pt x="978" y="42"/>
                  </a:lnTo>
                  <a:lnTo>
                    <a:pt x="1010" y="37"/>
                  </a:lnTo>
                  <a:lnTo>
                    <a:pt x="1037" y="32"/>
                  </a:lnTo>
                  <a:lnTo>
                    <a:pt x="1060" y="25"/>
                  </a:lnTo>
                  <a:lnTo>
                    <a:pt x="1079" y="20"/>
                  </a:lnTo>
                  <a:lnTo>
                    <a:pt x="1093" y="13"/>
                  </a:lnTo>
                  <a:lnTo>
                    <a:pt x="1102" y="6"/>
                  </a:lnTo>
                  <a:lnTo>
                    <a:pt x="110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81520" y="294948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B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Specific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23880" y="1338120"/>
              <a:ext cx="1359000" cy="8254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70040" y="1377720"/>
              <a:ext cx="114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Business Proces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77120" y="1338120"/>
              <a:ext cx="1511280" cy="8254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53080" y="1490400"/>
              <a:ext cx="1371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ore Data Block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40280" y="1379520"/>
              <a:ext cx="1358640" cy="8254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33800" y="1373040"/>
              <a:ext cx="1371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Business Messag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33920" y="4081320"/>
              <a:ext cx="1892160" cy="291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P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37960" y="176184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ext F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26360" y="1761840"/>
              <a:ext cx="86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uilt Wit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871880" y="2211120"/>
              <a:ext cx="1981440" cy="45720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2356920" y="2211120"/>
              <a:ext cx="2133720" cy="45720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890440" y="1677960"/>
              <a:ext cx="1143000" cy="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05040" y="1677960"/>
              <a:ext cx="1066680" cy="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98720" y="2931840"/>
              <a:ext cx="1706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plement one Partner Ro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3166920"/>
              <a:ext cx="1706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plement other Partner Role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70160" y="22636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80" name=""/>
            <p:cNvCxnSpPr>
              <a:stCxn id="570" idx="0"/>
              <a:endCxn id="561" idx="2"/>
            </p:cNvCxnSpPr>
            <p:nvPr/>
          </p:nvCxnSpPr>
          <p:spPr>
            <a:xfrm flipV="1">
              <a:off x="4680000" y="3540960"/>
              <a:ext cx="2160" cy="540360"/>
            </a:xfrm>
            <a:prstGeom prst="straightConnector1">
              <a:avLst/>
            </a:prstGeom>
            <a:ln w="28440">
              <a:solidFill>
                <a:srgbClr val="b7c1eb"/>
              </a:solidFill>
              <a:miter/>
              <a:head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0" y="44622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8080" y="2709720"/>
              <a:ext cx="2210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0800" y="27097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ff0000"/>
                  </a:solidFill>
                  <a:latin typeface="Times New Roman"/>
                </a:rPr>
                <a:t>Dizajn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480" y="4081320"/>
              <a:ext cx="1892520" cy="291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P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81680" y="4081320"/>
              <a:ext cx="1892520" cy="291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P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5" idx="0"/>
              <a:endCxn id="561" idx="3"/>
            </p:cNvCxnSpPr>
            <p:nvPr/>
          </p:nvCxnSpPr>
          <p:spPr>
            <a:xfrm flipH="1" flipV="1">
              <a:off x="4680720" y="3540960"/>
              <a:ext cx="3047400" cy="540360"/>
            </a:xfrm>
            <a:prstGeom prst="straightConnector1">
              <a:avLst/>
            </a:prstGeom>
            <a:ln w="28440">
              <a:solidFill>
                <a:srgbClr val="b7c1eb"/>
              </a:solidFill>
              <a:miter/>
              <a:headEnd len="med" type="triangle" w="med"/>
            </a:ln>
          </p:spPr>
        </p:cxnSp>
        <p:cxnSp>
          <p:nvCxnSpPr>
            <p:cNvPr id="587" name=""/>
            <p:cNvCxnSpPr>
              <a:stCxn id="584" idx="0"/>
              <a:endCxn id="561" idx="4"/>
            </p:cNvCxnSpPr>
            <p:nvPr/>
          </p:nvCxnSpPr>
          <p:spPr>
            <a:xfrm flipV="1">
              <a:off x="1555920" y="3540960"/>
              <a:ext cx="3126240" cy="540360"/>
            </a:xfrm>
            <a:prstGeom prst="straightConnector1">
              <a:avLst/>
            </a:prstGeom>
            <a:ln w="28440">
              <a:solidFill>
                <a:srgbClr val="b7c1eb"/>
              </a:solidFill>
              <a:miter/>
              <a:headEnd len="med" type="triangle" w="med"/>
            </a:ln>
          </p:spPr>
        </p:cxnSp>
      </p:grpSp>
      <p:cxnSp>
        <p:nvCxnSpPr>
          <p:cNvPr id="588" name=""/>
          <p:cNvCxnSpPr>
            <a:stCxn id="589" idx="1"/>
            <a:endCxn id="561" idx="0"/>
          </p:cNvCxnSpPr>
          <p:nvPr/>
        </p:nvCxnSpPr>
        <p:spPr>
          <a:xfrm flipH="1" flipV="1">
            <a:off x="4681080" y="3540960"/>
            <a:ext cx="2486880" cy="124524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cxnSp>
        <p:nvCxnSpPr>
          <p:cNvPr id="590" name=""/>
          <p:cNvCxnSpPr>
            <a:stCxn id="591" idx="7"/>
            <a:endCxn id="561" idx="1"/>
          </p:cNvCxnSpPr>
          <p:nvPr/>
        </p:nvCxnSpPr>
        <p:spPr>
          <a:xfrm flipV="1">
            <a:off x="2125440" y="3540960"/>
            <a:ext cx="2556360" cy="124524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2438280" y="4754520"/>
            <a:ext cx="4345200" cy="687600"/>
          </a:xfrm>
          <a:custGeom>
            <a:avLst/>
            <a:gdLst/>
            <a:ahLst/>
            <a:rect l="l" t="t" r="r" b="b"/>
            <a:pathLst>
              <a:path w="2737" h="433">
                <a:moveTo>
                  <a:pt x="547" y="432"/>
                </a:moveTo>
                <a:lnTo>
                  <a:pt x="0" y="216"/>
                </a:lnTo>
                <a:lnTo>
                  <a:pt x="547" y="0"/>
                </a:lnTo>
                <a:lnTo>
                  <a:pt x="547" y="108"/>
                </a:lnTo>
                <a:lnTo>
                  <a:pt x="2189" y="108"/>
                </a:lnTo>
                <a:lnTo>
                  <a:pt x="2189" y="0"/>
                </a:lnTo>
                <a:lnTo>
                  <a:pt x="2736" y="216"/>
                </a:lnTo>
                <a:lnTo>
                  <a:pt x="2189" y="432"/>
                </a:lnTo>
                <a:lnTo>
                  <a:pt x="2189" y="324"/>
                </a:lnTo>
                <a:lnTo>
                  <a:pt x="547" y="324"/>
                </a:lnTo>
                <a:lnTo>
                  <a:pt x="547" y="432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52680" y="4906800"/>
            <a:ext cx="2667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por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5364000"/>
            <a:ext cx="1206720" cy="597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35320" y="5448240"/>
            <a:ext cx="107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ag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6360" y="4643280"/>
            <a:ext cx="1815840" cy="9781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900840" y="4643280"/>
            <a:ext cx="1816200" cy="9781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10280" y="4678200"/>
            <a:ext cx="15242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siness Service Interf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6360" y="6014880"/>
            <a:ext cx="1815840" cy="749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00840" y="6014880"/>
            <a:ext cx="1816200" cy="749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4320" y="6049800"/>
            <a:ext cx="1752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usiness Ap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6200" y="6008760"/>
            <a:ext cx="1752480" cy="61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usiness Ap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4678200"/>
            <a:ext cx="15238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siness Service Interf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27640" y="5662440"/>
            <a:ext cx="106668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3040" y="5662440"/>
            <a:ext cx="106668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5668920"/>
            <a:ext cx="0" cy="304920"/>
          </a:xfrm>
          <a:prstGeom prst="line">
            <a:avLst/>
          </a:prstGeom>
          <a:ln w="2556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772400" y="5668920"/>
            <a:ext cx="0" cy="304920"/>
          </a:xfrm>
          <a:prstGeom prst="line">
            <a:avLst/>
          </a:prstGeom>
          <a:ln w="2556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038480" y="6278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Runtim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593" idx="0"/>
            <a:endCxn id="570" idx="2"/>
          </p:cNvCxnSpPr>
          <p:nvPr/>
        </p:nvCxnSpPr>
        <p:spPr>
          <a:xfrm flipH="1" flipV="1">
            <a:off x="4679640" y="4372920"/>
            <a:ext cx="7200" cy="53388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cxnSp>
        <p:nvCxnSpPr>
          <p:cNvPr id="608" name=""/>
          <p:cNvCxnSpPr>
            <a:stCxn id="601" idx="0"/>
            <a:endCxn id="584" idx="2"/>
          </p:cNvCxnSpPr>
          <p:nvPr/>
        </p:nvCxnSpPr>
        <p:spPr>
          <a:xfrm flipV="1">
            <a:off x="1523520" y="4373280"/>
            <a:ext cx="32760" cy="30528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cxnSp>
        <p:nvCxnSpPr>
          <p:cNvPr id="609" name=""/>
          <p:cNvCxnSpPr>
            <a:stCxn id="596" idx="0"/>
            <a:endCxn id="585" idx="2"/>
          </p:cNvCxnSpPr>
          <p:nvPr/>
        </p:nvCxnSpPr>
        <p:spPr>
          <a:xfrm flipH="1" flipV="1">
            <a:off x="7727400" y="4373280"/>
            <a:ext cx="45000" cy="30528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bXML &amp;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MG-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DOC</a:t>
            </a:r>
            <a:br>
              <a:rPr sz="40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Enterprise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 D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stributed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bject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 C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mput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433520" y="2446200"/>
            <a:ext cx="3728880" cy="3589560"/>
          </a:xfrm>
          <a:prstGeom prst="ellipse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istribu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Repositor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Runti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08320" y="2389320"/>
            <a:ext cx="3970440" cy="3768480"/>
          </a:xfrm>
          <a:prstGeom prst="ellipse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M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52760" y="3667680"/>
            <a:ext cx="168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llabo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rocess Mod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10000" y="18770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bX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16000" y="18705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DO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adardni za kolaboracij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80880" y="2057400"/>
          <a:ext cx="8609040" cy="436104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2749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EDOC-EC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ebXML-BP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usiness Collaboratio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Community Proces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Multi Party Collabora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tract of Interac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Protocol with Choreography &amp; Object Interfac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Binary Collaboration with Choreography and Business Transactio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tent Mode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Document Mode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es external forms, such as XML Schem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ecursive Composi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Recursive Composition into Enterpris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– Only “B2B”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tail sufficient to drive communicatio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– Requires technology mapp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As ebXML transport.  BPSS includes timing and security parameters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mputing Models Supporte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ternet document exchange, entities, business processes, objects and event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ternet document exchang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6652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Elementi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EDOC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erprise Collaboration Architecture (PI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onent Collaboration Architectu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siness Process Specific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tit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siness Ev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tter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chnology Mapping (PSM – in progr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ow Composition Model (Messaging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B &amp; Corba Compon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bXM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thers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PPING –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recise models </a:t>
            </a: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 source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 pregled specifika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149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DM: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Business Process Definition Metamodel by OMG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EL4WS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Execution Language for Web Services by OASI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M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Modeling Language by BPM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MN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Modeling Notation by BPM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SS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Specification Schema by OASIS + UN/CEF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PM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EPC Markup 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academi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WL-S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by academi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5920" y="1904760"/>
            <a:ext cx="38145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264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NM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Petri Net Markup </a:t>
            </a:r>
            <a:br>
              <a:rPr sz="1600"/>
            </a:b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academi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UML ActD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y OMG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-CD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-Choreography Description 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3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CI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 Choreography Interfac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3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C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 Choreography 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Hewlett-Packar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F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 Flow Language by IB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XLANG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by Microsof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XPD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XML Process Definition Language by WfMC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mplementacija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755640" y="2349360"/>
          <a:ext cx="760104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010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611280" y="3645000"/>
            <a:ext cx="2735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vent-Driven</a:t>
            </a: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 Process Chains (EPC)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 - S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716360" y="1197000"/>
          <a:ext cx="28465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28465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1087560" y="1268280"/>
          <a:ext cx="233208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7560" y="1268280"/>
                    <a:ext cx="23320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524720" y="1557360"/>
          <a:ext cx="1184400" cy="28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720" y="1557360"/>
                    <a:ext cx="118440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i u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71440" y="16286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tner Lin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ilateral conversation (my Role, Partner Ro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terface requirements of partn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Data and messag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Varia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rrelation S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ctiviti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asic Activiti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Structured Activities (control flo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006560" y="1700280"/>
          <a:ext cx="7130880" cy="40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00280"/>
                    <a:ext cx="71308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877080" y="6308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"/>
              </a:rPr>
              <a:t>Andrews et al.: BPEL4WS 1.1., 200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Process Design and Implem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771480" y="2349360"/>
          <a:ext cx="760104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349360"/>
                    <a:ext cx="76010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2340000" y="3645000"/>
            <a:ext cx="2735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koncep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ace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stanja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ition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promene stan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rc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kontrolnog to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ken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trenutnog stanj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0" y="2481120"/>
          <a:ext cx="914400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81120"/>
                    <a:ext cx="91440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tr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10800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35280" y="256536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35280" y="342900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292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64000" y="4365720"/>
            <a:ext cx="21600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093080" y="4292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6400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64000" y="2565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9272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64000" y="2565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093080" y="256536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93080" y="342900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82000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64000" y="2997360"/>
            <a:ext cx="21600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64000" y="386064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zajn i implementacija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771480" y="2349360"/>
          <a:ext cx="760104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349360"/>
                    <a:ext cx="76010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4140360" y="3645000"/>
            <a:ext cx="2735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PD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ndard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san od star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orkflow Management Coalition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- WfM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i se 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n source workflow engine OB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flow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san preko aktivnosti i tran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ključeni su učesnici, aplikacije i poda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PD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042920" y="1725480"/>
          <a:ext cx="70581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25480"/>
                    <a:ext cx="70581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edjenje specifik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32000" y="1628640"/>
          <a:ext cx="606564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06564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192720" y="6427800"/>
            <a:ext cx="37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0458c"/>
                </a:solidFill>
                <a:latin typeface="Arial"/>
              </a:rPr>
              <a:t>Mendling et al.: A Comparison of XML Interchange Formats for BPM, 200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Standardizacija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odelovanja poslovnih proces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886040" y="1700280"/>
            <a:ext cx="5371920" cy="42289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aključa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terogen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st standarda za modelovanje poslovnih procesa je i dalje probl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Veliki broj standarda koji se preklapaj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edlog standarda je najčešće diktiran od strane velikih proizvođača softve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a semantike je veoma važno pitanje u svim standard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omg.o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www.w3c.org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www.oasis-open.o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bpmi.o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28680" y="-214200"/>
            <a:ext cx="980136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47760" y="-223920"/>
            <a:ext cx="983952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MI.org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 viz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09440" tIns="109440" bIns="10944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672000" y="2428920"/>
            <a:ext cx="1671480" cy="3494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47760" y="190404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heSans 3-Light"/>
              </a:rPr>
              <a:t>Poslovno okr</a:t>
            </a: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uženj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97680" y="601704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Implementacione tehnologij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26760" y="39582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eSans 3-Light"/>
              </a:rPr>
              <a:t>B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72600" y="33166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eSans 3-Light"/>
              </a:rPr>
              <a:t>BPM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62960" y="46011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eSans 3-Light"/>
              </a:rPr>
              <a:t>BP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760" y="398844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b97"/>
                </a:solidFill>
                <a:latin typeface="TheSans 3-Light"/>
              </a:rPr>
              <a:t>Fo</a:t>
            </a:r>
            <a:r>
              <a:rPr b="0" lang="sr-Latn-CS" sz="2000" spc="-1" strike="noStrike">
                <a:solidFill>
                  <a:srgbClr val="005b97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5b97"/>
                </a:solidFill>
                <a:latin typeface="TheSans 3-Light"/>
              </a:rPr>
              <a:t>us </a:t>
            </a:r>
            <a:r>
              <a:rPr b="0" lang="en-US" sz="2000" spc="-1" strike="noStrike">
                <a:solidFill>
                  <a:srgbClr val="005b97"/>
                </a:solidFill>
                <a:latin typeface="Wingdings 3"/>
                <a:ea typeface="Wingdings 3"/>
              </a:rPr>
              <a:t>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38400" y="3160800"/>
            <a:ext cx="2935440" cy="20556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5b9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6760" y="4004280"/>
            <a:ext cx="13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5b97"/>
                </a:solidFill>
                <a:latin typeface="Arial"/>
              </a:rPr>
              <a:t>Obuhvat</a:t>
            </a:r>
            <a:r>
              <a:rPr b="0" lang="en-US" sz="2000" spc="-1" strike="noStrike">
                <a:solidFill>
                  <a:srgbClr val="005b97"/>
                </a:solidFill>
                <a:latin typeface="TheSans 3-Light"/>
              </a:rPr>
              <a:t> </a:t>
            </a:r>
            <a:r>
              <a:rPr b="0" lang="en-US" sz="2000" spc="-1" strike="noStrike">
                <a:solidFill>
                  <a:srgbClr val="005b97"/>
                </a:solidFill>
                <a:latin typeface="Wingdings 3"/>
                <a:ea typeface="Wingdings 3"/>
              </a:rPr>
              <a:t>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4400" y="251388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Strategy Consultan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" y="404424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Process Designe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0240" y="48092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System Archit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3840" y="55760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Software Enginee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327888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Business Analy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3200" y="19040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b97"/>
                </a:solidFill>
                <a:latin typeface="Arial"/>
              </a:rPr>
              <a:t>Akteri</a:t>
            </a:r>
            <a:r>
              <a:rPr b="0" lang="en-US" sz="2400" spc="-1" strike="noStrike">
                <a:solidFill>
                  <a:srgbClr val="005b97"/>
                </a:solidFill>
                <a:latin typeface="TheSans 3-Light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31000" y="190404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b97"/>
                </a:solidFill>
                <a:latin typeface="Arial"/>
              </a:rPr>
              <a:t>Svrha</a:t>
            </a:r>
            <a:r>
              <a:rPr b="0" lang="en-US" sz="2400" spc="-1" strike="noStrike">
                <a:solidFill>
                  <a:srgbClr val="005b97"/>
                </a:solidFill>
                <a:latin typeface="TheSans 3-Light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31360" y="2666880"/>
            <a:ext cx="1471680" cy="3428280"/>
            <a:chOff x="6831360" y="2666880"/>
            <a:chExt cx="1471680" cy="3428280"/>
          </a:xfrm>
        </p:grpSpPr>
        <p:sp>
          <p:nvSpPr>
            <p:cNvPr id="248" name=""/>
            <p:cNvSpPr/>
            <p:nvPr/>
          </p:nvSpPr>
          <p:spPr>
            <a:xfrm>
              <a:off x="6900120" y="503172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5b97"/>
                  </a:solidFill>
                  <a:latin typeface="Arial"/>
                </a:rPr>
                <a:t>Izvršavanj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31360" y="3351960"/>
              <a:ext cx="14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5b97"/>
                  </a:solidFill>
                  <a:latin typeface="Arial"/>
                </a:rPr>
                <a:t>Modelovanj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14920" y="2666880"/>
              <a:ext cx="304920" cy="685800"/>
            </a:xfrm>
            <a:prstGeom prst="upArrow">
              <a:avLst>
                <a:gd name="adj1" fmla="val 50000"/>
                <a:gd name="adj2" fmla="val 56228"/>
              </a:avLst>
            </a:prstGeom>
            <a:solidFill>
              <a:srgbClr val="005b97">
                <a:alpha val="50000"/>
              </a:srgbClr>
            </a:solidFill>
            <a:ln w="12600">
              <a:solidFill>
                <a:srgbClr val="005b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414920" y="5409000"/>
              <a:ext cx="304920" cy="685800"/>
            </a:xfrm>
            <a:prstGeom prst="upArrow">
              <a:avLst>
                <a:gd name="adj1" fmla="val 50000"/>
                <a:gd name="adj2" fmla="val 56228"/>
              </a:avLst>
            </a:prstGeom>
            <a:solidFill>
              <a:srgbClr val="005b97">
                <a:alpha val="50000"/>
              </a:srgbClr>
            </a:solidFill>
            <a:ln w="12600">
              <a:solidFill>
                <a:srgbClr val="005b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M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siness Process Modeling Notation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BPMN 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omogućava definisanje i razumevanje internih i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ksternih poslovnih proced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u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 pre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d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uzeća opisanih p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r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eko dijagrama poslovnih procesa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(Business Process Diagram)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. BMN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P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 omogućava u okviru internog modela generisanje izvršnog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BPEL4W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Nenad</cp:lastModifiedBy>
  <dcterms:modified xsi:type="dcterms:W3CDTF">2007-05-08T07:48:48Z</dcterms:modified>
  <cp:revision>318</cp:revision>
  <dc:subject/>
  <dc:title>Modelovanje poslovnih procesa</dc:title>
</cp:coreProperties>
</file>