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E75-9983-4470-A7BF-B005AB6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AB1-BBF9-4C57-B928-B451F0B0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82A-4424-4FA9-83C0-5BE425CE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B9E-EB68-4F14-8294-DA3F78AC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EB57-8635-43E3-9FF8-6E98F50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1D4-1552-423D-97FE-9B61A7B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C31D-E4CF-483A-B550-8BDE4DF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7BA1-7413-4DDC-8C16-C5B4C69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E5DA-270E-4099-84D8-7482D5E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A0BF-7570-4E6B-9A9B-49A92A6D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FFE-30CD-46FE-A302-8171A45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F5A-3B3E-4642-80BB-23FB3F1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2E6-F8DF-4716-863A-5C250D6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7E1-A9F1-41ED-80F8-2A5951F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526D-CE36-47D5-804D-DEF2553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F80F-115F-444F-B7F8-59551D24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870-86BE-4B63-92E9-BC261A9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887-D718-4D59-AAED-5367B10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3A2-489E-4CE3-A64F-26E38367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A1D-C584-45BB-BC1E-09DF805B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DE2-EF0E-42D3-B959-F551AFF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B5E-75C4-4CBF-B9DE-314351E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74E-3212-4559-A3FF-6A69A55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F69-E819-4E1A-BDE5-5498537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DA2-F7F0-438F-9E00-4600F86DBA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C0D-29EB-478D-AF79-6B3D56E9C5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Uvod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načaj model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i poslovnih procesa omogućavaju da se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lovni proces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formalno (jasno, precizno i nedvosmisleno) definiš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Jasno identifikovani poslovi preduzeć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ormalno zapisano znanje o načinu obavljanja poslova u preduzeć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ormalno definisani modeli poslovnih procesa imaju brojne pred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načaj model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 transfer zn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uka radnika za obavljanje po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ransfer z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nanja između pojedinih organizacionih entite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tandard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cija obavljanja poslo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analiza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tkrivanje nekonzistentnosti i redudans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ređenje različitih altern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e poboljašanje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jednostavljivanje i ušteda, povećavanje efikasnosti poslova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većanje kvaliteta proizvoda i uslug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automatiza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Formalni modeli se kasnije mogu prevesti u izvršne na računa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va faza razvoja informacionog siste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Однос према осталим менаџмент дисциплинам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1198440"/>
            <a:ext cx="82090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venport, Thomas (1993), Process Innovation: Reengineering work through information technology, Harvard Business School Press, Bost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mmer, Michael and Champy, James (1993), Reengineering the Corporation: A Manifesto for Business Revolution, Harper Busines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ohansson, Henry J. et.al. (1993), Business Process Reengineering: BreakPoint Strategies for Market Dominance, John Wiley &amp; Son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ummler &amp; Brache (1995), Improving Performance: How to manage the white space on the organizational chart, Jossey-Bass, San Francisc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rganizacioni sistem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poslovnih procesa (P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modelovanja P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načaj modelovanja P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rganizacioni sistem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elokupno poslovanje nekog organizacionog sistema (npr. preduzeća) se obavlja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 je skup povezanih aktivnosti kojima se ostvaruju neki ciljevi ili zahtevi korisni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iljevi organizacionog sistema se ostvaruju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prof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prod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manjenje troškova proizvod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kvaliteta proizvoda/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učešća na tržiš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htevi (potrebe) korisnika se ostvaruju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orisnici predstavljaju okru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ženje sist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artneri:  kupci, dobavljači, banke, 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ržavne institucije (npr. poreska upra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lasnici (akciona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ukovodio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 je skup povezanih aktivnosti koje stvaraju neku vrednost preko transformacije nekih ulaza u neki vrednije izlaz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i i izlazi mogu biti proizvodi i/ili  inform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(tj. transformacije ulaza u izlaze) se obavljaju od strane ljudi i maši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 različite vrste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a delatnos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izvodnja, prodaja, nabavk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podrš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državanje mašina, Obuka radnik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pravljački proc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laniranje, Odlučivanje, Kontrol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i (PP) su nastali kao rezultat projektovanja organiz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rganizaciona stru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atizacija radnih mes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inženjering 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boljšanje i pojednostavljenje postojećih PP kako bi poslovanje bilo efikasn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pravljanje promen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vođenje poboljšanih 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pravljanje sistemom kvalite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tvaruje se preko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ovanj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su uprošćena predstava realnog sve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aketa aviona, plan zgrade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Šema baz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se iskazuju u nekom jeziku (jezik model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ekstualna notacija (modeli u tekstualnom oblik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Grafička notacija (modeli u vidu dijagra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formalni i formaln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o su sintaksa i semantika jezika formalno definisani, onda su modeli iskazani na tom jeziku formal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e 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ovanje PP je aktivnost u kojoj se predstavljaju (specificiraju) poslovni procesi nekog preduzeć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 se odnositi na postojeće ili buduće (poboljšane) poslovne proce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tipično definiš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 su korisnici (spoljni akte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Šta su ulazi i izla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čin odvajanja poslova (tok izvršavan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 ih obavlja (unutrašnji akte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6-05T12:40:21Z</dcterms:modified>
  <cp:revision>90</cp:revision>
  <dc:subject/>
  <dc:title>Strukture podataka</dc:title>
</cp:coreProperties>
</file>