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334-AD22-4B55-815F-B369B2C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E1E-1938-44A6-90ED-8D666CE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229-8713-49AE-87FF-E07C0A1F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B7D-CCC0-40F6-82D5-740D3D86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924-84B6-434B-8A70-2CA6CD1F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7ED-9435-4321-B48D-FDF580B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0FB6-48D5-4307-BF17-F3C342D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5B4E-28F1-4677-8C54-AEB6BD00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B116-836A-44A9-B113-9410CF5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D7EE-FBAD-42DD-8442-7C553A4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C8C-D120-43F0-A509-2122AD4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0C3-21F0-468A-B251-3DEE1C63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DDFC-E6BD-47A5-A6B6-C0D0042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1957-1E6B-4FB7-8B4B-C8334A4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5301-EA4C-4749-8542-5FB41EC8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77E2-EAAC-46C1-A793-BE8B0B09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3A84-8D9E-4914-B1F0-20E85E75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E96-8680-455B-A16D-971F5D4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C03-182F-43E4-BCF0-60E3A0DE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37C-9A24-4579-A3B4-8A4B0BF1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EFB-361F-481C-B3C3-0F804BBC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5E5-941F-4FA2-9B93-8C8C0337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E28-4161-4DDF-90BB-B755EB7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F49-94D4-423D-9B74-D9A1DC9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695-7FD9-40F3-BF62-CFFF6DD4E9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A014-ABBC-426D-B6DE-311C83DD43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UMM protokol poslovne kolaboraci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8360" y="1397160"/>
            <a:ext cx="8424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M poslovna transak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11280" y="1473120"/>
            <a:ext cx="806436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UMM poslovna transakcija i podaci za razmen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39640" y="1535040"/>
            <a:ext cx="82854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5508720" y="25671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256536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88000" y="4221000"/>
            <a:ext cx="9144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65600" y="414972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61806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[BPSS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43640" y="4221000"/>
            <a:ext cx="10080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10400">
            <a:off x="4019400" y="3004920"/>
            <a:ext cx="481320" cy="1576080"/>
          </a:xfrm>
          <a:custGeom>
            <a:avLst/>
            <a:gdLst>
              <a:gd name="textAreaLeft" fmla="*/ 64440 w 481320"/>
              <a:gd name="textAreaRight" fmla="*/ 416880 w 481320"/>
              <a:gd name="textAreaTop" fmla="*/ 322560 h 1576080"/>
              <a:gd name="textAreaBottom" fmla="*/ 1151280 h 15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2950507"/>
                <a:lnTo>
                  <a:pt x="7200" y="21094"/>
                </a:lnTo>
                <a:lnTo>
                  <a:pt x="0" y="18938"/>
                </a:lnTo>
                <a:lnTo>
                  <a:pt x="7200" y="15770"/>
                </a:lnTo>
                <a:lnTo>
                  <a:pt x="7200" y="17173"/>
                </a:lnTo>
                <a:arcTo wR="21600" hR="8840" stAng="2950507" swAng="-2748301"/>
                <a:lnTo>
                  <a:pt x="21380" y="10099"/>
                </a:lnTo>
                <a:arcTo wR="21600" hR="8840" stAng="-202206" swAng="-5197794"/>
                <a:close/>
              </a:path>
              <a:path fill="darkenLess"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-202206"/>
                <a:lnTo>
                  <a:pt x="21380" y="10099"/>
                </a:lnTo>
                <a:arcTo wR="21600" hR="8840" stAng="-202206" swAng="-5197794"/>
                <a:close/>
              </a:path>
            </a:pathLst>
          </a:custGeom>
          <a:solidFill>
            <a:srgbClr val="c6180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ebXML specifikaci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6167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ebXML BPSS – poslovna kolabora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97000" y="981000"/>
            <a:ext cx="563076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eslikavanje UMM poslovne kolaboracije u ebXML BPS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ebXML BPSS – poslovna transak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826920" y="965160"/>
            <a:ext cx="7380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eslikavanje UMM poslovne transakcije u ebXML BPS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28560" y="1413000"/>
            <a:ext cx="79041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25671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256536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16360" y="4149720"/>
            <a:ext cx="9144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c804"/>
                </a:solidFill>
                <a:latin typeface="Tahoma"/>
              </a:rPr>
              <a:t>[BPSS]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414972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6720" y="4149720"/>
            <a:ext cx="10080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9706400">
            <a:off x="4571640" y="2636640"/>
            <a:ext cx="480960" cy="1576080"/>
          </a:xfrm>
          <a:custGeom>
            <a:avLst/>
            <a:gdLst>
              <a:gd name="textAreaLeft" fmla="*/ 64440 w 480960"/>
              <a:gd name="textAreaRight" fmla="*/ 416520 w 480960"/>
              <a:gd name="textAreaTop" fmla="*/ 322560 h 1576080"/>
              <a:gd name="textAreaBottom" fmla="*/ 1151280 h 15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2950507"/>
                <a:lnTo>
                  <a:pt x="7200" y="21094"/>
                </a:lnTo>
                <a:lnTo>
                  <a:pt x="0" y="18938"/>
                </a:lnTo>
                <a:lnTo>
                  <a:pt x="7200" y="15770"/>
                </a:lnTo>
                <a:lnTo>
                  <a:pt x="7200" y="17173"/>
                </a:lnTo>
                <a:arcTo wR="21600" hR="8840" stAng="2950507" swAng="-2748301"/>
                <a:lnTo>
                  <a:pt x="21380" y="10099"/>
                </a:lnTo>
                <a:arcTo wR="21600" hR="8840" stAng="-202206" swAng="-5197794"/>
                <a:close/>
              </a:path>
              <a:path fill="darkenLess"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-202206"/>
                <a:lnTo>
                  <a:pt x="21380" y="10099"/>
                </a:lnTo>
                <a:arcTo wR="21600" hR="8840" stAng="-202206" swAng="-5197794"/>
                <a:close/>
              </a:path>
            </a:pathLst>
          </a:custGeom>
          <a:solidFill>
            <a:srgbClr val="c6180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216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MG  Model Driven Architecture (MD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sko nivo – platformski nezavisni mode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hnoloski mode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lika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ecif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č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d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del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izvode tehnoločki specifične standardne mod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946760" y="2274840"/>
            <a:ext cx="34495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EL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132000" y="271440"/>
            <a:ext cx="5521320" cy="6586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971640" y="1700280"/>
            <a:ext cx="1800000" cy="433440"/>
          </a:xfrm>
          <a:prstGeom prst="wedgeRoundRectCallout">
            <a:avLst>
              <a:gd name="adj1" fmla="val 144708"/>
              <a:gd name="adj2" fmla="val -355495"/>
              <a:gd name="adj3" fmla="val 16667"/>
            </a:avLst>
          </a:prstGeom>
          <a:noFill/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Čuvanje podataka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(na primer poruka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6920" y="2421000"/>
            <a:ext cx="2016360" cy="431640"/>
          </a:xfrm>
          <a:prstGeom prst="wedgeRoundRectCallout">
            <a:avLst>
              <a:gd name="adj1" fmla="val 193148"/>
              <a:gd name="adj2" fmla="val -168384"/>
              <a:gd name="adj3" fmla="val 16667"/>
            </a:avLst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Pokretanje operacij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Web servisa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00000" y="3429000"/>
            <a:ext cx="2016360" cy="431640"/>
          </a:xfrm>
          <a:prstGeom prst="wedgeRoundRectCallout">
            <a:avLst>
              <a:gd name="adj1" fmla="val 198268"/>
              <a:gd name="adj2" fmla="val -361763"/>
              <a:gd name="adj3" fmla="val 16667"/>
            </a:avLst>
          </a:prstGeom>
          <a:noFill/>
          <a:ln w="9360">
            <a:solidFill>
              <a:srgbClr val="c61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Prihvatanje poruke od operacije web servis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71640" y="4149720"/>
            <a:ext cx="2016000" cy="431640"/>
          </a:xfrm>
          <a:prstGeom prst="wedgeRoundRectCallout">
            <a:avLst>
              <a:gd name="adj1" fmla="val 188111"/>
              <a:gd name="adj2" fmla="val -47425"/>
              <a:gd name="adj3" fmla="val 16667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Definiše petlj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(iteraciju aktivnosti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71640" y="4797360"/>
            <a:ext cx="2016000" cy="432000"/>
          </a:xfrm>
          <a:prstGeom prst="wedgeRoundRectCallout">
            <a:avLst>
              <a:gd name="adj1" fmla="val 196537"/>
              <a:gd name="adj2" fmla="val 56615"/>
              <a:gd name="adj3" fmla="val 16667"/>
            </a:avLst>
          </a:prstGeom>
          <a:noFill/>
          <a:ln w="9360">
            <a:solidFill>
              <a:srgbClr val="2e9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Drefiniše sekvencu aktivnos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42920" y="5950080"/>
            <a:ext cx="2016360" cy="647640"/>
          </a:xfrm>
          <a:prstGeom prst="wedgeRoundRectCallout">
            <a:avLst>
              <a:gd name="adj1" fmla="val 179134"/>
              <a:gd name="adj2" fmla="val 37009"/>
              <a:gd name="adj3" fmla="val 16667"/>
            </a:avLst>
          </a:prstGeom>
          <a:noFill/>
          <a:ln w="9360">
            <a:solidFill>
              <a:srgbClr val="8249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Čekanje na pojavljivanje dogadjaj iz datog skupa dogadjaj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MM -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&gt; BPEL</a:t>
            </a:r>
            <a:br>
              <a:rPr sz="4000"/>
            </a:b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Preslikavanje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olaboracij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865080" y="1382760"/>
            <a:ext cx="59389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MM poslovna kolaboracij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ransformisana u BPEL 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(pojednostavljeni prikaz)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MM -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&gt; BPEL</a:t>
            </a:r>
            <a:br>
              <a:rPr sz="4000"/>
            </a:b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Preslikavanje poslovnih transakc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95280" y="1306440"/>
            <a:ext cx="84708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MM poslovna transkacij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ransformisana u BPEL 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(pojednostavljen</a:t>
            </a:r>
            <a:r>
              <a:rPr b="0" lang="sr-Latn-CS" sz="1600" spc="-1" strike="noStrike">
                <a:solidFill>
                  <a:srgbClr val="660066"/>
                </a:solidFill>
                <a:latin typeface="Tahoma"/>
              </a:rPr>
              <a:t>i prikaz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11280" y="1363680"/>
            <a:ext cx="81374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203640" y="25653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263700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61806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16360" y="4149720"/>
            <a:ext cx="9144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c804"/>
                </a:solidFill>
                <a:latin typeface="Tahoma"/>
              </a:rPr>
              <a:t>[BPSS]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414972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16720" y="4149720"/>
            <a:ext cx="10080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948800">
            <a:off x="5795640" y="3213000"/>
            <a:ext cx="480960" cy="1576440"/>
          </a:xfrm>
          <a:custGeom>
            <a:avLst/>
            <a:gdLst>
              <a:gd name="textAreaLeft" fmla="*/ 64440 w 480960"/>
              <a:gd name="textAreaRight" fmla="*/ 416520 w 480960"/>
              <a:gd name="textAreaTop" fmla="*/ 322560 h 1576440"/>
              <a:gd name="textAreaBottom" fmla="*/ 11516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2950507"/>
                <a:lnTo>
                  <a:pt x="7200" y="21094"/>
                </a:lnTo>
                <a:lnTo>
                  <a:pt x="0" y="18938"/>
                </a:lnTo>
                <a:lnTo>
                  <a:pt x="7200" y="15770"/>
                </a:lnTo>
                <a:lnTo>
                  <a:pt x="7200" y="17173"/>
                </a:lnTo>
                <a:arcTo wR="21600" hR="8840" stAng="2950507" swAng="-2748301"/>
                <a:lnTo>
                  <a:pt x="21380" y="10099"/>
                </a:lnTo>
                <a:arcTo wR="21600" hR="8840" stAng="-202206" swAng="-5197794"/>
                <a:close/>
              </a:path>
              <a:path fill="darkenLess"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-202206"/>
                <a:lnTo>
                  <a:pt x="21380" y="10099"/>
                </a:lnTo>
                <a:arcTo wR="21600" hR="8840" stAng="-202206" swAng="-5197794"/>
                <a:close/>
              </a:path>
            </a:pathLst>
          </a:custGeom>
          <a:solidFill>
            <a:srgbClr val="c6180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eslikavanje BPMN u BPE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8748720" cy="34988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515736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likavanje internih procesa je direktno (preko anotacij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likavanje kolaborativnih procesa nije podrzano u trenutnoj verzij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isano je I preslikavanje u ebXML BP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čna softverska rešenja BizTalk i WWF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icrosoft BizTalk serv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softverski proizvod koji se fokusira na integraciju poslovnih procesa preko orkestraci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mogućava dva scenarija integracije:  1) EAI – enterprise application Integratio i 2) B2B – business-to-business integ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ovezuje različite aplikacije koje se izvršavaju na različitim plaformama i implementirane različitim tehnologijam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Adapteri za komunikaciju sa ostalim sistemim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održava BPEL samo kao mehanizam razmene opisa procesa, tj. nije izvrša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Implementacija poslovnog procesa iz 3 koraka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76520" indent="-30492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efinisanje šema poruka (BizTalk Editor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76520" indent="-30492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Mapiranje šema poruka (BizTalk Mapper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76520" indent="-30492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efinisanje poslovne logike (Orchestration Designer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indow Workflow Fond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Implemntacija poslovnih procesa koja zahteva učešče korisnika (objedinjuje system i human workflow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oces se izvršava na klij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izTalk 2006 eng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420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Window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Workflow Fondation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WWF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920" y="1915920"/>
            <a:ext cx="496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mponent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Base Activity Library: nazavisne aktivnosti i osnova za izgradnju specifični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Runtime Engine: Izvršavanje i upravljanje stanjem workflow-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Runtime Services: Omogućavaju fleksibilnost i komunikacij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Visual Designer: grafička konstrukcija proces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829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2049480"/>
            <a:ext cx="2971800" cy="2606760"/>
          </a:xfrm>
          <a:prstGeom prst="rec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i i preslikavanja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876312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cif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 Provisio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X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301920" y="2230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46520" y="3726000"/>
            <a:ext cx="2012760" cy="609480"/>
          </a:xfrm>
          <a:prstGeom prst="leftRightArrow">
            <a:avLst>
              <a:gd name="adj1" fmla="val 58333"/>
              <a:gd name="adj2" fmla="val 682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eslikavanj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40280" y="552132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64240" y="534672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16280" y="610380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0" y="625320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66040" y="3449520"/>
            <a:ext cx="30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tformski specifi</a:t>
            </a: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č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mo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1093680" y="2125800"/>
            <a:ext cx="175284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latform</a:t>
            </a:r>
            <a:r>
              <a:rPr b="0" lang="sr-Latn-CS" sz="1200" spc="-1" strike="noStrike">
                <a:solidFill>
                  <a:srgbClr val="40458c"/>
                </a:solidFill>
                <a:latin typeface="Arial"/>
              </a:rPr>
              <a:t>sk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Arial"/>
              </a:rPr>
              <a:t>Nezavist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72880" y="4960800"/>
            <a:ext cx="2133360" cy="1523880"/>
            <a:chOff x="272880" y="4960800"/>
            <a:chExt cx="2133360" cy="1523880"/>
          </a:xfrm>
        </p:grpSpPr>
        <p:sp>
          <p:nvSpPr>
            <p:cNvPr id="227" name=""/>
            <p:cNvSpPr/>
            <p:nvPr/>
          </p:nvSpPr>
          <p:spPr>
            <a:xfrm>
              <a:off x="272880" y="4960800"/>
              <a:ext cx="1828800" cy="121896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5160" y="5113080"/>
              <a:ext cx="1828800" cy="121932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7440" y="5265360"/>
              <a:ext cx="1828800" cy="121932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40458c"/>
                  </a:solidFill>
                  <a:latin typeface="Arial"/>
                </a:rPr>
                <a:t>Rečni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40458c"/>
                  </a:solidFill>
                  <a:latin typeface="Arial"/>
                </a:rPr>
                <a:t>verzija model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06400" y="4656240"/>
            <a:ext cx="6858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70000" y="2354400"/>
            <a:ext cx="649080" cy="314280"/>
            <a:chOff x="1170000" y="2354400"/>
            <a:chExt cx="649080" cy="314280"/>
          </a:xfrm>
        </p:grpSpPr>
        <p:grpSp>
          <p:nvGrpSpPr>
            <p:cNvPr id="232" name=""/>
            <p:cNvGrpSpPr/>
            <p:nvPr/>
          </p:nvGrpSpPr>
          <p:grpSpPr>
            <a:xfrm>
              <a:off x="1170000" y="2354400"/>
              <a:ext cx="247320" cy="314280"/>
              <a:chOff x="1170000" y="2354400"/>
              <a:chExt cx="247320" cy="314280"/>
            </a:xfrm>
          </p:grpSpPr>
          <p:sp>
            <p:nvSpPr>
              <p:cNvPr id="233" name=""/>
              <p:cNvSpPr/>
              <p:nvPr/>
            </p:nvSpPr>
            <p:spPr>
              <a:xfrm>
                <a:off x="1345320" y="2607120"/>
                <a:ext cx="22680" cy="54360"/>
              </a:xfrm>
              <a:prstGeom prst="ellipse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8920" y="2615040"/>
                <a:ext cx="15840" cy="38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57200" y="2553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1353600" y="2584440"/>
                <a:ext cx="324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295640" y="2354400"/>
                <a:ext cx="2160" cy="3142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18240" y="2397240"/>
                <a:ext cx="16920" cy="38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26520" y="2435760"/>
                <a:ext cx="4320" cy="388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1222200" y="2452320"/>
                <a:ext cx="396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90160" y="2476800"/>
                <a:ext cx="95040" cy="64800"/>
              </a:xfrm>
              <a:custGeom>
                <a:avLst/>
                <a:gdLst/>
                <a:ahLst/>
                <a:rect l="l" t="t" r="r" b="b"/>
                <a:pathLst>
                  <a:path w="636" h="170">
                    <a:moveTo>
                      <a:pt x="74" y="0"/>
                    </a:moveTo>
                    <a:lnTo>
                      <a:pt x="40" y="16"/>
                    </a:lnTo>
                    <a:lnTo>
                      <a:pt x="23" y="37"/>
                    </a:lnTo>
                    <a:lnTo>
                      <a:pt x="6" y="64"/>
                    </a:lnTo>
                    <a:lnTo>
                      <a:pt x="0" y="85"/>
                    </a:lnTo>
                    <a:lnTo>
                      <a:pt x="6" y="112"/>
                    </a:lnTo>
                    <a:lnTo>
                      <a:pt x="23" y="133"/>
                    </a:lnTo>
                    <a:lnTo>
                      <a:pt x="40" y="154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54"/>
                    </a:lnTo>
                    <a:lnTo>
                      <a:pt x="613" y="133"/>
                    </a:lnTo>
                    <a:lnTo>
                      <a:pt x="630" y="112"/>
                    </a:lnTo>
                    <a:lnTo>
                      <a:pt x="636" y="85"/>
                    </a:lnTo>
                    <a:lnTo>
                      <a:pt x="630" y="64"/>
                    </a:lnTo>
                    <a:lnTo>
                      <a:pt x="613" y="37"/>
                    </a:lnTo>
                    <a:lnTo>
                      <a:pt x="590" y="16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26520" y="2435760"/>
                <a:ext cx="4320" cy="388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222200" y="2452320"/>
                <a:ext cx="396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83400" y="2511000"/>
                <a:ext cx="39600" cy="10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1314000" y="2503080"/>
                <a:ext cx="9360" cy="7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26520" y="2435760"/>
                <a:ext cx="4320" cy="388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1222200" y="2452320"/>
                <a:ext cx="396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22640" y="2486880"/>
                <a:ext cx="94680" cy="64800"/>
              </a:xfrm>
              <a:custGeom>
                <a:avLst/>
                <a:gdLst/>
                <a:ahLst/>
                <a:rect l="l" t="t" r="r" b="b"/>
                <a:pathLst>
                  <a:path w="635" h="170">
                    <a:moveTo>
                      <a:pt x="74" y="0"/>
                    </a:moveTo>
                    <a:lnTo>
                      <a:pt x="46" y="21"/>
                    </a:lnTo>
                    <a:lnTo>
                      <a:pt x="23" y="37"/>
                    </a:lnTo>
                    <a:lnTo>
                      <a:pt x="6" y="63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3" y="133"/>
                    </a:lnTo>
                    <a:lnTo>
                      <a:pt x="46" y="149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49"/>
                    </a:lnTo>
                    <a:lnTo>
                      <a:pt x="613" y="133"/>
                    </a:lnTo>
                    <a:lnTo>
                      <a:pt x="630" y="106"/>
                    </a:lnTo>
                    <a:lnTo>
                      <a:pt x="635" y="85"/>
                    </a:lnTo>
                    <a:lnTo>
                      <a:pt x="630" y="63"/>
                    </a:lnTo>
                    <a:lnTo>
                      <a:pt x="613" y="37"/>
                    </a:lnTo>
                    <a:lnTo>
                      <a:pt x="590" y="21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83400" y="2511000"/>
                <a:ext cx="39600" cy="10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1314000" y="2503080"/>
                <a:ext cx="9360" cy="7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57200" y="2553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353600" y="2584440"/>
                <a:ext cx="324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57200" y="2553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1353600" y="2584440"/>
                <a:ext cx="324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83400" y="2511000"/>
                <a:ext cx="39600" cy="10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314000" y="2503080"/>
                <a:ext cx="9360" cy="7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70000" y="2354400"/>
                <a:ext cx="1281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455480" y="2361600"/>
              <a:ext cx="363600" cy="306720"/>
              <a:chOff x="1455480" y="2361600"/>
              <a:chExt cx="363600" cy="306720"/>
            </a:xfrm>
          </p:grpSpPr>
          <p:sp>
            <p:nvSpPr>
              <p:cNvPr id="259" name=""/>
              <p:cNvSpPr/>
              <p:nvPr/>
            </p:nvSpPr>
            <p:spPr>
              <a:xfrm>
                <a:off x="1469160" y="2567880"/>
                <a:ext cx="137880" cy="100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69160" y="2620440"/>
                <a:ext cx="137880" cy="4752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69160" y="2640960"/>
                <a:ext cx="13788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675800" y="2595600"/>
                <a:ext cx="29520" cy="4536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07400" y="2618280"/>
                <a:ext cx="66240" cy="3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55480" y="2361600"/>
                <a:ext cx="148320" cy="100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55480" y="2413800"/>
                <a:ext cx="148320" cy="478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55480" y="2434320"/>
                <a:ext cx="14832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530720" y="2462040"/>
                <a:ext cx="5040" cy="102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19920" y="2462040"/>
                <a:ext cx="24120" cy="50400"/>
              </a:xfrm>
              <a:custGeom>
                <a:avLst/>
                <a:gdLst/>
                <a:ahLst/>
                <a:rect l="l" t="t" r="r" b="b"/>
                <a:pathLst>
                  <a:path w="79" h="107">
                    <a:moveTo>
                      <a:pt x="34" y="0"/>
                    </a:moveTo>
                    <a:lnTo>
                      <a:pt x="79" y="101"/>
                    </a:lnTo>
                    <a:lnTo>
                      <a:pt x="0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68600" y="2361600"/>
                <a:ext cx="150480" cy="100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68600" y="2413800"/>
                <a:ext cx="150480" cy="478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68600" y="2434320"/>
                <a:ext cx="15048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35480" y="241164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19" y="0"/>
                    </a:lnTo>
                    <a:lnTo>
                      <a:pt x="8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1649160" y="2399400"/>
                <a:ext cx="19080" cy="122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603440" y="2411640"/>
                <a:ext cx="31320" cy="3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4782960" y="3672000"/>
            <a:ext cx="941400" cy="693720"/>
            <a:chOff x="4782960" y="3672000"/>
            <a:chExt cx="941400" cy="693720"/>
          </a:xfrm>
        </p:grpSpPr>
        <p:sp>
          <p:nvSpPr>
            <p:cNvPr id="276" name=""/>
            <p:cNvSpPr/>
            <p:nvPr/>
          </p:nvSpPr>
          <p:spPr>
            <a:xfrm>
              <a:off x="5009400" y="3813480"/>
              <a:ext cx="485280" cy="4251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82960" y="4224240"/>
              <a:ext cx="278640" cy="141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4160" y="3672000"/>
              <a:ext cx="278640" cy="1414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45720" y="4224240"/>
              <a:ext cx="278640" cy="1414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827600" y="1790640"/>
            <a:ext cx="1991160" cy="1171080"/>
            <a:chOff x="4827600" y="1790640"/>
            <a:chExt cx="1991160" cy="1171080"/>
          </a:xfrm>
        </p:grpSpPr>
        <p:grpSp>
          <p:nvGrpSpPr>
            <p:cNvPr id="281" name=""/>
            <p:cNvGrpSpPr/>
            <p:nvPr/>
          </p:nvGrpSpPr>
          <p:grpSpPr>
            <a:xfrm>
              <a:off x="4827600" y="1790640"/>
              <a:ext cx="758880" cy="1171080"/>
              <a:chOff x="4827600" y="1790640"/>
              <a:chExt cx="758880" cy="1171080"/>
            </a:xfrm>
          </p:grpSpPr>
          <p:sp>
            <p:nvSpPr>
              <p:cNvPr id="282" name=""/>
              <p:cNvSpPr/>
              <p:nvPr/>
            </p:nvSpPr>
            <p:spPr>
              <a:xfrm>
                <a:off x="5365800" y="2732040"/>
                <a:ext cx="69840" cy="203400"/>
              </a:xfrm>
              <a:prstGeom prst="ellipse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76240" y="2761920"/>
                <a:ext cx="49320" cy="1440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2520" y="2534040"/>
                <a:ext cx="12600" cy="1980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391720" y="2647800"/>
                <a:ext cx="1044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5213160" y="1790640"/>
                <a:ext cx="7200" cy="11710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5560" y="1950120"/>
                <a:ext cx="52200" cy="143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01480" y="2093760"/>
                <a:ext cx="12960" cy="145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4988520" y="2154960"/>
                <a:ext cx="1260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89880" y="2246400"/>
                <a:ext cx="291600" cy="242280"/>
              </a:xfrm>
              <a:custGeom>
                <a:avLst/>
                <a:gdLst/>
                <a:ahLst/>
                <a:rect l="l" t="t" r="r" b="b"/>
                <a:pathLst>
                  <a:path w="636" h="170">
                    <a:moveTo>
                      <a:pt x="74" y="0"/>
                    </a:moveTo>
                    <a:lnTo>
                      <a:pt x="40" y="16"/>
                    </a:lnTo>
                    <a:lnTo>
                      <a:pt x="23" y="37"/>
                    </a:lnTo>
                    <a:lnTo>
                      <a:pt x="6" y="64"/>
                    </a:lnTo>
                    <a:lnTo>
                      <a:pt x="0" y="85"/>
                    </a:lnTo>
                    <a:lnTo>
                      <a:pt x="6" y="112"/>
                    </a:lnTo>
                    <a:lnTo>
                      <a:pt x="23" y="133"/>
                    </a:lnTo>
                    <a:lnTo>
                      <a:pt x="40" y="154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54"/>
                    </a:lnTo>
                    <a:lnTo>
                      <a:pt x="613" y="133"/>
                    </a:lnTo>
                    <a:lnTo>
                      <a:pt x="630" y="112"/>
                    </a:lnTo>
                    <a:lnTo>
                      <a:pt x="636" y="85"/>
                    </a:lnTo>
                    <a:lnTo>
                      <a:pt x="630" y="64"/>
                    </a:lnTo>
                    <a:lnTo>
                      <a:pt x="613" y="37"/>
                    </a:lnTo>
                    <a:lnTo>
                      <a:pt x="590" y="16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01480" y="2093760"/>
                <a:ext cx="12960" cy="145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4988520" y="2154960"/>
                <a:ext cx="1260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76080" y="2374560"/>
                <a:ext cx="122400" cy="3816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5269680" y="2344320"/>
                <a:ext cx="28800" cy="29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01480" y="2093760"/>
                <a:ext cx="12960" cy="145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4988520" y="2154960"/>
                <a:ext cx="1260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95600" y="2284920"/>
                <a:ext cx="290880" cy="242280"/>
              </a:xfrm>
              <a:custGeom>
                <a:avLst/>
                <a:gdLst/>
                <a:ahLst/>
                <a:rect l="l" t="t" r="r" b="b"/>
                <a:pathLst>
                  <a:path w="635" h="170">
                    <a:moveTo>
                      <a:pt x="74" y="0"/>
                    </a:moveTo>
                    <a:lnTo>
                      <a:pt x="46" y="21"/>
                    </a:lnTo>
                    <a:lnTo>
                      <a:pt x="23" y="37"/>
                    </a:lnTo>
                    <a:lnTo>
                      <a:pt x="6" y="63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3" y="133"/>
                    </a:lnTo>
                    <a:lnTo>
                      <a:pt x="46" y="149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49"/>
                    </a:lnTo>
                    <a:lnTo>
                      <a:pt x="613" y="133"/>
                    </a:lnTo>
                    <a:lnTo>
                      <a:pt x="630" y="106"/>
                    </a:lnTo>
                    <a:lnTo>
                      <a:pt x="635" y="85"/>
                    </a:lnTo>
                    <a:lnTo>
                      <a:pt x="630" y="63"/>
                    </a:lnTo>
                    <a:lnTo>
                      <a:pt x="613" y="37"/>
                    </a:lnTo>
                    <a:lnTo>
                      <a:pt x="590" y="21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76080" y="2374560"/>
                <a:ext cx="122400" cy="3816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5269680" y="2344320"/>
                <a:ext cx="28800" cy="29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2520" y="2534040"/>
                <a:ext cx="12600" cy="1980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391720" y="2647800"/>
                <a:ext cx="1044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02520" y="2534040"/>
                <a:ext cx="12600" cy="1980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91720" y="2647800"/>
                <a:ext cx="1044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76080" y="2374560"/>
                <a:ext cx="122400" cy="3816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5269680" y="2344320"/>
                <a:ext cx="28800" cy="29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27600" y="1790640"/>
                <a:ext cx="39276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703480" y="1818360"/>
              <a:ext cx="1115280" cy="1142640"/>
              <a:chOff x="5703480" y="1818360"/>
              <a:chExt cx="1115280" cy="1142640"/>
            </a:xfrm>
          </p:grpSpPr>
          <p:sp>
            <p:nvSpPr>
              <p:cNvPr id="308" name=""/>
              <p:cNvSpPr/>
              <p:nvPr/>
            </p:nvSpPr>
            <p:spPr>
              <a:xfrm>
                <a:off x="5745600" y="2586960"/>
                <a:ext cx="423720" cy="374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45600" y="2783160"/>
                <a:ext cx="423720" cy="1778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45600" y="2858760"/>
                <a:ext cx="423720" cy="102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79560" y="2689560"/>
                <a:ext cx="90360" cy="1692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69680" y="2774160"/>
                <a:ext cx="20412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03480" y="1818360"/>
                <a:ext cx="455400" cy="374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03480" y="2013840"/>
                <a:ext cx="455400" cy="17820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03480" y="2089800"/>
                <a:ext cx="455400" cy="102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933880" y="2192040"/>
                <a:ext cx="15840" cy="3841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01840" y="2192400"/>
                <a:ext cx="74520" cy="188280"/>
              </a:xfrm>
              <a:custGeom>
                <a:avLst/>
                <a:gdLst/>
                <a:ahLst/>
                <a:rect l="l" t="t" r="r" b="b"/>
                <a:pathLst>
                  <a:path w="79" h="107">
                    <a:moveTo>
                      <a:pt x="34" y="0"/>
                    </a:moveTo>
                    <a:lnTo>
                      <a:pt x="79" y="101"/>
                    </a:lnTo>
                    <a:lnTo>
                      <a:pt x="0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57600" y="1818360"/>
                <a:ext cx="461160" cy="374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57600" y="2013840"/>
                <a:ext cx="461160" cy="17820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57600" y="2089800"/>
                <a:ext cx="461160" cy="102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55360" y="2004840"/>
                <a:ext cx="101880" cy="475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19" y="0"/>
                    </a:lnTo>
                    <a:lnTo>
                      <a:pt x="8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6298920" y="1958760"/>
                <a:ext cx="58320" cy="457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158880" y="2004840"/>
                <a:ext cx="96480" cy="18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2846520" y="1820880"/>
            <a:ext cx="1904760" cy="1371600"/>
          </a:xfrm>
          <a:prstGeom prst="leftArrow">
            <a:avLst>
              <a:gd name="adj1" fmla="val 50000"/>
              <a:gd name="adj2" fmla="val 34718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Poslov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515960" y="2938320"/>
          <a:ext cx="919440" cy="65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15960" y="2938320"/>
                    <a:ext cx="91944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5821560" y="4267080"/>
            <a:ext cx="1920600" cy="210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BP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WS-CD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ebX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Specifič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osettaNe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A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ilj M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z pomoć UML modela viskog nivoa, definisanih precizno preko profil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a specifičnim preslikavanjima u tehnološko okružen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a bi se kreirali delovi izvršnog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tomat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ki razvoj preko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M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44520" y="1692360"/>
            <a:ext cx="3779640" cy="384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f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 prim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O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UM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559400" y="4897440"/>
            <a:ext cx="1736640" cy="1689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work &amp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rastru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k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 prim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XML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200" y="3718080"/>
            <a:ext cx="1857240" cy="1579320"/>
          </a:xfrm>
          <a:prstGeom prst="rightArrowCallout">
            <a:avLst>
              <a:gd name="adj1" fmla="val 25002"/>
              <a:gd name="adj2" fmla="val 25000"/>
              <a:gd name="adj3" fmla="val 19600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ra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r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slikavan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 prim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XML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62280" y="5283360"/>
            <a:ext cx="2697120" cy="903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30320" y="5594040"/>
            <a:ext cx="22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eslikavanje se definiše na nivou infrastruktu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46280" y="3778200"/>
            <a:ext cx="1927440" cy="1540080"/>
          </a:xfrm>
          <a:prstGeom prst="rightArrowCallout">
            <a:avLst>
              <a:gd name="adj1" fmla="val 25002"/>
              <a:gd name="adj2" fmla="val 25000"/>
              <a:gd name="adj3" fmla="val 20859"/>
              <a:gd name="adj4" fmla="val 6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la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a kreiranje 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ciju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4619520" y="3533760"/>
            <a:ext cx="1594080" cy="168912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lov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omponen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86040" y="3002040"/>
            <a:ext cx="833400" cy="75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60640" y="1925640"/>
            <a:ext cx="1869840" cy="1359000"/>
          </a:xfrm>
          <a:prstGeom prst="flowChartDocumen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izaj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238880" y="2895480"/>
            <a:ext cx="1371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anua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ding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6877080" y="24210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b2b2b2">
              <a:alpha val="50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ezavisnost tehnolog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05120" y="2133720"/>
            <a:ext cx="3733560" cy="1447560"/>
            <a:chOff x="1905120" y="2133720"/>
            <a:chExt cx="3733560" cy="1447560"/>
          </a:xfrm>
        </p:grpSpPr>
        <p:sp>
          <p:nvSpPr>
            <p:cNvPr id="344" name=""/>
            <p:cNvSpPr/>
            <p:nvPr/>
          </p:nvSpPr>
          <p:spPr>
            <a:xfrm>
              <a:off x="2514600" y="2133720"/>
              <a:ext cx="312408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05120" y="2666880"/>
              <a:ext cx="99036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b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057400" y="2286000"/>
            <a:ext cx="3733560" cy="1447560"/>
            <a:chOff x="2057400" y="2286000"/>
            <a:chExt cx="3733560" cy="1447560"/>
          </a:xfrm>
        </p:grpSpPr>
        <p:sp>
          <p:nvSpPr>
            <p:cNvPr id="347" name=""/>
            <p:cNvSpPr/>
            <p:nvPr/>
          </p:nvSpPr>
          <p:spPr>
            <a:xfrm>
              <a:off x="2666880" y="2286000"/>
              <a:ext cx="312408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7400" y="2819160"/>
              <a:ext cx="99036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izTa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209680" y="2438280"/>
            <a:ext cx="3733920" cy="1447920"/>
            <a:chOff x="2209680" y="2438280"/>
            <a:chExt cx="3733920" cy="1447920"/>
          </a:xfrm>
        </p:grpSpPr>
        <p:sp>
          <p:nvSpPr>
            <p:cNvPr id="350" name=""/>
            <p:cNvSpPr/>
            <p:nvPr/>
          </p:nvSpPr>
          <p:spPr>
            <a:xfrm>
              <a:off x="2819520" y="2438280"/>
              <a:ext cx="3124080" cy="1447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2971800"/>
              <a:ext cx="129564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RosetaNe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362320" y="2590920"/>
            <a:ext cx="3733560" cy="1447560"/>
            <a:chOff x="2362320" y="2590920"/>
            <a:chExt cx="3733560" cy="1447560"/>
          </a:xfrm>
        </p:grpSpPr>
        <p:sp>
          <p:nvSpPr>
            <p:cNvPr id="353" name=""/>
            <p:cNvSpPr/>
            <p:nvPr/>
          </p:nvSpPr>
          <p:spPr>
            <a:xfrm>
              <a:off x="2971800" y="2590920"/>
              <a:ext cx="312408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Logičk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poslovn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kompon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62320" y="3124080"/>
              <a:ext cx="99036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0" y="4114800"/>
            <a:ext cx="9144000" cy="2590920"/>
            <a:chOff x="0" y="4114800"/>
            <a:chExt cx="9144000" cy="2590920"/>
          </a:xfrm>
        </p:grpSpPr>
        <p:sp>
          <p:nvSpPr>
            <p:cNvPr id="356" name=""/>
            <p:cNvSpPr/>
            <p:nvPr/>
          </p:nvSpPr>
          <p:spPr>
            <a:xfrm>
              <a:off x="0" y="4114800"/>
              <a:ext cx="2286000" cy="2590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dapter</a:t>
              </a: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" y="6172200"/>
              <a:ext cx="129528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6720" y="4876920"/>
              <a:ext cx="259056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Tahoma"/>
                </a:rPr>
                <a:t>Logičk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Tahoma"/>
                </a:rPr>
                <a:t>poslov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Tahoma"/>
                </a:rPr>
                <a:t>komponent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" y="457200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b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200" y="510552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izTa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5638680"/>
              <a:ext cx="132732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Rosetane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52480" y="4724280"/>
              <a:ext cx="99072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2480" y="5257800"/>
              <a:ext cx="106704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52480" y="5562360"/>
              <a:ext cx="99072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52480" y="5562720"/>
              <a:ext cx="1067040" cy="761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5410080"/>
              <a:ext cx="91440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8000" y="4114800"/>
              <a:ext cx="2286000" cy="2590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dapter</a:t>
              </a: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6172200"/>
              <a:ext cx="129528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IC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457200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15200" y="510552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15200" y="5638680"/>
              <a:ext cx="132732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rb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5410080"/>
              <a:ext cx="91440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477120" y="4723920"/>
              <a:ext cx="83808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477120" y="5333760"/>
              <a:ext cx="83808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77120" y="5562720"/>
              <a:ext cx="83808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77120" y="5562720"/>
              <a:ext cx="838080" cy="761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0" y="1665360"/>
          <a:ext cx="91908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5360"/>
                    <a:ext cx="9190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d modela do izvršnog ko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1170000"/>
            <a:ext cx="1331640" cy="861120"/>
            <a:chOff x="0" y="1170000"/>
            <a:chExt cx="1331640" cy="861120"/>
          </a:xfrm>
        </p:grpSpPr>
        <p:grpSp>
          <p:nvGrpSpPr>
            <p:cNvPr id="381" name=""/>
            <p:cNvGrpSpPr/>
            <p:nvPr/>
          </p:nvGrpSpPr>
          <p:grpSpPr>
            <a:xfrm>
              <a:off x="0" y="1170000"/>
              <a:ext cx="507240" cy="861120"/>
              <a:chOff x="0" y="1170000"/>
              <a:chExt cx="507240" cy="861120"/>
            </a:xfrm>
          </p:grpSpPr>
          <p:sp>
            <p:nvSpPr>
              <p:cNvPr id="382" name=""/>
              <p:cNvSpPr/>
              <p:nvPr/>
            </p:nvSpPr>
            <p:spPr>
              <a:xfrm>
                <a:off x="360000" y="1862280"/>
                <a:ext cx="46800" cy="149400"/>
              </a:xfrm>
              <a:prstGeom prst="ellipse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6840" y="1884240"/>
                <a:ext cx="32760" cy="105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480" y="1716840"/>
                <a:ext cx="8280" cy="1454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376920" y="1800360"/>
                <a:ext cx="684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57400" y="1170000"/>
                <a:ext cx="4680" cy="8611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00" y="1287360"/>
                <a:ext cx="34920" cy="1054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6280" y="1392840"/>
                <a:ext cx="8640" cy="106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107280" y="1437840"/>
                <a:ext cx="828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400" y="1505160"/>
                <a:ext cx="194760" cy="177840"/>
              </a:xfrm>
              <a:custGeom>
                <a:avLst/>
                <a:gdLst/>
                <a:ahLst/>
                <a:rect l="l" t="t" r="r" b="b"/>
                <a:pathLst>
                  <a:path w="636" h="170">
                    <a:moveTo>
                      <a:pt x="74" y="0"/>
                    </a:moveTo>
                    <a:lnTo>
                      <a:pt x="40" y="16"/>
                    </a:lnTo>
                    <a:lnTo>
                      <a:pt x="23" y="37"/>
                    </a:lnTo>
                    <a:lnTo>
                      <a:pt x="6" y="64"/>
                    </a:lnTo>
                    <a:lnTo>
                      <a:pt x="0" y="85"/>
                    </a:lnTo>
                    <a:lnTo>
                      <a:pt x="6" y="112"/>
                    </a:lnTo>
                    <a:lnTo>
                      <a:pt x="23" y="133"/>
                    </a:lnTo>
                    <a:lnTo>
                      <a:pt x="40" y="154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54"/>
                    </a:lnTo>
                    <a:lnTo>
                      <a:pt x="613" y="133"/>
                    </a:lnTo>
                    <a:lnTo>
                      <a:pt x="630" y="112"/>
                    </a:lnTo>
                    <a:lnTo>
                      <a:pt x="636" y="85"/>
                    </a:lnTo>
                    <a:lnTo>
                      <a:pt x="630" y="64"/>
                    </a:lnTo>
                    <a:lnTo>
                      <a:pt x="613" y="37"/>
                    </a:lnTo>
                    <a:lnTo>
                      <a:pt x="590" y="16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6280" y="1392840"/>
                <a:ext cx="8640" cy="106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07280" y="1437840"/>
                <a:ext cx="828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2920" y="1599480"/>
                <a:ext cx="81720" cy="28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flipV="1">
                <a:off x="295200" y="1576800"/>
                <a:ext cx="19080" cy="21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6280" y="1392840"/>
                <a:ext cx="8640" cy="106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107280" y="1437840"/>
                <a:ext cx="828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2840" y="1533240"/>
                <a:ext cx="194400" cy="177840"/>
              </a:xfrm>
              <a:custGeom>
                <a:avLst/>
                <a:gdLst/>
                <a:ahLst/>
                <a:rect l="l" t="t" r="r" b="b"/>
                <a:pathLst>
                  <a:path w="635" h="170">
                    <a:moveTo>
                      <a:pt x="74" y="0"/>
                    </a:moveTo>
                    <a:lnTo>
                      <a:pt x="46" y="21"/>
                    </a:lnTo>
                    <a:lnTo>
                      <a:pt x="23" y="37"/>
                    </a:lnTo>
                    <a:lnTo>
                      <a:pt x="6" y="63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3" y="133"/>
                    </a:lnTo>
                    <a:lnTo>
                      <a:pt x="46" y="149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49"/>
                    </a:lnTo>
                    <a:lnTo>
                      <a:pt x="613" y="133"/>
                    </a:lnTo>
                    <a:lnTo>
                      <a:pt x="630" y="106"/>
                    </a:lnTo>
                    <a:lnTo>
                      <a:pt x="635" y="85"/>
                    </a:lnTo>
                    <a:lnTo>
                      <a:pt x="630" y="63"/>
                    </a:lnTo>
                    <a:lnTo>
                      <a:pt x="613" y="37"/>
                    </a:lnTo>
                    <a:lnTo>
                      <a:pt x="590" y="21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2920" y="1599480"/>
                <a:ext cx="81720" cy="28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95200" y="1576800"/>
                <a:ext cx="19080" cy="21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84480" y="1716840"/>
                <a:ext cx="8280" cy="1454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76920" y="1800360"/>
                <a:ext cx="684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4480" y="1716840"/>
                <a:ext cx="8280" cy="1454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376920" y="1800360"/>
                <a:ext cx="684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920" y="1599480"/>
                <a:ext cx="81720" cy="28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95200" y="1576800"/>
                <a:ext cx="19080" cy="21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1170000"/>
                <a:ext cx="262800" cy="11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85720" y="1190520"/>
              <a:ext cx="745920" cy="840240"/>
              <a:chOff x="585720" y="1190520"/>
              <a:chExt cx="745920" cy="840240"/>
            </a:xfrm>
          </p:grpSpPr>
          <p:sp>
            <p:nvSpPr>
              <p:cNvPr id="408" name=""/>
              <p:cNvSpPr/>
              <p:nvPr/>
            </p:nvSpPr>
            <p:spPr>
              <a:xfrm>
                <a:off x="613800" y="1755720"/>
                <a:ext cx="28332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3800" y="1900080"/>
                <a:ext cx="283320" cy="1306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3800" y="1955520"/>
                <a:ext cx="283320" cy="75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37520" y="1831320"/>
                <a:ext cx="60480" cy="1242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7480" y="1893600"/>
                <a:ext cx="136440" cy="10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5720" y="1190520"/>
                <a:ext cx="3045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5720" y="1334160"/>
                <a:ext cx="304560" cy="1310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5720" y="1389960"/>
                <a:ext cx="304560" cy="75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739440" y="1465200"/>
                <a:ext cx="10440" cy="2826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8200" y="1465560"/>
                <a:ext cx="49680" cy="138240"/>
              </a:xfrm>
              <a:custGeom>
                <a:avLst/>
                <a:gdLst/>
                <a:ahLst/>
                <a:rect l="l" t="t" r="r" b="b"/>
                <a:pathLst>
                  <a:path w="79" h="107">
                    <a:moveTo>
                      <a:pt x="34" y="0"/>
                    </a:moveTo>
                    <a:lnTo>
                      <a:pt x="79" y="101"/>
                    </a:lnTo>
                    <a:lnTo>
                      <a:pt x="0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23120" y="1190520"/>
                <a:ext cx="30852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23120" y="1334160"/>
                <a:ext cx="308520" cy="1310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23120" y="1389960"/>
                <a:ext cx="308520" cy="75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54720" y="1327680"/>
                <a:ext cx="68040" cy="34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19" y="0"/>
                    </a:lnTo>
                    <a:lnTo>
                      <a:pt x="8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983880" y="1293480"/>
                <a:ext cx="38880" cy="334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889920" y="1327680"/>
                <a:ext cx="6444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468360" y="2060640"/>
            <a:ext cx="1297080" cy="457200"/>
          </a:xfrm>
          <a:prstGeom prst="rightArrow">
            <a:avLst>
              <a:gd name="adj1" fmla="val 85204"/>
              <a:gd name="adj2" fmla="val 95749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reslika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1828800"/>
            <a:ext cx="99072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vor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ko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316600">
            <a:off x="-380880" y="4267080"/>
            <a:ext cx="6324480" cy="685800"/>
          </a:xfrm>
          <a:prstGeom prst="rightArrow">
            <a:avLst>
              <a:gd name="adj1" fmla="val 50000"/>
              <a:gd name="adj2" fmla="val 23055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utomat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strki razvoj platformski specifičnih proce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743200"/>
            <a:ext cx="99072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bjeka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3581280"/>
            <a:ext cx="129528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odu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7800" y="4648320"/>
            <a:ext cx="175248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aplikacij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81680" y="5715000"/>
            <a:ext cx="190512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vrš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si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2971800"/>
            <a:ext cx="1447920" cy="457200"/>
          </a:xfrm>
          <a:prstGeom prst="rightArrow">
            <a:avLst>
              <a:gd name="adj1" fmla="val 85204"/>
              <a:gd name="adj2" fmla="val 106884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komajlir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3809880"/>
            <a:ext cx="1447560" cy="457200"/>
          </a:xfrm>
          <a:prstGeom prst="rightArrow">
            <a:avLst>
              <a:gd name="adj1" fmla="val 85204"/>
              <a:gd name="adj2" fmla="val 10685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ako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4876920"/>
            <a:ext cx="1447920" cy="457200"/>
          </a:xfrm>
          <a:prstGeom prst="rightArrow">
            <a:avLst>
              <a:gd name="adj1" fmla="val 85204"/>
              <a:gd name="adj2" fmla="val 106884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spaj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5943600"/>
            <a:ext cx="1447560" cy="457200"/>
          </a:xfrm>
          <a:prstGeom prst="rightArrow">
            <a:avLst>
              <a:gd name="adj1" fmla="val 85204"/>
              <a:gd name="adj2" fmla="val 10685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ostavlj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3581280"/>
            <a:ext cx="18288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Dobavljač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Specifičnne činjeni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5" idx="2"/>
            <a:endCxn id="430" idx="0"/>
          </p:cNvCxnSpPr>
          <p:nvPr/>
        </p:nvCxnSpPr>
        <p:spPr>
          <a:xfrm flipH="1">
            <a:off x="7733880" y="4267080"/>
            <a:ext cx="267120" cy="144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5" idx="2"/>
            <a:endCxn id="429" idx="0"/>
          </p:cNvCxnSpPr>
          <p:nvPr/>
        </p:nvCxnSpPr>
        <p:spPr>
          <a:xfrm flipH="1">
            <a:off x="6133680" y="4266720"/>
            <a:ext cx="1867680" cy="3819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505320" y="1676520"/>
            <a:ext cx="1447560" cy="60948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me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8" idx="1"/>
            <a:endCxn id="425" idx="3"/>
          </p:cNvCxnSpPr>
          <p:nvPr/>
        </p:nvCxnSpPr>
        <p:spPr>
          <a:xfrm flipH="1">
            <a:off x="2742480" y="1980720"/>
            <a:ext cx="762840" cy="305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152280" y="4800600"/>
            <a:ext cx="1981440" cy="91440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arametri z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Upravljanj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roceso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600200" y="4267080"/>
            <a:ext cx="457200" cy="533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143000" y="3733560"/>
            <a:ext cx="22860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85800" y="3123720"/>
            <a:ext cx="0" cy="1676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5410080"/>
            <a:ext cx="16002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3680" y="5638680"/>
            <a:ext cx="267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onfigur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aciona map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bor ala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Lociranje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resur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3760" y="1905120"/>
            <a:ext cx="243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latforski specifič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kora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oda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ednosti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azdvaja domenske specifičnosti od plaformskih detal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amnjuje slože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Zadržava semantiku domenskog mode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većava stabilnost i životni v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Generiše izabrano plaforsko okružen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manjuje vreme razvo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rz iterativan razvo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azdvojenost poslovnih i inžinjerskih zahte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većava kvalit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snovan na industrijskim standard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657840" y="5931000"/>
            <a:ext cx="2486160" cy="807480"/>
            <a:chOff x="6657840" y="5931000"/>
            <a:chExt cx="2486160" cy="807480"/>
          </a:xfrm>
        </p:grpSpPr>
        <p:sp>
          <p:nvSpPr>
            <p:cNvPr id="451" name=""/>
            <p:cNvSpPr/>
            <p:nvPr/>
          </p:nvSpPr>
          <p:spPr>
            <a:xfrm>
              <a:off x="8569080" y="5931000"/>
              <a:ext cx="574920" cy="806400"/>
            </a:xfrm>
            <a:custGeom>
              <a:avLst/>
              <a:gdLst/>
              <a:ahLst/>
              <a:rect l="l" t="t" r="r" b="b"/>
              <a:pathLst>
                <a:path w="724" h="1018">
                  <a:moveTo>
                    <a:pt x="0" y="277"/>
                  </a:moveTo>
                  <a:lnTo>
                    <a:pt x="430" y="1018"/>
                  </a:lnTo>
                  <a:lnTo>
                    <a:pt x="724" y="638"/>
                  </a:lnTo>
                  <a:lnTo>
                    <a:pt x="208" y="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bf5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2640" y="5931000"/>
              <a:ext cx="1741680" cy="217440"/>
            </a:xfrm>
            <a:custGeom>
              <a:avLst/>
              <a:gdLst/>
              <a:ahLst/>
              <a:rect l="l" t="t" r="r" b="b"/>
              <a:pathLst>
                <a:path w="2193" h="276">
                  <a:moveTo>
                    <a:pt x="0" y="276"/>
                  </a:moveTo>
                  <a:lnTo>
                    <a:pt x="1985" y="276"/>
                  </a:lnTo>
                  <a:lnTo>
                    <a:pt x="2193" y="0"/>
                  </a:lnTo>
                  <a:lnTo>
                    <a:pt x="55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f009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57840" y="6148440"/>
              <a:ext cx="2251080" cy="590040"/>
            </a:xfrm>
            <a:custGeom>
              <a:avLst/>
              <a:gdLst/>
              <a:ahLst/>
              <a:rect l="l" t="t" r="r" b="b"/>
              <a:pathLst>
                <a:path w="2837" h="743">
                  <a:moveTo>
                    <a:pt x="0" y="743"/>
                  </a:moveTo>
                  <a:lnTo>
                    <a:pt x="2837" y="743"/>
                  </a:lnTo>
                  <a:lnTo>
                    <a:pt x="2407" y="0"/>
                  </a:lnTo>
                  <a:lnTo>
                    <a:pt x="422" y="0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9f3fd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050240" y="5343480"/>
            <a:ext cx="1621800" cy="706320"/>
            <a:chOff x="7050240" y="5343480"/>
            <a:chExt cx="1621800" cy="706320"/>
          </a:xfrm>
        </p:grpSpPr>
        <p:sp>
          <p:nvSpPr>
            <p:cNvPr id="455" name=""/>
            <p:cNvSpPr/>
            <p:nvPr/>
          </p:nvSpPr>
          <p:spPr>
            <a:xfrm>
              <a:off x="8177040" y="5344920"/>
              <a:ext cx="495000" cy="704880"/>
            </a:xfrm>
            <a:custGeom>
              <a:avLst/>
              <a:gdLst/>
              <a:ahLst/>
              <a:rect l="l" t="t" r="r" b="b"/>
              <a:pathLst>
                <a:path w="623" h="889">
                  <a:moveTo>
                    <a:pt x="426" y="889"/>
                  </a:moveTo>
                  <a:lnTo>
                    <a:pt x="623" y="634"/>
                  </a:lnTo>
                  <a:lnTo>
                    <a:pt x="108" y="0"/>
                  </a:lnTo>
                  <a:lnTo>
                    <a:pt x="0" y="134"/>
                  </a:lnTo>
                  <a:lnTo>
                    <a:pt x="426" y="889"/>
                  </a:lnTo>
                  <a:close/>
                </a:path>
              </a:pathLst>
            </a:custGeom>
            <a:solidFill>
              <a:srgbClr val="ff9f7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92960" y="5343480"/>
              <a:ext cx="867960" cy="106200"/>
            </a:xfrm>
            <a:custGeom>
              <a:avLst/>
              <a:gdLst/>
              <a:ahLst/>
              <a:rect l="l" t="t" r="r" b="b"/>
              <a:pathLst>
                <a:path w="1094" h="134">
                  <a:moveTo>
                    <a:pt x="0" y="134"/>
                  </a:moveTo>
                  <a:lnTo>
                    <a:pt x="986" y="134"/>
                  </a:lnTo>
                  <a:lnTo>
                    <a:pt x="1094" y="0"/>
                  </a:lnTo>
                  <a:lnTo>
                    <a:pt x="3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bf3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50240" y="5449680"/>
              <a:ext cx="1464840" cy="600120"/>
            </a:xfrm>
            <a:custGeom>
              <a:avLst/>
              <a:gdLst/>
              <a:ahLst/>
              <a:rect l="l" t="t" r="r" b="b"/>
              <a:pathLst>
                <a:path w="1845" h="757">
                  <a:moveTo>
                    <a:pt x="0" y="757"/>
                  </a:moveTo>
                  <a:lnTo>
                    <a:pt x="1845" y="757"/>
                  </a:lnTo>
                  <a:lnTo>
                    <a:pt x="1417" y="0"/>
                  </a:lnTo>
                  <a:lnTo>
                    <a:pt x="429" y="0"/>
                  </a:lnTo>
                  <a:lnTo>
                    <a:pt x="0" y="757"/>
                  </a:lnTo>
                  <a:close/>
                </a:path>
              </a:pathLst>
            </a:custGeom>
            <a:solidFill>
              <a:srgbClr val="ff5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442280" y="4759200"/>
            <a:ext cx="756720" cy="598320"/>
            <a:chOff x="7442280" y="4759200"/>
            <a:chExt cx="756720" cy="598320"/>
          </a:xfrm>
        </p:grpSpPr>
        <p:sp>
          <p:nvSpPr>
            <p:cNvPr id="459" name=""/>
            <p:cNvSpPr/>
            <p:nvPr/>
          </p:nvSpPr>
          <p:spPr>
            <a:xfrm>
              <a:off x="7781760" y="4759200"/>
              <a:ext cx="417240" cy="598320"/>
            </a:xfrm>
            <a:custGeom>
              <a:avLst/>
              <a:gdLst/>
              <a:ahLst/>
              <a:rect l="l" t="t" r="r" b="b"/>
              <a:pathLst>
                <a:path w="526" h="753">
                  <a:moveTo>
                    <a:pt x="427" y="753"/>
                  </a:moveTo>
                  <a:lnTo>
                    <a:pt x="526" y="636"/>
                  </a:lnTo>
                  <a:lnTo>
                    <a:pt x="0" y="0"/>
                  </a:lnTo>
                  <a:lnTo>
                    <a:pt x="427" y="753"/>
                  </a:lnTo>
                  <a:close/>
                </a:path>
              </a:pathLst>
            </a:custGeom>
            <a:solidFill>
              <a:srgbClr val="ffbf1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42280" y="4759200"/>
              <a:ext cx="679320" cy="598320"/>
            </a:xfrm>
            <a:custGeom>
              <a:avLst/>
              <a:gdLst/>
              <a:ahLst/>
              <a:rect l="l" t="t" r="r" b="b"/>
              <a:pathLst>
                <a:path w="855" h="753">
                  <a:moveTo>
                    <a:pt x="0" y="753"/>
                  </a:moveTo>
                  <a:lnTo>
                    <a:pt x="855" y="753"/>
                  </a:lnTo>
                  <a:lnTo>
                    <a:pt x="428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ff9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7137720" y="543096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Specifika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me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43720" y="6268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D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70640" y="5109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9900"/>
                </a:solidFill>
                <a:latin typeface="Arial"/>
              </a:rPr>
              <a:t>Korisnic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PP metodologije i tehnologi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508720" y="25671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25653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88000" y="4221000"/>
            <a:ext cx="9144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65600" y="4222800"/>
            <a:ext cx="9144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[BPSS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43640" y="4221000"/>
            <a:ext cx="10080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Kostandin Dimitrijevic</cp:lastModifiedBy>
  <dcterms:modified xsi:type="dcterms:W3CDTF">2007-06-18T11:01:55Z</dcterms:modified>
  <cp:revision>438</cp:revision>
  <dc:subject/>
  <dc:title>Modelovanje poslovnih procesa</dc:title>
</cp:coreProperties>
</file>