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wmf" ContentType="image/x-wmf"/>
  <Override PartName="/ppt/media/image3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A77-75B4-44A4-A757-F96156E9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25C-3680-432C-B72E-42B7CD39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803-873E-4055-A9B3-4D0DC796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C50-8C28-42BE-8C23-130EC2C4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AB7F-B7EA-406E-BF96-62BC56B1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15B0-A154-4CE2-B12C-28B6FAD8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8E5F-A461-4F7E-A3F4-402446D5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7ECD-2567-4622-B90B-9D0A6841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4BB9-5D3A-45E2-A358-2CC260C9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A58E-D810-445F-84BE-ABD58D2A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AE6D-DE57-47CC-BFBD-547EE6D8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367-2E9B-4C6D-B43F-D9AF0EA2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4906-7C75-47C2-A983-C1B69F5E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339E-546C-4B33-8DA9-7E31A410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FD5D-8EAB-4B68-8115-B25A6ADE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ECAE-FDE6-4944-935C-7879B275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A8E3-8F54-48AF-8113-FD336ACE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A6F-35E0-4B4C-8078-7A7D1297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CF5-35C1-4FA3-8114-58AFED3E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A58-1468-4351-B203-F1A3C4FA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FDA-6508-4A9C-894C-255BEDC7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674-D113-4E55-9215-48CE3ACF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CE9-DF18-4B3D-AA5E-E940DE50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EF9-F130-460C-B3BE-E6BF8503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8BDF-1976-42F6-B081-F7745DBF762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9B22-451F-4C0B-B731-AC965C44E3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39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odelovanje poslovnih procesa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- Teorijske osnove -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ni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ša Neškovi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istem sa diskretnim događajim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Formalizmi za opisivanje sistema sa diskretnim događajim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etrijeve mrež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ijagram promene st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etrijeve mreže su matematički formalizam, kojim se opisuju sistemi sa diskretnim događaji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redložen od strane Carl Adam Petri-ja 1962. go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etrijeve mreže omogućavaj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nalizu sistema (strukture i dinamik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Validacij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valaciju perfomans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etri mrežu (PM) čini bipartitni graf koji se sastoji iz dva tipa čvorova: mesta i tranzicij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Čvorovi se povezuju sa lukovima. </a:t>
            </a:r>
            <a:r>
              <a:rPr b="0" lang="sr-Latn-CS" sz="2800" spc="-1" strike="noStrike" u="sng">
                <a:solidFill>
                  <a:srgbClr val="40458c"/>
                </a:solidFill>
                <a:uFillTx/>
                <a:latin typeface="Tahoma"/>
              </a:rPr>
              <a:t>Povezivanje čvorova istog tipa nije dozvoljeno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toga se i zovu biparititni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esta se obeležavaju sa krugovima, a tranzicije sa kvadrati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1908000" y="5448240"/>
            <a:ext cx="47516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Definicija: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etri mreža (PM) je trojka (P,T,F) gde j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nb-NO" sz="2000" spc="-1" strike="noStrike">
                <a:solidFill>
                  <a:srgbClr val="40458c"/>
                </a:solidFill>
                <a:latin typeface="Tahoma"/>
              </a:rPr>
              <a:t>- P konačan skup mest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- T konačan skup tranzicij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- F skup lukova (relacija toka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Mesto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se zove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ulazno mesto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tranzicije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t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akko postoji usmereni luk iz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u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Mesto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je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izlazno mesto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tranzicije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akko postoji usmereni luk iz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t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ka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U bilo kom trenutku, mesto sadrži nula ili više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žetona (tokena)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, koji se obeležavaju kao crne tačke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Tranzicije mogu predstavlja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cesor, događaj, aktivnost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lazna mesta mogu predstavljati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lazni podatak, pre-uslov, potrebni resu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zlazna mesta mogu predstavljati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zlazni podatak, post-uslov, oslobođeni resu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059280" y="5445000"/>
            <a:ext cx="20192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M  se mogu izvršavati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Izvršavanje bazirano na konc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tu toke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Markiranje PM predstavlja preslikavanje koje svakom mestu dodeljuje nenegativan broj koji predstavlja broj tokena u njem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istribucija tokena po mestima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Markiranje predstavlja stan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 algn="ctr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Markiranje [1 1 0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1187280" y="4797360"/>
            <a:ext cx="22323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stojanje toke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u mestu označava dostupnost resursa ili ispunjenost uslova za tranziciju, dok nepostojanje predstavlja obrnu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ranzicija t je omogućena i može se okinuti, ako sva ulazna mesta imaju bar po jedan  tok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da se tranz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ija okine, token se uklanja iz svakog ulaznog mesta, a token se proizvodi u svakoj izlaznom mes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900000" y="4941720"/>
            <a:ext cx="727236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ak 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476360" y="2124000"/>
            <a:ext cx="63374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772240" cy="4167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ak 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688000" cy="43606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ak 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adrža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ojam siste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istemi sa kontinualnim vremeno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istemi sa diskretnim događaji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ikaz teorija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za modelovanje sistema sa diskretnim događaji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ijagram promene st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etrijeve mrež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904000" cy="45259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ak 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 - pri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ve bilijarske kugle se pomeraju po istoj liniji, paraleno ivici sto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nicijalno se pomeraju jedna prema drugoj istom brzino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udar kugli je perfektno elastič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268360" y="4365720"/>
            <a:ext cx="4321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 - pri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etri mreža koja predstavlja ovu situaciju j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Inic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jalno stanje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je: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[1 1 0 0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619272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Kada se s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dar kugli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dogodi,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ugle počinju da se udaljavaju jedna od dru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763640" y="2997360"/>
            <a:ext cx="518328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 - pri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etri mreža koja predstavlja ovu situaciju j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tanje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akon sudara je: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[0 0 1 1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633744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Kugl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 A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dara u ivicu stola,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enja pravac kret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979640" y="2781360"/>
            <a:ext cx="4968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 - pri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etri mreža koja predstavlja ovu situaciju j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tanje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akon sudara je: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1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476360" y="2276640"/>
            <a:ext cx="65959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Dijagram promene stanja (DPS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istem se posmatra kao konačni automa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ma konačni broj st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utomat opisuje kako sistem menja svoja stanja u zavisnosti od događa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toji više oblika DPS (eng. State transition diagram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or-ov automat, Mealy-ev automat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ML DPS - Statecharts ili State Machi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ML DPS je zasnovan na Harelovim hijerarhijskim mašinama promene st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guća hijerarhijska dekompozicija st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ijagram promene st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imer: klima uređa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455840" y="2133720"/>
          <a:ext cx="6375240" cy="446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2133720"/>
                    <a:ext cx="637524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ijagram promene st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DPS predstavlja graf koji se sastoji od stanja i tranzicij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tan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istem je uvek u nekom stanj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 stanju se obavlja neka akcija ili čeka neki događa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pecijalna stanja: početak i kra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jam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kup entiteta (realnih ili apstraktnih) i njihovih međusobnih veza koji zajedno čine celin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 mnogim naučnim oblastima se fenomeni (predmeti izučavanja) mogu posmatrati kao sistem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Biološki sistemi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živi organizm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Tehnički sistemi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strujno kolo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rganizacioni sistem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oslovni sistem (preduzeće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eorija sistema se bavi izučavanjem opštih osobina siste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ijagram promene st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Tranzic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evodi sistem iz jednog stanja u drug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ranziciju okida događa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ranzicija može imati uslov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ogađaj može imati argum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ilikom trazicije se može izvršiti akci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042920" y="4869000"/>
          <a:ext cx="6408720" cy="131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4869000"/>
                    <a:ext cx="64087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ijagram promene st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loženo stanje - Nadstan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Jedno stanje može imati podst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stem se nalazu u samo jednom podstanj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68360" y="3716280"/>
          <a:ext cx="439272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3716280"/>
                    <a:ext cx="43927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ijagram promene st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loženo stanje – Agregirano stan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tanje je agregacija podstanja - stanje sistema ima više komponen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stem je istovremeno u svakom od podst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411280" y="3789360"/>
          <a:ext cx="4392720" cy="290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3789360"/>
                    <a:ext cx="439272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pšti pojam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Ulazi u sis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ejstva okoline na sist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Izlazi siste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ejstva sistema na okoli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752480" y="2895480"/>
            <a:ext cx="6019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</a:t>
            </a: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istem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sa kontinualnim vremenom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lazi i izlazi sistema imaju kontinulane vrednosti u vreme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: T </a:t>
            </a:r>
            <a:r>
              <a:rPr b="0" lang="sr-Latn-CS" sz="28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U </a:t>
            </a:r>
            <a:r>
              <a:rPr b="0" lang="sr-Latn-CS" sz="28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Y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 - skup trenutaka vremena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 - skup ulaza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Y - skup izlaza iz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6019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</a:t>
            </a: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istem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sa kontinualnim vremenom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798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ksplicitni oblik S = { F</a:t>
            </a:r>
            <a:r>
              <a:rPr b="0" lang="sr-Latn-CS" sz="24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 T </a:t>
            </a:r>
            <a:r>
              <a:rPr b="0" lang="sr-Latn-CS" sz="24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U </a:t>
            </a:r>
            <a:r>
              <a:rPr b="0" lang="sr-Latn-C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Y, </a:t>
            </a:r>
            <a:r>
              <a:rPr b="0" lang="sr-Latn-CS" sz="24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A 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kup familija funkcija Fa čiji svaki elemenat  napisan u eksplicitnom obliku j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sr-Latn-CS" sz="3200" spc="-1" strike="noStrike" baseline="-25000">
                <a:solidFill>
                  <a:srgbClr val="40458c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t) = f</a:t>
            </a:r>
            <a:r>
              <a:rPr b="0" lang="sr-Latn-CS" sz="3200" spc="-1" strike="noStrike" baseline="-25000">
                <a:solidFill>
                  <a:srgbClr val="40458c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t,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edstavlja izlaz sistema dobijen u "eksperimentu </a:t>
            </a:r>
            <a:r>
              <a:rPr b="0" lang="sr-Latn-CS" sz="24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"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ncept "eksperimenta" se uvodi ovde da bi se istakla činjenica da isti ulazi ne generišu uvek iste izlaze, odnosno da izlazi iz sistema zavise ne samo od ulaza već i od </a:t>
            </a:r>
            <a:r>
              <a:rPr b="1" lang="sr-Latn-CS" sz="2400" spc="-1" strike="noStrike" u="sng">
                <a:solidFill>
                  <a:srgbClr val="40458c"/>
                </a:solidFill>
                <a:uFillTx/>
                <a:latin typeface="Tahoma"/>
              </a:rPr>
              <a:t>stanj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sistem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ncept stanja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tanje sistema je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kup informacija o prošlosti i sadašnjosti sistema koji je dovoljan da se utvrde njegovi budući izlazi, pretpostavljajući da su budući ulazi da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stem se preko stanja definiše kao kompozicija funkcij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i) funkcije prelaza stanj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Symbol"/>
                <a:ea typeface="Symbol"/>
              </a:rPr>
              <a:t>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: T </a:t>
            </a:r>
            <a:r>
              <a:rPr b="0" lang="en-GB" sz="24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T </a:t>
            </a:r>
            <a:r>
              <a:rPr b="0" lang="en-GB" sz="24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X </a:t>
            </a:r>
            <a:r>
              <a:rPr b="0" lang="en-GB" sz="24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U </a:t>
            </a:r>
            <a:r>
              <a:rPr b="0" lang="en-GB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ii) izlazne transformacij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Symbol"/>
                <a:ea typeface="Symbol"/>
              </a:rPr>
              <a:t>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: T </a:t>
            </a:r>
            <a:r>
              <a:rPr b="0" lang="en-GB" sz="24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X </a:t>
            </a:r>
            <a:r>
              <a:rPr b="0" lang="en-GB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Y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657600" y="5084640"/>
          <a:ext cx="5486400" cy="13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5084640"/>
                    <a:ext cx="54864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istem sa diskretnim događajim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istemi u kojima su ulazi i izlazi diskretni događaj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našanje sistema ne zavisi od vreme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stem se ne predstavlja kao funkcija vreme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našanje sistema (izlazni događaji) zavisi od stanja sistema (akumulirana istorija rada sistema) i poslednjeg ulaznog događa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lazno-izlazna definicija sistema sa diskretnim događajima 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: U* </a:t>
            </a:r>
            <a:r>
              <a:rPr b="0" lang="en-GB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Y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istem sa diskretnim događajim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Mnoge klase “realnih” sistema se prirodnije opisuju kao  sistemi sa diskretnim događaji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oftverski sistem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lazi: pritisak na dugmić, izbor meni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zlazi: prikaz forme i podataka na njoj, zatvaranje for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lovne organizacije (preduzeć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laz: zahtev za ponudom, narudžben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zlaz: ponuda kupcu, faktu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Sinisa Neskovic</dc:creator>
  <dc:description/>
  <dc:language>en-US</dc:language>
  <cp:lastModifiedBy>Kostandin Dimitrijevic</cp:lastModifiedBy>
  <dcterms:modified xsi:type="dcterms:W3CDTF">2007-06-18T11:17:49Z</dcterms:modified>
  <cp:revision>186</cp:revision>
  <dc:subject/>
  <dc:title>Strukture podataka</dc:title>
</cp:coreProperties>
</file>