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4CD-2921-4D50-8399-B2E2619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C40-2124-4FBC-9439-D1DBA35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3CF-BA10-4AAD-8C29-7DFF6A2E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0A6-7029-417F-B235-E637E50A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6133-A619-4439-A501-92A5D5B0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16BD-A502-48F8-8859-736590C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4E7-59B0-4A33-95F9-54AFE7C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425E-EAD2-4F27-8D38-2ECED81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9F35-ECF5-4DE6-99D5-EF1BBDF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302E-85B4-4805-86D4-7FD4D680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0D7-9443-446D-814D-4F24D1F2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CA2-159D-4D13-979D-00033EC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F09E-E373-4D6B-94B3-29656D2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F2F-D6AE-4397-94AD-07E0E91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E734-2BD2-42C7-86BA-FEB6991F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8D79-7E42-4746-999B-E755C9B5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569-B421-4A49-BACB-371094A6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D1D-E70E-4D0F-B0F1-D8AB01E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C71-3A11-487F-9025-236F40B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F33-61CA-415A-8EDF-617D7F3F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12C-BE6A-4D48-9733-5E66E679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4C8-7D20-4BAC-AFB5-383DCA4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464-20A2-440D-B600-4C78065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AAC-1E46-4D1A-AD0A-7E043A3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E467-234C-430E-B776-257E902E55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499D-5F6A-4866-9DA4-5703456D96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Osnovni koncepti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egled osnovnih koncep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Aktivnosti, tok aktivnosti i događa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lazi i izlaz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zvršioc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dproc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ivo definicija i nivo instanc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eze između osnovnih koncep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egled osnovnih koncep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ktivnosti i događa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2760" y="3429000"/>
            <a:ext cx="8661240" cy="2643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i (funkcije, transformacije ulaza u izlaze) – šta se radi u pojedinim fazama (koracima)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ok aktivnosti (redosled obavljan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đaji okidaju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i generišu događ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Ulazi i izlazi iz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obrađuju ulaze i generišu izla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laz iz jedne su ulazi u druge aktiv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5640" y="3141720"/>
          <a:ext cx="7494480" cy="34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141720"/>
                    <a:ext cx="74944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zvršioci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adnici, radna mesta i org. jedinice su zaduženi za obavljanje aktiv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mogu biti automatizova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pecijalni slučaj  su potpuno automatske aktivnosti (bez ljudske intervencij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3500280"/>
          <a:ext cx="8169120" cy="311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500280"/>
                    <a:ext cx="8169120" cy="31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proc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mogu biti složene – procesi za sebe na nižem nivou apstrak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6000" y="2924280"/>
          <a:ext cx="712800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24280"/>
                    <a:ext cx="71280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ivo definicija i instan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cije su nivo opisa – nivo </a:t>
            </a:r>
            <a:r>
              <a:rPr b="1" lang="sr-Latn-CS" sz="2800" spc="-1" strike="noStrike">
                <a:solidFill>
                  <a:srgbClr val="40458c"/>
                </a:solidFill>
                <a:latin typeface="Tahoma"/>
              </a:rPr>
              <a:t>mode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aktivnosti i njihovog mogućeg to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tipova događa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efinicije tipova ulaza i izla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izvršilaca (radna mest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stance su na nivou izvrša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a nit (tok) izvršavanja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e pojave ulaza i izla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i izvršioci (radnic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Veze između osnovnih koncep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8360" y="1700280"/>
          <a:ext cx="8281800" cy="43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8180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6-05T12:44:57Z</dcterms:modified>
  <cp:revision>116</cp:revision>
  <dc:subject/>
  <dc:title>Strukture podataka</dc:title>
</cp:coreProperties>
</file>