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C1F-71DB-4BB6-8233-0AC9390A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774-230E-4CDA-856A-9D8A709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4D6-F352-4F16-B58B-E12D6201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C47-56D8-4949-999E-3EF4C41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E4C-5244-4AD0-95EA-2D94A751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2B3-75AF-4B67-AB19-85068968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948-CFD4-4D19-80FC-2F1EA5A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74AA-76CB-4237-B50D-5EBD7F65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0C17-0C9B-46C3-94BC-4E693A5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4BE-F195-4447-9198-A84A58E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250-FBF8-4D20-B6AB-DCBEBF0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F22-8BC2-47D8-90ED-DA9262D7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B72-29A6-41D5-9096-7DDB1D9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EE5-4571-4736-A2EC-AA1245F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F63D-D4AD-4FE3-AEF5-B65855E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E9CA-815D-4F77-B498-88A8D05C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662-A932-4E57-BF7C-48ECF964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4BB-408D-47C9-ADD7-44E84076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7BC-3A8F-440E-9397-955DC3A9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500-4106-47E3-96B8-FD3BA98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925-9705-4E46-9B59-42552C35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184-002F-4976-9C3F-C77942F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96F-5D7D-41D2-A33F-182A2E54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A08-A477-4AEE-904D-CE80FF3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180-40B0-444D-B2A3-A70E829581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A2E-5003-4EEE-AC71-2809384E84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nad Aniči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213000"/>
            <a:ext cx="8066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a poslovnih procesa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8680" y="1628280"/>
            <a:ext cx="7770600" cy="4969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artica nije prihvatljiva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artica se vr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korisniku sa zv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č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im signalo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korektna tajna </a:t>
            </a:r>
            <a:r>
              <a:rPr b="1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fra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dgovaraj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poruka se prikazuje na ekranu i daje se 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sa korisniku da je ponovo unese. Dozvoljava se tri pok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ja, a zatim se vr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kartica korisn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ekid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risnik mo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ž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 u svakom trenutku da prekine transakciju. Poni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 se svi dotad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ji efekti i vratiti kartica korisn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96720" y="3333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ODIZANJE NOVCA: alternativna scenari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imes New Roman"/>
              </a:rPr>
              <a:t>V</a:t>
            </a: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eze u dijagramu</a:t>
            </a:r>
            <a:r>
              <a:rPr b="1" lang="en-US" sz="3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slučajeva korišćenja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ASOCIJACIJA-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prikazana veza izme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u aktera I sl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ja kor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nj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GENERALIZACIJA-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veza op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tijeg i specif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nijeg sl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ja kor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nja koji nasle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uje opis op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tijeg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&lt;&lt;extend&gt;&gt; -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stereotip veze zavisnosti koja referencira(ubacuje) mog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 dodatno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"pona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nje" opisano u posebnom  apstraktnom SK, u osnovni SK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&lt;&lt;include&gt;&gt;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-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stereotip veze zavisnosti koja eksplicitno ubacuje  dodatno"pona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nje" opisano u posebnom  apstraktnom SK, u osnovni SK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763640" y="1484280"/>
          <a:ext cx="5715000" cy="55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84280"/>
                    <a:ext cx="5715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57200" y="0"/>
            <a:ext cx="8305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LUSTRACIJE VEZE &lt;&lt;include&gt;&gt;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snovni SK  eksplicitno uklj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je pon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je opisano sa apstraktnim SK. 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 da se izbegne v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uko opisivanje istog pon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j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828800" y="1500120"/>
          <a:ext cx="5667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00120"/>
                    <a:ext cx="5667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09480" y="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IMER VEZE &lt;&lt;extend&gt;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snovni SK implicitno pro{iruje pona{anje opisano u apstraktnom SK. Pro{irenje se vr{i  u tzv"ta~kama pro{irenja"("uklju~i statistiku", za dati prim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2124000" y="914400"/>
          <a:ext cx="56577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914400"/>
                    <a:ext cx="56577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521080" y="4572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IMER GENERALIZACIJE 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640080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de god se koristi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 nadtip, mo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 se koristiti i SK podt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479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3480" y="1612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ada dva aktera imaju sl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ne uloge u odnosu na sistem oni mogu naslediti zajedn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g apstraktnog aktera.   Ako se isti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mo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 po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at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sa razl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tim akterima, pogodno je definisati apstraktnog aktera i opisati samo jedan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43280" y="3357720"/>
          <a:ext cx="335268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357720"/>
                    <a:ext cx="335268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Apstraktni akte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258920" y="2052720"/>
          <a:ext cx="63849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52720"/>
                    <a:ext cx="63849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11280" y="549360"/>
            <a:ext cx="81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Opis scenarija preko </a:t>
            </a:r>
            <a:br>
              <a:rPr sz="3000"/>
            </a:b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sistemskog dijagrama sekvenc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09680" y="1397160"/>
          <a:ext cx="54104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410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627280" y="1828800"/>
          <a:ext cx="5138640" cy="43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828800"/>
                    <a:ext cx="513864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26920" y="609300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laboracija "Sistem za automatsk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ransakcije sa novcem" implemntira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alizuje) SK "Podizanje"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Kolaboracija i slučaj korišćenj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13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laboracija je asocijacija elemenata koji u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usobnoj saradnji realizuju neki zahtev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476360" y="1413000"/>
          <a:ext cx="6226200" cy="50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6226200" cy="50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Odnos SSA i slučajeva korišćenj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etaljna specifikacija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lov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000" y="1905120"/>
            <a:ext cx="81356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rkestracija (Orchestration) – proces se posmatra kao program tj. Definiše se  redosled operacija koje traba da budu izvrše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eografija (Choreography) – posmatra proces preko skupa poruka koje se razmenjuju izmedju učesnika (definisan redosled poruka koje se razmenjuj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laboracija (Collaboration) – proces se posmata kao kolaboraciju između poslovnih partnera koja obuhvata ne samo razmenu poslovnih poruka već i uspostavljanje veza kao što su ugovaranje i obavez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ivoi specifikacija poslovnog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ML dijagrami za specifikaciju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rkestra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oreograf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reograf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79261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kvenca oper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rfejsi -  definisanje poruka koje se razmenju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rektna zavisnost aktivnosti - Poznati  učesnici u interkaci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501336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86900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132000" y="5157360"/>
            <a:ext cx="1224000" cy="716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5445000"/>
            <a:ext cx="1297080" cy="505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rkestr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drži proces “engine” centralni proces ko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kreće operac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drži složena pravi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ekvenc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kurentnu obrad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inhornizacij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4437000"/>
            <a:ext cx="1944720" cy="1008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ng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987640" y="5445000"/>
            <a:ext cx="1008000" cy="505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587700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4364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nost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445000"/>
            <a:ext cx="71280" cy="4320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5300640"/>
            <a:ext cx="1727280" cy="576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labor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79261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B2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ar-to-pe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munikacija isključivo preko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o koreografija ali uključu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munikaijcu preko Interne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Usaglašavanje razmene sa partner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Usaglašavanje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mant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čkog modela poslovnih poru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537372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530064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6000" y="5661000"/>
            <a:ext cx="11523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5373720"/>
            <a:ext cx="936720" cy="504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Message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3280" y="5589720"/>
            <a:ext cx="865440" cy="71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a interakcij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: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42920" y="1625760"/>
          <a:ext cx="7058160" cy="47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5760"/>
                    <a:ext cx="705816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dijagrama slušejava korišće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191628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ruči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14600" y="2924280"/>
            <a:ext cx="1357200" cy="1099440"/>
            <a:chOff x="714600" y="2924280"/>
            <a:chExt cx="1357200" cy="1099440"/>
          </a:xfrm>
        </p:grpSpPr>
        <p:grpSp>
          <p:nvGrpSpPr>
            <p:cNvPr id="304" name=""/>
            <p:cNvGrpSpPr/>
            <p:nvPr/>
          </p:nvGrpSpPr>
          <p:grpSpPr>
            <a:xfrm>
              <a:off x="1187280" y="2924280"/>
              <a:ext cx="433080" cy="792360"/>
              <a:chOff x="1187280" y="2924280"/>
              <a:chExt cx="433080" cy="792360"/>
            </a:xfrm>
          </p:grpSpPr>
          <p:sp>
            <p:nvSpPr>
              <p:cNvPr id="305" name=""/>
              <p:cNvSpPr/>
              <p:nvPr/>
            </p:nvSpPr>
            <p:spPr>
              <a:xfrm>
                <a:off x="1404720" y="314028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188720" y="342756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04720" y="342756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87280" y="328320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3080" y="292428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14600" y="37166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Komercijalist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35640" y="299736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i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508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onoše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luk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4292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lać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8360" y="321300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8000" y="2421000"/>
            <a:ext cx="1440000" cy="1295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97760" y="4392720"/>
            <a:ext cx="893880" cy="1099440"/>
            <a:chOff x="797760" y="4392720"/>
            <a:chExt cx="893880" cy="1099440"/>
          </a:xfrm>
        </p:grpSpPr>
        <p:grpSp>
          <p:nvGrpSpPr>
            <p:cNvPr id="317" name=""/>
            <p:cNvGrpSpPr/>
            <p:nvPr/>
          </p:nvGrpSpPr>
          <p:grpSpPr>
            <a:xfrm>
              <a:off x="1258560" y="4392720"/>
              <a:ext cx="433080" cy="792360"/>
              <a:chOff x="1258560" y="4392720"/>
              <a:chExt cx="433080" cy="792360"/>
            </a:xfrm>
          </p:grpSpPr>
          <p:sp>
            <p:nvSpPr>
              <p:cNvPr id="318" name=""/>
              <p:cNvSpPr/>
              <p:nvPr/>
            </p:nvSpPr>
            <p:spPr>
              <a:xfrm>
                <a:off x="1476000" y="460872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1260000" y="489600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76000" y="489600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58560" y="475164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04360" y="439272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97760" y="518508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Direk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flipV="1">
            <a:off x="1908000" y="3644640"/>
            <a:ext cx="1800360" cy="215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57560" y="1700280"/>
            <a:ext cx="1175760" cy="1099440"/>
            <a:chOff x="6757560" y="1700280"/>
            <a:chExt cx="1175760" cy="1099440"/>
          </a:xfrm>
        </p:grpSpPr>
        <p:grpSp>
          <p:nvGrpSpPr>
            <p:cNvPr id="326" name=""/>
            <p:cNvGrpSpPr/>
            <p:nvPr/>
          </p:nvGrpSpPr>
          <p:grpSpPr>
            <a:xfrm>
              <a:off x="7137360" y="1700280"/>
              <a:ext cx="433080" cy="792360"/>
              <a:chOff x="7137360" y="1700280"/>
              <a:chExt cx="433080" cy="792360"/>
            </a:xfrm>
          </p:grpSpPr>
          <p:sp>
            <p:nvSpPr>
              <p:cNvPr id="327" name=""/>
              <p:cNvSpPr/>
              <p:nvPr/>
            </p:nvSpPr>
            <p:spPr>
              <a:xfrm>
                <a:off x="7354800" y="191628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38800" y="220356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54800" y="220356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37360" y="205920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83160" y="170028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757560" y="249264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Magacio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6443640" y="2781360"/>
            <a:ext cx="649440" cy="287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92360" y="4869000"/>
            <a:ext cx="792000" cy="7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372360" y="4292640"/>
            <a:ext cx="936360" cy="288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31600" y="3789360"/>
            <a:ext cx="1299240" cy="1099440"/>
            <a:chOff x="7131600" y="3789360"/>
            <a:chExt cx="1299240" cy="1099440"/>
          </a:xfrm>
        </p:grpSpPr>
        <p:grpSp>
          <p:nvGrpSpPr>
            <p:cNvPr id="337" name=""/>
            <p:cNvGrpSpPr/>
            <p:nvPr/>
          </p:nvGrpSpPr>
          <p:grpSpPr>
            <a:xfrm>
              <a:off x="7569000" y="3789360"/>
              <a:ext cx="433080" cy="792360"/>
              <a:chOff x="7569000" y="3789360"/>
              <a:chExt cx="433080" cy="792360"/>
            </a:xfrm>
          </p:grpSpPr>
          <p:sp>
            <p:nvSpPr>
              <p:cNvPr id="338" name=""/>
              <p:cNvSpPr/>
              <p:nvPr/>
            </p:nvSpPr>
            <p:spPr>
              <a:xfrm>
                <a:off x="7786440" y="400536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7570440" y="429264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86440" y="429264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69000" y="414828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14800" y="378936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7131600" y="458172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Fin.Oper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 kolabor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71640" y="3284640"/>
            <a:ext cx="136872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ruči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14600" y="3643200"/>
            <a:ext cx="1357200" cy="1099440"/>
            <a:chOff x="714600" y="3643200"/>
            <a:chExt cx="1357200" cy="1099440"/>
          </a:xfrm>
        </p:grpSpPr>
        <p:grpSp>
          <p:nvGrpSpPr>
            <p:cNvPr id="348" name=""/>
            <p:cNvGrpSpPr/>
            <p:nvPr/>
          </p:nvGrpSpPr>
          <p:grpSpPr>
            <a:xfrm>
              <a:off x="1187280" y="3643200"/>
              <a:ext cx="433080" cy="792360"/>
              <a:chOff x="1187280" y="3643200"/>
              <a:chExt cx="433080" cy="792360"/>
            </a:xfrm>
          </p:grpSpPr>
          <p:sp>
            <p:nvSpPr>
              <p:cNvPr id="349" name=""/>
              <p:cNvSpPr/>
              <p:nvPr/>
            </p:nvSpPr>
            <p:spPr>
              <a:xfrm>
                <a:off x="1404720" y="385920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188720" y="414648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04720" y="414648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87280" y="400212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3080" y="364320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14600" y="44355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Komercijalist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724360" y="4363920"/>
            <a:ext cx="136872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i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27280" y="594828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onoše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luk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580392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lać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2276640"/>
            <a:ext cx="1511280" cy="792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bavk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08000" y="3642840"/>
            <a:ext cx="863640" cy="792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97760" y="5111640"/>
            <a:ext cx="893880" cy="1099440"/>
            <a:chOff x="797760" y="5111640"/>
            <a:chExt cx="893880" cy="1099440"/>
          </a:xfrm>
        </p:grpSpPr>
        <p:grpSp>
          <p:nvGrpSpPr>
            <p:cNvPr id="361" name=""/>
            <p:cNvGrpSpPr/>
            <p:nvPr/>
          </p:nvGrpSpPr>
          <p:grpSpPr>
            <a:xfrm>
              <a:off x="1258560" y="5111640"/>
              <a:ext cx="433080" cy="792360"/>
              <a:chOff x="1258560" y="5111640"/>
              <a:chExt cx="433080" cy="792360"/>
            </a:xfrm>
          </p:grpSpPr>
          <p:sp>
            <p:nvSpPr>
              <p:cNvPr id="362" name=""/>
              <p:cNvSpPr/>
              <p:nvPr/>
            </p:nvSpPr>
            <p:spPr>
              <a:xfrm>
                <a:off x="1476000" y="532764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260000" y="561492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6000" y="561492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58560" y="547056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04360" y="511164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797760" y="590400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Direk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908000" y="4579920"/>
            <a:ext cx="1224000" cy="431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57560" y="2419200"/>
            <a:ext cx="1175760" cy="1099440"/>
            <a:chOff x="6757560" y="2419200"/>
            <a:chExt cx="1175760" cy="1099440"/>
          </a:xfrm>
        </p:grpSpPr>
        <p:grpSp>
          <p:nvGrpSpPr>
            <p:cNvPr id="370" name=""/>
            <p:cNvGrpSpPr/>
            <p:nvPr/>
          </p:nvGrpSpPr>
          <p:grpSpPr>
            <a:xfrm>
              <a:off x="7137360" y="2419200"/>
              <a:ext cx="433080" cy="792360"/>
              <a:chOff x="7137360" y="2419200"/>
              <a:chExt cx="433080" cy="792360"/>
            </a:xfrm>
          </p:grpSpPr>
          <p:sp>
            <p:nvSpPr>
              <p:cNvPr id="371" name=""/>
              <p:cNvSpPr/>
              <p:nvPr/>
            </p:nvSpPr>
            <p:spPr>
              <a:xfrm>
                <a:off x="7354800" y="263520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138800" y="292248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54800" y="292248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37360" y="277812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83160" y="241920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757560" y="321156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Magacio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6300720" y="3500280"/>
            <a:ext cx="792360" cy="935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5659560"/>
            <a:ext cx="934920" cy="504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00720" y="5371920"/>
            <a:ext cx="1079640" cy="431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131600" y="4508640"/>
            <a:ext cx="1299240" cy="1099440"/>
            <a:chOff x="7131600" y="4508640"/>
            <a:chExt cx="1299240" cy="1099440"/>
          </a:xfrm>
        </p:grpSpPr>
        <p:grpSp>
          <p:nvGrpSpPr>
            <p:cNvPr id="381" name=""/>
            <p:cNvGrpSpPr/>
            <p:nvPr/>
          </p:nvGrpSpPr>
          <p:grpSpPr>
            <a:xfrm>
              <a:off x="7569000" y="4508640"/>
              <a:ext cx="433080" cy="792360"/>
              <a:chOff x="7569000" y="4508640"/>
              <a:chExt cx="433080" cy="792360"/>
            </a:xfrm>
          </p:grpSpPr>
          <p:sp>
            <p:nvSpPr>
              <p:cNvPr id="382" name=""/>
              <p:cNvSpPr/>
              <p:nvPr/>
            </p:nvSpPr>
            <p:spPr>
              <a:xfrm>
                <a:off x="7786440" y="472464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570440" y="501192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86440" y="501192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69000" y="486756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14800" y="450864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131600" y="53010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Fin.Oper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700360" y="4508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563640" y="2779560"/>
            <a:ext cx="863640" cy="50508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850920" y="3068640"/>
            <a:ext cx="1081080" cy="158436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995280" y="3068640"/>
            <a:ext cx="1081080" cy="316692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80000" y="2995560"/>
            <a:ext cx="504720" cy="136836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19640" y="3068640"/>
            <a:ext cx="73080" cy="287964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3560" y="544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41560" y="486900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0840" y="35719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60480" y="40766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17560" y="29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Statički opis dokumenta za procesa Naručivanja</a:t>
            </a:r>
            <a:br>
              <a:rPr sz="2800"/>
            </a:b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prikazan preko UML </a:t>
            </a:r>
            <a:r>
              <a:rPr b="0" lang="en-US" sz="2800" spc="-1" strike="noStrike">
                <a:solidFill>
                  <a:srgbClr val="660066"/>
                </a:solidFill>
                <a:latin typeface="HelveticaPlain"/>
              </a:rPr>
              <a:t>Dijagram</a:t>
            </a: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a</a:t>
            </a:r>
            <a:r>
              <a:rPr b="0" lang="en-US" sz="2800" spc="-1" strike="noStrike">
                <a:solidFill>
                  <a:srgbClr val="660066"/>
                </a:solidFill>
                <a:latin typeface="HelveticaPlain"/>
              </a:rPr>
              <a:t> klas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507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i koji se koriste na razli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tim nivoma apstrakc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8404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ivoi specifikacije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Gruba specifikacija (ko su akteri ili partneri i teksutalni opi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ložene procese (kolaboracije) mogu se dekomponovati (</a:t>
            </a: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ne u smislu klasifikacij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taljna specifikacija –(dva aspekta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namički - aspekt ponaš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43440" indent="-365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reografija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43440" indent="-365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rkest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tički – aspekt strukture poslovnih dokumen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e poslovnih procesa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ko UML-a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Gruba specifikacij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agram slučajeva korišće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etaljna specifika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namič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jagram aktivnosti, Dijagram sekvenc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tatič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jagram klasa, Dijagram objek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87160" y="176328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Sa tačke gledista analize sistema i definisanja poslovnog model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“slu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” 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se definiše kao specifikacija interkacije između sistema i jednog ili više aktera i sistema zajedno sa opisom akcija sistem u ovoj interkaciji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odel slu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eva kori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šć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je graf sa dve vrste 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ima koji predstavljaju slu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eve kori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šć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ima koje predstavljaju akter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kter je bilo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a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o stupa u interakciju sa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istemom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kter je objekat van sistema  koji predstavlja tip (vrstu) korisnika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kter m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ž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e biti korisnik (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ovek) ili neki drugi sistem.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reba praviti razliku izme|u korisnika i aktera.  Korisnik je 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ovek koji koristi sistem,  dok je akter specifi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a uloga koju korisnik ima u komunikaciji sa sistemom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15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 slučajeva korišće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2171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76360" y="1209600"/>
          <a:ext cx="60958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096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2765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2102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irektna komunikacija izm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 dva aktera i dva konkretna (oni sa kojima komuniciraju akteri) slu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ja kori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nja se ne mo`e predstaviti na modelu (grafu). Me|utim, kako }e kasnije biti prikazano, mogu}e je definisati asocijaciju izme|u klasa slu~ajeva kori{}enja i klasa aktera (apstraktni akteri i apstrakti slu~ajevi kori{}enja), da bi se jednostavnije prikazao  neki slo`eni  model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pšti model slučajeva korišćen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75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27160" y="1677960"/>
          <a:ext cx="63244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677960"/>
                    <a:ext cx="6324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35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 dijagrama slučajeva korišćen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440" y="1484280"/>
            <a:ext cx="8278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vaki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treba da bude detaljno opisan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por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uje se da se u prvoj fazi koristi struktuirani verbalni opis, jer je on neophodan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k i ako se da neki formalni opis (dijagrami kolaboracije, dijagram promene stanja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Uob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eno j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a se posebno daje opis normalnog toka dog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u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, a posebno mog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 izuzec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edan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pretstavlj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skup sekvenci doga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Jedna sekvenca dog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 se naziv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cenario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ostoji osnovni scenario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i  skup mog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h izuzetaka i alternativnih funkcionis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9056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pis slučaja korišćenja - SCENARI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8680" y="1628280"/>
            <a:ext cx="7770600" cy="4969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vera kartic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ubacuje karticu u automat. 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ta karticu i proverava da li je prihvatljiva. Ako je prihvatljiva, zahteva se od komitenta da unese “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veravanje </a:t>
            </a:r>
            <a:r>
              <a:rPr b="1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unosi 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. Ako je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a korektna zahteva se da korisnik izabere transakciju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os  tipa transakcij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bira “podizanje novca” i 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lje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ru banke 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 da bi se dobili  brojevi komitentovih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. Dobijaju se komitentovi  brojevi  ra~una i prikazuju  na ekranu automa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odizanja novca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bira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 i unosi iznos koji podi`e.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lje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ru banke zahtev za podizanje datog iznosa sa datog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. Priprema se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mpanje iz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ja  za komiten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raj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Automat v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 karticu karticu komitentu. Izdaje se iz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j komitent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ODIZANJE NOVCA: osnovni scenari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07:36Z</dcterms:modified>
  <cp:revision>263</cp:revision>
  <dc:subject/>
  <dc:title>Modelovanje poslovnih procesa</dc:title>
</cp:coreProperties>
</file>