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F52E-DF83-4FA6-BA34-B50AE3F25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0BE6-A722-4966-BFB8-796EBA81B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29A8-043C-41F2-88D6-A982DADA0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664D-26A8-40DB-8C8B-9A49B878C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41EED-FFFC-4743-8827-4CB52B4D0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61C67-F201-49F0-862F-13182E575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D8F62-6730-4BCD-8714-601351CB3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1B6EC-17E2-4A31-985F-FBEA6404C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6B7D9-A6FB-49D8-8410-936CBEE3F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C3AA6-D833-4E98-B497-0916697BB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8FA7C-7854-44B3-987E-523672FC3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0C09-AB21-4E0A-B4CA-CA8BEF58F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BCC5A-FFCE-43A6-91D8-92B94E329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DDB6A-570E-46BD-9814-FF4E5869A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68469-1E57-41D5-84BC-E0749A97F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C14A0-467A-4C92-8210-8FE676106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E071A-19B3-4EE2-A12B-133B92290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B015-9184-4B5E-9472-951EC0590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A51D-B5AA-4FC5-937E-3105BD77F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BA35-595A-40A9-A9AD-DB3CFBA63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0A69-1B9A-4CE2-89AD-C8E667665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2579-BFAB-4455-83CE-130DDCFB7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D92F-24FD-4334-80C6-66404936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36B5-B13B-4A1B-B53D-9B1123A2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8B23F-902F-419F-9D26-5F8AB9B2A85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C8F10-A6E8-45CE-8906-3AE2FC1442F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520" y="19807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Sistemi za upravljanje poslovnim procesim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0" y="34290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Sini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š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a Ne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š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kovi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ć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900000" y="2602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Fakultet organizacionih nauk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Katedra za informacione sistem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660066"/>
                </a:solidFill>
                <a:latin typeface="Tahoma"/>
              </a:rPr>
              <a:t>WfMC</a:t>
            </a: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 – Stanja instance proces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8534160" cy="33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660066"/>
                </a:solidFill>
                <a:latin typeface="Tahoma"/>
              </a:rPr>
              <a:t>WfMC</a:t>
            </a: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 – Stanja aktivnosti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8153280" cy="22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Arial"/>
                <a:ea typeface="Arial"/>
              </a:rPr>
              <a:t>Integracija </a:t>
            </a:r>
            <a:r>
              <a:rPr b="0" lang="sr-Latn-CS" sz="4400" spc="-1" strike="noStrike">
                <a:solidFill>
                  <a:srgbClr val="660066"/>
                </a:solidFill>
                <a:latin typeface="Arial"/>
              </a:rPr>
              <a:t>poslovnih proces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Olančani proces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Ugnježden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(podprocesi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Ravnopravn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(Peer-to-peer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Paraleln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4419720" y="1676520"/>
            <a:ext cx="3643200" cy="10760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4267080" y="2971800"/>
            <a:ext cx="3667320" cy="11145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4038480" y="4267080"/>
            <a:ext cx="2210040" cy="94464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3809880" y="5502240"/>
            <a:ext cx="4267440" cy="13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Problemi i izazov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Slabo struktuirani poslovni proces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Neohodna fleksibilnost za poluformalno i slabo struktuirane proces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Postojeće tehnike previše “krute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Integracija poslovnih proces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Arial"/>
                <a:ea typeface="Arial"/>
              </a:rPr>
              <a:t>Integracija </a:t>
            </a:r>
            <a:r>
              <a:rPr b="0" lang="sr-Latn-CS" sz="4400" spc="-1" strike="noStrike">
                <a:solidFill>
                  <a:srgbClr val="660066"/>
                </a:solidFill>
                <a:latin typeface="Arial"/>
              </a:rPr>
              <a:t>poslovnih proces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Oragnizacioni-ekonomski aspek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Integracija procesa različitih poslovnih partner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Podrška za “outsourcing” procesa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Tehničko-tehnološki aspek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Heterogena SW infrastruktur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Dinamičko otkrivanje i povezivanj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Metodološki aspek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Modelovanje i specifikacij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Različiti modeli – ontološki proble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Trendov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31920" y="1557360"/>
            <a:ext cx="8812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Upravljanje znanjem u organizaciji (Knowledge Management)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Standardizacija poslovanja na Web-u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www.ebXML.org, www.bpmi.org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http://www-106.ibm.com/developerworks/webservices/library/ws-bpel/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Predstavljanje znanja na web-u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Semantic Web standardi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3" marL="1472040" indent="-210240">
              <a:spcBef>
                <a:spcPts val="60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http://www.w3.org/2001/sw/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Uvod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 – </a:t>
            </a:r>
            <a:r>
              <a:rPr b="0" lang="sr-Latn-CS" sz="3200" spc="-1" strike="noStrike">
                <a:solidFill>
                  <a:srgbClr val="660066"/>
                </a:solidFill>
                <a:latin typeface="Tahoma"/>
              </a:rPr>
              <a:t>pojmovi i istorija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  <a:ea typeface="Arial"/>
              </a:rPr>
              <a:t>Automatizacija kancelarijsk</a:t>
            </a:r>
            <a:r>
              <a:rPr b="0" lang="sr-Latn-CS" sz="2800" spc="-1" strike="noStrike">
                <a:solidFill>
                  <a:srgbClr val="40458c"/>
                </a:solidFill>
                <a:latin typeface="Arial"/>
              </a:rPr>
              <a:t>og</a:t>
            </a:r>
            <a:r>
              <a:rPr b="0" lang="en-US" sz="2800" spc="-1" strike="noStrike">
                <a:solidFill>
                  <a:srgbClr val="40458c"/>
                </a:solidFill>
                <a:latin typeface="Arial"/>
                <a:ea typeface="Arial"/>
              </a:rPr>
              <a:t> poslova</a:t>
            </a:r>
            <a:r>
              <a:rPr b="0" lang="sr-Latn-CS" sz="2800" spc="-1" strike="noStrike">
                <a:solidFill>
                  <a:srgbClr val="40458c"/>
                </a:solidFill>
                <a:latin typeface="Arial"/>
              </a:rPr>
              <a:t>nj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Arial"/>
              </a:rPr>
              <a:t>Od 1975-1985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  <a:ea typeface="Arial"/>
              </a:rPr>
              <a:t>Automatizacija </a:t>
            </a:r>
            <a:r>
              <a:rPr b="0" lang="sr-Latn-CS" sz="2800" spc="-1" strike="noStrike">
                <a:solidFill>
                  <a:srgbClr val="40458c"/>
                </a:solidFill>
                <a:latin typeface="Arial"/>
              </a:rPr>
              <a:t>poslovnih procesa (PP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Arial"/>
              </a:rPr>
              <a:t>Od 1985 – 2000 Workflow sistem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Arial"/>
              </a:rPr>
              <a:t>Unutar jedne organizacij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Arial"/>
              </a:rPr>
              <a:t>Od 2000 – danas   kolaboracija na Web-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Arial"/>
              </a:rPr>
              <a:t>Između udaljenih org. jedinica i različitih poslovnih partner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Arial"/>
              </a:rPr>
              <a:t>Integracija poslovnih procesa (kroz tzv. outsourcing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Arial"/>
              </a:rPr>
              <a:t>Osnova za e-Business, e-Governement, e-Commer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Arial"/>
              </a:rPr>
              <a:t>Osnova za buduću tzv. digitalnu ekonomij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533520" y="2133720"/>
            <a:ext cx="7972200" cy="43909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Automatizacija poslovnih proces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773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- radni tok (eng. Workflow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1979640" y="5516640"/>
            <a:ext cx="5977080" cy="1081080"/>
          </a:xfrm>
          <a:prstGeom prst="rect">
            <a:avLst/>
          </a:prstGeom>
          <a:noFill/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275880" y="5516640"/>
            <a:ext cx="16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Klasični I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Nedostatci klasičnih I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676080" indent="-25992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Integracija poslovnih procesa preko baze podataka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40040" indent="-20772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Problem zajedničkog funkcionisanja (eng. interoperability) kod poslovnih procesa koji su geografski distribuirani i koriste različita tehnološka rešenj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Ne postoji automatizacija radnog toka (workflow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40040" indent="-20772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Korisnici sami moraju da “znaju” koju aplikaciju kada da pokren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Ne postoji podrška za upravljanje poslovnim procesim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40040" indent="-20772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Rukovodioci nemaju automatizovanu podršku za upravljanj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40040" indent="-20772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Rezultati i efekti rada izvršilaca su samo posredno vidljivi preko efekata aplikacija koje korist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   </a:t>
            </a: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Softverska infrastruktur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Klasifikacija sistema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lati za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kancelarijsko poslovanje (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automatizacij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radno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g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mest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a: obrada teksta, email, kalendar, ...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Sistemi za skeniranje i arhiviranje (Imaging and archiving systems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Sistemi za pretraživanje (Digital Libraries and Search engines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Korporativni DMS  (Enterprise DMS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Sistemi za grupni rad (Groupware Systems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Sistemi za rad sa geografskim kartama i mapama (GIS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Sistemi za upravljanje poslovnim procesima (Workflow Systems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Osnovne karakterisitike WfMS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Evolucija u razvoju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Document based workflow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Lotus Notes, FileNet, Documentum, 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Message based workflow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MS Exchang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Activity based workflow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Staffware, </a:t>
            </a:r>
            <a:r>
              <a:rPr b="0" lang="sr-Latn-CS" sz="2400" spc="-1" strike="noStrike">
                <a:solidFill>
                  <a:srgbClr val="40458c"/>
                </a:solidFill>
                <a:latin typeface="Verdana"/>
              </a:rPr>
              <a:t>IBM </a:t>
            </a:r>
            <a:r>
              <a:rPr b="0" lang="en-GB" sz="2400" spc="-1" strike="noStrike">
                <a:solidFill>
                  <a:srgbClr val="40458c"/>
                </a:solidFill>
                <a:latin typeface="Verdana"/>
              </a:rPr>
              <a:t>MQSeries</a:t>
            </a:r>
            <a:r>
              <a:rPr b="0" lang="sr-Latn-CS" sz="2400" spc="-1" strike="noStrike">
                <a:solidFill>
                  <a:srgbClr val="40458c"/>
                </a:solidFill>
                <a:latin typeface="Verdana"/>
              </a:rPr>
              <a:t>, Oracle Workflow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Workflow management Coalition (WfMC) standar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GB" sz="4000" spc="-1" strike="noStrike">
                <a:solidFill>
                  <a:srgbClr val="660066"/>
                </a:solidFill>
                <a:latin typeface="Tahoma"/>
              </a:rPr>
              <a:t>Activity based workflow</a:t>
            </a: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- WfMC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086600" cy="56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G</a:t>
            </a:r>
            <a:r>
              <a:rPr b="0" lang="en-GB" sz="4000" spc="-1" strike="noStrike">
                <a:solidFill>
                  <a:srgbClr val="660066"/>
                </a:solidFill>
                <a:latin typeface="Tahoma"/>
              </a:rPr>
              <a:t>enerička arhitektura – WfMC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676520" y="990720"/>
            <a:ext cx="6248160" cy="57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660066"/>
                </a:solidFill>
                <a:latin typeface="Tahoma"/>
              </a:rPr>
              <a:t>WfMC</a:t>
            </a: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 standardni interfejsi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79246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3T09:49:09Z</dcterms:created>
  <dc:creator>Sinisa Neskovic</dc:creator>
  <dc:description/>
  <dc:language>en-US</dc:language>
  <cp:lastModifiedBy>sinisa</cp:lastModifiedBy>
  <dcterms:modified xsi:type="dcterms:W3CDTF">2007-05-21T09:38:20Z</dcterms:modified>
  <cp:revision>273</cp:revision>
  <dc:subject/>
  <dc:title>Položaj i uloga DMS u IS državnih organa</dc:title>
</cp:coreProperties>
</file>