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C69-3CAE-4707-8D19-B4CA6F6A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002-E0A6-4AAD-A74B-A9BD3663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B62-9F7B-4B4A-B5F9-62907180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611-BE07-49AC-84F2-D8E685F1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B76B-ABF3-49F9-B77A-8B0F907F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192-DAD1-4FF1-875B-1E34BDC4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F37-4995-42C2-87FF-2657A9A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5ECA-3350-46E3-A431-B9246397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82C7-26F3-47A3-93CE-0507238A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2CE4-5408-49EB-8AA1-3E7CA2A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D94-CCA2-4BA6-8041-F99AE12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42C-5CBD-4D2A-9E08-DDDECE8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37AF-DC8D-4850-B453-ABB93A6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BBE9-77C9-45DB-A77C-DB9ECE9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C51-4B3E-4E33-B01B-4525601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AB7-952D-4BE1-B3CB-E2077F5A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5FF-9691-40AA-9E93-622D866A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A5A-D317-43E6-9966-05B264A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105-6787-48F5-BE23-2E5C6290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0A7-DB7F-4256-8164-E698C69B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5A1-EC0D-4586-9826-A2E84850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0B5-DEED-4F6B-ADE1-8A448D6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79A-DAD5-49DF-862B-3C3E996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EA8-A973-4969-ADA7-71F4ED1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0BC-F1DF-4D91-85A1-B4CFC3EE27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906-7C64-4A8A-8463-17714DA622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Osnove  metodologije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ini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384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50840" y="974880"/>
          <a:ext cx="6891480" cy="56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974880"/>
                    <a:ext cx="689148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448800" y="6660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ABAV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0024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93640" y="895320"/>
          <a:ext cx="780588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95320"/>
                    <a:ext cx="780588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90160" y="1778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DAJ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24000" y="1773360"/>
          <a:ext cx="47527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47527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26920" y="30492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40458c"/>
                </a:solidFill>
                <a:latin typeface="Times New Roman"/>
              </a:rPr>
              <a:t>ODNOS P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SLOVNIH PROCESA I POSLOVNIH FUNKCIJ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219640" y="1773360"/>
          <a:ext cx="3568680" cy="32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773360"/>
                    <a:ext cx="3568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Hijerarhijska dekompozicija koja služi za klasifikaciju poslovnih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lična funkcionalnoj dekompoziciji, ali sa bitnim razlik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Viši nivoi klasifikacione hijerarhije nisu “izvršni” (ne obavljaju se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slovni procesi su na dnu hijerarhi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484280"/>
          <a:ext cx="7632720" cy="50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63272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ocesi mogu biti pros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Elementarne aktivnosti – fundamentalne funkcije sist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pr. Naručivanje, Prijem robe, Plaća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ocesi mogu biti slože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buhvataju procese koji su iz drugih klasifikacionih obla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pr. “Nabavka ugovaranjem” se sastoji 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jema robe – skladišno poslovan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aćanje – finansijsko poslov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8360" y="2349360"/>
          <a:ext cx="8281800" cy="34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281800" cy="34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stupak dekompon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ako napraviti hijerarhijsku dekompozicij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trebno je imati metodološki postupak kojim se izvodi hijerarhijska dekompozi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ološki postup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rter-ov lanac vred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en-EDI standa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Životni ciklus objekta, proizvoda ili uslu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rter-ov lanac vred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Lanac vrednosti je niz aktivnosti  koje generišu neku vrednost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ter je definisao jedan generički lanac vrednosti koji se sastoji iz skupa  </a:t>
            </a: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imarnih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sekundarnih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aktivnosti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rter-ov lanac vred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marne aktivnosti 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Ulazna  logistik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nbound Logistics) uključuje veze sa dobavljačima, kao i aktivnosti prijema, skladištenja i raspoređivanja ulaza (distribucija materijala u proizvodnju, na primer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Operacije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Operations) podrazumeva transformaciju ulaza u izlaz (izlazne proizvode i uslug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Izlazna  logistik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 Outbound Logistics),  skladištenje i distribucija izlaza (gotovih proizvoda, na primer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Marketing i prodaj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Marketing and Sales), informisanje kupaca o proizvodima i servisima, pridobijanje kupaca za kupovinu i podrška kupcima pri kupovin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Servis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(Service),  aktivnosti koje garantuju da će proizvod ili usluga funkcionisati  dobro kod kupca  i posle kupovine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blem modelovanja poslovnih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Hijerarhijska dekompo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Funkcionalna dekompo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dnos poslovnih funkcija i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lasifikaciona dekompozicija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upak dekompono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vori informacija za postupak dekomponovanj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rter-ov lanac vred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kundarne aktivnosti s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Nabavk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Procurement), pribavljanje ulaza i resursa  za organizacij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Upravljanje kadrovskim resursim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Human Resource management), zapošljavanje, trening, raspoređivanje, otpuštanje, i drug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Tehnološki razvoj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Technological Development), razvoj opreme, hardvera, softvera, procedura, tehničkog znanja  za bavljenje osnovnih delatnosti organizaci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Infrastruktur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nfrastructure), aktivnosti koje podržavaju potrebe organizacije: organizovanje, pravni poslovi, finansije, planiranje, obezbeđivanje kvaliteta,  odnosi sa državnom upravom i sličn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pen EDI standa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laboracija partnera prolaze kroz sledeće standardne faz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laniranje.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artneri u kolaboraciji (kupac i prodavac)  odlučuju koje će aktivnosti obaviti  za kupovinu, odnosno prodaju dobara i usluga i slično. </a:t>
            </a: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Identifikacija.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Akctivnosti razmene podataka između partnera da bi se uspostavila jedan-prema-jedan veza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regovaranje.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 Razumevanje, međusobna saglasnost  o kolaboraciji. Aktivnosti  u kojima partneri daju  informacije o rezultatima prethodnih faza: vrste roba i usluga koje se kupuju odnosno prodaju, cenama, količinama, načinu finansiranja i sličn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Ostvarivanje (Aktualizacija).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Izvršavanje onoga što je dogovoreno u prethodnoj fazi. Realizacija dogovorenih transakcija.</a:t>
            </a: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ostaktuelizacija.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Informisanje o rezultatima obavljenih transakcija, aktivnosti garancije, isplata kreditnih rata, žalbe kupca  i sličn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Životni ciklus objek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bjekti prolaze kroz osnovni životni ciklu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ripremu rađan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Rađanj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Razvo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Nestana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bjekti mogu bi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izvodi i uslu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esursi (Kadar, Novac, Materijal, 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rateški dokumenti, odluke, planov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Životni ciklus objek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a najvišem nivou dekompozicije se svi procesi mogu podeliti n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osnovne delatnost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oizvodi i uslu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ekompozicija do pojedinih vrsta proizvoda i uslu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upravljanja resursim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Resurs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ekompozicija do pojedinih vrsta resurs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upravljanja i organizov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trateški dokumenti, odluke, planov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ekompozicija do pojedini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Životni ciklus objekta, proizvoda ili uslu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 životnog ciklusa Proizvo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laniranje proizvodnje (Priprema rađan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Nabavka (Priprema rađan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Lansiranje proizvodnje (Rađanje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oizvodnja (Razvo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odaja (Nestana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Životni ciklus objekta, proizvoda ili uslu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 životnog ciklusa resursa Kad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Raspisivanje konkursa (Priprema rađan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ijem u radni odnos (Rađanje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aćenje radnog odnosa (Razvo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estanak radnog odnosa (Nestana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Izvori informacija za postupak dekomponovanja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omenski eksper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ksperti za pojedine oblasti poslov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tandard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eđunarodni standardi za pojedine oblasti poslov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Bankarsko poslovanje, Avio prevoznici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elecom operatori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formacioni (ERP) sistemi velikih prouzvođač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P, IBM, Orac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stupak dekomponovanja- rekapitula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lasifikovanje procesa po funkcionalnim oblastima poslovanja radi savladavanja složen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risti se i termin “Mapa poslovanja” (Business Map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upci dekompono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rter-ov lanac vrednosti i Open EDI su zasnovani (izvedeni) iz životnih ciklusa objek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trebno je kombinovati sva tri pristup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vori informa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trebno je kombinovati izv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oblem modelovanja 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ako identifikovati i opisati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abrojati s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tvrditi granice proces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pecificirati (opisati) karakteristike (statika) i način odvijanja (dinamika)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snovni problem je slože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eliki broj procesa u organizacij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olog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tupak (proces!) kako se identifikuju i opisuju proce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sniva se na nekom od teorijskih pristupa i formaliza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blem savladavanja slože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Hijerarhijsk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 savladavanja složenost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pstrakcija agregacije-dekompozi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cept na jednom nivou apstrakcije se posmatra kao jedinstvena celi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a nižem nivou apstrakcije se posmatra kao složen koncept koji se sastoji od delova (komponen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zastopnom primenom se dobija hijerarhijska sastavn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e različite vrste dekompozi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pr. funkcionalna dekompozicija i objektna dekompozi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azličiti pristupi (metodologije) koriste različite vrsta dekompozici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Funkcional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a savladavanje složenosti poslovnih sistema, tj. prilikom analize i opisivanja poslovnih funkcija se koristi funkcionalna dekompozi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ruktura sistema analiza (SSA) je jedna metoda koja se zasniva na funkcionalnoj dekompozicij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23960" y="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304920"/>
          <a:ext cx="5896080" cy="62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5896080" cy="62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100560" y="2895480"/>
            <a:ext cx="26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JERARHIJS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KOMPOZIC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39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905120"/>
          <a:ext cx="7126200" cy="31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12620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711440" y="28260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IJERARHIJSKI DIJAGRA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RUKTURE FUNKCIJ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0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68160" y="1582560"/>
          <a:ext cx="809964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82560"/>
                    <a:ext cx="809964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750400" y="25416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"MALA TRGOVINA"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2880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17680" y="976320"/>
          <a:ext cx="7422840" cy="54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976320"/>
                    <a:ext cx="7422840" cy="54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795680" y="25416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VI  NIVO  DEKOMPOZICIJ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sinisa</cp:lastModifiedBy>
  <dcterms:modified xsi:type="dcterms:W3CDTF">2007-03-26T17:46:35Z</dcterms:modified>
  <cp:revision>235</cp:revision>
  <dc:subject/>
  <dc:title>Strukture podataka</dc:title>
</cp:coreProperties>
</file>