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whoosh.wav" ContentType="audio/x-wav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type.wav" ContentType="audio/x-wav"/>
  <Override PartName="/ppt/media/camera.wav" ContentType="audio/x-wav"/>
  <Override PartName="/ppt/media/image21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F51-1311-41E5-A989-5B154D7A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8A5-EAEF-49DE-BC56-1B1BF781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41A-6824-436D-B391-12D92311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43C-C5F7-4403-ADF0-ABBAC402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782D-DEB5-49D7-AA9B-9F1B798B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D241-9B1C-4EEC-B004-66D4B9EE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7258-FD87-4AFF-A2D7-CAA884AF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B5AA-9D65-4AFA-8CD0-36F61BBD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33DF-BE94-4BDB-B91E-FFA4470C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6708-DE72-4C48-86B1-B35B775F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7297-83A6-4290-B8B1-071BF1C4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890-BC86-431C-84C6-77A7BC26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488E-140B-4471-9841-8E76CF3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D960-74FC-443A-915A-93C065B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8683-D61F-41BE-A3B1-81817986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CDD8-2EC4-49A3-B2F4-3C35D454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BA27-AA18-444E-A0CA-D772B478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851-B9B6-438C-B4D3-928C77F8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229-1D8E-4A58-98B3-A0579159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AAF-8204-4EF6-82F2-71601131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7D3-9CB9-46FD-B8E7-F6C7B902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603-8CF4-471E-BC11-4E5546A3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83B-8244-451A-9F20-0C1AE85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9A5-B982-42F6-BAAD-3EA0018B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31E1-8E80-4A27-8AC8-824CE3A54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2E13-4929-4A74-B3F2-123E0AE11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pss.com/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sasas@infosky.net" TargetMode="External"/><Relationship Id="rId2" Type="http://schemas.openxmlformats.org/officeDocument/2006/relationships/hyperlink" Target="mailto:darkoni@net.yu" TargetMode="External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Linearni regresioni model u SPSS</a:t>
            </a:r>
            <a:br>
              <a:rPr sz="4800"/>
            </a:b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 softverskom paketu za Window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.dr. Nahod Vukov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.dr. Milica Del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258040" cy="2828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37339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povi promenljivih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 biti definisani na osnovu vrednosti koje se nalaze u drugoj vr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 spd="med">
    <p:comb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IV. Linearna regresija u SPSS         </a:t>
            </a:r>
            <a:br>
              <a:rPr sz="4800"/>
            </a:b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       softverskom paketu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 SPSS programu obezbedjen je postupak za analizu regresionog modela kor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neki od 5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ula formiranja regresionih jed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kcija unapred (forward sel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minacija unazad (backward elimina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kcija korak po korak (stepwise sel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ksirani ulazi (forced entr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ksirana isklj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ja (forced remova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malni zahtevi za sprovodjenje postupka analize regresionog modela u SPSS programu su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a zavisna promenljiv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numer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 izr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a ili v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 nezavisnih promenljivih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numer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 izr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i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3749760" cy="419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267080" cy="1911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53352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imer zadatka sa vo</a:t>
            </a:r>
            <a:r>
              <a:rPr b="0" lang="sr-Latn-CS" sz="4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34120" y="4648320"/>
            <a:ext cx="308592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172200" cy="3625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880" y="304920"/>
            <a:ext cx="81536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 bismo p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 postupak regresione analize potrebno je u meniju izabrati: Analyze, Regression, Linear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449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5029200"/>
            <a:ext cx="856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voren je dialogbox: Linear Re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73400" y="2243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724280"/>
            <a:ext cx="8915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ikom na Stastistics u prozoru Linear Regression otvara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i dialogbox Linear Regression: Stas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3048120"/>
            <a:ext cx="83055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gression Coefficie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eficijenti regresi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ma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ispituju se koeficijenti regresije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a njima povezane m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nfidence interv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prikazuje 95% interval poverenja za svaki nestandardizovani koeficijent regresi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variance matri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matrica varijanse -  kovarijanse nestandardizovanih koeficijenata regresij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41008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22480" y="84240"/>
            <a:ext cx="5046480" cy="2658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2971800"/>
            <a:ext cx="88394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del f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R, R  , standardna gr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, ANOVA tabela (prikazuje stepen slobode, sume kvadrata, srednje kvadrate, vrednost F i posmatranu verovatno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za 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 squared cha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dešeni kojeficijenti višestruke determin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scripti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deskriptivna statis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rt and partial correl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parcijalna korel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llinearity diagnosti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dijagnostika multikolinearnost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VIF) varijacioni inflacioni fa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4640" y="2895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791320" cy="217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3200400"/>
            <a:ext cx="8001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sidua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Rezidu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urbin-Wats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test statistika, pokazuje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govaraju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stike za standardizovane i nestandardizovane reziduale i predvidjene vred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asewise diagnosti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otkrivanje outlier-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PLAN IZLAGANJA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.  Osnovni koncepti SPSS-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. Rad sa podaci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II. Primer u Excel-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V. Linearna regresij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. Ocene nelinearne regresi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. Osvrt na izlag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I. Kor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šć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a literatu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 advTm="2000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810240" cy="436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88620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02120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fike za promenljive u jedn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 dobijamo klik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dugme Plots u Linear Regression dialogbox-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69640" y="3200040"/>
            <a:ext cx="8645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avisna promenljiva odgovaraj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predvidjena iz regresiono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a i reziduali, pojavljuju se na izvornoj list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*ZPR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ndardizovane predvidjene vre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*ZRESI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ndardizovani rezidua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*DRESI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oč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šć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i rezidua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*ADJPR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ravljene predvidjene vre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*SRESI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rezidua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*SDRESI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šć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i rezidua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06720" y="119160"/>
            <a:ext cx="4572000" cy="269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1760" y="3045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 bi s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vali reziduale, predvidjene vrednosti ili odgovaraj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merenja kao nove promenljive, kliknemo na Sa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64200" y="1600200"/>
            <a:ext cx="3886200" cy="4267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0200" y="1565280"/>
            <a:ext cx="3733920" cy="4267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48200" y="3421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120" y="3200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edicted Valu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vidjene vrednos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nstandardize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ndardizovane predvidjene vrednos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andardiz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dardizovane predvidjene vrednos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djust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ravljene predvidjene vrednos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.E. of mean predic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dardna gre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a predvidjenih vrednos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27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419720" cy="2500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920" y="3048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stances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– rastojan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ahalanobi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Mahalonobisovo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rastoj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ok’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Kukovo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astoj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everage valu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irane sn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 (upor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) vred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sidu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Rezidua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nstandardiz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ndardizovani rezidua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andardiz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dardizovani rezidua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udentiz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ziduali (studen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elet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lj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i rezidua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udentized delet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klj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i rezidua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267080" cy="30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diction Interv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interval poverenja za očekivanu i individualnu vredno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ja I gornja granica za interval predvidjanja proseka predvidivih odgovo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dividu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ja I gornja granica intervala predvidjanja za jednu opservacij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nfidence Inter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odredjujemo intervale poverenja za prose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 individualne vrednos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3809880" cy="271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505320" cy="3809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733920" cy="3886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14800" y="1905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1911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 kontrolu kriterijuma po kojima se promenljive biraju za ubacivanje ili izbacivanje iz regresionog modela, za isklju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 konstante ili za kontrolu slu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jeva kojima nedostaju vrednosti koristimo opciju Options u Linear Regression dialogbox-u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issing Valu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ostaj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oda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xclude cases listwi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o sl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jevi sa ispravnim vrednostima za sve promenljive se uklj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ju u analiz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xclude cases pairwi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jevi sa kompletnim podacima za par promenljivih koje se korel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place with me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enjuje se vrednost koja nedostaje sa aritmet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om sredinom promenlj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828800" y="101520"/>
            <a:ext cx="5334120" cy="31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push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4419720" cy="5791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2280" y="1143000"/>
            <a:ext cx="42674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utput</a:t>
            </a:r>
            <a:r>
              <a:rPr b="1" i="1" lang="sr-Latn-C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 tr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im izlaznim rezultatima podeljen je na dva okvi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i deo sadr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izgled izlaznih rezultata u obliku sadr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ni deo sadr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statist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 tabele, dijagrame i izlazni tex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I. Osnovni koncepti SPSS-a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imena informacione tehnologije u statistickoj praks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zvoj raznih softverskih paketa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SPSS, SAS, SYSTAT, STATISTIC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743200" cy="6083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62520" y="1371600"/>
            <a:ext cx="464796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se mog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st kor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š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ja scroll bars-a za pregled svih rezult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li postoji mog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st da kliknete na stavku u sadr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ju i direktno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te ot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na odgovaraj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 tabelu ili dija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42960" y="152280"/>
            <a:ext cx="8120160" cy="606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85808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44800" y="666720"/>
            <a:ext cx="5054400" cy="552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534520" cy="595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V. Ocene nelinearne regrersije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SS paket omog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a ocene nelinearnih (krivolinijskih) regresija zajedno sa graf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im prikazima za  11  razl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ih regresionih  modela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malni  zahtevi su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dna ili v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  zavisnih promanljivih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zavisna promenljiva koja moze biti  promanljiva iz  radne datoteke ili vre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3657600" cy="3571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6252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ovu vrstu analize iz menija Statistics odabiramo stavku Regression, a odatle stavku Curve Estimation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mb dir="horz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876920" y="990360"/>
            <a:ext cx="3962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mer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 promenljive u radnoj datoteci se prikazuju na izvornoj listi promenljivi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abere se jedna ili v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 nezavisnih promenljivih i zavisna promenljiva, a zatim m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 klikom na OK, da bi se sprovela default opcija za linearni model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936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ver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733560" y="380520"/>
            <a:ext cx="5105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o se odabere Time (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me) umesto promenljive iz radne datoteke za nezavisnu promenljivu, zavisna promenljiva treba da ima prirodu vremenske serije. Analiza vremenskih serija zahteva svaku strukturu datoteke u kojoj svaki sl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j (red) predstavlja skup opservacija u razl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im vremenskim trenucima, dok je vremenska pauza izmedju sl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jeva jednaka.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5680" y="1236600"/>
            <a:ext cx="4105440" cy="43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de imamo dodatne opcij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clude constant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 equation</a:t>
            </a:r>
            <a:r>
              <a:rPr b="1" i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koja ocenjuje konstantu regresione jednacine. O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cija je uklj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 po default-u, a moze i da se isklju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lot models</a:t>
            </a:r>
            <a:r>
              <a:rPr b="1" i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koja iscrtava vrednosti zavisne promenljive i svakog izabranog modela nasuprot nezavisne promenljive. Rade se odvojeni grafici za svaku zavisnu promenljivu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play ANOVA table</a:t>
            </a:r>
            <a:r>
              <a:rPr b="1" i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koja prikazuje tabelu analize varijanse za svaki izabrani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7760" y="1066680"/>
            <a:ext cx="418932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SS predstavlja jedan od najrasprostranjenijih softverskih paketa u svetu (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http://www.spss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imena u statist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j obradi podata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di pod Microsoft Windows okru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j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3099960"/>
            <a:ext cx="8305920" cy="29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 bi se snimile predvidjene vrednosti, reziduali i intervali poverenja kao nove promenljive otvaramo prozor Curve Estimation: Sav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 opciji Save Variables mogu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 je odabrati jednu ili v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 ponudjenih promenljivih. Nova imena promenljivih i opisani nazivi se pojavljuju u tabeli u izlaznom prozor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00200" y="108000"/>
            <a:ext cx="5108400" cy="29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09480" y="5410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zlazni rezultati su prikazani u tekstualnom format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858000" cy="501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cover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23888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14400" y="5334120"/>
            <a:ext cx="684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zlazni rezultati su prikazani na dijagramu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zavis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175248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ftverski paket SPSS koji smo mi obradili sadr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sve neophodne statist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e metode za analizu linearnog regresionog mode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li smo da za ve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u obezbedimo sasvim dovoljno prakt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ih obj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jenja potrebnih za razumevanje samog statist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g paketa, mogu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sti njene primene i sa kratkim upustvom kako to rad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VII. Osvrt na izlaganj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wheel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 izlaganje je posve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o problemima linearne regresije obradjenim  podr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m SPSS paketa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ezbedili smo osnovu za razumevanje analize regresionog modela i interpretirali rezultate na brz i efikasan na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kori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š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jem softverskih alata.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wheel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182880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C Statistika i Verovatno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. dr. Nahod Vukovi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ograd, 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  Ekonomtrija – Skrip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. dr. Milica Deli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137160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VIII. Kori</a:t>
            </a:r>
            <a:r>
              <a:rPr b="0" lang="sr-Latn-CS" sz="4800" spc="-1" strike="noStrike">
                <a:solidFill>
                  <a:srgbClr val="cbcbcb"/>
                </a:solidFill>
                <a:latin typeface="Times New Roman"/>
              </a:rPr>
              <a:t>šć</a:t>
            </a: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ena literatur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wheel spokes="8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75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75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75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75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75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75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0720" y="190512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as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leksandra 352/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-mail: 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sasas@infosky.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ikol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Darko 135/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-mail: 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darkoni@net.y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Izlaga</a:t>
            </a:r>
            <a:r>
              <a:rPr b="0" lang="sr-Latn-CS" sz="4800" spc="-1" strike="noStrike">
                <a:solidFill>
                  <a:srgbClr val="cbcbcb"/>
                </a:solidFill>
                <a:latin typeface="Times New Roman"/>
              </a:rPr>
              <a:t>č</a:t>
            </a: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ransition>
    <p:wheel spokes="8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75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75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75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561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6477120" cy="2819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768760" cy="78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048120" y="3124080"/>
            <a:ext cx="6095880" cy="3181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28600" y="5638680"/>
            <a:ext cx="2743200" cy="58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657600" cy="4330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daci se mogu unositi i menjati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Editor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, odnosno TextArea-i ispod toolbar-ova, kao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u Excel-u, ali se u njemu ne mogu vr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i izr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avanja ili unositi form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II. Rad sa podacim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anje file-a sa tabel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15280" cy="309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4267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p podataka za svaku promenljivu je definisan vrednostima u prvoj vrsti tab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724640" cy="430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4191120" cy="28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PSS softverski pake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7:43:39Z</dcterms:created>
  <dc:creator>Darko Nikolic</dc:creator>
  <dc:description/>
  <dc:language>en-US</dc:language>
  <cp:lastModifiedBy>Aleksandra</cp:lastModifiedBy>
  <dcterms:modified xsi:type="dcterms:W3CDTF">2004-04-15T22:01:27Z</dcterms:modified>
  <cp:revision>38</cp:revision>
  <dc:subject/>
  <dc:title>Deskriptivna statistika u softverskom paketu SPSS za Windows</dc:title>
</cp:coreProperties>
</file>