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9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6.wmf" ContentType="image/x-wmf"/>
  <Override PartName="/ppt/media/image18.wmf" ContentType="image/x-wmf"/>
  <Override PartName="/ppt/media/image1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0.png" ContentType="image/png"/>
  <Override PartName="/ppt/media/image62.png" ContentType="image/png"/>
  <Override PartName="/ppt/media/image26.wmf" ContentType="image/x-wmf"/>
  <Override PartName="/ppt/media/image1.png" ContentType="image/png"/>
  <Override PartName="/ppt/media/image31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25.wmf" ContentType="image/x-wmf"/>
  <Override PartName="/ppt/media/image21.wmf" ContentType="image/x-wmf"/>
  <Override PartName="/ppt/media/image64.png" ContentType="image/png"/>
  <Override PartName="/ppt/media/image15.wmf" ContentType="image/x-wmf"/>
  <Override PartName="/ppt/media/image58.png" ContentType="image/png"/>
  <Override PartName="/ppt/media/image28.wmf" ContentType="image/x-wmf"/>
  <Override PartName="/ppt/media/image27.wmf" ContentType="image/x-wmf"/>
  <Override PartName="/ppt/media/image23.wmf" ContentType="image/x-wmf"/>
  <Override PartName="/ppt/media/image66.png" ContentType="image/png"/>
  <Override PartName="/ppt/media/image57.png" ContentType="image/png"/>
  <Override PartName="/ppt/media/image14.wmf" ContentType="image/x-wmf"/>
  <Override PartName="/ppt/media/image29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5.png" ContentType="image/png"/>
  <Override PartName="/ppt/media/image3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41.png" ContentType="image/png"/>
  <Override PartName="/ppt/media/image2.png" ContentType="image/png"/>
  <Override PartName="/ppt/media/image32.png" ContentType="image/png"/>
  <Override PartName="/ppt/media/image53.png" ContentType="image/png"/>
  <Override PartName="/ppt/media/image10.wmf" ContentType="image/x-wmf"/>
  <Override PartName="/ppt/media/image30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0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A84-DAC9-4DEE-B466-7F034C03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28B-D9C2-4B28-AC9A-8D957C94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743-9B18-4862-9768-DC04C5EF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CBA-BFA1-40B6-9371-6BADEFD9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8586-AEE7-466D-904C-B5806D9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7CB-E4F1-4DAA-AAF3-EC6A7FA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BE21-D2A0-4D6E-B9D7-905E96F7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16D0-0452-48AC-8F9A-A158837A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FD0-2484-45A2-9A82-15644FB6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D93-EAD1-4EE1-95CB-7772E385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F494-B419-41DE-ACF2-A700504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BC4-DE54-4269-9541-8993E9E3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180-4548-4F44-A23C-40EA78A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460-88C3-4497-A9EB-D30C905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D78E-DAAA-4F0F-8354-59F4EF3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450-6AD6-46F3-B9D3-B8EE157E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FF87-B9CF-4F8C-B369-A43B7C1F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7D1-8025-40C9-8EDB-57BB180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A36-E567-4B48-AF05-D9A8562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67A-472D-47E3-BA2F-5C5DDE4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33F-4F08-4D96-89A4-02B0B838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F67-8626-47BC-B2BA-C7D9EF6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8D8-FC81-45BC-ACE0-F17A747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7C0-0ED9-448D-9E22-E3770E1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019-C6BB-4049-820D-179941E0F2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2D5-3B6B-4B50-8F55-D3756F8AA9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Upoznajte se 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a MS ACCESS</a:t>
            </a: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-om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z Access 2000 isporučuje se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icrosoft Database Engi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znat i kao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 7.0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varijanta za jednokorisnički ra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e 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klijent/serve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aplikaci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koje se mogu prebaciti na jači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 7.0 Enterprise Edition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Access koristi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Je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ašinu baze podataka pomoć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oguće praviti aplikacije za nekoliko radnih stanica i sa 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više 10mb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AF2-C906-41AE-B8BE-079EF225BA4A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reiranje upita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71640" y="299700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ry By Example (QB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 bi se kreirao upit potrebno je uraditi sledeć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ozoru baze podataka treb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itisnuti dugm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a toolba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iknuti n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dugm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eirati upit kor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jem dijalog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 okviru za dijalog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ew Query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og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e odabrati pet opcija od kojih su dve najčešće korišćen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elazak u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QB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(specijalna aplikacija u Accessu namenjena za jednostavnije kreiranje upit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imple Query Wizar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biranje tabela 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jihovih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lja koj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se kori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u konkretnom upitu u samo nekoliko kor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FB5-DD7F-456D-9251-64415E47F846}" type="slidenum">
              <a:t>101</a:t>
            </a:fld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dijaloga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Qu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5832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28B-3F04-46C5-A060-F0E968B10C2A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eiranje upita kor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jem opcije Design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rvo što se pojavljuje po izboru opcije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 je dijalog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Show Table </a:t>
            </a: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ji prikazuje sve tabele i upite u bazi podatak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Izbor određene tabele ili više njih, vrši se klikom na taster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6870600" cy="3210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 flipH="1">
            <a:off x="5292720" y="2349360"/>
            <a:ext cx="2448000" cy="1150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AEB-F1FC-4BD1-A22D-772742AF6918}" type="slidenum">
              <a:t>103</a:t>
            </a:fld>
          </a:p>
        </p:txBody>
      </p:sp>
    </p:spTree>
  </p:cSld>
  <p:transition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820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da pritisnete tater </a:t>
            </a: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naćićete se u QBE (</a:t>
            </a: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Query By Exampl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prozor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rozor se sastoji od dva del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 gornj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laze tabele koje ste u prethodnom dijalogu izabr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nji prozor sastoji se od nekoliko redova korisnih za sastavljanje up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- U ovaj red se upisuju ili dodaju imena p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able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om redu se prikazuju imena tabela iz kojih potiču pol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rt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om redu se zadaje način sortiranja podataka iz u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how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vo polje je za potvrđivanje i određuje da li će polje biti       prikazano ili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Criteria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aj red se upisuje prvi red uslova za izdvajanje zapi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- Ovo je prvi sledeći red u koji se mogu uneti dodatni uslovi za izdvajanje za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8D9-8973-4D9B-9175-4B1D89CE9C5B}" type="slidenum">
              <a:t>104</a:t>
            </a:fld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688000" cy="4160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5516640"/>
            <a:ext cx="70581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bi obeležio koje tabele su povezane Access koristi lin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ija koja spaja dve tabele je spoljna linij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25F-1A33-4EB2-9E21-43D705990244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Da bi se dodale nove tabele potrebno je pomeriti pokazivač miša u gornje okno i pritisnuti desni taster priliko čega će se otvoriti meni u kojem treba odabrati opciju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Show table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zbor tabele se v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 duplim klikom na njeno im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abela se može najjednostavnije obrisati selektovanjem tabele klikom ili na nju ili na neko njeno polje, i pritiskom tastera </a:t>
            </a:r>
            <a:r>
              <a:rPr b="1" lang="pt-PT" sz="25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60C-015A-4D3E-A03A-03841EBB11A1}" type="slidenum">
              <a:t>106</a:t>
            </a:fld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Nakon izbora tabela koje će učestvovati u upitu, neophodno je izabrati polja iz datih tabela i dodati ih u red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donjeg prozor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able Quer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a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olja se mogu izdvajati jedno po jedno, može se vršiti odabir više polja istovremeno, ili jednostavno izabrati sva polja. Za to se mogu koristiti tastatura ili miš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ethodno selektovana polja prenose se u red za izbor polja ili se biraju sa padajuće liste u redovima Field, odnosno Table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selektovanje više polja istovremeno koriste se funkcijski tasteri Ctrl i Shi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044-87AD-42D3-AA10-EB9164B8CD95}" type="slidenum">
              <a:t>107</a:t>
            </a:fld>
          </a:p>
        </p:txBody>
      </p:sp>
    </p:spTree>
  </p:cSld>
  <p:transition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im pojedinačnog dodavanja polja, u QBE okno mogu se umetnuti i sva polja tabele istovreme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nudi dve metode izbora svih polj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lačenjem svih polja kao grup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njem referentne oznake za sva polja-zvezdice (*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oliko se upit sastoji od polja dve ili više tabela postupak je isit, dodamo željena polja iz prve tabele, potom iz druge 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iji način je odab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gr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i pre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ih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dole u QBE ok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0AF-757B-4062-88C8-5BFCD5A5D23C}" type="slidenum">
              <a:t>108</a:t>
            </a:fld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Za zadavanje uslova koje slogovi moraju da ispunjavaju koristi se red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Uslovi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a polja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tekstualnog ti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daju se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up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anje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prim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vrednosti podatka koj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nalaz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u tom polj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ože se koristiti i negacija Not ispred nekog tekst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 tom sl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ć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ktovan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sv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govi koji ne sadrže tu vredno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slov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za numerička ili datumska polj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daju se 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je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pera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za upoređivanje, kao što su veće (&gt;), manje (&lt;), jednako (=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763-1418-4B2A-A33C-1A5A8A01E45B}" type="slidenum">
              <a:t>109</a:t>
            </a:fld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ces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eliki broj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ugrađ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funkci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ije za r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a objektima baze podata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tematičk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ovn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inansijsk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nkcije za rad sa datumima i vremeni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nkcije za rad sa tekstualnim nizovim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kcije se mogu koristiti u obrascima, izveštajima i/ili upitima da bi se izračunali izrazi razl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kompleksnosti.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702-EAAD-48AF-BF1A-5B576978FA56}" type="slidenum">
              <a:t>11</a:t>
            </a:fld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Način prikaza upi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640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standardni QBE prikaz up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able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prikazuje se sadržaj dinamičkog skupa u tabelarnom oblik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SQL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kazuje izgled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SQL koman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ojom je realizovan upit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ke upite moguće je kreirati jedino pomoću SQL-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54F-2110-49D7-BE99-2AD9D51B909B}" type="slidenum">
              <a:t>110</a:t>
            </a:fld>
          </a:p>
        </p:txBody>
      </p:sp>
    </p:spTree>
  </p:cSld>
  <p:transition>
    <p:fade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Tabelarni prikaz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zultata upit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Table View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95280" y="2351160"/>
            <a:ext cx="7993080" cy="28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91D-7D4A-4FB4-BACA-9B143314D399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SQL prikaz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a (SQL View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081160" y="3384720"/>
            <a:ext cx="4981680" cy="1079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136000" cy="180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50E-9A64-46EC-A085-2C4492D00392}" type="slidenum">
              <a:t>112</a:t>
            </a:fld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bele neće automatski biti povezane ukoliko to nije učinjeno na nivou baze podataka, ili ako je isključena opcija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AutoJoi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bi se povezale dve tabele potrebno je u oknu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able/Query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abrati polje prve tabele, koje treba da bude u spoju, i prevući ga na tabelu i odgovarajuće polje, koje treba da bude drugi deo spo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B75-8416-47E4-A669-D882BC2A7335}" type="slidenum">
              <a:t>113</a:t>
            </a:fld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ena vrste spoja vrši se odabirom spoljne linije i duplim pritiskom na nju, prilikom čega će se pojaviti okvir za dijalog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Join Propert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kvir za dijalog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Join Properties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podeljen je na dva del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etiri padajuće lis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ri dugmeta za opci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A9-1D70-42D2-A407-F9D6CCB4894A}" type="slidenum">
              <a:t>114</a:t>
            </a:fld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oin Proper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Only Include Rows Where the joined f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ds from both tables are equal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ljučiti iz obe tabele sa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ogo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u kojima je sadržaj spojnih polja jedna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 opcija nalaže Access-u da iz obe tabele izdvoji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pise u kojima spojna polja sadrže iste vredno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su jednakovredni ili unutrašnji spoje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nclude ALL Record For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i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me prve tabe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and only those records f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me druge tabe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where the joined fields are equa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zno je uključivanje svih zapisa iz prve tabele i samo onih zapisa iz druge tabele u kojima je sadržaj spojnih polja jednak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kao prva koristi tabela, Artikal, a kao druga tabela St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ataloga, biće prikazani svi artikli (čak i oni kojih nema u katalogu) i samo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tav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taloga k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ju odgovarajući artik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su desni spoljni spoje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12A-C484-4A0B-9784-836AC89402E2}" type="slidenum">
              <a:t>115</a:t>
            </a:fld>
          </a:p>
        </p:txBody>
      </p:sp>
    </p:spTree>
  </p:cSld>
  <p:transition>
    <p:fad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oin Prope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clude ALL records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 druge tab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d only those records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 prve tab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here the joined fields are equal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ključiti sve zapise iz druge tabele i samo one zapise iz prve tabele u kojima je sadržaj spojnih polja jednak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499"/>
              </a:spcBef>
              <a:buClr>
                <a:srgbClr val="cccc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e kao prva koristi tabela, St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ataloga, a kao druga tab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ik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biće prikazani s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vke katalog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samo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rtikl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alaze na tim stavka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75"/>
              </a:spcBef>
              <a:buClr>
                <a:srgbClr val="cccc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o s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poljni spojevi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542-BD12-4A68-A940-53C22835A0CE}" type="slidenum">
              <a:t>116</a:t>
            </a:fld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0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dijalog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Join Proper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rcRect l="872" t="0" r="0" b="1956"/>
          <a:stretch/>
        </p:blipFill>
        <p:spPr>
          <a:xfrm>
            <a:off x="755640" y="1854360"/>
            <a:ext cx="6985080" cy="39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EE5-6313-45B7-9D5B-CFBFB18A7AA8}" type="slidenum">
              <a:t>117</a:t>
            </a:fld>
          </a:p>
        </p:txBody>
      </p:sp>
    </p:spTree>
  </p:cSld>
  <p:transition>
    <p:fad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sanje uslo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omogućuje rad samo sa pojedinim delovima tabele, tj. samo sa slogovima koji ispunjavaju određene usl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lovi se postavljaju u kolonama odgovarajućih polja u red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pravljenje upita koji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zdvojiti slogove koji ispunjavaju istovremeno više uslova vezanih za različita polja, potrebno je za svako polje zadati uslov i sve te uslove staviti u jedan isti red (koji ih povezuje logičkim i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slučaju upita koji bi trebalo da vrše izdvajanja slogova koji ispunjavaju bilo koji od navedenih uslova, uslovi za svako polje se smeštaju jedan ispod drugog ili povezuju operato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6F4-2C79-40CD-AAF0-3DDB39A8B384}" type="slidenum">
              <a:t>118</a:t>
            </a:fld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Operatori, funkcije, izrazi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Za one koji ne žele da programiraju obezbeđeni su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makroi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kroi omogućuju obavljanje uobičajenih poslova bez intervencije korisn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stoji oko pedeset makro akcija koje omogućuju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rad sa podacim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avljenje menija i okvira za dijalog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tvaranje obrazaca i izvešta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utomatizaciju bilo kog posl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280-0BA0-4AC7-82CF-28B939008345}" type="slidenum">
              <a:t>12</a:t>
            </a:fld>
          </a:p>
        </p:txBody>
      </p:sp>
    </p:spTree>
  </p:cSld>
  <p:transition>
    <p:fad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Operator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14716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peratori su pored funk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izraza osnovni delovi Access-ovih operacija.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riste se u operacijama kao što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stavljanje standardnih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vred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davanje uslova prilikom unosa vrednosti u tabe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rišćenje uslova u upiti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stavljanje izračunatih polja na obrasce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davanje objekata za sumarne operacije na izveštaje.</a:t>
            </a: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1C2-5B22-4F48-8DDD-3300A75820E6}" type="slidenum">
              <a:t>120</a:t>
            </a:fld>
          </a:p>
        </p:txBody>
      </p:sp>
    </p:spTree>
  </p:cSld>
  <p:transition>
    <p:fad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Operator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147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peratori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zvršavanje računskih operaci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ređenje vrednost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ajanje znakovnih nizov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astavljanje složenih relacionih izraza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Korišćenjem operatora nalaže se Access-u da izvrši određene operacije nad jednim ili više ope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58B-EBCC-47D8-88CA-6DA20E72388B}" type="slidenum">
              <a:t>121</a:t>
            </a:fld>
          </a:p>
        </p:txBody>
      </p:sp>
    </p:spTree>
  </p:cSld>
  <p:transition>
    <p:fade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led operato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95280" y="2421000"/>
          <a:ext cx="85694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5694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D3B-7985-44D1-8730-2B31BC21610C}" type="slidenum">
              <a:t>122</a:t>
            </a:fld>
          </a:p>
        </p:txBody>
      </p:sp>
    </p:spTree>
  </p:cSld>
  <p:transition>
    <p:fad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kc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Funkcije predstavljaju već napisane kratke programe koji po definiciji uvek daju povratne vrednost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atne vrednosti funkci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se dobijaj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enom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dređen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računsk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peracija, poređenjima il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kim drugim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računavanjima koje funkcija obavl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 Access je ograđen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totine standardnih funkcija koje se koriste u tabelama, upitima, obrascima i izveštaj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4E7-05DF-46BB-82B4-D2D029301FEC}" type="slidenum">
              <a:t>123</a:t>
            </a:fld>
          </a:p>
        </p:txBody>
      </p:sp>
    </p:spTree>
  </p:cSld>
  <p:transition>
    <p:fade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snovne vrste funk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unkcije za rad sa datumima i vremen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ow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i datum i vreme: 3.4.02  12:22: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Tim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e vreme: 12:22: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at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i dat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r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3.4.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inansijske funkcije (SQL)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Avg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računava pro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um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računava ukupan zb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062-E140-4475-9CDA-7E0E601B64ED}" type="slidenum">
              <a:t>124</a:t>
            </a:fld>
          </a:p>
        </p:txBody>
      </p:sp>
    </p:spTree>
  </p:cSld>
  <p:transition>
    <p:fade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snovne vrste funk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atematičke fun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nt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je celobrojni deo ulaz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zaokružuje na prvu manju vre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Fix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je celobrojni deo negativ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qr ( )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zračunava kvadratni koren ulaz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unkcije za rad sa znakovnim nizovima-stringov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eft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zadati broj znakova sa početka 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ight ( 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zadati broj znakova od kraja 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en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dužinu (broj znakova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nakovnog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cas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retvara slova ulaznog niza u ma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765-1047-4C91-8F3D-766F11A2DAEB}" type="slidenum">
              <a:t>125</a:t>
            </a:fld>
          </a:p>
        </p:txBody>
      </p:sp>
    </p:spTree>
  </p:cSld>
  <p:transition>
    <p:fad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raz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 postavljanje određenog uslova ili izračunavanje vrednosti određenog polja koriste se izraz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raz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mogu biti jednostavni ili slože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razi m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gu da sadrže razne kombinacije operatora, imena objekata, funkcija i konstan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9AC-5688-4041-8ACD-13E08BB42AD9}" type="slidenum">
              <a:t>126</a:t>
            </a:fld>
          </a:p>
        </p:txBody>
      </p:sp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razi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zrazi se mogu sastojati iz sledeći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at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+,-,&lt;,&gt;,=,*,And,Or,Not,Lik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pokazuju koja će vrsta akcije biti izvršena nad jednim ili nad više elemenata izra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mena objek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edstavljaju postojeće objek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unkci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- mogu se koristiti ugrađene Access-ove funkcije ili samostalno kreira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iteral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- vrednosti koje se unose u izraz, mogu da budu brojevi, znakovni nizovi ili datumi. Access ih koristi u istom obliku u kom su unešeni, bez izme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nstant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C40-AE44-42DF-BC61-B8C20E4EDAC1}" type="slidenum">
              <a:t>127</a:t>
            </a:fld>
          </a:p>
        </p:txBody>
      </p:sp>
    </p:spTree>
  </p:cSld>
  <p:transition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 sa obrascima (Forms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d sa obrascim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eiranje i korišćenje obrazac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rolnih objekat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njihove oso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eiranje Kontrolne Table (SwitchBoard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810-5C7B-46C3-8491-979833C49F7E}" type="slidenum">
              <a:t>129</a:t>
            </a:fld>
          </a:p>
        </p:txBody>
      </p:sp>
    </p:spTree>
  </p:cSld>
  <p:transition>
    <p:fade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ccess može da radi samo sa jednom bazom podataka u datom trenutk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nutar jedne baze podataka mogu da postoje stotine tabela, obrazaca, upita, izveštaja, stranica, makroa, i modu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2DC-4143-4BDB-AF6A-E3A6600010A1}" type="slidenum">
              <a:t>13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d sa obrasci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loga obraza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 dvojak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ikaz podata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os isti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Obrasci se koriste za efektno prikazivanje sadržaja tabela i upi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ilikom unosa obrasci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u proveru unetih podataka, a i samom oper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u olakšavaju unos jer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 se isti obav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 najprirodniji nač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C10-24D2-44D2-8A57-EDAFC9D2EB88}" type="slidenum">
              <a:t>130</a:t>
            </a:fld>
          </a:p>
        </p:txBody>
      </p:sp>
    </p:spTree>
  </p:cSld>
  <p:transition>
    <p:fade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i korišćenje obrazac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brazac 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ikazivanje sadržaja jednog ili više zapisa, čak i svih njihovih polja istovremeno.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brasci su korisni za prikaz podataka u formatiranom obliku, kao i za unošenje, ažuriranje i brisanje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ccess-u postoji šest osnovnih vrsta obraza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razac sa poljima raspoređenim u ko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abelarni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z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abelarni pri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lavni/Podo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razac za izvedene tab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ij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69C-0AB8-4814-9555-3AEF67D3CD47}" type="slidenum">
              <a:t>131</a:t>
            </a:fld>
          </a:p>
        </p:txBody>
      </p:sp>
    </p:spTree>
  </p:cSld>
  <p:transition>
    <p:fade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rasci se kreiraju koriš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jem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jalo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jalo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 aktivira izborom opci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 listi objekata, a zatim klikom na ikonic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olbar-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jlakši način 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eiran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dnostavnih obrazaca je da 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dijalog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dne od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AutoForm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a; tako s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ože za tren oka napraviti obrazac.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FD9-E7E0-4A0E-ADA0-102700E8B0FD}" type="slidenum">
              <a:t>132</a:t>
            </a:fld>
          </a:p>
        </p:txBody>
      </p:sp>
    </p:spTree>
  </p:cSld>
  <p:transition>
    <p:fad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ešto složeniji način za pravljenje obrazaca je korišćenjem čarobnjaka za obrasce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 Wizard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 Wizard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stavlja niz pitanja u vezi sa željenim obrascem, a zatim ga sam automatski prav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o kreiran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brasci se retko koriste u finalnoj verziji, ali predstavljaju dobru polaznu osnovu za pravljenje složenijih form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 Wizar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gled (preview) svih unetih izmen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bi s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agle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utica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jenog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izbora na konačan rezult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3BD-7603-4D56-A90A-DDB7D1FA759F}" type="slidenum">
              <a:t>133</a:t>
            </a:fld>
          </a:p>
        </p:txBody>
      </p:sp>
    </p:spTree>
  </p:cSld>
  <p:transition>
    <p:fade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dijaloga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Form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04836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A43-120A-4D2D-B019-C2C5DE17F630}" type="slidenum">
              <a:t>134</a:t>
            </a:fld>
          </a:p>
        </p:txBody>
      </p:sp>
    </p:spTree>
  </p:cSld>
  <p:transition>
    <p:fad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tale opcije za kreiranje obrazaca koje se nude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NewFor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jaloga su: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kazuje se potpuno prazan obrazac od kojeg se kreće u prozoru za oblikovanje obraza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Chart Wizar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namenjen z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 pravljenje obrasca sa dijagra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ivotTable Wiz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amenjen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ormira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Excel-ove izvedene tab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600-B527-4431-AFF8-C99333810782}" type="slidenum">
              <a:t>135</a:t>
            </a:fld>
          </a:p>
        </p:txBody>
      </p:sp>
    </p:spTree>
  </p:cSld>
  <p:transition>
    <p:fad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 obrazac se primenjuju iste tehnike za manipulisanje zapisima koje se koriste u tabelarnom prikazu.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edina razlika je š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e kod obrazaca prik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dan po jedan zap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ako su za štampanje prvenstveno namenjeni izveštaji, m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e odštampati i jedan ili više zapisa koje obrazac prikazuje, tačno onako kako oni izgledaju na ekran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iji način za štampanje obrazaca je pomoću opcij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li pritiskom na dugm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paleti sa alatk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92E-8C17-4E5C-BF03-EFE0F44F6B39}" type="slidenum">
              <a:t>136</a:t>
            </a:fld>
          </a:p>
        </p:txBody>
      </p:sp>
    </p:spTree>
  </p:cSld>
  <p:transition>
    <p:fade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i objek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u svi objekti koji mogu da se postave na obrazac ili izveštaj.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 kontrolne objekte spada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p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(labele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l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k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zračunata pol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lik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afik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gmad za opci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DB1-0309-465F-A51B-9AF753694F71}" type="slidenum">
              <a:t>137</a:t>
            </a:fld>
          </a:p>
        </p:txBody>
      </p:sp>
    </p:spTree>
  </p:cSld>
  <p:transition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ne objekt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se mogu unositi vrednosti ili se pomoću njih mogu prikazivati određeni pod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dnom obrascu ili izveštaju može da bude veliki broj raznih vrsta kontrolnih objek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d njih mogu da se prave pomoću kutije sa alatkama – Toolbox-a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550-1400-4132-B74B-33183F734DFE}" type="slidenum">
              <a:t>138</a:t>
            </a:fld>
          </a:p>
        </p:txBody>
      </p:sp>
    </p:spTree>
  </p:cSld>
  <p:transition>
    <p:fad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gled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Toolbox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-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5329440" cy="244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0A2-D183-4E0E-ADF1-4B114AA419F9}" type="slidenum">
              <a:t>139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 pojmov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za podata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532-FDED-481F-8B35-1CEC7C5C0F79}" type="slidenum">
              <a:t>14</a:t>
            </a:fld>
          </a:p>
        </p:txBody>
      </p:sp>
    </p:spTree>
  </p:cSld>
  <p:transition>
    <p:fad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Oni mogu biti vezani za konkretan sadr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aj u tabeli ili delimi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 ¨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nezavisni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¨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Po tom pitanju razlikuju 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vezani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nevezani 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izračunati kontrolni objekti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E8-75EC-4E42-96D9-64739EC12A91}" type="slidenum">
              <a:t>140</a:t>
            </a:fld>
          </a:p>
        </p:txBody>
      </p:sp>
    </p:spTree>
  </p:cSld>
  <p:transition>
    <p:fad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zani 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ani su za konkretan sadržaj polja u tabela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ada se unese vrednost 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an vezan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ntrolni objekat Access automatski ažurira sadrža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ovaraj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lja tabele u tekućem zapis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9CD-02DA-4EC2-A3F7-A80ED5CFFA46}" type="slidenum">
              <a:t>141</a:t>
            </a:fld>
          </a:p>
        </p:txBody>
      </p:sp>
    </p:spTree>
  </p:cSld>
  <p:transition>
    <p:fad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vezani 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0716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vezani kontrolni objekt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državaju vrednost koja se unosi, ali ne ažuriraju polja tabele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riste se z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ikazivanje tek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sleđivanje vrednosti makroi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čuvanje OLE objekata koji nisu smešteni u tabelu nego na sam obrazac ili izveštaj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nati su kao promenljive ili memorijske promenljive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6C8-6294-483B-BEA3-9782808E3C90}" type="slidenum">
              <a:t>142</a:t>
            </a:fld>
          </a:p>
        </p:txBody>
      </p:sp>
    </p:spTree>
  </p:cSld>
  <p:transition>
    <p:fad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ra</a:t>
            </a:r>
            <a:r>
              <a:rPr b="1" lang="sl-SI" sz="39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ati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zračunati kontrolni objek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nivaju na izrazima kao što su funkcije ili proračuni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ni su i nevezani jer ne ažuriraju polja tab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ju veliku primenu u povećanju preglednosti i brzoj obradi podataka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C2C-0D9D-42BD-A8CD-97D67858551E}" type="slidenum">
              <a:t>143</a:t>
            </a:fld>
          </a:p>
        </p:txBody>
      </p:sp>
    </p:spTree>
  </p:cSld>
  <p:transition>
    <p:fad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rimer kontrolnih objeka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24000" y="1341360"/>
            <a:ext cx="7977240" cy="5211360"/>
            <a:chOff x="324000" y="1341360"/>
            <a:chExt cx="7977240" cy="521136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900000" y="2133720"/>
              <a:ext cx="6624720" cy="360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"/>
            <p:cNvGrpSpPr/>
            <p:nvPr/>
          </p:nvGrpSpPr>
          <p:grpSpPr>
            <a:xfrm>
              <a:off x="324000" y="1557360"/>
              <a:ext cx="1728720" cy="1942920"/>
              <a:chOff x="324000" y="1557360"/>
              <a:chExt cx="1728720" cy="1942920"/>
            </a:xfrm>
          </p:grpSpPr>
          <p:sp>
            <p:nvSpPr>
              <p:cNvPr id="532" name=""/>
              <p:cNvSpPr/>
              <p:nvPr/>
            </p:nvSpPr>
            <p:spPr>
              <a:xfrm>
                <a:off x="324000" y="1557360"/>
                <a:ext cx="172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abe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71640" y="1989000"/>
                <a:ext cx="21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5640" y="1989000"/>
                <a:ext cx="287280" cy="9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9640" y="1989000"/>
                <a:ext cx="503280" cy="151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716000" y="1341360"/>
              <a:ext cx="3585240" cy="1511280"/>
              <a:chOff x="4716000" y="1341360"/>
              <a:chExt cx="3585240" cy="1511280"/>
            </a:xfrm>
          </p:grpSpPr>
          <p:sp>
            <p:nvSpPr>
              <p:cNvPr id="537" name=""/>
              <p:cNvSpPr/>
              <p:nvPr/>
            </p:nvSpPr>
            <p:spPr>
              <a:xfrm>
                <a:off x="4716000" y="1341360"/>
                <a:ext cx="358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olja za unos vrednost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4932360" y="1773360"/>
                <a:ext cx="71928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219280" y="1773360"/>
                <a:ext cx="86508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788000" y="4869000"/>
              <a:ext cx="3384360" cy="1683720"/>
              <a:chOff x="4788000" y="4869000"/>
              <a:chExt cx="3384360" cy="1683720"/>
            </a:xfrm>
          </p:grpSpPr>
          <p:sp>
            <p:nvSpPr>
              <p:cNvPr id="541" name=""/>
              <p:cNvSpPr/>
              <p:nvPr/>
            </p:nvSpPr>
            <p:spPr>
              <a:xfrm>
                <a:off x="5219640" y="6093000"/>
                <a:ext cx="295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ugmad za opci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4788000" y="4869000"/>
                <a:ext cx="1079280" cy="12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6084360" y="4941720"/>
                <a:ext cx="358920" cy="115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9C5-F9E8-4A82-B729-FC3C37177542}" type="slidenum">
              <a:t>144</a:t>
            </a:fld>
          </a:p>
        </p:txBody>
      </p:sp>
    </p:spTree>
  </p:cSld>
  <p:transition>
    <p:fad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novne kontrolne objekte predstavljaju dva najčešće korišćen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a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jekta i u obrascima i u izveštaji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likom dizajniranja putem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AutoForm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AutoReport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Access skoro uvek kreira samo objekte ova dva tip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ovu grupu spadaju objekti tip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Natpis) - prikazuje zadati tekst u obliku nat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Text Box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polje za tekst) - podaci se upisuju, menjaju ili brišu u poljima za tek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6E-F34B-44A2-8A57-A1CEF87FCB95}" type="slidenum">
              <a:t>145</a:t>
            </a:fld>
          </a:p>
        </p:txBody>
      </p:sp>
    </p:spTree>
  </p:cSld>
  <p:transition>
    <p:fade/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e u kombinaciji sa drugim kontrolnim objektima treba se pridržavati sledećih prav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4360" y="3141720"/>
          <a:ext cx="7993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141720"/>
                    <a:ext cx="7993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A37-0DD3-4E8C-949B-78E825657925}" type="slidenum">
              <a:t>146</a:t>
            </a:fld>
          </a:p>
        </p:txBody>
      </p:sp>
    </p:spTree>
  </p:cSld>
  <p:transition>
    <p:fad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ženi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loženiji kontrolni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bjekti služe za unošenje podataka i obezbeđivanje ispravnosti i nalaze se u opcijama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More Controls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Toolbox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-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eki od njih s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heck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Option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ggle bu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ommand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List box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099-93E3-457B-B611-396E24AC829C}" type="slidenum">
              <a:t>147</a:t>
            </a:fld>
          </a:p>
        </p:txBody>
      </p:sp>
    </p:spTree>
  </p:cSld>
  <p:transition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rimer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h</a:t>
            </a: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kontrol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69800" y="1982880"/>
            <a:ext cx="8204400" cy="38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D09-FF67-498B-A8AB-BD501D97A2E4}" type="slidenum">
              <a:t>148</a:t>
            </a:fld>
          </a:p>
        </p:txBody>
      </p:sp>
    </p:spTree>
  </p:cSld>
  <p:transition>
    <p:fad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ggle Butt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rekidač, preklop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ključivo se koristi uz polja koja sadrže logički tip podataka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es/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o je dugme sa dva stanja, izbočeno ili pritisnuto na kome se umesto teksta obično nalaze slike ili ikone koje označavaju pojedina stanja dugme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C9F-3173-4BD6-9C92-8580F4E94727}" type="slidenum">
              <a:t>149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ele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 je skladište za sirove podat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rni prikaz je podeljen 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edove, zvane zapisi ili slogovi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lo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vane polja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 preseku zapisa (u redovima) i polja (u kolonama) nalazi se vrednost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tvarni podata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727-D716-4CEA-A1FA-320A97EB36C5}" type="slidenum">
              <a:t>15</a:t>
            </a:fld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on Butt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ugme opcij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znato i kao radio dug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 oblik kružića unutar kojeg se mo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ž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laziti tač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oliko se unutar kružića nalazi tačka to znači da je opcija uključena ili da važ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FBE-A997-43AB-926A-905E2B5BEE24}" type="slidenum">
              <a:t>150</a:t>
            </a:fld>
          </a:p>
        </p:txBody>
      </p:sp>
    </p:spTree>
  </p:cSld>
  <p:transition>
    <p:fad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olje za potvrđiv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 dva stanja: uključeno i isključe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da se unutar kvadra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alazi znak potvrde, to znači da je opcija uključena, a ako je kvadrat  prazan opcija je isključe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Combo box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(padajuća list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mogućuje izbor jedne od ponuđenih vrednosti, ali dozvoljavaju i unos novi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nos je moguće izvršiti na dva načina: procesom selektovanja ili direktnim unošenjem podat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ve liste zauzimaju manje prostora na obrascu, a otvaraju se samo u toku procesa unošenja podat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DA9-69C7-49D7-AF6F-30FD640AF2A1}" type="slidenum">
              <a:t>151</a:t>
            </a:fld>
          </a:p>
        </p:txBody>
      </p:sp>
    </p:spTree>
  </p:cSld>
  <p:transition>
    <p:fad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Option grou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Koriste se za biranje samo jedne od moguć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adrže nekoliko preklopnika, dugmadi opcija ili polja za potvrđivanje koja deluju u sprez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svakom trenutku samo jedno od dugmadi može da bude pritisnuto, osim kada grupu čine polja za potvrđivanj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eporučljivo je da grupa sadrži najviše četiri do pet članova, a za veći broj koriste se padajuće li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135-358F-445C-A5C5-0F14015A83F2}" type="slidenum">
              <a:t>152</a:t>
            </a:fld>
          </a:p>
        </p:txBody>
      </p:sp>
    </p:spTree>
  </p:cSld>
  <p:transition>
    <p:fad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List box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(list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kazuje listu unapred zadatih vrednosti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je moguće unošenje novih vrednosti.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kazuje podatke na ekranu na sličan načina kao padajući meni (combo box), s tom razlikom što je lista uvek otvore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dređena stavka liste može da se selektuje kada se na nju postavi pokazivač miša i pritisne En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Kada se izabere jedna od stavki njena vrednost se prosleđuje polju za koje je lista veza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F5A-EED4-4B56-A43A-C1C8A15A2E38}" type="slidenum">
              <a:t>153</a:t>
            </a:fld>
          </a:p>
        </p:txBody>
      </p:sp>
    </p:spTree>
  </p:cSld>
  <p:transition>
    <p:fad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Command Butto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komandno dug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tiskom na ovo dugme poziva se makro ili pokreće izvršavan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kog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a radi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zimanja određene ak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ubform/Subrepor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podobrazac/podizvešta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kazuje drugi obrazac ili izveštaj unutar glavnog obrasca ili izveš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ab Control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grupa kartica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že da prikaže više kartica okvira za dijalog čime se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većanje preglednosti i uš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stora na ekr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659-4A7E-44CB-A6FA-E0AC8F0B088D}" type="slidenum">
              <a:t>154</a:t>
            </a:fld>
          </a:p>
        </p:txBody>
      </p:sp>
    </p:spTree>
  </p:cSld>
  <p:transition>
    <p:fade/>
  </p:transition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imeri slo</a:t>
            </a:r>
            <a:r>
              <a:rPr b="1" lang="pt-PT" sz="3200" spc="-1" strike="noStrike">
                <a:solidFill>
                  <a:srgbClr val="330066"/>
                </a:solidFill>
                <a:latin typeface="Arial"/>
              </a:rPr>
              <a:t>ženih kontrolnih objekat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68360" y="1628640"/>
            <a:ext cx="8209080" cy="1373400"/>
            <a:chOff x="468360" y="1628640"/>
            <a:chExt cx="8209080" cy="13734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590544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7093080" y="213372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st Bo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443640" y="234936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68360" y="3141720"/>
            <a:ext cx="8531280" cy="3208320"/>
            <a:chOff x="468360" y="3141720"/>
            <a:chExt cx="8531280" cy="3208320"/>
          </a:xfrm>
        </p:grpSpPr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468360" y="3789360"/>
              <a:ext cx="5904000" cy="256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3" name=""/>
            <p:cNvGrpSpPr/>
            <p:nvPr/>
          </p:nvGrpSpPr>
          <p:grpSpPr>
            <a:xfrm>
              <a:off x="4642920" y="3284640"/>
              <a:ext cx="4356720" cy="865080"/>
              <a:chOff x="4642920" y="3284640"/>
              <a:chExt cx="4356720" cy="865080"/>
            </a:xfrm>
          </p:grpSpPr>
          <p:sp>
            <p:nvSpPr>
              <p:cNvPr id="574" name=""/>
              <p:cNvSpPr/>
              <p:nvPr/>
            </p:nvSpPr>
            <p:spPr>
              <a:xfrm>
                <a:off x="6372360" y="3284640"/>
                <a:ext cx="262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Command Butt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5796000" y="3645000"/>
                <a:ext cx="100800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642920" y="3573360"/>
                <a:ext cx="172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68360" y="3141720"/>
              <a:ext cx="1942920" cy="647640"/>
              <a:chOff x="468360" y="3141720"/>
              <a:chExt cx="1942920" cy="647640"/>
            </a:xfrm>
          </p:grpSpPr>
          <p:sp>
            <p:nvSpPr>
              <p:cNvPr id="578" name=""/>
              <p:cNvSpPr/>
              <p:nvPr/>
            </p:nvSpPr>
            <p:spPr>
              <a:xfrm>
                <a:off x="468360" y="3141720"/>
                <a:ext cx="194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ombo Bo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03280" y="3500280"/>
                <a:ext cx="36036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703-BF81-4C91-81D3-1C75ED9E41C9}" type="slidenum">
              <a:t>155</a:t>
            </a:fld>
          </a:p>
        </p:txBody>
      </p:sp>
    </p:spTree>
  </p:cSld>
  <p:transition>
    <p:fad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datni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ebnu grupu kontrolnih obekata č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afički kontrolni objekt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jekti za rad sa slik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za rad s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vučnim zapisim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za rad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LE objektima.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3FF-6B22-4D08-9A3F-5CF286C92DF9}" type="slidenum">
              <a:t>156</a:t>
            </a:fld>
          </a:p>
        </p:txBody>
      </p:sp>
    </p:spTree>
  </p:cSld>
  <p:transition>
    <p:fade/>
  </p:transition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datni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 kontrolni objekt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ovu grupu kontrolnih objekat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spadaj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mag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sl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ikazuje bit mapiranu sliku pri čemu troši veoma malo resurs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nbound object fram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okvir za nevezani ob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drži OLE objekat ili ugrađenu sliku koja nije vezana za polje tab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že da sadrži dijagram, sliku, zvučni ili video zap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ound object fram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okvir za vezani ob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drži OLE objekat ili ugrađenu sliku koja je vezana za polje tab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linija zadate debljine i b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češć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risti za razdvajanje grupe objeka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avougaon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jegov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oja i veličina može da se zada, može da bude popunjen ili praz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isti se za isticanje pojedinih delova obrazaca ili izveštaj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ge break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elom st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ično se koristi u izveštajima za bezuslovan prelazak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edn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stranu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D3F-3F8C-44B7-9D4E-8DBDBA6EAAE2}" type="slidenum">
              <a:t>157</a:t>
            </a:fld>
          </a:p>
        </p:txBody>
      </p:sp>
    </p:spTree>
  </p:cSld>
  <p:transition>
    <p:fad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toje dva nači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kreiranje kontrolni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bj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itiskom na dugme u kutiji sa alatk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olbox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dodavanjem novog nevezanog kontrolnog objekta na ek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evlačenjem polja iz prozora sa listom polja da bi se dodao vezani kontrolni objekat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ozor sa listom polja prikazuje polja tabele ili upita na osnovu ko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a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braza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sta polja se prikazuj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ko nije automatski uklju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čen) i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o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pcije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Field List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 okviru glavnog menija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Vie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CE6-11F5-4BF6-B254-8AEB72D0258A}" type="slidenum">
              <a:t>158</a:t>
            </a:fld>
          </a:p>
        </p:txBody>
      </p:sp>
    </p:spTree>
  </p:cSld>
  <p:transition>
    <p:fad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vljanjem kontrolnog objekta u prozor za oblikovanje obrasca 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 da se radi sa nji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da se izabere kontrolni objeka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njegovim uglovima i u sredini stranica pojavlju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tiri ili osam 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ca za pomer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lika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3816360" cy="18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727-028D-4A22-AF1B-673482FF4968}" type="slidenum">
              <a:t>159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za podatak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a podataka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 je računarski izraz z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lekcij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podataka koji se odnose na određen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/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li pripadaju određenoj aplikacij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e podataka pomažu da se podaci organizuju u logičke celine radi jednostav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jeg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pristupa 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os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e celine su tab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E0-5A8B-497F-8B7E-27AEEA10BFE5}" type="slidenum">
              <a:t>16</a:t>
            </a:fld>
          </a:p>
        </p:txBody>
      </p:sp>
    </p:spTree>
  </p:cSld>
  <p:transition>
    <p:fade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 u gornjem levom uglu koja je oblika kvadra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 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je 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d ostalh,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 pomeranje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 ostale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za po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je ve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 kontrolnih objekata 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a se menja pov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m jedne od manjih 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mog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 po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je ili smanjenje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ine i vis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likom modelovanja obrasca ili iz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a aktivirana je alatk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Objec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lica ili pokazi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ja se koristi za biranje kontrolnog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ovremeni izbor v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kontrolnih objekata v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e ko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m tastera Shift prilikom njihovog selekt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177-CE9D-43C1-BAF8-9D8DE7DD6D50}" type="slidenum">
              <a:t>160</a:t>
            </a:fld>
          </a:p>
        </p:txBody>
      </p:sp>
    </p:spTree>
  </p:cSld>
  <p:transition>
    <p:fad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avnavanje grupe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cija men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luži za poravnjav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nekoliko kontrolnih objekat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ravnava leve ivice grupe izabranih objekata sa levom ivico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jv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u levo pozicioniranog objekta iz grup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n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opci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vr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se poravnjavan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pomoću opcija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 to sa desnom, gornjom i donjom ivicom objekata, respektiv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poravnava gornje leve uglove grupe izabranih objekata sa najbližom tačkom mrež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203640" y="5084640"/>
            <a:ext cx="237168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35A-70D9-437A-A6C8-A5C0F9BA9A2B}" type="slidenum">
              <a:t>161</a:t>
            </a:fld>
          </a:p>
        </p:txBody>
      </p:sp>
    </p:spTree>
  </p:cSld>
  <p:transition>
    <p:fade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avnavanje grupe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 bi se izv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o poravanavanje grupe objekata potrebno je prvo selektovati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jenu grup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ktovanje se v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tako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 sve vreme dok se biraju objekti (klikom na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jeni objekat) d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pritisnut tast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98E-215E-49C9-A8D4-76A187BAC14A}" type="slidenum">
              <a:t>162</a:t>
            </a:fld>
          </a:p>
        </p:txBody>
      </p:sp>
    </p:spTree>
  </p:cSld>
  <p:transition>
    <p:fade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zbor opcije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ormat-Siz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nudi nekoliko mogućnosti za podešavanje veličine objek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to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 osnov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rednosti podata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reže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l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rugih objeka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Grupisanjem kontrolnih objekata može da se bira i formatira više njih istovreme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formiranje grupe bira se jedan po jedan pritiskom miša i držanjem pri tom tastera Shif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ošto se izaberu željeni objekti u meniju se bira opcij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Format-Group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CB2-E704-4466-ACDD-E592FDA6F484}" type="slidenum">
              <a:t>163</a:t>
            </a:fld>
          </a:p>
        </p:txBody>
      </p:sp>
    </p:spTree>
  </p:cSld>
  <p:transition>
    <p:fade/>
  </p:transition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619280" y="2168640"/>
            <a:ext cx="576108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EE3-2C96-4F9F-BBCB-DD2EE6F003EB}" type="slidenum">
              <a:t>164</a:t>
            </a:fld>
          </a:p>
        </p:txBody>
      </p:sp>
    </p:spTree>
  </p:cSld>
  <p:transition>
    <p:fade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e za pode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anje vel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 objek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Fi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 širinu objekta prema njihovom sad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 tako da se vidi ceo sad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Grid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menja dimenzije izabranih objekata tako da se njihovi uglovi poklope sa najbližim tačkama mrež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Tall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zabranih objekata tako da svi imaju istu visinu  i to jednaku visini najvišeg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Short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zabranih objekata tako da svi imaju istu visinu jednaku visini najnižeg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Wid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širinu izabranih objekata tako da svi imaju istu širinu kao i najširi među nj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Narrow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širinu izabranih objekata tako da svi imaju istu širinu kao i najuži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E97-ED8C-45B6-BDD6-A4166EC075FF}" type="slidenum">
              <a:t>165</a:t>
            </a:fld>
          </a:p>
        </p:txBody>
      </p:sp>
    </p:spTree>
  </p:cSld>
  <p:transition>
    <p:fade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747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Svojstva (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) su obeležja kontrolnih objekata, polja ili baze podataka koja imaju imena i čije vrednosti određuju karakteristike i ponašanje kontrolnog objekta, polja ili objekta baze podatak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vojstvo može da odredi vizuelne karakteristike objekta, njegovo funkcionalno ponašanje kao i informacije vezane za sadržaj koji će se u njemu nalazit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ena i vrednosti svojstava se prikazuju na listu koji se zove i prozor svojstav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 se sagledavati sve osobine istovremeno (kartica All), ili određena grupa što je praktičn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eva kolona sadrži imena svojstava, a u desnu se upisuju vrednosti svojst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39D-A03D-4339-923C-85878A9C3A2F}" type="slidenum">
              <a:t>166</a:t>
            </a:fld>
          </a:p>
        </p:txBody>
      </p:sp>
    </p:spTree>
  </p:cSld>
  <p:transition>
    <p:fade/>
  </p:transition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vojstva</a:t>
            </a:r>
            <a:r>
              <a:rPr b="1" lang="sr-Latn-C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ktiviranje prozora sa svojstvima izvršava se klikom na desni taster miša nad kontrolnim objektom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a se svojstv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 definisati i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izborom opcije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40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974-CF3D-4079-B695-517155D167A9}" type="slidenum">
              <a:t>167</a:t>
            </a:fld>
          </a:p>
        </p:txBody>
      </p:sp>
    </p:spTree>
  </p:cSld>
  <p:transition>
    <p:fade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vojstva iz grupe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utiču na izgled objek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u spadaju: font, veličina, boja, specijalni efekti, ivice 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Ova stvojstva određuju način na koji će biti prikazan sadržaj objekta kao i za koje će polje tabele/upita objekat biti veza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U grupi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Event 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u svojstva koja su u vezi sa određenim događajima, kao što s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pritisak na taster miš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davanje novog zapi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pritisak na taster na koji bi trebalo definisati odz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 svojstva utiču na ostale karakteristike objekta (ime ili tekst opisa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BE2-86BC-44F3-ABBB-72E569C8B6FD}" type="slidenum">
              <a:t>168</a:t>
            </a:fld>
          </a:p>
        </p:txBody>
      </p:sp>
    </p:spTree>
  </p:cSld>
  <p:transition>
    <p:fade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pisak svojstava za obrasce je dug ali su najčešće korišćene opcij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aption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izmenu teksta u naslovnoj liniji pri radu sa obrascem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Default View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određivanje načina prikaza kada se aktivira obrazac; ova opcija obuhvata dve podopcij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Single Form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(jedan zapis po stra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ontinuous Form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(onoliko zapisa po strani koliko može da stan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Edit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zvoljava ili sprečava izmenu podatak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Delition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Addition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zvoljava ili sprečava brisanje postojećih i dodavanje novih slogov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Record Selector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efiniše prikazivanja vertikalne palete birača zapis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6E5-9826-419A-B4C4-FD0CB344EACF}" type="slidenum">
              <a:t>169</a:t>
            </a:fld>
          </a:p>
        </p:txBody>
      </p:sp>
    </p:spTree>
  </p:cSld>
  <p:transition>
    <p:fade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za podatak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a podataka sadrži jednu ili više tabe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ćin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za podatak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 Access-u s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više međusobno povezanih tabel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efikasn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vanja i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ikaza pod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ad sa više tabela pojednostavljuje unošenje podataka i pravljenje izveštaja tako što umanjuje broj suvišnih podatak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BD1-854F-453B-BBBC-C785B0FE3526}" type="slidenum">
              <a:t>17</a:t>
            </a:fld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ajčešće korišćena svojstava za obrasce (nastava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Border Styl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finiše stil okvira obrasca i nudi opcije da obrazac b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bez okvir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Thin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tanak okvir koji ne omogućuje menjanje veličine prozo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izabl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tandardna vrednost) 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ijalog tipa (debeo okvir za dijalog sa naslovnom linijom koja se ne menj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opcija sadrži ime datoteke sa rasterskom slikom koja služi kao pozadina obrasc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icture Typ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adrži dve podop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Embeded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lika se ugrađuje u obrazac kao deo baze podata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lika se povezuje sa obrascem i pamti se lokacija gde se nalaz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Record Sours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oja definiše izbor podataka koji se prikazuje u obrascu (tabela ili up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17F-170B-4520-A6B4-B15128AE4387}" type="slidenum">
              <a:t>170</a:t>
            </a:fld>
          </a:p>
        </p:txBody>
      </p:sp>
    </p:spTree>
  </p:cSld>
  <p:transition>
    <p:fade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aglavlje obras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obrazac se može ugraditi više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rsta zaglav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Header)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 podnož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ooter):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Form Head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glavlj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rasca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e pojavljuje na vrhu svake strane prikaza i štampanog obrasc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age Head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zaglavlje strane) se javlja samo na štampanom obrascu-posle zaglavl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age Foot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podnožje strane) se javlja samo na štampanom obrascu-ispred podnož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Form Foot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podnožje obrasca) se pojavljuje u dnu svake strane prikaza i štampanog obras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D52-0F31-4A73-9ACD-7B3D4D7FB0DB}" type="slidenum">
              <a:t>171</a:t>
            </a:fld>
          </a:p>
        </p:txBody>
      </p:sp>
    </p:spTree>
  </p:cSld>
  <p:transition>
    <p:fade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aglavlje obras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 bi se napravilo zaglavlje i u njega uneo odgovarajući tekst potrebno 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voriti odgovarajući obraza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abrati opcij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m Header/Foo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 prikaz zaglavlja i podnožja obrasc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zabrati natpis koji se prebacuje u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orm Header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li u njega uneti novi tek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podesiti veličinu zaglavlja i podnož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F14-0730-48FA-A10D-6A70E3EE8D0B}" type="slidenum">
              <a:t>172</a:t>
            </a:fld>
          </a:p>
        </p:txBody>
      </p:sp>
    </p:spTree>
  </p:cSld>
  <p:transition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ontrolna Tabla (Switchboard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23640" y="171936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Kada pravite aplikaciju u Access-u koju će koristiti neki drugi korisnik, potrebno je napraviti forme, ali i obezbediti mehanizam za jednostavno kretanje kroz for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Access obezbedjuje jedan takav mehanizam u formi Kontrolne table (</a:t>
            </a:r>
            <a:r>
              <a:rPr b="1" lang="sv-SE" sz="30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likacija se pokreće prikazivanjem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-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može da se kreće kroz ostale forme, 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mogući korisniku lakši rad sa aplikacij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34B-5806-49F2-958E-74EAB02FFEF6}" type="slidenum">
              <a:t>173</a:t>
            </a:fld>
          </a:p>
        </p:txBody>
      </p:sp>
    </p:spTree>
  </p:cSld>
  <p:transition>
    <p:fade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lakši način da se kreir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 korišćenjem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witchboard Wiz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-a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ožete uraditi na sledeći nač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zaberit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ols | Database Utilities | 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oliko niste kreiral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za aplikaciju, pojaviće se poruk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, koji traži da ga kreirate.Izaberit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kazaće vam 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jalog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imetićete da je Access automatski kreira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 Switchbo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031-AC11-4940-84A0-AEBC9FC82F0F}" type="slidenum">
              <a:t>174</a:t>
            </a:fld>
          </a:p>
        </p:txBody>
      </p:sp>
    </p:spTree>
  </p:cSld>
  <p:transition>
    <p:fade/>
  </p:transition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itchboard Manager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76908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97C-218B-4512-A1FE-87ED0F8E2A36}" type="slidenum">
              <a:t>175</a:t>
            </a:fld>
          </a:p>
        </p:txBody>
      </p:sp>
    </p:spTree>
  </p:cSld>
  <p:transition>
    <p:fade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dajte dodatn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e, tako što će te pritisnuti n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ojaviće s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j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971640" y="3502080"/>
            <a:ext cx="6913440" cy="20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E58-9423-4068-A746-6B0ACA2AF84C}" type="slidenum">
              <a:t>176</a:t>
            </a:fld>
          </a:p>
        </p:txBody>
      </p:sp>
    </p:spTree>
  </p:cSld>
  <p:transition>
    <p:fade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 bi ste dodali forme koje ste kreirali, izabe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ome pripada data forma i pritisn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83236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F0F-1BDF-4F70-B756-DFB65C55C20B}" type="slidenum">
              <a:t>177</a:t>
            </a:fld>
          </a:p>
        </p:txBody>
      </p:sp>
    </p:spTree>
  </p:cSld>
  <p:transition>
    <p:fade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ešavanje autostart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boa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ite n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Tools | Star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esite naziv aplikacije u pol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zaberite formu koju želite da prikaž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Potvrdite sa O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F80-95C9-44B0-90AE-DB1D8BB380F8}" type="slidenum">
              <a:t>178</a:t>
            </a:fld>
          </a:p>
        </p:txBody>
      </p:sp>
    </p:spTree>
  </p:cSld>
  <p:transition>
    <p:fade/>
  </p:transition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jalog Startu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95280" y="1596960"/>
            <a:ext cx="8353440" cy="45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479-09EE-4DB1-91A4-BF8404A12C62}" type="slidenum">
              <a:t>179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Prozor baze podataka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u Access-u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272360" cy="52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3F1-3A65-4B9C-AB08-BD63BA8F6394}" type="slidenum">
              <a:t>18</a:t>
            </a:fld>
          </a:p>
        </p:txBody>
      </p:sp>
    </p:spTree>
  </p:cSld>
  <p:transition>
    <p:fade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vljenje izveštaj</a:t>
            </a: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a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9280" y="3049560"/>
            <a:ext cx="669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eštaj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ljenje izveštaja pomoću čarobnj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slednji korak u projektovanju b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data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uz pomoć Access-a, je pravljenje izvešta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lič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brasima, koriste se za prikaz podatak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l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za razliku od obraza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izveštaji se 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kazuj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 monitoru već na papir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kle izveštaji su specijalizovani oblik prikaziv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data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iz upita i tabela prilagođen štamp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jima se mogu prikazati sumarni podac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zultati statist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 obrade podataka ili predstaviti podaci u graf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m obliku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553-BA7F-4F74-9E4D-B01F740EE231}" type="slidenum">
              <a:t>181</a:t>
            </a:fld>
          </a:p>
        </p:txBody>
      </p:sp>
    </p:spTree>
  </p:cSld>
  <p:transition>
    <p:fade/>
  </p:transition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avremenom poslovnom svetu koriste se sle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vrste izv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arni izveštaj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odaci se štampaju u redovima i kolonama, grupisani su i izračunavaju se ukupni zbirovi, kao varijante mogu se dobiti među zbirov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Stubični izveštaji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- liče na obrasce i mogu da izračunavaju ukupne zbirove, sadrže dijagra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Izveštaji za štampanje cirkularnih pisam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Izveštaji za štampanje nalepnica sa adresama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ova vrsta izveštaja omogućuje štampanje poštanskih adresa u više stupaca ili izveštaja sa hijerarhijskim prikazom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A54-A4FC-4174-BCEC-A5A72463EF05}" type="slidenum">
              <a:t>182</a:t>
            </a:fld>
          </a:p>
        </p:txBody>
      </p:sp>
    </p:spTree>
  </p:cSld>
  <p:transition>
    <p:fade/>
  </p:transition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 izvešta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755640" y="1401840"/>
            <a:ext cx="763272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550-05AF-4214-8094-89A2EE2153DF}" type="slidenum">
              <a:t>183</a:t>
            </a:fld>
          </a:p>
        </p:txBody>
      </p:sp>
    </p:spTree>
  </p:cSld>
  <p:transition>
    <p:fade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češće u izveštajima nisu dovoljni samo jednostavni tabelarni prikazi, već i grupisanja, sortiranja, izdvajan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laniranje izveštaja počine mnogo pre nego što se napravi izveštaj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65C-E9D8-451E-8478-4FCBD5CD63DE}" type="slidenum">
              <a:t>184</a:t>
            </a:fld>
          </a:p>
        </p:txBody>
      </p:sp>
    </p:spTree>
  </p:cSld>
  <p:transition>
    <p:fade/>
  </p:transition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 dobro dizajnirane i osmišljene izveštaje potrebno je pratiti sledeća pravil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efinisanje izgleda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pravi se skica izveštaja na papiru na koji se okvirno raspoređuje prostor gde će biti smešteni podaci, zaglavlja i totali. Već u ovom koraku je neophodno odrediti načine na koje će se vršiti eventualna grupisanja i sortir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Pridruživanje podatak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– raspoređivanje konkretnih podataka (polja iz tabele ili upita) koji će se nalaziti u izveštaju. Kao izvor podataka obično se koriste sadržaji tabela ili specijalno napravljeni upi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43B-1CA4-437E-A2DE-1A053EA70FB9}" type="slidenum">
              <a:t>185</a:t>
            </a:fld>
          </a:p>
        </p:txBody>
      </p:sp>
    </p:spTree>
  </p:cSld>
  <p:transition>
    <p:fade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vila z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 dobro dizajnirane i osmišljene izveštaj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astavak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astavljanje izveštaja u Access prozoru za oblikovanje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nakon sastavljan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cept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zveštaja potrebno je to i tehničk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eira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korišćenjem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port Write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gledanj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štampanje sadržaja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na kraju se preporučuje probno štampanje, radi provere i lakšeg uočavanja eventualnih greš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Posebna pažnja mora se voditi o dimenizijama papira, jer se često dešavaju problemi sa marginama, neophodna je provera opcije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age Setup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da bi se otklonile eventualne greš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6B3-116C-4377-B0A9-AC89CD460D22}" type="slidenum">
              <a:t>186</a:t>
            </a:fld>
          </a:p>
        </p:txBody>
      </p:sp>
    </p:spTree>
  </p:cSld>
  <p:transition>
    <p:fade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 Accessu je moguće napraviti sva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pomenuti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zvešta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Čarobnja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izveštaje pojednostavljuju postupak razmeštanja polja tako što najpre vizuelno postavljaju niz pitanja o željenom izveštaju, a onda ga automatski prave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veštaji se prave klikom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onic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zatim 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cij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Nakon toga starovaće se prozor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koji vam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a n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az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h načina pravite izveštaje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0B8-E255-4701-BC44-63279194502C}" type="slidenum">
              <a:t>187</a:t>
            </a:fld>
          </a:p>
        </p:txBody>
      </p:sp>
    </p:spTree>
  </p:cSld>
  <p:transition>
    <p:fade/>
  </p:transition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 dijaloga New Repor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54364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835-270C-47F7-B50C-902667EA0168}" type="slidenum">
              <a:t>188</a:t>
            </a:fld>
          </a:p>
        </p:txBody>
      </p:sp>
    </p:spTree>
  </p:cSld>
  <p:transition>
    <p:fade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izvešta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New Re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prikazuje prazan prostor za oblikovanje izveštaja kao polaznu osnov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port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kreće čarobnjaka za izradu izveštaja koji pravi izveštaj  postavljajući brojna pitan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Auto Report: Columna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automatski sastavlja stubični izveštaj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Auto Report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a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automatski sastavl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ar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zveštaj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Chart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pokreće čarobnjaka koji pomaže u pravljenju poslovnog dijagra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 dijagrami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abel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koji pokreće čarobnjaka koji pomaže u pripremi poštanske nalepn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966-8B3B-44E9-A744-FF0F709EE2D1}" type="slidenum">
              <a:t>189</a:t>
            </a:fld>
          </a:p>
        </p:txBody>
      </p:sp>
    </p:spTree>
  </p:cSld>
  <p:transition>
    <p:fade/>
  </p:transition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Prozor baze podataka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 Access-u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levoj strani prozora nalazi se meni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ni  sadrži sedam dugmadi pomoću kojih može da se izabere neki od sedam vrsta objekat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Tabele, Stranice, Upiti, Makroi, Obrasci, Moduli, Izvešta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desnoj strani prikazu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pisak imena objekata koji je izabran na levoj stra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d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se napravi novi objekat, njegovo ime 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suje 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listu proz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baze podatak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 gornjem delu prozora se nalazi paleta sa alatk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1C3-9238-46D8-9471-8400EAB247D3}" type="slidenum">
              <a:t>19</a:t>
            </a:fld>
          </a:p>
        </p:txBody>
      </p:sp>
    </p:spTree>
  </p:cSld>
  <p:transition>
    <p:fade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robnjak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Report Wizard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vaki izveštaj koji pravimo zasniva se na podacima iz tabele ili upita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zbor tabele ili upita čija će se polja nalaziti na izveštaju vrši se u podnožju početnog dijaloga za pravljenje izveštaja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w Repor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akon izbor tabele/upita na sledećem ekranu je potrebno izabrati polja koja će učestvovati u stvaranju izveštaju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voljno je selektovati polje, pritisnuti strelicu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i automatski to polje će se naći u susednom przozo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lje možete i izbaciti pritiskom na strelicu u suprotnom sme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&lt;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kom 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lazimo na sledeći proz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AFB-3321-4260-9A29-10744E839809}" type="slidenum">
              <a:t>190</a:t>
            </a:fld>
          </a:p>
        </p:txBody>
      </p:sp>
    </p:spTree>
  </p:cSld>
  <p:transition>
    <p:fade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Izgled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vog ekrana 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dijaloga </a:t>
            </a:r>
            <a:br>
              <a:rPr sz="3200"/>
            </a:b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Report Wizard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476360" y="1515960"/>
            <a:ext cx="619128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9BF-29CE-444E-88CE-CE3053E94EE3}" type="slidenum">
              <a:t>191</a:t>
            </a:fld>
          </a:p>
        </p:txBody>
      </p:sp>
    </p:spTree>
  </p:cSld>
  <p:transition>
    <p:fade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sledećem ekranu dijaloga zadaju se instrukcije po kom polju ili poljima se grupišu podac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Wizard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omogućuje da se na izveštaju definišu od nula do četiri polja za grupis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dosled polja za grupisanje mo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 da se menja pomoću dugmadi za prioritet (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),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odeljeni prioritet određuje nivoe u hijerarhiji gru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091-181D-409E-8D20-6A2A01C8C956}" type="slidenum">
              <a:t>192</a:t>
            </a:fld>
          </a:p>
        </p:txBody>
      </p:sp>
    </p:spTree>
  </p:cSld>
  <p:transition>
    <p:fade/>
  </p:transition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Group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904000" cy="4465800"/>
          </a:xfrm>
          <a:prstGeom prst="rect">
            <a:avLst/>
          </a:prstGeom>
          <a:ln w="0">
            <a:noFill/>
          </a:ln>
        </p:spPr>
      </p:pic>
      <p:grpSp>
        <p:nvGrpSpPr>
          <p:cNvPr id="661" name=""/>
          <p:cNvGrpSpPr/>
          <p:nvPr/>
        </p:nvGrpSpPr>
        <p:grpSpPr>
          <a:xfrm>
            <a:off x="3995640" y="2421000"/>
            <a:ext cx="4392720" cy="1838880"/>
            <a:chOff x="3995640" y="2421000"/>
            <a:chExt cx="4392720" cy="1838880"/>
          </a:xfrm>
        </p:grpSpPr>
        <p:sp>
          <p:nvSpPr>
            <p:cNvPr id="662" name=""/>
            <p:cNvSpPr/>
            <p:nvPr/>
          </p:nvSpPr>
          <p:spPr>
            <a:xfrm>
              <a:off x="6948360" y="3068640"/>
              <a:ext cx="14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upisanje zadato poljem BrRac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995640" y="2421000"/>
              <a:ext cx="29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47D-B8EF-405B-9D74-155707294307}" type="slidenum">
              <a:t>193</a:t>
            </a:fld>
          </a:p>
        </p:txBody>
      </p:sp>
    </p:spTree>
  </p:cSld>
  <p:transition>
    <p:fade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g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rouping Op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aloga sa prethodne sli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a se detaljnije izvrši grupis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 zavisnosti od tipa polja izabranog za grupisanje, lista nudi različite načine grupisanja npr. znakovni, numerički, datums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itiskom na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dobijate naredni ekran dijaloga u okviru koga se zadaje 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rtiranja polja u izv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ju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4B6-7801-4A65-9FA7-386203BFAB92}" type="slidenum">
              <a:t>194</a:t>
            </a:fld>
          </a:p>
        </p:txBody>
      </p:sp>
    </p:spTree>
  </p:cSld>
  <p:transition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o je bar jedno od polja izabranih za prikaz u izve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u numeri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, u okviru ekrana za sortiranje pojavljuje se dug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mmary Option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likom na ovo dugme prelazi se na dijalog u kome se mo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zahtevat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iranj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računavanje prosečne vrednosti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redjivanje najmanje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 najveće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zapisa u grup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o se izabere opcij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tail and Summar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veštaj će prikazivati sve podatke dok opcij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mmary Onl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 izveštaju prikazuje samo sumarne podatk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koliko se potvrdi polj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lculate percent of total for su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zpod zbira grupe na izveštaju pojaviće se procenat koji predstavlja učešće zbira grupe u ukupnom zbiru izveštaj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D0E-5110-4D86-A0DE-A481CA39FFF0}" type="slidenum">
              <a:t>195</a:t>
            </a:fld>
          </a:p>
        </p:txBody>
      </p:sp>
    </p:spTree>
  </p:cSld>
  <p:transition>
    <p:fade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Summary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t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545080" cy="48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D36-F555-4724-BD68-02FF1BB6C303}" type="slidenum">
              <a:t>196</a:t>
            </a:fld>
          </a:p>
        </p:txBody>
      </p:sp>
    </p:spTree>
  </p:cSld>
  <p:transition>
    <p:fade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va dijaloga u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a izgled izv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ja.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vi od njih omogućava da se zada razmeštaj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a opcij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di šest mogućih načina koji opisuju Access-u da li treba 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navlja zaglavlje stubaca ili n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vuče u desno niže nivoe grupisanj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 doda linije ili okvire između redova podataka u odeljku za detalj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što se izabere određena opcija slika na levoj strani se menja da bi se videlo delovanje opc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B58-11B5-4CAE-AC42-10C39ECB2C6F}" type="slidenum">
              <a:t>197</a:t>
            </a:fld>
          </a:p>
        </p:txBody>
      </p:sp>
    </p:spTree>
  </p:cSld>
  <p:transition>
    <p:fade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Layout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33564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E62-2DB5-4432-A6C2-D178C973C06A}" type="slidenum">
              <a:t>198</a:t>
            </a:fld>
          </a:p>
        </p:txBody>
      </p:sp>
    </p:spTree>
  </p:cSld>
  <p:transition>
    <p:fade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Pritiskom na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 dobijate drugi dijalog kojim se zadaje izgled izveštaja, konkretno bira se stil izvešta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i stil nudi drugačije pozadinsko senčenje, veličinu fonta i druge karakteristike formatiran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se izabere opcija slika sa leve strane pokazuje njeno delovanj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DC8-45B6-4280-A05E-0E03AD121D36}" type="slidenum">
              <a:t>199</a:t>
            </a:fld>
          </a:p>
        </p:txBody>
      </p:sp>
    </p:spTree>
  </p:cSld>
  <p:transition>
    <p:fade/>
  </p:transition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O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v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rezentacij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upozna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će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vas s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m karakteristikama Access-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adnim okr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e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m elementima ACCESS-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a se sve može uradit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ccess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549-DBE5-4E03-A4B4-D7A032E5590B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Rad sa tabela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jektovanje tab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ljenje nove baz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cije nad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be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Sty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258920" y="1362240"/>
            <a:ext cx="6408720" cy="48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06D-A459-4AEF-9948-10F8C9826916}" type="slidenum">
              <a:t>200</a:t>
            </a:fld>
          </a:p>
        </p:txBody>
      </p:sp>
    </p:spTree>
  </p:cSld>
  <p:transition>
    <p:fade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uži za prelazak na poslednji ekran dijaloga čarobnjak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port Wizar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taje samo da ukucate naslov izveštaj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 se prikazuje u izveštaju samo jednom, a ne na početku svake stra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robnjak sam nudi ime tabele, ali ponuđeni naslov može da se prom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tim se bira jedna od opcija u donjem delu okvira za dijalog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ew the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elazak u reži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P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 koga se može pregledati izveštaj i štamp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he report's desig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lazak u reži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kome uz pomo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Wr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može da se menja struktura izvešt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ži da bi čarobnjak završio svoj posao i prikazao izveštaj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584-7575-4C0F-B484-CEE11C6C3465}" type="slidenum">
              <a:t>201</a:t>
            </a:fld>
          </a:p>
        </p:txBody>
      </p:sp>
    </p:spTree>
  </p:cSld>
  <p:transition>
    <p:fade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mpanje izv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da se zav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proces kreiranj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din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preostaje jes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mpanje istog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s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se izvr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i na sled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n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meni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Print u prozoru za pregledanje iz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prozoru baze podata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 prethodno istakne ime iz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uktur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 m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da se snimi na disk u svakom trenutku izborom opcij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da se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 snima na disk po prvi pu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vlja se okvir za dijalog u kome se zadaje ime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kvir za dijalog sam nudi ime ko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arobnjak podrazumeva z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a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a to je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926-F5C6-45EF-8B76-F5DB8F88257B}" type="slidenum">
              <a:t>202</a:t>
            </a:fld>
          </a:p>
        </p:txBody>
      </p:sp>
    </p:spTree>
  </p:cSld>
  <p:transition>
    <p:fade/>
  </p:transition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Upoznajte se 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a MS ACCESS</a:t>
            </a: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-om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4" dur="indefinite" restart="never" nodeType="tmRoot">
          <p:childTnLst>
            <p:seq>
              <p:cTn id="2165" dur="indefinite" nodeType="mainSeq">
                <p:childTnLst>
                  <p:par>
                    <p:cTn id="2166" fill="hold">
                      <p:stCondLst>
                        <p:cond delay="0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Rad sa tabel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vom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učićete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Kako se projektuje tab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se p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ra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b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data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novne operacije nad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tabe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F69-FAD4-46E5-A1E5-6562BFF3DDA9}" type="slidenum">
              <a:t>21</a:t>
            </a:fld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jpre je potrebn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sa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ji podaci će se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va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 ba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on toga, p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trebno j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is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i podatke u logičke celine, iz kojih će nastati tab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 kraju, potrebno je definisati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(relac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 ko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povezivanje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 koje dele 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odn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atke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557-64D9-4DBF-94CF-CE61F10EC39D}" type="slidenum">
              <a:t>22</a:t>
            </a:fld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vako polje u tabeli mora da ima 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ako polje treba da bude određenog ti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Tip polja se mora biti u skladu sa podacima koji će se čuvati u tom polju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248-5A82-49DD-90A4-C69645332D39}" type="slidenum">
              <a:t>23</a:t>
            </a:fld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ipovi podataka u Access-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/TimeDa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/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5AA-DA4E-4804-B069-DEB5EFEB9B10}" type="slidenum">
              <a:t>24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vljenje baze podatak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 startovanju MS Access-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ni ekra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kazu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l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 opcije za rad u Access-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 bi se napravila napravila nova baza neophod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 menij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zabrati opciju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New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kliknuti na opcij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lank data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desnoj strani p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og ekrana Access-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787-5CD6-4000-9A9C-B80393C6BFF9}" type="slidenum">
              <a:t>25</a:t>
            </a:fld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zgled po</a:t>
            </a:r>
            <a:r>
              <a:rPr b="1" lang="sl-SI" sz="36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tnog ekrana Access-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996840"/>
            <a:ext cx="7559640" cy="559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C16-4978-4338-80FD-A5E4289DB07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Nakon pravljenja nove baze ili otvaranja već postojeće, sledeći korak je formiranje tab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trebno je u okvir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ija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 Object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zab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stav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2FD-CE3A-4E34-BE41-AFE8BED40D99}" type="slidenum">
              <a:t>27</a:t>
            </a:fld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bela se može kreirati na tri načina: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išćenjem opci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rišćenjem čarobnjaka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ar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iranje tabele unosom podataka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29B-6A50-4A9D-822A-7E0D2B4AC566}" type="slidenum">
              <a:t>28</a:t>
            </a:fld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 pravljenje nove tabele iza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opcij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ja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luži za definisan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trukture tab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va op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stoji se od dv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namenjen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nosu imena i tipova podataka pojedinačnih polja i (opciono) teksta koji dodatno opisuje polje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svojstva pol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namenjen definisanju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svojstava (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) za svako pojedinačno pol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76A-EF91-427D-A217-78B7EAFB7C1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je sistem za upravljanje bazama podataka (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base management system DBM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isti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enstven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s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ladištenje i prika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i za automatizaciju poslova koji se često pon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likuje 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ok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roduktivnost programa za upravljanje bazom podatak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BMS)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lako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korišćen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ojstven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plikacijam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18B-4C0E-4712-BA9D-89F48999B77F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sign View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34544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EAE-F2BB-4411-8AB3-EB516ECFEC1A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vo polje se dodaje upisivanjem imena i tipa podataka polja u prazan r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View-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željeno polje možete izbrisati pritiskom na birač reda, a zatim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 ili iz menija 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Edit / Delete Row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redosl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m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avi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remeštan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unutar strukture tab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j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beležavanjem polja i odvlačenjem polja na novo mesto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rag &amp; Drop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0B8-C73B-493B-BC9A-A8EB544273E9}" type="slidenum">
              <a:t>31</a:t>
            </a:fld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o polje mora biti određenog ti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p određuj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up operacija koje se mogu izvršavati nad poljem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up vrednosti koje polje može da uz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EA4-2BA5-4949-808C-161FFAA66F0C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on dodavanja svih polja u tabelu i podešavanja njihovih svojstva naredni korak je zadavanje primarnog ključ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a tabela mora imati primaran ključ, odnosno, jedno ili više polja koja jedinstveno identifikuju svaki zapis tab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korisnik ne defin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primarni ključ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ga sam sam postavl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383-59D2-46FD-8857-AD4BC81E2E68}" type="slidenum">
              <a:t>33</a:t>
            </a:fld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upak kreiranja primarnog ključa podrazumeva sledeć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eleži se polje koje će služiti kao primarni ključ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tisne se desni taster miša i izabere opcija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A6C-073F-4CAE-812A-1A13857D2C88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ze u modeliranju podatak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MOV - Elektronska prodavnic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ođenje PMOV u relacioni model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povi vez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postavljanje veza između tabel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7C9-2D89-442C-A717-6DC02A690E6B}" type="slidenum">
              <a:t>35</a:t>
            </a:fld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vom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učićete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Šta su vez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ji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ipovi ve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oj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Kako uspostaviti veze među tabel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825-BC78-45E0-BDAA-DC00D89376B7}" type="slidenum">
              <a:t>36</a:t>
            </a:fld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snovni uslov za uspostavljanje veze između dve tabele je da pol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ko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kojih se uspostavlja veza sadrž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dat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i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g tip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a se uspostavlja tako što se povezuju ključna pol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abele, odnosno primarni ključ jedne tabele i spoljni ključ druge tabele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6CB-F377-47D2-8FF1-0D596D39C1B9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Veze u </a:t>
            </a: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odeliranj</a:t>
            </a: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u</a:t>
            </a: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 podatak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V - 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lektronska prodav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Nar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džbenica</a:t>
            </a:r>
            <a:br>
              <a:rPr sz="2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16120" y="2139840"/>
          <a:ext cx="57117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139840"/>
                    <a:ext cx="57117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4B0-0469-4761-9113-D365B0602E43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puno upravljanje relacionom bazom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ma je moguće pridružiti pravila koja proveravaju ispravnost i validnost podataka 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 s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čava unos neispravn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ako polje tabele može imati svoj format i podrazumevanu vrednost što znatno povećava produktivn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A53-A933-40FA-9186-DF740B5139CC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Naručivanj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46200" y="1719360"/>
          <a:ext cx="60501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719360"/>
                    <a:ext cx="60501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3B8-BFF5-494F-BCAB-32205847BC08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Podmodel za tok Prij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2332080"/>
          <a:ext cx="647856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332080"/>
                    <a:ext cx="647856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787-2C60-435A-B002-6EBD07334F60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Faktura i Upl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06720" y="2136600"/>
          <a:ext cx="493056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136600"/>
                    <a:ext cx="493056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0F-E9BC-439C-982B-04E29DE2573D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INTEGRISANI MODEL NABAVK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54160" y="1994040"/>
          <a:ext cx="6835680" cy="38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994040"/>
                    <a:ext cx="683568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1C8-142D-4786-9001-19EF6D5065FE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224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odmodel za funkciju Obrada Porudžbin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06440" y="2001960"/>
          <a:ext cx="652932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2001960"/>
                    <a:ext cx="65293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897-7883-400C-82D9-0D6910822704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Podmodel za funkciju Otprema</a:t>
            </a:r>
            <a:r>
              <a:rPr b="1" lang="sr-Latn-C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785960"/>
          <a:ext cx="7920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85960"/>
                    <a:ext cx="7920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588-0838-4022-BD74-080BECF709A0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odmodel za funkciju Naplat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42920" y="1749600"/>
          <a:ext cx="763272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49600"/>
                    <a:ext cx="76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7E5-23D5-4E69-8743-A9A42B3D24EA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INTEGRISANI MODEL PRODAJ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58920" y="1665360"/>
          <a:ext cx="66261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65360"/>
                    <a:ext cx="6626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7F4-A972-461F-B4B3-9CBAA261B5A7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6926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revođenje PMOV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 relacioni mode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Osnovni koncepti relacionog model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marni ključ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relacije je atribut (prost ključ) ili skup atributa relacije (složeni ključ) koji jedinstveno indentifikuje n-torku u relaciji (jednu vrstu u tabeli)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arni ključ u prikazu relacije se podvlač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poljni ključ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je atribut (ili skup atributa) u relaciji R1 koji u njoj nije primarni ključ, već je primarni ključ relacije R2. Preko spoljinih ključeva se uspostavlja veza između rel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6A2-DA31-4A1B-9CC7-FC8F78CD91DC}" type="slidenum">
              <a:t>49</a:t>
            </a:fld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mogućen je uvo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import)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 izvoz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port)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dataka iz mnogih aplikacij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dBas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xPr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Btriev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ekstualni ASCII forma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dataka u HTML forma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49F-D902-491C-A90E-5A1D1B316139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Osnovni koncepti relacionog model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vaki entitet iz PMOV-a postaje relacija.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tributi entiteta postaju atributi relaci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marni ključ dobijene relacije 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jake entitete, atribut identifik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slabe entitete, atribut identifikator nadređenog entiteta i atribut ili skup atributa koji jedinstveno određuje slab enti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podtip, indentifikator nadti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agregaciju, skup identifikatora koje prema agregaciji imaju preslikavanje sa gornjom granicom kardinalnosti M, ili identifikator jedne od komponenti koji prima agregaciji ima preslikavanje sa gornjom granicom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CFF-F47C-48AF-A975-DD1480342659}" type="slidenum">
              <a:t>50</a:t>
            </a:fld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Pravila za prevođenje PMOV u relacioni mode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entit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binarne v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unarne v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46A-EF7C-4BC1-8CF4-7161C70A259E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1. Pravila za objekte (entitet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avilo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vaki objekat iz MOV postaje enti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e tipa entiteta postaje ime šeme rel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ributi objekta su atributi entit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avilo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vaki “slab objekat” takođe postaje šema relacije. Ime tipa objekta postaje ime šeme rel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kator nadređenog objekta postaje jedno od obeležja šeme relacije koja odgovara “slabom” ob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kator slabog objekta čini identifikator nadređenog objekta i obeležja “slabog”objekta koja jedinstveno identifikuje pojavljivanje “slabog” obje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655-503D-4FC1-990C-9AE382C4B4FE}" type="slidenum">
              <a:t>52</a:t>
            </a:fld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598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Pravilo 1.2 – Prime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476360" y="1050840"/>
          <a:ext cx="59040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050840"/>
                    <a:ext cx="5904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lovniPartn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rudzbenic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BrojNa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atumNar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vkaNarudzben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BrojNar, Rb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Artikl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VrstaArtikla, NazivArtikla, Opis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67B-B2FA-4ACD-BA22-3B1E749C0EB4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1. Pravila za objekte (entitet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Pravilo 1.3 (Nadt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Objekat nadtip (generalizovani tip objekta) postaj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ema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me nadtipa postaje ime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beležja nadtipa su obležja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tor nadtipa postaje ključ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avilo 1.4 (Podt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bjekat podtip posstaje šema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me podtipa posttaje ime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tor nadtipa postaje ključ (identifikatora) podti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67A-1B47-4C8B-984D-A0EDD3492D9C}" type="slidenum">
              <a:t>54</a:t>
            </a:fld>
          </a:p>
        </p:txBody>
      </p:sp>
    </p:spTree>
  </p:cSld>
  <p:transition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Pravila 1.3, 1.4 – Prim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32000" y="1114560"/>
          <a:ext cx="590400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14560"/>
                    <a:ext cx="59040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5075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ovniPartn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pac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ol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avljac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ntaktOsoba,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23640" y="5516640"/>
            <a:ext cx="5749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551664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3C7-7F2D-4338-B8C1-39939B23E3EB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2. Pravila za binarne ve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1,1) : (1,1), (0,1) : (1,1), (0,1) :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600" spc="-1" strike="noStrike">
                <a:solidFill>
                  <a:srgbClr val="cc3300"/>
                </a:solidFill>
                <a:latin typeface="Arial"/>
              </a:rPr>
              <a:t>(1,1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l-SI" sz="2600" spc="-1" strike="noStrike">
                <a:solidFill>
                  <a:srgbClr val="cc3300"/>
                </a:solidFill>
                <a:latin typeface="Arial"/>
              </a:rPr>
              <a:t> (1,1) : (1,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0,1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 (0,1) : (1,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0,М) : (0.М), (1,М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 (1,М) : (1,М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6F5-B93D-4EC6-BFDA-5F2CA7F95EC0}" type="slidenum">
              <a:t>56</a:t>
            </a:fld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1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ba objekta koja u njoj učestvuju prevodimo u jednu šemu relacije, čija su obeležja sva obeležja jednog i drugog objek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Kandidati za ključ u ovoj šemi relacije su identifikatori oba objekta koja su u vez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2A6-8EF6-4BF6-BBBF-239FB8CB8FAC}" type="slidenum">
              <a:t>57</a:t>
            </a:fld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1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vaki objekat u vezi prevodimo u posebnu šemu rel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entifikator objekta koj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DG = 0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ub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 se 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bu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ruge šeme rel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Veza se predstavlja spoljnim ključem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921-0437-4873-A396-D311898F94FD}" type="slidenum">
              <a:t>58</a:t>
            </a:fld>
          </a:p>
        </p:txBody>
      </p:sp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1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11280" y="2492280"/>
          <a:ext cx="792144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92280"/>
                    <a:ext cx="79214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422064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3300"/>
                </a:solidFill>
                <a:latin typeface="Arial"/>
              </a:rPr>
              <a:t>Otpremn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rojOtp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DatumOt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3300"/>
                </a:solidFill>
                <a:latin typeface="Arial"/>
              </a:rPr>
              <a:t>Prijemn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rojPrijemnic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DatumPrijem, BrOt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73F-645E-4BF1-BC5D-87ECCEFEE799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kacije razvijene u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2000 mo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a rad na Interne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bo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govara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pcije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 prebacivanje tabela, upita, izveštaja i prika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 tabelarnom obliku u HTML for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oć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ata Acess Pa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stranice za pristup podacima) mogu se pr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loženi ob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njeni postavljanj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oji su povezani sa podacima u konkretnoj mrež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011-74A9-41B1-B48D-EEB04BE4C75E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e sa kardinalnošću (0,1) – (0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Kreiraju se tri šeme rela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 jedna za svaki objekat i jedna za vez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beležja u šemi relacije koja odgovara vezi su identifikatori objekata koji su u vezi i oba su kandidati za ključ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5D-A278-49F4-8F4C-CF2C6CE740FC}" type="slidenum">
              <a:t>60</a:t>
            </a:fld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0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2133720"/>
          <a:ext cx="835344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353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24000" y="4005360"/>
          <a:ext cx="8640720" cy="15112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idat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mePrezime, Str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s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ifraRadni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R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idat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mePrezime, Str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s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ifraKandida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R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538-6E58-4BE0-8C75-794F7DAB501F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68360" y="3789360"/>
          <a:ext cx="828036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89360"/>
                    <a:ext cx="828036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76360" y="5516640"/>
            <a:ext cx="61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M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fraMes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4E5-E5A2-47FF-BEF1-4A9391A68EB9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95280" y="3573360"/>
          <a:ext cx="8496360" cy="14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73360"/>
                    <a:ext cx="849636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63640" y="544500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nji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Knji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da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dina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fraKnji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B02-D4F9-4B84-B5AF-13C0AAB4E73B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0,1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taje posebna šema rela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i su u vezi, a ključ šeme relacije je identifikator objekta za koji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24000" y="3645000"/>
          <a:ext cx="866772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645000"/>
                    <a:ext cx="8667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42920" y="53737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Udzbeni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Predme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zbe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dzbe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C76-F868-4D82-A810-A8D8A289DD79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Veza sa kardinalnošću (0,1)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(1,M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e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š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ela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u u vezi, a ključ šeme relacije je identifikator objekta za koji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3645000"/>
          <a:ext cx="8523360" cy="12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852336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5373720"/>
            <a:ext cx="45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Predme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Nastav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6D6-0F48-4CF3-97D9-7C2E292C1C4A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Veza sa kardinalnošću 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) – 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(0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ebne š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ela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u u vezi, a ključ šeme relacije je složeni ključ koji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astoji od identifikatora objekata koji su u ve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79280" y="3645000"/>
          <a:ext cx="8820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45000"/>
                    <a:ext cx="8820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30064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Rad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, Stru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aIstor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, SifraOR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5D0-983A-4B78-BA2C-DC31EED4396F}" type="slidenum">
              <a:t>66</a:t>
            </a:fld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Agregira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regirani objekat (mešoviti tip objekat-veza, gerund) se posmatra na isti način kao i odgovarajuća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oliko veza poseduje obelež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a postaju obležja šeme relacije veze kada se veza prevodi u posebnu šemu relacije ili se uključuje u onu šemu relacije u koju se upisuje spoljni ključ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4079880"/>
          <a:ext cx="72990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79880"/>
                    <a:ext cx="7299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445000"/>
            <a:ext cx="60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Ugovo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Org, SifraUgovo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go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govo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F76-8A6A-4A5C-BD62-31FC7E421D61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3. Unarne ve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evođenje unarih veza (unarom nazivamo vezi između dva objekata istog tipa) u relacioni model podataka zavisi od kardinalnosti tipa veze i izvodi se kao i za druge tipove ranije opisanih binarnih vez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apomenimo da kod unarne veze tipa (1:1) parcijalnost samo na jednoj strani veze, odnosno totalnost samo na jednoj strani veze, ne bi imala smis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aime, time bi se istom tipu objekta istovremeno dopuštalo i poricanje opciono učestvovanje u vez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496-E4E0-48F6-93EA-116F7DEAA53C}" type="slidenum">
              <a:t>68</a:t>
            </a:fld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1) – (0,1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 prev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ju unarnih veza s obzirom da bi spoljnii klj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č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i relacije imao isto ime kao i primarni klj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č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jegovo preimenovanj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87280" y="3213000"/>
          <a:ext cx="68407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13000"/>
                    <a:ext cx="68407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5445000"/>
            <a:ext cx="575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so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ra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JMBGBracniDru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342-E0FD-40A4-B29F-90857139EAD5}" type="slidenum">
              <a:t>69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3454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3A1-4017-4B6E-B16A-08B7A4950704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1) – (0,M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edan radnik može da rukovodi sa više radnika i može imati jednog nadređenog rukovodi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vaki radnik ne mora imati nadređenog rukovodioca i svaki radnik ne mora biti rukovodilac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116000" y="3573360"/>
          <a:ext cx="676908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573360"/>
                    <a:ext cx="676908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573408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RadnikaRukovod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CD2-47EA-4ABF-B19E-2800847A088A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M) – (0,M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edan artikal može da se sastoji iz više sastavnih de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aki artikal ne mora imati sastavni 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87280" y="2924280"/>
          <a:ext cx="65534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5534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515772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sta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, SifraArtiklaUSastav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38B-915D-4E34-BF35-3E71CFCB129A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Tipovi veza u Access-u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Veza tipa 1: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eza tipa 1: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eza tipa n: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DAB-D3D2-448A-922D-3584D6673F18}" type="slidenum">
              <a:t>73</a:t>
            </a:fld>
          </a:p>
        </p:txBody>
      </p:sp>
    </p:spTree>
  </p:cSld>
  <p:transition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0066"/>
                </a:solidFill>
                <a:latin typeface="Arial"/>
              </a:rPr>
              <a:t>Veza tipa 1:1</a:t>
            </a:r>
            <a:r>
              <a:rPr b="1" lang="sv-SE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1471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ko se koristi u sistemima za upravljanje bazama podatak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imere veza tip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alazimo u većini aplikacija za fak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is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68360" y="2492280"/>
          <a:ext cx="80643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064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403280" y="4149720"/>
            <a:ext cx="648180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C99-B457-4B2B-AFDB-EB282E8CF547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Veza tipa 1: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7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mogućuje povezivanje jednog zapisa iz jedne tabele sa više zapisa u drugoj tabe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imer ve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og tipa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 svaki dokument koji ima v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e stavk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3141720"/>
          <a:ext cx="47530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141720"/>
                    <a:ext cx="47530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E01-7246-4B0B-A40A-0ADA9EFFE97C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Veza tipa 1: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5280" y="2165400"/>
            <a:ext cx="792180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EB2-D480-4BB3-88F2-D487D40CA1A3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Veza tipa n: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za tipa ¨više prema više¨ se može zamisliti kao par dvosmernih veza tipa 1:n između dve tab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481800" cy="81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7991280" cy="20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D7E-E5AB-427B-BDC7-DAF3A4BF483F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stojanje veze između tabela se definiše u posebnom prozo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nog okruzenja -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 Builder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n se aktivira odabirom stavke menija T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Relationships ili pritiskom dugmeta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na paleti sa alatka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javljuje se glavni prozor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koji je na početku praz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bele se dodaju pritiskom na desni taster miša koji prouzrokuje otvaranje pop-up menija i odabiro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cij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how Table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u meniju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419640" y="4508640"/>
            <a:ext cx="2808000" cy="1716120"/>
            <a:chOff x="3419640" y="4508640"/>
            <a:chExt cx="2808000" cy="171612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419640" y="4869000"/>
              <a:ext cx="21603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flipH="1">
              <a:off x="4932360" y="4508640"/>
              <a:ext cx="129528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494-96A0-4552-8647-FEBDE5F220BE}" type="slidenum">
              <a:t>78</a:t>
            </a:fld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kviru dijalog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ab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birate tabele koje želite da se pojave u prozoru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Relationship Build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ktovanjem i klikom na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abela se pojavljuje u proz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037-6365-4616-B8D5-402F7B0EB98D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Korisnicima su na raspolaganj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čarobnjaci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izard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brasci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veštaj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fikoni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i objekti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B36-EAA1-4DBE-8247-738DCC9F249F}" type="slidenum">
              <a:t>8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dijaloga Show Tab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88000" cy="45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E9E-9FAF-49E6-9002-5AA6F5713860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Nakon što su postavljene željene tabele u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rozoru, na redu je uspostavljanje vez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a uspostavljanje veza između tabela potrebno je odabrati u jednoj tabeli polje koje će služiti kao povezujuće i prevući ga na odgovarajuće polje u tabeli sa kojom je potrebno uspostaviti vez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EA7-808E-42D9-8F2C-EAE9C17677F3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: potrebno je uspostaviti vezu 1:n izm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tabela Katalog i StavkaKatalo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knuti 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olje SifraPoslP u tabeli Katalog. Držeći pritisnut taster pomeri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o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u prozor tabele StavkaKatalo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vući ikonu za biranje polja na SifraPoslP u tabeli StavkaKataloga što će prouzrokovati otvaranje dija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p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što ć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postav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ovu vezu. Zatim će Access sam zatvoriti dijalog i povući liniju između tabela Katalog i StavkaKatalog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602-04BE-47B4-9A59-0D7066B436A3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dijaloga Edit Relationships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87280" y="1468440"/>
            <a:ext cx="648036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EAC-221E-4B85-826B-AC58AD56A31C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0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jalog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kazuje koja je tabela primarna u vezi, da li je obezbeđen referencijalni integritet, vrstu v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udi više opcija 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kaciju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ezu izm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selektovanih tabe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Selektovanjem 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Enforce Referential Integrit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zahteva se p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vanje pravila referencijalnog integrit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ktovanje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ascade Update Related Fields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(lančano ažuriranje povezanih polja) govori Access-u da je dozvoljena promena sadržaja povezujućeg pol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Selektovanjem 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ascade Delete Related Records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hteva se od Access-a da pri brisanju jednog sloga primarne tabele izb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 sve sa njim povezane slogove sekundarne tabe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5AF-8726-4F3E-BC38-F2596B6E3BC9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jalog 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Join Type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jalog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dređuje način na koji će biti napravljen upit zasnovan na ovoj rel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govim aktiviranjem prikazuje se dijalo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050920" y="3716280"/>
            <a:ext cx="5472360" cy="23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4F9-FD11-437A-81EC-7C68A1B71D2D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Veze između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26920" y="3716280"/>
          <a:ext cx="3600720" cy="2446560"/>
        </p:xfrm>
        <a:graphic>
          <a:graphicData uri="http://schemas.openxmlformats.org/drawingml/2006/table">
            <a:tbl>
              <a:tblPr/>
              <a:tblGrid>
                <a:gridCol w="1008360"/>
                <a:gridCol w="647640"/>
                <a:gridCol w="865080"/>
                <a:gridCol w="1079640"/>
              </a:tblGrid>
              <a:tr h="291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vka Narudžbe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lič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</a:t>
                      </a: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k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 flipH="1">
            <a:off x="250920" y="2349360"/>
            <a:ext cx="720720" cy="266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16360" y="1844640"/>
          <a:ext cx="3672000" cy="2336760"/>
        </p:xfrm>
        <a:graphic>
          <a:graphicData uri="http://schemas.openxmlformats.org/drawingml/2006/table">
            <a:tbl>
              <a:tblPr/>
              <a:tblGrid>
                <a:gridCol w="1079640"/>
                <a:gridCol w="720720"/>
                <a:gridCol w="934920"/>
                <a:gridCol w="936720"/>
              </a:tblGrid>
              <a:tr h="303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k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Arti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i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dž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bna pa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va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ovanje 10 ko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nfl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eb S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042920" y="1844640"/>
          <a:ext cx="3097440" cy="1354320"/>
        </p:xfrm>
        <a:graphic>
          <a:graphicData uri="http://schemas.openxmlformats.org/drawingml/2006/table">
            <a:tbl>
              <a:tblPr/>
              <a:tblGrid>
                <a:gridCol w="865080"/>
                <a:gridCol w="1151280"/>
                <a:gridCol w="108108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ud</a:t>
                      </a: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Pos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 rot="2074200">
            <a:off x="4787640" y="4365720"/>
            <a:ext cx="936360" cy="1915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335160 h 1915920"/>
              <a:gd name="textAreaBottom" fmla="*/ 1389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E0B-B47A-4BE3-A1F7-453FE1383C8E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latk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Table Analyz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nalizira tabelu i kontroliše da li je ona u potpunosti normalizova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aje predloge za razdvajanje podataka u međusobno povezane tabe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ću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efini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imar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i sekundar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ključe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ćuje prover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a li postoje pogrešno popunjeni slični podac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z pomoć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lat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automatski raspoređuje ulazne podatke u više tabela i predlaže ispravke sadržaja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459-756A-4843-9603-116594EE86A1}" type="slidenum">
              <a:t>87</a:t>
            </a:fld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6919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ovom delu upoznaće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ste upita, mogućnosti upit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BE (Query By Example) prozor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e, funkcije, izraz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704-119B-424E-A31C-60DB0C5CC0AB}" type="slidenum">
              <a:t>89</a:t>
            </a:fld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postavljanje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relaci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vez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 između pojedinih tabe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u Acess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oguć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tvariti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grafičkim putem u okviru prozora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545440" cy="33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CA0-3222-445D-A90F-4FD66F8FCD47}" type="slidenum">
              <a:t>9</a:t>
            </a:fld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pronalaženje odgovarajućih podat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baz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gu se koristiti tabele, ali je to često veoma zamoran posa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est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tog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iste s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upiti pomoću kojih se želje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c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mog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ć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v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jem odgovarajućih us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zultat upita mogu biti podaci iz jedne ili više tab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 bi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vil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loženi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zniju selekci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eophodno je dobro poznavanje operato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jiho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orišće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nudi relacione, logičke, matematičke, znakovne i ostale opera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ao i korišćenje funkcija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A0C-B676-4BD4-A622-AA98C8F30FA8}" type="slidenum">
              <a:t>90</a:t>
            </a:fld>
          </a:p>
        </p:txBody>
      </p:sp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rste upi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t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325-9AB1-48B4-B767-EA795290DA72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Sel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3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jčešća vrsta upi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stavlja upit za izdvajanje podata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isti se z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ronala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 izdva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od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z jedne ili više tabela 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jihovo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rika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van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i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dinamičk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sku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čiji se sadržaj može pregledati, analizirati i ažurira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868-A8BA-4A10-A080-D9A67DFC6534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To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stavlja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seb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verz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upita za izdvajanje podatak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zbirni up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birni upiti 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u izračunavanje suma ili  zbirnih vrednosti u upitima za izdvajanje podata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 zadavanju ove vrste upita Access dodaje red Total u okno QBE (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Query By Exampl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B5A-621C-48C1-8AE2-2502C8268AED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aj tip upita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ravljenje nove tabele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ake Table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ažuriranje podataka u postojećim tabel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a razliku 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upita kod koga se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izmene mogu praviti samo u jednom po jednom zapis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kcioni upiti 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u ažuriranje više zapisa u istoj operacij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8D4-CA55-40AC-8804-693064768C68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Crossta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ikazuju zbirne podatke u tabelarnom oblik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sani prikaz j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pu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og koji daj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gram za tabelarne proračune, s tim što su zaglavlja redova i kolona zasnovana na poljima iz tabel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jedinačne ćelije u rezultirajućem dinamičkom skupu su tabelar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BA9-BC41-4A84-B840-480EFD748A16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osti upita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z pomoć upita možemo izdvajati podatke iz jedne ili više tabela ukoliko ih povezuju kolone sa istim podac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ada se koristi više tabela istovremeno, Access prikazuje podatke iz njih u jednom kombinovanom tabelarnom prika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 kreiranju upita 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o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ranje polj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e je 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ja koja su potrebna za skup rezultata up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ranje zap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j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i će zapisi biti izdvojeni u skup rezultata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Rezultati upita mogu se prikazati sortir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po određenom redosled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009-C029-4365-BD55-1A0914B97E30}" type="slidenum">
              <a:t>96</a:t>
            </a:fld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osti upi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nekad je potrebno da se u bazi podataka kreira nova tabela koja će sadržati podatke koji se dobijaju kao rezultat upita. Ova vrsta upita pravi novu tabelu na osnovu podataka iz dinamičkog skup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inamički skup, nastao kao rezultat upita može da ima upravo ona polja ili podatke koji su potrebni na izveštaju ili na obrasc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ada se izveštaj ili obrazac zasniva na upitu, svaki put kada se odštampa izveštaj ili otvori obrazac, upit će izdvojiti najsvežije podatke iz tabel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6BC-77BD-4669-8E2D-F9736B1BB753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osti upit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Upite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koristiti za pravljenje dijagrama, tj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na osnovu podataka dobijenih upitom može se napraviti dijagram, koji će se kasnije koristiti na obrascu ili izveštaju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Mogu se praviti i upiti koji se zasnivaju na skupu zapisa izdvojen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prethodim upit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eoma korisno za ad hoc upite, u kojima može biti potrebno ponavljanj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rethodnog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upita sa malo izmenjenim uslovi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C3B-3FE6-4DD9-A4F1-E69CE680BF7A}" type="slidenum">
              <a:t>98</a:t>
            </a:fld>
          </a:p>
        </p:txBody>
      </p:sp>
    </p:spTree>
  </p:cSld>
  <p:transition>
    <p:fad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osti upit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ekundarni upit (podupit) može da se koristi za izmenu uslova, dok primarni upit i njegovi podaci ostaju nepromenje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ccess-ovi upiti mogu da izdvajaju podatke iz široke lepeze izvo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gu se postavljat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iti na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dacima koji se nalaze u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Bas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Paradox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Btriev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Microsoft SQL Serv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bazama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3F5-40F4-4353-A0B2-D195655FB284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0:00:04Z</dcterms:created>
  <dc:creator>Milan Dimitrijevic</dc:creator>
  <dc:description/>
  <dc:language>en-US</dc:language>
  <cp:lastModifiedBy>jelena</cp:lastModifiedBy>
  <dcterms:modified xsi:type="dcterms:W3CDTF">2004-04-26T13:21:56Z</dcterms:modified>
  <cp:revision>158</cp:revision>
  <dc:subject/>
  <dc:title>Upoznajte se sa ACCESSOM</dc:title>
</cp:coreProperties>
</file>