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32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52.xml" ContentType="application/vnd.openxmlformats-officedocument.presentationml.slide+xml"/>
  <Override PartName="/ppt/slides/slide14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4A01-AD8D-478E-B653-BD486C5C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A01-ADBF-4B19-AAE2-E764B91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1A9-8515-488A-8361-32D98AB2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631-3457-4B54-9647-B024953F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EB65-C5A7-49B4-A9E4-BCD428A8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57E5-3457-4E51-BA1A-E16F8B84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2EB7-E610-426A-B1BB-B3F0B35A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4338-F3FA-4AA5-A4EB-60ABB13D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3CA5-09C2-43A5-8D1E-09A36E24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1E91-6DB8-4AD6-85FD-F0A04380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B0B3-BBC1-48D6-9852-B5976C48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313-3275-419A-AB0E-E73D8544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45A1-06FB-46FA-A8A9-AACF457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F6DC-E39A-41F2-A1BE-21AB0D62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C5A9-9FC8-418F-82D5-6CBBA511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0593-4E66-48A1-89BD-5ACD9E9A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CADF-62C7-4CA4-84F2-9D7F5B07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A15-B1C6-475E-A748-F311D0C0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A79-FB14-44A7-81F6-436D05B7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32B-1156-4FD8-80F8-2C7C6BC2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E8A-2F57-481D-BCDA-2780D710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7308-932F-4717-8218-CBAE0849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B5F-9CE1-4885-BC81-213108C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590-94F5-46BA-9BE1-D3D56FB5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259F-4F78-40DF-A749-9B3ADA3E8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7E24-D6E1-4E09-9E8D-D4F6284293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0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0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0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0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0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0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0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8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0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8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8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Увод у ИС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17A4-486A-4E92-9A35-293C48EF2D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Основни концепти СС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сновни концепти за спецификацију ИС у ССА с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носно процеси обраде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ови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ладишта подат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интерфеј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еђусобни однос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новних концепат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е приказује преко дијаграма тока подата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D3D-8318-4323-9D00-B1490CA110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Модел података</a:t>
            </a:r>
            <a:br>
              <a:rPr sz="4800"/>
            </a:b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Релациони модел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AC9E-F794-4C4D-8ABA-27894955E8E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Основни концепти релационог модел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лација преставља скуп енторки (скуп објеката неког ти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лација се може представити као </a:t>
            </a:r>
            <a:r>
              <a:rPr b="1" lang="sr-CS" sz="2200" spc="-1" strike="noStrike">
                <a:solidFill>
                  <a:srgbClr val="a50021"/>
                </a:solidFill>
                <a:latin typeface="Arial"/>
              </a:rPr>
              <a:t>табела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де су </a:t>
            </a:r>
            <a:r>
              <a:rPr b="1" lang="sr-CS" sz="2200" spc="-1" strike="noStrike">
                <a:solidFill>
                  <a:srgbClr val="a50021"/>
                </a:solidFill>
                <a:latin typeface="Arial"/>
              </a:rPr>
              <a:t>колон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трибути релације, а </a:t>
            </a:r>
            <a:r>
              <a:rPr b="1" lang="sr-CS" sz="2200" spc="-1" strike="noStrike">
                <a:solidFill>
                  <a:srgbClr val="a50021"/>
                </a:solidFill>
                <a:latin typeface="Arial"/>
              </a:rPr>
              <a:t>врст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у енторке рел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066680" y="4699080"/>
          <a:ext cx="2362320" cy="1035000"/>
        </p:xfrm>
        <a:graphic>
          <a:graphicData uri="http://schemas.openxmlformats.org/drawingml/2006/table">
            <a:tbl>
              <a:tblPr/>
              <a:tblGrid>
                <a:gridCol w="789120"/>
                <a:gridCol w="784080"/>
                <a:gridCol w="7891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est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1066680" y="42670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11640" y="4941720"/>
            <a:ext cx="388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ема рел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tudent(BrInd, Ime, Semes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E16-0F47-4D66-932D-D115B5A962D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Основни концепти релационог модел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879200"/>
            <a:ext cx="785016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a80404"/>
                </a:solidFill>
                <a:latin typeface="Arial"/>
              </a:rPr>
              <a:t>Примарни кључ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ације је атрибут (прост кључ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 скуп атрибута релације (сложени кључ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 јединствено идентифику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рку у релацији (једну врсту у табе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арни кључ у приказу релације се подвл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a80404"/>
                </a:solidFill>
                <a:latin typeface="Arial"/>
              </a:rPr>
              <a:t>Спољни кључ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 атирбут (или скуп атрибута) у релацији Р1 који у њој није примарни кључ, већ је примарни кључ релације Р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 спољних кључева се успоставља веза између релац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05120" y="502272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tudent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rIn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Ime,Semest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Nastavnik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fraNast,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Ime, Titula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ijava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BrInd, SifraPred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Ocena, SifraN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870-FA60-4873-AB2C-87EC0160E23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Трансформација МОВ у Релациони моде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и ентитет из МОВ-а постаје рел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трибути ентитета постају атрибути релације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рни кључ добијене релације 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а јаке ентитете, атрибут идентификат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а слабе ентитете, атрибут идентификатор надређеног ентитета и атрибут или скуп атрибута који јединствено одређује слаб ентит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а подтип, идентификатор надтип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а агрегацију, скуп идентификатора које према агрегацији имају пресликавање са горњом границом кардиналности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M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ли идентификатор једне од компоненти које према агрегацији има пресликавање са горњом границом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C45-348D-49F1-BED5-A29CAE2AED4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ила за превођење МОВ у релациони моде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Правила за објекте (ентитет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Правила за бинарне вез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авила за унарне вез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0D5-A7EA-4282-A201-0C217E57E57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500" spc="-1" strike="noStrike">
                <a:solidFill>
                  <a:srgbClr val="330066"/>
                </a:solidFill>
                <a:latin typeface="Arial"/>
              </a:rPr>
              <a:t>1. Правила за објекте (ентитете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80404"/>
                </a:solidFill>
                <a:latin typeface="Arial"/>
              </a:rPr>
              <a:t>Правило 1</a:t>
            </a:r>
            <a:r>
              <a:rPr b="1" lang="sr-Latn-CS" sz="2400" spc="-1" strike="noStrike">
                <a:solidFill>
                  <a:srgbClr val="a80404"/>
                </a:solidFill>
                <a:latin typeface="Arial"/>
              </a:rPr>
              <a:t>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објекат из МОВ постаје ентитет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е типа ентитета постаје име шеме релациј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рибути објекта су атрибути ент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80404"/>
                </a:solidFill>
                <a:latin typeface="Arial"/>
              </a:rPr>
              <a:t>Правило </a:t>
            </a:r>
            <a:r>
              <a:rPr b="1" lang="sr-Latn-CS" sz="2400" spc="-1" strike="noStrike">
                <a:solidFill>
                  <a:srgbClr val="a80404"/>
                </a:solidFill>
                <a:latin typeface="Arial"/>
              </a:rPr>
              <a:t>1.</a:t>
            </a:r>
            <a:r>
              <a:rPr b="1" lang="sr-CS" sz="2400" spc="-1" strike="noStrike">
                <a:solidFill>
                  <a:srgbClr val="a80404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 објекат</a:t>
            </a:r>
            <a:r>
              <a:rPr b="0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 постаје шема релације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е типа објекта постаје име шеме рел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дентификатор надређеног објекта постаје једно од обележја шеме релације која одговара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м</a:t>
            </a:r>
            <a:r>
              <a:rPr b="0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објекту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дентификаторслабог објекта чини идентификатор надређеног објекта и обележја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г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јекта која јединствено идентификује појављивање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г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јекта у оквиру појављивања њему надређеног објект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F075-E11C-4591-84C3-E51D946AF4D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ило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1.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 - Пример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867040" y="1719360"/>
          <a:ext cx="3408480" cy="21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7040" y="1719360"/>
                    <a:ext cx="340848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4000320"/>
            <a:ext cx="85345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slovniPartner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NazivPoslP, AdresaPoslP, Delat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Narudzben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BrojNa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DatumNar, SifraPos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StavkaNarudzbenic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BrojNar, Rb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Kolicina, SifraArtik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rtika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SifraArtikl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VrstaArtikla, NazivArtikla, OpisArtik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C56-02AA-43F8-BC4D-A89033B0EBB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500" spc="-1" strike="noStrike">
                <a:solidFill>
                  <a:srgbClr val="330066"/>
                </a:solidFill>
                <a:latin typeface="Arial"/>
              </a:rPr>
              <a:t>Правила за објекте (ентитете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80404"/>
                </a:solidFill>
                <a:latin typeface="Arial"/>
              </a:rPr>
              <a:t>Правило </a:t>
            </a:r>
            <a:r>
              <a:rPr b="1" lang="sr-Latn-CS" sz="2400" spc="-1" strike="noStrike">
                <a:solidFill>
                  <a:srgbClr val="a80404"/>
                </a:solidFill>
                <a:latin typeface="Arial"/>
              </a:rPr>
              <a:t>1.3</a:t>
            </a:r>
            <a:r>
              <a:rPr b="1" lang="sr-CS" sz="2400" spc="-1" strike="noStrike">
                <a:solidFill>
                  <a:srgbClr val="a80404"/>
                </a:solidFill>
                <a:latin typeface="Arial"/>
              </a:rPr>
              <a:t> (Надти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јекат надтип (генерализовани тип објекта) постаје шема рела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 надтипа постаје име шеме рела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лежја надтипа су обележја шеме рел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дентификатор надтипа постаје кључ шеме рела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a80404"/>
                </a:solidFill>
                <a:latin typeface="Arial"/>
              </a:rPr>
              <a:t>Правило </a:t>
            </a:r>
            <a:r>
              <a:rPr b="1" lang="sr-Latn-CS" sz="2400" spc="-1" strike="noStrike">
                <a:solidFill>
                  <a:srgbClr val="a80404"/>
                </a:solidFill>
                <a:latin typeface="Arial"/>
              </a:rPr>
              <a:t>1.4</a:t>
            </a:r>
            <a:r>
              <a:rPr b="1" lang="sr-CS" sz="2400" spc="-1" strike="noStrike">
                <a:solidFill>
                  <a:srgbClr val="a80404"/>
                </a:solidFill>
                <a:latin typeface="Arial"/>
              </a:rPr>
              <a:t> (Подти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јека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тип постаје шема рела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па постаје име шеме рел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дентификатор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д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је кључ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идентификатора) подти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F4E-4841-4265-8F93-88EC84C8AF5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ило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1.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3,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1.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4 - Пример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4152960"/>
            <a:ext cx="883908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PoslovniPartner</a:t>
            </a:r>
            <a:r>
              <a:rPr b="0" lang="sr-CS" sz="2000" spc="-1" strike="noStrike">
                <a:solidFill>
                  <a:srgbClr val="a80404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Kupa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ol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Dobavljac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KontaktOsoba, 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295360" y="1600200"/>
            <a:ext cx="4485960" cy="2438280"/>
            <a:chOff x="2295360" y="1600200"/>
            <a:chExt cx="4485960" cy="2438280"/>
          </a:xfrm>
        </p:grpSpPr>
        <p:graphicFrame>
          <p:nvGraphicFramePr>
            <p:cNvPr id="460" name=""/>
            <p:cNvGraphicFramePr/>
            <p:nvPr/>
          </p:nvGraphicFramePr>
          <p:xfrm>
            <a:off x="2295360" y="1600200"/>
            <a:ext cx="3488400" cy="235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5360" y="1600200"/>
                      <a:ext cx="3488400" cy="23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2" name=""/>
            <p:cNvGraphicFramePr/>
            <p:nvPr/>
          </p:nvGraphicFramePr>
          <p:xfrm>
            <a:off x="4282200" y="2613600"/>
            <a:ext cx="2499120" cy="1424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82200" y="2613600"/>
                      <a:ext cx="2499120" cy="142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4" name=""/>
          <p:cNvSpPr/>
          <p:nvPr/>
        </p:nvSpPr>
        <p:spPr>
          <a:xfrm flipH="1">
            <a:off x="2057400" y="4495680"/>
            <a:ext cx="9144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71800" y="4495680"/>
            <a:ext cx="2971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BAF3-B25F-472E-858B-C95C892660C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2. 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ила за бинарне вез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1 Везе са кардиналношћ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a50021"/>
                </a:solidFill>
                <a:latin typeface="Arial"/>
              </a:rPr>
              <a:t>(1,1) : (1,1), (0,1) : (1,1), (0,1) : (0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езе са кардиналношћ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2000" spc="-1" strike="noStrike">
                <a:solidFill>
                  <a:srgbClr val="a50021"/>
                </a:solidFill>
                <a:latin typeface="Arial"/>
              </a:rPr>
              <a:t>(1,1) : (0,М) и (1,1) : (1,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Везе са кардиналношћ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0,1) : (0,М) и (0,1) : (1,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4.Везе са кардиналношћ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(0,М) : (0.М), (1,М) : (0,М) и (1,М) : (1,М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A22-E590-4C80-BC90-3515C6F3D36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Основни концепти ССА</a:t>
            </a:r>
            <a:br>
              <a:rPr sz="3500"/>
            </a:br>
            <a:r>
              <a:rPr b="1" lang="sr-CS" sz="3500" spc="-1" strike="noStrike">
                <a:solidFill>
                  <a:srgbClr val="a80404"/>
                </a:solidFill>
                <a:latin typeface="Arial"/>
              </a:rPr>
              <a:t>Токови подата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СА посматра информациони систем као функци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бази улазн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ерише излазне подат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лазни подаци се доводе у процес обра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излазни из њега одводе преко токова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 податак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ључу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апирни докум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из порука које човек уноси преко тастатуре термин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ак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нформација добијен преко нек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телекомуникационе линије или слич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21A-7269-44E5-B808-E70B8C9EA9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1 Веза са кардиналношћу 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(1,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1.1 Веза са кардиналношћу (1,1) – 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а објекта који у њој учествују преводимо у једну шему релације, чија су обележја сва обележја једног и другог обј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дидат за кључ у овој шеми релације су идентификатори једног и другог објекта који су у ве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953-D75F-47CC-9735-EF6690686C4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2.1 Веза са кардиналношћу </a:t>
            </a:r>
            <a:r>
              <a:rPr b="0" lang="sr-CS" sz="3900" spc="-1" strike="noStrike">
                <a:solidFill>
                  <a:srgbClr val="a80404"/>
                </a:solidFill>
                <a:latin typeface="Arial"/>
              </a:rPr>
              <a:t>(1,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25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1.2 Веза са кардиналношћу (0,1) – (1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а објекта у вези преводимо у две шеме рела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ваки објекат у вези по једна шема релациј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 објекта који има ДГ 0, убацује се као атрибут друге шеме рела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за се преставља спољним кључ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57200" y="4495680"/>
            <a:ext cx="8381520" cy="1981080"/>
            <a:chOff x="457200" y="4495680"/>
            <a:chExt cx="8381520" cy="1981080"/>
          </a:xfrm>
        </p:grpSpPr>
        <p:sp>
          <p:nvSpPr>
            <p:cNvPr id="477" name=""/>
            <p:cNvSpPr/>
            <p:nvPr/>
          </p:nvSpPr>
          <p:spPr>
            <a:xfrm>
              <a:off x="1973160" y="5194800"/>
              <a:ext cx="18396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32240" y="4728600"/>
              <a:ext cx="1723320" cy="466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67120" y="4728600"/>
              <a:ext cx="1723320" cy="466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85920" y="6127200"/>
              <a:ext cx="1252800" cy="349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97320" y="6127200"/>
              <a:ext cx="1253160" cy="349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Fir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45440" y="6127200"/>
              <a:ext cx="1252800" cy="349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ePrez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7200" y="6127200"/>
              <a:ext cx="1253160" cy="349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Rad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55560" y="6127200"/>
              <a:ext cx="1252800" cy="3495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53560" y="4611600"/>
              <a:ext cx="1248480" cy="69912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ukovod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005480" y="5194800"/>
              <a:ext cx="140976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15600" y="5194800"/>
              <a:ext cx="7776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15600" y="5194800"/>
              <a:ext cx="148788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55560" y="4961520"/>
              <a:ext cx="11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27160" y="4961520"/>
              <a:ext cx="93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6645600" y="5194800"/>
              <a:ext cx="70488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50840" y="5194800"/>
              <a:ext cx="86148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433320" y="44956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25960" y="44956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330066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0C4-61EC-49B0-8369-DDA8DF05678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1.2 Веза са кардиналношћу (0,1) – (1,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720" y="3048120"/>
            <a:ext cx="522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r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Fir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a, SifraFirm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5360" y="4690800"/>
            <a:ext cx="8153280" cy="21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Шеме релација под а) узроковале би да свака н-торка за сваког радника који није руководилац има нула – вредност обележј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fraFirme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(тј. спољни кључ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Према шемама релација под б), с обзиром да радна јединица обавезно има руководиоца, представљање вез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kovodi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спољним кључем у шеми релациј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m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доводи до појаве нула – вред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a80404"/>
                </a:solidFill>
                <a:latin typeface="Arial"/>
              </a:rPr>
              <a:t>Правило за превођење везе са кардиналношћу (0,1) : (1,1) је њено представљање спољним кључем у шеми релације објекта са стране (1,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45280" y="3809880"/>
            <a:ext cx="41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Fir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Fir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Naziv, SifraRadni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2520" y="3124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720" y="38862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4920" y="3733920"/>
            <a:ext cx="75960" cy="838080"/>
          </a:xfrm>
          <a:custGeom>
            <a:avLst/>
            <a:gdLst>
              <a:gd name="textAreaLeft" fmla="*/ 22320 w 75960"/>
              <a:gd name="textAreaRight" fmla="*/ 76320 w 7596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a8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3657600"/>
            <a:ext cx="75960" cy="914400"/>
          </a:xfrm>
          <a:custGeom>
            <a:avLst/>
            <a:gdLst>
              <a:gd name="textAreaLeft" fmla="*/ 0 w 75960"/>
              <a:gd name="textAreaRight" fmla="*/ 53280 w 7596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a8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19320" y="1600200"/>
            <a:ext cx="16761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19920" y="1600200"/>
            <a:ext cx="16761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010280" y="25146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2514600"/>
            <a:ext cx="121896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raFir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23880" y="25146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ePrez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320" y="2514600"/>
            <a:ext cx="121896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raRadn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95480" y="25146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963960" y="1523880"/>
            <a:ext cx="1214640" cy="4572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kovo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09480" y="190512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190512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19051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95480" y="1752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0552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095520" y="19051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81680" y="19051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971800" y="14479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0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96040" y="14479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5CF-37AF-436F-B57B-B40E920C529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имер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(0,1) – (1,1)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Отпремница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- 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ијемниц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3080" y="411480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Otprem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jOtp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umOtp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raDobavljaca, SifraNarudzbeni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rijem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jPr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fraDobavljaca, SifraOtp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5580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23880" y="2286000"/>
            <a:ext cx="16765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prem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2286000"/>
            <a:ext cx="167652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jem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15200" y="32004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umPri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867280" y="32004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jPrijem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362320" y="3200400"/>
            <a:ext cx="121896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umO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3200400"/>
            <a:ext cx="1218960" cy="228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jO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268880" y="2209680"/>
            <a:ext cx="1214280" cy="4572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e odno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371600" y="25909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0" y="2590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0040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2438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400440" y="2590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86600" y="2590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76720" y="21337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0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700600" y="21337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EC4-702B-4E2E-B405-3AEC6B54DC0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1 Веза са кардиналношћу 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(1,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1.3 Веза са кардиналношћу (0,1) –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ирају се три шеме релациј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једна за сваки објекат и једна за ве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лежја у шеми релације која одговарају вези су и идентификатори објеката који су у вези и оба су кандидати за кљу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533520" y="3429000"/>
            <a:ext cx="7390800" cy="1447560"/>
            <a:chOff x="533520" y="3429000"/>
            <a:chExt cx="7390800" cy="1447560"/>
          </a:xfrm>
        </p:grpSpPr>
        <p:sp>
          <p:nvSpPr>
            <p:cNvPr id="546" name=""/>
            <p:cNvSpPr/>
            <p:nvPr/>
          </p:nvSpPr>
          <p:spPr>
            <a:xfrm>
              <a:off x="1851480" y="3939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569600" y="359892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ndid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21280" y="359892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19480" y="462132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is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06920" y="462132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Rad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46080" y="462132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ePrez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520" y="462132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Kandi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89160" y="462132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51360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onku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1016640" y="3939840"/>
              <a:ext cx="124308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60440" y="3939840"/>
              <a:ext cx="6876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260440" y="3939840"/>
              <a:ext cx="131220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89160" y="376920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92560" y="376920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990400" y="3939840"/>
              <a:ext cx="62136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12120" y="3939840"/>
              <a:ext cx="75960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59000" y="342900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0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55720" y="342900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330066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76320" y="516240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ndid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Kandi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mePrezim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80404"/>
                </a:solidFill>
                <a:latin typeface="Arial"/>
              </a:rPr>
              <a:t>Konkurs</a:t>
            </a:r>
            <a:r>
              <a:rPr b="0" lang="en-US" sz="1600" spc="-1" strike="noStrike">
                <a:solidFill>
                  <a:srgbClr val="a80404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a80404"/>
                </a:solidFill>
                <a:uFillTx/>
                <a:latin typeface="Arial"/>
              </a:rPr>
              <a:t>SifraKandidata</a:t>
            </a:r>
            <a:r>
              <a:rPr b="0" lang="en-US" sz="1600" spc="-1" strike="noStrike">
                <a:solidFill>
                  <a:srgbClr val="a80404"/>
                </a:solidFill>
                <a:latin typeface="Arial"/>
              </a:rPr>
              <a:t>, SifraRadnik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isR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572000" y="518148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andid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Kandi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mePrezim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80404"/>
                </a:solidFill>
                <a:latin typeface="Arial"/>
              </a:rPr>
              <a:t>Konkurs</a:t>
            </a:r>
            <a:r>
              <a:rPr b="0" lang="en-US" sz="1600" spc="-1" strike="noStrike">
                <a:solidFill>
                  <a:srgbClr val="a80404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a80404"/>
                </a:solidFill>
                <a:uFillTx/>
                <a:latin typeface="Arial"/>
              </a:rPr>
              <a:t>SifraRadnika</a:t>
            </a:r>
            <a:r>
              <a:rPr b="0" lang="en-US" sz="1600" spc="-1" strike="noStrike">
                <a:solidFill>
                  <a:srgbClr val="a80404"/>
                </a:solidFill>
                <a:latin typeface="Arial"/>
              </a:rPr>
              <a:t>, SifraKandi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isR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8A0-BFD8-4046-8E9E-ECFFC03ADC2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 Веза са кардиналношћу </a:t>
            </a:r>
            <a:br>
              <a:rPr sz="3500"/>
            </a:b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(1,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1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)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 – (0,M) , 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(1,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1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)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 – (1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еза са кардиналношћу (1,1) –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 постају посебне шеме релациј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нтификатор објекта са стране за коју је горња граница кардиналитета пресликавањ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М постаје обележје шеме релације која одговара објекту са стране за коју 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33520" y="3505320"/>
            <a:ext cx="7390800" cy="1447200"/>
            <a:chOff x="533520" y="3505320"/>
            <a:chExt cx="7390800" cy="1447200"/>
          </a:xfrm>
        </p:grpSpPr>
        <p:sp>
          <p:nvSpPr>
            <p:cNvPr id="570" name=""/>
            <p:cNvSpPr/>
            <p:nvPr/>
          </p:nvSpPr>
          <p:spPr>
            <a:xfrm>
              <a:off x="1851480" y="4016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56960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2128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es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194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069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Me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460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ePrez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35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Rad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8916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57560" y="358992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i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016640" y="4016160"/>
              <a:ext cx="12430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260440" y="4016160"/>
              <a:ext cx="68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60440" y="4016160"/>
              <a:ext cx="1312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89160" y="38455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92560" y="38455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990400" y="4016160"/>
              <a:ext cx="621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612120" y="4016160"/>
              <a:ext cx="7596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59000" y="3505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5572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330066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68580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e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Mes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Radnik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a80404"/>
                </a:solidFill>
                <a:latin typeface="Arial"/>
              </a:rPr>
              <a:t>SifraMest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47A6-C712-4427-9A8E-A6EA71874592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 Веза са кардиналношћу </a:t>
            </a:r>
            <a:br>
              <a:rPr sz="3500"/>
            </a:b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(1,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1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)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 – (0,M) , 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(1,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1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)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 – (1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еза са кардиналношћу (1,1) –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 постају посебне шеме релациј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нтификатор објекта са стране за коју је горња граница кардиналитета пресликавањ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М постаје обележје шеме релације која одговара објекту са стране за коју 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1120" y="401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569960" y="3675240"/>
            <a:ext cx="1519200" cy="34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d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21280" y="3675240"/>
            <a:ext cx="1519200" cy="34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nj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81984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50692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ra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Knji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3352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ra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d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08916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GodinaIzd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57560" y="3591000"/>
            <a:ext cx="1101960" cy="51120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017720" y="4016520"/>
            <a:ext cx="124272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260440" y="4016520"/>
            <a:ext cx="131292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089160" y="3846600"/>
            <a:ext cx="103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092560" y="3846600"/>
            <a:ext cx="8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991120" y="4016520"/>
            <a:ext cx="62064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11760" y="4016520"/>
            <a:ext cx="76068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159000" y="350532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56080" y="35053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" y="53341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nji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Knji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zd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zdan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dinaIzdanj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SifraKnjig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86E-DE96-4B1A-ADD9-2B721FD3259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 Веза са кардиналношћу </a:t>
            </a:r>
            <a:br>
              <a:rPr sz="3500"/>
            </a:b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(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0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,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1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)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 – (0,M) , 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(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0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,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1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)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 – (1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еза са кардиналношћу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1) –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ебне шеме релаци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ележја ове шеме релације су идентификатори објеката који су у вези, а кључ шеме релације је идентификатор објекта за који је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GG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533520" y="3505320"/>
            <a:ext cx="7390800" cy="1447200"/>
            <a:chOff x="533520" y="3505320"/>
            <a:chExt cx="7390800" cy="1447200"/>
          </a:xfrm>
        </p:grpSpPr>
        <p:sp>
          <p:nvSpPr>
            <p:cNvPr id="613" name=""/>
            <p:cNvSpPr/>
            <p:nvPr/>
          </p:nvSpPr>
          <p:spPr>
            <a:xfrm>
              <a:off x="1851480" y="4016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56960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red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2128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dzbe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194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069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Udzbe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460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Predm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8916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p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57560" y="358992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Kori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016640" y="4016160"/>
              <a:ext cx="12430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60440" y="4016160"/>
              <a:ext cx="68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260440" y="4016160"/>
              <a:ext cx="1312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89160" y="38455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92560" y="38455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5990400" y="4016160"/>
              <a:ext cx="621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12120" y="4016160"/>
              <a:ext cx="7596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5900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355720" y="3505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330066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914400" y="5334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dm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p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ist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Udzbenik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SifraPredmet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dzbe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Udzbenik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z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3F3-B7A1-478A-939F-EDBD22D77B1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 Веза са кардиналношћу </a:t>
            </a:r>
            <a:br>
              <a:rPr sz="3500"/>
            </a:b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(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0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,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1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)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 – (0,M) , 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(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0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,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1</a:t>
            </a:r>
            <a:r>
              <a:rPr b="0" lang="sr-CS" sz="3500" spc="-1" strike="noStrike">
                <a:solidFill>
                  <a:srgbClr val="a80404"/>
                </a:solidFill>
                <a:latin typeface="Arial"/>
              </a:rPr>
              <a:t>)</a:t>
            </a:r>
            <a:r>
              <a:rPr b="0" lang="sr-Latn-CS" sz="3500" spc="-1" strike="noStrike">
                <a:solidFill>
                  <a:srgbClr val="a80404"/>
                </a:solidFill>
                <a:latin typeface="Arial"/>
              </a:rPr>
              <a:t> – (1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еза са кардиналношћу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1) –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ебне шеме релаци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ележја ове шеме релације су идентификатори објеката који су у вези, а кључ шеме релације је идентификатор објекта за који је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GG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533520" y="3505320"/>
            <a:ext cx="7390800" cy="1447200"/>
            <a:chOff x="533520" y="3505320"/>
            <a:chExt cx="7390800" cy="1447200"/>
          </a:xfrm>
        </p:grpSpPr>
        <p:sp>
          <p:nvSpPr>
            <p:cNvPr id="636" name=""/>
            <p:cNvSpPr/>
            <p:nvPr/>
          </p:nvSpPr>
          <p:spPr>
            <a:xfrm>
              <a:off x="1851480" y="4016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6960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redm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2128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Nastav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194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ImePrez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5069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stav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460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35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Predm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8916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p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57560" y="358992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Pred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1016640" y="4016160"/>
              <a:ext cx="12430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60440" y="4016160"/>
              <a:ext cx="68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60440" y="4016160"/>
              <a:ext cx="1312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89160" y="38455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92560" y="38455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990400" y="4016160"/>
              <a:ext cx="621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12120" y="4016160"/>
              <a:ext cx="7596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59000" y="350532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5572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914400" y="5334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edm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dm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azi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p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Korist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Predmet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SifraNastavnik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Nastav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Nastavnik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Prezi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0DC-0B21-4F60-A814-5D0DCF362EB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 Веза са кардиналношћу </a:t>
            </a:r>
            <a:br>
              <a:rPr sz="3500"/>
            </a:br>
            <a:r>
              <a:rPr b="1" lang="sr-CS" sz="2800" spc="-1" strike="noStrike">
                <a:solidFill>
                  <a:srgbClr val="a80404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a80404"/>
                </a:solidFill>
                <a:latin typeface="Arial"/>
              </a:rPr>
              <a:t>0</a:t>
            </a:r>
            <a:r>
              <a:rPr b="1" lang="sr-CS" sz="2800" spc="-1" strike="noStrike">
                <a:solidFill>
                  <a:srgbClr val="a80404"/>
                </a:solidFill>
                <a:latin typeface="Arial"/>
              </a:rPr>
              <a:t>,</a:t>
            </a:r>
            <a:r>
              <a:rPr b="1" lang="sr-Latn-CS" sz="2800" spc="-1" strike="noStrike">
                <a:solidFill>
                  <a:srgbClr val="a80404"/>
                </a:solidFill>
                <a:latin typeface="Arial"/>
              </a:rPr>
              <a:t>M</a:t>
            </a:r>
            <a:r>
              <a:rPr b="1" lang="sr-CS" sz="2800" spc="-1" strike="noStrike">
                <a:solidFill>
                  <a:srgbClr val="a80404"/>
                </a:solidFill>
                <a:latin typeface="Arial"/>
              </a:rPr>
              <a:t>)</a:t>
            </a:r>
            <a:r>
              <a:rPr b="1" lang="sr-Latn-CS" sz="2800" spc="-1" strike="noStrike">
                <a:solidFill>
                  <a:srgbClr val="a80404"/>
                </a:solidFill>
                <a:latin typeface="Arial"/>
              </a:rPr>
              <a:t> – (0,M) , </a:t>
            </a:r>
            <a:r>
              <a:rPr b="1" lang="sr-CS" sz="2800" spc="-1" strike="noStrike">
                <a:solidFill>
                  <a:srgbClr val="a80404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a80404"/>
                </a:solidFill>
                <a:latin typeface="Arial"/>
              </a:rPr>
              <a:t>0</a:t>
            </a:r>
            <a:r>
              <a:rPr b="1" lang="sr-CS" sz="2800" spc="-1" strike="noStrike">
                <a:solidFill>
                  <a:srgbClr val="a80404"/>
                </a:solidFill>
                <a:latin typeface="Arial"/>
              </a:rPr>
              <a:t>,</a:t>
            </a:r>
            <a:r>
              <a:rPr b="1" lang="sr-Latn-CS" sz="2800" spc="-1" strike="noStrike">
                <a:solidFill>
                  <a:srgbClr val="a80404"/>
                </a:solidFill>
                <a:latin typeface="Arial"/>
              </a:rPr>
              <a:t>M</a:t>
            </a:r>
            <a:r>
              <a:rPr b="1" lang="sr-CS" sz="2800" spc="-1" strike="noStrike">
                <a:solidFill>
                  <a:srgbClr val="a80404"/>
                </a:solidFill>
                <a:latin typeface="Arial"/>
              </a:rPr>
              <a:t>)</a:t>
            </a:r>
            <a:r>
              <a:rPr b="1" lang="sr-Latn-CS" sz="2800" spc="-1" strike="noStrike">
                <a:solidFill>
                  <a:srgbClr val="a80404"/>
                </a:solidFill>
                <a:latin typeface="Arial"/>
              </a:rPr>
              <a:t> – (1,M) , (1,M) – (1,M)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еза са кардиналношћу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–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та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ебне шеме релациј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бележја ове шеме релације су идентификатори објеката који су у вези, а кључ шеме релације је сложени кључ који се састоји од идентификатора објеката који су у ве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533520" y="3505320"/>
            <a:ext cx="7390800" cy="1447200"/>
            <a:chOff x="533520" y="3505320"/>
            <a:chExt cx="7390800" cy="1447200"/>
          </a:xfrm>
        </p:grpSpPr>
        <p:sp>
          <p:nvSpPr>
            <p:cNvPr id="659" name=""/>
            <p:cNvSpPr/>
            <p:nvPr/>
          </p:nvSpPr>
          <p:spPr>
            <a:xfrm>
              <a:off x="1851480" y="4016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6960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Rad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2128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rgan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194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069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8460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ImePrez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335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Radni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08916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Stru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57560" y="358992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Rad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Istor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1016640" y="4016160"/>
              <a:ext cx="12430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60440" y="4016160"/>
              <a:ext cx="68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60440" y="4016160"/>
              <a:ext cx="1312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89160" y="38455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2560" y="38455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5990400" y="4016160"/>
              <a:ext cx="621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12120" y="4016160"/>
              <a:ext cx="7596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15900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5572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914400" y="5334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Radni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Prezime, Struk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adnaIstor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Radnika, SifraOR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z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64F-4671-4F36-90A1-D753B2334C1C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Основни концепти ССА</a:t>
            </a:r>
            <a:br>
              <a:rPr sz="3500"/>
            </a:br>
            <a:r>
              <a:rPr b="1" lang="sr-CS" sz="3500" spc="-1" strike="noStrike">
                <a:solidFill>
                  <a:srgbClr val="a80404"/>
                </a:solidFill>
                <a:latin typeface="Arial"/>
              </a:rPr>
              <a:t>Складишта података, Интерфејс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Извори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излазни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односно понори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лазних токова података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унутар система називају се </a:t>
            </a:r>
            <a:r>
              <a:rPr b="0" lang="sr-CS" sz="1900" spc="-1" strike="noStrike">
                <a:solidFill>
                  <a:srgbClr val="a50021"/>
                </a:solidFill>
                <a:latin typeface="Arial"/>
              </a:rPr>
              <a:t>складишта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Складишта података се посматрају као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токови у мировањ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различите врсте евиденциј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рхи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артотек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ат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бјекти ван ИС који са ИС комуницирају и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они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се у ССА називају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интерфејс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 за складишта као и за токове од интереса су искључиво њихов садржај и структу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2EE-F765-4202-A0B2-BD2206182E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5 Агрегирани објект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ргегирани објекат (мешовити тип објекат-веза, герунд) се посматра на исти начин као и одговарајућа ве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олико веза поседује обележје иста постају обележја шеме релације везе када се веза преводи у посебну шему релације или се укључују у ону шему релације у коју се уписује спољни кључ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33520" y="3505320"/>
            <a:ext cx="7390800" cy="1447200"/>
            <a:chOff x="533520" y="3505320"/>
            <a:chExt cx="7390800" cy="1447200"/>
          </a:xfrm>
        </p:grpSpPr>
        <p:sp>
          <p:nvSpPr>
            <p:cNvPr id="682" name=""/>
            <p:cNvSpPr/>
            <p:nvPr/>
          </p:nvSpPr>
          <p:spPr>
            <a:xfrm>
              <a:off x="1851480" y="4016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6960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rganiza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21280" y="3675240"/>
              <a:ext cx="1519560" cy="34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Ug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194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Dat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069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Ugov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608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Nazi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3520" y="4697280"/>
              <a:ext cx="110520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ra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r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89160" y="4697280"/>
              <a:ext cx="1104840" cy="2552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Op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57560" y="3589920"/>
              <a:ext cx="1100880" cy="510840"/>
            </a:xfrm>
            <a:prstGeom prst="diamond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Sklopi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1016640" y="4016160"/>
              <a:ext cx="124308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60440" y="4016160"/>
              <a:ext cx="687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60440" y="4016160"/>
              <a:ext cx="13122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89160" y="3845520"/>
              <a:ext cx="103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092560" y="3845520"/>
              <a:ext cx="8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5990400" y="4016160"/>
              <a:ext cx="6213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12120" y="4016160"/>
              <a:ext cx="75960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5900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55720" y="350532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(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0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,</a:t>
              </a:r>
              <a:r>
                <a:rPr b="1" lang="sr-Latn-CS" sz="1400" spc="-1" strike="noStrike">
                  <a:solidFill>
                    <a:srgbClr val="330066"/>
                  </a:solidFill>
                  <a:latin typeface="Arial"/>
                </a:rPr>
                <a:t>M</a:t>
              </a:r>
              <a:r>
                <a:rPr b="1" lang="sr-CS" sz="1400" spc="-1" strike="noStrike">
                  <a:solidFill>
                    <a:srgbClr val="330066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914400" y="5334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rganizaci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ziv, Op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rgUgovo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Org, SifraUgovo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gov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fr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Ugovor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346720" y="32767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038480" y="3581280"/>
            <a:ext cx="10670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37040" y="32767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5E0-E724-4E77-ADA4-968035DB86DA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3. Унарне вез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евођење унарних веза (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</a:rPr>
              <a:t>унарном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називамо везу између два објекта истог тип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у релациони модел података зависи од кардиналности типа везе и изводи се као и за друге типове раније описаних бинарних ве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поменимо да код унарне везе типа (1:1) парцијалност само на једној страни везе, односно тоталност само на једној страни везе, не би имало см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име, тиме би се истом типу објекта истовремено допуштало и порицало оп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оно учествовање у в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CC7-C069-48C9-ADD9-092DA15F7CC9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3. Унарне везе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(0,1) – (0,1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ри превођењу унарних веза с обзиром да би спољни кључ у шеми релације имао исто име као и примарни кључ, вршимо његовог преименов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851120" y="401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69960" y="3429000"/>
            <a:ext cx="1519200" cy="587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84644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352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JM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089160" y="469728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Prez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343400" y="3429000"/>
            <a:ext cx="1617840" cy="60948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Br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017720" y="4016520"/>
            <a:ext cx="124272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260440" y="4016520"/>
            <a:ext cx="6840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260440" y="4016520"/>
            <a:ext cx="1312920" cy="68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89160" y="3962520"/>
            <a:ext cx="178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3657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89160" y="3505320"/>
            <a:ext cx="178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297320" y="3200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00400" y="321156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r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200400" y="365760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914400" y="54100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sob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JMB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, Prezi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ra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JMBG</a:t>
            </a: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, JMBGBracniDru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3F9-D6A5-4657-B93C-03B867FC3804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3. Унарне везе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(0,1) – (0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Један радник може да руководи са више радника и може имати једног надређеног руководио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Сваки радник не мора имати надређеног руководиоца и сваки радник не мора бити руководила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51120" y="439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69960" y="3809880"/>
            <a:ext cx="1519200" cy="587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4644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352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ifraRadn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8916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Prez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952880" y="3809880"/>
            <a:ext cx="1617840" cy="6098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Rukovo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1017720" y="4397400"/>
            <a:ext cx="124272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260440" y="4397400"/>
            <a:ext cx="6840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260440" y="4397400"/>
            <a:ext cx="131292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89160" y="4343400"/>
            <a:ext cx="239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343400" y="4038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048120" y="3886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876920" y="35812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045240" y="35812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ukovodjen 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048120" y="4038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ukovodi 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914400" y="5638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a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ifraRadni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me, Prezi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ukovod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Radnika </a:t>
            </a: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, SifraRadnikaRukovodi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8AB-7B94-41EB-92ED-311F3D9A3A47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3. Унарне везе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 (0,M) – (0,M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5508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Једа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ртикал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може д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састоји из више саставних делов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Свак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ртикал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 мора имати саставни део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851120" y="439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569960" y="3809880"/>
            <a:ext cx="1519200" cy="587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rti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4644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Nay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352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ifraArtik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089160" y="5078520"/>
            <a:ext cx="1104840" cy="255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3809880"/>
            <a:ext cx="1617840" cy="609840"/>
          </a:xfrm>
          <a:prstGeom prst="diamond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Sasta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1017720" y="4397400"/>
            <a:ext cx="124272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260440" y="4397400"/>
            <a:ext cx="6840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260440" y="4397400"/>
            <a:ext cx="131292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89160" y="4343400"/>
            <a:ext cx="239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4038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048120" y="3886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76920" y="3581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(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0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,</a:t>
            </a:r>
            <a:r>
              <a:rPr b="1" lang="sr-Latn-CS" sz="1400" spc="-1" strike="noStrike">
                <a:solidFill>
                  <a:srgbClr val="330066"/>
                </a:solidFill>
                <a:latin typeface="Arial"/>
              </a:rPr>
              <a:t>M</a:t>
            </a:r>
            <a:r>
              <a:rPr b="1" lang="sr-CS" sz="1400" spc="-1" strike="noStrike">
                <a:solidFill>
                  <a:srgbClr val="33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169800" y="3581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u sastav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124080" y="4038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astoji 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14400" y="5638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rtik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SifraArtik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ziv, Op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sta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 u="sng">
                <a:solidFill>
                  <a:srgbClr val="a80404"/>
                </a:solidFill>
                <a:uFillTx/>
                <a:latin typeface="Arial"/>
              </a:rPr>
              <a:t>SifraArtikla , SifraArtiklaUSastavu</a:t>
            </a: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719-85D3-4EBF-B458-906B5494EA73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330066"/>
                </a:solidFill>
                <a:latin typeface="Arial"/>
              </a:rPr>
              <a:t>Подсистем </a:t>
            </a:r>
            <a:r>
              <a:rPr b="1" lang="sr-Latn-CS" sz="4400" spc="-1" strike="noStrike">
                <a:solidFill>
                  <a:srgbClr val="330066"/>
                </a:solidFill>
                <a:latin typeface="Arial"/>
              </a:rPr>
              <a:t>1</a:t>
            </a:r>
            <a:r>
              <a:rPr b="1" lang="sr-CS" sz="4400" spc="-1" strike="noStrike">
                <a:solidFill>
                  <a:srgbClr val="330066"/>
                </a:solidFill>
                <a:latin typeface="Arial"/>
              </a:rPr>
              <a:t>. Набавке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981080" y="2895480"/>
            <a:ext cx="525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0066"/>
                </a:solidFill>
                <a:latin typeface="Arial"/>
              </a:rPr>
              <a:t>Трансформација МОВ у</a:t>
            </a:r>
            <a:br>
              <a:rPr sz="2800"/>
            </a:br>
            <a:r>
              <a:rPr b="1" lang="sr-CS" sz="2800" spc="-1" strike="noStrike">
                <a:solidFill>
                  <a:srgbClr val="330066"/>
                </a:solidFill>
                <a:latin typeface="Arial"/>
              </a:rPr>
              <a:t>Релациони мо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0B5E-61C5-4CEE-A265-068ACAAEE26D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МОВ Наруџбениц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2867040" y="1719360"/>
          <a:ext cx="3408480" cy="21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7040" y="1719360"/>
                    <a:ext cx="3408480" cy="21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oslovniPart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arudzbe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jN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atumNar, Sifra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tavkaNarudzbe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jNar, Rb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Artikal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raArtikl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VrstaArtikla, NazivArtikla, Opis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8A6-AAFB-4871-9525-192AEB5E784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"/>
          <p:cNvGrpSpPr/>
          <p:nvPr/>
        </p:nvGrpSpPr>
        <p:grpSpPr>
          <a:xfrm>
            <a:off x="838080" y="1447920"/>
            <a:ext cx="7162560" cy="3429000"/>
            <a:chOff x="838080" y="1447920"/>
            <a:chExt cx="7162560" cy="3429000"/>
          </a:xfrm>
        </p:grpSpPr>
        <p:graphicFrame>
          <p:nvGraphicFramePr>
            <p:cNvPr id="771" name=""/>
            <p:cNvGraphicFramePr/>
            <p:nvPr/>
          </p:nvGraphicFramePr>
          <p:xfrm>
            <a:off x="838080" y="1447920"/>
            <a:ext cx="4003560" cy="3237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447920"/>
                      <a:ext cx="4003560" cy="323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3232080" y="1649520"/>
            <a:ext cx="4768560" cy="3227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32080" y="1649520"/>
                      <a:ext cx="4768560" cy="32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5" name=""/>
            <p:cNvGraphicFramePr/>
            <p:nvPr/>
          </p:nvGraphicFramePr>
          <p:xfrm>
            <a:off x="3232080" y="3891600"/>
            <a:ext cx="1766880" cy="270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32080" y="3891600"/>
                      <a:ext cx="1766880" cy="27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1.1 Наручивањ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8458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Katalog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PoslP, BrojKatalog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Katalog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PoslP, BrojKataloga, Rbr,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4EC-C1A0-437D-A9E3-E3F4B1F5938A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9" name=""/>
          <p:cNvGrpSpPr/>
          <p:nvPr/>
        </p:nvGrpSpPr>
        <p:grpSpPr>
          <a:xfrm>
            <a:off x="533520" y="1523880"/>
            <a:ext cx="7315200" cy="2590920"/>
            <a:chOff x="533520" y="1523880"/>
            <a:chExt cx="7315200" cy="2590920"/>
          </a:xfrm>
        </p:grpSpPr>
        <p:graphicFrame>
          <p:nvGraphicFramePr>
            <p:cNvPr id="780" name=""/>
            <p:cNvGraphicFramePr/>
            <p:nvPr/>
          </p:nvGraphicFramePr>
          <p:xfrm>
            <a:off x="533520" y="1523880"/>
            <a:ext cx="7315200" cy="259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523880"/>
                      <a:ext cx="731520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2439720" y="1526400"/>
            <a:ext cx="5360040" cy="1764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9720" y="1526400"/>
                      <a:ext cx="5360040" cy="176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2820600" y="2051640"/>
            <a:ext cx="4139640" cy="134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20600" y="2051640"/>
                      <a:ext cx="4139640" cy="134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1.2 Пријем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441972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OtpremnicaDob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PoslP, BrojOtpr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, BrojN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OtpremniceDob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PoslP, BrojOtpr,Rb,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OtprKolicina, Vrednost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Prijemni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jPrijemnic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Prijem, BrOt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Prijemnic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jPrijemnice, Rb,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Prij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E004-E271-4774-87A0-9FC5A9F39A71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"/>
          <p:cNvGrpSpPr/>
          <p:nvPr/>
        </p:nvGrpSpPr>
        <p:grpSpPr>
          <a:xfrm>
            <a:off x="2209680" y="1447920"/>
            <a:ext cx="5257440" cy="2747520"/>
            <a:chOff x="2209680" y="1447920"/>
            <a:chExt cx="5257440" cy="2747520"/>
          </a:xfrm>
        </p:grpSpPr>
        <p:graphicFrame>
          <p:nvGraphicFramePr>
            <p:cNvPr id="789" name=""/>
            <p:cNvGraphicFramePr/>
            <p:nvPr/>
          </p:nvGraphicFramePr>
          <p:xfrm>
            <a:off x="3027600" y="1447920"/>
            <a:ext cx="4439520" cy="1583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27600" y="1447920"/>
                      <a:ext cx="4439520" cy="15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1" name=""/>
            <p:cNvGraphicFramePr/>
            <p:nvPr/>
          </p:nvGraphicFramePr>
          <p:xfrm>
            <a:off x="2209680" y="1642320"/>
            <a:ext cx="4452120" cy="2553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09680" y="1642320"/>
                      <a:ext cx="4452120" cy="255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1.3 Фактура и Упла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Faktur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raPoslP, BrojFaktur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IznosFakture, OpisFakture, RokPlacanje, DatumFakture, BrojOt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Uplat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jUplat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Uplate, IznosUplate, Primedba, SifraPoslP, BrojaFakture, Sifra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6DE-D2E8-4303-BB84-9CAD30F82727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Графички симбол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43000" y="2205000"/>
          <a:ext cx="736920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5000"/>
                    <a:ext cx="736920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297-D875-4E26-82A9-966BB6389B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380880" y="1844640"/>
          <a:ext cx="8305920" cy="47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44640"/>
                    <a:ext cx="830592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тегрисани модел Набавк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D89-2C45-462D-ABDA-E81B0BA5CF5F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грисани модел Набавк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oslovniPart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arudzben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jN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atumNar, Sifra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StavkaNarudzbe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jNar, Rb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Artikal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raArtikl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VrstaArtikla, NazivArtikla, Opis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Katalog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PoslP, BrojKatalog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Katalog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PoslP, BrojKataloga, Rbr,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OtpremnicaDob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PoslP, BrojOtpr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, BrojN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OtpremniceDob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PoslP, BrojOtpr,Rbr,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OtprKolicina, Vrednost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Prijemni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jPrijemnic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Prijem, BrOt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Prijemnic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jPrijemnice, Rb,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Prij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Faktur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raPoslP, BrojFaktur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IznosFakture, OpisFakture, RokPlacanje, DatumFakture, BrojOt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Uplat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jUplat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Uplate, IznosUplate, Primedba, SifraPoslP, BrojaFakture, Sifra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E76-84E7-4AC7-A5BD-31855ACA3DD7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330066"/>
                </a:solidFill>
                <a:latin typeface="Arial"/>
              </a:rPr>
              <a:t>Подсистем 2. Продаје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981080" y="2895480"/>
            <a:ext cx="525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0066"/>
                </a:solidFill>
                <a:latin typeface="Arial"/>
              </a:rPr>
              <a:t>Трансформација МОВ у</a:t>
            </a:r>
            <a:br>
              <a:rPr sz="2800"/>
            </a:br>
            <a:r>
              <a:rPr b="1" lang="sr-CS" sz="2800" spc="-1" strike="noStrike">
                <a:solidFill>
                  <a:srgbClr val="330066"/>
                </a:solidFill>
                <a:latin typeface="Arial"/>
              </a:rPr>
              <a:t>Релациони мод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5810-A441-4CDD-9297-44293ED86D9B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"/>
          <p:cNvGrpSpPr/>
          <p:nvPr/>
        </p:nvGrpSpPr>
        <p:grpSpPr>
          <a:xfrm>
            <a:off x="0" y="2590920"/>
            <a:ext cx="4647960" cy="2957400"/>
            <a:chOff x="0" y="2590920"/>
            <a:chExt cx="4647960" cy="2957400"/>
          </a:xfrm>
        </p:grpSpPr>
        <p:graphicFrame>
          <p:nvGraphicFramePr>
            <p:cNvPr id="803" name=""/>
            <p:cNvGraphicFramePr/>
            <p:nvPr/>
          </p:nvGraphicFramePr>
          <p:xfrm>
            <a:off x="0" y="2590920"/>
            <a:ext cx="4502160" cy="295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590920"/>
                      <a:ext cx="4502160" cy="29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5" name=""/>
            <p:cNvGraphicFramePr/>
            <p:nvPr/>
          </p:nvGraphicFramePr>
          <p:xfrm>
            <a:off x="1483200" y="2708280"/>
            <a:ext cx="3164760" cy="2110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83200" y="2708280"/>
                      <a:ext cx="3164760" cy="211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1 Обрада поруџбин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48320" y="1719000"/>
            <a:ext cx="403848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KupovnaKorp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KupovneKorp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Narudzbine, Sifra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KupovneKorp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KupovneKorpe, Rb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Nar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Arial"/>
              </a:rPr>
              <a:t>NalogZaOtprem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BrNalog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Datum, Opis, Rok, BrKupovneKor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Nalog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Naloga, Rb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C5C-04C0-4C2E-8355-BE89D20B34C9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838080" y="1143000"/>
            <a:ext cx="7201080" cy="3200400"/>
            <a:chOff x="838080" y="1143000"/>
            <a:chExt cx="7201080" cy="3200400"/>
          </a:xfrm>
        </p:grpSpPr>
        <p:graphicFrame>
          <p:nvGraphicFramePr>
            <p:cNvPr id="810" name=""/>
            <p:cNvGraphicFramePr/>
            <p:nvPr/>
          </p:nvGraphicFramePr>
          <p:xfrm>
            <a:off x="838080" y="1586520"/>
            <a:ext cx="6022080" cy="2756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586520"/>
                      <a:ext cx="6022080" cy="275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2" name=""/>
            <p:cNvGraphicFramePr/>
            <p:nvPr/>
          </p:nvGraphicFramePr>
          <p:xfrm>
            <a:off x="3295440" y="2951280"/>
            <a:ext cx="3599280" cy="49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95440" y="2951280"/>
                      <a:ext cx="359928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4" name=""/>
            <p:cNvGraphicFramePr/>
            <p:nvPr/>
          </p:nvGraphicFramePr>
          <p:xfrm>
            <a:off x="3295440" y="1143000"/>
            <a:ext cx="4743720" cy="198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95440" y="1143000"/>
                      <a:ext cx="4743720" cy="198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2  Отпрем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33160" y="44953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OtpremnicaKup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tpremniceKup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, BrojNar,  Sif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OtpremniceKup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tpremniceKupca, Rb,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Otpr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Racun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jRacun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, Iznos, Opis, BrOtpremniceKupca, Sifra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F5A-A2D9-412C-BE37-22F1E6844025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609480" y="1371600"/>
            <a:ext cx="7162920" cy="2819520"/>
            <a:chOff x="609480" y="1371600"/>
            <a:chExt cx="7162920" cy="2819520"/>
          </a:xfrm>
        </p:grpSpPr>
        <p:graphicFrame>
          <p:nvGraphicFramePr>
            <p:cNvPr id="819" name=""/>
            <p:cNvGraphicFramePr/>
            <p:nvPr/>
          </p:nvGraphicFramePr>
          <p:xfrm>
            <a:off x="609480" y="3111480"/>
            <a:ext cx="7162920" cy="107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111480"/>
                      <a:ext cx="716292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1" name=""/>
            <p:cNvGraphicFramePr/>
            <p:nvPr/>
          </p:nvGraphicFramePr>
          <p:xfrm>
            <a:off x="1299600" y="1371600"/>
            <a:ext cx="3233880" cy="2077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9600" y="1371600"/>
                      <a:ext cx="3233880" cy="20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3 Напла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4498920"/>
            <a:ext cx="8229600" cy="21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PlatnaKarticaKup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raPoslP, BrojPlatneKartic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ISte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UplateKup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Uplat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Uplate, IznosUplate, Komentar, SifraPoslP, BrojPlatneKartice, BrojRacu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082-96E7-4326-A9D6-E087683770A2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2087640" y="2949480"/>
          <a:ext cx="469404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7640" y="2949480"/>
                    <a:ext cx="469404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2887560" y="3195720"/>
          <a:ext cx="3819600" cy="24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7560" y="3195720"/>
                    <a:ext cx="381960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2133720" y="2266920"/>
          <a:ext cx="4805280" cy="214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2266920"/>
                    <a:ext cx="48052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609480" y="27468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грисани модел Продај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CF5-263F-4386-8FEA-40DAF3266FD3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грисани модел Прода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oslovniPart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fraPos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azivPoslP, AdresaPoslP, Delat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KupovnaKorp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KupovneKorp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Narudzbine, Sifra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KupovneKorp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KupovneKorpe, Rb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Nar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Arial"/>
              </a:rPr>
              <a:t>NalogZaOtprem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BrNalog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Datum, Opis, Rok, BrKupovneKor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Nalog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Naloga, Rb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OtpremnicaKup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tpremniceKup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, BrojNar,  Sif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StavkaOtpremniceKup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tpremniceKupca, Rb,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OtprKolicina, SifraArtik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Racun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ojRacun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, Iznos, Opis, BrOtpremniceKupca, SifraPos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PlatnaKarticaKup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SifraPoslP, BrojPlatneKartic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ISte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a50021"/>
                </a:solidFill>
                <a:latin typeface="Arial"/>
              </a:rPr>
              <a:t>UplateKupca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v-SE" sz="2000" spc="-1" strike="noStrike" u="sng">
                <a:solidFill>
                  <a:srgbClr val="000000"/>
                </a:solidFill>
                <a:uFillTx/>
                <a:latin typeface="Arial"/>
              </a:rPr>
              <a:t>BrUplate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DatumUplate, IznosUplate, Komentar, SifraPoslP, BrojPlatneKartice, BrojRacu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5DC-B84C-4524-96E5-4F3333BFA795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Електронска продавниц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76320" y="1500120"/>
          <a:ext cx="891540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500120"/>
                    <a:ext cx="89154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594-5B94-4EC2-8257-5EA99E122481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Увод у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cces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AE02-FDA1-4A17-915F-83EF8CECD17E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имер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ијаграма тока подата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4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25440" y="1600200"/>
          <a:ext cx="616608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1600200"/>
                    <a:ext cx="616608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C1AB-13A5-46DB-A298-7EB125D96A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глед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cess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-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од 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реирање табе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реирање веза између табела на основу ПМОВ-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ављење фор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ављење извешта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C05-DE5F-4E08-A5DA-8FC341539E7E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Увод у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cces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TABELE –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logičko grupisanje srodnih podataka. </a:t>
            </a: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OLE - 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tehnologi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UPITI –prikazuju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, ме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njaju, dodaju podatke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u bazi,koji zadovoljavaju određene kriteriju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OBRASCI –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prikaz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podataka, izmena i </a:t>
            </a:r>
            <a:r>
              <a:rPr b="1" lang="pl-PL" sz="2100" spc="-1" strike="noStrike">
                <a:solidFill>
                  <a:srgbClr val="000000"/>
                </a:solidFill>
                <a:latin typeface="Arial"/>
              </a:rPr>
              <a:t>unos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 isti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IZVEŠTAJI -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specijalizovani oblik 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prikazivanaj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podatak iz upita i tabela prilagođen 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štampi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– WYSIWYG okruženje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MAKROI –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predefinisani objekti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za obavljanje uobičajenih poslova bez intervencije korisnik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MODULI  - programiranje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baza podataka. 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VBA, API,D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DATA ACCESS PAGES – intranet ažuriranje obrazaca nad bazo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D0A-A825-4951-9D88-AFB61943FD0C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Креирање табел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ефинисање по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ефинисање дом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ефинисање кључе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BE6-E05E-4A33-A932-6B0D2736DED1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Креирање веза између табела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а основу ПМОВ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sl-SI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Buil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Kontrola do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Integritet entitet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referencijalni integrit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000000"/>
                </a:solidFill>
                <a:latin typeface="Arial"/>
              </a:rPr>
              <a:t>Edit </a:t>
            </a:r>
            <a:r>
              <a:rPr b="1" lang="sl-SI" sz="30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</a:rPr>
              <a:t>Enforce Referential Integ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Cascade Update Related Fiel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Arial"/>
              </a:rPr>
              <a:t>Cascade Delete Related Recor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355-7D2C-4B54-97E1-A518E6620ED0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љење упи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QBE al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ipovi upi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Field, table, sort, show, criteria, 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Operatori i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prioriteti operator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kcije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tal 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g,Sum,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arametarski upit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]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5B5-0128-427B-8D27-EEBC8D3E6848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љење форм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Design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ntrolni objekt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Toggle Butt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Option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Check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</a:rPr>
              <a:t>List b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and Butt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Kartica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5CF-A6AD-4608-B69B-30641F313106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љење извешта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WYSIWY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wiza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ummary op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esign kao prilagođav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EB5-D4CD-43DC-ADB9-16766E93D2FF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Увод у ИС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FD5D-FA75-4760-9095-BFBF74433F16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имер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ијаграма тока подата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4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4280"/>
          <a:ext cx="822960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4280"/>
                    <a:ext cx="822960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E9D-3555-43A8-86C7-4CDE5977C0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имер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ијаграма тока подата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41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3560" y="1719360"/>
          <a:ext cx="7616880" cy="44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719360"/>
                    <a:ext cx="761688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8B1-DD9E-43C3-B537-DDB20BF5E4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Спецификација И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дан ИС састоји из мноштва проц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ерфеј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ова и складишта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таљан и јасан опис система захтева опис 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зличитим нивоима апстрак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јерархијск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опи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 на вишим нивоима систем описује општи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лобални процес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на ни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е постепено процеси декомпонују и потпуно и детаљно разрађују (до примитивних процес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A22-BF14-4F9D-94CF-773529C986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Спецификација И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јаграм тока података на врху овакве хијерархије назива се </a:t>
            </a:r>
            <a:r>
              <a:rPr b="1" lang="sr-Latn-CS" sz="2400" spc="-1" strike="noStrike">
                <a:solidFill>
                  <a:srgbClr val="a80404"/>
                </a:solidFill>
                <a:latin typeface="Arial"/>
              </a:rPr>
              <a:t>ДИЈАГРАМ КОН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оцеси на најнижем ниво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цеси који се даље не декомпону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зивају се </a:t>
            </a:r>
            <a:r>
              <a:rPr b="1" lang="sr-Latn-CS" sz="2400" spc="-1" strike="noStrike">
                <a:solidFill>
                  <a:srgbClr val="a80404"/>
                </a:solidFill>
                <a:latin typeface="Arial"/>
              </a:rPr>
              <a:t>ПРИМИТИВНИ ПРОЦЕ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дну потпуну спецификацију ИС ч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499"/>
              </a:spcBef>
              <a:buClr>
                <a:srgbClr val="a80404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Хијерархијски организован скуп дијаграма тока подата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499"/>
              </a:spcBef>
              <a:buClr>
                <a:srgbClr val="a80404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Речник података који описује садржај и структуру свих токова и складишта подата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499"/>
              </a:spcBef>
              <a:buClr>
                <a:srgbClr val="a80404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пецификација логике примитивних проце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AF5-5114-4002-A17E-B72D06720C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С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a80404"/>
                </a:solidFill>
                <a:latin typeface="Arial"/>
              </a:rPr>
              <a:t>Дијаграми тока подата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B57D-72CE-45C8-A3FF-2E0C5CE736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ограм вежб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СА – Структурна системска анали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МОВ – Проширени модел објекти вез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лациони мод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429-9AE2-43E1-8F56-A878C3E065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ијаграм тока подата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од у ДТ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авила креирања ДТП-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Хијерархијска декомпозиција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ТП-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ТП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F33-6667-476E-964A-7E7742B06C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Увод у ДТП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дставља модел система који садржи четири основне компонен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процесе обраде подата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ктивне компоненте сис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објекте окружењ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нтерфејс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а којима систем комуници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складишта подата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које процеси користе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ли ажурирају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токове подата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који повезују остале компоненте система у цели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новне карактеристике ДТ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с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јасна графичка спецификациј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годна за комуникацију са корисник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a80404"/>
                </a:solidFill>
                <a:latin typeface="Arial"/>
              </a:rPr>
              <a:t>ј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асан и детаљан опис сис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именом методе апс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05F1-F1C4-43F8-8397-989F56FFDC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1. Правило у креир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датак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 да буд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различита докум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формула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ексто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њиг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часопис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лич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 података остварује везу између осталих компоненти система и на ДТ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се представља именова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ријентисаном линиј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F49-D12F-4FDB-9522-9CB07CF957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 Правило у креир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 података мора да и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ило која компонента ДТП може да буд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ковима се не могу непосредно повезати два складиш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ва интерфеј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ли складиште и интерфеј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9CA-D609-4EA9-96C4-60730574E6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 Правило у креир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589040"/>
          <a:ext cx="845820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89040"/>
                    <a:ext cx="845820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53E-952D-4E59-8E36-8A418BD016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3. Правило у креир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аки ток податка на ДТ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мора имати и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е треба да одражава значење података које он но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би се остварила читљивост и разумљивост ДТ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ва имена треба да буду природ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не нека специфич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терано скраћена им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ак су токови који иду 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носно од складишта података који не морају бити именова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259A-08FE-4307-9D24-F7F814A49E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4. Правило у креир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 података се може грана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оимени токови на ДТП у суштини претстављају гранање једног т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а морају имати заједничк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а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могу имати различит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4384800"/>
          <a:ext cx="8229600" cy="13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84800"/>
                    <a:ext cx="82296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B90-6CE5-4B38-A223-3C4FD4116B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5. Правило у креир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аки процес има назив и озна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зив процеса треба да прецизно означава функцију коју он обављ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јектант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је у стању да додели име процесу то само значи да не разуме функцију коју процес обављ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ројна ознака проц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лужи за референцирање процес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 не представља редослед извршавања проц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846-8D01-4546-99DB-E562E851BA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6. Правило у креир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аки процес мора да има барем један улазни и барем један излазни ток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цес без улазног тока генерисао би изла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е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процес без излазног тока је несврсисхода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BD4-C0D9-4579-863D-474DB113355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7. Правило у креир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ако складиште такође треба да има барем један улазни и барем један излазни 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звољава се да складиште нема улазни 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дразумевајући да се формира и ажурира у неком другом систе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86D-9F75-46B4-A4FB-B54934BB5A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ограм вежби по недељам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-2. недеља (4 ча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ССА – </a:t>
            </a:r>
            <a:r>
              <a:rPr b="0" lang="sr-CS" sz="2100" spc="-1" strike="noStrike">
                <a:solidFill>
                  <a:srgbClr val="a50021"/>
                </a:solidFill>
                <a:latin typeface="Arial"/>
              </a:rPr>
              <a:t>Структурна с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истемска ан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-4. недеља (4 ча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ПМОВ – Проширени модел објекти 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5-6. недеља (4 ча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Релациони мо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7-13. 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a50021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a50021"/>
                </a:solidFill>
                <a:latin typeface="Arial"/>
              </a:rPr>
              <a:t>Креирање табела и веза између табела (4 час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a50021"/>
                </a:solidFill>
                <a:latin typeface="Arial"/>
              </a:rPr>
              <a:t>Прављење </a:t>
            </a:r>
            <a:r>
              <a:rPr b="0" lang="et-EE" sz="1900" spc="-1" strike="noStrike">
                <a:solidFill>
                  <a:srgbClr val="a50021"/>
                </a:solidFill>
                <a:latin typeface="Arial"/>
              </a:rPr>
              <a:t>SQL </a:t>
            </a:r>
            <a:r>
              <a:rPr b="0" lang="sr-CS" sz="1900" spc="-1" strike="noStrike">
                <a:solidFill>
                  <a:srgbClr val="a50021"/>
                </a:solidFill>
                <a:latin typeface="Arial"/>
              </a:rPr>
              <a:t>упита (2 час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a50021"/>
                </a:solidFill>
                <a:latin typeface="Arial"/>
              </a:rPr>
              <a:t>Креирање форми (4 час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a50021"/>
                </a:solidFill>
                <a:latin typeface="Arial"/>
              </a:rPr>
              <a:t>Креирање извештаја (2 часа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2D1-5F99-4D64-A82F-D430C84947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9. Правило креир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би се ДТ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ви лакше црт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носно избегло непотребно пресецање лин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звољава се да се једно складиште или интерфеј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једној слици вишеструко поно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аки интерфејс мора да има барем јед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ило улаз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ило излазни ток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аче би био изолован од систе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ји се моделу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A5C-CA19-4369-8FED-47ACDA2E65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Хијерархијска декомпозиција </a:t>
            </a:r>
            <a:r>
              <a:rPr b="1" lang="sr-CS" sz="3500" spc="-1" strike="noStrike">
                <a:solidFill>
                  <a:srgbClr val="000000"/>
                </a:solidFill>
                <a:latin typeface="Arial"/>
              </a:rPr>
              <a:t>ДТП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14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едан информациони систем може бити вео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ложен и може садржа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Bef>
                <a:spcPts val="49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велики број проце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Bef>
                <a:spcPts val="49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окова подата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Bef>
                <a:spcPts val="49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кладишта подата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65240">
              <a:spcBef>
                <a:spcPts val="499"/>
              </a:spcBef>
              <a:buClr>
                <a:srgbClr val="6699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пољних објека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14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јерархијска декомпозиција ДТП се изводи на тај начин што се један процес вишег нивоа апстракције декомпонује и приказује помоћу новог целокупног ДТП на нижем нивоу апстрак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CB3-BB55-4E67-8FAF-35156D6947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илно конструисан ДТП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73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1781280"/>
          <a:ext cx="792504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81280"/>
                    <a:ext cx="792504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F083-1C2C-4802-A5A1-8F9D79A6D5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илно конструисан ДТП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573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0880" y="1523880"/>
          <a:ext cx="8077320" cy="53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07732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D188-3D95-40D9-B26F-06C3BF4A32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илно конструисан ДТП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73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914400" y="1719360"/>
          <a:ext cx="6705720" cy="50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19360"/>
                    <a:ext cx="6705720" cy="50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1B2-00C3-4DCF-9AF8-37CEC468F76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илно конструисан ДТП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73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251000" y="1719360"/>
          <a:ext cx="6638760" cy="44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719360"/>
                    <a:ext cx="663876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2FD-C199-42FB-AFAF-ACF72E2F5E2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илно конструисан ДТП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73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3520" y="1600200"/>
          <a:ext cx="8305560" cy="536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30556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568-61FB-4C37-B23C-D398657A58C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1. Правило при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екомпонов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јаграм највишег нив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трак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и по правилу садржи само један процес који 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вља цео 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ерфејсе са којима ИС комуницира и одговарајуће токове података назива се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дијаграм контек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2BD-1B27-473D-9057-485C7A859D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 Правило при декомпонов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јаграм првог нивоа претставља декомпозицију дијаграма контекс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цеси на њем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значавају се бројеви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, 2, 3, ..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јаграми нижих ниво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о цел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 означени са ознаком процеса чије детаље претставља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процеси на њима повлаче са собом бројну ознаку надређеног проц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носно посматраног дијагр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55C-750F-46BF-B099-F10E6F633D5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3. Правило при декомпонов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обичајено је да се у документацији за спецификацију ИС помоћу 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елокупан ску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ли неки подскуп хијерарх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и декомпонованих дијагр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ви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дијаграмом декомпози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345-466E-4B27-AB77-DB8C6D3C64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90720" y="457200"/>
            <a:ext cx="624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a80404"/>
                </a:solidFill>
                <a:latin typeface="Arial"/>
              </a:rPr>
              <a:t>Структурна  системска анализ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6638-C94A-45A8-8735-D5399BBE76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Дијаграм декомпозиције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454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47920" y="1447920"/>
          <a:ext cx="6019560" cy="52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0195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EF7-FA7E-44E6-AB27-00E69F97029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4. Правило при декомпоновању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цеси који се даље не декомпону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 називају примитивни процеси и за њих се даје спецификација логике њиховог одвијањ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пис логике примитивних процеса назива се ми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кација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67C-C8C9-4CCB-90F1-735FC6B8905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5. Правило при декомпозиције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д проц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гу се декомпоновати и токови и складиш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екомпозиција токова и складишта се не приказује на ДТ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ћ 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чнику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гу се декомпоновати само они токови и складишта који у себи садрже независне компонен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оненте чија унија чини ток или складиште које се декомпону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6A7-D814-4449-B444-CC7B9A50E82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6. Правило при декомпозиције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значајније правило које се мора поштовати при декомпозицији процеса је правило баланса ток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ој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аз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излаз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око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на ДТ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вишег ниво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а буд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еквивален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 с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ојем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лаз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излаз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око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ога процеса на дијаграм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ж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г ниво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и токови који улаз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носно излазе из једног проце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орају се појавити као ула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носно излазни токови на дијаграму кој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је посматрани процес декомпоно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540-D619-4F2D-930F-963DD903F7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7. Правило при декомпозиције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ладишта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тстављају стања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носно фундаментал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нутрашње карактеристике како целог 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о и сваког појединачног проц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бог тога се она могу појавити и на нижим нивоима декомпози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ако се нису појављивала на претход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ђут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о се појави на једном ниво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з један проце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ра се надаље појављивати на свим нижим нивоима декомпозиције тога проц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92F-C0B7-4B70-BEF5-70A5471BBA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8. Правило при декомпозиције ДТП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дан ДТ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 правил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реба да садрж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 - 7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ћи број процеса од овога значио би да 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скоч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во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компози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 се даље не декомпонује ако представља примитивну функцију (логичка јединица посл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C6F-F4D7-47DE-B211-AE1B208059F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0066"/>
                </a:solidFill>
                <a:latin typeface="Arial"/>
              </a:rPr>
              <a:t>Пример 1 </a:t>
            </a:r>
            <a:br>
              <a:rPr sz="4400"/>
            </a:br>
            <a:r>
              <a:rPr b="1" lang="sr-CS" sz="4000" spc="-1" strike="noStrike">
                <a:solidFill>
                  <a:srgbClr val="330066"/>
                </a:solidFill>
                <a:latin typeface="Arial"/>
              </a:rPr>
              <a:t>Електронска продавниц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a80404"/>
                </a:solidFill>
                <a:latin typeface="Arial"/>
              </a:rPr>
              <a:t>СС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a80404"/>
                </a:solidFill>
                <a:latin typeface="Arial"/>
              </a:rPr>
              <a:t>Структурна системска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8B5F-165B-4BAD-8C16-54B349C4F94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ијаграм контекс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33440" y="2425680"/>
          <a:ext cx="5254560" cy="34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425680"/>
                    <a:ext cx="525456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3508200" y="2119320"/>
          <a:ext cx="5254920" cy="176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8200" y="2119320"/>
                    <a:ext cx="52549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74F-019E-4F58-986B-669B1F7A1F1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ијаграм контекс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Спољни објекти и њихови токови података које размењују са системо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a80404"/>
                </a:solidFill>
                <a:latin typeface="Arial"/>
              </a:rPr>
              <a:t>Купа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Куповна корпа</a:t>
            </a: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Рач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Плаћ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Отпрем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a80404"/>
                </a:solidFill>
                <a:latin typeface="Arial"/>
              </a:rPr>
              <a:t>Добављ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Наруџбе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Фа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У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Отпрем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a80404"/>
                </a:solidFill>
                <a:latin typeface="Arial"/>
              </a:rPr>
              <a:t>Сервис за проверу платних кар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Платна кар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33ff"/>
                </a:solidFill>
                <a:latin typeface="Arial"/>
              </a:rPr>
              <a:t>Провера вали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0B2-22D5-4912-8D8B-0BA95B8EB46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ијаграм 1. нивоа декомпози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922480" y="2011320"/>
          <a:ext cx="452916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2011320"/>
                    <a:ext cx="452916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1987560" y="3916440"/>
          <a:ext cx="4386240" cy="22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7560" y="3916440"/>
                    <a:ext cx="4386240" cy="22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393-22F7-4323-B160-F9585EDD8B5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Структурна системска анализ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од у С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јаграми тока података – ДТ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Речник података структурне системске анализ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Методологија моделирања процес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913-3954-428E-A5B5-52F3DACA20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ијаграм 1. нивоа декомпози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 Електронске продавнице се састоји из следећих проце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Arial"/>
              </a:rPr>
              <a:t>Набав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- Добављ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Arial"/>
              </a:rPr>
              <a:t>Прода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Куп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адишта на 1.нивоу декомпозиције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8000"/>
                </a:solidFill>
                <a:latin typeface="Arial"/>
              </a:rPr>
              <a:t>Артик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8000"/>
                </a:solidFill>
                <a:latin typeface="Arial"/>
              </a:rPr>
              <a:t>Пословни партн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8000"/>
                </a:solidFill>
                <a:latin typeface="Arial"/>
              </a:rPr>
              <a:t>Ка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B28-206A-4EAA-B3B2-CF6B07D2191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1. Набав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979640" y="3357720"/>
          <a:ext cx="261792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57720"/>
                    <a:ext cx="261792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771640" y="2637000"/>
          <a:ext cx="2533680" cy="94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2637000"/>
                    <a:ext cx="25336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2482920" y="2257560"/>
          <a:ext cx="4894200" cy="14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2920" y="2257560"/>
                    <a:ext cx="489420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66920" y="3459240"/>
          <a:ext cx="4824360" cy="169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6920" y="3459240"/>
                    <a:ext cx="482436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DF2-9DF3-403E-BF81-69E598E5784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1. Набав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 1. Набавка се састоји из следећих проце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Arial"/>
              </a:rPr>
              <a:t>Наручивање ката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Arial"/>
              </a:rPr>
              <a:t>Обрада ката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Arial"/>
              </a:rPr>
              <a:t>Приј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Arial"/>
              </a:rPr>
              <a:t>Пла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адишта на 2.нивоу декомпозиције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8000"/>
                </a:solidFill>
                <a:latin typeface="Arial"/>
              </a:rPr>
              <a:t>Артикал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8000"/>
                </a:solidFill>
                <a:latin typeface="Arial"/>
              </a:rPr>
              <a:t>Пословни партн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8000"/>
                </a:solidFill>
                <a:latin typeface="Arial"/>
              </a:rPr>
              <a:t>Ката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8000"/>
                </a:solidFill>
                <a:latin typeface="Arial"/>
              </a:rPr>
              <a:t>Пријемн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8000"/>
                </a:solidFill>
                <a:latin typeface="Arial"/>
              </a:rPr>
              <a:t>Фа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8000"/>
                </a:solidFill>
                <a:latin typeface="Arial"/>
              </a:rPr>
              <a:t>Отпремница добављ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9B7-DF0F-481D-A1C7-1F791C769BF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 Прода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197080" y="2781360"/>
          <a:ext cx="424656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2781360"/>
                    <a:ext cx="424656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556000" y="2133720"/>
          <a:ext cx="4170240" cy="104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2133720"/>
                    <a:ext cx="417024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556000" y="2421000"/>
          <a:ext cx="4176720" cy="318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2421000"/>
                    <a:ext cx="417672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5D78-9A86-4E4D-923D-A0D5656D3AB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 Прода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 2. Продаја се састоји из следећих проце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Arial"/>
              </a:rPr>
              <a:t>Обрада поруџб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Arial"/>
              </a:rPr>
              <a:t>Отпр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660066"/>
                </a:solidFill>
                <a:latin typeface="Arial"/>
              </a:rPr>
              <a:t>На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адишта на 2.нивоу декомпозиције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8000"/>
                </a:solidFill>
                <a:latin typeface="Arial"/>
              </a:rPr>
              <a:t>Артикал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8000"/>
                </a:solidFill>
                <a:latin typeface="Arial"/>
              </a:rPr>
              <a:t>Пословни партне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8000"/>
                </a:solidFill>
                <a:latin typeface="Arial"/>
              </a:rPr>
              <a:t>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8000"/>
                </a:solidFill>
                <a:latin typeface="Arial"/>
              </a:rPr>
              <a:t>Уплата куп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8000"/>
                </a:solidFill>
                <a:latin typeface="Arial"/>
              </a:rPr>
              <a:t>Налог за отпр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8000"/>
                </a:solidFill>
                <a:latin typeface="Arial"/>
              </a:rPr>
              <a:t>Пословни пар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8000"/>
                </a:solidFill>
                <a:latin typeface="Arial"/>
              </a:rPr>
              <a:t>Куповна кор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22C-CABE-45FE-9DB8-F2D0ED0D4C4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С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a80404"/>
                </a:solidFill>
                <a:latin typeface="Arial"/>
              </a:rPr>
              <a:t>Речник подата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6ECB-4625-453B-A4C5-70DD39BA52C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Речник подата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авила креирања речника подата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Хијерархијска декомпозиција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Т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ТП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8C8-61F1-4377-804F-016861A0A85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Увод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чник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је опис структуре и садржаја свих токова и складишта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ез обзира шта ток или складиште података 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вља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апирни докумена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из карактера као улаз са термин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ак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нформација добијен телекомуникационом линиј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ртотеку или датоте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115-4747-4F56-92AE-88325A60B08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авила креирања речника подата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ља и до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A58-9A93-4013-BE4A-67A916C452C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ља и домени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1. Правило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ље је елементар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томс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руктура која се даље не декомпонује и која има своју вредн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при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nd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BrojIndeksa</a:t>
            </a:r>
            <a:r>
              <a:rPr b="0" lang="ru-RU" sz="1900" spc="-1" strike="noStrike">
                <a:solidFill>
                  <a:srgbClr val="a50021"/>
                </a:solidFill>
                <a:latin typeface="Arial"/>
              </a:rPr>
              <a:t>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Ime</a:t>
            </a:r>
            <a:r>
              <a:rPr b="0" lang="ru-RU" sz="1900" spc="-1" strike="noStrike">
                <a:solidFill>
                  <a:srgbClr val="a50021"/>
                </a:solidFill>
                <a:latin typeface="Arial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Prezime</a:t>
            </a:r>
            <a:r>
              <a:rPr b="0" lang="ru-RU" sz="19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Ocena</a:t>
            </a:r>
            <a:r>
              <a:rPr b="0" lang="ru-RU" sz="1900" spc="-1" strike="noStrike">
                <a:solidFill>
                  <a:srgbClr val="a50021"/>
                </a:solidFill>
                <a:latin typeface="Arial"/>
              </a:rPr>
              <a:t>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Status..</a:t>
            </a:r>
            <a:r>
              <a:rPr b="0" lang="ru-RU" sz="19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5B3-9276-41BC-A4F8-1B2BD976C78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С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a80404"/>
                </a:solidFill>
                <a:latin typeface="Arial"/>
              </a:rPr>
              <a:t>Ув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7FC0-783D-49BC-8567-325E373258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ља и домени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2. Правило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ља своје вредности узимају из скупова вредности који се називају домени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мени могу би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Latn-CS" sz="2000" spc="-1" strike="noStrike">
                <a:solidFill>
                  <a:srgbClr val="3333ff"/>
                </a:solidFill>
                <a:latin typeface="Arial"/>
              </a:rPr>
              <a:t>предефиниса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носно стандардни програмск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зички дом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о што су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INTEG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CHARACT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RE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LOGICA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sr-Latn-CS" sz="2000" spc="-1" strike="noStrike">
                <a:solidFill>
                  <a:srgbClr val="3333ff"/>
                </a:solidFill>
                <a:latin typeface="Arial"/>
              </a:rPr>
              <a:t>семантич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,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да се дефинишу посеб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еко свога им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едефинисаног дом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граничења на могући скуп вредности предефинисаног дом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a80404"/>
                </a:solidFill>
                <a:latin typeface="Arial"/>
              </a:rPr>
              <a:t>Semestri [</a:t>
            </a:r>
            <a:r>
              <a:rPr b="0" lang="ru-RU" sz="2100" spc="-1" strike="noStrike">
                <a:solidFill>
                  <a:srgbClr val="a80404"/>
                </a:solidFill>
                <a:latin typeface="Arial"/>
              </a:rPr>
              <a:t>1,10</a:t>
            </a:r>
            <a:r>
              <a:rPr b="0" lang="en-US" sz="2100" spc="-1" strike="noStrike">
                <a:solidFill>
                  <a:srgbClr val="a80404"/>
                </a:solidFill>
                <a:latin typeface="Arial"/>
              </a:rPr>
              <a:t>]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BF65-1156-49CF-ADA6-9D294718290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ља и домени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. Правило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ињеница да поље узима вредност из неког домена означава се на следећи нач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80404"/>
                </a:solidFill>
                <a:latin typeface="Arial"/>
              </a:rPr>
              <a:t>BrojIndeksa</a:t>
            </a:r>
            <a:r>
              <a:rPr b="0" lang="en-GB" sz="2000" spc="-1" strike="noStrike">
                <a:solidFill>
                  <a:srgbClr val="a80404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a80404"/>
                </a:solidFill>
                <a:latin typeface="Arial"/>
              </a:rPr>
              <a:t>H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ARACTER</a:t>
            </a:r>
            <a:r>
              <a:rPr b="0" lang="en-GB" sz="2000" spc="-1" strike="noStrike">
                <a:solidFill>
                  <a:srgbClr val="a80404"/>
                </a:solidFill>
                <a:latin typeface="Arial"/>
              </a:rPr>
              <a:t>(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80404"/>
                </a:solidFill>
                <a:latin typeface="Arial"/>
              </a:rPr>
              <a:t>Semestar</a:t>
            </a:r>
            <a:r>
              <a:rPr b="0" lang="en-GB" sz="2000" spc="-1" strike="noStrike">
                <a:solidFill>
                  <a:srgbClr val="a80404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SEME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80404"/>
                </a:solidFill>
                <a:latin typeface="Arial"/>
              </a:rPr>
              <a:t>Ocena</a:t>
            </a:r>
            <a:r>
              <a:rPr b="0" lang="en-GB" sz="2000" spc="-1" strike="noStrike">
                <a:solidFill>
                  <a:srgbClr val="a80404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INT</a:t>
            </a:r>
            <a:r>
              <a:rPr b="0" lang="en-GB" sz="2000" spc="-1" strike="noStrike">
                <a:solidFill>
                  <a:srgbClr val="a80404"/>
                </a:solidFill>
                <a:latin typeface="Arial"/>
              </a:rPr>
              <a:t>(2)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IN</a:t>
            </a:r>
            <a:r>
              <a:rPr b="0" lang="en-GB" sz="2000" spc="-1" strike="noStrike">
                <a:solidFill>
                  <a:srgbClr val="a80404"/>
                </a:solidFill>
                <a:latin typeface="Arial"/>
              </a:rPr>
              <a:t> (5,6,7,8,9,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889-6757-4819-A256-400C823B5AC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ља и домени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. Правило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а поља су семантички слич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мо ако су дефинисана над истим доме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ругим речи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мантички домени успостављају разлику између појединих истоврсних предефинисаних дом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и немају семантичку сличн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1AF-BFC5-4F08-91A8-8D4DEC99351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Структуре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руктура токова података и складишта 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вља неку композицију пољ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носно конструкцију чије су компоненте пољ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чигледно је да се као компонента једне структуре мо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д пољ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јавити и друга дефинисана структу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67D-437A-4F88-9FB1-BAF2F9B1C0AB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Конструкција структур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грегација компон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кслузивна специјализац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н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он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екслузивна специјализац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н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он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уп компоне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цизније скуп више вредности једне компонен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D7E-3626-4298-957A-62BEDE15032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Агрегација компонент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и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оненти које је чине 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пицаст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ад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&gt;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грегација 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вља сложену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омпоне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редност агрегације 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 у којој сваки елеменат има вредност одговарајуће компонен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приме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0404"/>
                </a:solidFill>
                <a:latin typeface="Arial"/>
              </a:rPr>
              <a:t>PoslovniPartner&lt;SifraPP</a:t>
            </a:r>
            <a:r>
              <a:rPr b="0" lang="sr-CS" sz="2400" spc="-1" strike="noStrike">
                <a:solidFill>
                  <a:srgbClr val="a80404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80404"/>
                </a:solidFill>
                <a:latin typeface="Arial"/>
              </a:rPr>
              <a:t>Naziv</a:t>
            </a:r>
            <a:r>
              <a:rPr b="0" lang="sr-CS" sz="2400" spc="-1" strike="noStrike">
                <a:solidFill>
                  <a:srgbClr val="a80404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80404"/>
                </a:solidFill>
                <a:latin typeface="Arial"/>
              </a:rPr>
              <a:t>Adresa</a:t>
            </a:r>
            <a:r>
              <a:rPr b="0" lang="sr-CS" sz="2400" spc="-1" strike="noStrike">
                <a:solidFill>
                  <a:srgbClr val="a80404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80404"/>
                </a:solidFill>
                <a:latin typeface="Arial"/>
              </a:rPr>
              <a:t>Delatnos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A25-B7A4-445B-AEA0-87DAB29B2B5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Екслузивна специјализација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(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унија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)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компонент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кслузивна специјализац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н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оне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а се претставља као листа компоненти у угластим заград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која означава да се у структури појављује екслузивно једна од наведених компоне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ли a или b или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о се у угластој загради појави само једна компоне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 значи да се у структури ова компонента јавља или не јављ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ер за екслузивну специјализацију компоненти 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Artikal</a:t>
            </a:r>
            <a:r>
              <a:rPr b="0" lang="sr-CS" sz="2200" spc="-1" strike="noStrike">
                <a:solidFill>
                  <a:srgbClr val="a804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&lt;Sifra</a:t>
            </a:r>
            <a:r>
              <a:rPr b="0" lang="sr-CS" sz="2200" spc="-1" strike="noStrike">
                <a:solidFill>
                  <a:srgbClr val="a80404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Naziv</a:t>
            </a:r>
            <a:r>
              <a:rPr b="0" lang="sr-CS" sz="2200" spc="-1" strike="noStrike">
                <a:solidFill>
                  <a:srgbClr val="a80404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[Domaci</a:t>
            </a:r>
            <a:r>
              <a:rPr b="0" lang="sr-CS" sz="2200" spc="-1" strike="noStrike">
                <a:solidFill>
                  <a:srgbClr val="a80404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Strani]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8E3-C817-41A1-900D-B07222C942C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Неекслузивна специјализација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(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унија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) 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компонент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екслузивна специјализац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н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онен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а се претставља као листа компоненти у косим заград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/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пример и која означава да се у одговарајућој 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уктури појављује било само јед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онен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ило д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ило с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ер за неекслузивну специјализацију 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Artikal</a:t>
            </a:r>
            <a:r>
              <a:rPr b="0" lang="sr-CS" sz="2200" spc="-1" strike="noStrike">
                <a:solidFill>
                  <a:srgbClr val="a804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/ BrojProdatih</a:t>
            </a:r>
            <a:r>
              <a:rPr b="0" lang="sr-CS" sz="2200" spc="-1" strike="noStrike">
                <a:solidFill>
                  <a:srgbClr val="a80404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BrojNab</a:t>
            </a:r>
            <a:r>
              <a:rPr b="0" lang="sr-Latn-CS" sz="2200" spc="-1" strike="noStrike">
                <a:solidFill>
                  <a:srgbClr val="a80404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vljenih</a:t>
            </a:r>
            <a:r>
              <a:rPr b="0" lang="sr-CS" sz="2200" spc="-1" strike="noStrike">
                <a:solidFill>
                  <a:srgbClr val="a80404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BrojNaSkladistu</a:t>
            </a:r>
            <a:r>
              <a:rPr b="0" lang="sr-CS" sz="2200" spc="-1" strike="noStrike">
                <a:solidFill>
                  <a:srgbClr val="a804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80404"/>
                </a:solidFill>
                <a:latin typeface="Arial"/>
              </a:rPr>
              <a:t>/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65F-33B1-43A8-B107-F44F642B622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Скуп компонент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уп више вредности једне компонен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и се претставља у витичастим заград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приме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која каже да се у одговарајућој структури компонента може појав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ише пу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ер за скуп компоненти 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0404"/>
                </a:solidFill>
                <a:latin typeface="Arial"/>
              </a:rPr>
              <a:t>Narudzbenica &lt;BrojNar</a:t>
            </a:r>
            <a:r>
              <a:rPr b="0" lang="sr-CS" sz="2400" spc="-1" strike="noStrike">
                <a:solidFill>
                  <a:srgbClr val="a80404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80404"/>
                </a:solidFill>
                <a:latin typeface="Arial"/>
              </a:rPr>
              <a:t>Datum</a:t>
            </a: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a8040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80404"/>
                </a:solidFill>
                <a:latin typeface="Arial"/>
              </a:rPr>
              <a:t>{Stavke}</a:t>
            </a:r>
            <a:r>
              <a:rPr b="0" lang="sr-CS" sz="2400" spc="-1" strike="noStrike">
                <a:solidFill>
                  <a:srgbClr val="a80404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80404"/>
                </a:solidFill>
                <a:latin typeface="Arial"/>
              </a:rPr>
              <a:t>Radnik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229-00A2-49E6-9004-3572B578418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С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a80404"/>
                </a:solidFill>
                <a:latin typeface="Arial"/>
              </a:rPr>
              <a:t>Методологија моделирања процес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4703-47D8-4719-9AED-84CF74E2ACA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Увод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руктурна системска анали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е једна потпуна методологија за спецификацију информационог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на се на различите начине може повезати са методама других фаза у неку специфичну методологију целокупног развоја 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СА је 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лазна основа за метод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руктурног пројекто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прогр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094-52C4-4C79-A4EB-46E8E04272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Моделирање процес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спеш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делирање захт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 једне стра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знав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алн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обро познав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и техника које се корис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ед тога резултат који се добија зави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скуства и способности аналитича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д времена којим се располаж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рганизованости система који се анализи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муникације са корисницима систем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ругих сличних факт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95B-4BC4-42BD-B713-55F3CAE1BFB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Основни циљ СС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нов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лаже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огичк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де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 оствари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рект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делирањ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нов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знавања суштин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алн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нимањ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осно извлачењем логичког из постојећег физичког модела И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ак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ра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бину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сту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азећ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пшт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оријск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дела одређен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алн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изводног предузећ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ргов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нке и с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)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ализира се конкретан постојећ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т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 би се утврдиле њего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ебни захтев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DF8-391E-4AB1-9119-D81315C0903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914040" y="15998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a80404"/>
                </a:solidFill>
                <a:latin typeface="Arial"/>
              </a:rPr>
              <a:t>П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a80404"/>
                </a:solidFill>
                <a:latin typeface="Arial"/>
              </a:rPr>
              <a:t>Проширени модел објекти в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0003-DD39-4FFC-86C3-FB19E5D4B41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МОВ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роширени модел објекти вез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тодолошке поставке развоја И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дел подата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дел објекти вез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р – Електронска продав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C57-065F-4401-839F-04A16819DDE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Увод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ологија развоја информационих система захтева да се прецизно дефинише шта се под појмом информационог система подразум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е су његове функције и какав је његов положај у систему у коме делу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ологија развоја информационих система треба да буде опш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енљива на системе било које врс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носно на не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пшти сист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31E-65AB-4BCB-9B1B-254950C57B5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Методолошке поставке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развоја И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истем с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о што је рече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јопштије дефинише као </a:t>
            </a:r>
            <a:r>
              <a:rPr b="1" lang="sr-Latn-CS" sz="2000" spc="-1" strike="noStrike">
                <a:solidFill>
                  <a:srgbClr val="a50021"/>
                </a:solidFill>
                <a:latin typeface="Arial"/>
              </a:rPr>
              <a:t>скуп објеката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(</a:t>
            </a:r>
            <a:r>
              <a:rPr b="1" lang="sr-Latn-CS" sz="2000" spc="-1" strike="noStrike">
                <a:solidFill>
                  <a:srgbClr val="a50021"/>
                </a:solidFill>
                <a:latin typeface="Arial"/>
              </a:rPr>
              <a:t>ентитета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) </a:t>
            </a:r>
            <a:r>
              <a:rPr b="1" lang="sr-Latn-CS" sz="2000" spc="-1" strike="noStrike">
                <a:solidFill>
                  <a:srgbClr val="a50021"/>
                </a:solidFill>
                <a:latin typeface="Arial"/>
              </a:rPr>
              <a:t>и њихових ме</a:t>
            </a:r>
            <a:r>
              <a:rPr b="1" lang="sr-CS" sz="2000" spc="-1" strike="noStrike">
                <a:solidFill>
                  <a:srgbClr val="a50021"/>
                </a:solidFill>
                <a:latin typeface="Arial"/>
              </a:rPr>
              <a:t>ђ</a:t>
            </a:r>
            <a:r>
              <a:rPr b="1" lang="sr-Latn-CS" sz="2000" spc="-1" strike="noStrike">
                <a:solidFill>
                  <a:srgbClr val="a50021"/>
                </a:solidFill>
                <a:latin typeface="Arial"/>
              </a:rPr>
              <a:t>усобних ве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бјекти у систему могу да буду неки физички објек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онцеп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ог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ји и дру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бјекти се у моделу неког система описују преко својих својст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трибу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јекти могу бити јаки и сла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јство околине на систем описује се преко улаза у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 дејство система на околину преко његових изл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F1D-A08A-48F7-87A9-E21731328EC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Методолошке поставке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развоја И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нову информационог система чини база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а се сада може дефинисати и као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колекција ме</a:t>
            </a: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ђ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усобно повезаних </a:t>
            </a: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ентитета (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објек</a:t>
            </a: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т</a:t>
            </a: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а)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посматраног реалног система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,  њихових међусобних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вез</a:t>
            </a: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 и атрибут</a:t>
            </a: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a50021"/>
                </a:solidFill>
                <a:latin typeface="Arial"/>
              </a:rPr>
              <a:t>који их опису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јек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ра базирати на бази подат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60C-39A4-47C2-B532-3D3B749EA61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Методолошке поставке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развоја И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формациони систе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дел реалног систе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упак пројектовања ИС своди на моделирањ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еалн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50021"/>
                </a:solidFill>
                <a:latin typeface="Arial"/>
              </a:rPr>
              <a:t>Модел подата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ж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за приказивање објеката сис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њихових атрибута и њихових 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собних ве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атичких карактеристика сис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еко логичке структуре базе подата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50021"/>
                </a:solidFill>
                <a:latin typeface="Arial"/>
              </a:rPr>
              <a:t>Модел проце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ж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за описивање динамике сис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јства улаза на стање система и излазне трансформациј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еко програма над дефинисаним моделом подата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2FA-4E15-4779-AC78-353EF943C5F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Модел подата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дел података је средство за опис статичких ка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стика си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неком стационарном стањ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бог тога сваки модел података поседује три основне компонен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Структуру модела</a:t>
            </a:r>
            <a:r>
              <a:rPr b="0" lang="ru-RU" sz="2000" spc="-1" strike="noStrike">
                <a:solidFill>
                  <a:srgbClr val="a80404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куп концепата за опис објеката система њихових атрибута и њихових 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собних ве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Ограничењ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 вредности података која у сваком стационарном стању морају бити задовољ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ва ограничења се обично називају </a:t>
            </a: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правилима интегрите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одела подата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80404"/>
                </a:solidFill>
                <a:latin typeface="Arial"/>
              </a:rPr>
              <a:t>Операције над концептима структу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 дефинисаним ограничењи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еко којих је могуће описати динамику система у моделима проце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BCA-AB02-4BD4-8EDB-87263DF0997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Апстракција подата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пстракција је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контролисано укључивање детаља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, "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сакривање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"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детаља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односно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"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извлачење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"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општих карактери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у описивању неког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упак инверзан апстракцији називамо детаљис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ристећи се различитим нивоима апстрак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еки сложени систем се може истовремено и јасно и детаљно описа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вишим нивоима јас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 нижим детаљ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и контролисаним укључивањем детаљ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65D-49C9-4D17-B025-A9D99E70AC6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Циљ и улога ССА у пројектовању ИС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ти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ао методолошки поступак декомпозиције неког система на подсисте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тпу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ч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ормална и јасна спецификација И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едстављ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хте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оје будући систем треба да задовољ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дуслов за успешно даље пројектовање и имплементацију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ецификација је осно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рансформацио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јектовање и имплементаци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матизовано генерисање базе података и програма из 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носно за коришћење CASE сист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2C7-5D19-4463-A051-1F1FBCF28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Апстракција података </a:t>
            </a:r>
            <a:r>
              <a:rPr b="1" lang="sr-CS" sz="3500" spc="-1" strike="noStrike">
                <a:solidFill>
                  <a:srgbClr val="a80404"/>
                </a:solidFill>
                <a:latin typeface="Arial"/>
              </a:rPr>
              <a:t>Класификаци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асификација или типизација је апстракција у којој се скуп сличних објеката п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вља једном класом објек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носно сваки објекат из посматраног скупа одговарајућим типом обј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a80404"/>
                </a:solidFill>
                <a:latin typeface="Arial"/>
              </a:rPr>
              <a:t>Зоран, Петар, Стева</a:t>
            </a:r>
            <a:r>
              <a:rPr b="0" i="1" lang="sr-Latn-CS" sz="2000" spc="-1" strike="noStrike">
                <a:solidFill>
                  <a:srgbClr val="a80404"/>
                </a:solidFill>
                <a:latin typeface="Arial"/>
              </a:rPr>
              <a:t> </a:t>
            </a:r>
            <a:r>
              <a:rPr b="0" i="1" lang="sr-CS" sz="2000" spc="-1" strike="noStrike">
                <a:solidFill>
                  <a:srgbClr val="a80404"/>
                </a:solidFill>
                <a:latin typeface="Arial"/>
              </a:rPr>
              <a:t>су Студ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408-93C3-4936-A44B-2BF41C845F7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Апстракција података </a:t>
            </a:r>
            <a:r>
              <a:rPr b="1" lang="sr-CS" sz="3200" spc="-1" strike="noStrike">
                <a:solidFill>
                  <a:srgbClr val="a80404"/>
                </a:solidFill>
                <a:latin typeface="Arial"/>
              </a:rPr>
              <a:t>Генерализација и специјализациј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ерализација је апстракција у којој се скуп сличних типова објеката претставља општијим генеричким тип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дтип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д сличним типовима објеката овде се могу третирати типови објеката који имају један број ист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једнич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трибу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ипова веза са другим објектима и операц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Генерал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a80404"/>
                </a:solidFill>
                <a:latin typeface="Arial"/>
              </a:rPr>
              <a:t>Студенти, Наставници, Политичари, Певачи су Ос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14F-BF2A-43D1-BBF8-4FCE020DAEC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имер </a:t>
            </a:r>
            <a:br>
              <a:rPr sz="3500"/>
            </a:br>
            <a:r>
              <a:rPr b="1" lang="sr-CS" sz="3200" spc="-1" strike="noStrike">
                <a:solidFill>
                  <a:srgbClr val="a80404"/>
                </a:solidFill>
                <a:latin typeface="Arial"/>
              </a:rPr>
              <a:t>Генерализација и специјализациј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ерализација је апстракција у којој се скуп сличних типова објеката претставља општијим генеричким тип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дтип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371600" y="3132000"/>
          <a:ext cx="5486400" cy="28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132000"/>
                    <a:ext cx="5486400" cy="28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266C-4CE5-4B56-8BA2-8E6233E48BA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Апстракција података </a:t>
            </a:r>
            <a:br>
              <a:rPr sz="3500"/>
            </a:br>
            <a:r>
              <a:rPr b="1" lang="sr-CS" sz="3500" spc="-1" strike="noStrike">
                <a:solidFill>
                  <a:srgbClr val="a80404"/>
                </a:solidFill>
                <a:latin typeface="Arial"/>
              </a:rPr>
              <a:t>Агрегација и декомпозици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3059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грегација је апстракција у којој се скуп типова објеката и њихових веза третира као јединствени агрегирани тип обј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914400" y="3124080"/>
          <a:ext cx="723888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23888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1E1-2E14-4B4E-B303-398E44ACD3B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Структурна динамичка правила интегрите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ктурна ограничења у МОВ су дефинисана самом структуром мо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намичким правилима се одржава интегритет података при извршавању операција одржавања базе подат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ције се предузимају када се наруши интегритет неком од опе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400" spc="-1" strike="noStrike">
                <a:solidFill>
                  <a:srgbClr val="a50021"/>
                </a:solidFill>
                <a:latin typeface="Arial"/>
              </a:rPr>
              <a:t>insert, update, delet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estr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Cac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et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et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C14-028D-42F5-90DD-00B4C534CB0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Концептуално моделовањ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птуални модел представља суштинске карактеристике система за који се пројектује база пода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 начин за моделовање сложеног система је приступ Интеграције подмод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аци у интеграцији подмо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цификација 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сваки примитивни процес се гради 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ација подмодела у интегрални модел целог система 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BF4-E6FD-42CE-AFFE-F13C389483B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Основни концепти МОВ-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Објекат у систему представља било неки физички објекат или коцепт реалног систе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Везе у моделу описују начин повезивања два објекта (бинарна вез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Свака бинарна веза дефинише два пресликавањ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Пресликавања дефинишу улоге објеката у вез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Кардиналност пресликавања (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E1 </a:t>
            </a:r>
            <a:r>
              <a:rPr b="0" lang="sr-Latn-C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E2) 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дефинише најмањи могући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(DG) 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и највећи могућ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(GG) 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број појављивања типа објекта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E2, 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за једно појављивање типа објекта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E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DG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℮ [0,1..M], GG ℮ [1,..M] </a:t>
            </a:r>
            <a:r>
              <a:rPr b="0" lang="sr-Latn-CS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DG ≤ G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Објекти се описују атрибутим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Атрибут узима вредност из скупа могућих вредност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51000" y="1719360"/>
          <a:ext cx="664200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719360"/>
                    <a:ext cx="6642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97B-0984-46E5-A1DF-59758FCBDA2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ример основних типова вез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06600" y="2165400"/>
          <a:ext cx="67086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165400"/>
                    <a:ext cx="67086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684360" y="3209760"/>
          <a:ext cx="655632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209760"/>
                    <a:ext cx="6556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612720" y="4522680"/>
          <a:ext cx="66960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720" y="4522680"/>
                    <a:ext cx="66960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4037040" y="4446720"/>
          <a:ext cx="129852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7040" y="4446720"/>
                    <a:ext cx="1298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D4C-23C8-452C-BD2D-2CA53671DD34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000" spc="-1" strike="noStrike">
                <a:solidFill>
                  <a:srgbClr val="330066"/>
                </a:solidFill>
                <a:latin typeface="Arial"/>
              </a:rPr>
              <a:t>Електронска продавниц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a80404"/>
                </a:solidFill>
                <a:latin typeface="Arial"/>
              </a:rPr>
              <a:t>П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a80404"/>
                </a:solidFill>
                <a:latin typeface="Arial"/>
              </a:rPr>
              <a:t>Проширени модел објекти в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C6DD-5CC2-43E0-8BA0-514743C62A4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330066"/>
                </a:solidFill>
                <a:latin typeface="Arial"/>
              </a:rPr>
              <a:t>Подсистем 1. Набавке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1BBA-DCAB-46DF-9D6A-53522FCA023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719000"/>
            <a:ext cx="830592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ригинална ССА поседује веома једностав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рафичк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јасне концеп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ецификација ИС приказује </a:t>
            </a:r>
            <a:r>
              <a:rPr b="1" lang="sr-Latn-CS" sz="2400" spc="-1" strike="noStrike">
                <a:solidFill>
                  <a:srgbClr val="a80404"/>
                </a:solidFill>
                <a:latin typeface="Arial"/>
              </a:rPr>
              <a:t>ШТА</a:t>
            </a:r>
            <a:r>
              <a:rPr b="0" lang="sr-Latn-CS" sz="2400" spc="-1" strike="noStrike">
                <a:solidFill>
                  <a:srgbClr val="a80404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 треба д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то треба да оства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говор на пит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"</a:t>
            </a:r>
            <a:r>
              <a:rPr b="1" lang="sr-Latn-CS" sz="2400" spc="-1" strike="noStrike">
                <a:solidFill>
                  <a:srgbClr val="a50021"/>
                </a:solidFill>
                <a:latin typeface="Arial"/>
              </a:rPr>
              <a:t>как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аје се за конкретно окруже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дефинисану технологију и организацију у којој се систем имплементи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СА 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 б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бало 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држ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технолош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рганизацио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ограничена решењ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реба д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пише функционисање ИС 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деалној технологиј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Циљ пројектовања ИС и примене СС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3EE7-F15B-444D-B95F-1748C3AF93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абавка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: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дмодел за ток Наруџбениц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04840" y="1719360"/>
          <a:ext cx="6975360" cy="44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719360"/>
                    <a:ext cx="697536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766-3C2B-43E5-9474-C95EC06C5281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228600" y="1523880"/>
          <a:ext cx="477036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477036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3081240" y="1824120"/>
          <a:ext cx="5681880" cy="480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1240" y="1824120"/>
                    <a:ext cx="568188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3081240" y="5162400"/>
          <a:ext cx="210528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81240" y="5162400"/>
                    <a:ext cx="2105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Набавка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: 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одмодел за функцију Наручивањ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72F-3CE1-45A7-9C91-F261B4FB124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533520" y="1828800"/>
          <a:ext cx="792468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79246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2598840" y="1833480"/>
          <a:ext cx="5806800" cy="306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8840" y="1833480"/>
                    <a:ext cx="580680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3011400" y="2744640"/>
          <a:ext cx="4484880" cy="232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11400" y="2744640"/>
                    <a:ext cx="4484880" cy="23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абавка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: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дмодел за ток Пријем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807-0A4C-4DC5-86F3-D7A7A46D7FC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1747800" y="1676520"/>
          <a:ext cx="617688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676520"/>
                    <a:ext cx="617688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609480" y="2011320"/>
          <a:ext cx="6194520" cy="43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011320"/>
                    <a:ext cx="619452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абавка</a:t>
            </a:r>
            <a:r>
              <a:rPr b="1" lang="sr-Latn-CS" sz="3500" spc="-1" strike="noStrike">
                <a:solidFill>
                  <a:srgbClr val="330066"/>
                </a:solidFill>
                <a:latin typeface="Arial"/>
              </a:rPr>
              <a:t>:</a:t>
            </a: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 Подмодел за токове Фактура и Упла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8D7-97FD-4DB2-A77F-40761DD25DE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380880" y="1844640"/>
          <a:ext cx="8305920" cy="47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44640"/>
                    <a:ext cx="830592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грисани модел Набавк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8C6-1D7B-4513-A776-7AF12CD64FE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330066"/>
                </a:solidFill>
                <a:latin typeface="Arial"/>
              </a:rPr>
              <a:t>Подсистем 2. Продаје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AE38-73EF-43D6-B090-89D63042817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228600" y="1752480"/>
          <a:ext cx="81183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118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2903400" y="1943280"/>
          <a:ext cx="5707080" cy="34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3400" y="1943280"/>
                    <a:ext cx="570708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дмодел за функцију </a:t>
            </a:r>
            <a:br>
              <a:rPr sz="3500"/>
            </a:b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Обрада поруџбин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F5C-AC8E-44D1-ACA4-E751FE9B01EF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304920" y="2220840"/>
          <a:ext cx="7200720" cy="43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20840"/>
                    <a:ext cx="720072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3243240" y="4365720"/>
          <a:ext cx="43038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3240" y="4365720"/>
                    <a:ext cx="43038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3243240" y="1523880"/>
          <a:ext cx="5672160" cy="31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3240" y="1523880"/>
                    <a:ext cx="567216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дмодел за функцију Отпрем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AFF-CC89-4016-A515-4204B40128F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228600" y="4708440"/>
          <a:ext cx="8153280" cy="16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08440"/>
                    <a:ext cx="815328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014480" y="1981080"/>
          <a:ext cx="3681360" cy="325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1981080"/>
                    <a:ext cx="36813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дмодел за функцију Напла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3F5-767A-4EE7-A2B3-89C22001C99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09480" y="27468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грисани модел Продај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371600" y="1676520"/>
          <a:ext cx="6400800" cy="49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400800" cy="49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AC4-5159-448A-A57B-507806F8702E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23:11:00Z</dcterms:created>
  <dc:creator>Mr Maja </dc:creator>
  <dc:description/>
  <dc:language>en-US</dc:language>
  <cp:lastModifiedBy>Ognjen</cp:lastModifiedBy>
  <dcterms:modified xsi:type="dcterms:W3CDTF">2009-02-03T17:29:19Z</dcterms:modified>
  <cp:revision>259</cp:revision>
  <dc:subject/>
  <dc:title>Пројектовање Информационих система</dc:title>
</cp:coreProperties>
</file>