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04A-66D1-4FA4-9F2F-3445F825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F4F-BCB7-4654-B458-F5C03A90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6603-D986-4D05-9BEB-48F6A4E3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30E-55E2-4582-9621-5B0C6EBF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CAD1-28B7-4A7A-8C3D-D106B0B3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DA09-12D7-4079-A936-F3B290FE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6B94-33BA-48EA-BCD1-7295A50B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800B-2ED7-4E2F-8BDC-2201C489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BBD5-8B6B-4C90-8003-70144F58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5052-3997-493A-BD3C-C6064CF3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A422-F4EC-40E7-B535-8797CACF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FC0-A3F8-488E-B7BC-8E904100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1280-3663-4BED-B7EB-883065C8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A3FF-8AC0-46D3-9B85-CACF792A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4257-A09A-4FD4-B7D6-01EFC32C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5FBA-A1A0-466C-A3D2-3C32DB06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34FD-0E13-49FC-9168-A8B7A6F2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BFE-3B9F-473F-9F18-78742114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293-B232-47D5-9C7A-321398E8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7C39-971E-46FF-A7EC-04055750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083B-1698-44BF-BA2F-FC5F6B0A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D42-7667-4B8F-8CC0-1CFEE59A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46F8-F9E9-40A1-9E63-0020C0B5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550-DA90-4128-B93F-DE24AD8F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024A-8A92-462D-91B6-74516D16A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AB53-1848-4A5D-893E-FA9D44B03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СТРЕС У ОРГАНИЗАЦИЈ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Последице неприлагођавања увећаном стресу: Симптоми трауме и реакције на стр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живљавање трауматских догађаја кроз периодично и наметљиво присећање на њ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кушај потискивања трауматског доживљаја из све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туђеност од других, осиромашење  емоционалног жив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Симптоми појачаног одупирања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саница или прекидан с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дражљивост и чести изливи бе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шкоће концентр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дужена буд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увеличавање страшних доживља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социјално понаш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оцијално-економске последице стрес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рес “болест ХХ века”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Извештај Уједињених нација, 1993.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просечном дану 1 милион људи изостаје са посла због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75%-90% пацијената са овим симптом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цењује се да појава стреса америчку индустрију кошта годишње 200 – 300 билиона дол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60-80% несрећа на послу последица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Управљање стресо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рганизационе 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фесионална селекција – боља професионална и организациона адапт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ациона култура и међуљудски односи у предузећ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постављање споне између предузећа и породица запослен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Поступци и технике избегавања, релаксације и опорава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Барбара Ри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Генералне препоруке за избегавање стрес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ставити приорит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тврдити на шта се може утиц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истанцирати се од брига, задатака и стресова на које с ене може утиц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ровести методе приоритета – прво обавити најважн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ати поверења у сопствене способ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војити време за одм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 сваким дахом ослободит се свих стрес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лободити се перфекционистичких размишљања и нереалних захте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средсредити се на оно што је ва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ати на уму да се после релаксације ослобађамо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Краткорочно смањење стреса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ажити “тајм ау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даљити се од про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шетати се 5-6 мину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сти мирно и дисати полако и дубо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тићи на кратко на неко мирно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речити негативне ми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 преузимати на себе стрес других љ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поменити своје погле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говарати са неким поверљив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ло одспав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место само узимати, нешто и д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едитирати или молити 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инисањ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Стрес је психофизичко стањ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у које човек запа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у отежаним приликама и ситуација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еље: фаз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алармне реак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отп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исцрпљ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олест стр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Врсте стреса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према емоционалном значењу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устре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тр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Извори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1447920"/>
          <a:ext cx="76964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76964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Извори стреса у организациј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рода посл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тежина посла и прековремени рад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лога у организацији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конфликтна нејасна радна улог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говорност на посл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стресогенија одговорност за људе него за материјална добр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носи на рад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дноси између различитих нивоа у хијерархиј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етање у организациј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(најстресније напредовање до “границе своје неспособности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сихолошка клима организациј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Психолошка клима организације:</a:t>
            </a: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 стресогене карактеристике организације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скудне могућности партиципације запослених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длучивање у уском кругу повлашћени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останак осећаја запослених да припадају фир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 информисања не функциониш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те су уместо поузданих информација присутне полуинформације и гласин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 комуницирања је недефинисан и препуштен личним контакт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доследно и непредвидљиво вођење пословне политике фир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Извори стреса ван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одичне прил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ште друштвене и економске прил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рактеристике личности (“Тип А” и “Тип В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следиц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46680" y="2251080"/>
            <a:ext cx="146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19810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1523880"/>
            <a:ext cx="2286000" cy="4572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ипотала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905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ртикотропни 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514600"/>
            <a:ext cx="1828800" cy="7621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ипоф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200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дренокортикотропни хор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3886200"/>
            <a:ext cx="2133720" cy="609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дбубреж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4876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дреналин и норадрена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5257800"/>
            <a:ext cx="4267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ктивирање резерви шећера =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ктивирање групе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брзавање рада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1905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409720" y="2209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200400" y="3048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35268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ва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3:28:03Z</dcterms:created>
  <dc:creator>Ivana</dc:creator>
  <dc:description/>
  <dc:language>en-US</dc:language>
  <cp:lastModifiedBy>Ivana</cp:lastModifiedBy>
  <dcterms:modified xsi:type="dcterms:W3CDTF">2005-12-29T11:17:33Z</dcterms:modified>
  <cp:revision>21</cp:revision>
  <dc:subject/>
  <dc:title>СТРЕС У ОРГАНИЗАЦИЈИ</dc:title>
</cp:coreProperties>
</file>