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7CC-6864-4F5D-9DEC-93ADD457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170-F458-4DB9-9F8E-E2EE78B6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B05-284D-4B2B-A67F-77A5008B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71A6-0AEB-4103-A893-889A60E2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0659-407D-43CC-8779-09625F10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5277-3B02-48E5-A92B-30AD4292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66D4-92F3-4B19-A8AD-0412803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83B-483C-452C-BD8B-EAF84B87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4BA8-EEF6-43AD-857D-DE1F74EF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577CC-086B-495D-88B1-7F16A83C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BACC-2028-4DA9-9839-077F5B67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222-1AB6-46E3-A2D4-49B2D7B6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0E01-8C5B-425F-B1E2-7768FF62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223-C2ED-438A-8278-EA65FD18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7CC03-508D-4037-82F9-96AACCC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A2E7-8160-4716-A7DC-C8DFABEC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226A-DEC3-4DBB-8A4D-9C7B90609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B22-20FF-42A9-9A88-BCAC8710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6810-2C4E-4AC8-9B62-E4AEC49B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03EA-8F32-4ACB-BF29-6B6024E0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F69-C2B8-47D3-8199-06CD03B6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A9C-555E-48F5-A8B8-F14C927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273-383F-45F8-87A4-CD3DFBC9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63CE-2952-4639-BDF7-774D9DE7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E6BB-585A-41C2-95CC-9CCC58A4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3B4-1C7C-496D-8B38-CBD538304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КОМУНИКАЦИЈ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62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уникациони процеси и комуникационе вештине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СЕРТИВНОСТ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74678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амопродорно, борбено понашање које се испољава  у одлучној и активној одбрани сопствених права и потреба и  активном стремљењу ка циљу,  на социјално прихватљив и  за друге неповређујућ начин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пшти стилови комуникациј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сивн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Жртва ситуације”, спољашња контрола, избегавање конфликата = Пораз/побе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грес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осиоци” моћи и контроле ситуације = победа/по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асивно-агрес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ристе индиректне стратегије избегавања =пораз/пор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сертив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штовање својих и туђих потреба = победа/поб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имер:</a:t>
            </a:r>
            <a:br>
              <a:rPr sz="4000"/>
            </a:br>
            <a:r>
              <a:rPr b="0" lang="sr-CS" sz="3200" spc="-1" strike="noStrike">
                <a:solidFill>
                  <a:srgbClr val="221304"/>
                </a:solidFill>
                <a:latin typeface="Times New Roman"/>
              </a:rPr>
              <a:t>- ситуација комуницирања потребе да се не пуши -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657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грес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губи се. Стварно си кретен што ме изазиваш том цигаретом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с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ништа не приговара и осећа се лоше због тог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сертив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</a:rPr>
              <a:t>покушавам да оставим пушење. Молим Вас да имате разумевања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24280" y="2133720"/>
            <a:ext cx="4114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убитак контрол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овећана тенз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убитак самопоштов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мањено самопоуздањ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сећате се добро. Тражите оно што желите да добијете. Испоштовали сте и своја и туђа осећања. Друга особа је укључена у то и разуме да Вам је тренутно тешк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збегли сте потенцијално опасан окидач (кривицу или бес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447920"/>
            <a:ext cx="3200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ил комуницир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1523880"/>
            <a:ext cx="25909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зулта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848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кривене” пору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серт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“ово је оно што ја мислим и осећам; занима ме шта ти мислиш и осећаш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ас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”моја осећања и мишљење није битно, битно је само оно што ти осећаш и мислиш; само си ти важан, ја сам нико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гресивност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“ово је оно што ја мислим и само је то битно; ти си глуп што не мислиш исто као ја; то је оно што ја хоћу, оно што ти хоћеш није битно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Елементи и процес асертивног комуницирањ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мпатија – рећи нешто што одражава да сте разумели осећања друге осо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+ поштов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зношење проблема – изрећи начин на који Ви видите ситуацију (проблем) и негативно осећ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творено рећи оно што Ви желите (оекујете), своје циљеве и жељену промену понаш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Формула асертивне комуникације”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Желео бих 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или разумем, видим да...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ли, када ти __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а се осећам _____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чило би ми уколико би ти ___________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6172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Приметила сам да кад год треба да изађемо негде, ти се спремиш пре мене и почнеш да ме пожурујеш да се и ја што пре спремим иако имамо још времена до поласк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3694b6"/>
                </a:solidFill>
                <a:latin typeface="Times New Roman"/>
              </a:rPr>
              <a:t>Разумем да се унервозиш јер си ти спреман а ја још нисам,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</a:rPr>
              <a:t>али </a:t>
            </a:r>
            <a:r>
              <a:rPr b="1" i="1" lang="sr-CS" sz="1800" spc="-1" strike="noStrike">
                <a:solidFill>
                  <a:srgbClr val="666699"/>
                </a:solidFill>
                <a:latin typeface="Times New Roman"/>
              </a:rPr>
              <a:t>што ме више пожурујеш ја бивам све неспретнија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666699"/>
                </a:solidFill>
                <a:latin typeface="Times New Roman"/>
              </a:rPr>
              <a:t>и треба ми чак и више времена да се спремим. Увек се заврши тако што будемо љути један на другог и пре него што игде кренемо и тиме покваримо цело вече.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a1bd69"/>
                </a:solidFill>
                <a:latin typeface="Times New Roman"/>
              </a:rPr>
              <a:t>Хајде да се договоримо да од сада унапред одредимо тачно време кад ћемо кренути, и уколико се ти спремиш пре мене, молила бих те да једноставно одеш у другу собу и одгледаш нешто на ТВ док се и ја не спремим?</a:t>
            </a: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Times New Roman"/>
              </a:rPr>
              <a:t>Уколико ипак дођеш да ме пожурујеш ја ћу те у миру подсетити на време и наш договор. На тај начин ћемо обоје уживати много више у заједничким изласцима. “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219320"/>
            <a:ext cx="2057400" cy="914400"/>
          </a:xfrm>
          <a:prstGeom prst="wedgeRoundRectCallout">
            <a:avLst>
              <a:gd name="adj1" fmla="val -39662"/>
              <a:gd name="adj2" fmla="val 85763"/>
              <a:gd name="adj3" fmla="val 16667"/>
            </a:avLst>
          </a:prstGeom>
          <a:solidFill>
            <a:srgbClr val="3694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познавање осећа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38880" y="2514600"/>
            <a:ext cx="1905120" cy="990720"/>
          </a:xfrm>
          <a:prstGeom prst="wedgeRoundRectCallout">
            <a:avLst>
              <a:gd name="adj1" fmla="val -69000"/>
              <a:gd name="adj2" fmla="val 68587"/>
              <a:gd name="adj3" fmla="val 16667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очавање пробле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62920" y="3733920"/>
            <a:ext cx="1981080" cy="1371600"/>
          </a:xfrm>
          <a:prstGeom prst="wedgeRoundRectCallout">
            <a:avLst>
              <a:gd name="adj1" fmla="val -68268"/>
              <a:gd name="adj2" fmla="val 35532"/>
              <a:gd name="adj3" fmla="val 16667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јашњавање о својим потребама (нуђење решењ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“</a:t>
            </a: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Ја говор”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авити се проблемом а не оптужб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4572000"/>
            <a:ext cx="693432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елела бих да завршим своју причу без прекидањ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971800"/>
            <a:ext cx="685800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век ме прекидаш док причам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3505320" y="2514600"/>
            <a:ext cx="18288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514600"/>
            <a:ext cx="160020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 anchorCtr="1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696080" y="4952880"/>
          <a:ext cx="8384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4952880"/>
                    <a:ext cx="8384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Невреднујући судови – неосуђујуће тврдњ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водити неутралне чињенице без осуђи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381880" y="3733920"/>
          <a:ext cx="60984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1880" y="3733920"/>
                    <a:ext cx="60984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1143000" y="3048120"/>
            <a:ext cx="358128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 што си урадио ниш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 ваљ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3200400"/>
            <a:ext cx="37339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еба да исправи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ешке у куцању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иш стил писања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4876920"/>
            <a:ext cx="381024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ћеш ваљда на улицу ТАК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учен?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4724280"/>
            <a:ext cx="365760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си ли приметио 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ш флеке на мајици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1523520" y="2819520"/>
            <a:ext cx="175284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2743200"/>
            <a:ext cx="121932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4572000"/>
            <a:ext cx="20574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1523520" y="4495680"/>
            <a:ext cx="160020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05920" y="5410080"/>
          <a:ext cx="685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05920" y="5410080"/>
                    <a:ext cx="685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еузети одговорност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Исказати своје мишљење, осећања и ставове и преузети одговорност за њ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8229600" y="3657600"/>
          <a:ext cx="6094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9600" y="3657600"/>
                    <a:ext cx="609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3048120"/>
            <a:ext cx="2514600" cy="6858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нервирао ме је!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2971800"/>
            <a:ext cx="35812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нервирам с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 не одрж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ећање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4876920"/>
            <a:ext cx="266688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Једино разумн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то с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же учинити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05520" y="4648320"/>
            <a:ext cx="3352680" cy="1218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рује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је најбољи начи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се то уради..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294920" y="2666880"/>
            <a:ext cx="167652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2743200"/>
            <a:ext cx="106668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1599840" y="449568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4419720"/>
            <a:ext cx="137160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8077320" y="5562720"/>
          <a:ext cx="533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77320" y="5562720"/>
                    <a:ext cx="533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ј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уникација је проце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змене информација и значе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међу учесн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утем смислених и разумљив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мб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636120"/>
            <a:ext cx="76201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Јасни захтеви; предлог решења</a:t>
            </a:r>
            <a:br>
              <a:rPr sz="3600"/>
            </a:b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+</a:t>
            </a:r>
            <a:br>
              <a:rPr sz="3600"/>
            </a:b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конкретност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Формулисати јасне, директне захте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е изазивати негативан од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429000"/>
            <a:ext cx="28954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ли б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ао нешто против...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3352680"/>
            <a:ext cx="3429000" cy="914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Зашто ти не би...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09680" y="4876920"/>
            <a:ext cx="464832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ли би хтео...молим те?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6477120" y="5562720"/>
          <a:ext cx="7617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5562720"/>
                    <a:ext cx="7617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 flipH="1">
            <a:off x="1600200" y="3124080"/>
            <a:ext cx="17524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320040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714640" y="3124080"/>
            <a:ext cx="1676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5880" y="3124080"/>
            <a:ext cx="167652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итања и задаци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: Михаиловић, Д., Психологија у организацији, ФОН, Београд, 2005., стр. 261 – 27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и о свом стилу комуницирања. Какви су исходи тих комуникациј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пунити тест комуникационих вешт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ислити о својим комуникационим вештин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авез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ихаиловић, Д., Психологија у организацији, ФОН, Београд, 2005., стр. 261 – 2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датна: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ојановић Р., Психологија међуљудских односа, Центар за примењену психологију, Друштва психолога Србије, Београд, 1998., стр. 187-1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Vecchio, T.R., Organizational behavior, The Dryden Press, Orlando, 1995., str. 536 – 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ергер, Ј., Трећи родитељ, Центар за примењену психологију Друштва психолога Србије, Београд, 2000., стр. 140 - 1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уникациони филтер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304920" y="2438280"/>
            <a:ext cx="761760" cy="28195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2514600"/>
            <a:ext cx="685800" cy="2895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000680" y="3467160"/>
            <a:ext cx="1295280" cy="4572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844640"/>
            <a:ext cx="2895840" cy="41432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ФИЛТЕР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ШИЉАО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емоц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тавов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очекивања од уло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демографски (статус, пол, образовни ниво, старос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рекло, јези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паралингвистички знац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невербална комуникац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личне карактерис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опаж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итуационе варијабл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удаљеност, недостатак време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Комуникационе вешти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70480" y="2028960"/>
            <a:ext cx="2478240" cy="39909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ФИЛТЕР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imes New Roman"/>
              </a:rPr>
              <a:t>ПРИМАОЦ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 семан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емоциј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ставов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очекивања од уло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демографски (статус, пол, образовни ниво, старост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орекло, јези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паралингвистички знац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невербална комуникациј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личне карактерис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опаж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ситуационе варијабл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(удаљеност, недостатак време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 Комуникационе вешти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85800" y="62485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34520" y="54864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85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85800" y="1676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16765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10480" y="1676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Трансакциони модел комуникације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343400"/>
            <a:ext cx="1600200" cy="16002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иљ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4343400"/>
            <a:ext cx="1447560" cy="15238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мала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4952880"/>
            <a:ext cx="2286000" cy="609840"/>
          </a:xfrm>
          <a:prstGeom prst="leftRightArrow">
            <a:avLst>
              <a:gd name="adj1" fmla="val 50000"/>
              <a:gd name="adj2" fmla="val 74623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0532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8760" y="3581280"/>
            <a:ext cx="45468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у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62520" y="19810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мбо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478400">
            <a:off x="1047600" y="1706400"/>
            <a:ext cx="2599560" cy="613800"/>
          </a:xfrm>
          <a:prstGeom prst="rightArrow">
            <a:avLst>
              <a:gd name="adj1" fmla="val 50000"/>
              <a:gd name="adj2" fmla="val 10588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нкодирање/декодир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4034400">
            <a:off x="5808600" y="768600"/>
            <a:ext cx="786240" cy="2500920"/>
          </a:xfrm>
          <a:prstGeom prst="downArrow">
            <a:avLst>
              <a:gd name="adj1" fmla="val 50000"/>
              <a:gd name="adj2" fmla="val 79522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екодирање/енкодирањ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943600"/>
            <a:ext cx="762120" cy="6094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83480" y="2730960"/>
            <a:ext cx="615960" cy="1249560"/>
          </a:xfrm>
          <a:prstGeom prst="cloudCallout">
            <a:avLst>
              <a:gd name="adj1" fmla="val 7939"/>
              <a:gd name="adj2" fmla="val 160824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5880" y="3048120"/>
            <a:ext cx="182880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01000" y="4648320"/>
            <a:ext cx="114300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867280"/>
            <a:ext cx="1371600" cy="838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2343240"/>
            <a:ext cx="772164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Комуникација као трансакција 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познавање комуникације (трансакције) према моделу трансакционе анализ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Комплементар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7360" y="3427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о је са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33720" y="4114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49640" y="43804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8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943600" y="281952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019920" y="2971800"/>
            <a:ext cx="13716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7270200">
            <a:off x="6057360" y="3085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олиш ли м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8175800">
            <a:off x="5734440" y="4482360"/>
            <a:ext cx="195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равно да те вол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Укрште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360" y="342792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о је сати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943600" y="2819520"/>
            <a:ext cx="137160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7270200">
            <a:off x="6057360" y="308556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олиш ли ме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88440" y="4342320"/>
            <a:ext cx="164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та је то љубав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981080" y="2590920"/>
            <a:ext cx="106704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7434800">
            <a:off x="1506600" y="4811400"/>
            <a:ext cx="216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 већ једном тај сат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6248160" y="3962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14400" y="19810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3505320"/>
            <a:ext cx="1219320" cy="12189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51055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1981080"/>
            <a:ext cx="11430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342900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5105520"/>
            <a:ext cx="129564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952880" y="190512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3352680"/>
            <a:ext cx="12193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029200"/>
            <a:ext cx="121932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1981080"/>
            <a:ext cx="12193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одите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3505320"/>
            <a:ext cx="121932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расл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5105520"/>
            <a:ext cx="11430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Скривене трансак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43240" y="319932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аспродаја је само дана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113800">
            <a:off x="2285280" y="43423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 одмах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0800000">
            <a:off x="5867280" y="3123720"/>
            <a:ext cx="194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мам добре плоче код кућ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882760" y="4483440"/>
            <a:ext cx="16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божавам музи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4267080"/>
            <a:ext cx="1143000" cy="838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1981080" y="4495320"/>
            <a:ext cx="10670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2269200">
            <a:off x="1586520" y="49514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пићу одма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1408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гао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522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пле (двосмислен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248160" y="4114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5334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171840" y="5638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55520" y="4914000"/>
            <a:ext cx="245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Хајде да се мало забавим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10160" y="594252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аж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КТИВНО СЛУШАЊ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НОШЕЊЕ ПОРУ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УМЕВАЊЕ ПРОЦЕСА, АКТЕРА И КОНТЕК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НТРОЛА ЕМО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СЕРТИВНОС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762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ВЕШТИНЕ УСПЕШНЕ КОМУНИК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7:44:50Z</dcterms:created>
  <dc:creator>Ivana</dc:creator>
  <dc:description/>
  <dc:language>en-US</dc:language>
  <cp:lastModifiedBy>Ivana</cp:lastModifiedBy>
  <dcterms:modified xsi:type="dcterms:W3CDTF">2005-12-12T18:49:20Z</dcterms:modified>
  <cp:revision>21</cp:revision>
  <dc:subject/>
  <dc:title>Slide 1</dc:title>
</cp:coreProperties>
</file>