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D17B-E9DD-4ADD-8F97-F46F02E2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B98F-8CEC-4701-B4CA-1B1FFB60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720D-1034-4477-8A64-BB122F6DB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946B-50D2-4DD8-B9CD-B73CCBC22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FF0F-A95E-4AB9-8157-69B54803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D6F7-155F-438E-950E-2997B081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6EEF-12AC-4799-ABD6-01CC8E15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33A3-7FBF-48AC-8DD2-EDCDDF37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E754-2D8E-4189-91DF-A55CE352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27CD-9F39-4F81-8502-0F58F41C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490D-BB25-4E07-8B60-D02BF382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08B4-E9C6-4E23-B3BB-E241577E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F616-F6AD-42EA-9AB8-B879F60C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6630-1C7D-44F8-B730-F229C20A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C2EB-05D6-4B2C-BEC2-0ABC2222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AA2B-75D5-41A1-AF20-0A30000B7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991C-90E2-439C-B6CE-129BFF330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0AFC-38CD-47A2-8347-A28F9AD3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2826-6996-473A-A389-B537C1C6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3E9A-F043-4343-9FD2-C5840FFA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7741-4B42-40FB-8D22-991FED3C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0DE2-8F31-45B1-BADE-7A51B8C8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62C4-CA28-4A21-AF76-ECA50549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0CB7-EE15-4845-86E8-B1E82D39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80E4-CB72-45E8-80DC-93F01C865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70C4-17D1-4B3D-AAEA-0A696FA08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КОНФЛИКТ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нфликти и њихово превазилажење; упознавање свог стила реаговања у конфликту; симулација конфликт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Задаци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етите се ситуације када сте били у конфликту, како сте реаговали, који је био исход Ваше реакциј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азмислите о начину на који Ви реагујете у конфликт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мајући у виду да ниједан начин реаговања у конфликту није у свакој ситуацији прикладан, размислите о предностима и недостацима сваког од њих и на основу тога попуните схему бр.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азмислите о ситуацијама када треба реаговати на понуђење начине и на основу тога попуните схему бр.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рганизујте са пријатељима радиониц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21304"/>
                </a:solidFill>
                <a:latin typeface="Times New Roman"/>
              </a:rPr>
              <a:t>Схема бр. 1.: Предности и недостаци стилова реаговања у конфликту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66680" y="1752480"/>
          <a:ext cx="7620120" cy="4245120"/>
        </p:xfrm>
        <a:graphic>
          <a:graphicData uri="http://schemas.openxmlformats.org/drawingml/2006/table">
            <a:tbl>
              <a:tblPr/>
              <a:tblGrid>
                <a:gridCol w="762120"/>
                <a:gridCol w="1447920"/>
                <a:gridCol w="1295280"/>
                <a:gridCol w="1676520"/>
                <a:gridCol w="1371600"/>
                <a:gridCol w="1066680"/>
              </a:tblGrid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кмичењ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бегав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лагођав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роми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рад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175248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190512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стилов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0800000">
            <a:off x="1065240" y="2592000"/>
            <a:ext cx="12776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ед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0800000">
            <a:off x="1066680" y="4267080"/>
            <a:ext cx="546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едостац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21304"/>
                </a:solidFill>
                <a:latin typeface="Times New Roman"/>
              </a:rPr>
              <a:t>Схема бр. 2.: конфликтне ситуације које одговарају појединим стиловима решавања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066680" y="1752480"/>
          <a:ext cx="7620120" cy="4419360"/>
        </p:xfrm>
        <a:graphic>
          <a:graphicData uri="http://schemas.openxmlformats.org/drawingml/2006/table">
            <a:tbl>
              <a:tblPr/>
              <a:tblGrid>
                <a:gridCol w="1828800"/>
                <a:gridCol w="5791320"/>
              </a:tblGrid>
              <a:tr h="88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кмичењ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бегавањ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лагођавањ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роми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радњ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221304"/>
                </a:solidFill>
                <a:latin typeface="Times New Roman"/>
              </a:rPr>
              <a:t>Радионица: симулација конфликт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219320" y="3504960"/>
            <a:ext cx="7238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Задатак: покушајте да одиграте дату ситуацију и да нађете решење за проблем (у року од 30 мин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ати предлог решењ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Одговорити на питањ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Шта овде видите као проблем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Које је природе конфликт с обзиром на узрок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221304"/>
                </a:solidFill>
                <a:uFillTx/>
                <a:latin typeface="Times New Roman"/>
              </a:rPr>
              <a:t>Сценарио:</a:t>
            </a:r>
            <a:br>
              <a:rPr sz="4000"/>
            </a:b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за особу 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Times New Roman"/>
              </a:rPr>
              <a:t>Колегиница и ја заједно радимо исраживачки рад за предмет Психологија организације. Остало нам је још две недеље да завршимо цео рад, али ми даље од дефинисања проблема нисмо одмакли. У почетку је све ишло добро, договорили смо се око теме за тили час и требало је да се видимо и почнемо да осмишљавамо нацрт у следећу среду. Када је дошла следећа среда колегиница се пола сата пре састанка јавила да неће никако стићи да дође и да ћемо се чути да се договоримо за неки други дан. Мислила сам да имамо времена и да то није битно, нити толико хитно. Међутим, како су се те ситуације понављале из недеље у недељу, почела сам да сама осмишљавам нацрт и на крају се испоставило да ћу урадити готово цео рад сама, барем највећи део рада. То ме је мало наљутило и рекла сам колегиници да ми то смета. Она ми је одговорила да тренутно има приватне проблеме и да ме моли да је разумем.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221304"/>
                </a:solidFill>
                <a:uFillTx/>
                <a:latin typeface="Times New Roman"/>
              </a:rPr>
              <a:t>Сценарио:</a:t>
            </a:r>
            <a:br>
              <a:rPr sz="4000"/>
            </a:b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за особу 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Times New Roman"/>
              </a:rPr>
              <a:t>Колегиница и ја заједно радимо исраживачки рад за предмет Психологија организације. Остало нам је још две недеље да завршимо цео рад, али ми даље од дефинисања проблема нисмо одмакли. У почетку је све ишло добро, договорили смо се око теме за тили час и требало је да се видимо и почнемо да осмишљавамо нацрт у следећу среду. Међутим, у међувремену посвађала сам се са дечком са којим сам у вези већ годину дана и то ме је окупирало и одузело ми много времена. Стога нисам стигла да дођем по договору и обавестила сам о томе колегиницу. Тако сложена ситуација као што је мој, да га тако назовем љубавни проблем, није се наравно могао решити сам од себе, нити га је могуће лако решити. С друге стран, битно ми је да завршимо то започето истраживање и све што тражим од колегинице то је мало разумевања за моје приватне проблеме јер да је ситуација обратна ја бих је потпуно разумела. Међутим, у разговору са њом наслутила сам да нешто није у реду и да је она веома нестрпљива, готово љута на мен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Питања за посматраче: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Је ли дошло до ескалације конфликта, или се конфликт смиривао како је време пролазило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 је како реаговао на пробле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а ли бисте конфликт који се пред Вама одиграо оценили као конструктиван или као деструктиван и зашто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а ли је дошло до решења и на који начин (стилови решавања конфликта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Одредити стил реаговања у конфликту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066680" y="1752480"/>
          <a:ext cx="7620120" cy="4419360"/>
        </p:xfrm>
        <a:graphic>
          <a:graphicData uri="http://schemas.openxmlformats.org/drawingml/2006/table">
            <a:tbl>
              <a:tblPr/>
              <a:tblGrid>
                <a:gridCol w="1676520"/>
                <a:gridCol w="5943600"/>
              </a:tblGrid>
              <a:tr h="117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Б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ИЛ КОНФЛИКТНОГ РЕАГОВАЊ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ба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ба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Литература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2640" y="17524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авезн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Михаиловић, Д., Психологија у организацији, ФОН, Београд, 2005., стр. 241 – 2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одатна: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Бојановић Р., Психологија међуљудских односа, Центар за примењену психологију, Друштва психолога Србије, Београд, 1998., стр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23 -2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Vecchio, T.R., Organizational behavior, The Dryden Press, Orlando, 1995., str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466 – 4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itchell, C.R., Psihološke dimenzije konflikta, u: Popadić, D., Kovač-Cerović, T., Plut, D., Socijalni konflikti, Most, Beograd, 1996., str. 53-9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Reece, L.B., Brandt, R., Human Relations: Principles and Practices, Honghton Mifflin Company, Boston, 1997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Конфликт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укоби међу људима који имај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упротне интересе или вредно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 на тај начин међусобно угрожавају задовољење неких значајних потреб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сихолошко језгро конфликта: Фрустрација основних потреб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41148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81480" y="40384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УЗРОЦИ КОНФЛИКА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НФЛИКТ ИНТЕРЕСА/КОНФЛИКТ ВРЕД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Два схватања о узроцима конфликт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НФЛИКТИ ВРЕДНОСТИ - узрок конфликта у предрасудама (у психолошким карактеристикама носилаца конфликт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НФЛИКТИ ИНТЕРЕСА - Узрок конфликта у реалном сукобу интере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221304"/>
                </a:solidFill>
                <a:latin typeface="Times New Roman"/>
              </a:rPr>
              <a:t>Шерифов експеримент</a:t>
            </a:r>
            <a:br>
              <a:rPr sz="3200"/>
            </a:b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(теорија реалистичких конфликата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Узорак: 24 просечн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ечац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Беле рас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англосаксонског порекл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з протестантских породиц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редња кла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24280" y="1981080"/>
            <a:ext cx="3048120" cy="381240"/>
          </a:xfrm>
          <a:prstGeom prst="wedgeRoundRectCallout">
            <a:avLst>
              <a:gd name="adj1" fmla="val -115050"/>
              <a:gd name="adj2" fmla="val 69583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уједначени по пол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2895480"/>
            <a:ext cx="2209680" cy="685800"/>
          </a:xfrm>
          <a:prstGeom prst="wedgeRoundRectCallout">
            <a:avLst>
              <a:gd name="adj1" fmla="val -69972"/>
              <a:gd name="adj2" fmla="val 29166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уједначени по порекл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15000" y="2666880"/>
            <a:ext cx="533520" cy="1524240"/>
          </a:xfrm>
          <a:custGeom>
            <a:avLst/>
            <a:gdLst>
              <a:gd name="textAreaLeft" fmla="*/ 0 w 533520"/>
              <a:gd name="textAreaRight" fmla="*/ 192600 w 53352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798"/>
                </a:lnTo>
                <a:cubicBezTo>
                  <a:pt x="10800" y="9698"/>
                  <a:pt x="16200" y="10598"/>
                  <a:pt x="21600" y="10598"/>
                </a:cubicBezTo>
                <a:cubicBezTo>
                  <a:pt x="16200" y="10598"/>
                  <a:pt x="10800" y="11498"/>
                  <a:pt x="10800" y="1239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05720" y="4191120"/>
            <a:ext cx="1904760" cy="609480"/>
          </a:xfrm>
          <a:prstGeom prst="wedgeRoundRectCallout">
            <a:avLst>
              <a:gd name="adj1" fmla="val -81833"/>
              <a:gd name="adj2" fmla="val 74481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уједначени по вероиспове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5181480"/>
            <a:ext cx="2743200" cy="990720"/>
          </a:xfrm>
          <a:prstGeom prst="wedgeRoundRectCallout">
            <a:avLst>
              <a:gd name="adj1" fmla="val -115856"/>
              <a:gd name="adj2" fmla="val 17949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уједначени по социоекономском статус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Фазе експеримен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фаза: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деца спонтано према интересовањима формирају групе за дружењ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2. фаз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: вештачки формиране групе раздвајањем оних који би се међусобом дружили + формирање групног идентите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3. фаза: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увођење такмичења између груп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54864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ојава конфликта између груп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Покушај решавања конфлик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једничке пријатне актив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једнички непријате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ворити атмосферу сарадње постављајући им заједнички надређени ци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психолошке стратегије редукције стреса у ситуацији конфликта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205704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лективно опажа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лективно памће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Групна идентификаци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Стилови управљања конфликтим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19720" y="190512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7920" y="38098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40384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Брига за друг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4380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3352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1600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5410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3809520" y="1980720"/>
            <a:ext cx="4852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Брига за себ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8128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мпром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4572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акмиче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45720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влачење, избегава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18288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илагођавањ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19810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арадњ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7:44:50Z</dcterms:created>
  <dc:creator>Ivana</dc:creator>
  <dc:description/>
  <dc:language>en-US</dc:language>
  <cp:lastModifiedBy>Ivana</cp:lastModifiedBy>
  <dcterms:modified xsi:type="dcterms:W3CDTF">2005-12-26T13:22:09Z</dcterms:modified>
  <cp:revision>38</cp:revision>
  <dc:subject/>
  <dc:title>Slide 1</dc:title>
</cp:coreProperties>
</file>