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4E6-E2B0-488D-AB12-11259152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0EE-DC14-446F-81C3-89D7BFCB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81BF-5F0C-434F-93FA-D5BC5C74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83D-BDAF-4BE4-A9DA-A758653A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8E17-B19A-4F75-969C-04D5AF91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AD9F-2822-45EA-8BB7-69758F7D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C376-EEBD-4A2F-B98F-807E75A2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42AA-0E4A-4C71-9B73-8DBD36E4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4B9D-7026-4397-94DA-E86CA97E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436E-7CAA-493A-AC63-39EDEE38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3FC7C-8C2C-4873-8136-A4EC2AD2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1E6-2C65-4839-9F37-099B23CF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F573-E923-4C60-AF95-440C2872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3D42-B9EB-411E-A680-8E46D18A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70A1-3EFA-4D64-BDE0-0C22DCA6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485F-926C-4794-9C93-9337A2E9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8ADC-8A9D-4427-80A7-EB44A106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A015-A896-4FB6-BD71-CDBEE102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C5D3-53C1-46BE-A358-6610739D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9364-8F6F-4048-956C-6991804E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35EB-C4E8-4610-9026-71BFD949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CB8-DBE4-4388-8343-3F8AAFDD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3BC7-4771-4093-973C-C83AA364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AB94-33A8-402E-B61E-518A353B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CAB9-B82B-46EF-97B8-FE6348C3741B}" type="slidenum"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C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4C24-6D36-4E94-B73F-A5EC94136AF1}" type="slidenum"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003366"/>
                </a:solidFill>
                <a:latin typeface="Arial"/>
                <a:ea typeface="Arial"/>
              </a:rPr>
              <a:t>Prisutnost medija u svakodnevnom životu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66"/>
                </a:solidFill>
                <a:latin typeface="Arial"/>
              </a:rPr>
              <a:t>Stojanović Maj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66"/>
                </a:solidFill>
                <a:latin typeface="Arial"/>
              </a:rPr>
              <a:t>Tomić Ivan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476360" y="2252520"/>
          <a:ext cx="7199280" cy="455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252520"/>
                    <a:ext cx="71992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Koje dnevne novine najčešće čitat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oji magazin najčešće čita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26920" y="2124000"/>
          <a:ext cx="7490160" cy="473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124000"/>
                    <a:ext cx="749016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403280" y="2386080"/>
          <a:ext cx="7272360" cy="434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86080"/>
                    <a:ext cx="7272360" cy="43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Da li pratite domaće ili strane kanal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116000" y="2276640"/>
          <a:ext cx="6840720" cy="51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76640"/>
                    <a:ext cx="6840720" cy="51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oji TV kanal najčešće prati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187280" y="2316240"/>
          <a:ext cx="712980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16240"/>
                    <a:ext cx="712980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Koju emisiju sa tog kanala najviše gledat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042920" y="2276640"/>
          <a:ext cx="7058160" cy="47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276640"/>
                    <a:ext cx="705816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Koju informativnu informativnu emisiju najčešće pratit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3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92360" y="2230560"/>
          <a:ext cx="5832360" cy="47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230560"/>
                    <a:ext cx="5832360" cy="47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Koji zabavni program najviše pratit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Koji zabavni program najviše pratit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332000" y="2205000"/>
          <a:ext cx="633564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05000"/>
                    <a:ext cx="63356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1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826920" y="2565360"/>
          <a:ext cx="7921800" cy="40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565360"/>
                    <a:ext cx="79218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 txBox="1"/>
          <p:nvPr/>
        </p:nvSpPr>
        <p:spPr>
          <a:xfrm>
            <a:off x="129132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Pratite li obrazovni program i emisije iz kulture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752400" y="2419200"/>
          <a:ext cx="8377200" cy="35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2419200"/>
                    <a:ext cx="837720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 txBox="1"/>
          <p:nvPr/>
        </p:nvSpPr>
        <p:spPr>
          <a:xfrm>
            <a:off x="12913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Pratite li sportski program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Mediji su prisutni u svakodnevnom životu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Štampa (dnevna, nedeljna, mesečna.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eleviz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291320" y="1053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6666"/>
                </a:solidFill>
                <a:latin typeface="Arial"/>
              </a:rPr>
              <a:t>Procenite zadovoljstvo ponuđenih programa naših TV kanala s obzirom na vaša interesovanja ocenom 1-5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403280" y="2359080"/>
          <a:ext cx="6769080" cy="421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59080"/>
                    <a:ext cx="676908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newsflash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Zaključc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 grupu od 11 do 1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 grupu od 16 do 18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 grupu od 19 do 2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 grupu od 26 do 4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Za grupu od 46 go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77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77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Definisanje uticaja medij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550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Granice stvarnost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Vreme uz 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Idoli i heroj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ocijalni status porod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Moguće rešenje problem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dukacija autora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dukacija pojedi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Edukacija medi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Nacionalna strategija obrazovanj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Anketirane starosne gru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d 11 do 1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d 16 do 18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d 19 do 2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d 26 do 45 go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Od 46 go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Pitanja iz anke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a li slušate radi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u radio stanicu najčešće sluš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e dnevne novine najčešće čit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i magazin najčešće čit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a li češće pratite domaće ili strane kana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i TV kanal najčešće prati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u emisiju sa tog kanala najviše gleda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Pitanja iz anke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u informativnu emisiju najčešće prati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Koji zabavni program najviše pratit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atite li obrazovni program i emisije iz kultur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atite li sportski progra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ocenite zadovoljstvo ponuđenih programa naših TV kanala s obzirom na vaša interesovanja ocenom od 1 – 5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Da li slušate radi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0000" y="2475000"/>
          <a:ext cx="7272360" cy="408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75000"/>
                    <a:ext cx="727236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952560" y="2781360"/>
          <a:ext cx="7694640" cy="299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2781360"/>
                    <a:ext cx="769464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 txBox="1"/>
          <p:nvPr/>
        </p:nvSpPr>
        <p:spPr>
          <a:xfrm>
            <a:off x="827640" y="692640"/>
            <a:ext cx="8243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Koju radio stanicu najčešće sluša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2T21:45:21Z</dcterms:created>
  <dc:creator>Korisnik</dc:creator>
  <dc:description/>
  <dc:language>en-US</dc:language>
  <cp:lastModifiedBy>Korisnik</cp:lastModifiedBy>
  <dcterms:modified xsi:type="dcterms:W3CDTF">2006-01-13T00:08:08Z</dcterms:modified>
  <cp:revision>3</cp:revision>
  <dc:subject/>
  <dc:title>Prisutnost medija u svakodnevnom životu</dc:title>
</cp:coreProperties>
</file>