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40EA-A4A2-497B-9FBF-D09066488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1881-AD17-4D9E-96DC-EB962BE5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3972-BB5C-4F1F-9FC9-2ADE0743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C708-EA08-49A8-A1AC-0CF5FB8A3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06C6-754D-4F25-B7C8-DAB72372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F385-E1CE-405F-9C14-AFBF2754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F3B8-F571-4070-A174-73BC62D7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AE19-74D2-4FBE-844E-19B281D1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CD95-1B7C-4209-B96A-ADC28115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A2D5-8491-4744-8B43-4E0082A9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8956-C692-446A-B64D-866E60E3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88D8-9040-4602-8F82-FC302346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F104-F663-43BB-95F2-2DF7A2A3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8C78-F628-4C8D-8BBF-1E1705A9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4507-EF21-4914-B1EA-DF28F42A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E379-27E5-46D7-8AC3-F9CDA9EA7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8D6D-7313-41DE-9411-33E6D704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4FFC-E228-456B-8248-47CD4797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ABEE-3817-4056-96F2-A5E8C932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01B6-7CE4-4374-8D4B-A09927DE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6172-3F85-48F3-A002-A5023930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3DC9-689A-4B14-A0EE-8AFAB937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B257-A1D7-426D-951B-0EE127D9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19AF-A67A-4604-9453-FF943D5B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B43B-7999-49BC-9FA9-8E0F094B9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5667-E8B1-4B47-BAB9-ACF1A9C0F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221304"/>
                </a:solidFill>
                <a:latin typeface="Times New Roman"/>
              </a:rPr>
              <a:t>Садржај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ИСТЕМАТСКИ ДЕ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Модел очекивањ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2057400"/>
            <a:ext cx="2286000" cy="6094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АП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38480" y="2057400"/>
            <a:ext cx="2362320" cy="6094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БАВЉАЊЕ ПО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162920" y="2057400"/>
            <a:ext cx="1676160" cy="6094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АГ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3276720"/>
            <a:ext cx="2438640" cy="9903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ПАЖЕ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ВЕРОВАТНОЋ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ПОР – ОБАВЉАЊЕ ПОС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57600" y="3276720"/>
            <a:ext cx="3124080" cy="9651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ПАЖЕ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ВЕРОВАТНОЋ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БАВЉАЊЕ ПОСЛА - НАГРА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10280" y="3276720"/>
            <a:ext cx="1676520" cy="10666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ПАЖЕ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ВРЕДНОС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ГРА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4495680"/>
            <a:ext cx="2286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Коли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је вероватноћ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да ћу обавити поса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колико уложи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еопходан напор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114800" y="4495680"/>
            <a:ext cx="2133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Које су шан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да добијем награ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(која је за мене вредна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колико успеш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завршим поса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0" y="4495680"/>
            <a:ext cx="190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Шта је за мене важн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5268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77120" y="2438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05740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334120" y="2666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8153280" y="2666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Мотивациони механизам - Врум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600200"/>
            <a:ext cx="1828800" cy="838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Збир прошл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искуста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3048120"/>
            <a:ext cx="1295280" cy="99036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ОЧЕКИВАЊ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4572000"/>
            <a:ext cx="1295280" cy="990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ДОСТУПН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2971800"/>
            <a:ext cx="1219320" cy="990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МОТИ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90920" y="4648320"/>
            <a:ext cx="1218960" cy="9144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ЦИЉЕВ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3886200"/>
            <a:ext cx="1524240" cy="990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ПОНАШАЊ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81680" y="2895480"/>
            <a:ext cx="1828800" cy="10670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АКТИВНОС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УСМЕРЕ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КА ЦИЉ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4495680"/>
            <a:ext cx="1676520" cy="10670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АКТИВНОС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КОЈА ВОД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ДИРЕКТ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ДО ЦИЉ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68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57400" y="5029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057400" y="5181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91120" y="34290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885840" y="3429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88584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9112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419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335268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51" idx="3"/>
            <a:endCxn id="152" idx="3"/>
          </p:cNvCxnSpPr>
          <p:nvPr/>
        </p:nvCxnSpPr>
        <p:spPr>
          <a:xfrm flipH="1">
            <a:off x="8533800" y="3428640"/>
            <a:ext cx="76680" cy="1600920"/>
          </a:xfrm>
          <a:prstGeom prst="curvedConnector5">
            <a:avLst>
              <a:gd name="adj1" fmla="val -300000"/>
              <a:gd name="adj2" fmla="val 50000"/>
              <a:gd name="adj3" fmla="val -300000"/>
            </a:avLst>
          </a:prstGeom>
          <a:ln w="1260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65" name=""/>
          <p:cNvCxnSpPr>
            <a:stCxn id="152" idx="1"/>
            <a:endCxn id="151" idx="1"/>
          </p:cNvCxnSpPr>
          <p:nvPr/>
        </p:nvCxnSpPr>
        <p:spPr>
          <a:xfrm rot="10800000">
            <a:off x="6781680" y="3428280"/>
            <a:ext cx="76680" cy="1600920"/>
          </a:xfrm>
          <a:prstGeom prst="curvedConnector5">
            <a:avLst>
              <a:gd name="adj1" fmla="val 401415"/>
              <a:gd name="adj2" fmla="val 50000"/>
              <a:gd name="adj3" fmla="val 401415"/>
            </a:avLst>
          </a:prstGeom>
          <a:ln w="1260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66" name=""/>
          <p:cNvSpPr/>
          <p:nvPr/>
        </p:nvSpPr>
        <p:spPr>
          <a:xfrm flipV="1">
            <a:off x="5334120" y="20574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2361960" y="20574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90920" y="1600200"/>
            <a:ext cx="22096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2209680"/>
            <a:ext cx="22100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19520" y="2209680"/>
            <a:ext cx="1981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19520" y="14479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ратна спре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19320" y="4038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9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Мотиви су покретачи који изазивају активност човека и имају своју специфичну и тренутну “јачину” (снагу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Циљеви су очекиване награде и налазе се ван особ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чекивање – опажена вероватноћа задовољавања одређене потребе од стране особе, заснована на њеном искуству (збир прошлих искустава), субјективне процене повезаности неког понашања и циља одређене привлач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Доступност – опажена ограничења у средини (колико доступним опажамо циљеве који могу да нам задовоље потреб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Активности усмерене ка циљу = циљне активности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34290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Активности усмерене ка циљу  -мотивисано понашање усмерено ка циљу (нпр.мотив – глад = понашање – куповина хран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343040" y="175248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Циљне активности – односе се на сам циљ (нпр. Мотив – глад = понашање – конзумирање хран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8077320" y="30492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5400000">
            <a:off x="4152600" y="-647640"/>
            <a:ext cx="685800" cy="7467480"/>
          </a:xfrm>
          <a:custGeom>
            <a:avLst/>
            <a:gdLst>
              <a:gd name="textAreaLeft" fmla="*/ 0 w 685800"/>
              <a:gd name="textAreaRight" fmla="*/ 247680 w 685800"/>
              <a:gd name="textAreaTop" fmla="*/ 194760 h 7467480"/>
              <a:gd name="textAreaBottom" fmla="*/ 7272720 h 746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4832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4343400"/>
            <a:ext cx="4876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Ефекат на снагу потреб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343040" y="42670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67080" y="4191120"/>
            <a:ext cx="457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=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5181480"/>
            <a:ext cx="7467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Код активности усмерених ка циљу јачина потребе се повећава са започињањем активност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све док не постигнемо циљ или не наиђемо на озбиљну препре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Код циљне активности, када започнемо са активношћу, снага потребе почиње да опа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Задаци за вежбањ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96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читати Михаиловић, Д., Психологија организације, ФОН, 2005., стр. 109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Експлицирати своје мотиве и циљеве покушати уклопити у неку од вредносних оријентациј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оредити теорије мотивације с обзиром на аспект садржај процес, емотивни/когнитивни проце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Објаснити и прокоментарисати сличности и разлике између појмова: мотивација за рад/задовољство послом, мотивација за рад/продуктивност, задовољство послом/продуктивно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окушати објаснити суштину 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cClleland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ове кривуље односа јачине мотивације и вероватноће постизања циља (слајд, 117) и размислити о импликација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Осмислити упитник којим би се могла испитати структура мотивације за рад (имајући у виду чиниоце мотивациј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7617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25.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11.: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мотивација за рад: проблем, теоријски оквири и практичне импликације; разграничење сродних појмо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0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.11.: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Личност и груп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групна динамика и групни феномени; особеност тимског рада; личност и организациј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09.12.Руковођење – психолошки проблеми руковођења; савремени теоријски приступи руковођењу; решавање конкретних руководећих проблема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16.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12.: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роцес комуникације и комуникационе вештине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23.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12.: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онфликти и њихово превазилажење, упознавање свог стила реаговања у конфликту; симулација конфликта; стрес и начини превазилажења стрес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30.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12.: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одбрана семинарских радо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.01.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дбрана истраживачких радо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17.01.: провера знања: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олоквију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МОТИВАЦИЈА ЗА РА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еорије, механизми, сродни појмови, чиниоци и мотивациони принцип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11000" y="762120"/>
            <a:ext cx="81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25.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11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Шта је у основи нашег понашања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вако понашање је функција особе и среди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Наше понашање је усмерено ка неком циљу, мотивисано неком жељом = сврсисходно ј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Људи се разликују не само по њиховој способности да обаве одређени посао, већ и по жељи да то учине – мотивисанос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Мотивација на почетку, задовољство/незадовољство на крају обављеног пос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221304"/>
                </a:solidFill>
                <a:latin typeface="Times New Roman"/>
              </a:rPr>
              <a:t>Мотивациона стања су резултат вишеструких интеракција различитих променљивих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Биолошке и физиолошке потреб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есвесни фактор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Друштвени вредносни сист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оцењена вредност циље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пецифична очекивањ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Ефекти конфликтних интеракција међу контрадикторним мотиви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221304"/>
                </a:solidFill>
                <a:latin typeface="Times New Roman"/>
              </a:rPr>
              <a:t>Однос “спољашњег” и “унутрашњег”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1600200"/>
            <a:ext cx="7391160" cy="8380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истем вре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3505320"/>
            <a:ext cx="1752480" cy="9144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ти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3429000"/>
            <a:ext cx="2819160" cy="990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тив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581280"/>
            <a:ext cx="1828800" cy="83844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циље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5029200"/>
            <a:ext cx="6705360" cy="83808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нашање – репертоар понаш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600200" y="2438280"/>
            <a:ext cx="27432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4120" y="2438280"/>
            <a:ext cx="2514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4419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52880" y="4419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ШТА ЈЕ МОТИВАЦИЈА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696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отивација је сложени психички процес и механизам покретања, усмеравања на одређене објекте и регулисања свсисходне активности чове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дражај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смерење           одржавање                  ци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5181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5181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Мотивационе теорије садржај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066680" y="1752480"/>
          <a:ext cx="7620120" cy="4388040"/>
        </p:xfrm>
        <a:graphic>
          <a:graphicData uri="http://schemas.openxmlformats.org/drawingml/2006/table">
            <a:tbl>
              <a:tblPr/>
              <a:tblGrid>
                <a:gridCol w="1960560"/>
                <a:gridCol w="1679760"/>
                <a:gridCol w="2494080"/>
                <a:gridCol w="1485720"/>
              </a:tblGrid>
              <a:tr h="68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орија хијерархије потреб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дерф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ерцберг – двофакторска теорија мотивац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cClell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актуелизац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ојне потреб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ато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 за постигнућ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говорно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држај пос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игнућ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едовање/лични разво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а за цењењ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пада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напређе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 моћ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јалне потребе – потреба за припадањ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е за повезаношћ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гијенски факто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филијативни моти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первиз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ђуљудски однос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ус (титул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а за сигурношћ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гзистенцијалне потребе – потребе за постојањ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тика компан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гурност пос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олошке </a:t>
                      </a: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221304"/>
                </a:solidFill>
                <a:latin typeface="Times New Roman"/>
              </a:rPr>
              <a:t>McClleland-</a:t>
            </a:r>
            <a:r>
              <a:rPr b="1" lang="sr-CS" sz="2800" spc="-1" strike="noStrike">
                <a:solidFill>
                  <a:srgbClr val="221304"/>
                </a:solidFill>
                <a:latin typeface="Times New Roman"/>
              </a:rPr>
              <a:t>ова кривуља односа јачине мотивације и вероватноће успеха</a:t>
            </a: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05120" y="1981080"/>
            <a:ext cx="0" cy="335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53341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0800000">
            <a:off x="990360" y="2209320"/>
            <a:ext cx="5331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нага мот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54864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роватноћа постизања ци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91520" y="54100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5029200"/>
            <a:ext cx="533520" cy="3049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2133720"/>
            <a:ext cx="4572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3098880"/>
            <a:ext cx="5562720" cy="2082600"/>
          </a:xfrm>
          <a:custGeom>
            <a:avLst/>
            <a:gdLst/>
            <a:ahLst/>
            <a:rect l="l" t="t" r="r" b="b"/>
            <a:pathLst>
              <a:path w="3504" h="1312">
                <a:moveTo>
                  <a:pt x="0" y="1312"/>
                </a:moveTo>
                <a:cubicBezTo>
                  <a:pt x="548" y="672"/>
                  <a:pt x="1096" y="32"/>
                  <a:pt x="1680" y="16"/>
                </a:cubicBezTo>
                <a:cubicBezTo>
                  <a:pt x="2264" y="0"/>
                  <a:pt x="2884" y="608"/>
                  <a:pt x="3504" y="12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3124080"/>
            <a:ext cx="0" cy="22100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4:33:16Z</dcterms:created>
  <dc:creator>Ivana</dc:creator>
  <dc:description/>
  <dc:language>en-US</dc:language>
  <cp:lastModifiedBy>Kabinet 306</cp:lastModifiedBy>
  <dcterms:modified xsi:type="dcterms:W3CDTF">2005-12-07T14:50:17Z</dcterms:modified>
  <cp:revision>169</cp:revision>
  <dc:subject/>
  <dc:title>ПСИХОЛОГИЈА ОРГАНИЗАЦИЈЕ - ВЕЖБЕ - </dc:title>
</cp:coreProperties>
</file>