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83CC-53D0-4F25-8C20-4C426D7DE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0B89-6A5F-4728-89DA-8BE4CFB6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8EAA-5E37-4522-874C-57BAFB551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3465-DD8B-44B5-A193-50A66D85D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B5E1-CEFF-4956-B28C-D488AF59F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5681-2EA4-4A99-9D26-2E400C3C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F14D-66D1-443A-A05A-636882E7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8127-2FC7-40E2-B674-F58E09A9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E448-0885-4D09-A839-54E9D5EA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1AE7-5A46-4AA6-8E6D-1AE2724D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C021-5897-462E-8F67-FAAF9E5D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EE9F-73D4-49F9-9DA0-BCD5F577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FF60-389B-4352-93B9-7E89779B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AC8E-3942-4C48-BB9F-76879C38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D284-DD8F-4A8A-BB92-A3E5B33E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C326-2B2C-44BE-A1D2-C302DDA0D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F6EE-07FB-4D5F-8C65-CB62FD183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8911-6BEC-409E-B333-30A2E025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D724-CF10-4660-8EFA-41B50C6B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F472-7DB3-4880-8CCD-76274898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5D3A-96CF-4B2F-B184-DF68344B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36B8-2A2E-49ED-B0F5-82A940D4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8F86-F3B1-4FE6-B347-85DD49E3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134F-F2E0-4071-A173-B26F42D2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B638-9154-4EAF-A1F4-B822166DD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E42C-589A-450D-85E3-87131B30C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СТРЕС У ОРГАНИЗАЦИЈ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трес и начини превазилажења стре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Стрес на раду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М</a:t>
            </a:r>
            <a:r>
              <a:rPr b="0" lang="sr-Latn-CS" sz="3200" spc="-1" strike="noStrike">
                <a:solidFill>
                  <a:srgbClr val="221304"/>
                </a:solidFill>
                <a:latin typeface="Times New Roman"/>
              </a:rPr>
              <a:t>cGrath-</a:t>
            </a: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ов модел:</a:t>
            </a:r>
            <a:br>
              <a:rPr sz="3200"/>
            </a:b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Затворена системска реакција</a:t>
            </a:r>
            <a:br>
              <a:rPr sz="40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1905120"/>
            <a:ext cx="2590920" cy="9144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ИТУ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5880" y="1905120"/>
            <a:ext cx="2362320" cy="9903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ОНАШ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5105520"/>
            <a:ext cx="2590920" cy="8380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пажање ситу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4952880"/>
            <a:ext cx="2362320" cy="9907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збор одгов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86200" y="54864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238880" y="28951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886200" y="23623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67080" y="1905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с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2300400" y="3716640"/>
            <a:ext cx="16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оц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4495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оцес одлучи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6400800" y="3048120"/>
            <a:ext cx="5461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реаго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221304"/>
                </a:solidFill>
                <a:latin typeface="Times New Roman"/>
              </a:rPr>
              <a:t>Класификација извора стреса на раду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05320" y="2133720"/>
            <a:ext cx="1892160" cy="1855800"/>
          </a:xfrm>
          <a:prstGeom prst="ellipse">
            <a:avLst/>
          </a:prstGeom>
          <a:solidFill>
            <a:srgbClr val="00ccff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Физич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окол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91120" y="3352680"/>
            <a:ext cx="1892160" cy="1855800"/>
          </a:xfrm>
          <a:prstGeom prst="ellipse">
            <a:avLst/>
          </a:prstGeom>
          <a:solidFill>
            <a:srgbClr val="ff6600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Социјал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окол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3429000"/>
            <a:ext cx="1892520" cy="1855800"/>
          </a:xfrm>
          <a:prstGeom prst="ellipse">
            <a:avLst/>
          </a:prstGeom>
          <a:solidFill>
            <a:srgbClr val="a1bd69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Личн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28195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2860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Радни зада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4495320" y="4495680"/>
            <a:ext cx="2514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0" y="472428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Радна ул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419360" y="2743200"/>
            <a:ext cx="2057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22096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952880" y="289548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29400" y="213372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веукупно понашање на ра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Механизми превладавања стрес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чин на који особа разрешава адаптивне задатке у криз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Да ли ће догађај имати патогено дејство зависи од тога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а ли се процењује као непожеља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а ли је очекива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а ли је под контролом особе која га доживља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Две врсте стратегиј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Директне акциј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(бекство или борба) – покушај да се ситуација проме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Палијативни модели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– покушај да се олакша ситуација, да се особа на неки начин прилагоди новонасталој ситуацији (физиолошке, интрапсихичке и социјалне метод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Девет типова превладавања (Мус)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ревладавање усмерено на процен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Логичка анализа и ментална припре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гнитивно редефинисањ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гнитивно порицање или избегавањ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ревладавање усмерено на пробл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ражење информација и подрш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едузимање акција које су усмерене на пробл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епознавање алтернативних решењ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066320" y="19051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ревладавање усмерено на емоциј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Афективна регулациј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Емоционални излив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езигнација, резигнирано прихватањ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Литература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бавезна: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Михаиловић, Д., Психологија организације, ФОН, Београд, 2005., стр. 274-29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едложена: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Влајковић, Ј., Животне кризе и њихово превазилажење, 1994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Штајнбергер, И., Чизмић, С., Психологија и савремена техника, Завод за уџбенике и наставна средства, Београд, 1991., стр. 181-2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Бергер, Ј., Психолошки потпорни систем, Модел базичних ослонаца личности, Прометеј, Београд, 19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Волин, Џ.С., Волин, С., Резилијентна личност, Просвета, Београд, 1996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Приступи стресу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трес је реакциј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трес је стимулациј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рес је међусобно деловање личности и среди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трес је затворена системска организациј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Стрес је реакција</a:t>
            </a:r>
            <a:br>
              <a:rPr sz="4000"/>
            </a:b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- Сељеово физиолошко тумачење -</a:t>
            </a: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трес је неспецифич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(физиолошка) реакција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дговор организм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 било који захтев који му се поставља, једна неспецифич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ниформна реакциј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естројавања заштитиних механиза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Стрес је стимулација</a:t>
            </a:r>
            <a:br>
              <a:rPr sz="4000"/>
            </a:b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- модел опруге -</a:t>
            </a: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трес је оно што се дешава са човеком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а не оно што се дешава у човеку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о је низ узрока а не симпто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Стрес је међусобно деловање личности и средине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Засновано на идеји о постојању индивидуалних разлика у реаговању на стре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емељи се на моделу узајамног деловања, интеракције човека и окружења, на активној улози личности у ситуацији која рађа стре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ндивидуалне разлике у реаговању на стрес је могуће објаснити различитом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когнитивном проценом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грожавајуће (стресне) ситуације, односно проценом претњ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Три врсте когнитивних процена претње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имар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екундар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новна процена претњ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Примарна: шта се дешава и какав то значај има за мене?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ирелевантна/позитивна/негативна по ме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1600200"/>
            <a:ext cx="2590920" cy="4572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ромена 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895480" y="198108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205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205740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006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19520" y="2971800"/>
            <a:ext cx="3657600" cy="5335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Интерпретација ситу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388620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губитак, повреда/претња/изаз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429000" y="35053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4120" y="35053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4572000"/>
            <a:ext cx="2514600" cy="6094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Емоционалне реак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1972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533412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Депресивност, осећање беспомоћности/анксиозност/нада и мобилизација енерг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123720" y="5181480"/>
            <a:ext cx="838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10080" y="518148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43600" y="49528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Секундарна: Шта треба урадити?</a:t>
            </a:r>
            <a:br>
              <a:rPr sz="3200"/>
            </a:b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- најприкладнија метода - 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590920" y="1600200"/>
            <a:ext cx="16761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57800" y="1600200"/>
            <a:ext cx="19051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2971800"/>
            <a:ext cx="3200400" cy="13716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ктиван приступ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клањање препре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ли промена понаш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34120" y="3048120"/>
            <a:ext cx="2971800" cy="12952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асиван приступ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Емоционал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окушаји регул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Средински фактори који утичу на секундарну процену претње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Локација претњ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стојање алтернативних решењ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итуациона ограничења и препре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нага Ј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еханизми одбра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отивациона структу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6T13:22:55Z</dcterms:created>
  <dc:creator>Ivana</dc:creator>
  <dc:description/>
  <dc:language>en-US</dc:language>
  <cp:lastModifiedBy>Ivana</cp:lastModifiedBy>
  <dcterms:modified xsi:type="dcterms:W3CDTF">2005-12-29T17:34:01Z</dcterms:modified>
  <cp:revision>15</cp:revision>
  <dc:subject/>
  <dc:title>СТРЕС У ОРГАНИЗАЦИЈИ</dc:title>
</cp:coreProperties>
</file>