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A499-0C81-4368-B6A1-5113F2B1E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2EB-47B7-48C3-A499-886E794C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B5D-F5E4-4881-ABD8-671FB86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9DB-3419-4D56-BD08-A79C1CFF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036E-AF36-47FE-9E9D-DB84705EF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BDBD-C922-4920-9D8B-488BBC04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665E-7BAB-4DEC-B4A4-827B0003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35FA-8ED0-4A2A-9C24-66C6FA66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6951-F1E1-4559-A849-1B57ED44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C49A-0711-4DD0-BEF2-8AA7FF8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E9DA-8C5F-4D52-8B66-F7D92D22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60D-172B-4865-AFB7-0266B852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AE57-33C1-4E9A-BD85-1745A98B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E9B-B6BD-4C36-A0D8-B2FE4227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E53C-9464-43BD-9E6C-497A497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2634-8675-4C79-959E-2924DB4D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F071-733E-40C6-B02A-8198CF27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4059-3B96-4996-8662-AD712CAD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20C1-C308-4F00-89FF-32474B46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08F-366B-4D52-B4E1-07C05F74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C818-DC13-4DB6-BE94-FBE9578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6FA-0E56-40BD-A91E-393B0630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67EC-3127-440C-9A0C-4D29C443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042F-01A0-4CCD-886E-F216700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2379-114B-4459-B77E-AC8B6E60F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CBF2-3797-4C90-86E8-1E2B7388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ОЦЕС КОМУНИЦИРАЊА У ОРГАНИЗАЦИЈИ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ШКОЋЕ У ПРОЦЕСУ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рганизационе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шкоће везане за формулацију пору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шкоће везане за психолошке профиле учесн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ешкоће организационе природ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лед неодређености организационе струк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прецизираних улога и одговор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довољног познавања (недовољно информација) оних са којима се комуници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Отклањање организационих тешкоћа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бољшање организационе структу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ређивањем канала комуник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цизирањем дужности и одговорности учес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мањењем броја канала на потребан оби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Проблеми формулације поруке се отклањају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уке саопштавати јасним реч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општавати битне ствар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ључна места понови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вити технике активног слуш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Тешкоће везане за психолошке одлике учесник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АРАНОИД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Информације јасне, износити чињенице, не изражавати своје мишљењ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ДЕПРЕСИВ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Поновити информацију, покажите разумевање, охрабрити их; открите шта очекују; објасните разлог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ЕГОЦЕНТРИЧ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 критикујте га, одајте му признање, усмерите комуникацију на конкретне послов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НКСИОЗ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Умирите га, покажите добронамерност, утврдите шта жели, показати заинтересованос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АГРЕСИВНЕ ОСОБ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Не излажите га јавној критици, не објашњавајте његово понашање, применити стратегију: «Ако не можеш ти, то ће већ неко други урадити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Елементарни принципи у раду са тешким особам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улазите у вербалне ду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упадати у ре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доносити пребрзе закључ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окривљавати саговор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е обећавати оно што не мож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Дефиниција појм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Комуникација ј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енос информација и значењ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од једне до друге особе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преко разумљивих симбо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хема процеса комуницир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362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35812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57150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вратна информ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243828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Нова порука или ак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600200"/>
            <a:ext cx="3657600" cy="457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Двосмерна комуник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600200"/>
            <a:ext cx="3657600" cy="4572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Једносмерна комуникац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5029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38280" y="266688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4038480"/>
            <a:ext cx="152640" cy="990720"/>
          </a:xfrm>
          <a:prstGeom prst="downArrow">
            <a:avLst>
              <a:gd name="adj1" fmla="val 50000"/>
              <a:gd name="adj2" fmla="val 162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74320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403848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5257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5029200"/>
            <a:ext cx="914400" cy="152280"/>
          </a:xfrm>
          <a:prstGeom prst="leftArrow">
            <a:avLst>
              <a:gd name="adj1" fmla="val 50000"/>
              <a:gd name="adj2" fmla="val 1501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2666880"/>
            <a:ext cx="152280" cy="2210040"/>
          </a:xfrm>
          <a:prstGeom prst="upArrow">
            <a:avLst>
              <a:gd name="adj1" fmla="val 50000"/>
              <a:gd name="adj2" fmla="val 3628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2438280"/>
            <a:ext cx="838440" cy="152640"/>
          </a:xfrm>
          <a:prstGeom prst="rightArrow">
            <a:avLst>
              <a:gd name="adj1" fmla="val 50000"/>
              <a:gd name="adj2" fmla="val 137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2514600"/>
            <a:ext cx="838440" cy="152280"/>
          </a:xfrm>
          <a:prstGeom prst="rightArrow">
            <a:avLst>
              <a:gd name="adj1" fmla="val 50000"/>
              <a:gd name="adj2" fmla="val 137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1000" y="3657600"/>
            <a:ext cx="152280" cy="1523880"/>
          </a:xfrm>
          <a:prstGeom prst="downArrow">
            <a:avLst>
              <a:gd name="adj1" fmla="val 50000"/>
              <a:gd name="adj2" fmla="val 2501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029200"/>
            <a:ext cx="1295280" cy="152280"/>
          </a:xfrm>
          <a:prstGeom prst="leftArrow">
            <a:avLst>
              <a:gd name="adj1" fmla="val 50000"/>
              <a:gd name="adj2" fmla="val 21264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260200">
            <a:off x="4389120" y="5525640"/>
            <a:ext cx="990720" cy="206640"/>
          </a:xfrm>
          <a:prstGeom prst="leftArrow">
            <a:avLst>
              <a:gd name="adj1" fmla="val 50000"/>
              <a:gd name="adj2" fmla="val 1198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Елементи процеса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шиљалац (енкод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алац (декоде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ука (информациј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анал (медијатор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вратна информација 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edba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пажање (перцепциј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они канал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Вертикал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 до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 г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оризонтал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нципи ефикасне повратне информ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ра бити битна за предмет информисањ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а буде прецизнија и специфичнија од полазне информ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цизнија и претежно дескрипти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треба да следи иницијалну информациј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Енкодер и декодер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2514600" cy="4496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Н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ШТИНА КОМУНИЦИРАЊ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ВОВИ И ИСКУ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НТАЛНЕ СПОСО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133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05320" y="1752480"/>
            <a:ext cx="990360" cy="4496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504960" y="1752480"/>
            <a:ext cx="9903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038480"/>
            <a:ext cx="99036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6120" y="2438280"/>
            <a:ext cx="4852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 Е Р Ц Е П Ц И Ј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1676520"/>
            <a:ext cx="2438280" cy="4495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КОД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ЕШТИНА КОМУНИЦИРАЊ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ТАВОВИ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СКУСТВ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НТАЛНЕ СПОСО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21337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1676520"/>
            <a:ext cx="990720" cy="4495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1676520"/>
            <a:ext cx="99072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410080" y="3962520"/>
            <a:ext cx="9907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5409720" y="2438280"/>
            <a:ext cx="4852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 Е Р Ц Е П Ц И Ј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905120"/>
            <a:ext cx="906480" cy="1066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ору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ербал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3352680"/>
            <a:ext cx="906480" cy="1219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Канали: формал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4952880"/>
            <a:ext cx="914400" cy="1067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Повратна вез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вербал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1752480"/>
            <a:ext cx="914400" cy="15264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3048120"/>
            <a:ext cx="990720" cy="152280"/>
          </a:xfrm>
          <a:prstGeom prst="rightArrow">
            <a:avLst>
              <a:gd name="adj1" fmla="val 50000"/>
              <a:gd name="adj2" fmla="val 1626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47242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6095880"/>
            <a:ext cx="914400" cy="15264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Врсте комуник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3733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л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носе се утврђеним каналима (формални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абил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променљив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напред утврђе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еперсонализовани процес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ијерархијска условљено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528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формал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носе се изван формалних ка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пуна устаљеног система комуницир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ју спонта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довољавају личн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стоја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узда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ање потпу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Типови комуник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22096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42900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               F             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6576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200040" y="3657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724280"/>
            <a:ext cx="2819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981080" y="3962520"/>
            <a:ext cx="8384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2971800" y="3962520"/>
            <a:ext cx="9144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562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 “ЗВЕЗД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52880" y="3505320"/>
            <a:ext cx="365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10080" y="4648320"/>
            <a:ext cx="281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600200"/>
            <a:ext cx="0" cy="4952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86400" y="5562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 “КРУГ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334120" y="2133720"/>
            <a:ext cx="129528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2133720"/>
            <a:ext cx="1219320" cy="1371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486400" y="373392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714640" y="2209680"/>
            <a:ext cx="106668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2209680"/>
            <a:ext cx="990720" cy="2438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8076960" y="3962520"/>
            <a:ext cx="22860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4038480"/>
            <a:ext cx="30492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790960" y="4952880"/>
            <a:ext cx="2057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714640" y="3886200"/>
            <a:ext cx="2438280" cy="990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333760" y="3886200"/>
            <a:ext cx="251460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13:26:43Z</dcterms:created>
  <dc:creator>Ivana</dc:creator>
  <dc:description/>
  <dc:language>en-US</dc:language>
  <cp:lastModifiedBy>Ivana</cp:lastModifiedBy>
  <dcterms:modified xsi:type="dcterms:W3CDTF">2005-12-26T14:26:30Z</dcterms:modified>
  <cp:revision>12</cp:revision>
  <dc:subject/>
  <dc:title>КОМУНИКАЦИЈЕ У ОРГАНИЗАЦИЈИ</dc:title>
</cp:coreProperties>
</file>