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0D8-FB70-4376-8393-2C952C79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F3B-9A07-467F-89CA-4DD06671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9297-C78C-42BE-B17C-AE1E5490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D43-799F-4792-A000-F6656B48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62D4-9F3A-4B92-86B0-62BA0AE2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318A-8D97-49FA-A36A-78A1C402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88ED-BF14-4FB6-8B74-D799FE4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F0F5-1FF3-4257-8505-B4E0200C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908F-8280-403D-9367-D663EC0D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4EED-2798-4CE3-9060-0C310FF9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3D60-2FB2-43A3-885F-57DE114F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68B-078D-45DA-9E28-0CF8C5DC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C9AA-6BE9-4153-B390-F1D8A5B4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3851-4A04-460E-A562-8927770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2047-9C81-47B8-BDDB-548D2B2A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F1F1-C9FA-4003-8AA7-8D9FDBA4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C23D-4D65-423B-BC40-F02640DF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674-D740-4C66-9F90-06A95D50C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C86-46C9-40A6-936B-35F33025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4AC-8F6E-47C4-BEC4-A87091E9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6DFF-D1AD-481E-9E54-E2AD3E0C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BAD-8659-45EA-A8C1-60ACCD1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EE2-4500-4CE9-A1B0-5010F67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4EC-23C4-4AD1-8684-94857694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8820-D722-4CDE-9E85-0F9564F54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413-9137-45BC-B6A1-B8B627B04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ТРЕС У ОРГАНИЗАЦИЈ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следице неприлагођавања увећаном стресу: Симптоми трауме и реакције на стр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живљавање трауматских догађаја кроз периодично и наметљиво присећање на ње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кушај потискивања трауматског доживљаја из све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уђеност од других, осиромашење  емоционалног жив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Симптоми појачаног одупирањ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саница или прекидан с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дражљивост и чести изливи бе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шкоће концент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дужена буд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увеличавање страшних доживља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оцијално пона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оцијално-економске последице стрес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ес “болест ХХ века”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Извештај Уједињених нација, 1993.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просечном дану 1 милион људи изостаје са посла због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75%-90% пацијената са овим симптом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ује се да појава стреса америчку индустрију кошта годишње 200 – 300 билиона дол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60-80% несрећа на послу последица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Управљање стресом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о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фесионална селекција – боља професионална и организациона адап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ациона култура и међуљудски односи у предузећ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остављање споне између предузећа и породица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Поступци и технике избегавања, релаксације и опорава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Барбара Ри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Генералне препоруке за избегавање стрес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авити приорит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врдити на шта с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истанцирати се од брига, задатака и стресова на које с ене може утиц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овести методе приоритета – прво обавити најважн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поверења у сопствен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војити време за одм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ваким дахом ослободит се свих стрес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лободити се перфекционистичких размишљања и нереалних захте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редсредити се на оно што је ва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ти на уму да се после релаксације ослобађамо ст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раткорочно смањење стрес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жити “тајм ау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даљити се од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шетати се 5-6 мин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сти мирно и дисати полако и дубок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тићи на кратко на неко мирно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речити негативне ми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 преузимати на себе стрес других љу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поменити своје погле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говарати са неким поверљив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ло одсп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место само узимати, нешто и д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дитирати или молити 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сањ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Стрес је психофизичко стањ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које човек запа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 отежаним приликама и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еље: фаз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аларм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отпо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за исцрп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708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4864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олест ст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сте стрес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према емоционалном значењу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устр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звори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447920"/>
          <a:ext cx="76964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6964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рода посл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жина посла и прековремени рад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лога у организациј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нфликтна нејасна радна улог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говорност на посл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тресогенија одговорност за људе него за материјална добр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носи на раду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носи између различитих нивоа у хијерархиј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ретање у организациј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(најстресније напредовање до “границе своје неспособности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сихолошка клима организаци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сихолошка клима организације:</a:t>
            </a: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 стресогене карактеристике организациј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кудне могућности партиципације запослених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длучивање у уском кругу повлашћених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останак осећаја запослених да припадају фир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информисања не функционише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те су уместо поузданих информација присутне полуинформације и гласин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 комуницирања је недефинисан и препуштен личним контакт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доследно и непредвидљиво вођење пословне политике фирм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звори стреса ван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одичн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ште друштвене и економске прил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рактеристике личности (“Тип А” и “Тип В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 стрес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46680" y="2251080"/>
            <a:ext cx="146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198108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1523880"/>
            <a:ext cx="2286000" cy="457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тала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1905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ртикотропни ф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2514600"/>
            <a:ext cx="1828800" cy="7621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хипоф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окортикотропни хор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3886200"/>
            <a:ext cx="2133720" cy="6094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дбубреж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48769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дреналин и норадрен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66880" y="5257800"/>
            <a:ext cx="4267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резерви шећера = 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ирање групе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брзавање рад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09720" y="2209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00400" y="3048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335268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4495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1828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в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8:03Z</dcterms:created>
  <dc:creator>Ivana</dc:creator>
  <dc:description/>
  <dc:language>en-US</dc:language>
  <cp:lastModifiedBy>Ivana</cp:lastModifiedBy>
  <dcterms:modified xsi:type="dcterms:W3CDTF">2005-12-29T11:17:33Z</dcterms:modified>
  <cp:revision>21</cp:revision>
  <dc:subject/>
  <dc:title>СТРЕС У ОРГАНИЗАЦИЈИ</dc:title>
</cp:coreProperties>
</file>