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CE16-4CFD-46A7-AEE7-6037635E7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581-EDE6-47A7-92B4-8685AE91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5A1-75FF-43E1-AE65-89A83A47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E011-9860-4AF1-A029-38C5B8CC5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F81FF-3018-41C3-A615-B64ED148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0526-DD8C-4098-B0CA-47160F80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7609-07D9-4077-9469-AA58B314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7C86-F830-4ABA-93FD-FE691BA2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CEE4-7E1D-47D3-8150-4F2E9BF3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B61C-B57F-4008-B880-1DAAC517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DF1F-90D1-478D-89E4-81574E4E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F3F-F534-4360-9451-EFE7DF59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AC2E-FF44-429B-A8BD-149C92A1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10BD-EB5F-42FC-8F83-99768189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2BEF-E0FB-4EC0-A103-15DCE818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10B1-F641-4A86-8D93-6425A8D7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208C-F035-41CA-B126-FC0A096E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939-8AC1-4E9C-B2F0-5337F5BC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12E-5406-42E7-B537-D2A0724E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4E7-60D5-4468-BA95-39FC42D7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88F-D713-4830-9577-40361939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C6D2-220D-4747-BD7E-D493E766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1CA-22BF-4A01-A8D8-7E81E1F9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615-C638-4C77-B516-A889A0B7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8140-71AA-48FC-9C02-63776484F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E1DF-DF28-4E4B-B76B-242026DBC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ЧНОСТ И ГРУ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новне претпоставке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једнички ци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дела задата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ординација акт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трола акт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Хијерархија ауторит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еф1: Организација је.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рационална координација активности одређеног броја људи рад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остизања неке заједничке намере или циљ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кроз поделу посла и функциј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и преко хијерархије ауторитета и одговорности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Шејн, 1970)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еф. 2:</a:t>
            </a: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рганизација је.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интересни систем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узајамно повезани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сихолошких груп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образован ради постизањ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одређеног циља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Креч, Крачвилд, Балаки, 1978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17521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Интеракција личности и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4114800"/>
            <a:ext cx="2971800" cy="15238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исту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а становиш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01200" y="4413960"/>
            <a:ext cx="2119320" cy="1077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исту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а становишт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рганиз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514600" y="3276720"/>
            <a:ext cx="175248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3276720"/>
            <a:ext cx="19810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илозофска питања</a:t>
            </a:r>
            <a:br>
              <a:rPr sz="4000"/>
            </a:br>
            <a:r>
              <a:rPr b="0" lang="sr-CS" sz="1800" spc="-1" strike="noStrike">
                <a:solidFill>
                  <a:srgbClr val="221304"/>
                </a:solidFill>
                <a:latin typeface="Times New Roman"/>
              </a:rPr>
              <a:t>- спољашња детерминација понашања?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7920" y="2236320"/>
            <a:ext cx="723888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Људска природ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фикаснос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ичко здрављ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иступ са становишта личност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ација и личност имају различите интере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бог тога је неминован суко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 неопходна промена одно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08160" y="716040"/>
            <a:ext cx="747864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Арџирис 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утицај формалне организације на запослене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5280" y="2057400"/>
            <a:ext cx="73152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ционал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ференцијација радних задат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јерархија у руковођењ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инственост управља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1752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Несагласност развојних тенденција 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зреле личности и 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захтева формалне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Захтеви формалне организације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трола понаша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висност, пасивност и подређе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раткорочна перспект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потреба површних и изолованих способ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д под околностима које доводе до психолошког неуспех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221304"/>
                </a:solidFill>
                <a:latin typeface="Times New Roman"/>
              </a:rPr>
              <a:t>Отпор</a:t>
            </a: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 захтевима формалне организације бива већи уколико: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у запослени зрелије лич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ормална организација чвршћ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послени ниже на хијерархијској лествиц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ао аутоматизованиј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Мала социјална гру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граничени број поједин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 међусобној интеракциј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олошки свесних једни друг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ажају себе као део гру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оследиц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ациона неефикас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рустра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флик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ресне реак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успес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раткорочна перспект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редложене 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мањење зависности, подређености и субмисивности запослен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ширивање и богаћење по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мократизација система руковође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809880" y="27428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038480" y="274284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McGregor – </a:t>
            </a: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Теорија </a:t>
            </a: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X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јзначајнија потреба за материјалном сигурношћ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Човек је пасиван и ле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 послу га треба усмеравати, присиљавати и кажњав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начајније су више човекове потребе – тежи самоиницијативи и креатив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ије лењ и не избегава одговор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реба остварити интеграцију циљева организације и поједин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2193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cc0000"/>
                </a:solidFill>
                <a:uFillTx/>
                <a:latin typeface="Times New Roman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848720" y="12193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cc0000"/>
                </a:solidFill>
                <a:uFillTx/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новне поставке теорије </a:t>
            </a:r>
            <a:r>
              <a:rPr b="0" lang="sr-Latn-CS" sz="4000" spc="-1" strike="noStrike">
                <a:solidFill>
                  <a:srgbClr val="221304"/>
                </a:solidFill>
                <a:latin typeface="Times New Roman"/>
              </a:rPr>
              <a:t>Z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јапански менаџмент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цепт доживотног запосл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упно напредов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мерено специјализована кариј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артиципација у доношењу одлу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лективна одговор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мплицитна (неформална) контро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Холистички приступ запослени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Оучи, 1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иступ са становишта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овек тежи задовољењу егзистенцијалних потреб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атеријална сигурност појединца зависи од успешности пословања организа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ација и људска природа су у скла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114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1148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Штраус</a:t>
            </a:r>
            <a:br>
              <a:rPr sz="4000"/>
            </a:b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- “рад је средство за куповину задовољства”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овек је пасиван и завис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ели чврсто дефинисано руковође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обода и неизвесност су оно што појединца плаш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лазећи од продуктивности залаже се за постојеће ст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Не сукоб појединца и организације, већ појединца у друштва у целин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306160"/>
            <a:ext cx="762012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ко неслагање и постоји онда су то сукоби појединца и друштва као последица пресија у раном детињст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рсте организац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Ецион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ације засноване на приси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ације формиране на користи које пружају чланов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ормативне организа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Кац и Кан</a:t>
            </a:r>
            <a:br>
              <a:rPr sz="4000"/>
            </a:b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- према доминантној функцији у друштву -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изводња доб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ункционисање друш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лагођавање променама у друштв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прављање друш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обине личности чланова груп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рперсонална оријента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оцијална сензитив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минант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вис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моционална стабил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пособ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 други фактори (биолошки и социјалн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сновне одлике организациј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оженост 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дела ра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ординација функција и актив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ормализовање односа и актив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сихолошка страна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и врсте проблема у оквиру психолошког изучавања организациј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учавање понашања појединаца чланова организ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учавање процеса у малим групама чије интегрисане активности чине организациј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учавање организације као целине а пре свега њених структура и функционис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азвој малих група – интерперсонална атракција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лизина и учесталост контак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ичност став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ичност лич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изичка привлач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влачност активности груп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влачност циљева гру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влачност самог чланства у груп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струментално члан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азвој малих група –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азе развој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 групама за решавање пробле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 групама за тренинг сензитив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рсте гру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марне гру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ферентне гру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Формалне гру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формалне гру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дне гру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имарна група – основна обележј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тојање интензивних интерперсоналних односа између члан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ке емотивне везаности међу њ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ка осећања везаности за груп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ива интеракција свих са св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нзиван утицај фрупе на понашање члан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ести контакти лицем у лиц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труктура групе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- четири схватања -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о система пози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о система улога везаних за пози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о система међусобних одно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стема ранговања чланова према неком критерију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5410080"/>
            <a:ext cx="6096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 обзиром на позиције чланова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 обзиром на понаш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ЧНОСТ И ОРГАНИЗАЦ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08:09:03Z</dcterms:created>
  <dc:creator>Kabinet 306</dc:creator>
  <dc:description/>
  <dc:language>en-US</dc:language>
  <cp:lastModifiedBy>Ivana</cp:lastModifiedBy>
  <dcterms:modified xsi:type="dcterms:W3CDTF">2005-12-08T16:48:22Z</dcterms:modified>
  <cp:revision>29</cp:revision>
  <dc:subject/>
  <dc:title>Slide 1</dc:title>
</cp:coreProperties>
</file>