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6B4-87BB-4FA3-B2C8-8EA35910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504-083C-412F-ABFC-E6EB2BBF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010-EC3B-4AF0-A936-CD8283C8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613-82D0-48DC-B162-DEB0F41F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E09F-9F7C-4910-9391-135D53B0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0319-2409-42BE-B9F9-E55D131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0F22-C32E-4713-B0B4-3CEAB197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D195-A575-4400-A629-DEB3DCDA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7DD2-86CB-4DD7-B02D-486E739A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8E64-AF21-4292-ADE8-5BE0F888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CBB6-130F-4AD8-843A-EC1EB69C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98A8-EB22-434D-94A2-9380BC19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1AB-B0BC-43D2-8ACD-7F6B3F55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1EC2-EC2B-40B8-A8E4-D2E3EE30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3A07-E576-4A8D-92AE-CF9B55B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3654-B1AF-4959-8003-0CCFD599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A054-0904-4D3B-88C5-FB033290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C63-C9E8-4710-821A-6A6FFB34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08A-A2DC-459A-9D81-BDEEABC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90D-E697-4537-8B5D-21AFE616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90D-EDC6-49B2-93C8-3F9FFBFD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E0C-439A-45CA-8C2F-7354D226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A3D-4EDA-4C96-8BA7-CBB2C55D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492-DC95-4168-A46A-C4067026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8E43-D7BA-4955-B123-87095E6B1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BC4C-81C4-4CDD-9176-9C8C657BA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сихолошки проблеми руковође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лајшманове димензије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интересованост за људ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consid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интересованост за производњу, планирање, организ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initiating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ајнар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ех зависи о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датака и циљева гру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аглашености циљева групе и индивиду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личине социјалне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х особина руководиоца у хијерарх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ајер: Стилови руковођења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(Левин, Липит и Бајт)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мократско 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утократско 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aisez-fair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Блејк и Мајтон – растер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963440" y="2084760"/>
            <a:ext cx="4771080" cy="4361040"/>
            <a:chOff x="1963440" y="2084760"/>
            <a:chExt cx="4771080" cy="4361040"/>
          </a:xfrm>
        </p:grpSpPr>
        <p:sp>
          <p:nvSpPr>
            <p:cNvPr id="119" name=""/>
            <p:cNvSpPr/>
            <p:nvPr/>
          </p:nvSpPr>
          <p:spPr>
            <a:xfrm>
              <a:off x="3252960" y="4750200"/>
              <a:ext cx="11602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–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«јадно» руковођењ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74240" y="4629240"/>
              <a:ext cx="1160280" cy="7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 -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руковођење оријентисано на задатак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3600" y="3781080"/>
              <a:ext cx="116028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 –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просечно руковођењ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95200" y="6082920"/>
              <a:ext cx="37393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РИГА ЗА ПРОДУКТИВНО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63440" y="2327040"/>
              <a:ext cx="386640" cy="327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РИГА ЗА ЉУД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24080" y="5477400"/>
              <a:ext cx="3610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3252960" y="547704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95200" y="5719320"/>
              <a:ext cx="3610440" cy="2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      2       3       4       5      6        7       8       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124080" y="2084760"/>
              <a:ext cx="720" cy="339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50440" y="2205720"/>
              <a:ext cx="386640" cy="32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       2       3       4       5       6       7       8       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95200" y="5234760"/>
              <a:ext cx="1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95200" y="487116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95200" y="3417480"/>
              <a:ext cx="1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95200" y="3053520"/>
              <a:ext cx="128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995200" y="268992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995200" y="232704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995200" y="3781080"/>
              <a:ext cx="1288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995200" y="4144680"/>
              <a:ext cx="1288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995200" y="4507200"/>
              <a:ext cx="12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9960" y="547740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2660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3600" y="547740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0060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7160" y="5467320"/>
              <a:ext cx="72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424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61240" y="5476680"/>
              <a:ext cx="7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2000" y="2327040"/>
              <a:ext cx="90252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 -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тимско руковођењ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52960" y="2205720"/>
              <a:ext cx="1160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– 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руковођење локалним клубо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7880" y="5477400"/>
              <a:ext cx="0" cy="12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орије личности /теорије стил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рођене диспозиције личности/научено понаш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гласак на селекцији/нагласак на образов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е личности и сти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ваки руководилац руководи на својствен начин, али је та стабилност релати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рџирис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пешан руководила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мерен према реал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ма конкретној ситуац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наша се (реагује) зависно и 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а лич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од научене вешт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стр.: Бојановић, Хрњи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Демократско понашање је углавном друштвено условљено и представља последицу социјалне климе, норми друштвене пожељности и општеприхваћеног ст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Истр.: Мишев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Стил руковођења руководилаца је повезан са неким димензијама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Начин руковођења зависи од индивидуалних црта као што су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екстравертнос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емоционална лабилност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директивност ста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Демократски /аутократски стил руковођења преовлађује код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лимично екстраверт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оционално стабилн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мањом мером изражености директивног ст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интроверт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емотивно лабилн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израженим директивним став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родни појмов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ђство – специфичан однос (врста интеракције) – проц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ођа – особа која заузима одговарајући положа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овођење – активности и функције вођ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Супериорност стила руковођења је условљена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он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ом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ом клим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ључ успеха руководиоца”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е личности и стил рада су међусобно зависне карактеристике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 доприносе добром или лошем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итуациони приступи руковођењу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62576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уковођење – реакција на проме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инеман и Ва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успешност руководиоца се може посматрати не само као функција његових особина већ као функција тога у каквом су односу те црте личности према неком одређеном задатку, према одређеној групи, у неком специфичном предузећу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уководеће вештине: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(Финеман и Вар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чне вешт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познавање пос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ске веш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начин успешног контакта са људим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цептуалне веш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стваралачке, креативне и организацио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длеров тродимимензионални контингенцијски модел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илови руковођењ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ијентација на човека/оријентација на продук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Успешност руковођењ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Условљена интеракцијом између стила руковођења и факто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хваћеност и популарност руководиоца у гру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ктура задатака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а моћ руководио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дговарајући стил руковође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јентација на чове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 су сви фактори осредње израж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јентација на продуктивнос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да су фактори екстремно повољни или ексремно неповољ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умов модел руковође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295280" y="1905120"/>
            <a:ext cx="6782040" cy="4114440"/>
            <a:chOff x="1295280" y="1905120"/>
            <a:chExt cx="6782040" cy="4114440"/>
          </a:xfrm>
        </p:grpSpPr>
        <p:sp>
          <p:nvSpPr>
            <p:cNvPr id="180" name=""/>
            <p:cNvSpPr/>
            <p:nvPr/>
          </p:nvSpPr>
          <p:spPr>
            <a:xfrm>
              <a:off x="1436400" y="1905120"/>
              <a:ext cx="1695240" cy="11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итуационе променљив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1720" y="1905120"/>
              <a:ext cx="1554120" cy="11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резултат руковођења у организациј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96840" y="3080520"/>
              <a:ext cx="1695600" cy="11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понашање руководио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5280" y="4844520"/>
              <a:ext cx="1554120" cy="11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својства лич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51320" y="4550040"/>
              <a:ext cx="2826000" cy="146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ситуационе променљиве које делују на резултате у организациј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25320" y="2933640"/>
              <a:ext cx="1130400" cy="58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425320" y="4256640"/>
              <a:ext cx="1130400" cy="117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109840" y="2786760"/>
              <a:ext cx="1130400" cy="88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946920" y="3080160"/>
              <a:ext cx="720" cy="19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Руковођење – креативан проц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527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рум-Јетонов ситуациони модел доношења одлука у проблемским ситуацијама руковођ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функције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анир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ов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рављ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– “стратегије” доношења одлуке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66680" y="1752480"/>
          <a:ext cx="7620120" cy="4495680"/>
        </p:xfrm>
        <a:graphic>
          <a:graphicData uri="http://schemas.openxmlformats.org/drawingml/2006/table">
            <a:tbl>
              <a:tblPr/>
              <a:tblGrid>
                <a:gridCol w="1371600"/>
                <a:gridCol w="6248520"/>
              </a:tblGrid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чин ра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-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решава проблем и доноси одлуку сам користећи се информацијама са којима располаж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-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I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даје потребне информације од својих људи, али сам доноси одл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појединачно са неким међу својим људима расправља проблем  а сам доноси одл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 -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са својим људима као групом расправља проблем, те од њих добија идеје и сугестије, после тога сам доноси одлу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 -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ководилац са својим људима као групом расправља проблем. Након тога се дискусијом и усаглашавањем постиже решење и доноси одл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ста пита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оји ли потреба за квалитетном одлуком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едујем ли довољно информација да донесем квалитетну одлук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 ли је проблем структуиран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 ли је за реализацију одлуке неопходно да је прихвате моји људ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ја сам морам да донесем одлуку да ли је вероватно да је моји људи прихват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а ли моји људи партиципирају у организационим циљевима који ће бити остварени решењем овог проблем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стоји ли могућност да међу мојим људима дође до сукоба у вези са одлуком о пожељном решењ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абло одлучива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сихолошка страна руковођењ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625760" y="35812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изање циљева преко других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ност разматрања психолошке димензије руковођ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483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76920" y="4267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Људска страна руковођења”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облеми мотивације за ра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облеми комуникациј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нашање у конфликтним ситуацијам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221304"/>
                </a:solidFill>
                <a:latin typeface="Times New Roman"/>
              </a:rPr>
              <a:t>Врсте моћи руководиоца</a:t>
            </a:r>
            <a:br>
              <a:rPr sz="40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- према извору и доминантном механизму деловања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гитимн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снована на позицији вође у хијерархији (на личном формалном ауторитету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оћ награђивањ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особност руководиоца да награди лојалност подређе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оћ принуд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особност постизања лојалности уз помоћ страха од каз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Референтн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ицај руководиоца на друге на основу личне идентификације са њим (харизматска својства руководиоц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Експертск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тицај вође базиран на његовим стручним знањ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форматичка моћ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 основу поседовања важних информ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облеми комуникациј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сврха комуникације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љење информ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матрање иде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ношење и размена мишљ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ношење осећ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облеми комуникациј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начини комуницирања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станци и дискусије “лицем у лице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рни расписи и меморанду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елефонске конверз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лектронска пош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гласне таб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овни састанак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учешће више људи у доношењу одлука којима се жели постићи одређени циљ организациј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астанци према сврс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вање информ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купљање информ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јашњавање одл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шавање пробле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говори и догов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теоријске мисли о руковођењ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великих људи”; “теорије личности вођ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стил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личности и ст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туациони приступи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авети за успешну комуникацију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Јасно дефинисати поруку као и њену сврх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абрати одговарајући метод комуникациј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складити поруку језички, по обиму и форми ономе коме је намењ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би се порука нагласила користити више од једног средства комуникације и по потреби је понови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 пошиљалац поруке има одговарајући кредибилитет у организациј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мати у виду погодности које порука носи за примаоца и нагласити и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водити пример да би се порука боље разум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кључити чињеничне информације и прецизна обавешт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огично структуирати аргументе и водити их до закључ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казати на све тачке за које се зна да се људи са њима слаж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руку представити на што интересантнији начин (духовито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жељно је тестирати поруку са особама сличним онима којима је намењен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онашање у конфликтним ситуацијама</a:t>
            </a:r>
            <a:br>
              <a:rPr sz="40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- принципи понашања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ро познавање сарадника на посл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војити став да су конфликти део живота и да је немогуће потпуно их елиминиса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ликти нису увек лоши и повређујућ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вити климу повер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обине успешног руководио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знавање пос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вање добрих предлог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пшта интелектуална способ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нформиса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ични угл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мбициоз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тивација за руковођењ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14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особност доношења одлу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ихваћеност од стране гру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тицај на више руководиоце Комуникатив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ремност на прихватање “рационалног ризика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дрављ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премност да се саслушају лични пробле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хвала и кри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4100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пешан руководилац уме некога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мо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некога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султ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али некоме и д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ред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обине неуспешног руководио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ржи се по стра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ије у стању ништа да предви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бацује одговорност на друг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сли само на се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Шефује с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 крши своја прав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ан му је једино властити успе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ма утицаја на друг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 њим се човек осећа мање вредни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дабирање и образовање руководила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тиви за руковођење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за такмичењ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за доказивањ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за поседовањем моћ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ља да се буде испред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орност да се посао заврш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се преузме одговорност за понашање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хтеви руководећег посла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вештине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учне вештине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јализована зн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ђуљудске вешт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– руководити радом кадр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цептуалне вештине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гућност да се разматра и анализира организација као целина, као систем који функционише у складу са окружењ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Неопходна знањ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Функционал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планирање, организовање, руковођење,контрол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истематск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анализирати и управљати пословањем као системом делова који функционишу и остварују планиране циљев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нања из области ситуационе анали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анализа и решавање конкретног зада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Неопходне способност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рављач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управљање деловима организације, процесима рада и њихово синхронизовањ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ганизаторс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настојање да се на што ефикаснији начин искористе материјални и људски ресурси којима организација располаж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ководилач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успешна комуникација и мотивација, управљање и координирање радним ефектима људ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дерс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предвиђање будућих ситуација и способност усмеравања људи иницијативом и примери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стале црте личност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моционална стабил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тпорност на стр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рална чврсти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интересованост за љу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актич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кономичн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глађено понаш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орије великих људи”; “теорије личности вође”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оступак селекције руководио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финисање групе потенцијалних канди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финисање битних захтева конкретног управљачког пос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према и конструкција инструментарија за дијагностиковање испуњавања захтева посла од стране канди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пликација инструментарија и поступ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ализа испуњавања захтева од стране кандидата и утврђивање критичног ско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нгирање кандидата и њихов из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грамирање, организовање и извођење додатне обуке за изабране кандида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аћење успеха одабраних канди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модела развоја руководилац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89840" y="1981080"/>
            <a:ext cx="6176160" cy="3772080"/>
            <a:chOff x="1689840" y="1981080"/>
            <a:chExt cx="6176160" cy="3772080"/>
          </a:xfrm>
        </p:grpSpPr>
        <p:sp>
          <p:nvSpPr>
            <p:cNvPr id="239" name=""/>
            <p:cNvSpPr/>
            <p:nvPr/>
          </p:nvSpPr>
          <p:spPr>
            <a:xfrm>
              <a:off x="3869640" y="1981080"/>
              <a:ext cx="1937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ЉУДСКИ РЕСУРС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0960" y="2895480"/>
              <a:ext cx="1695240" cy="34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ЗАПОШЉАВАЊ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89840" y="3924360"/>
              <a:ext cx="181656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ПРОФЕСИОНАЛНА СЕЛЕКЦИЈА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49800" y="4038480"/>
              <a:ext cx="1816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СЕЛЕКЦИЈА ЗА НАПРЕДОВАЊЕ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89840" y="5181480"/>
              <a:ext cx="169524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ЕДУКАЦИЈА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70760" y="5181480"/>
              <a:ext cx="1695240" cy="571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САВРШАВАЊЕ РУКОВОДИЛА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1880" y="3667320"/>
              <a:ext cx="1452960" cy="137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ОРГАН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ЗАЦ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90960" y="2666520"/>
              <a:ext cx="363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89840" y="3695400"/>
              <a:ext cx="36324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89840" y="4952520"/>
              <a:ext cx="3632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28480" y="3809520"/>
              <a:ext cx="3632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70760" y="4952520"/>
              <a:ext cx="3632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17800" y="2209320"/>
              <a:ext cx="120960" cy="685800"/>
            </a:xfrm>
            <a:prstGeom prst="downArrow">
              <a:avLst>
                <a:gd name="adj1" fmla="val 50000"/>
                <a:gd name="adj2" fmla="val 14174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17800" y="3238560"/>
              <a:ext cx="120960" cy="456840"/>
            </a:xfrm>
            <a:prstGeom prst="downArrow">
              <a:avLst>
                <a:gd name="adj1" fmla="val 50000"/>
                <a:gd name="adj2" fmla="val 944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400" y="4152600"/>
              <a:ext cx="544680" cy="113760"/>
            </a:xfrm>
            <a:prstGeom prst="leftArrow">
              <a:avLst>
                <a:gd name="adj1" fmla="val 50000"/>
                <a:gd name="adj2" fmla="val 1196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37640" y="4610160"/>
              <a:ext cx="120960" cy="570960"/>
            </a:xfrm>
            <a:prstGeom prst="downArrow">
              <a:avLst>
                <a:gd name="adj1" fmla="val 50000"/>
                <a:gd name="adj2" fmla="val 118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97600" y="4724640"/>
              <a:ext cx="120960" cy="456840"/>
            </a:xfrm>
            <a:prstGeom prst="downArrow">
              <a:avLst>
                <a:gd name="adj1" fmla="val 50000"/>
                <a:gd name="adj2" fmla="val 9442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04760" y="4152600"/>
              <a:ext cx="545040" cy="113760"/>
            </a:xfrm>
            <a:prstGeom prst="rightArrow">
              <a:avLst>
                <a:gd name="adj1" fmla="val 50000"/>
                <a:gd name="adj2" fmla="val 11977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385440" y="5067360"/>
              <a:ext cx="1453320" cy="456840"/>
            </a:xfrm>
            <a:custGeom>
              <a:avLst/>
              <a:gdLst>
                <a:gd name="textAreaLeft" fmla="*/ 484560 w 1453320"/>
                <a:gd name="textAreaRight" fmla="*/ 1055520 w 1453320"/>
                <a:gd name="textAreaTop" fmla="*/ 285480 h 456840"/>
                <a:gd name="textAreaBottom" fmla="*/ 33192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404"/>
                  </a:moveTo>
                  <a:lnTo>
                    <a:pt x="13490" y="19404"/>
                  </a:lnTo>
                  <a:lnTo>
                    <a:pt x="13490" y="7200"/>
                  </a:lnTo>
                  <a:lnTo>
                    <a:pt x="7576" y="7200"/>
                  </a:lnTo>
                  <a:lnTo>
                    <a:pt x="14588" y="0"/>
                  </a:lnTo>
                  <a:lnTo>
                    <a:pt x="21600" y="7200"/>
                  </a:lnTo>
                  <a:lnTo>
                    <a:pt x="15686" y="7200"/>
                  </a:lnTo>
                  <a:lnTo>
                    <a:pt x="1568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717800" y="5067360"/>
              <a:ext cx="1452960" cy="456840"/>
            </a:xfrm>
            <a:custGeom>
              <a:avLst/>
              <a:gdLst>
                <a:gd name="textAreaLeft" fmla="*/ 509760 w 1452960"/>
                <a:gd name="textAreaRight" fmla="*/ 1045800 w 1452960"/>
                <a:gd name="textAreaTop" fmla="*/ 288360 h 456840"/>
                <a:gd name="textAreaBottom" fmla="*/ 328680 h 45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9698"/>
                  </a:moveTo>
                  <a:lnTo>
                    <a:pt x="13637" y="19698"/>
                  </a:lnTo>
                  <a:lnTo>
                    <a:pt x="13637" y="7576"/>
                  </a:lnTo>
                  <a:lnTo>
                    <a:pt x="7576" y="7576"/>
                  </a:lnTo>
                  <a:lnTo>
                    <a:pt x="14588" y="0"/>
                  </a:lnTo>
                  <a:lnTo>
                    <a:pt x="21600" y="7576"/>
                  </a:lnTo>
                  <a:lnTo>
                    <a:pt x="15539" y="7576"/>
                  </a:lnTo>
                  <a:lnTo>
                    <a:pt x="1553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успешног руководиоца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лиген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лагођа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кстроверт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минант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аскули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зерватиз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персонална сензитив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nn, 1959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успешног руководиоца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лектуалне 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разо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е вешти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мопоузд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дмоћ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Stogdill, 1984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успешног руководиоца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лиг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Честит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ојал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пристрас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луч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 просуђ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јат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учно знањ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дрављ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 коопер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8672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5867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ooper, 1930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е сти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ко руководилац треба да се понаш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07:40:44Z</dcterms:created>
  <dc:creator>Kabinet 306</dc:creator>
  <dc:description/>
  <dc:language>en-US</dc:language>
  <cp:lastModifiedBy>Ivana</cp:lastModifiedBy>
  <dcterms:modified xsi:type="dcterms:W3CDTF">2005-12-12T15:26:53Z</dcterms:modified>
  <cp:revision>45</cp:revision>
  <dc:subject/>
  <dc:title>Slide 1</dc:title>
</cp:coreProperties>
</file>