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14B4-CCF8-441D-93C7-313783CE3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692C-507D-4FB1-ABEA-F3E0A16EF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91F8-FB62-45BA-B7CB-A2EC533A7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096A-8CF6-4100-B2A9-6B10E76E7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AD82A-BC98-4F8F-B35F-9CC1265CA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190BE-4451-47BB-950F-2B0A39203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35487-6CD7-4B10-B6C8-E66F15841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F9429-5248-4B00-A9D8-A40393616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88609-0D1C-4C68-94AE-0DD51C5A5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48F0E-8141-4F7E-8DBF-7FEE5F85D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CC7CA-912A-446B-96A8-BF91C6EFA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4E2E-E373-47E9-BD33-73DD4FBF1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B5483-F953-44CE-A2F5-2A5857A15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5B135-24E7-45EE-ADEE-10A64A91D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41F86-379D-4E5C-B46E-3B85B73C8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3B706-62C2-4AC8-A1B3-063087816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98690-4052-46F0-9BE6-559A3466C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1D59-D89A-4DC3-9D4D-1DC29FB32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1ADB-3701-45A8-B1C6-34344353B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8F46-EA74-4998-BA2A-7E2123BEE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ECB4-466A-430F-B204-92D693D3F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1BF3-0B1B-4779-97B2-D205A96A5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5E72-3EBC-4907-910F-16A0A3FD5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20AF-760C-4C4C-A048-C8B75B151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3188A-91F8-4DFC-B7C7-62CC5EE2ED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492CB-E8BE-40DE-B73E-B69112EF67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221304"/>
                </a:solidFill>
                <a:latin typeface="Times New Roman"/>
              </a:rPr>
              <a:t>ЛИЧНОСТ И ГРУП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221304"/>
                </a:solidFill>
                <a:latin typeface="Times New Roman"/>
              </a:rPr>
              <a:t>Извори, ефекти и мерење кохезивности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990720" y="1600200"/>
          <a:ext cx="7696080" cy="4818240"/>
        </p:xfrm>
        <a:graphic>
          <a:graphicData uri="http://schemas.openxmlformats.org/drawingml/2006/table">
            <a:tbl>
              <a:tblPr/>
              <a:tblGrid>
                <a:gridCol w="2565360"/>
                <a:gridCol w="2565360"/>
                <a:gridCol w="25653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ВОР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ДИКАТОР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ФЕКТ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тивациона база члан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жеља да се остане у груп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нага групе да задржи чланов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рактеристике груп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дентификација са груп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ћ утицања груп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чекивање члано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лагање за задатк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чешће чланова у извршавању задата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поређивање са другим могућим чланств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свајање групних циље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ећање сигурности члано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ојалност према чланови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фикасност груп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221304"/>
                </a:solidFill>
                <a:latin typeface="Times New Roman"/>
              </a:rPr>
              <a:t>Групни феномени:</a:t>
            </a:r>
            <a:br>
              <a:rPr sz="3200"/>
            </a:br>
            <a:r>
              <a:rPr b="0" lang="sr-CS" sz="4000" spc="-1" strike="noStrike">
                <a:solidFill>
                  <a:srgbClr val="221304"/>
                </a:solidFill>
                <a:latin typeface="Times New Roman"/>
              </a:rPr>
              <a:t>Групна структура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Распоред, организованост, трајнос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221304"/>
                </a:solidFill>
                <a:latin typeface="Times New Roman"/>
              </a:rPr>
              <a:t>Структура групе</a:t>
            </a:r>
            <a:br>
              <a:rPr sz="4000"/>
            </a:br>
            <a:r>
              <a:rPr b="0" lang="sr-CS" sz="4000" spc="-1" strike="noStrike">
                <a:solidFill>
                  <a:srgbClr val="221304"/>
                </a:solidFill>
                <a:latin typeface="Times New Roman"/>
              </a:rPr>
              <a:t>- четири схватања -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Као система позициј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Као система улога везаних за позициј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Као система међусобних однос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Система ранговања чланова према неком критеријум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648320" y="495288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800600" y="495288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981080" y="5410080"/>
            <a:ext cx="60962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 обзиром на позиције чланова груп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 обзиром на понашањ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221304"/>
                </a:solidFill>
                <a:latin typeface="Times New Roman"/>
              </a:rPr>
              <a:t>Врсте групних структур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Формалн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Реална: аспек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Структура моћ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Комуникациона структур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Социометријска (афективна структура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Статусна структур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221304"/>
                </a:solidFill>
                <a:latin typeface="Times New Roman"/>
              </a:rPr>
              <a:t>Фазе развоја малих груп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221304"/>
                </a:solidFill>
                <a:latin typeface="Times New Roman"/>
              </a:rPr>
              <a:t>фазе у развијању личних односа чланова групе</a:t>
            </a:r>
            <a:r>
              <a:rPr b="0" lang="sr-CS" sz="4000" spc="-1" strike="noStrike">
                <a:solidFill>
                  <a:srgbClr val="221304"/>
                </a:solidFill>
                <a:latin typeface="Times New Roman"/>
              </a:rPr>
              <a:t> – развијање структуре - 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90720" y="1752120"/>
            <a:ext cx="76960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Узајамно повезивањ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Јављање конфликата у груп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Развијање јединства групе – групна кохезивнос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(период преважилажења сукоба и отпора и утврђивање улога и групних норми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Успостављање функционалног односа између улог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(Стабилизација улога, а група постаје инструмент за остварење циљева због којих постоји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221304"/>
                </a:solidFill>
                <a:latin typeface="Times New Roman"/>
              </a:rPr>
              <a:t>Фазе у развитку понашања чланова групе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32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Оријентација на информисање о задатк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Супротстављање захтевима у вези са задатко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Размена важних информација о задатку и њихова интерпретациј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(период преважилажења сукоба и отпора и утврђивање улога и групних норми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Обављање активности којима се задаци успешно остварују и проблеми решавај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287360" y="801720"/>
            <a:ext cx="1662120" cy="16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124080" y="2438280"/>
            <a:ext cx="474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Cil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616040" y="3911760"/>
            <a:ext cx="130644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»kao jedan«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1735200" y="2997000"/>
            <a:ext cx="71280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166920" y="1041480"/>
            <a:ext cx="1425600" cy="17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952880" y="2438280"/>
            <a:ext cx="59400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Cil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397320" y="3798720"/>
            <a:ext cx="1187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»udruživanje«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3752640" y="2882520"/>
            <a:ext cx="5936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3633480" y="2997360"/>
            <a:ext cx="593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 flipV="1">
            <a:off x="3516120" y="3111480"/>
            <a:ext cx="355320" cy="571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3397320" y="3225600"/>
            <a:ext cx="0" cy="57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738760" y="3568680"/>
            <a:ext cx="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5621400" y="3568680"/>
            <a:ext cx="117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621400" y="3454200"/>
            <a:ext cx="0" cy="11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5501880" y="3454560"/>
            <a:ext cx="119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5502240" y="3340080"/>
            <a:ext cx="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5382720" y="3340080"/>
            <a:ext cx="119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383080" y="3225600"/>
            <a:ext cx="0" cy="11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5264280" y="3225960"/>
            <a:ext cx="11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 flipV="1">
            <a:off x="5144760" y="3683160"/>
            <a:ext cx="476280" cy="34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5264280" y="3454560"/>
            <a:ext cx="4744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 flipV="1">
            <a:off x="5857560" y="3111480"/>
            <a:ext cx="2379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5621400" y="3225960"/>
            <a:ext cx="355680" cy="34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488280" y="2654280"/>
            <a:ext cx="130644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781680" y="2514600"/>
            <a:ext cx="474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Cil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488280" y="2997360"/>
            <a:ext cx="1306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6843600" y="3340080"/>
            <a:ext cx="5940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6724440" y="3340080"/>
            <a:ext cx="593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6605280" y="3568680"/>
            <a:ext cx="83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962760" y="32259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328760" y="1697040"/>
            <a:ext cx="1800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328760" y="1697040"/>
            <a:ext cx="16160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328760" y="1697040"/>
            <a:ext cx="16160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328760" y="1697040"/>
            <a:ext cx="1496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1066680" y="1600200"/>
          <a:ext cx="7543800" cy="4790880"/>
        </p:xfrm>
        <a:graphic>
          <a:graphicData uri="http://schemas.openxmlformats.org/drawingml/2006/table">
            <a:tbl>
              <a:tblPr/>
              <a:tblGrid>
                <a:gridCol w="1925640"/>
                <a:gridCol w="2000520"/>
                <a:gridCol w="1692000"/>
                <a:gridCol w="192564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posobni i voljni ili pouzda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posobni ali ne voljni ili nesigur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isu u stanju ali voljni ili pouzda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isu u stanju niti su voljni ili su nesigur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6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LOVAN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RMIRAN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»OLUJA«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ORMIRAN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»funkcionalni strukturisani samoupravljački timovi«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Kohezivni ti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imska neusklađeno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eizvesan »haos«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uh zajedničkog sinergetskog delovanj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stepeno prilagođavanj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posobni za uzajamno poštovanje i utica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treba za ciljem i usmeravanj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9" name=""/>
          <p:cNvSpPr/>
          <p:nvPr/>
        </p:nvSpPr>
        <p:spPr>
          <a:xfrm>
            <a:off x="7010280" y="3657600"/>
            <a:ext cx="1306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»prikupljanje delova«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066680" y="2362320"/>
            <a:ext cx="47484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Cil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221304"/>
                </a:solidFill>
                <a:latin typeface="Times New Roman"/>
              </a:rPr>
              <a:t>Фазе развоја тима </a:t>
            </a:r>
            <a:br>
              <a:rPr sz="4000"/>
            </a:b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221304"/>
                </a:solidFill>
                <a:latin typeface="Times New Roman"/>
              </a:rPr>
              <a:t>Задаци за вежбање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Прочитати: Михаиловић, Д., Психологија у организацији, ФОН, Београд, 2005., стр. 164-1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Осмислити испитивање феномена групне кохезивности користећи понуђену табелу: “Извори, ефекти и мерење кохезивности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Покушати конкретан пример групе или тима провући кроз понуђене фазе тимског рад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Прочитати приказне чланке обраћајући пажњу на нацрте истраживања (поступак) и добијене резултат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Прокоментарисати добијене резултате у контексту разлика између феномена групе и тимског рада (фактори групе/тима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Прокоментарисати паралеле између теоријских концепција Белбина и Киртона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221304"/>
                </a:solidFill>
                <a:latin typeface="Times New Roman"/>
              </a:rPr>
              <a:t>Литература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Обавезна: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Михаиловић, Д., Психологија у организацији, ФОН, Београд, 2005., стр. 164-1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Препоручена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Рот, Н., Психологија група, ИП Завет, Београд, 1995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 u="sng">
                <a:solidFill>
                  <a:srgbClr val="000000"/>
                </a:solidFill>
                <a:uFillTx/>
                <a:latin typeface="Times New Roman"/>
              </a:rPr>
              <a:t>Чланци за приказ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Fisher, G.S., Hunter, A.T., Macrosson, W.D.K., </a:t>
            </a:r>
            <a:r>
              <a:rPr b="0" i="1" lang="sr-Latn-CS" sz="2000" spc="-1" strike="noStrike">
                <a:solidFill>
                  <a:srgbClr val="000000"/>
                </a:solidFill>
                <a:latin typeface="Times New Roman"/>
              </a:rPr>
              <a:t>Team or Group? Managers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` Perceptions of the Differences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ournal of Managerial Psychology, Vol. 12., no. 4., 1997., pp. 232-242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sher, G., Macrosson, W.D.K., Wong, J.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ognitive Style and Team Role Preferen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Journal of Managerial Psychology, Vol. 13., No. 8., 1998., p. 544-557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221304"/>
                </a:solidFill>
                <a:latin typeface="Times New Roman"/>
              </a:rPr>
              <a:t>МАЛА ГРУП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320" y="182880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Социјална јединиц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коју чини ограничени број појединаца међу којима владају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стабилизовани систем односа и одређене норме понашањ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усмерене ка остварењу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заједничких циљев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221304"/>
                </a:solidFill>
                <a:latin typeface="Times New Roman"/>
              </a:rPr>
              <a:t>ЛИЧНОСТ И ОРГАНИЗАЦИЈА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221304"/>
                </a:solidFill>
                <a:latin typeface="Times New Roman"/>
              </a:rPr>
              <a:t>Деф1: Организација је...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sr-CS" sz="3600" spc="-1" strike="noStrike">
                <a:solidFill>
                  <a:srgbClr val="000000"/>
                </a:solidFill>
                <a:latin typeface="Times New Roman"/>
              </a:rPr>
              <a:t>рационална координација активности одређеног броја људи ради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Times New Roman"/>
              </a:rPr>
              <a:t>постизања неке заједничке намере или циља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Times New Roman"/>
              </a:rPr>
              <a:t>кроз поделу посла и функција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Times New Roman"/>
              </a:rPr>
              <a:t>и преко хијерархије ауторитета и одговорности”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(Шејн, 1970).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221304"/>
                </a:solidFill>
                <a:latin typeface="Times New Roman"/>
              </a:rPr>
              <a:t>Деф. 2:</a:t>
            </a:r>
            <a:r>
              <a:rPr b="0" lang="sr-Latn-CS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221304"/>
                </a:solidFill>
                <a:latin typeface="Times New Roman"/>
              </a:rPr>
              <a:t>Организација је...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447920" y="1676160"/>
            <a:ext cx="7238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интересни систем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узајамно повезаних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сихолошких група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образован ради постизањ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одређеног циља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(Креч, Крачвилд, Балаки, 1978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221304"/>
                </a:solidFill>
                <a:latin typeface="Times New Roman"/>
              </a:rPr>
              <a:t>Основне претпоставке организације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Заједнички ци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Подела задата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Координација активнос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Контрола активнос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Хијерархија ауторитет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221304"/>
                </a:solidFill>
                <a:latin typeface="Times New Roman"/>
              </a:rPr>
              <a:t>Основне одлике организације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Сложеност структур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одела рад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Координација функција и активнос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Формализовање односа и активнос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221304"/>
                </a:solidFill>
                <a:latin typeface="Times New Roman"/>
              </a:rPr>
              <a:t>Филозофска питања</a:t>
            </a:r>
            <a:br>
              <a:rPr sz="4000"/>
            </a:br>
            <a:r>
              <a:rPr b="0" lang="sr-CS" sz="1800" spc="-1" strike="noStrike">
                <a:solidFill>
                  <a:srgbClr val="221304"/>
                </a:solidFill>
                <a:latin typeface="Times New Roman"/>
              </a:rPr>
              <a:t>- спољашња детерминација понашања? -</a:t>
            </a:r>
            <a:r>
              <a:rPr b="0" lang="sr-CS" sz="40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447920" y="2236320"/>
            <a:ext cx="7238880" cy="36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Људска природа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Ефикаснос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сихичко здрављ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221304"/>
                </a:solidFill>
                <a:latin typeface="Times New Roman"/>
              </a:rPr>
              <a:t>Интеракција личности и организације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066680" y="2438280"/>
            <a:ext cx="3200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Несагласност развојних тенденција </a:t>
            </a:r>
            <a:br>
              <a:rPr sz="1600"/>
            </a:b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зреле личности и </a:t>
            </a:r>
            <a:br>
              <a:rPr sz="1600"/>
            </a:b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захтева формалне организациј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Организација и личност имају различите интерес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Због тога је неминован суко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и неопходна промена однос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00240" y="2376000"/>
            <a:ext cx="3886200" cy="34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Човек тежи задовољењу егзистенцијалних потреб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Материјална сигурност појединца зависи од успешности пословања организациј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организација и људска природа су у складу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858000" y="419112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96252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914400" y="1523880"/>
            <a:ext cx="3429000" cy="68580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Приступ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са становишта лич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648320" y="1523880"/>
            <a:ext cx="3962160" cy="68580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Приступ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са становишта организац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29400" y="419112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971800" y="396252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221304"/>
                </a:solidFill>
                <a:latin typeface="Times New Roman"/>
              </a:rPr>
              <a:t>McGregor – </a:t>
            </a:r>
            <a:r>
              <a:rPr b="0" lang="sr-CS" sz="4400" spc="-1" strike="noStrike">
                <a:solidFill>
                  <a:srgbClr val="221304"/>
                </a:solidFill>
                <a:latin typeface="Times New Roman"/>
              </a:rPr>
              <a:t>Теорија </a:t>
            </a:r>
            <a:r>
              <a:rPr b="0" lang="sr-Latn-CS" sz="4400" spc="-1" strike="noStrike">
                <a:solidFill>
                  <a:srgbClr val="221304"/>
                </a:solidFill>
                <a:latin typeface="Times New Roman"/>
              </a:rPr>
              <a:t>XY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066680" y="2209320"/>
            <a:ext cx="37339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Најзначајнија потреба за материјалном сигурношћу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Човек је пасиван и ле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На послу га треба усмеравати, присиљавати и кажњава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952880" y="1752480"/>
            <a:ext cx="37339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Значајније су више човекове потребе – тежи самоиницијативи и креативно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Није лењ и не избегава одговорнос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Треба остварити интеграцију циљева организације и појединц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143000" y="1219320"/>
            <a:ext cx="53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 u="sng">
                <a:solidFill>
                  <a:srgbClr val="cc0000"/>
                </a:solidFill>
                <a:uFillTx/>
                <a:latin typeface="Times New Roman"/>
              </a:rPr>
              <a:t>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848720" y="1219320"/>
            <a:ext cx="83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 u="sng">
                <a:solidFill>
                  <a:srgbClr val="cc0000"/>
                </a:solidFill>
                <a:uFillTx/>
                <a:latin typeface="Times New Roman"/>
              </a:rPr>
              <a:t>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221304"/>
                </a:solidFill>
                <a:latin typeface="Times New Roman"/>
              </a:rPr>
              <a:t>Основне поставке теорије </a:t>
            </a:r>
            <a:r>
              <a:rPr b="0" lang="sr-Latn-CS" sz="4000" spc="-1" strike="noStrike">
                <a:solidFill>
                  <a:srgbClr val="221304"/>
                </a:solidFill>
                <a:latin typeface="Times New Roman"/>
              </a:rPr>
              <a:t>Z</a:t>
            </a:r>
            <a:br>
              <a:rPr sz="4000"/>
            </a:br>
            <a:r>
              <a:rPr b="0" lang="sr-CS" sz="3200" spc="-1" strike="noStrike">
                <a:solidFill>
                  <a:srgbClr val="221304"/>
                </a:solidFill>
                <a:latin typeface="Times New Roman"/>
              </a:rPr>
              <a:t>- јапански менаџмент -</a:t>
            </a:r>
            <a:r>
              <a:rPr b="0" lang="sr-CS" sz="40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2640" y="175248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Концепт доживотног запослењ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Поступно напредовањ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Умерено специјализована каријер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Партиципација у доношењу одлу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Колективна одговорнос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Имплицитна (неформална) контрол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Холистички приступ запосленим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(Оучи, 198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221304"/>
                </a:solidFill>
                <a:latin typeface="Times New Roman"/>
              </a:rPr>
              <a:t>Питања и задаци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Прочитати Михаиловић, Д., Психологија у организацији, ФОН, Београд, 2005., стр. 181-1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Покушати одговорити на “филозофска питања”: људске природе, ефикасности и менталног здравља у контексту наших организациј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Осмислити начин за испитивање поставки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McGregor-o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в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XY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теорије у конкретној организациј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Предложити мере које би могле да помогну имплементацију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теорије на наше организациј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221304"/>
                </a:solidFill>
                <a:latin typeface="Times New Roman"/>
              </a:rPr>
              <a:t>Битне одлике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Међусобна непосредна интеракција појединац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сихолошки свесни једни други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Опажају себе као део груп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221304"/>
                </a:solidFill>
                <a:latin typeface="Times New Roman"/>
              </a:rPr>
              <a:t>Литература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74674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бавезна: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Михаиловић, Д., Психологија у организацији, ФОН, Београд, 2005., стр. 181-19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Препоручена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Бојановић Р., Психологија међуљудских односа, Центар за примењену психологију, Друштва психолога Србије, Београд, 1998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221304"/>
                </a:solidFill>
                <a:latin typeface="Times New Roman"/>
              </a:rPr>
              <a:t>Црте личности </a:t>
            </a:r>
            <a:br>
              <a:rPr sz="4000"/>
            </a:br>
            <a:r>
              <a:rPr b="0" lang="sr-CS" sz="2800" spc="-1" strike="noStrike">
                <a:solidFill>
                  <a:srgbClr val="221304"/>
                </a:solidFill>
                <a:latin typeface="Times New Roman"/>
              </a:rPr>
              <a:t>које утичу на групну климу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Интерперсонална оријентација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(кооперативност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Социјална сензитивност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(социјална емпатија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Доминантност/зависнос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Емоционална стабилнос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Способнос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221304"/>
                </a:solidFill>
                <a:latin typeface="Times New Roman"/>
              </a:rPr>
              <a:t>Развој малих група</a:t>
            </a:r>
            <a:br>
              <a:rPr sz="4000"/>
            </a:br>
            <a:r>
              <a:rPr b="0" lang="sr-CS" sz="3200" spc="-1" strike="noStrike">
                <a:solidFill>
                  <a:srgbClr val="221304"/>
                </a:solidFill>
                <a:latin typeface="Times New Roman"/>
              </a:rPr>
              <a:t>- интерперсонална атракција -</a:t>
            </a:r>
            <a:r>
              <a:rPr b="0" lang="sr-CS" sz="40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7620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Близина и учесталост контакат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Сличност ставов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Сличност личнос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Физичка привлачнос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ривлачност активности груп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ривлачност циљева груп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ривлачност самог чланства у груп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Инструментално чланств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221304"/>
                </a:solidFill>
                <a:latin typeface="Times New Roman"/>
              </a:rPr>
              <a:t>Врсте груп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38080" y="1371600"/>
            <a:ext cx="2971800" cy="99072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еструктуиране груп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257800" y="1371600"/>
            <a:ext cx="2971800" cy="91440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труктуиране груп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819520"/>
            <a:ext cx="1981440" cy="76176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убл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828800" y="4038480"/>
            <a:ext cx="1981080" cy="60984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а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0" y="5334120"/>
            <a:ext cx="2057400" cy="76176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оцијалн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кре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858000" y="2971800"/>
            <a:ext cx="1905120" cy="68580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але груп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334120" y="4038480"/>
            <a:ext cx="2133360" cy="60984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рганизац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800600" y="5334120"/>
            <a:ext cx="2362320" cy="76176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елик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руштвене груп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1371600" y="2362320"/>
            <a:ext cx="9907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0" y="2286000"/>
            <a:ext cx="9144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221304"/>
                </a:solidFill>
                <a:latin typeface="Times New Roman"/>
              </a:rPr>
              <a:t>Врсте груп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Примарне/секундарн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Референтне груп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Формалне/неформалн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Властите/туђ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Радне груп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221304"/>
                </a:solidFill>
                <a:latin typeface="Times New Roman"/>
              </a:rPr>
              <a:t>Примарна група – основна обележја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7467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остојање интензивних интерперсоналних односа између чланов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јаке емотивне везаности међу њим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јака осећања везаности за груп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жива интеракција свих са свим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интензиван утицај фрупе на понашање чланов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чести контакти лицем у лиц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221304"/>
                </a:solidFill>
                <a:latin typeface="Times New Roman"/>
              </a:rPr>
              <a:t>Групни феномени:</a:t>
            </a:r>
            <a:br>
              <a:rPr sz="3200"/>
            </a:br>
            <a:r>
              <a:rPr b="0" lang="sr-CS" sz="4000" spc="-1" strike="noStrike">
                <a:solidFill>
                  <a:srgbClr val="221304"/>
                </a:solidFill>
                <a:latin typeface="Times New Roman"/>
              </a:rPr>
              <a:t>Групна кохезија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резултанта свих снага које делују на чланове да остану у групи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8T17:30:17Z</dcterms:created>
  <dc:creator>Ivana</dc:creator>
  <dc:description/>
  <dc:language>en-US</dc:language>
  <cp:lastModifiedBy>Ivana</cp:lastModifiedBy>
  <dcterms:modified xsi:type="dcterms:W3CDTF">2005-12-12T18:35:19Z</dcterms:modified>
  <cp:revision>31</cp:revision>
  <dc:subject/>
  <dc:title>Slide 1</dc:title>
</cp:coreProperties>
</file>