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3F9-7B88-4EEA-8EAA-E5920341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F5B-A62D-4EB0-AD35-04A847B9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2845-4AF6-452A-B6C5-978D7433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3DA0-08A5-4333-A194-954AFCC9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B292-57A5-4426-933A-2BF575F3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E843-885C-46DC-B0AA-B71C05BA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1AA3-9413-46EA-A5C5-813B656E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E2DC-C94A-415B-A0FE-145F02E2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6D17-023C-4852-916D-B1C62049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BE44-FCF6-45CD-A1D2-4FBE12C0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1E51-49CF-4AEC-A71B-59BEBE76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19A6-0AFE-42D4-B3AB-D14D54EE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0FB-2B4C-45C6-BA05-2776E905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3A8C-BDCB-4B75-95F0-13D48CB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5CC7-CF20-459B-82E1-48535E8A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3F77-C80D-43F6-9D52-37AA1D83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227C-1DB9-40A9-80FE-86AB9AE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B43-0D29-4F33-A168-75FA64B7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41C-3826-4B2A-9873-AB004835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1AD-2B45-4C80-9981-1289467F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3C3-7DB8-451C-AAFC-FC56B62A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98C-3DFF-4EDA-933B-850CCCCA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EEE-DA7D-4636-A698-35E3FF7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67D3-37A3-49A1-9801-613D723A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6FD1-1BD3-4ED1-8FB2-F9463619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7EC1-8431-4C7A-808F-06E2EEDE2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КОНФЛИКТИ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ликти у организацији; тумачење; врсте, типови, носиоци, узроци и поступци решавања и управљањ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оступци решавања конфликата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ступак надређених циљ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вођење арбит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вијање интерперсоналних вешт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проми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оступци управљања конфликтима: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Интервенци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фронт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влаче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сиља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блажа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мпроми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Општи поступак решавања и управљања конфликтим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финисањ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нфликт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коби међу људима који имај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упротне интересе или вред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на тај начин међусобно угрожавају задовољење неких значај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о језгро конфликта: Фрустрација основних потреб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1148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81480" y="40384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умачење конфлика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луралистичко гледишт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едиште са становишта међуљудских одно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ледиште са аспекта менталне хигије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ва супртостваљена гледиш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Гледиште међуљудских одно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ије пожељан и треба га избегава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ије неизбеж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астаје из блокаде комуникације и недостатка разумевања и отворености између различитих стр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Средина игра главну улогу у обликовању понашања, те агресивност потиче из околности у среднини које се могу мења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овек је у бити добар: поверење, сарадња и доброта су основне одлике људске природ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луралистичко гледишт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је пожељан и треба га поспешивати; мора се усмеравати да не измакне контро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је неизбежа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нфликт настаје: из борбе за добра којих нема довољно, а у мањој мери из урођених агресивних и компетитивних импулс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лога средине у настајању конфликата је прецењена; постоје и многе генетичке и физиолошке основе агрес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Човака, ако и није у бити рђав, пак покрећу агресивни егоистички и компетитивни инстинк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Узроци конфликат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3124080"/>
            <a:ext cx="213336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м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3276720"/>
            <a:ext cx="2362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971440" y="1676520"/>
            <a:ext cx="16002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1676520"/>
            <a:ext cx="1676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Бојановић: Класификација узрочника конфликата у организацији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оно-технолошки и економски услови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еђуљудски односи у организацији и радној гру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уктуре личности које стварају услове за конфлик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сагласности међу члановима групе о значајним ставовима, интересима и вредност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конфлика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666880"/>
            <a:ext cx="220968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флик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е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2819520"/>
            <a:ext cx="213372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флик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4191120"/>
            <a:ext cx="2438280" cy="14475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флик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еса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90920" y="1371600"/>
            <a:ext cx="2133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1371600"/>
            <a:ext cx="190476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1371600"/>
            <a:ext cx="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ипови конфлик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3200400"/>
            <a:ext cx="236196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стру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3276720"/>
            <a:ext cx="221004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струк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200040" y="1600200"/>
            <a:ext cx="152388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600200"/>
            <a:ext cx="14479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онфликти према носиоцима конфлика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2514600"/>
            <a:ext cx="25146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рапсихи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33720" y="4419720"/>
            <a:ext cx="2286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рагруп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495680"/>
            <a:ext cx="2209680" cy="10670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груп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2590920"/>
            <a:ext cx="26672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персонал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438280" y="1600200"/>
            <a:ext cx="22860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1600200"/>
            <a:ext cx="21337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05320" y="1676520"/>
            <a:ext cx="121896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1676520"/>
            <a:ext cx="114300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10:35Z</dcterms:created>
  <dc:creator>Ivana</dc:creator>
  <dc:description/>
  <dc:language>en-US</dc:language>
  <cp:lastModifiedBy>Ivana</cp:lastModifiedBy>
  <dcterms:modified xsi:type="dcterms:W3CDTF">2005-12-12T17:43:46Z</dcterms:modified>
  <cp:revision>13</cp:revision>
  <dc:subject/>
  <dc:title>КОНФЛИКТИ </dc:title>
</cp:coreProperties>
</file>