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65F6-0D59-41CC-A004-4058E4E54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23B-4669-491F-AE18-FB276565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04E-DB38-40ED-BFD1-4C5DDF26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2794-86C5-4090-BCCC-4C350C89B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E0EA-19AD-43B8-BE2C-72563211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26EF-61F8-4B9F-8C42-7A048261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ACBC-A782-4964-94EE-9E053552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0C92-869F-4E0C-AEDC-41369070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77A5-866F-4BA4-934D-3464ADC2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4166-FBA2-46D2-A148-E8F260FC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1AC9-87ED-4550-96F7-F531861B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6F3-7D69-4A64-99CD-6A0A181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9CFC-A068-4950-B733-AE8A0D25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7554B-D2C7-475B-A92A-845E156E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4DBF-DBD1-4851-AA8B-60C8B2CD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551E-FD80-42F8-96BF-5F52E179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A82E-ED5F-4D18-9E9D-C2B46DF5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40D-AD5C-43E1-853F-E1466409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100-0936-4F83-99A8-3272446D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4DD3-4A94-4015-AEC1-633124E8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2EC1-0D32-4738-A4F5-EB28A35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E06-F523-4F3C-9899-AF22AFE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318-5A7D-4DA0-A1AE-937C874F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DE2-3761-414C-8A73-0DD8F4D6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D88E-3749-41C1-8484-79140FF94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D173-9CB8-45B9-BA4B-FFFA995F4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721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ПСИХОЛОШКИ ПРОБЛЕМИ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ВРЕМЕНИ ТЕОРИЈСКИ ПРИСТУПИ РУКОВОЂЕЊУ; РЕШАВАЊЕ КОНКРЕТНИХ РУКОВОДЕЋИХ 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Врум-Јетонов модел одлучив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828800"/>
            <a:ext cx="4952880" cy="4267080"/>
          </a:xfrm>
          <a:prstGeom prst="rect">
            <a:avLst/>
          </a:prstGeom>
          <a:noFill/>
          <a:ln w="284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тепен у ком је значајно квалитетно одлучив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тепен у ком вођа поседује довољно информ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да донесе квалитетну одлу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3.   Степен до ког је проблем структуир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4.   Степен у ком је прихватање или учешћ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дређених битно за примену одлу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5.   Претпостављена вероватноћа да би вођ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утократско руковођење било прихваћ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6.  Степен у ком су подређени мотивисани 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еже организационим циљев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7. Степен у ком би се подређени вероват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упротставили преферираним решењ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1828800"/>
            <a:ext cx="2895480" cy="441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утократски стил (А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Аутократски стил (А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нсултативни стил (С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Консултативни стил (С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Групно одлучивање (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1676520"/>
            <a:ext cx="3048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одалитети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1523880"/>
            <a:ext cx="23619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ил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ук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Херси- Бланшардов моде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тил руковођења и врста моћи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1976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читати: Михаиловић, Д., Психологија организације, ФОН, 2005., стр. 200 – 24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пунити схему на слајду 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пунити схему на слајду 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говорити на питања на слајду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Задатак 2: Стилови руковођења</a:t>
            </a:r>
            <a:br>
              <a:rPr sz="24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- предности и недостаци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1676520"/>
          <a:ext cx="7620120" cy="4503600"/>
        </p:xfrm>
        <a:graphic>
          <a:graphicData uri="http://schemas.openxmlformats.org/drawingml/2006/table">
            <a:tbl>
              <a:tblPr/>
              <a:tblGrid>
                <a:gridCol w="1981440"/>
                <a:gridCol w="2743200"/>
                <a:gridCol w="289548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тократ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мократски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ултатив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isez-fai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Задатак 3: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Стилови руковођења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Осмислите адекватну ситуацију за понуђене стилове руковођења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2209680"/>
          <a:ext cx="7620120" cy="3657240"/>
        </p:xfrm>
        <a:graphic>
          <a:graphicData uri="http://schemas.openxmlformats.org/drawingml/2006/table">
            <a:tbl>
              <a:tblPr/>
              <a:tblGrid>
                <a:gridCol w="1981440"/>
                <a:gridCol w="5638680"/>
              </a:tblGrid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ијентисан на љу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ијентисан на задат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Задатак 4: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221304"/>
                </a:solidFill>
                <a:latin typeface="Times New Roman"/>
              </a:rPr>
              <a:t>Стилови руковођења</a:t>
            </a: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Понудите адекватан стил доношења одлуке с обзиром на ситуацију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атешки је битно да подређени партиципирају у имплементацији одл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колико руководилац нема довољно информација да донесе одлуку која није нарочито важна за опстанак груп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колико само руководилац има информације и знање неопходно за доношење и имплементацију одл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колико је одлука од виталног значаја и неопходно ју је донети што пр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организације, ФОН, 2005., стр. 200 24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одат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јановић, Р., Психологија међуљудских односа, Центар за примењену психологију, Друштва психолога Србије, Београд, 1998., стр. 156 – 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Hersey, P., Blanchard, K. H., Johnson, D. E., Management of Organizational Behavior: Leading Human Resources, Eighth edition, Prentice-Hall, New Jersey, 200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Bitel, L., Liderstvo: stilovi i tehnike upravljanja, Clio, Beograd, 199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Tomson, R., Veština rukovođenja, Clio, Beograd, 2000.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функције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анир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ов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рављ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тро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уководеће функције у психолошком светл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ођење – личност или ст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лучивање – основни механизам руковођ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ланирање – концептуалне вешт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овање и координис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шавање проблема – сложена фун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дровска функција – систематско управљање људским ресурс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отивација – као мотивисање и као мотивиса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муникација – као кључна вешт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нтрола и евалуација запослених и процеса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теоријске мисли о руковођењ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великих људи”; “теорије личности вође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стил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 личности и сти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туациони приступи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орије личности /теорије стил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рођене диспозиције личности/научено понаш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гласак на селекцији/нагласак на образова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ључ успеха руководиоца”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Црте личности и стил рада су међусобно зависне карактеристике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 доприносе добром или лошем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итуациони приступи руковођењ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еделров контингенцијски модел руковође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90720" y="1905120"/>
          <a:ext cx="7696080" cy="4343040"/>
        </p:xfrm>
        <a:graphic>
          <a:graphicData uri="http://schemas.openxmlformats.org/drawingml/2006/table">
            <a:tbl>
              <a:tblPr/>
              <a:tblGrid>
                <a:gridCol w="1218960"/>
                <a:gridCol w="1859040"/>
                <a:gridCol w="1540080"/>
                <a:gridCol w="1538280"/>
                <a:gridCol w="153972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туа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 вођа - чл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ра зада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ај вла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говарајући стил руковођ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б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нос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трукту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т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Хаусов пут-циљ моде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590920"/>
            <a:ext cx="205740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длике запосле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треб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4076640"/>
            <a:ext cx="2057400" cy="1162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длике по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труктуиранос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структуира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2438280"/>
            <a:ext cx="2057400" cy="35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илови вођ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ријентисано ка постигну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Директи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ртиципати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државајућ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3880" y="2933640"/>
            <a:ext cx="1371600" cy="23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фикасност вођ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исока продуктивност рад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исоко задовољство по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3162240"/>
            <a:ext cx="343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533840"/>
            <a:ext cx="343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962520"/>
            <a:ext cx="8002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5:27:34Z</dcterms:created>
  <dc:creator>Ivana</dc:creator>
  <dc:description/>
  <dc:language>en-US</dc:language>
  <cp:lastModifiedBy>Ivana</cp:lastModifiedBy>
  <dcterms:modified xsi:type="dcterms:W3CDTF">2005-12-12T17:09:46Z</dcterms:modified>
  <cp:revision>21</cp:revision>
  <dc:subject/>
  <dc:title>ПСИХОЛОШКИ ПРОБЛЕМИ РУКОВОЂЕЊА</dc:title>
</cp:coreProperties>
</file>