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399B-38A6-4EC6-90FA-AB35F570F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E01F-687F-4EF0-8510-42CD943A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872A-5E9C-43C5-96DB-A6526F60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F001-2A86-4296-ACD1-C7ED5FA74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591C-6E9B-49DB-92F2-ABFC713B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D3EE-813D-48D3-B4D2-BD97476A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88093-118B-4BFF-8E5F-031B60A51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C51A-8635-4329-96E0-69D8A45C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1F71-4F82-4D71-8CEC-90DA0F705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9ED2-A586-4D0B-96D9-4B3D01FEB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FD3F-E392-402F-917A-5E3C95C6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3F0-B9D9-4AC1-9256-7E81789F3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E8089-FBA1-4044-8F81-E562581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0DEC-C032-4388-9539-F338960A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56F5C-7E94-4FA8-BDCD-49C12FAF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6AEF-ACF8-431A-8E9E-71C6963E8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7AE4B-8EE1-497C-A35E-84E8EAD43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5C25-7530-4313-A6FC-D6BCD984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B37C-6578-469E-B734-B1C54F3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33B3-2499-4ED8-B9E1-1088E26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2B7B-A63C-4AB2-979E-0CD6BF51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BBDB-CEEA-4166-9D38-98F5E39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CBCA-24D4-4CB1-B0FA-3D06CA84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3F9-CD63-48FB-B319-BC25C009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0A61-050E-4CF3-9EB4-B2C9601D7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AF3A-EBC0-4C8E-85D0-A85C79DE8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езентација прочитаних текстова и дискус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unikacija mašina-čovek; čovek-mašina; Marel, H., Čovek i mašine, Nolit, Beograd, 1976. , str. 31-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alysing Jobs and Work: Casio, F. W., Applied Psychology in Human Resource Management, Prentice Hall, Upper Saddle River, NJ, 1998., pg. 130-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000" y="609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2./13./14./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9:20Z</dcterms:created>
  <dc:creator>Ivana</dc:creator>
  <dc:description/>
  <dc:language>en-US</dc:language>
  <cp:lastModifiedBy>Ivana</cp:lastModifiedBy>
  <dcterms:modified xsi:type="dcterms:W3CDTF">2005-10-11T15:51:49Z</dcterms:modified>
  <cp:revision>4</cp:revision>
  <dc:subject/>
  <dc:title>Slide 1</dc:title>
</cp:coreProperties>
</file>