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F77-266D-46AE-8BCE-62C3A670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7959-6943-47C9-8901-9375D646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9076-D3A9-45E5-80CE-E2183BAE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7B64-5216-40C3-813E-2A5869F5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6976-2660-4916-853B-09C2718A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BA4A4-30F7-40EA-AD5F-31F4D064C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5375-3958-42C4-A03C-271520E7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4CB0-869E-4605-94CF-C0E9B095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5F24-F4AC-43BE-8E6E-69E29CC50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38A5-E604-484E-8771-30C8EE78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D9E8-1A3D-4DE6-9C41-3F6E2335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60D-8604-407A-A971-3D9A2B48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7249-E0D4-4471-B026-61536E11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1A48-84A1-4010-B03D-69F4265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E3BE-F95C-4A5E-9E52-6D2DC073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F235-2365-45EF-9597-A08B9B1E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6F0F8-BFF8-4804-B622-870379A7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953-DB01-4CA7-A37B-8A12560E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947-51E8-40E4-8450-0D47541C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D61-6AE5-4B8F-BFB3-C0BF652A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E6E2-53EB-4DF8-A430-F50BEE7A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89DE-ADA3-4AD5-A05D-E6BCB6F1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7FF-7CAA-4424-8CD5-7BF66268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6E7-BF74-4872-A893-685B1675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A64D-6F47-4C39-9AF0-2F2D042E0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D23F-DA2A-4987-8618-25F30B4013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тоде психологије организације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тест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ализа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05./06./07.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етод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676520"/>
            <a:ext cx="312408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сихолошки тест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281916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ализа по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124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зн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200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200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2895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хтеви по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руч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иофизи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сих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520" y="2590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100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5053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и тестови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– мерење особина личности -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ебним поступком изабрани задаци којима се изазивају узорци понашања на основу којих се закључује о особинама тестиране особ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тријске карактеристике тестов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љаност (валидност) – да тест заиста мери оно што желимо да мери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узданост (релијабилност) – да у поновљеним мерењима код исте особе даје приближно исте резулта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јективност – да сви који га примењују исте одговоре једнако оцењу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етљивост (селективност, дискриминативност) – да је у стању да измери мале разлике између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нализа пос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атски поступак утврђивања природе и садржаја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задатака, дужности, одговорности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лова и метода ра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о и психофизичких особина које посао зах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419720"/>
            <a:ext cx="16002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радник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181480"/>
            <a:ext cx="190512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то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572000"/>
            <a:ext cx="19810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д којим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услови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029200"/>
            <a:ext cx="251460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је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соб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сао захтева од рад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(какав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треба он да буд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мена анализе пос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ласификација и организација по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фесионална оријен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фесионална сел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тврђивање програма обуча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варање бољих услова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. Прочитати Михаиловић, Д., Психологија у организацији, ФОН, Београд, 2005., стр. 37-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Повезати врсте тестова са захтевима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. У понуђеним примерима покушати разумети који принцип психолошких тестова није задовољ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4. По угледу на понуђени пример схеме анализе радних места* анализирати изабрани посао (нпр. менаџера, инжињера информационих технологиј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9436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5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схема анализе радних места је дата у документу “схема анализе радних мест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у организацији, ФОН, Београд, 2005., стр. 37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поручен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уквић, А., Начела израде психолошких тестова, Завод за уџбенике и наставна средства, Београд, 1982., стр. 107-109, 111-116, 125-131, 181-2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аучна књига, Београд, стр. 217-2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, N., Berger, L. The Compenzation Handbook, 1991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49-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io, W.F., Applied Psychology in Human Resource Management, Prentice Hall, Denver, 1998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стр. 130-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Kabinet 306</cp:lastModifiedBy>
  <dcterms:modified xsi:type="dcterms:W3CDTF">2005-10-11T13:07:39Z</dcterms:modified>
  <cp:revision>157</cp:revision>
  <dc:subject/>
  <dc:title>ПСИХОЛОГИЈА ОРГАНИЗАЦИЈЕ - ВЕЖБЕ - </dc:title>
</cp:coreProperties>
</file>