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7DB-D0D8-4107-BCB3-8B486517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66C8-4FC1-4B4C-A3B5-5BFB75C96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0D65-5906-4275-AEE3-313F2FEA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94D-0226-4420-9D0A-160CE7C1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B90D-56A6-4CBE-8226-CBFC1AA1C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A957-871A-4CC2-88E5-95D398C8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6413-07B5-4EA9-96B7-75D16DC0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1F66-DDF8-402A-80D1-8FDBD6D4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EC7D-00A8-404F-98EC-E536C7EE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317D-4364-4F66-B9A0-9B4B4142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2C0F-1BD9-488E-9D83-D90630571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F104-74C1-49D7-BC80-751FD849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AB8F5-FB7A-464B-84F8-68AE92DC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216A3-8983-4616-BDCF-0BB4320F4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A1705-03A1-48DD-B11F-677D8F3C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56E44-09DC-4EB7-A8C8-437E8193B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83CF0-CA03-4478-AF05-0BA6F0B8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255E-9EFC-4B6A-923B-25DF80DC3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C23F-B053-47E0-A920-C6B6622C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236E-A829-487A-84FB-0157CC018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F8E-2E5E-41ED-BE83-A72FE3A2D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40B8-35FD-4E9E-A962-93B63FF4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FE5-6F15-4DF6-9D13-5FA32D6A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8240-939A-49B6-AF03-78DEBFFC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6D5C6-0C23-4088-8D16-6A11FDBFFF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6C3B-E5DE-4EF5-A806-A5AE8661F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8487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РАД ПО ГРУПАМА ЗА СЕМИНАРСКИ, ИСТРАЖИВАЧКИ И КРИТИЧКИ ПРИКАЗ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траживачки рад: формулисање нацрта истраж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минарски радови: дефинисање структуре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ритички приказ: увежбавање писања критичког приказа на кратак задати тек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9./10./11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према за проверу знања*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виз пит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колоквијум се ради уз коришћење књиг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9./10./11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486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Погледати документ примери питања колоквијума од ранијих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6:10:08Z</dcterms:created>
  <dc:creator>Ivana</dc:creator>
  <dc:description/>
  <dc:language>en-US</dc:language>
  <cp:lastModifiedBy>Ivana</cp:lastModifiedBy>
  <dcterms:modified xsi:type="dcterms:W3CDTF">2005-10-11T16:15:15Z</dcterms:modified>
  <cp:revision>4</cp:revision>
  <dc:subject/>
  <dc:title>Slide 1</dc:title>
</cp:coreProperties>
</file>