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5D87-D12A-44B3-B5BF-B059F4C0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DAA-1125-41F4-BAB6-C4E7AFAD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9250-59C6-45A2-948A-D2FF61FC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CEC-CD2A-48B3-877B-C7D499D83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A6C3-CE5D-41FA-B00D-982521D1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C5F7-B64D-49A4-BE63-5EB8285E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0042F-CFDE-4A0E-B3F5-99B1EA45A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CA2F-D8C3-4C3B-8D53-AF123666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A7E3-344F-4865-B320-EAEAEE1C3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320C3-E48D-4967-8BA2-56392CD7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2501-C1F5-4263-8901-0AE613BA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8023-B141-4BB5-BE3E-0EC99D8D6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22685-9E1D-44B4-8C0E-1F4E5BFD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3282-927D-4A96-894D-D47360D1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C293-C58D-4F47-B971-42BFE494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8AED-C36F-4667-8473-A92C8CF7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522B-D53E-4A9C-8C5B-EF0D95AD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3736-CF92-4058-82DC-CD22E6FC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A0BD-3A2E-491C-BC02-62466424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5EAA-1C84-4B42-B629-49E9798D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38BA-D495-4B1B-9342-6005C805C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19EA-1B92-409A-8672-869011F2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D56-60C4-454A-9B9F-6CD2B536B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8FEC-911A-42C3-9EA4-3B88335D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4F2B-E8BA-4CB0-88B1-1E45910CB4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FD26-4B05-45FE-A07B-117097921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Апсентизам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планирано, самоиницијативно одсуствовање радника са по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02./03./04.11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д по групама за семинарски, истраживачки и критички приказ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18960" y="3885840"/>
            <a:ext cx="7391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траживачки рад: формулисање нацрта истраж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минарски радови: дефинисање структуре 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ритички приказ: увежбавање писања критичког приказа на кратак задати текс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09./10./11.11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1066680"/>
            <a:ext cx="2666880" cy="10670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рсте изостан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ма трај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066680"/>
            <a:ext cx="281952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рсте изостана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ма уз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895480"/>
            <a:ext cx="1447560" cy="10670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то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радно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вре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4343400"/>
            <a:ext cx="1600200" cy="838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вишеднев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2743200"/>
            <a:ext cx="13716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једнодне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52120" y="2133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0574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2133720"/>
            <a:ext cx="7596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3733920"/>
            <a:ext cx="160020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правд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3733920"/>
            <a:ext cx="13716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оправд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790960" y="2057400"/>
            <a:ext cx="6094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057400"/>
            <a:ext cx="6094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казатељи апсентизм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декс глобалног апсентизма ИГА=БИ/БРх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декс губи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Г=ИД/БРх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Флуктуација радник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планирано и неорганизовано кретање радне снаге између организација, делова предузећа или гр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447920"/>
            <a:ext cx="2743200" cy="1295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тенција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флукту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1523880"/>
            <a:ext cx="289548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ализ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флукту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3657600"/>
            <a:ext cx="16765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те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3505320"/>
            <a:ext cx="1600200" cy="1295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ксте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562720" y="274320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27432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7621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сте флукту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читати Михаиловић, Д., Психологија организације, ФОН, Београд, 2005., стр. 96-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ксплицирати сличности и разлике апсентизма и флукту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кушати осмислити мере превенције апсент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кушати осмислити групу питања (упитник) којим би било могуће испитати природу потенцијалне флуктуације у организацији/излазни интерв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матрати феномене апсентизма и флуктуације с обзиром на факторе узр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Задатак: попунити схему: Склоност апсентизму и флуктуацији с обзиром на демографске карактеристик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66680" y="1752480"/>
          <a:ext cx="7620120" cy="4384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сентиз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укту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ни ни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ај у организациј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дична одговор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авезна: Михаиловић, Д., Психологија организације, ФОН, Београд, 2005., стр. 96-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длож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зина, М., Кадровска психологија, Нолит, Београд, стр. 231-2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д по групама за семинарски, истраживачки и критички приказ</a:t>
            </a:r>
            <a:r>
              <a:rPr b="0" lang="sr-Latn-CS" sz="4000" spc="-1" strike="noStrike">
                <a:solidFill>
                  <a:srgbClr val="221304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47560" y="3885840"/>
            <a:ext cx="69339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вајање основних принципа писања р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бор теме и договор око литера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02./03./04.11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58672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путства за писање радова можете наћи на сајту или огласној таб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33:16Z</dcterms:created>
  <dc:creator>Ivana</dc:creator>
  <dc:description/>
  <dc:language>en-US</dc:language>
  <cp:lastModifiedBy>Ivana</cp:lastModifiedBy>
  <dcterms:modified xsi:type="dcterms:W3CDTF">2005-10-11T16:07:32Z</dcterms:modified>
  <cp:revision>168</cp:revision>
  <dc:subject/>
  <dc:title>ПСИХОЛОГИЈА ОРГАНИЗАЦИЈЕ - ВЕЖБЕ - </dc:title>
</cp:coreProperties>
</file>