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3C41-FF0B-4CDC-811A-04EB1608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6B4C-D276-42FF-A683-3DC014D3A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1659-A9D7-4490-82B0-28E6368A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C55E-31D2-4B06-8446-23C398AD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0D1D-5949-4CEC-8928-1B89AA338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95CDB-97A8-48FA-AE2E-B696D386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7122-4688-4A70-8AE2-2C4544BA7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CE2B-3738-4506-98FD-59B4DB31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B90E-736E-4E43-A4C4-461426C9C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1AD58-4D32-49F7-A627-BA9F98F1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0E2A-C3BD-4D7C-8C2D-3B27CF29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61CA-343E-4C8E-B272-A23A6FBC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B67A-4168-43DA-9C94-438EC85B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7567A-D087-4573-B2EC-BA75E91C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0C21-7D29-4231-9BFD-04757EE6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23532-1C44-4791-A0E5-F8C9AA58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8D44E-9C46-4646-A8C1-E911E071E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A082-1ADE-4749-B5BD-FFEF6059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E119-DB07-4DA3-840A-082992CE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6FA-6DD3-448A-AA54-81AC5B1C5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DC22-DD7C-4864-8C9C-CD6D1591C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970D-F0FE-42AD-AFE6-80A871CB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6E15-CA58-42FB-BE90-60115CFC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74F5-6DF0-43F0-B243-C86EA5B9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1A35-24AC-4CA5-AF51-716424C45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618D-C7CE-4C1D-925E-CEAC2F622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Радна адаптац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34286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лагођавање радника раду и рада радни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ди остваривања оптималног односа човека и р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6094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6./27./28.10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Потискивањ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епријатни и узнемирујући садржаји се избацују из сећањ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ктивно им се не дозвоља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а се појаве у свести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остају део несвес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Регрес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е јавља као реакција на фрустрацију или трауматски доживљај и подразумева враћање 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ревазиђене и незреле облик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онашања и задовољавањ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ада су већ достигну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зрелији ступњеви разво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Реакциона формац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5438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ложени механизам одбране у ком долази до трајније промене личности потискивањем из свести неприхватљивих садржај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 затим манифестовањем понашања које је супротно тим садржај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Сублимац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2236320"/>
            <a:ext cx="762012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ирови и неприхватљиви нагони се трансформишу у социјално пожељне и прихватљив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 то омогућава њихово растерећење кроз узвишеније моти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Задаци за вежбањ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читати Михаиловић, Д., Психологија организације, ФОН, Београд, 2005., стр. 82-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2. Разграничити врсте радне адапт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3. Размислити о начинима на који ми реагујемо на фрустрације и конфлик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4. Размислити о томе које механизме одбране најчешће користим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5. Повезати одређене исказе са механизмима одбране (користећи понуђене исказе)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61722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* Искази дати у документу “механизми одбран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Фактори радне адаптациј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икроклиматски услови р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ређење радног амбиј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пште карактеристике рада ч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28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блеми замора у ра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мор и значај одмар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онотонија у ра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Уређење радног амбијента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глед радног амбијента зависи пре свега од врсте посла који се обављ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21304"/>
                </a:solidFill>
                <a:latin typeface="Times New Roman"/>
              </a:rPr>
              <a:t>Ravnoteža privatnosti i potrebe za interakcijom na radnom mestu</a:t>
            </a:r>
            <a:br>
              <a:rPr sz="2400"/>
            </a:br>
            <a:r>
              <a:rPr b="1" lang="sr-Latn-CS" sz="2400" spc="-1" strike="noStrike">
                <a:solidFill>
                  <a:srgbClr val="221304"/>
                </a:solidFill>
                <a:latin typeface="Times New Roman"/>
              </a:rPr>
              <a:t>- Duffy-jev model -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1600200" y="1905120"/>
            <a:ext cx="380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Arial"/>
              </a:rPr>
              <a:t>-     Interakcija     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5181480"/>
            <a:ext cx="5486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Arial"/>
              </a:rPr>
              <a:t>-        autonomija     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190512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Arial"/>
              </a:rPr>
              <a:t>Grupni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Arial"/>
              </a:rPr>
              <a:t>«JAZBINA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(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90512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Intelektualni timski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KLU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(Cl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350532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Individualni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KOŠNICA” – sep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(H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50532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Individualni intelektualni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Ćelij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(C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3352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286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29760" y="5972760"/>
            <a:ext cx="47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Slika 1. </a:t>
            </a:r>
            <a:r>
              <a:rPr b="0" i="1" lang="sr-Latn-CS" sz="2000" spc="-1" strike="noStrike">
                <a:solidFill>
                  <a:srgbClr val="221304"/>
                </a:solidFill>
                <a:latin typeface="Arial"/>
              </a:rPr>
              <a:t>Način rada i prostor Duffy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21304"/>
                </a:solidFill>
                <a:latin typeface="Times New Roman"/>
              </a:rPr>
              <a:t>Задатак за вежбање: </a:t>
            </a:r>
            <a:br>
              <a:rPr sz="2000"/>
            </a:br>
            <a:r>
              <a:rPr b="0" lang="sr-CS" sz="2000" spc="-1" strike="noStrike">
                <a:solidFill>
                  <a:srgbClr val="221304"/>
                </a:solidFill>
                <a:latin typeface="Times New Roman"/>
              </a:rPr>
              <a:t>На основу </a:t>
            </a:r>
            <a:r>
              <a:rPr b="0" lang="sr-Latn-CS" sz="2000" spc="-1" strike="noStrike">
                <a:solidFill>
                  <a:srgbClr val="221304"/>
                </a:solidFill>
                <a:latin typeface="Times New Roman"/>
              </a:rPr>
              <a:t>Duffy</a:t>
            </a:r>
            <a:r>
              <a:rPr b="0" lang="sr-CS" sz="2000" spc="-1" strike="noStrike">
                <a:solidFill>
                  <a:srgbClr val="221304"/>
                </a:solidFill>
                <a:latin typeface="Times New Roman"/>
              </a:rPr>
              <a:t>-ијевог модела проценити четири понуђена решења с обзиром на следеће аспекте </a:t>
            </a:r>
            <a:br>
              <a:rPr sz="2000"/>
            </a:b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66680" y="1752480"/>
          <a:ext cx="7620120" cy="4324320"/>
        </p:xfrm>
        <a:graphic>
          <a:graphicData uri="http://schemas.openxmlformats.org/drawingml/2006/table">
            <a:tbl>
              <a:tblPr/>
              <a:tblGrid>
                <a:gridCol w="3581640"/>
                <a:gridCol w="1143000"/>
                <a:gridCol w="914400"/>
                <a:gridCol w="946080"/>
                <a:gridCol w="1035000"/>
              </a:tblGrid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ат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штићеност од омета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валитет комуника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к р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 искоришћен радни прос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гућност надгледања и ко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кономичност с обзиром на осветљење/греј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кономичност с обзиром на коришћење опре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- задаци за вежбање -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читати Михаиловић, Д., Психологија организације, ФОН, Београд, 2005., стр. 90-96 ст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мислити о импликацијама радног амбијента на феномен грешке на ра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мислити о импликацијама радног амбијента на феномен безбедности на ра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22130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Наведите одговарајућ посао за сваки тип понуђеног радног прост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457200"/>
            <a:ext cx="518148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дна адап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2057400"/>
            <a:ext cx="297180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илагођав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дника р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2209680"/>
            <a:ext cx="297180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илагођавање ра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д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3657600"/>
            <a:ext cx="213372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фесионал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дап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733920"/>
            <a:ext cx="213336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рганизаци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дап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5181480"/>
            <a:ext cx="1981080" cy="12193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гнити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нати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Емоти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мпон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057040" y="3200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3733920"/>
            <a:ext cx="266688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ето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ехнопсихофизиолог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276720" y="15238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15238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гра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чуновођ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еф одељења за људске ресур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наџер прода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лан креативног тима у маркетинг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рхите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овина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86920" y="870120"/>
            <a:ext cx="7892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Осмислите радни амбијент за следеће посл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ад у сменама 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- задаци за вежбање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читати и продискутовати текст Циркадијални ритмови и организација рада (рад у сменама) из: Штајнбергер, И., Чизмић, С., Психологија и савремена техника, Завод за уџбенике и наставна средства, Београд, 1991. стр. 236-3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(с посебним освртом на спроведена истраживањ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2. На основу стечених знања из чланка одредите себи одговарајући режим уч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бавезна: Михаиловић, Д., Психологија организације, ФОН, Београд, 2005., стр. 82-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дложен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Штајнбергер, И., Чизмић, С., Психологија и савремена техника, Завод за уџбенике и наставна средства, Београд, 1991. стр. 236-3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ндић, В., Радна адаптација, У: Чизмић, Ц., Кондић, В., Психологија рада у формули успеха организације, Центар за примењену психологију, Београд, 203., стр. 11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Ward, V., Holtham, C., «The Role of Private and Public Spaces in Knowledge Management»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Knowledge Management: Concepts and Controverse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University of Warwick, Coventry, United Kingdom, 2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бавезна: Михаиловић, Д., Психологија организације, ФОН, Београд, 2005., стр. 96-1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дложе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узина, М., Кадровска психологија, Нолит, Београд, стр. 231-2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роблеми прилагођавањ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рустрације – када се на путу ка остварењу жеља нађу неке унутрашње или спољашње препре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3276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352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320040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42670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Физичке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4495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самој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4267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оцијалне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5627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НТРПАСИХИЧКИ КОНФЛИК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CS" sz="2800" spc="-1" strike="noStrike">
                <a:solidFill>
                  <a:srgbClr val="221304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221304"/>
                </a:solidFill>
                <a:latin typeface="Tahoma"/>
              </a:rPr>
              <a:t>Интрапсихички конфликти 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ahoma"/>
              </a:rPr>
              <a:t>Конфликт двоструког привлачењ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ahoma"/>
              </a:rPr>
              <a:t>Конфликт двоструког одбијањ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ahoma"/>
              </a:rPr>
              <a:t>Конфликт амбивалент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950000" y="1746360"/>
          <a:ext cx="3781080" cy="43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0000" y="1746360"/>
                    <a:ext cx="378108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дбрамбени механизм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свесни механизми које личност користи да би ублажила непријатни унутрашњи конфликт или отклонила извесну унутрашњу опасност која ствара напетос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ни чувају самопшоштовање и интегрисаност лич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Рационализац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47960" y="3276360"/>
            <a:ext cx="4267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Unicode MS"/>
              </a:rPr>
              <a:t>«СЛАДАК ЛИМУН» - пренаглашавамо значај онога у чему смо успели јер нисмо успели у оном чему смо тежили</a:t>
            </a:r>
            <a:r>
              <a:rPr b="0" lang="sr-C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819520"/>
            <a:ext cx="3962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«КИСЕЛО ГРОЖЂЕ»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успех у некој актив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бјашњавамо тиме што 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ије било вредно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за сопствено неприхватљиво понашање или претрпљени неуспе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акнадно се тражи оправдањ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 друштвено прихватљивим мотивим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ако би се избегло осећање стида и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ање вредности и очувало самопоштов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Идентификациј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4674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трах или лични несупех се ублажавају поистовећивањем 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еком другом особом (узором) или груп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Пројекц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е састоји у приписивањ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опствених неприхватљивих скривених и потиснутих садржај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ругим особ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33:16Z</dcterms:created>
  <dc:creator>Ivana</dc:creator>
  <dc:description/>
  <dc:language>en-US</dc:language>
  <cp:lastModifiedBy>Ivana</cp:lastModifiedBy>
  <dcterms:modified xsi:type="dcterms:W3CDTF">2005-10-11T16:01:26Z</dcterms:modified>
  <cp:revision>167</cp:revision>
  <dc:subject/>
  <dc:title>ПСИХОЛОГИЈА ОРГАНИЗАЦИЈЕ - ВЕЖБЕ - </dc:title>
</cp:coreProperties>
</file>