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type.wav" ContentType="audio/x-wav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35ED-ADB0-4597-B1E6-F51549645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CBC8-69E0-40AF-B48D-BB52A6BC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5557-1D25-4673-BB96-DE2BED742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DCF6-7C41-461E-92A5-E30FA9C7D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3FA4-CEC3-4951-8E33-B5D1D9FA8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3220-7492-44C3-9739-A8FE57FE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A66B-4D53-455D-B1CE-6F09EE1A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97DF-96D9-4104-B4D4-2B3C3900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B08A-4EC2-4652-B6A9-09F09648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71EE-70FD-4136-AAE3-6452E563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BE03-112D-46E2-84B2-3BF30091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0920-BDDD-44BB-847A-CD081CA2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B6F2B-0AF5-4F94-A6E1-C34F4C71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281E-AADE-4098-B286-F02EA660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0F4F-F41F-4F9E-A9D4-8D609E5E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AAD5-E4E9-4C39-AA18-61695D7A4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B830-02F5-4277-BE9B-577F3C02C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99A1-058C-4BB9-90D6-31A320E5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DE28-3658-4D2B-A0E6-EB4049ED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DD47-5309-40B3-A041-BE0EE89B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2BB7-E50F-41A8-951F-E9A5C2D2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5186-ED4C-433E-B90D-669B10DA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40FB-E330-4A34-918D-792A5118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F63D-023A-4015-ACED-F001FE23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C6F1-F65A-4142-8D78-2E309F08D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0838-8E92-4CA6-BC4D-136B0D723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280" y="2204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PROFESIONALNA ORIJENTACIJA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19280" y="3789000"/>
            <a:ext cx="64008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SNALAŽENJE U ZANIMANJIM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61760" y="82404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18.10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Ginzbergova teorija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Izbor zanimanja je </a:t>
            </a: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ireverzibilni proces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koji je posledica niza odluka o budućem zanimanj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Svaka etapa tog procesa je u najvećoj meri određena prethodnim i utiče na sve kasnije odluk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Ireverzibilnost procesa je posledica zavisnosti odluka o budućem zanimanju od uzrasta i razvoja pojedinca – razvojan proces povezan sa procesom matura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Razlikuju se tri etape u izboru zanimanj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6320" indent="-3387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Period “fantazije” (6 – 11 godin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6320" indent="-3387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Period “pokušaja” (12 – 17 godin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6320" indent="-3387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Period “realizma” (od 17 godin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Svaka pojedinačna odluka je </a:t>
            </a: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kompromis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između individualnih i socijalnih fakto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6320" indent="-33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ambicija i potencij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6320" indent="-33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mogućnosti sredine i ambi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Holandova teorija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Izbor poziva je </a:t>
            </a: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odraz (ekspresija) ličnos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Inventari interesa su inventari ličnos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Stereotipije o profesijama</a:t>
            </a: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 imaju dosledna i važna sociološka i psihološka značen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Pripadnici neke profesije imaju slične ličnosti i slične istorije razvo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Stoga će odgovarati na situacije i probleme na sličan način i razviće karakterističnu </a:t>
            </a: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interpersonalnu sredin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Profesionalna satisfakcija, stabilnost i postignuće zavise od </a:t>
            </a: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sklada između ličnosti i radne sred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Naše znanje iz profesionalnog života je dezorganizovano i često izolovano od najglavnijih dela psihološkog i sociološkog znan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inventari profesionalnih preferencija”</a:t>
            </a: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dominantan tip i postipovi: “primarna usmerenost” – jedna od šest glavnih grupa zanimanja  (funkcija odgovarajućeg modela ličnosti) i “sekundarna usmerenost” – odabrano zanimanje unutar jedne od glavnih grup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Tipovi ličnosti i sredine: realistični, intelektualni, umetnički, socijalni, konvencionalni, preduzimlji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Superova teorija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42560" y="1752480"/>
            <a:ext cx="764388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teorija životnog model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Predviđanje i razumevanje budućeg ponašanja neke osobe može se predvideti samo poznavanjem i razumevanjem ponašanja i životnih uslova te osobe u prošlos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Veliki značaj se pridaje individualnim razlikama, jer svako zanimanje postavlja specifične zahteve u odnosu na konkretnu osob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Idiografski pristup – istorija sluča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metoda životne istorije” ili </a:t>
            </a: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“tematska ekstrapolativna metoda</a:t>
            </a: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” –</a:t>
            </a: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oblik kliničkog predviđanja</a:t>
            </a: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Sredina, zanimanja i ljudi se tokom vremena menja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Profesionalni razvoj je samo jedan aspekt opšteg razvoja ličnosti, a izbor je upotpunjavanje slike o seb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Kompromis između individualnih i socijalnih faktora, pojma o sebi i real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Hopokova teorija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6286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Integracija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više teorija sa </a:t>
            </a: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praktičnim ciljem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pomoći savetodavcu u razumevanju kandi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Izbor zanimanja je određen potrebama i predstavlja seriju izb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Osnovna pomoć kandidatu je u razumevanju samog se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U pojam o sebi uključiti ne samo sposobnosti i interese već i </a:t>
            </a: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unutrašnju motivaciju – “totalna slika kandid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Karakteristike izbora zanimanja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Razvojni pro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Kontinuiran pro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Ireverzibilan pro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Podrazumeva niz odlu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Uz rastući stepen realiz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3920" y="17524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Isključivost (ekskluzivnost) – proces izbora progresivno smanjuje broj altern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Nema oštre distinkcije između profesionalnog izbora i profesionalne adapta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75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75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75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75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75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75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75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221304"/>
                </a:solidFill>
                <a:latin typeface="Tahoma"/>
              </a:rPr>
              <a:t>PROCES ELIMINACIJE U PROFESIONALNOM IZBORU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068480" y="1747800"/>
          <a:ext cx="8499240" cy="439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8480" y="1747800"/>
                    <a:ext cx="8499240" cy="43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Dimenzije procesa profesionalnog izbora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ORIJENTACIJA NA IZBOR –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rečišćavanje profesionalnog koncepta o s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POVEĆANJE PROFESIONALNE INFORMISANOSTI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- progresvno smanjenje mašte i fantaz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- ZAVISNOST-NEZAVIS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POVEZIVANJE SREDSTAVA I CIL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ZADACI</a:t>
            </a:r>
            <a:br>
              <a:rPr sz="3200"/>
            </a:br>
            <a:r>
              <a:rPr b="0" lang="sl-SI" sz="3200" spc="-1" strike="noStrike">
                <a:solidFill>
                  <a:srgbClr val="221304"/>
                </a:solidFill>
                <a:latin typeface="Tahoma"/>
              </a:rPr>
              <a:t>profesionalne orijentacije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Profesionalno informisanje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upoznavanje pojedinca sa svetom zanim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Analiza pojedinca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omoć pri upoznavanju sopstvenih mogućnosti i interesov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Profesionalno savetovanje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– pomoć pri usklađivanju svojih sposobnosti i interesovanja sa zahtevima i odlikama profes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Profesionalno praćenje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– praćenje adaptacije pojedinca za zanimanje i evaluacija postupka profesionalnog izbo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71640" y="1125360"/>
            <a:ext cx="76197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U UŽEM SMISLU: čin davanja i prihvatanja saveta pri izboru budućeg zanim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U ŠIREM SMISLU: organizovana društvena aktivnost koja se sastoji u pružanju pomoći pojedincu pri izboru zanimanja i stručnom osposobljavanju, kvalifikaciji i zapošljavanju uopšte.</a:t>
            </a:r>
            <a:r>
              <a:rPr b="1" lang="sl-SI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(Bujas, Z., 1959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CILJEVI</a:t>
            </a:r>
            <a:r>
              <a:rPr b="0" lang="sl-SI" sz="3200" spc="-1" strike="noStrike">
                <a:solidFill>
                  <a:srgbClr val="221304"/>
                </a:solidFill>
                <a:latin typeface="Tahoma"/>
              </a:rPr>
              <a:t> </a:t>
            </a:r>
            <a:br>
              <a:rPr sz="3200"/>
            </a:br>
            <a:r>
              <a:rPr b="0" lang="sl-SI" sz="3200" spc="-1" strike="noStrike">
                <a:solidFill>
                  <a:srgbClr val="221304"/>
                </a:solidFill>
                <a:latin typeface="Tahoma"/>
              </a:rPr>
              <a:t>profesionalne orijentacije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DRUŠTVO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vršenje smišljene raspodele ljudi po zanimanjima i struk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ORGANIZACIJA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– dovođenje najsposobnijih radnika za određeno zanim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POJEDINAC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– usmeravanje ka zanimanju koje odgovara njegovim sposobnostima i sklonost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TEORIJE IZBORA ZANIMANJA</a:t>
            </a:r>
            <a:br>
              <a:rPr sz="3200"/>
            </a:br>
            <a:r>
              <a:rPr b="0" lang="sl-SI" sz="2000" spc="-1" strike="noStrike">
                <a:solidFill>
                  <a:srgbClr val="221304"/>
                </a:solidFill>
                <a:latin typeface="Tahoma"/>
              </a:rPr>
              <a:t>(ekonomski, sociološki, edukacioni i psihološki pristup)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Karterova teor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Bordinova teor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Forerova teor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Šaferova teor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7524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Ginzbergova teor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Holandova teor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Superova teor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Hopokova teor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Karterova teorija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84836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Zasnovana na nalazima empirijskih istraživ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resudan značaj imaju </a:t>
            </a: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profesionalna interesov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Ali na njihov razvoj utiču i unutrašnji i spoljašnji fak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rofesionalni ciljevi i interesi se formiraju identifikacijom sa nekom bližom socijalnom grup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Ističe </a:t>
            </a: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adaptacioni karakter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stavova i interesa koji se razvijaju  sa ciljem prilagođavanja aktuelnoj socijalnoj i fizičkoj sred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Osobenost individue, njene sposobnosti, interesi, motivi u koakciji sa fizičkom i socijalnom sredinom određuju okvir budućeg zanim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U slučaju prepreke ili nesklada između osobe i zahteva zanimanja najčešće dolazi do preorijentacije na neku drugu grupu zanim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Kritika (Strong): ne menja svaka prepreka cilj i ne stiže se samo do onih zanimanja do kojih je najlakše stić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Bordinova teorija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testovni i inventarisani interesi” – metodološki postup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Glavni pokretači ka zanimanju su “profesionalne aspiracij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Aspiracije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(interesi) – derivati ličnosti koji nastaju i menjaju se u zavisnosti od stepena poznavanja i prihvatanja izvesne stereotipne slike zanimanja koja je prisutna u sredini kao i slike o vlastitoj ličnosti (autoslik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Kritika: prenaglašavanje značaja interesa i njihovo shvatanje kao produkta lič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Forerova teorija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2640" y="2590560"/>
            <a:ext cx="7620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Izbor zanimanja leži u “</a:t>
            </a: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emotivnim potrebama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Izbor zanimanja se odvija u sferi nesvesn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To je impulsivan, emocionalan i automatski pro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Osoba koja bira poziv </a:t>
            </a: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nije svesna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motiva koji je pokreću ka tom zanimanj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Kritika: da bi se prema nekom zanimanju razvila pozitivna ili negativna emocionalna tendencija, neophodno je, bar minimalno, poznavanje na kognitivnom pla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Šaferova teorija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teorija potreba”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po kojoj izbor zanimanja zavisi od stepena u kom određeno zanimanje može da zadovolji najvažnije potrebe i mo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Zasnovana na istraživanjima u kojima je dobijena korelaciona veza između opšteg zadovoljstva poslom i zadovoljenja osnovnih potre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Lista od </a:t>
            </a: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12 najvažnijih potreba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Najvažnije potrebe: potrebe za kreativnošću, stručnošću i socijalnom dobrobi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Kritika 1: teško je dati konačnu listu potreba i rang svake od nji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Kritika 2: motivi se tretiraju kao statični; u disonanciji sa dinamičkom teorijom motiva prema kojoj nezadovoljeni motiv preuzima mesto zadovoljen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8T08:51:04Z</dcterms:created>
  <dc:creator>IVANA</dc:creator>
  <dc:description/>
  <dc:language>en-US</dc:language>
  <cp:lastModifiedBy>Ivana</cp:lastModifiedBy>
  <dcterms:modified xsi:type="dcterms:W3CDTF">2005-10-11T16:32:52Z</dcterms:modified>
  <cp:revision>58</cp:revision>
  <dc:subject/>
  <dc:title>OSNOVI PSIHOLOGIJE KAO NAUKE</dc:title>
</cp:coreProperties>
</file>