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6C8-4631-4227-B565-89C1E760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8B7-CF08-4878-92BB-EF14537C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14F-5BF6-4F63-9DF5-5227F6BD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413-53AE-4FCA-AE73-671EEB23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B995-1CF4-4B3C-AC54-9DDAB6DE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7014-6D9C-46CD-AA7F-98872DEC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E65-D9DF-4C0E-A7D6-597C7149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E719-69E9-4BB6-A1FC-294A8058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FB83-076C-4BE6-843F-7C82135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89E4-05B7-4230-819C-5F32058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2902-C291-42E3-959C-77EB5A4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6D4-B276-47CB-B6FC-02A0FF48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604D-387C-4505-955F-E0BB5C4F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67A1-3E15-4D0C-8ED0-5002F3C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AC3B-87A0-4E52-B401-86B4C87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2DC5-3D5C-4769-8F54-222FDB16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3E2C-EBC9-4A03-87BF-BFAAD45B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556-0862-4688-8165-D3F9403E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E62-539C-48E7-9128-203691C3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AF5-AE13-4806-98F8-026C4801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3AE-8D1A-4BD5-9B14-AB589641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0C8-041B-4821-B12E-146EDB35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AAB-7903-45FC-8D68-D015D9F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649-72D4-4510-87C1-DCB6E1C0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F4EB-E7D6-4F39-8004-8401E7C40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210A-0403-48FF-AC31-36DBA308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PROFESIONALNA SELEKC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581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odabiranje između većeg broja kandidata onih koji najviše odgovaraju zahtevima određenih po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17400" y="8953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25.10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olazne pretpostavk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stoje značajne razlike u stepenu posedovanja raznih osobina (sposobnosti, interesovanja, motivacije) važnih za uspeh u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stoji značajna povezanost jedne ili više osobina i uspeha kandidata na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oguće je meriti date osobine i uspeh pojedinca na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oguće je odrediti odnos između rezultata postignutih na testu i uspeha na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a osnovu testova i drugih psiholoških instrumenata možemo predviđati radno ponaš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stojanje posla u kojem je ograničen broj radnih mesta i postojanje viška kandidata koji na njih konkuriš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32000" y="1554120"/>
            <a:ext cx="691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 u="sng">
                <a:solidFill>
                  <a:srgbClr val="000000"/>
                </a:solidFill>
                <a:uFillTx/>
                <a:latin typeface="Tahoma"/>
              </a:rPr>
              <a:t>CILJ: ODABRATI NAJSPOSOBNIJE KANDIDATE ZA ODREĐENI POS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Standardni postupak profesionalne selekcij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NALIZA POSL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 utvrđuju se osobine i sposobnosti potrebne za određeni pos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IZBOR I KONSTRUKCIJA INSTRUMENATA I NJIHOVA PRI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NALIZA ODNOSA IZMEĐU OSOBINA LIČNOSTI I RADNOG PONAŠ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edviđanje radnog ponašan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42864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- uspešnost selekcije zavisi od povezanosti rezultata dobijenih na instrumentu i stvarnog radnog ponašanja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l-SI" sz="2000" spc="-1" strike="noStrike">
                <a:solidFill>
                  <a:srgbClr val="221304"/>
                </a:solidFill>
                <a:latin typeface="Tahoma"/>
              </a:rPr>
              <a:t>OSOBINE DOBROG KRITERIJUMA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EPREZENTATIVNOST – reprezentativna mera radnog ponaš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TABILNOST – u različitim vremenskim periodima daje istu meru radnog ponašanja jednog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ČISTOĆA – meri samo one efekte radnog ponašanja koji su produkti individualnih karakteristika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ISKRIMINATIVNOST – dovoljno jasno diferencira radnike prema uspešnosti na 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AKTIČNOST – da proizlazi iz stvarne prak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Načini predviđanja radnog ponašan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TATISTIČ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istematsko, algebarsko kombinovanje raspoloživih informacija o kandidat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 njihovo svrstav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 osnovu rezultata takvog kombin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KLINIČ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ubjektivno procenjivanje ličnos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vezivanje raspoloživih metrijskih i nemetrijskih informacija o kandidatu u jednu celovitu, dinamičku sliku ličnosti i personalnih potencijala kand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Činioci efikasnosti selek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VALJANOST SELEKCIONOG PROGRAM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nivo povezanosti između rezultata ispitivanja kandidata selekcionim mernim instrumentima i njihove stvarne uspešnosti u poslu za koji su odabr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EŽINA POSL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utiče na efikasnost selekcije s obzirom na činjenicu da se u težim poslovima jasnije diferenciraju uspešni i neuspešni izvrši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ELEKCIONI KOLIČNIK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-  predstavlja proporciju odabranih kandidata u odnosu na grupu prijavljen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K = BO/BP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ostupci profesionalne selek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37339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LASIČ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EMONSTRACIONI 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UDI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NALIZA RADNE I STRUČNE ISTOR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OBNI 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SAVREME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HOLISTIČKI PRISTUP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(analiza ponašanja u celi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ANALIZA STVARNOG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PONAŠANJA NA POSLU – STIL RADA I DOSTIGNUĆ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UZORAK 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37:25Z</dcterms:modified>
  <cp:revision>60</cp:revision>
  <dc:subject/>
  <dc:title>OSNOVI PSIHOLOGIJE KAO NAUKE</dc:title>
</cp:coreProperties>
</file>