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B41-4C2B-49B9-A04F-4DF6AB5C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1741-B3EC-466A-A539-F54E5B26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5619-114D-4466-B159-7ACD1D5B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7F46-09BD-4897-A914-07A83C93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0037-B3E7-455F-9CEE-2C788310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8655-5759-4155-9466-458B3FAB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192A-ECF4-486A-BA20-2F46CC1E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30D4-AE43-4676-9952-F1162569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16ED-01B9-4D7F-9A9A-6AAC3365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AB6C-88C0-43BF-9C71-27A3092B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FFF9-5155-4C94-8ED0-37F9DE2B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7EB-8026-4065-9B7B-3EA1AB26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72EB-0861-4123-99E9-1ADB36F6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4508-C546-49D2-9AAF-053D1BE1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48A9-C5E5-4C82-A3B7-83708E57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BF3C-32A3-4781-91F9-6C99445EA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A5D7-1D42-4D8A-A9BB-3A22C5A0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CD3-FAAB-45A6-9560-AAE295F8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D639-2CF4-4624-A8F6-DC87F561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D12F-4603-4580-8F14-107DF398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CA13-B406-4EAA-AD05-C587B2A6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0958-EE0F-4AE1-BF59-10DA2848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9B65-B330-408E-9FD0-358D3AF7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F455-0B89-4958-AA65-F045C00F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BAD0-8C6C-4EE7-A25D-9F8E84CD6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04E6-BFBA-479F-BAEA-F153FC8F8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audio" Target="../media/carbrake.wav"/><Relationship Id="rId1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1676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221304"/>
                </a:solidFill>
                <a:latin typeface="Tahoma"/>
              </a:rPr>
              <a:t>APSENTIZ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00200" y="34286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ahoma"/>
              </a:rPr>
              <a:t>NEPLANIRANO, SAMOINICIJATIVNO ODSUSTVOVANJE RADNIKA S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72680" y="96840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08.11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VRSTE IZOSTANAK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000000"/>
                </a:solidFill>
                <a:uFillTx/>
                <a:latin typeface="Tahoma"/>
              </a:rPr>
              <a:t>PREMA TRAJAN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U toku radnog vrem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Jednodnev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Višednev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000000"/>
                </a:solidFill>
                <a:uFillTx/>
                <a:latin typeface="Tahoma"/>
              </a:rPr>
              <a:t>PREMA UZR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Opravda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Neopravda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Uzroci apsentizma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Demografsko-socijalne karakterist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Star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Obrazovni n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Položaj u organizaci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Porodična odgovor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5288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Osobenosti pos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Smenski r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Veličina radne gru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Loši radni uslo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POKAZATELJI APSENTIZM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Tahoma"/>
              </a:rPr>
              <a:t>INDEKS GLOBALNOG APSENTIZ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(frekvenci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Prosečan broj izostanaka na hiljadu radnika u toku jednog vremenskog peri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IGA = BI/BRx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Tahoma"/>
              </a:rPr>
              <a:t>INDEKS GUBIT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Prosečan broj izgubljenih radnih dana po jednom radniku tokom određenog vremenskog peri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IG = ID/BRx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221304"/>
                </a:solidFill>
                <a:latin typeface="Tahoma"/>
              </a:rPr>
              <a:t>FLUKTUACIJA RADNIK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28800" y="24382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NEPLANIRANO I NEORGANIZOVANO KRETANJE RADNE SNAGE IZMEĐU ORGANIZACIJA, DELOVA PREDUZEĆA ILI G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ODRAZUMEVA TRI ASPEK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ORGANIZAC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(INDIVIDUALNO) PSIHOLOŠ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EKONOMS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OBLICI FLUKTUACIJE RADNIK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Tahoma"/>
              </a:rPr>
              <a:t>POTENCIJAL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proces postepenog povećavanja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nezadovoljstva poslom i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organizacijom i sazrevanje odluke da se ona napus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Stanje koje je prognostički valida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pokazatelj realizovane fluktuac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 u="sng">
                <a:solidFill>
                  <a:srgbClr val="000000"/>
                </a:solidFill>
                <a:uFillTx/>
                <a:latin typeface="Tahoma"/>
              </a:rPr>
              <a:t>Pokazatelj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Proporcija između radnika sa negativnim stavom (nezadovoljstvo i spremnost da se napusti organizacij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i ukupnog broja radni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PF = 1 –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(0</a:t>
            </a:r>
            <a:r>
              <a:rPr b="1" lang="sl-SI" sz="1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sl-SI" sz="1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) +(1</a:t>
            </a:r>
            <a:r>
              <a:rPr b="1" lang="sl-SI" sz="1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sl-SI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) + (2</a:t>
            </a:r>
            <a:r>
              <a:rPr b="1" lang="sl-SI" sz="1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sl-SI" sz="1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/2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000000"/>
                </a:solidFill>
                <a:uFillTx/>
                <a:latin typeface="Tahoma"/>
              </a:rPr>
              <a:t>REALIZOVANA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INTERNA FLUKTUACIJA – odlazak na drugo radno me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KSTERNA FLUKTUACIJA 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– napuštanje organizac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 u="sng">
                <a:solidFill>
                  <a:srgbClr val="000000"/>
                </a:solidFill>
                <a:uFillTx/>
                <a:latin typeface="Tahoma"/>
              </a:rPr>
              <a:t>Pokazatelj: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Proporcija između broja odlazaka i broja zaposlen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F = O/P</a:t>
            </a:r>
            <a:r>
              <a:rPr b="1" lang="sl-SI" sz="1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6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1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6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1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1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1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Uzroci fluktuacije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Opštedruštveni činioci -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nejednaka ekonomska i tehnološka nerazvijenost regi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Organizacioni činioci – 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ekonomska situacija i perspektive organiza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Činioci posla – 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vrsta, težina i složenost posla,uslovi rada, rizici i odgovornost, zarada i mogućnost napredovanja, rukovođe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Lični činioci – 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starost, pol, bračno stanje, udaljenost mesta stanovanja, crte ličnosti i tendencije u ponašanj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08:51:04Z</dcterms:created>
  <dc:creator>IVANA</dc:creator>
  <dc:description/>
  <dc:language>en-US</dc:language>
  <cp:lastModifiedBy>Ivana</cp:lastModifiedBy>
  <dcterms:modified xsi:type="dcterms:W3CDTF">2005-10-11T16:41:18Z</dcterms:modified>
  <cp:revision>58</cp:revision>
  <dc:subject/>
  <dc:title>OSNOVI PSIHOLOGIJE KAO NAUKE</dc:title>
</cp:coreProperties>
</file>