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C2C-22FF-489F-9774-C3D3EF28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6E6-589A-4D71-ACF9-0B83A624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15F-2E5E-4739-B3A9-08CC801F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689-86CC-42AB-A515-83735720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C861-B660-46E0-805C-F0D84D65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D6D1-9004-45E2-B612-E098B7CC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6465-6E99-4BD1-A978-789EC9D5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8983-6EB0-4C81-B9D7-6480E779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BC93-DA8B-4704-B814-9F193F28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2F55-0A3F-4AB3-8E9A-95F1EDC4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6390-6BF0-4FDF-A629-81088B7A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240-FC98-4D3C-844D-6EA6021F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9712-0ECA-417C-9713-768DBEC2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9525-6FEE-4825-989D-BD38A65E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6A4C-B4D9-4FF4-A3C7-3A9B20B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E325-A78D-4594-AA56-614614E3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25DB-3E90-4D64-9C5E-FD20A125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882-56CA-493A-9634-E7DCAD52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C25-CFFC-498F-8414-8BCB01D3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FE3-CDC9-4741-A89C-C4E8F75B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318-8180-4D86-9EA6-A0067426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C21-BE31-4C7D-A763-5069E090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7BB-939E-4796-A78E-AB48814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623-A1C1-42F6-BB6D-598B2C9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8915-50A0-409E-8736-3FD80516A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1846-1BB4-44A2-86CC-442EF4BE0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221304"/>
                </a:solidFill>
                <a:latin typeface="Tahoma"/>
              </a:rPr>
              <a:t>ANALIZA POSL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640" y="32842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istematski postupak utvrđivanja PRIRODE I SADRŽAJA PO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za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duž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dgovor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USLOVA I METODA RA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ao i PSIHOFIZIČKIH OSOBINA koje posao zaht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1400" y="82404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11.10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21304"/>
                </a:solidFill>
                <a:latin typeface="Tahoma"/>
              </a:rPr>
              <a:t>Osnovne pretpostavke analize posla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vaki posao se može raščlaniti na niz radnih postupaka i operacija koje se mogu opisati i kvantifikov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bučeni ljudi mogu da utvrde te elemente i na osnovu njih zahteve tih posl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lovi se međusobno razlikuju te ih stoga treba analizir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21304"/>
                </a:solidFill>
                <a:latin typeface="Tahoma"/>
              </a:rPr>
              <a:t>METODOLOŠKI PRISTUP ANALIZI POSL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Analiza posla traži odgovore na sledeća pitan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Šta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radnik radi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Kako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to radi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od kojim 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uslov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oje 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osobine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posao zahteva od radnika – 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kakav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radnik treba da bude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75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75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75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221304"/>
                </a:solidFill>
                <a:latin typeface="Tahoma"/>
              </a:rPr>
              <a:t>PREDMET ANALIZE POSL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3384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i pokr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a oper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i zadat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s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o me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Zanim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360" y="21337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dentifikacioni pod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redmet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redstva za 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Materij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ačin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ložaji i aktiv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Uslovi rada i radne sre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75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75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75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75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75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75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75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21304"/>
                </a:solidFill>
                <a:latin typeface="Tahoma"/>
              </a:rPr>
              <a:t>ZAHTEVI POSL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60560" y="2395440"/>
            <a:ext cx="7560720" cy="1828800"/>
            <a:chOff x="1060560" y="2395440"/>
            <a:chExt cx="7560720" cy="1828800"/>
          </a:xfrm>
        </p:grpSpPr>
        <p:cxnSp>
          <p:nvCxnSpPr>
            <p:cNvPr id="102" name="_s96282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7300800" y="3008520"/>
              <a:ext cx="229320" cy="128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96280"/>
            <p:cNvCxnSpPr>
              <a:stCxn id="106" idx="0"/>
              <a:endCxn id="104" idx="2"/>
            </p:cNvCxnSpPr>
            <p:nvPr/>
          </p:nvCxnSpPr>
          <p:spPr>
            <a:xfrm flipV="1">
              <a:off x="6771960" y="35377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96278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6013800" y="3008520"/>
              <a:ext cx="229320" cy="128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96276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3439440" y="3007440"/>
              <a:ext cx="229320" cy="128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96274"/>
            <p:cNvCxnSpPr>
              <a:stCxn id="113" idx="0"/>
              <a:endCxn id="111" idx="2"/>
            </p:cNvCxnSpPr>
            <p:nvPr/>
          </p:nvCxnSpPr>
          <p:spPr>
            <a:xfrm flipV="1" rot="16200000">
              <a:off x="2795400" y="3651480"/>
              <a:ext cx="229320" cy="1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96272"/>
            <p:cNvCxnSpPr>
              <a:stCxn id="115" idx="0"/>
              <a:endCxn id="111" idx="2"/>
            </p:cNvCxnSpPr>
            <p:nvPr/>
          </p:nvCxnSpPr>
          <p:spPr>
            <a:xfrm flipH="1" flipV="1" rot="5400000">
              <a:off x="2152080" y="3009240"/>
              <a:ext cx="229320" cy="1286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96270"/>
            <p:cNvCxnSpPr>
              <a:stCxn id="104" idx="0"/>
              <a:endCxn id="117" idx="2"/>
            </p:cNvCxnSpPr>
            <p:nvPr/>
          </p:nvCxnSpPr>
          <p:spPr>
            <a:xfrm flipV="1" rot="16200000">
              <a:off x="5691960" y="2001240"/>
              <a:ext cx="229320" cy="193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96268"/>
            <p:cNvCxnSpPr>
              <a:stCxn id="111" idx="0"/>
              <a:endCxn id="117" idx="2"/>
            </p:cNvCxnSpPr>
            <p:nvPr/>
          </p:nvCxnSpPr>
          <p:spPr>
            <a:xfrm flipH="1" flipV="1" rot="5400000">
              <a:off x="3761280" y="2000160"/>
              <a:ext cx="229320" cy="193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96264"/>
            <p:cNvSpPr/>
            <p:nvPr/>
          </p:nvSpPr>
          <p:spPr>
            <a:xfrm>
              <a:off x="4051080" y="2395440"/>
              <a:ext cx="1580760" cy="457200"/>
            </a:xfrm>
            <a:prstGeom prst="roundRect">
              <a:avLst>
                <a:gd name="adj" fmla="val 16667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221304"/>
                  </a:solidFill>
                  <a:latin typeface="Tahoma"/>
                </a:rPr>
                <a:t>ZAHTEVI POS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96265"/>
            <p:cNvSpPr/>
            <p:nvPr/>
          </p:nvSpPr>
          <p:spPr>
            <a:xfrm>
              <a:off x="2426040" y="3081240"/>
              <a:ext cx="9684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221304"/>
                  </a:solidFill>
                  <a:latin typeface="Tahoma"/>
                </a:rPr>
                <a:t>VR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96267"/>
            <p:cNvSpPr/>
            <p:nvPr/>
          </p:nvSpPr>
          <p:spPr>
            <a:xfrm>
              <a:off x="6287400" y="3081240"/>
              <a:ext cx="96840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221304"/>
                  </a:solidFill>
                  <a:latin typeface="Tahoma"/>
                </a:rPr>
                <a:t>NIVO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96271"/>
            <p:cNvSpPr/>
            <p:nvPr/>
          </p:nvSpPr>
          <p:spPr>
            <a:xfrm>
              <a:off x="1060560" y="3767040"/>
              <a:ext cx="112536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221304"/>
                  </a:solidFill>
                  <a:latin typeface="Tahoma"/>
                </a:rPr>
                <a:t>STRUČ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96273"/>
            <p:cNvSpPr/>
            <p:nvPr/>
          </p:nvSpPr>
          <p:spPr>
            <a:xfrm>
              <a:off x="2347560" y="3767040"/>
              <a:ext cx="112536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100" spc="-1" strike="noStrike">
                  <a:solidFill>
                    <a:srgbClr val="221304"/>
                  </a:solidFill>
                  <a:latin typeface="Tahoma"/>
                </a:rPr>
                <a:t>BIOFIZIOLOŠKI</a:t>
              </a: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96275"/>
            <p:cNvSpPr/>
            <p:nvPr/>
          </p:nvSpPr>
          <p:spPr>
            <a:xfrm>
              <a:off x="3634560" y="3767040"/>
              <a:ext cx="112536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221304"/>
                  </a:solidFill>
                  <a:latin typeface="Tahoma"/>
                </a:rPr>
                <a:t>PSIHOLOŠKI</a:t>
              </a: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96277"/>
            <p:cNvSpPr/>
            <p:nvPr/>
          </p:nvSpPr>
          <p:spPr>
            <a:xfrm>
              <a:off x="4921920" y="3767040"/>
              <a:ext cx="1125360" cy="4572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221304"/>
                  </a:solidFill>
                  <a:latin typeface="Tahoma"/>
                </a:rPr>
                <a:t>KRITIČ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96279"/>
            <p:cNvSpPr/>
            <p:nvPr/>
          </p:nvSpPr>
          <p:spPr>
            <a:xfrm>
              <a:off x="6208920" y="3767040"/>
              <a:ext cx="1125000" cy="4572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221304"/>
                  </a:solidFill>
                  <a:latin typeface="Tahoma"/>
                </a:rPr>
                <a:t>OPTIMAL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96281"/>
            <p:cNvSpPr/>
            <p:nvPr/>
          </p:nvSpPr>
          <p:spPr>
            <a:xfrm>
              <a:off x="7495920" y="3767040"/>
              <a:ext cx="1125360" cy="4572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221304"/>
                  </a:solidFill>
                  <a:latin typeface="Tahoma"/>
                </a:rPr>
                <a:t>MAKSIMALN</a:t>
              </a: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21304"/>
                </a:solidFill>
                <a:latin typeface="Tahoma"/>
              </a:rPr>
              <a:t>PRIMENA ANALIZE POSLA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Klasifikacija i organizacija po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Profesionalna orij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Profesionalna sele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Utvrđivanje programa ob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Stvaranje boljih uslov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29:42Z</dcterms:modified>
  <cp:revision>58</cp:revision>
  <dc:subject/>
  <dc:title>OSNOVI PSIHOLOGIJE KAO NAUKE</dc:title>
</cp:coreProperties>
</file>