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type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E070-1F8E-4992-9BFC-B8693124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1AD8-6E6A-424C-8B97-0E7A418C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9308-44CF-4E71-9B94-1FDC4969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87E5-F653-48A6-9FE5-EB0CBD56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84F2-ADD8-4F64-94F7-035C1917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C151-CD65-4E6E-9A5C-B697CBBC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1625-0D44-403C-9DCB-FDBF3319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A9D1-7605-46CC-9784-4366D391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9D4C-8063-48DF-9A7B-3310592E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911D-8C69-4EF5-BFFA-218CCDCF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D21D-5044-4056-B563-D3299480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F9FF-E4CD-4EF0-AC62-B95BCA01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7163-BF83-4BE7-82BE-94CA5DFB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D8AD-A943-43FE-89E0-44C4D160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7778-2C0A-4EAA-93C9-54D110F1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29F5-A2D0-4224-9D1B-15FD8C2E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44EC-F9B8-4B44-9E29-F6037409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5683-3683-4F0C-9050-89489098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42EC-F9A9-4826-9B60-D3B5E1C1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F286-2B59-4544-8520-C1C23D97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2F44-458C-4D77-9A59-21219816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CE9E-4A66-481B-958C-5191E567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C753-6906-4BCC-A3ED-6A83DA37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635B-BB1A-4147-9433-30D764C4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D900-2463-416B-A587-1112669E8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6254-85D4-48E3-90D2-873B6A977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227628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221304"/>
                </a:solidFill>
                <a:latin typeface="Tahoma"/>
              </a:rPr>
              <a:t>LIČNOST, OSOBINE LIČNOSTI I NJIHOVO MERENJ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18840" y="75240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04.10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Merne karakteristike uspešnog psihološkog testa</a:t>
            </a:r>
            <a:r>
              <a:rPr b="1" lang="sl-SI" sz="4400" spc="-1" strike="noStrike">
                <a:solidFill>
                  <a:srgbClr val="221304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Valjanost (validnost)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– da zaista meri onu osobinu koju ispituj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ouzdanost (relijabilnost)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– da u ponovljenim merenjima kod iste osobe daje približno isti rezul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Osetljivost (selektivnost, diskriminativnost)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– u stanju da izmeri i male razlike među ljud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Objektivnost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– da svi koji ga primenjuju jednake odgovore jednako ocenju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Vrste testova prema osobinama koje mere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TESTOVI ZN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TESTOVI SPOSOBNOS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TESTOVI SENZORNE SPOSOBNO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TESTOVI MOTORNIH SPOSOBNO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TESTOVI INTELEKTUALNIH SPOSOBNO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TESTOVI LIČ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75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75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75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75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75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75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OSNOVNE KARAKTERISTIKE PSIHIČKOG ŽIVOT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JEDIN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OSOBE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DOSLED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28564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LIČNOST JE JEDINSTVENA ORGANIZACIJA OSOBINA </a:t>
            </a:r>
            <a:br>
              <a:rPr sz="2800"/>
            </a:b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KOJA SE FORMIRA </a:t>
            </a:r>
            <a:br>
              <a:rPr sz="2800"/>
            </a:b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UZAJAMNIM DELOVANJEM </a:t>
            </a:r>
            <a:br>
              <a:rPr sz="2800"/>
            </a:b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JEDINKE I SREDINE </a:t>
            </a:r>
            <a:br>
              <a:rPr sz="2800"/>
            </a:b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I ODREĐUJE OPŠTI, </a:t>
            </a:r>
            <a:br>
              <a:rPr sz="2800"/>
            </a:b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ZA POJEDINCA </a:t>
            </a:r>
            <a:br>
              <a:rPr sz="2800"/>
            </a:b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KARAKTERISTIČNI NAČIN PONAŠANJA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25760" y="4723920"/>
            <a:ext cx="64008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Rot, N., 1975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FAKTORI RAZVOJA LIČNOSTI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BIOLOŠKI: nervni i endokrini sistem, telesna konstitu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SOCIJALNI: porodica, grupa vršnjaka, škola, kultura, položaj i uloga, društveni si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AKTIV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75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75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75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OSNOVNA RAZDOBLJA PSIHOFIZIČKOG RAZVOJ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Detinj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Mlad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Zre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Star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75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75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75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75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ZRELA LIČNOST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72388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ahoma"/>
              </a:rPr>
              <a:t>Unutrašnji skl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ahoma"/>
              </a:rPr>
              <a:t>i jedinstvo u struktu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ahoma"/>
              </a:rPr>
              <a:t>Sklad sa okoli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75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75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75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75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Kriterijumi zrele ličnosti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INTELEKTUALNA ZRELOST – sposobnost kritičkog razmišljanja i zaključivanja i sposobnost samostalnog donošenja odluka i formiranja stavo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EMOCIONALNA ZRELOST – manifestuje se adekvatnim emocionalnim reagovanjem i sposobnošću kontrolisanja sopstvenih osećanja i ponaš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SOCIJALNA ZRELOST – ispoljava se u harmoničnom odnosu ličnosti i socijalne sredine, kroz istovremenu spremnost osobe da sarađuje sa drugima i da samostalno d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STRUKTURA LIČNOSTI – OSOBINE LIČNOSTI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SPOSOBNOSTI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INTELEKTUAL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PSIHOSENZOR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PSIHOMOTOR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TEMPERAM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KOLERIČ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SANGVINIČ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FLEGMATIČ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MELANHOLIČ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KARAK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FIZIČKA KONSTITU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MERENJE OSOBINA LIČNOSTI – PSIHOLOŠKI TESTOVI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676520" y="28951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PSIHOLOŠKI TESTOVI SU MERNI INSTRUMENTI ZA MERENJE OSOBINA LIČNOS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TO SU POSEBNIM POSTUPKOM IZABRANI ZADACI KOJIMA SE IZAZIVAJU UZORCI PONAŠANJA NA OSNOVU KOJIH SE ZAKLJUČUJE O OSOBINAMA TESTIRANE OSOBE, ODNOSNO O RAZVIJENOSTI ISPITIVANE OSOB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08:51:04Z</dcterms:created>
  <dc:creator>IVANA</dc:creator>
  <dc:description/>
  <dc:language>en-US</dc:language>
  <cp:lastModifiedBy>Ivana</cp:lastModifiedBy>
  <dcterms:modified xsi:type="dcterms:W3CDTF">2005-10-11T16:26:56Z</dcterms:modified>
  <cp:revision>59</cp:revision>
  <dc:subject/>
  <dc:title>OSNOVI PSIHOLOGIJE KAO NAUKE</dc:title>
</cp:coreProperties>
</file>