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type.wav" ContentType="audio/x-wav"/>
  <Override PartName="/ppt/media/image3.wmf" ContentType="image/x-wmf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E87FD-5BAF-49D0-8B9B-9B0B13B35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7A8BD-6E1E-4065-AAA9-3C633BD77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8F1BE-ADD7-466A-B483-5768DCF53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C0EF5-0B0D-418E-82E4-08D895C81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3E33C-A3B6-4E6C-9C3E-B324D3621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7C896-166F-4E5C-8675-73D672726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B686B-9209-4BED-A6EA-88FE64D8A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2D549-5925-4F0C-B691-6AE6D3BFE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3D5FE-52CF-424D-91F3-D8CC867B6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B0696-4173-4875-A119-F9055471A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B7CE9-039E-4E08-B0FD-3B638894B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CCB2E-8FA4-4A53-99DE-C545A230B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8163E-B612-463C-A05A-CDC4FB71E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5CFE4-56EB-41C1-BB27-13BDC5E5E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7802F-1231-4EA4-9B1F-FCA4C7409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B97B7-6E1C-4471-99DE-3BFE859F4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5E051-6B34-4C44-9FBE-A4425E262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5F305-431F-422D-9171-FDC7F000B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A9D61-E88C-4F87-BB17-DC4C1EA4B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24F42-2F9F-4458-B59E-75AD3EE82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6158D-4FDF-40C5-AD5E-4B67D7F27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6244E-32D8-4E71-AB96-5E0F4F215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B2612-E19D-461B-B0CD-864AFF03E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4C5BD-D39C-4B4B-940B-2EFCC7868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" descr="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96804-F320-4742-A16E-5034D8A970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93574-981F-416C-B56A-6571A4CC59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audio" Target="../media/type.wav"/><Relationship Id="rId10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99640" y="2133360"/>
            <a:ext cx="790596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800" spc="-1" strike="noStrike">
                <a:solidFill>
                  <a:srgbClr val="221304"/>
                </a:solidFill>
                <a:latin typeface="Times New Roman"/>
              </a:rPr>
              <a:t>PSIHOLOGIJA ORGANIZACIJE</a:t>
            </a:r>
            <a:endParaRPr b="0" lang="en-US" sz="4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3419280" y="3789000"/>
            <a:ext cx="53211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Prof. dr Dobrivoje Mihailović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659640" y="549360"/>
            <a:ext cx="187308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908000" y="620640"/>
            <a:ext cx="6048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221304"/>
                </a:solidFill>
                <a:latin typeface="Tahoma"/>
              </a:rPr>
              <a:t>Fakultet organizacionih nauk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221304"/>
                </a:solidFill>
                <a:latin typeface="Tahoma"/>
              </a:rPr>
              <a:t>Univerzitet u Beograd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588000" y="5373720"/>
            <a:ext cx="1513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372360" y="5013360"/>
            <a:ext cx="19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221304"/>
                </a:solidFill>
                <a:latin typeface="Tahoma"/>
              </a:rPr>
              <a:t>Školska 2005./6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221304"/>
                </a:solidFill>
                <a:latin typeface="Tahoma"/>
              </a:rPr>
              <a:t>RAZVOJ PSIHOLOGIJE RADA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162576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Tahoma"/>
              </a:rPr>
              <a:t>PRVA FAZA: “NAUČNA ORGANIZACIJA RADA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Tahoma"/>
              </a:rPr>
              <a:t>(uključivanje psihologije u rešavanje industrijskih problem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7620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221304"/>
                </a:solidFill>
                <a:latin typeface="Tahoma"/>
              </a:rPr>
              <a:t>Osnivač Frederik Tejlor (1856 – 1913)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Potreba za povećanjem efikasnosti i produktivnosti r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Cilj: racionalna organizacija proizvodnje, najefikasniji način rada – efikasnost uz najmanji utrošak energi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Niz mera u cilju naučnog organizovanja rada: empirijska istraživanja analiziranjem pokreta radnika – “studija vremena i pokret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221304"/>
                </a:solidFill>
                <a:latin typeface="Tahoma"/>
              </a:rPr>
              <a:t>Osnovne pretpostavke: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ahoma"/>
              </a:rPr>
              <a:t>Postoji jedan najbolji način rada za svaki posa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ahoma"/>
              </a:rPr>
              <a:t>Svaki radnik prema svojim fizičkim i intelektualnim mogućnostima može da postigne maksimalni učinak samo na jednom posl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ahoma"/>
              </a:rPr>
              <a:t>Za konkretan posao stoga treba izabrati onog radnika koji za to ima najviše sposobnosti i koji može da postigne najveću efikasno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ahoma"/>
              </a:rPr>
              <a:t>Potrebno je razviti svakog pojedinca do najvišeg stupnja efikasnosti i zadovoljstva za koji je sposob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ahoma"/>
              </a:rPr>
              <a:t>Treba radnike obučavati i uvežbavati najboljim, najracionalnijim metodama r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ahoma"/>
              </a:rPr>
              <a:t>Radnike treba stimulisati odgovarajućom platom – ideja “ekonomskog čoveka” čiji je osnovni motiv zar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" dur="75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" dur="75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75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" dur="75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3" dur="75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8" dur="75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75"/>
                                        <p:tgtEl>
                                          <p:spTgt spid="1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221304"/>
                </a:solidFill>
                <a:latin typeface="Tahoma"/>
              </a:rPr>
              <a:t>Kritike: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ahoma"/>
              </a:rPr>
              <a:t>Ovako “naučno organizovan rad” je težak i iscrpljujuć za radnik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ahoma"/>
              </a:rPr>
              <a:t>Donosi dobit samo poslodavc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ahoma"/>
              </a:rPr>
              <a:t>Zanemaruju se neke zakonitosti fizioloških i psiholoških poja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ahoma"/>
              </a:rPr>
              <a:t>Neadekvatna istraživačka metodologija koju je Tejlor koristi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221304"/>
                </a:solidFill>
                <a:latin typeface="Tahoma"/>
              </a:rPr>
              <a:t>RAZVOJ PSIHOLOGIJE RADA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162576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Tahoma"/>
              </a:rPr>
              <a:t>DRUGA FAZA: OSNIVANJE PSIHOLOGIJE R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221304"/>
                </a:solidFill>
                <a:latin typeface="Tahoma"/>
              </a:rPr>
              <a:t>Osnivač Hugo Minsterberg (1863 – 1916)</a:t>
            </a:r>
            <a:br>
              <a:rPr sz="2800"/>
            </a:br>
            <a:r>
              <a:rPr b="1" lang="sl-SI" sz="2800" spc="-1" strike="noStrike">
                <a:solidFill>
                  <a:srgbClr val="221304"/>
                </a:solidFill>
                <a:latin typeface="Tahoma"/>
              </a:rPr>
              <a:t>“Psihologija i industrijska efikasnost”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ahoma"/>
              </a:rPr>
              <a:t>Opravdanost korišćenja psihologije u industriji vidi u potrebi za usklađivanjem zahteva posla i psihofizičkih mogućnosti radnik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ahoma"/>
              </a:rPr>
              <a:t>Prilagođavanje radnika i poboljšanje uslova rada dovodi do porasta produktivnos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ahoma"/>
              </a:rPr>
              <a:t>Empirijska istraživanja na osnovu kojih je utvrdio osnovne probleme i principe njihovog rešavanja u selekciji radnika, obučavanju, motivisanju, kao i fenomen umora i probleme uslova r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ahoma"/>
              </a:rPr>
              <a:t>1910. Konstruisao test za selekciju ljud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42560" y="380520"/>
            <a:ext cx="7705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221304"/>
                </a:solidFill>
                <a:latin typeface="Tahoma"/>
              </a:rPr>
              <a:t>Tri osnovna principa rada u masovnoj industrijskoj proizvodnji</a:t>
            </a:r>
            <a:br>
              <a:rPr sz="2800"/>
            </a:br>
            <a:r>
              <a:rPr b="0" lang="sl-SI" sz="2000" spc="-1" strike="noStrike">
                <a:solidFill>
                  <a:srgbClr val="221304"/>
                </a:solidFill>
                <a:latin typeface="Tahoma"/>
              </a:rPr>
              <a:t>(uvođenje sistema masovne proizvodnje u Fordovim fabrikama automobila):</a:t>
            </a:r>
            <a:endParaRPr b="0" lang="en-US" sz="2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ahoma"/>
              </a:rPr>
              <a:t>Metodično planiran i neprekidan tok proizvoda kroz radionicu – uvodi se konvejer: tekuća traka koja određuje sadržaj, metod i brzinu r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ahoma"/>
              </a:rPr>
              <a:t>Radniku se rad uručuje, umesto prepuštanja njegovoj inicijativi da ga nađ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ahoma"/>
              </a:rPr>
              <a:t>Operacije se raščlanjavaju na sastavne delo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" dur="5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500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500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221304"/>
                </a:solidFill>
                <a:latin typeface="Tahoma"/>
              </a:rPr>
              <a:t>RAZVOJ PSIHOLOGIJE RADA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162576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Tahoma"/>
              </a:rPr>
              <a:t>TREĆA FAZA: UVIĐANJE ZNAČAJA DRUŠTVENIH FAKTORA – “HOTORN EKSPERIMENT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221304"/>
                </a:solidFill>
                <a:latin typeface="Tahoma"/>
              </a:rPr>
              <a:t>Elton Mejo: “Hotorn eksperiment” (1927 – 1932)</a:t>
            </a:r>
            <a:br>
              <a:rPr sz="3200"/>
            </a:b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ahoma"/>
              </a:rPr>
              <a:t>EMPIRIJSKO ISTRAŽIVANJE OBAVLJENO U WESTERN ELECTRIC COMP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ahoma"/>
              </a:rPr>
              <a:t>ISPITIVAN I VARIRAN UTICAJ MIKROKLIMATSKIH USLOVA NA PRODUKTIVNOST RADNIK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221304"/>
                </a:solidFill>
                <a:latin typeface="Tahoma"/>
              </a:rPr>
              <a:t>Posledice: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ahoma"/>
              </a:rPr>
              <a:t>interesovanja psihologije rada se proširuju na oblasti motivacije za rad, međuljudske odno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ahoma"/>
              </a:rPr>
              <a:t>čovek se posmatra kao psiho-socijalno bić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ahoma"/>
              </a:rPr>
              <a:t>razvija se pokret “Mičigenske škole” ili “Škole međuljudskih odnosa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ahoma"/>
              </a:rPr>
              <a:t>razvija se (pedesetih godina) posebna istraživačka oblast – Motivacija za rad (Abraham Maslov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9" dur="75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4" dur="75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9" dur="75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4" dur="75"/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221304"/>
                </a:solidFill>
                <a:latin typeface="Times New Roman"/>
              </a:rPr>
              <a:t>SADRŽAJ</a:t>
            </a:r>
            <a:br>
              <a:rPr sz="4000"/>
            </a:br>
            <a:r>
              <a:rPr b="0" lang="sr-Latn-CS" sz="3600" spc="-1" strike="noStrike">
                <a:solidFill>
                  <a:srgbClr val="221304"/>
                </a:solidFill>
                <a:latin typeface="Times New Roman"/>
              </a:rPr>
              <a:t>UVODNI DEO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71280" y="1915920"/>
            <a:ext cx="777708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27.09.: OSNOVI PSIHOLOGIJE KAO NAU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PSIHOLOGIJA RADA I ORGANIZACI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04.10.: LIČNOST OSOBINE LIČNOSTI I NJIHOVO MEREN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11.10.: ANALIZA POS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18.10.: PROFESIONALNA ORIJENTACIJ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25.10.: PROFESIONALNA SELEKCIJ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01.11.: RADNA ADAPTACIJ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08.11.: APSENTIZAM RADNIK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FLUKTUACIJA RADNIK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15.11.: PROVERA ZNANJA – I KOLOKVIJ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221304"/>
                </a:solidFill>
                <a:latin typeface="Tahoma"/>
              </a:rPr>
              <a:t>Nalazi: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Tahoma"/>
              </a:rPr>
              <a:t>mikroklimatski uslovi nisu imali očekivan efekat na učina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Tahoma"/>
              </a:rPr>
              <a:t>identifikovane su socijalne potrebe kao najznačajniji faktori ponašanja i produktivnosti radnik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Tahoma"/>
              </a:rPr>
              <a:t>radnika ne treba posmatrati kao pojedinca, već kao člana određene neformalne grupe koja ima svoja pravila ponašanja, norme, sisteme vrednost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Tahoma"/>
              </a:rPr>
              <a:t>neformalno organizovanje i međuljudski odnosi unutar grupa kao i odnosi radnika prema rukovodiocu i organizaciji postaju dominantni činioci radne motivacije, zadovoljstva poslom i efikasnost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Tahoma"/>
              </a:rPr>
              <a:t>Da bi se povećala produktivnost potrebno je uspostaviti skladne međuljudske odnose u grupa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1" dur="75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6" dur="75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1" dur="75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6" dur="75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1" dur="75"/>
                                        <p:tgtEl>
                                          <p:spTgt spid="1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221304"/>
                </a:solidFill>
                <a:latin typeface="Tahoma"/>
              </a:rPr>
              <a:t>PREDMET I CILJEVI PSIHOLOGIJE RADA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Tahoma"/>
              </a:rPr>
              <a:t>Predme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ahoma"/>
              </a:rPr>
              <a:t>primena psiholoških princip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ahoma"/>
              </a:rPr>
              <a:t>na uzajamne odnose između </a:t>
            </a:r>
            <a:r>
              <a:rPr b="1" lang="sl-SI" sz="1800" spc="-1" strike="noStrike" u="sng">
                <a:solidFill>
                  <a:srgbClr val="000000"/>
                </a:solidFill>
                <a:uFillTx/>
                <a:latin typeface="Tahoma"/>
              </a:rPr>
              <a:t>individue</a:t>
            </a:r>
            <a:r>
              <a:rPr b="1" lang="sl-SI" sz="18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sl-SI" sz="1800" spc="-1" strike="noStrike" u="sng">
                <a:solidFill>
                  <a:srgbClr val="000000"/>
                </a:solidFill>
                <a:uFillTx/>
                <a:latin typeface="Tahoma"/>
              </a:rPr>
              <a:t>posla</a:t>
            </a:r>
            <a:r>
              <a:rPr b="1" lang="sl-SI" sz="1800" spc="-1" strike="noStrike">
                <a:solidFill>
                  <a:srgbClr val="000000"/>
                </a:solidFill>
                <a:latin typeface="Tahoma"/>
              </a:rPr>
              <a:t> i </a:t>
            </a:r>
            <a:r>
              <a:rPr b="1" lang="sl-SI" sz="1800" spc="-1" strike="noStrike" u="sng">
                <a:solidFill>
                  <a:srgbClr val="000000"/>
                </a:solidFill>
                <a:uFillTx/>
                <a:latin typeface="Tahoma"/>
              </a:rPr>
              <a:t>uslova rada</a:t>
            </a:r>
            <a:r>
              <a:rPr b="1" lang="sl-SI" sz="1800" spc="-1" strike="noStrike">
                <a:solidFill>
                  <a:srgbClr val="000000"/>
                </a:solidFill>
                <a:latin typeface="Tahoma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sl-SI" sz="1800" spc="-1" strike="noStrike">
                <a:solidFill>
                  <a:srgbClr val="000000"/>
                </a:solidFill>
                <a:latin typeface="Tahoma"/>
              </a:rPr>
              <a:t>u neposrednoj sredini i širem radnom kontekst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Tahoma"/>
              </a:rPr>
              <a:t>Cilj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ahoma"/>
              </a:rPr>
              <a:t>da se sa stanovišta psihofizioloških mogućnosti čoveka omogući stvaranje uslov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ahoma"/>
              </a:rPr>
              <a:t>koji vode optimalnoj efikasnosti radnik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Tahoma"/>
              </a:rPr>
              <a:t>Zadatak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ahoma"/>
              </a:rPr>
              <a:t>da se na osnovu postojećih saznanja omogući i olakš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ahoma"/>
              </a:rPr>
              <a:t>usklađivanje čoveka sa zahtevima i osobenostima radne situacij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ahoma"/>
              </a:rPr>
              <a:t>i da se na taj način očuv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ahoma"/>
              </a:rPr>
              <a:t>psihofizičko zdravlje, adaptiranost i zadovoljstvo pojedin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5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5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5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5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5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5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221304"/>
                </a:solidFill>
                <a:latin typeface="Tahoma"/>
              </a:rPr>
              <a:t>OBLASTI PSIHOLOGIJE RADA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ahoma"/>
              </a:rPr>
              <a:t>KADROVSKA (PERSONALNA) PSIHOLOGIJ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ahoma"/>
              </a:rPr>
              <a:t>INŽINJERSKA PSIHOLOGIJ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ahoma"/>
              </a:rPr>
              <a:t>PSIHOLOGIJA MEĐULJUDSKIH ODNO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ahoma"/>
              </a:rPr>
              <a:t>PSIHOLOGIJA ORGANIZACIJ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2" dur="75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7" dur="75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2" dur="75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7" dur="75"/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221304"/>
                </a:solidFill>
                <a:latin typeface="Tahoma"/>
              </a:rPr>
              <a:t>PREDMET I ZADACI PSIHOLOGIJE ORGANIZACIJE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1" lang="sl-SI" sz="2400" spc="-1" strike="noStrike">
                <a:solidFill>
                  <a:srgbClr val="000000"/>
                </a:solidFill>
                <a:latin typeface="Tahoma"/>
              </a:rPr>
              <a:t>Pred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Tahoma"/>
              </a:rPr>
              <a:t>izučavanje psihičkih pojav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Tahoma"/>
              </a:rPr>
              <a:t>koje su nastale kao rezult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sl-SI" sz="2000" spc="-1" strike="noStrike">
                <a:solidFill>
                  <a:srgbClr val="000000"/>
                </a:solidFill>
                <a:latin typeface="Tahoma"/>
              </a:rPr>
              <a:t>interakcijskog delovanja ljudi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Tahoma"/>
              </a:rPr>
              <a:t>u uslovima organizacij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ahoma"/>
              </a:rPr>
              <a:t>Zadaci:</a:t>
            </a:r>
            <a:r>
              <a:rPr b="1" lang="sl-SI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Tahoma"/>
              </a:rPr>
              <a:t>Rešavanje psiholoških problema organizacij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221304"/>
                </a:solidFill>
                <a:latin typeface="Tahoma"/>
              </a:rPr>
              <a:t>Osnovne pretpostavke psihologije organizacije: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ahoma"/>
              </a:rPr>
              <a:t>Ljudi se različito ponašaju kada su sami i kada su u gru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ahoma"/>
              </a:rPr>
              <a:t>Isti ljudi se ponašaju različito u različitim grupa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ahoma"/>
              </a:rPr>
              <a:t>Grupna svest nije sastavljena od prostog zbira pojedinačnih individualnih svesti već je rezultat interakcijskog odnosa pojedinaca i grupe i njihovog uzajamnog dopunjavanja i prožimanj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ahoma"/>
              </a:rPr>
              <a:t>Organizacija ima svoje specifičnos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ahoma"/>
              </a:rPr>
              <a:t>Ponašanje ljudi u organizaciji ima svoje osobenos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8" dur="75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3" dur="75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8" dur="75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3" dur="75"/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75"/>
                                        <p:tgtEl>
                                          <p:spTgt spid="1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221304"/>
                </a:solidFill>
                <a:latin typeface="Tahoma"/>
              </a:rPr>
              <a:t>TEORIJSKI PRISTUPI ORGANIZACIJI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Tahoma"/>
              </a:rPr>
              <a:t>INSTITUCIONALIZACIJ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Tahoma"/>
              </a:rPr>
              <a:t>Celokupan ljudski život, posebno čovekov rad treba uklopiti u određene organizacione for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9528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Tahoma"/>
              </a:rPr>
              <a:t>OTPOR INSTITUCIONALIZACIJ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Tahoma"/>
              </a:rPr>
              <a:t>Otpor prema totalitarno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Tahoma"/>
              </a:rPr>
              <a:t>institucionalizaciji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Tahoma"/>
              </a:rPr>
              <a:t>i težnja ka slobodi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Tahoma"/>
              </a:rPr>
              <a:t>ličnoj inicijativi i kreacij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5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0" dur="500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5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0" dur="500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5" dur="500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0" dur="500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5" dur="500"/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221304"/>
                </a:solidFill>
                <a:latin typeface="Tahoma"/>
              </a:rPr>
              <a:t>TRI GLOBALNA PRISTUPA ORGANIZACIJI: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812880" indent="-812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ahoma"/>
              </a:rPr>
              <a:t>Klasični prist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81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812880" indent="-812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ahoma"/>
              </a:rPr>
              <a:t>Pristup sa stanovišta međuljudskih odno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812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812880" indent="-812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ahoma"/>
              </a:rPr>
              <a:t>Pristup sa stanovišta utica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812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221304"/>
                </a:solidFill>
                <a:latin typeface="Tahoma"/>
              </a:rPr>
              <a:t>Klasični pristup “naučne organizacije rada” – odlike organizacije: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61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ahoma"/>
              </a:rPr>
              <a:t>Unutrašnja podela r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ahoma"/>
              </a:rPr>
              <a:t>Hijerarhijski pristup organizovanj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ahoma"/>
              </a:rPr>
              <a:t>Depersonalizovano ponašanje člano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ahoma"/>
              </a:rPr>
              <a:t>Zauzimanje položaja na osnovu znanja i kvalifikacij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ahoma"/>
              </a:rPr>
              <a:t>Materijalna stimulacija kao metod motivacije</a:t>
            </a:r>
            <a:r>
              <a:rPr b="0" lang="sl-SI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221304"/>
                </a:solidFill>
                <a:latin typeface="Tahoma"/>
              </a:rPr>
              <a:t>Pristup sa stanovišta međuljudskih odnosa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066320" y="213372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ahoma"/>
              </a:rPr>
              <a:t>Centralni problem postaje kako razumeti promene koje se moraju učiniti da bi se postigla najviša ljudska energija za produktivan r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ahoma"/>
              </a:rPr>
              <a:t>Organizacija je skup pojedina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ahoma"/>
              </a:rPr>
              <a:t>Socijalni faktori utiču na zadovoljstvo poslo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8" dur="indefinite" restart="never" nodeType="tmRoot">
          <p:childTnLst>
            <p:seq>
              <p:cTn id="539" dur="indefinite" nodeType="mainSeq">
                <p:childTnLst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4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221304"/>
                </a:solidFill>
                <a:latin typeface="Tahoma"/>
              </a:rPr>
              <a:t>Pristup sa stanovišta uticaja: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Tahoma"/>
              </a:rPr>
              <a:t>Veza između ličnosti radnika i produktivnosti rada zavisna je od sasvim različitih faktor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Tahoma"/>
              </a:rPr>
              <a:t>Organizacija je polje uzajamnih delovanja pojedinaca i grupa u kojem se prepliću individualni i grupni interesi i uticaj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Tahoma"/>
              </a:rPr>
              <a:t>Kao rezultat nastaju relativno čvrsti odnosi između pojedinih grupa i položaj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Tahoma"/>
              </a:rPr>
              <a:t>Ono obuhvata sve delove organizacione strukture (formalne i neformalne), uočava delovanje realnih socijalnih sila i shvata organizaciju kao celinu heterogenih delo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Tahoma"/>
              </a:rPr>
              <a:t>Efikasnost zavisi od stepena konzistentnosti socijalne i kulturne strukture organizacije, od veličine uticaja u organizaciji i tipa distribucije uticaj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3" dur="indefinite" restart="never" nodeType="tmRoot">
          <p:childTnLst>
            <p:seq>
              <p:cTn id="564" dur="indefinite" nodeType="mainSeq">
                <p:childTnLst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9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21304"/>
                </a:solidFill>
                <a:latin typeface="Tahoma"/>
              </a:rPr>
              <a:t>OSNOVI PSIHOLOGIJE KAO NAUK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62576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Tahoma"/>
              </a:rPr>
              <a:t>POJAM, PREDMET, ZADACI I GRANE PSIHOLOGI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917400" y="752400"/>
            <a:ext cx="112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27.09.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75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221304"/>
                </a:solidFill>
                <a:latin typeface="Tahoma"/>
              </a:rPr>
              <a:t>DVA SHVATANJA NAUČNE PSIHOLOGIJE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42920" y="2421000"/>
            <a:ext cx="373392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Tahoma"/>
              </a:rPr>
              <a:t>Psihoanalitičk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Tahoma"/>
              </a:rPr>
              <a:t>Predmet: NESVES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ahoma"/>
              </a:rPr>
              <a:t>Metode: STUDIJA SLUČAJ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ahoma"/>
              </a:rPr>
              <a:t>               </a:t>
            </a:r>
            <a:r>
              <a:rPr b="0" lang="sl-SI" sz="2000" spc="-1" strike="noStrike">
                <a:solidFill>
                  <a:srgbClr val="000000"/>
                </a:solidFill>
                <a:latin typeface="Tahoma"/>
              </a:rPr>
              <a:t>-  IDIOGRAFSKI MET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ahoma"/>
              </a:rPr>
              <a:t>Status psihologije: HUMANISTIČK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952880" y="2491920"/>
            <a:ext cx="3733920" cy="27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Tahoma"/>
              </a:rPr>
              <a:t>Bihejviorističk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ahoma"/>
              </a:rPr>
              <a:t>Predmet: PONAŠANJ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ahoma"/>
              </a:rPr>
              <a:t>Metode: EKSPERI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ahoma"/>
              </a:rPr>
              <a:t>                </a:t>
            </a:r>
            <a:r>
              <a:rPr b="0" lang="sl-SI" sz="2000" spc="-1" strike="noStrike">
                <a:solidFill>
                  <a:srgbClr val="000000"/>
                </a:solidFill>
                <a:latin typeface="Tahoma"/>
              </a:rPr>
              <a:t>- NOMOTETSKI MET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ahoma"/>
              </a:rPr>
              <a:t>Status psihologije: PO UGLEDU NA PRIRODNE NAUK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221304"/>
                </a:solidFill>
                <a:latin typeface="Tahoma"/>
              </a:rPr>
              <a:t>PREDMET PSIHOLOGIJE</a:t>
            </a:r>
            <a:br>
              <a:rPr sz="3200"/>
            </a:br>
            <a:r>
              <a:rPr b="1" lang="sl-SI" sz="2800" spc="-1" strike="noStrike">
                <a:solidFill>
                  <a:srgbClr val="221304"/>
                </a:solidFill>
                <a:latin typeface="Tahoma"/>
              </a:rPr>
              <a:t>Psihologija je nauka o </a:t>
            </a:r>
            <a:r>
              <a:rPr b="1" lang="sl-SI" sz="2800" spc="-1" strike="noStrike" u="sng">
                <a:solidFill>
                  <a:srgbClr val="221304"/>
                </a:solidFill>
                <a:uFillTx/>
                <a:latin typeface="Tahoma"/>
              </a:rPr>
              <a:t>psihičkom životu</a:t>
            </a:r>
            <a:r>
              <a:rPr b="1" lang="sl-SI" sz="2800" spc="-1" strike="noStrike">
                <a:solidFill>
                  <a:srgbClr val="221304"/>
                </a:solidFill>
                <a:latin typeface="Tahoma"/>
              </a:rPr>
              <a:t> ljudi i životinja.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1163520" y="1828800"/>
          <a:ext cx="7731360" cy="4049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63520" y="1828800"/>
                    <a:ext cx="7731360" cy="404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221304"/>
                </a:solidFill>
                <a:latin typeface="Tahoma"/>
              </a:rPr>
              <a:t>ZADACI PSIHOLOGIJE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ahoma"/>
              </a:rPr>
              <a:t>OSNOVNI ZADATAK:</a:t>
            </a:r>
            <a:r>
              <a:rPr b="0" lang="sl-SI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Tahoma"/>
              </a:rPr>
              <a:t>utvrditi zakonitosti psihičkog života čoveka i životinj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sl-SI" sz="1800" spc="-1" strike="noStrike">
                <a:solidFill>
                  <a:srgbClr val="000000"/>
                </a:solidFill>
                <a:latin typeface="Tahoma"/>
              </a:rPr>
              <a:t>ZADACI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Tahoma"/>
              </a:rPr>
              <a:t>Opisivanje psihičkih pojava – DESKRIPCIJ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Tahoma"/>
              </a:rPr>
              <a:t>Sistematizacija opisanih psihičkih pojava – KLASIFIKACIJ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Tahoma"/>
              </a:rPr>
              <a:t>Otkrivanje uzročno-posledičnih veza između psihičkih pojava – FORMULACIJA NAUČNIH ZAKO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Tahoma"/>
              </a:rPr>
              <a:t>Naučno objašnjenje zakonitosti nastajanja psihičkih pojava – RAZUMEVANJE I OBJAŠNJENJ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Tahoma"/>
              </a:rPr>
              <a:t>Naučno predviđanje psihičkih pojava – PREDIKCIJA (I KONTROL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Tahoma"/>
              </a:rPr>
              <a:t>Izgradnja psihološke terminologije - TERMINOLOGIJ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" dur="75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" dur="75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" dur="75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" dur="75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" dur="75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" dur="75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" dur="75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75"/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" dur="75"/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221304"/>
                </a:solidFill>
                <a:latin typeface="Times New Roman"/>
              </a:rPr>
              <a:t>GRANE PSIHOLOGIJ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038240" y="2966040"/>
            <a:ext cx="7749720" cy="2563920"/>
            <a:chOff x="1038240" y="2966040"/>
            <a:chExt cx="7749720" cy="2563920"/>
          </a:xfrm>
        </p:grpSpPr>
        <p:cxnSp>
          <p:nvCxnSpPr>
            <p:cNvPr id="111" name="_s72767"/>
            <p:cNvCxnSpPr>
              <a:stCxn id="112" idx="0"/>
              <a:endCxn id="113" idx="2"/>
            </p:cNvCxnSpPr>
            <p:nvPr/>
          </p:nvCxnSpPr>
          <p:spPr>
            <a:xfrm flipV="1">
              <a:off x="7794000" y="3822480"/>
              <a:ext cx="1080" cy="1746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4" name="_s72765"/>
            <p:cNvCxnSpPr>
              <a:stCxn id="115" idx="0"/>
              <a:endCxn id="116" idx="2"/>
            </p:cNvCxnSpPr>
            <p:nvPr/>
          </p:nvCxnSpPr>
          <p:spPr>
            <a:xfrm flipV="1">
              <a:off x="5752800" y="3822480"/>
              <a:ext cx="1080" cy="1746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7" name="_s72761"/>
            <p:cNvCxnSpPr>
              <a:stCxn id="118" idx="3"/>
              <a:endCxn id="119" idx="2"/>
            </p:cNvCxnSpPr>
            <p:nvPr/>
          </p:nvCxnSpPr>
          <p:spPr>
            <a:xfrm flipV="1">
              <a:off x="2184120" y="4740480"/>
              <a:ext cx="52920" cy="4831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0" name="_s72759"/>
            <p:cNvCxnSpPr>
              <a:stCxn id="121" idx="3"/>
              <a:endCxn id="122" idx="2"/>
            </p:cNvCxnSpPr>
            <p:nvPr/>
          </p:nvCxnSpPr>
          <p:spPr>
            <a:xfrm flipV="1">
              <a:off x="3382920" y="4740480"/>
              <a:ext cx="613440" cy="4831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3" name="_s72755"/>
            <p:cNvCxnSpPr>
              <a:stCxn id="122" idx="0"/>
              <a:endCxn id="124" idx="2"/>
            </p:cNvCxnSpPr>
            <p:nvPr/>
          </p:nvCxnSpPr>
          <p:spPr>
            <a:xfrm flipV="1" rot="16200000">
              <a:off x="3381840" y="3383280"/>
              <a:ext cx="174600" cy="1053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5" name="_s72742"/>
            <p:cNvCxnSpPr>
              <a:stCxn id="116" idx="0"/>
              <a:endCxn id="126" idx="2"/>
            </p:cNvCxnSpPr>
            <p:nvPr/>
          </p:nvCxnSpPr>
          <p:spPr>
            <a:xfrm flipV="1" rot="16200000">
              <a:off x="5245560" y="2975760"/>
              <a:ext cx="174600" cy="840600"/>
            </a:xfrm>
            <a:prstGeom prst="bentConnector3">
              <a:avLst>
                <a:gd name="adj1" fmla="val 4938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7" name="_s72740"/>
            <p:cNvCxnSpPr>
              <a:stCxn id="119" idx="0"/>
              <a:endCxn id="124" idx="2"/>
            </p:cNvCxnSpPr>
            <p:nvPr/>
          </p:nvCxnSpPr>
          <p:spPr>
            <a:xfrm flipH="1" flipV="1" rot="5400000">
              <a:off x="2502720" y="3556440"/>
              <a:ext cx="174600" cy="7070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8" name="_s72736"/>
            <p:cNvCxnSpPr>
              <a:stCxn id="113" idx="0"/>
              <a:endCxn id="126" idx="2"/>
            </p:cNvCxnSpPr>
            <p:nvPr/>
          </p:nvCxnSpPr>
          <p:spPr>
            <a:xfrm flipV="1" rot="16200000">
              <a:off x="6266160" y="1955160"/>
              <a:ext cx="174600" cy="2881800"/>
            </a:xfrm>
            <a:prstGeom prst="bentConnector3">
              <a:avLst>
                <a:gd name="adj1" fmla="val 4938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9" name="_s72734"/>
            <p:cNvCxnSpPr>
              <a:stCxn id="124" idx="0"/>
              <a:endCxn id="126" idx="2"/>
            </p:cNvCxnSpPr>
            <p:nvPr/>
          </p:nvCxnSpPr>
          <p:spPr>
            <a:xfrm flipH="1" flipV="1" rot="5400000">
              <a:off x="3841200" y="2410920"/>
              <a:ext cx="174600" cy="1970640"/>
            </a:xfrm>
            <a:prstGeom prst="bentConnector3">
              <a:avLst>
                <a:gd name="adj1" fmla="val 49380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26" name="_s72730"/>
            <p:cNvSpPr/>
            <p:nvPr/>
          </p:nvSpPr>
          <p:spPr>
            <a:xfrm>
              <a:off x="3881160" y="2966040"/>
              <a:ext cx="2063880" cy="343080"/>
            </a:xfrm>
            <a:prstGeom prst="roundRect">
              <a:avLst>
                <a:gd name="adj" fmla="val 16667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560" rIns="7560" tIns="3960" bIns="3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100" spc="-1" strike="noStrike">
                  <a:solidFill>
                    <a:srgbClr val="221304"/>
                  </a:solidFill>
                  <a:latin typeface="Tahoma"/>
                </a:rPr>
                <a:t>PROUČAVAJU PSIHIČKI ŽIVO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_s72731"/>
            <p:cNvSpPr/>
            <p:nvPr/>
          </p:nvSpPr>
          <p:spPr>
            <a:xfrm>
              <a:off x="1949040" y="3483360"/>
              <a:ext cx="1987920" cy="33948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560" rIns="7560" tIns="3960" bIns="3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900" spc="-1" strike="noStrike">
                  <a:solidFill>
                    <a:srgbClr val="221304"/>
                  </a:solidFill>
                  <a:latin typeface="Tahoma"/>
                </a:rPr>
                <a:t>USLOVLJEN SPOLJAŠNJIM UTICAJIM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_s72733"/>
            <p:cNvSpPr/>
            <p:nvPr/>
          </p:nvSpPr>
          <p:spPr>
            <a:xfrm>
              <a:off x="6800040" y="3483360"/>
              <a:ext cx="1987920" cy="339480"/>
            </a:xfrm>
            <a:prstGeom prst="roundRect">
              <a:avLst>
                <a:gd name="adj" fmla="val 16667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560" rIns="7560" tIns="3960" bIns="3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900" spc="-1" strike="noStrike">
                  <a:solidFill>
                    <a:srgbClr val="221304"/>
                  </a:solidFill>
                  <a:latin typeface="Tahoma"/>
                </a:rPr>
                <a:t>U kontekstu praktičnih aktivnosti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_s72739"/>
            <p:cNvSpPr/>
            <p:nvPr/>
          </p:nvSpPr>
          <p:spPr>
            <a:xfrm>
              <a:off x="1384200" y="3997440"/>
              <a:ext cx="1705320" cy="742320"/>
            </a:xfrm>
            <a:prstGeom prst="roundRect">
              <a:avLst>
                <a:gd name="adj" fmla="val 16667"/>
              </a:avLst>
            </a:prstGeom>
            <a:solidFill>
              <a:srgbClr val="a1bd6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560" rIns="7560" tIns="3960" bIns="3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800" spc="-1" strike="noStrike">
                  <a:solidFill>
                    <a:srgbClr val="221304"/>
                  </a:solidFill>
                  <a:latin typeface="Tahoma"/>
                </a:rPr>
                <a:t>Fizički sve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_s72741"/>
            <p:cNvSpPr/>
            <p:nvPr/>
          </p:nvSpPr>
          <p:spPr>
            <a:xfrm>
              <a:off x="4759200" y="3483360"/>
              <a:ext cx="1987920" cy="339480"/>
            </a:xfrm>
            <a:prstGeom prst="roundRect">
              <a:avLst>
                <a:gd name="adj" fmla="val 16667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560" rIns="7560" tIns="3960" bIns="3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900" spc="-1" strike="noStrike">
                  <a:solidFill>
                    <a:srgbClr val="221304"/>
                  </a:solidFill>
                  <a:latin typeface="Tahoma"/>
                </a:rPr>
                <a:t>U svojoj raznovrsnosti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_s72754"/>
            <p:cNvSpPr/>
            <p:nvPr/>
          </p:nvSpPr>
          <p:spPr>
            <a:xfrm>
              <a:off x="3142080" y="3997440"/>
              <a:ext cx="1705320" cy="742320"/>
            </a:xfrm>
            <a:prstGeom prst="roundRect">
              <a:avLst>
                <a:gd name="adj" fmla="val 16667"/>
              </a:avLst>
            </a:prstGeom>
            <a:solidFill>
              <a:srgbClr val="a1bd6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2600" rIns="12600" tIns="6480" bIns="6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800" spc="-1" strike="noStrike">
                  <a:solidFill>
                    <a:srgbClr val="221304"/>
                  </a:solidFill>
                  <a:latin typeface="Tahoma"/>
                </a:rPr>
                <a:t>Društveni sve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_s72758"/>
            <p:cNvSpPr/>
            <p:nvPr/>
          </p:nvSpPr>
          <p:spPr>
            <a:xfrm>
              <a:off x="2236680" y="4913640"/>
              <a:ext cx="1145880" cy="616320"/>
            </a:xfrm>
            <a:prstGeom prst="roundRect">
              <a:avLst>
                <a:gd name="adj" fmla="val 16667"/>
              </a:avLst>
            </a:prstGeom>
            <a:solidFill>
              <a:srgbClr val="a1bd6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2960" rIns="12960" tIns="6480" bIns="6480" anchor="ctr">
              <a:noAutofit/>
            </a:bodyPr>
            <a:p>
              <a:pPr algn="ctr">
                <a:lnSpc>
                  <a:spcPct val="100000"/>
                </a:lnSpc>
                <a:buClr>
                  <a:srgbClr val="221304"/>
                </a:buClr>
                <a:buFont typeface="Tahoma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700" spc="-1" strike="noStrike">
                  <a:solidFill>
                    <a:srgbClr val="221304"/>
                  </a:solidFill>
                  <a:latin typeface="Tahoma"/>
                </a:rPr>
                <a:t>Psihologija naroda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buClr>
                  <a:srgbClr val="221304"/>
                </a:buClr>
                <a:buFont typeface="Tahoma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700" spc="-1" strike="noStrike">
                  <a:solidFill>
                    <a:srgbClr val="221304"/>
                  </a:solidFill>
                  <a:latin typeface="Tahoma"/>
                </a:rPr>
                <a:t>Etnološka psihologija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buClr>
                  <a:srgbClr val="221304"/>
                </a:buClr>
                <a:buFont typeface="Tahoma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700" spc="-1" strike="noStrike">
                  <a:solidFill>
                    <a:srgbClr val="221304"/>
                  </a:solidFill>
                  <a:latin typeface="Tahoma"/>
                </a:rPr>
                <a:t>Socijalna psihologija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_s72760"/>
            <p:cNvSpPr/>
            <p:nvPr/>
          </p:nvSpPr>
          <p:spPr>
            <a:xfrm>
              <a:off x="1038240" y="4913640"/>
              <a:ext cx="1145880" cy="616320"/>
            </a:xfrm>
            <a:prstGeom prst="roundRect">
              <a:avLst>
                <a:gd name="adj" fmla="val 16667"/>
              </a:avLst>
            </a:prstGeom>
            <a:solidFill>
              <a:srgbClr val="a1bd6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3680" rIns="13680" tIns="6840" bIns="6840" anchor="ctr">
              <a:noAutofit/>
            </a:bodyPr>
            <a:p>
              <a:pPr algn="ctr">
                <a:lnSpc>
                  <a:spcPct val="100000"/>
                </a:lnSpc>
                <a:buClr>
                  <a:srgbClr val="221304"/>
                </a:buClr>
                <a:buFont typeface="Tahoma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700" spc="-1" strike="noStrike">
                  <a:solidFill>
                    <a:srgbClr val="221304"/>
                  </a:solidFill>
                  <a:latin typeface="Tahoma"/>
                </a:rPr>
                <a:t>Psihofizika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buClr>
                  <a:srgbClr val="221304"/>
                </a:buClr>
                <a:buFont typeface="Tahoma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700" spc="-1" strike="noStrike">
                  <a:solidFill>
                    <a:srgbClr val="221304"/>
                  </a:solidFill>
                  <a:latin typeface="Tahoma"/>
                </a:rPr>
                <a:t>Fiziološka psihologija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buClr>
                  <a:srgbClr val="221304"/>
                </a:buClr>
                <a:buFont typeface="Tahoma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700" spc="-1" strike="noStrike">
                  <a:solidFill>
                    <a:srgbClr val="221304"/>
                  </a:solidFill>
                  <a:latin typeface="Tahoma"/>
                </a:rPr>
                <a:t>Biološka psihologija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_s72764"/>
            <p:cNvSpPr/>
            <p:nvPr/>
          </p:nvSpPr>
          <p:spPr>
            <a:xfrm>
              <a:off x="4900320" y="3997440"/>
              <a:ext cx="1705320" cy="742320"/>
            </a:xfrm>
            <a:prstGeom prst="roundRect">
              <a:avLst>
                <a:gd name="adj" fmla="val 16667"/>
              </a:avLst>
            </a:prstGeom>
            <a:solidFill>
              <a:srgbClr val="a1bd6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7280" rIns="17280" tIns="8640" bIns="8640" anchor="ctr">
              <a:noAutofit/>
            </a:bodyPr>
            <a:p>
              <a:pPr algn="ctr">
                <a:lnSpc>
                  <a:spcPct val="100000"/>
                </a:lnSpc>
                <a:buClr>
                  <a:srgbClr val="221304"/>
                </a:buClr>
                <a:buFont typeface="Tahoma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700" spc="-1" strike="noStrike">
                  <a:solidFill>
                    <a:srgbClr val="221304"/>
                  </a:solidFill>
                  <a:latin typeface="Tahoma"/>
                </a:rPr>
                <a:t>Diferencijalna psihologija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buClr>
                  <a:srgbClr val="221304"/>
                </a:buClr>
                <a:buFont typeface="Tahoma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700" spc="-1" strike="noStrike">
                  <a:solidFill>
                    <a:srgbClr val="221304"/>
                  </a:solidFill>
                  <a:latin typeface="Tahoma"/>
                </a:rPr>
                <a:t>Genetička psihologija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buClr>
                  <a:srgbClr val="221304"/>
                </a:buClr>
                <a:buFont typeface="Tahoma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700" spc="-1" strike="noStrike">
                  <a:solidFill>
                    <a:srgbClr val="221304"/>
                  </a:solidFill>
                  <a:latin typeface="Tahoma"/>
                </a:rPr>
                <a:t>Psihologija pojedinih razvojnih stadijuma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buClr>
                  <a:srgbClr val="221304"/>
                </a:buClr>
                <a:buFont typeface="Tahoma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700" spc="-1" strike="noStrike">
                  <a:solidFill>
                    <a:srgbClr val="221304"/>
                  </a:solidFill>
                  <a:latin typeface="Tahoma"/>
                </a:rPr>
                <a:t>Psihopatologija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buClr>
                  <a:srgbClr val="221304"/>
                </a:buClr>
                <a:buFont typeface="Tahoma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700" spc="-1" strike="noStrike">
                  <a:solidFill>
                    <a:srgbClr val="221304"/>
                  </a:solidFill>
                  <a:latin typeface="Tahoma"/>
                </a:rPr>
                <a:t>zoopsihologija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_s72766"/>
            <p:cNvSpPr/>
            <p:nvPr/>
          </p:nvSpPr>
          <p:spPr>
            <a:xfrm>
              <a:off x="6941160" y="3997440"/>
              <a:ext cx="1705320" cy="742320"/>
            </a:xfrm>
            <a:prstGeom prst="roundRect">
              <a:avLst>
                <a:gd name="adj" fmla="val 16667"/>
              </a:avLst>
            </a:prstGeom>
            <a:solidFill>
              <a:srgbClr val="a1bd6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2680" rIns="22680" tIns="11160" bIns="11160" anchor="ctr">
              <a:noAutofit/>
            </a:bodyPr>
            <a:p>
              <a:pPr algn="ctr">
                <a:lnSpc>
                  <a:spcPct val="100000"/>
                </a:lnSpc>
                <a:buClr>
                  <a:srgbClr val="221304"/>
                </a:buClr>
                <a:buFont typeface="Tahoma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700" spc="-1" strike="noStrike">
                  <a:solidFill>
                    <a:srgbClr val="221304"/>
                  </a:solidFill>
                  <a:latin typeface="Tahoma"/>
                </a:rPr>
                <a:t>Pedagoška psihologija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buClr>
                  <a:srgbClr val="221304"/>
                </a:buClr>
                <a:buFont typeface="Tahoma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700" spc="-1" strike="noStrike">
                  <a:solidFill>
                    <a:srgbClr val="221304"/>
                  </a:solidFill>
                  <a:latin typeface="Tahoma"/>
                </a:rPr>
                <a:t>Sudska psihologija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buClr>
                  <a:srgbClr val="221304"/>
                </a:buClr>
                <a:buFont typeface="Tahoma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700" spc="-1" strike="noStrike">
                  <a:solidFill>
                    <a:srgbClr val="221304"/>
                  </a:solidFill>
                  <a:latin typeface="Tahoma"/>
                </a:rPr>
                <a:t>Medicinska psihologija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buClr>
                  <a:srgbClr val="221304"/>
                </a:buClr>
                <a:buFont typeface="Tahoma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700" spc="-1" strike="noStrike">
                  <a:solidFill>
                    <a:srgbClr val="221304"/>
                  </a:solidFill>
                  <a:latin typeface="Tahoma"/>
                </a:rPr>
                <a:t>Vojna psihologija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buClr>
                  <a:srgbClr val="221304"/>
                </a:buClr>
                <a:buFont typeface="Tahoma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700" spc="-1" strike="noStrike">
                  <a:solidFill>
                    <a:srgbClr val="221304"/>
                  </a:solidFill>
                  <a:latin typeface="Tahoma"/>
                </a:rPr>
                <a:t>Psihologija sporta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buClr>
                  <a:srgbClr val="221304"/>
                </a:buClr>
                <a:buFont typeface="Tahoma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700" spc="-1" strike="noStrike">
                  <a:solidFill>
                    <a:srgbClr val="221304"/>
                  </a:solidFill>
                  <a:latin typeface="Tahoma"/>
                </a:rPr>
                <a:t>Psihlogija rada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221304"/>
                </a:solidFill>
                <a:latin typeface="Tahoma"/>
              </a:rPr>
              <a:t>PSIHOLOGIJA RADA I ORGANIZACIJ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2822400" y="1752480"/>
            <a:ext cx="41086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4040" y="15998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221304"/>
                </a:solidFill>
                <a:latin typeface="Tahoma"/>
              </a:rPr>
              <a:t>RAD JE LJUDSKA SVESNA, SVRSISHODNA DELATNOST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1523880" y="289512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Tahoma"/>
              </a:rPr>
              <a:t>KOJOM LJUDI MENJAJU PREDMETE NAĐENE U PRIRODI I PRILAGOĐAVAJU IH UPOTREBI I ZADOVOLJAVANJU NEKIH OD SVOJIH BROJNIH I RAZNOVRSNIH POTREB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8T08:51:04Z</dcterms:created>
  <dc:creator>IVANA</dc:creator>
  <dc:description/>
  <dc:language>en-US</dc:language>
  <cp:lastModifiedBy>Ognjen</cp:lastModifiedBy>
  <dcterms:modified xsi:type="dcterms:W3CDTF">2005-10-12T10:35:34Z</dcterms:modified>
  <cp:revision>58</cp:revision>
  <dc:subject/>
  <dc:title>OSNOVI PSIHOLOGIJE KAO NAUKE</dc:title>
</cp:coreProperties>
</file>