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jpeg" ContentType="image/jpeg"/>
  <Override PartName="/ppt/media/image3.wmf" ContentType="image/x-wmf"/>
  <Override PartName="/ppt/media/image4.png" ContentType="image/pn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F66-CDF6-460B-AD5C-F8BE2EF3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EA0-EA17-47B9-A918-B3579799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8CF-751B-406B-933F-E3FDE6C3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8A1-FC93-4B7D-B97F-E0CDD362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78D9-3DB0-4F19-8836-A61E57D1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2EBF-FBE1-472F-9A6A-517F5A3F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A936-F8AD-40E5-A548-04966408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84C1-05D8-491F-8F57-7911CA88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235D-ECF6-41CC-9F68-36FED572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ACD4-0B11-4BDC-B103-1AFF2914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D2A7-DA6D-463F-86CC-8D2ED79F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EEA3-B3F8-4141-BE97-61A9DCAE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B4D5-1F34-4461-A709-53C86A3F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0C53-12FF-4429-B17C-5D90CF52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255B-C9AE-4459-9E18-64C6B939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B3BA-26B2-4201-B98A-A5B63D76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DE43-8043-4160-9212-2CADB177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12C8-9994-42DE-A197-BC9DA11B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3B4-D976-4338-8D7B-5E32F07C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F328-C94B-4B9D-BD1B-4CDCE615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DFD2-6CBB-43EC-9339-4F1C5FFD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CD2-BAEF-4DC0-9038-25C73220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5F3B-3BB1-43C6-AD40-B475F862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3544-AC07-4F47-BAFB-38E857F9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01E7-D746-48A9-9390-BFCDF8C1A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3B0C-6913-44E1-A4C9-746CC9B16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206028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221304"/>
                </a:solidFill>
                <a:latin typeface="Tahoma"/>
              </a:rPr>
              <a:t>RADNA ADAPTACIJA</a:t>
            </a:r>
            <a:br>
              <a:rPr sz="4400"/>
            </a:b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- prilagođavanje radnika radu </a:t>
            </a:r>
            <a:br>
              <a:rPr sz="3200"/>
            </a:b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i rada radniku -</a:t>
            </a:r>
            <a:r>
              <a:rPr b="1" lang="sl-SI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4365360"/>
            <a:ext cx="640080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CILJ: OSTVARITI OPTIMALNI ODNOS ČOVEKA I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61760" y="89532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01.11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RILAGOĐAVANJE RADNIKA RADU</a:t>
            </a:r>
            <a:br>
              <a:rPr sz="3200"/>
            </a:br>
            <a:r>
              <a:rPr b="0" lang="sl-SI" sz="2000" spc="-1" strike="noStrike">
                <a:solidFill>
                  <a:srgbClr val="221304"/>
                </a:solidFill>
                <a:latin typeface="Tahoma"/>
              </a:rPr>
              <a:t>- dinamički proces prilagođavanja i usklađivanja čoveka i rada, radne grupe i organizacije -</a:t>
            </a: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ROFESIONALNA ADAPT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oces sticanja i razvijanja profesionalnih, stručnih znanja i veštin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formiran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nekih osobina ličnosti neophodnih za uspešno obavljanje datog posla – PRILAGOĐENOST NA SADRŽAJ POS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RGANIZACIONA ADAPT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KOMPON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Kognitivna: proces komunika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Konativna: aktivna uključenost i doprinos kolektiv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Emotivna: pozitivni stavovi, naklo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Parcijalni pokazatelji organizacione (sociopsihološke) adaptacije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išljenje i zadovoljstvo pojedinca neposrednim rukovodiocem i saradnic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išljenje i zadovoljstvo radnika o odnosima u grupi i organizaci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išljenje i zadovoljstvo radnika svojim sopstvenim položajem i ugledom u grupi i kolektiv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išljenje radnika o tome kako se drugi radnici i rukovodioci odnose i ponašaju prema n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Izolovanost, stalni nesporazumi i sukobi pojedinca sa socijalnom sredinom, pozitivno mišljenje i stavovi radnika o odnosima među ljudima, njegova uključenost u socijalnu sredinu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roblemi prilagođavanja</a:t>
            </a:r>
            <a:br>
              <a:rPr sz="3200"/>
            </a:b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- frustracije i konflikti -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FRUSTR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uzroci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Fizičke prir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Socijalne prir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U samoj lič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KONFLIKTI</a:t>
            </a:r>
            <a:br>
              <a:rPr sz="2800"/>
            </a:br>
            <a:r>
              <a:rPr b="1" lang="sl-SI" sz="2400" spc="-1" strike="noStrike">
                <a:solidFill>
                  <a:srgbClr val="221304"/>
                </a:solidFill>
                <a:latin typeface="Tahoma"/>
              </a:rPr>
              <a:t>- osujećenja koja nastaju u samoj ličnosti -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KONFLIKT DVOSTRUKOG PRIVLAČ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KONFLIKT DVOSTRUKOG ODBIJ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KONFLIKT AMBIVALENT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950000" y="1746360"/>
          <a:ext cx="3781080" cy="43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0000" y="1746360"/>
                    <a:ext cx="378108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Reakcije na frustracije i konflikte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REALISTIČ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Kada postoji napor da se prepreka sav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DBRAMBENI MEHANIZ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Kada se nastoji da se ublaži prepre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Odbrambeni mehanizmi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RACIONALIZACIJA</a:t>
            </a: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potiskivanje pravog razloga ponašanja i pronalaženje “prihvatljivijeg” objašnjenja za ponašanje (“kiselo grožđe”, “sladak limun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IDENTIFIKACIJA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strah ili neuspeh se ublažavaju poistovećivanjem sa drugom osobom ili grup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PROJEKCIJA –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pripisivanje neprihvatljivih sadržaja drugim osob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0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REPRESIJA -  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neprijatni i uznemirujući sadržaji se potiskuju iz svesti i postaju deo nesvesn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REGRESIJA 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– bežanje odnosno spuštanje na niže nivoe ponašanja i način karakterističan za ranije uzra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REAKCIONA FORMACIJA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– najpre se nedozvoljeni sadržaji istiskuju iz svesti, a zatim se manifestuje ponašanje koje je sasvim suprot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SUBLIMACIJA 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– sirovi i neprihvatljivi nagoni se transformišu u socijalno poželjne, prihvatljive i cenjene mo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75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75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75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75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75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75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75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RILAGOĐAVANJE RADA RADNIKU</a:t>
            </a:r>
            <a:br>
              <a:rPr sz="3200"/>
            </a:br>
            <a:r>
              <a:rPr b="1" lang="sl-SI" sz="2000" spc="-1" strike="noStrike">
                <a:solidFill>
                  <a:srgbClr val="221304"/>
                </a:solidFill>
                <a:latin typeface="Tahoma"/>
              </a:rPr>
              <a:t>- polazi se od čoveka i sredstva, uslovi rada, postupci i radna sredina se menjaju prema njegovim karakteristikama -</a:t>
            </a:r>
            <a:r>
              <a:rPr b="1" lang="sl-SI" sz="2400" spc="-1" strike="noStrike">
                <a:solidFill>
                  <a:srgbClr val="221304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METODE TEHNOPSIHOFIZIOLOGIJE 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Sistematsko praćenje operativnog sistema čovek – 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rikupljanje uzoraka radnih za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Eksperimentalno ispitivanje tehničkih uslova na radne efekte i ponašanje rad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Studija pokreta i vre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roučavanje profesionalnih oboljenja i povreda na r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Faktori radne adaptacije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Mikroklimatski uslovi rada (vlažnost, osvetljenje, toplota, isparenja, buka, vibracije t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Uređenje radnog ambij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pšte karakteristike rada čove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roblemi zamora u r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dmor i značaj odmar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Monotonija u r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08:51:04Z</dcterms:created>
  <dc:creator>IVANA</dc:creator>
  <dc:description/>
  <dc:language>en-US</dc:language>
  <cp:lastModifiedBy>Ivana</cp:lastModifiedBy>
  <dcterms:modified xsi:type="dcterms:W3CDTF">2005-10-11T16:39:35Z</dcterms:modified>
  <cp:revision>58</cp:revision>
  <dc:subject/>
  <dc:title>OSNOVI PSIHOLOGIJE KAO NAUKE</dc:title>
</cp:coreProperties>
</file>