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487-00DC-4961-AB38-0115D1E1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33B-C124-4C4E-956B-894ED14A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62C-4E30-4696-BE26-A0DC4342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B26-EB4A-4659-AD25-5EF66922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80D3-2023-4741-833D-03B6EF79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8D53-6D24-4CB5-B765-90C4038D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B0D8-95DD-4CE5-86F3-E6423F16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1D45-15D9-4D0C-86D1-B66561F6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85FF-0491-4735-AE05-0C477CF4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E24A-CCC3-4202-953C-98BD837A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D5A5-6AFB-4FC1-A005-2CE9680A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D9B-85E2-4085-8C5E-AC3A9A4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8555-F1D1-4190-A86B-79D209C9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F8D7-FED0-4336-8992-E274AA08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1ECA-81E8-4FEF-ADE1-39355C72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1D0-CDEE-4CE0-A5BA-823371A2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50EE-ECDF-4506-BF2C-60D716B9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47A-446F-4698-9460-4FBBB509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5C9-6B6E-4220-96C6-E5835C9E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E2C-181B-4F9A-B85E-83F5620C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9F4-0F89-49AB-9C97-02996A5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D6D-0CFA-4E07-8613-8EF543B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0FF-524B-4DBB-8B62-8579148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510-BAFC-4014-989B-338C4133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0C73-A644-4951-870B-2085EA8F19E6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E11-E8C2-40AB-8DC1-47A8A61EB186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3024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99"/>
                </a:solidFill>
                <a:latin typeface="Tahoma"/>
              </a:rPr>
              <a:t>IZBOR ODGOVARAJUĆE VRSTE SREDSTAVA ZA RAD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REDSTVA ZA PROIZVODNJ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PREMA STEPENU MEHANIZACIJE I AUTOMATIZACI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niverzal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Mehan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Automatizovana sredstva za proizvodn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leksibilni proizvodni sistem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visnost između produktivnosti (proizvodnosti) i asortimana proizvodnje po vrstama sredstava za proizvodnj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3357720"/>
            <a:ext cx="223920" cy="2447640"/>
          </a:xfrm>
          <a:custGeom>
            <a:avLst/>
            <a:gdLst>
              <a:gd name="textAreaLeft" fmla="*/ 0 w 223920"/>
              <a:gd name="textAreaRight" fmla="*/ 80640 w 22392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221000"/>
            <a:ext cx="142920" cy="649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27320" y="2232000"/>
            <a:ext cx="129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27320" y="204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989000"/>
          <a:ext cx="7704000" cy="4703760"/>
        </p:xfrm>
        <a:graphic>
          <a:graphicData uri="http://schemas.openxmlformats.org/drawingml/2006/table">
            <a:tbl>
              <a:tblPr/>
              <a:tblGrid>
                <a:gridCol w="502920"/>
                <a:gridCol w="1951200"/>
                <a:gridCol w="1720800"/>
                <a:gridCol w="1970280"/>
                <a:gridCol w="1558800"/>
              </a:tblGrid>
              <a:tr h="29052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e vrste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zvedena vrsta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ed. b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ziv i osnovna struk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snovna svoj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NIVERZA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jef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is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zahtevaju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EKSIBILNI PROIZVO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MODU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ĆEL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GRU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SIST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LIN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ihvataju širo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isoko 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aglašen nivo programira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93600">
                        <a:lnSpc>
                          <a:spcPct val="100000"/>
                        </a:lnSpc>
                        <a:buClr>
                          <a:srgbClr val="333399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185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potreba računara u konstrukciji i tehnologiji (CAD, CA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EHAN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o svim kriterijumima su između univerzalnih i automatizovanih sredstava za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UTOMATIZOV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relativno sku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visokoprodukti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uzak asorti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ne zahteva visoko stručne kadr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187280" y="2781360"/>
            <a:ext cx="19447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781360"/>
            <a:ext cx="5029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284640"/>
            <a:ext cx="172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221000"/>
            <a:ext cx="502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221000"/>
            <a:ext cx="1944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4221000"/>
            <a:ext cx="1727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516640"/>
            <a:ext cx="5029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516640"/>
            <a:ext cx="1944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51664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149720"/>
            <a:ext cx="1297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5157720"/>
            <a:ext cx="115092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284640"/>
            <a:ext cx="1440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3860640"/>
            <a:ext cx="1440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4365720"/>
            <a:ext cx="144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4869000"/>
            <a:ext cx="14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8136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716280"/>
            <a:ext cx="1727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734080"/>
            <a:ext cx="172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5950080"/>
            <a:ext cx="172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6237360"/>
            <a:ext cx="17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4174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1989000"/>
            <a:ext cx="3529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276640"/>
            <a:ext cx="770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3068640"/>
            <a:ext cx="172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97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produktivnosti i asortimana proizvodnje po vrstama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84080" y="6041880"/>
            <a:ext cx="6980400" cy="95400"/>
            <a:chOff x="784080" y="6041880"/>
            <a:chExt cx="6980400" cy="95400"/>
          </a:xfrm>
        </p:grpSpPr>
        <p:sp>
          <p:nvSpPr>
            <p:cNvPr id="136" name=""/>
            <p:cNvSpPr/>
            <p:nvPr/>
          </p:nvSpPr>
          <p:spPr>
            <a:xfrm>
              <a:off x="784080" y="6089760"/>
              <a:ext cx="681840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88080" y="6041880"/>
              <a:ext cx="176400" cy="9540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0" y="0"/>
                  </a:moveTo>
                  <a:lnTo>
                    <a:pt x="223" y="6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36600" y="3086280"/>
            <a:ext cx="3918240" cy="1617480"/>
          </a:xfrm>
          <a:custGeom>
            <a:avLst/>
            <a:gdLst/>
            <a:ahLst/>
            <a:rect l="l" t="t" r="r" b="b"/>
            <a:pathLst>
              <a:path w="4936" h="2038">
                <a:moveTo>
                  <a:pt x="0" y="0"/>
                </a:moveTo>
                <a:lnTo>
                  <a:pt x="25" y="96"/>
                </a:lnTo>
                <a:lnTo>
                  <a:pt x="55" y="187"/>
                </a:lnTo>
                <a:lnTo>
                  <a:pt x="90" y="279"/>
                </a:lnTo>
                <a:lnTo>
                  <a:pt x="134" y="366"/>
                </a:lnTo>
                <a:lnTo>
                  <a:pt x="182" y="452"/>
                </a:lnTo>
                <a:lnTo>
                  <a:pt x="237" y="537"/>
                </a:lnTo>
                <a:lnTo>
                  <a:pt x="297" y="618"/>
                </a:lnTo>
                <a:lnTo>
                  <a:pt x="364" y="697"/>
                </a:lnTo>
                <a:lnTo>
                  <a:pt x="437" y="774"/>
                </a:lnTo>
                <a:lnTo>
                  <a:pt x="516" y="850"/>
                </a:lnTo>
                <a:lnTo>
                  <a:pt x="601" y="922"/>
                </a:lnTo>
                <a:lnTo>
                  <a:pt x="693" y="994"/>
                </a:lnTo>
                <a:lnTo>
                  <a:pt x="790" y="1061"/>
                </a:lnTo>
                <a:lnTo>
                  <a:pt x="892" y="1127"/>
                </a:lnTo>
                <a:lnTo>
                  <a:pt x="1002" y="1191"/>
                </a:lnTo>
                <a:lnTo>
                  <a:pt x="1117" y="1253"/>
                </a:lnTo>
                <a:lnTo>
                  <a:pt x="1239" y="1313"/>
                </a:lnTo>
                <a:lnTo>
                  <a:pt x="1366" y="1370"/>
                </a:lnTo>
                <a:lnTo>
                  <a:pt x="1498" y="1425"/>
                </a:lnTo>
                <a:lnTo>
                  <a:pt x="1638" y="1478"/>
                </a:lnTo>
                <a:lnTo>
                  <a:pt x="1783" y="1528"/>
                </a:lnTo>
                <a:lnTo>
                  <a:pt x="1935" y="1577"/>
                </a:lnTo>
                <a:lnTo>
                  <a:pt x="2094" y="1622"/>
                </a:lnTo>
                <a:lnTo>
                  <a:pt x="2256" y="1667"/>
                </a:lnTo>
                <a:lnTo>
                  <a:pt x="2426" y="1708"/>
                </a:lnTo>
                <a:lnTo>
                  <a:pt x="2602" y="1748"/>
                </a:lnTo>
                <a:lnTo>
                  <a:pt x="2784" y="1786"/>
                </a:lnTo>
                <a:lnTo>
                  <a:pt x="2972" y="1821"/>
                </a:lnTo>
                <a:lnTo>
                  <a:pt x="3166" y="1854"/>
                </a:lnTo>
                <a:lnTo>
                  <a:pt x="3366" y="1884"/>
                </a:lnTo>
                <a:lnTo>
                  <a:pt x="3572" y="1913"/>
                </a:lnTo>
                <a:lnTo>
                  <a:pt x="3784" y="1939"/>
                </a:lnTo>
                <a:lnTo>
                  <a:pt x="4002" y="1963"/>
                </a:lnTo>
                <a:lnTo>
                  <a:pt x="4226" y="1985"/>
                </a:lnTo>
                <a:lnTo>
                  <a:pt x="4457" y="2005"/>
                </a:lnTo>
                <a:lnTo>
                  <a:pt x="4694" y="2022"/>
                </a:lnTo>
                <a:lnTo>
                  <a:pt x="4936" y="2038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3193920"/>
            <a:ext cx="4172040" cy="898560"/>
          </a:xfrm>
          <a:custGeom>
            <a:avLst/>
            <a:gdLst/>
            <a:ahLst/>
            <a:rect l="l" t="t" r="r" b="b"/>
            <a:pathLst>
              <a:path w="5258" h="1131">
                <a:moveTo>
                  <a:pt x="20" y="3"/>
                </a:moveTo>
                <a:lnTo>
                  <a:pt x="166" y="94"/>
                </a:lnTo>
                <a:lnTo>
                  <a:pt x="306" y="176"/>
                </a:lnTo>
                <a:lnTo>
                  <a:pt x="309" y="177"/>
                </a:lnTo>
                <a:lnTo>
                  <a:pt x="311" y="182"/>
                </a:lnTo>
                <a:lnTo>
                  <a:pt x="311" y="183"/>
                </a:lnTo>
                <a:lnTo>
                  <a:pt x="311" y="186"/>
                </a:lnTo>
                <a:lnTo>
                  <a:pt x="311" y="187"/>
                </a:lnTo>
                <a:lnTo>
                  <a:pt x="309" y="189"/>
                </a:lnTo>
                <a:lnTo>
                  <a:pt x="306" y="192"/>
                </a:lnTo>
                <a:lnTo>
                  <a:pt x="302" y="193"/>
                </a:lnTo>
                <a:lnTo>
                  <a:pt x="299" y="193"/>
                </a:lnTo>
                <a:lnTo>
                  <a:pt x="297" y="193"/>
                </a:lnTo>
                <a:lnTo>
                  <a:pt x="295" y="192"/>
                </a:lnTo>
                <a:lnTo>
                  <a:pt x="294" y="192"/>
                </a:lnTo>
                <a:lnTo>
                  <a:pt x="152" y="109"/>
                </a:lnTo>
                <a:lnTo>
                  <a:pt x="4" y="17"/>
                </a:lnTo>
                <a:lnTo>
                  <a:pt x="0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4"/>
                </a:lnTo>
                <a:lnTo>
                  <a:pt x="6" y="1"/>
                </a:lnTo>
                <a:lnTo>
                  <a:pt x="9" y="0"/>
                </a:lnTo>
                <a:lnTo>
                  <a:pt x="13" y="0"/>
                </a:lnTo>
                <a:lnTo>
                  <a:pt x="14" y="0"/>
                </a:lnTo>
                <a:lnTo>
                  <a:pt x="16" y="1"/>
                </a:lnTo>
                <a:lnTo>
                  <a:pt x="20" y="3"/>
                </a:lnTo>
                <a:lnTo>
                  <a:pt x="20" y="3"/>
                </a:lnTo>
                <a:close/>
                <a:moveTo>
                  <a:pt x="486" y="272"/>
                </a:moveTo>
                <a:lnTo>
                  <a:pt x="631" y="345"/>
                </a:lnTo>
                <a:lnTo>
                  <a:pt x="794" y="419"/>
                </a:lnTo>
                <a:lnTo>
                  <a:pt x="794" y="419"/>
                </a:lnTo>
                <a:lnTo>
                  <a:pt x="794" y="419"/>
                </a:lnTo>
                <a:lnTo>
                  <a:pt x="797" y="422"/>
                </a:lnTo>
                <a:lnTo>
                  <a:pt x="799" y="425"/>
                </a:lnTo>
                <a:lnTo>
                  <a:pt x="799" y="428"/>
                </a:lnTo>
                <a:lnTo>
                  <a:pt x="799" y="429"/>
                </a:lnTo>
                <a:lnTo>
                  <a:pt x="799" y="431"/>
                </a:lnTo>
                <a:lnTo>
                  <a:pt x="799" y="434"/>
                </a:lnTo>
                <a:lnTo>
                  <a:pt x="795" y="437"/>
                </a:lnTo>
                <a:lnTo>
                  <a:pt x="792" y="438"/>
                </a:lnTo>
                <a:lnTo>
                  <a:pt x="788" y="438"/>
                </a:lnTo>
                <a:lnTo>
                  <a:pt x="786" y="438"/>
                </a:lnTo>
                <a:lnTo>
                  <a:pt x="785" y="438"/>
                </a:lnTo>
                <a:lnTo>
                  <a:pt x="781" y="437"/>
                </a:lnTo>
                <a:lnTo>
                  <a:pt x="781" y="437"/>
                </a:lnTo>
                <a:lnTo>
                  <a:pt x="619" y="361"/>
                </a:lnTo>
                <a:lnTo>
                  <a:pt x="472" y="288"/>
                </a:lnTo>
                <a:lnTo>
                  <a:pt x="468" y="285"/>
                </a:lnTo>
                <a:lnTo>
                  <a:pt x="467" y="282"/>
                </a:lnTo>
                <a:lnTo>
                  <a:pt x="467" y="280"/>
                </a:lnTo>
                <a:lnTo>
                  <a:pt x="467" y="279"/>
                </a:lnTo>
                <a:lnTo>
                  <a:pt x="468" y="276"/>
                </a:lnTo>
                <a:lnTo>
                  <a:pt x="468" y="275"/>
                </a:lnTo>
                <a:lnTo>
                  <a:pt x="472" y="272"/>
                </a:lnTo>
                <a:lnTo>
                  <a:pt x="476" y="270"/>
                </a:lnTo>
                <a:lnTo>
                  <a:pt x="479" y="270"/>
                </a:lnTo>
                <a:lnTo>
                  <a:pt x="481" y="270"/>
                </a:lnTo>
                <a:lnTo>
                  <a:pt x="483" y="270"/>
                </a:lnTo>
                <a:lnTo>
                  <a:pt x="486" y="272"/>
                </a:lnTo>
                <a:lnTo>
                  <a:pt x="486" y="272"/>
                </a:lnTo>
                <a:close/>
                <a:moveTo>
                  <a:pt x="984" y="501"/>
                </a:moveTo>
                <a:lnTo>
                  <a:pt x="1131" y="560"/>
                </a:lnTo>
                <a:lnTo>
                  <a:pt x="1306" y="624"/>
                </a:lnTo>
                <a:lnTo>
                  <a:pt x="1308" y="624"/>
                </a:lnTo>
                <a:lnTo>
                  <a:pt x="1311" y="626"/>
                </a:lnTo>
                <a:lnTo>
                  <a:pt x="1315" y="630"/>
                </a:lnTo>
                <a:lnTo>
                  <a:pt x="1315" y="631"/>
                </a:lnTo>
                <a:lnTo>
                  <a:pt x="1315" y="633"/>
                </a:lnTo>
                <a:lnTo>
                  <a:pt x="1315" y="634"/>
                </a:lnTo>
                <a:lnTo>
                  <a:pt x="1315" y="637"/>
                </a:lnTo>
                <a:lnTo>
                  <a:pt x="1311" y="640"/>
                </a:lnTo>
                <a:lnTo>
                  <a:pt x="1308" y="641"/>
                </a:lnTo>
                <a:lnTo>
                  <a:pt x="1306" y="643"/>
                </a:lnTo>
                <a:lnTo>
                  <a:pt x="1304" y="643"/>
                </a:lnTo>
                <a:lnTo>
                  <a:pt x="1301" y="643"/>
                </a:lnTo>
                <a:lnTo>
                  <a:pt x="1299" y="643"/>
                </a:lnTo>
                <a:lnTo>
                  <a:pt x="1297" y="641"/>
                </a:lnTo>
                <a:lnTo>
                  <a:pt x="1120" y="577"/>
                </a:lnTo>
                <a:lnTo>
                  <a:pt x="974" y="518"/>
                </a:lnTo>
                <a:lnTo>
                  <a:pt x="968" y="517"/>
                </a:lnTo>
                <a:lnTo>
                  <a:pt x="967" y="512"/>
                </a:lnTo>
                <a:lnTo>
                  <a:pt x="967" y="511"/>
                </a:lnTo>
                <a:lnTo>
                  <a:pt x="967" y="510"/>
                </a:lnTo>
                <a:lnTo>
                  <a:pt x="967" y="507"/>
                </a:lnTo>
                <a:lnTo>
                  <a:pt x="967" y="505"/>
                </a:lnTo>
                <a:lnTo>
                  <a:pt x="970" y="502"/>
                </a:lnTo>
                <a:lnTo>
                  <a:pt x="974" y="501"/>
                </a:lnTo>
                <a:lnTo>
                  <a:pt x="977" y="500"/>
                </a:lnTo>
                <a:lnTo>
                  <a:pt x="979" y="500"/>
                </a:lnTo>
                <a:lnTo>
                  <a:pt x="981" y="501"/>
                </a:lnTo>
                <a:lnTo>
                  <a:pt x="984" y="501"/>
                </a:lnTo>
                <a:lnTo>
                  <a:pt x="984" y="501"/>
                </a:lnTo>
                <a:close/>
                <a:moveTo>
                  <a:pt x="1507" y="690"/>
                </a:moveTo>
                <a:lnTo>
                  <a:pt x="1668" y="740"/>
                </a:lnTo>
                <a:lnTo>
                  <a:pt x="1845" y="789"/>
                </a:lnTo>
                <a:lnTo>
                  <a:pt x="1848" y="790"/>
                </a:lnTo>
                <a:lnTo>
                  <a:pt x="1852" y="793"/>
                </a:lnTo>
                <a:lnTo>
                  <a:pt x="1852" y="796"/>
                </a:lnTo>
                <a:lnTo>
                  <a:pt x="1852" y="797"/>
                </a:lnTo>
                <a:lnTo>
                  <a:pt x="1852" y="799"/>
                </a:lnTo>
                <a:lnTo>
                  <a:pt x="1852" y="802"/>
                </a:lnTo>
                <a:lnTo>
                  <a:pt x="1850" y="805"/>
                </a:lnTo>
                <a:lnTo>
                  <a:pt x="1845" y="806"/>
                </a:lnTo>
                <a:lnTo>
                  <a:pt x="1843" y="807"/>
                </a:lnTo>
                <a:lnTo>
                  <a:pt x="1841" y="807"/>
                </a:lnTo>
                <a:lnTo>
                  <a:pt x="1839" y="807"/>
                </a:lnTo>
                <a:lnTo>
                  <a:pt x="1836" y="807"/>
                </a:lnTo>
                <a:lnTo>
                  <a:pt x="1659" y="757"/>
                </a:lnTo>
                <a:lnTo>
                  <a:pt x="1498" y="709"/>
                </a:lnTo>
                <a:lnTo>
                  <a:pt x="1497" y="707"/>
                </a:lnTo>
                <a:lnTo>
                  <a:pt x="1495" y="706"/>
                </a:lnTo>
                <a:lnTo>
                  <a:pt x="1491" y="703"/>
                </a:lnTo>
                <a:lnTo>
                  <a:pt x="1491" y="701"/>
                </a:lnTo>
                <a:lnTo>
                  <a:pt x="1491" y="700"/>
                </a:lnTo>
                <a:lnTo>
                  <a:pt x="1491" y="697"/>
                </a:lnTo>
                <a:lnTo>
                  <a:pt x="1491" y="696"/>
                </a:lnTo>
                <a:lnTo>
                  <a:pt x="1493" y="694"/>
                </a:lnTo>
                <a:lnTo>
                  <a:pt x="1493" y="693"/>
                </a:lnTo>
                <a:lnTo>
                  <a:pt x="1498" y="690"/>
                </a:lnTo>
                <a:lnTo>
                  <a:pt x="1500" y="690"/>
                </a:lnTo>
                <a:lnTo>
                  <a:pt x="1502" y="690"/>
                </a:lnTo>
                <a:lnTo>
                  <a:pt x="1504" y="690"/>
                </a:lnTo>
                <a:lnTo>
                  <a:pt x="1507" y="690"/>
                </a:lnTo>
                <a:lnTo>
                  <a:pt x="1507" y="690"/>
                </a:lnTo>
                <a:close/>
                <a:moveTo>
                  <a:pt x="2050" y="840"/>
                </a:moveTo>
                <a:lnTo>
                  <a:pt x="2240" y="885"/>
                </a:lnTo>
                <a:lnTo>
                  <a:pt x="2396" y="915"/>
                </a:lnTo>
                <a:lnTo>
                  <a:pt x="2399" y="918"/>
                </a:lnTo>
                <a:lnTo>
                  <a:pt x="2403" y="921"/>
                </a:lnTo>
                <a:lnTo>
                  <a:pt x="2405" y="923"/>
                </a:lnTo>
                <a:lnTo>
                  <a:pt x="2405" y="925"/>
                </a:lnTo>
                <a:lnTo>
                  <a:pt x="2405" y="928"/>
                </a:lnTo>
                <a:lnTo>
                  <a:pt x="2403" y="929"/>
                </a:lnTo>
                <a:lnTo>
                  <a:pt x="2403" y="931"/>
                </a:lnTo>
                <a:lnTo>
                  <a:pt x="2399" y="934"/>
                </a:lnTo>
                <a:lnTo>
                  <a:pt x="2396" y="934"/>
                </a:lnTo>
                <a:lnTo>
                  <a:pt x="2394" y="935"/>
                </a:lnTo>
                <a:lnTo>
                  <a:pt x="2392" y="935"/>
                </a:lnTo>
                <a:lnTo>
                  <a:pt x="2391" y="935"/>
                </a:lnTo>
                <a:lnTo>
                  <a:pt x="2235" y="903"/>
                </a:lnTo>
                <a:lnTo>
                  <a:pt x="2043" y="859"/>
                </a:lnTo>
                <a:lnTo>
                  <a:pt x="2041" y="859"/>
                </a:lnTo>
                <a:lnTo>
                  <a:pt x="2039" y="858"/>
                </a:lnTo>
                <a:lnTo>
                  <a:pt x="2035" y="855"/>
                </a:lnTo>
                <a:lnTo>
                  <a:pt x="2034" y="850"/>
                </a:lnTo>
                <a:lnTo>
                  <a:pt x="2034" y="849"/>
                </a:lnTo>
                <a:lnTo>
                  <a:pt x="2034" y="848"/>
                </a:lnTo>
                <a:lnTo>
                  <a:pt x="2035" y="846"/>
                </a:lnTo>
                <a:lnTo>
                  <a:pt x="2037" y="843"/>
                </a:lnTo>
                <a:lnTo>
                  <a:pt x="2041" y="842"/>
                </a:lnTo>
                <a:lnTo>
                  <a:pt x="2043" y="840"/>
                </a:lnTo>
                <a:lnTo>
                  <a:pt x="2044" y="840"/>
                </a:lnTo>
                <a:lnTo>
                  <a:pt x="2046" y="840"/>
                </a:lnTo>
                <a:lnTo>
                  <a:pt x="2050" y="840"/>
                </a:lnTo>
                <a:lnTo>
                  <a:pt x="2050" y="840"/>
                </a:lnTo>
                <a:close/>
                <a:moveTo>
                  <a:pt x="2606" y="954"/>
                </a:moveTo>
                <a:lnTo>
                  <a:pt x="2643" y="961"/>
                </a:lnTo>
                <a:lnTo>
                  <a:pt x="2850" y="994"/>
                </a:lnTo>
                <a:lnTo>
                  <a:pt x="2958" y="1008"/>
                </a:lnTo>
                <a:lnTo>
                  <a:pt x="2959" y="1008"/>
                </a:lnTo>
                <a:lnTo>
                  <a:pt x="2961" y="1009"/>
                </a:lnTo>
                <a:lnTo>
                  <a:pt x="2965" y="1012"/>
                </a:lnTo>
                <a:lnTo>
                  <a:pt x="2967" y="1015"/>
                </a:lnTo>
                <a:lnTo>
                  <a:pt x="2967" y="1017"/>
                </a:lnTo>
                <a:lnTo>
                  <a:pt x="2967" y="1019"/>
                </a:lnTo>
                <a:lnTo>
                  <a:pt x="2967" y="1021"/>
                </a:lnTo>
                <a:lnTo>
                  <a:pt x="2965" y="1022"/>
                </a:lnTo>
                <a:lnTo>
                  <a:pt x="2963" y="1025"/>
                </a:lnTo>
                <a:lnTo>
                  <a:pt x="2958" y="1027"/>
                </a:lnTo>
                <a:lnTo>
                  <a:pt x="2956" y="1027"/>
                </a:lnTo>
                <a:lnTo>
                  <a:pt x="2954" y="1027"/>
                </a:lnTo>
                <a:lnTo>
                  <a:pt x="2846" y="1012"/>
                </a:lnTo>
                <a:lnTo>
                  <a:pt x="2638" y="979"/>
                </a:lnTo>
                <a:lnTo>
                  <a:pt x="2601" y="974"/>
                </a:lnTo>
                <a:lnTo>
                  <a:pt x="2597" y="972"/>
                </a:lnTo>
                <a:lnTo>
                  <a:pt x="2596" y="972"/>
                </a:lnTo>
                <a:lnTo>
                  <a:pt x="2592" y="969"/>
                </a:lnTo>
                <a:lnTo>
                  <a:pt x="2592" y="966"/>
                </a:lnTo>
                <a:lnTo>
                  <a:pt x="2590" y="965"/>
                </a:lnTo>
                <a:lnTo>
                  <a:pt x="2590" y="964"/>
                </a:lnTo>
                <a:lnTo>
                  <a:pt x="2592" y="962"/>
                </a:lnTo>
                <a:lnTo>
                  <a:pt x="2592" y="959"/>
                </a:lnTo>
                <a:lnTo>
                  <a:pt x="2594" y="958"/>
                </a:lnTo>
                <a:lnTo>
                  <a:pt x="2596" y="955"/>
                </a:lnTo>
                <a:lnTo>
                  <a:pt x="2601" y="954"/>
                </a:lnTo>
                <a:lnTo>
                  <a:pt x="2603" y="954"/>
                </a:lnTo>
                <a:lnTo>
                  <a:pt x="2606" y="954"/>
                </a:lnTo>
                <a:lnTo>
                  <a:pt x="2606" y="954"/>
                </a:lnTo>
                <a:close/>
                <a:moveTo>
                  <a:pt x="3170" y="1034"/>
                </a:moveTo>
                <a:lnTo>
                  <a:pt x="3277" y="1047"/>
                </a:lnTo>
                <a:lnTo>
                  <a:pt x="3497" y="1067"/>
                </a:lnTo>
                <a:lnTo>
                  <a:pt x="3527" y="1070"/>
                </a:lnTo>
                <a:lnTo>
                  <a:pt x="3528" y="1070"/>
                </a:lnTo>
                <a:lnTo>
                  <a:pt x="3530" y="1071"/>
                </a:lnTo>
                <a:lnTo>
                  <a:pt x="3534" y="1072"/>
                </a:lnTo>
                <a:lnTo>
                  <a:pt x="3535" y="1077"/>
                </a:lnTo>
                <a:lnTo>
                  <a:pt x="3537" y="1078"/>
                </a:lnTo>
                <a:lnTo>
                  <a:pt x="3537" y="1080"/>
                </a:lnTo>
                <a:lnTo>
                  <a:pt x="3535" y="1082"/>
                </a:lnTo>
                <a:lnTo>
                  <a:pt x="3535" y="1084"/>
                </a:lnTo>
                <a:lnTo>
                  <a:pt x="3532" y="1087"/>
                </a:lnTo>
                <a:lnTo>
                  <a:pt x="3528" y="1088"/>
                </a:lnTo>
                <a:lnTo>
                  <a:pt x="3527" y="1088"/>
                </a:lnTo>
                <a:lnTo>
                  <a:pt x="3523" y="1090"/>
                </a:lnTo>
                <a:lnTo>
                  <a:pt x="3493" y="1087"/>
                </a:lnTo>
                <a:lnTo>
                  <a:pt x="3274" y="1065"/>
                </a:lnTo>
                <a:lnTo>
                  <a:pt x="3166" y="1054"/>
                </a:lnTo>
                <a:lnTo>
                  <a:pt x="3164" y="1054"/>
                </a:lnTo>
                <a:lnTo>
                  <a:pt x="3163" y="1052"/>
                </a:lnTo>
                <a:lnTo>
                  <a:pt x="3159" y="1050"/>
                </a:lnTo>
                <a:lnTo>
                  <a:pt x="3157" y="1047"/>
                </a:lnTo>
                <a:lnTo>
                  <a:pt x="3156" y="1045"/>
                </a:lnTo>
                <a:lnTo>
                  <a:pt x="3157" y="1042"/>
                </a:lnTo>
                <a:lnTo>
                  <a:pt x="3157" y="1041"/>
                </a:lnTo>
                <a:lnTo>
                  <a:pt x="3157" y="1039"/>
                </a:lnTo>
                <a:lnTo>
                  <a:pt x="3161" y="1037"/>
                </a:lnTo>
                <a:lnTo>
                  <a:pt x="3164" y="1035"/>
                </a:lnTo>
                <a:lnTo>
                  <a:pt x="3168" y="1034"/>
                </a:lnTo>
                <a:lnTo>
                  <a:pt x="3170" y="1034"/>
                </a:lnTo>
                <a:lnTo>
                  <a:pt x="3170" y="1034"/>
                </a:lnTo>
                <a:close/>
                <a:moveTo>
                  <a:pt x="3740" y="1085"/>
                </a:moveTo>
                <a:lnTo>
                  <a:pt x="3947" y="1097"/>
                </a:lnTo>
                <a:lnTo>
                  <a:pt x="4099" y="1103"/>
                </a:lnTo>
                <a:lnTo>
                  <a:pt x="4101" y="1103"/>
                </a:lnTo>
                <a:lnTo>
                  <a:pt x="4102" y="1104"/>
                </a:lnTo>
                <a:lnTo>
                  <a:pt x="4106" y="1105"/>
                </a:lnTo>
                <a:lnTo>
                  <a:pt x="4110" y="1110"/>
                </a:lnTo>
                <a:lnTo>
                  <a:pt x="4110" y="1111"/>
                </a:lnTo>
                <a:lnTo>
                  <a:pt x="4110" y="1113"/>
                </a:lnTo>
                <a:lnTo>
                  <a:pt x="4110" y="1115"/>
                </a:lnTo>
                <a:lnTo>
                  <a:pt x="4108" y="1117"/>
                </a:lnTo>
                <a:lnTo>
                  <a:pt x="4106" y="1120"/>
                </a:lnTo>
                <a:lnTo>
                  <a:pt x="4102" y="1121"/>
                </a:lnTo>
                <a:lnTo>
                  <a:pt x="4099" y="1123"/>
                </a:lnTo>
                <a:lnTo>
                  <a:pt x="4097" y="1123"/>
                </a:lnTo>
                <a:lnTo>
                  <a:pt x="3945" y="1117"/>
                </a:lnTo>
                <a:lnTo>
                  <a:pt x="3739" y="1104"/>
                </a:lnTo>
                <a:lnTo>
                  <a:pt x="3737" y="1104"/>
                </a:lnTo>
                <a:lnTo>
                  <a:pt x="3733" y="1104"/>
                </a:lnTo>
                <a:lnTo>
                  <a:pt x="3730" y="1101"/>
                </a:lnTo>
                <a:lnTo>
                  <a:pt x="3728" y="1098"/>
                </a:lnTo>
                <a:lnTo>
                  <a:pt x="3728" y="1097"/>
                </a:lnTo>
                <a:lnTo>
                  <a:pt x="3728" y="1094"/>
                </a:lnTo>
                <a:lnTo>
                  <a:pt x="3728" y="1092"/>
                </a:lnTo>
                <a:lnTo>
                  <a:pt x="3728" y="1091"/>
                </a:lnTo>
                <a:lnTo>
                  <a:pt x="3731" y="1088"/>
                </a:lnTo>
                <a:lnTo>
                  <a:pt x="3735" y="1085"/>
                </a:lnTo>
                <a:lnTo>
                  <a:pt x="3737" y="1085"/>
                </a:lnTo>
                <a:lnTo>
                  <a:pt x="3740" y="1085"/>
                </a:lnTo>
                <a:lnTo>
                  <a:pt x="3740" y="1085"/>
                </a:lnTo>
                <a:close/>
                <a:moveTo>
                  <a:pt x="4313" y="1108"/>
                </a:moveTo>
                <a:lnTo>
                  <a:pt x="4413" y="1111"/>
                </a:lnTo>
                <a:lnTo>
                  <a:pt x="4654" y="1113"/>
                </a:lnTo>
                <a:lnTo>
                  <a:pt x="4671" y="1111"/>
                </a:lnTo>
                <a:lnTo>
                  <a:pt x="4673" y="1111"/>
                </a:lnTo>
                <a:lnTo>
                  <a:pt x="4677" y="1113"/>
                </a:lnTo>
                <a:lnTo>
                  <a:pt x="4680" y="1114"/>
                </a:lnTo>
                <a:lnTo>
                  <a:pt x="4682" y="1117"/>
                </a:lnTo>
                <a:lnTo>
                  <a:pt x="4684" y="1120"/>
                </a:lnTo>
                <a:lnTo>
                  <a:pt x="4684" y="1121"/>
                </a:lnTo>
                <a:lnTo>
                  <a:pt x="4684" y="1123"/>
                </a:lnTo>
                <a:lnTo>
                  <a:pt x="4682" y="1125"/>
                </a:lnTo>
                <a:lnTo>
                  <a:pt x="4680" y="1128"/>
                </a:lnTo>
                <a:lnTo>
                  <a:pt x="4677" y="1130"/>
                </a:lnTo>
                <a:lnTo>
                  <a:pt x="4675" y="1131"/>
                </a:lnTo>
                <a:lnTo>
                  <a:pt x="4671" y="1131"/>
                </a:lnTo>
                <a:lnTo>
                  <a:pt x="4654" y="1131"/>
                </a:lnTo>
                <a:lnTo>
                  <a:pt x="4413" y="1130"/>
                </a:lnTo>
                <a:lnTo>
                  <a:pt x="4313" y="1128"/>
                </a:lnTo>
                <a:lnTo>
                  <a:pt x="4309" y="1128"/>
                </a:lnTo>
                <a:lnTo>
                  <a:pt x="4307" y="1127"/>
                </a:lnTo>
                <a:lnTo>
                  <a:pt x="4304" y="1125"/>
                </a:lnTo>
                <a:lnTo>
                  <a:pt x="4302" y="1123"/>
                </a:lnTo>
                <a:lnTo>
                  <a:pt x="4300" y="1120"/>
                </a:lnTo>
                <a:lnTo>
                  <a:pt x="4300" y="1118"/>
                </a:lnTo>
                <a:lnTo>
                  <a:pt x="4300" y="1117"/>
                </a:lnTo>
                <a:lnTo>
                  <a:pt x="4302" y="1114"/>
                </a:lnTo>
                <a:lnTo>
                  <a:pt x="4304" y="1111"/>
                </a:lnTo>
                <a:lnTo>
                  <a:pt x="4309" y="1110"/>
                </a:lnTo>
                <a:lnTo>
                  <a:pt x="4311" y="1108"/>
                </a:lnTo>
                <a:lnTo>
                  <a:pt x="4313" y="1108"/>
                </a:lnTo>
                <a:lnTo>
                  <a:pt x="4313" y="1108"/>
                </a:lnTo>
                <a:close/>
                <a:moveTo>
                  <a:pt x="4887" y="1110"/>
                </a:moveTo>
                <a:lnTo>
                  <a:pt x="4897" y="1108"/>
                </a:lnTo>
                <a:lnTo>
                  <a:pt x="5145" y="1103"/>
                </a:lnTo>
                <a:lnTo>
                  <a:pt x="5246" y="1098"/>
                </a:lnTo>
                <a:lnTo>
                  <a:pt x="5247" y="1098"/>
                </a:lnTo>
                <a:lnTo>
                  <a:pt x="5249" y="1098"/>
                </a:lnTo>
                <a:lnTo>
                  <a:pt x="5254" y="1100"/>
                </a:lnTo>
                <a:lnTo>
                  <a:pt x="5256" y="1103"/>
                </a:lnTo>
                <a:lnTo>
                  <a:pt x="5258" y="1105"/>
                </a:lnTo>
                <a:lnTo>
                  <a:pt x="5258" y="1107"/>
                </a:lnTo>
                <a:lnTo>
                  <a:pt x="5258" y="1108"/>
                </a:lnTo>
                <a:lnTo>
                  <a:pt x="5258" y="1111"/>
                </a:lnTo>
                <a:lnTo>
                  <a:pt x="5254" y="1114"/>
                </a:lnTo>
                <a:lnTo>
                  <a:pt x="5251" y="1117"/>
                </a:lnTo>
                <a:lnTo>
                  <a:pt x="5249" y="1117"/>
                </a:lnTo>
                <a:lnTo>
                  <a:pt x="5247" y="1117"/>
                </a:lnTo>
                <a:lnTo>
                  <a:pt x="5145" y="1121"/>
                </a:lnTo>
                <a:lnTo>
                  <a:pt x="4897" y="1128"/>
                </a:lnTo>
                <a:lnTo>
                  <a:pt x="4887" y="1128"/>
                </a:lnTo>
                <a:lnTo>
                  <a:pt x="4885" y="1128"/>
                </a:lnTo>
                <a:lnTo>
                  <a:pt x="4883" y="1128"/>
                </a:lnTo>
                <a:lnTo>
                  <a:pt x="4878" y="1125"/>
                </a:lnTo>
                <a:lnTo>
                  <a:pt x="4876" y="1123"/>
                </a:lnTo>
                <a:lnTo>
                  <a:pt x="4875" y="1121"/>
                </a:lnTo>
                <a:lnTo>
                  <a:pt x="4875" y="1118"/>
                </a:lnTo>
                <a:lnTo>
                  <a:pt x="4875" y="1117"/>
                </a:lnTo>
                <a:lnTo>
                  <a:pt x="4876" y="1115"/>
                </a:lnTo>
                <a:lnTo>
                  <a:pt x="4878" y="1113"/>
                </a:lnTo>
                <a:lnTo>
                  <a:pt x="4882" y="1110"/>
                </a:lnTo>
                <a:lnTo>
                  <a:pt x="4885" y="1110"/>
                </a:lnTo>
                <a:lnTo>
                  <a:pt x="4887" y="1110"/>
                </a:lnTo>
                <a:lnTo>
                  <a:pt x="4887" y="111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66720" y="3490920"/>
            <a:ext cx="4559400" cy="893880"/>
          </a:xfrm>
          <a:custGeom>
            <a:avLst/>
            <a:gdLst/>
            <a:ahLst/>
            <a:rect l="l" t="t" r="r" b="b"/>
            <a:pathLst>
              <a:path w="5745" h="1127">
                <a:moveTo>
                  <a:pt x="0" y="0"/>
                </a:moveTo>
                <a:lnTo>
                  <a:pt x="177" y="90"/>
                </a:lnTo>
                <a:lnTo>
                  <a:pt x="355" y="176"/>
                </a:lnTo>
                <a:lnTo>
                  <a:pt x="539" y="259"/>
                </a:lnTo>
                <a:lnTo>
                  <a:pt x="728" y="338"/>
                </a:lnTo>
                <a:lnTo>
                  <a:pt x="922" y="412"/>
                </a:lnTo>
                <a:lnTo>
                  <a:pt x="1120" y="484"/>
                </a:lnTo>
                <a:lnTo>
                  <a:pt x="1322" y="552"/>
                </a:lnTo>
                <a:lnTo>
                  <a:pt x="1528" y="615"/>
                </a:lnTo>
                <a:lnTo>
                  <a:pt x="1740" y="676"/>
                </a:lnTo>
                <a:lnTo>
                  <a:pt x="1956" y="731"/>
                </a:lnTo>
                <a:lnTo>
                  <a:pt x="2177" y="784"/>
                </a:lnTo>
                <a:lnTo>
                  <a:pt x="2403" y="833"/>
                </a:lnTo>
                <a:lnTo>
                  <a:pt x="2632" y="879"/>
                </a:lnTo>
                <a:lnTo>
                  <a:pt x="2867" y="920"/>
                </a:lnTo>
                <a:lnTo>
                  <a:pt x="3106" y="958"/>
                </a:lnTo>
                <a:lnTo>
                  <a:pt x="3350" y="992"/>
                </a:lnTo>
                <a:lnTo>
                  <a:pt x="3597" y="1022"/>
                </a:lnTo>
                <a:lnTo>
                  <a:pt x="3850" y="1048"/>
                </a:lnTo>
                <a:lnTo>
                  <a:pt x="4106" y="1071"/>
                </a:lnTo>
                <a:lnTo>
                  <a:pt x="4367" y="1089"/>
                </a:lnTo>
                <a:lnTo>
                  <a:pt x="4634" y="1104"/>
                </a:lnTo>
                <a:lnTo>
                  <a:pt x="4904" y="1115"/>
                </a:lnTo>
                <a:lnTo>
                  <a:pt x="5180" y="1124"/>
                </a:lnTo>
                <a:lnTo>
                  <a:pt x="5461" y="1127"/>
                </a:lnTo>
                <a:lnTo>
                  <a:pt x="5745" y="1127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681360"/>
            <a:ext cx="4773600" cy="671400"/>
          </a:xfrm>
          <a:custGeom>
            <a:avLst/>
            <a:gdLst/>
            <a:ahLst/>
            <a:rect l="l" t="t" r="r" b="b"/>
            <a:pathLst>
              <a:path w="6013" h="847">
                <a:moveTo>
                  <a:pt x="0" y="0"/>
                </a:moveTo>
                <a:lnTo>
                  <a:pt x="247" y="92"/>
                </a:lnTo>
                <a:lnTo>
                  <a:pt x="494" y="176"/>
                </a:lnTo>
                <a:lnTo>
                  <a:pt x="740" y="257"/>
                </a:lnTo>
                <a:lnTo>
                  <a:pt x="985" y="332"/>
                </a:lnTo>
                <a:lnTo>
                  <a:pt x="1231" y="403"/>
                </a:lnTo>
                <a:lnTo>
                  <a:pt x="1475" y="467"/>
                </a:lnTo>
                <a:lnTo>
                  <a:pt x="1719" y="527"/>
                </a:lnTo>
                <a:lnTo>
                  <a:pt x="1962" y="582"/>
                </a:lnTo>
                <a:lnTo>
                  <a:pt x="2206" y="632"/>
                </a:lnTo>
                <a:lnTo>
                  <a:pt x="2448" y="676"/>
                </a:lnTo>
                <a:lnTo>
                  <a:pt x="2690" y="715"/>
                </a:lnTo>
                <a:lnTo>
                  <a:pt x="2931" y="749"/>
                </a:lnTo>
                <a:lnTo>
                  <a:pt x="3171" y="778"/>
                </a:lnTo>
                <a:lnTo>
                  <a:pt x="3411" y="802"/>
                </a:lnTo>
                <a:lnTo>
                  <a:pt x="3651" y="821"/>
                </a:lnTo>
                <a:lnTo>
                  <a:pt x="3890" y="835"/>
                </a:lnTo>
                <a:lnTo>
                  <a:pt x="4128" y="844"/>
                </a:lnTo>
                <a:lnTo>
                  <a:pt x="4365" y="847"/>
                </a:lnTo>
                <a:lnTo>
                  <a:pt x="4602" y="845"/>
                </a:lnTo>
                <a:lnTo>
                  <a:pt x="4839" y="840"/>
                </a:lnTo>
                <a:lnTo>
                  <a:pt x="5075" y="827"/>
                </a:lnTo>
                <a:lnTo>
                  <a:pt x="5310" y="809"/>
                </a:lnTo>
                <a:lnTo>
                  <a:pt x="5545" y="788"/>
                </a:lnTo>
                <a:lnTo>
                  <a:pt x="5778" y="761"/>
                </a:lnTo>
                <a:lnTo>
                  <a:pt x="6013" y="728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091960" y="3111480"/>
            <a:ext cx="50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67040" y="3102120"/>
            <a:ext cx="174600" cy="128520"/>
          </a:xfrm>
          <a:custGeom>
            <a:avLst/>
            <a:gdLst/>
            <a:ahLst/>
            <a:rect l="l" t="t" r="r" b="b"/>
            <a:pathLst>
              <a:path w="219" h="162">
                <a:moveTo>
                  <a:pt x="219" y="91"/>
                </a:moveTo>
                <a:lnTo>
                  <a:pt x="0" y="162"/>
                </a:lnTo>
                <a:lnTo>
                  <a:pt x="124" y="0"/>
                </a:lnTo>
                <a:lnTo>
                  <a:pt x="219" y="91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6480" y="4079880"/>
            <a:ext cx="541440" cy="564840"/>
            <a:chOff x="5316480" y="4079880"/>
            <a:chExt cx="541440" cy="564840"/>
          </a:xfrm>
        </p:grpSpPr>
        <p:sp>
          <p:nvSpPr>
            <p:cNvPr id="145" name=""/>
            <p:cNvSpPr/>
            <p:nvPr/>
          </p:nvSpPr>
          <p:spPr>
            <a:xfrm flipV="1">
              <a:off x="5316480" y="4184280"/>
              <a:ext cx="442800" cy="460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02400" y="4079880"/>
              <a:ext cx="155520" cy="142920"/>
            </a:xfrm>
            <a:custGeom>
              <a:avLst/>
              <a:gdLst/>
              <a:ahLst/>
              <a:rect l="l" t="t" r="r" b="b"/>
              <a:pathLst>
                <a:path w="196" h="179">
                  <a:moveTo>
                    <a:pt x="0" y="106"/>
                  </a:moveTo>
                  <a:lnTo>
                    <a:pt x="196" y="0"/>
                  </a:lnTo>
                  <a:lnTo>
                    <a:pt x="118" y="179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786400" y="280836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leksibilni proizvodni sist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44800" y="2990880"/>
            <a:ext cx="830160" cy="704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8000" y="40053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univerz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27280" y="429264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mehan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2880" y="4611600"/>
            <a:ext cx="139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automatizo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66880" y="2060640"/>
            <a:ext cx="104760" cy="4374720"/>
            <a:chOff x="866880" y="2060640"/>
            <a:chExt cx="104760" cy="4374720"/>
          </a:xfrm>
        </p:grpSpPr>
        <p:sp>
          <p:nvSpPr>
            <p:cNvPr id="153" name=""/>
            <p:cNvSpPr/>
            <p:nvPr/>
          </p:nvSpPr>
          <p:spPr>
            <a:xfrm>
              <a:off x="919080" y="2188440"/>
              <a:ext cx="1080" cy="4023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6880" y="2060640"/>
              <a:ext cx="104760" cy="13860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0" y="181"/>
                  </a:moveTo>
                  <a:lnTo>
                    <a:pt x="74" y="0"/>
                  </a:lnTo>
                  <a:lnTo>
                    <a:pt x="148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9080" y="6212160"/>
              <a:ext cx="1080" cy="223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925560" y="6093000"/>
            <a:ext cx="1995480" cy="345960"/>
            <a:chOff x="925560" y="6093000"/>
            <a:chExt cx="1995480" cy="345960"/>
          </a:xfrm>
        </p:grpSpPr>
        <p:sp>
          <p:nvSpPr>
            <p:cNvPr id="157" name=""/>
            <p:cNvSpPr/>
            <p:nvPr/>
          </p:nvSpPr>
          <p:spPr>
            <a:xfrm>
              <a:off x="2916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25560" y="6272280"/>
              <a:ext cx="1995480" cy="95040"/>
              <a:chOff x="925560" y="6272280"/>
              <a:chExt cx="1995480" cy="95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087560" y="6319800"/>
                <a:ext cx="16700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2556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464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921040" y="6093000"/>
            <a:ext cx="2012760" cy="345960"/>
            <a:chOff x="2921040" y="6093000"/>
            <a:chExt cx="2012760" cy="345960"/>
          </a:xfrm>
        </p:grpSpPr>
        <p:sp>
          <p:nvSpPr>
            <p:cNvPr id="163" name=""/>
            <p:cNvSpPr/>
            <p:nvPr/>
          </p:nvSpPr>
          <p:spPr>
            <a:xfrm>
              <a:off x="4932360" y="6093000"/>
              <a:ext cx="1440" cy="3459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921040" y="6272280"/>
              <a:ext cx="1994040" cy="95040"/>
              <a:chOff x="2921040" y="6272280"/>
              <a:chExt cx="1994040" cy="95040"/>
            </a:xfrm>
          </p:grpSpPr>
          <p:sp>
            <p:nvSpPr>
              <p:cNvPr id="165" name=""/>
              <p:cNvSpPr/>
              <p:nvPr/>
            </p:nvSpPr>
            <p:spPr>
              <a:xfrm>
                <a:off x="3081240" y="6319800"/>
                <a:ext cx="16718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21040" y="6272280"/>
                <a:ext cx="176040" cy="95040"/>
              </a:xfrm>
              <a:custGeom>
                <a:avLst/>
                <a:gdLst/>
                <a:ahLst/>
                <a:rect l="l" t="t" r="r" b="b"/>
                <a:pathLst>
                  <a:path w="222" h="121">
                    <a:moveTo>
                      <a:pt x="222" y="121"/>
                    </a:moveTo>
                    <a:lnTo>
                      <a:pt x="0" y="60"/>
                    </a:lnTo>
                    <a:lnTo>
                      <a:pt x="222" y="0"/>
                    </a:lnTo>
                    <a:lnTo>
                      <a:pt x="222" y="12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38680" y="6272280"/>
                <a:ext cx="176400" cy="95040"/>
              </a:xfrm>
              <a:custGeom>
                <a:avLst/>
                <a:gdLst/>
                <a:ahLst/>
                <a:rect l="l" t="t" r="r" b="b"/>
                <a:pathLst>
                  <a:path w="223" h="121">
                    <a:moveTo>
                      <a:pt x="0" y="0"/>
                    </a:moveTo>
                    <a:lnTo>
                      <a:pt x="223" y="60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915080" y="6272280"/>
            <a:ext cx="1709640" cy="95040"/>
            <a:chOff x="4915080" y="6272280"/>
            <a:chExt cx="1709640" cy="95040"/>
          </a:xfrm>
        </p:grpSpPr>
        <p:sp>
          <p:nvSpPr>
            <p:cNvPr id="169" name=""/>
            <p:cNvSpPr/>
            <p:nvPr/>
          </p:nvSpPr>
          <p:spPr>
            <a:xfrm>
              <a:off x="5076720" y="6319800"/>
              <a:ext cx="15480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5080" y="6272280"/>
              <a:ext cx="176040" cy="9504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223" y="121"/>
                  </a:moveTo>
                  <a:lnTo>
                    <a:pt x="0" y="60"/>
                  </a:lnTo>
                  <a:lnTo>
                    <a:pt x="223" y="0"/>
                  </a:lnTo>
                  <a:lnTo>
                    <a:pt x="223" y="12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821960" y="6122880"/>
            <a:ext cx="150120" cy="228960"/>
            <a:chOff x="1821960" y="6122880"/>
            <a:chExt cx="150120" cy="228960"/>
          </a:xfrm>
        </p:grpSpPr>
        <p:sp>
          <p:nvSpPr>
            <p:cNvPr id="172" name=""/>
            <p:cNvSpPr/>
            <p:nvPr/>
          </p:nvSpPr>
          <p:spPr>
            <a:xfrm>
              <a:off x="182196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95040" y="61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95120" y="6122880"/>
            <a:ext cx="202320" cy="228960"/>
            <a:chOff x="3795120" y="6122880"/>
            <a:chExt cx="202320" cy="228960"/>
          </a:xfrm>
        </p:grpSpPr>
        <p:sp>
          <p:nvSpPr>
            <p:cNvPr id="175" name=""/>
            <p:cNvSpPr/>
            <p:nvPr/>
          </p:nvSpPr>
          <p:spPr>
            <a:xfrm>
              <a:off x="379512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70360" y="6168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728680" y="6122880"/>
            <a:ext cx="131040" cy="182880"/>
            <a:chOff x="5728680" y="6122880"/>
            <a:chExt cx="131040" cy="182880"/>
          </a:xfrm>
        </p:grpSpPr>
        <p:sp>
          <p:nvSpPr>
            <p:cNvPr id="178" name=""/>
            <p:cNvSpPr/>
            <p:nvPr/>
          </p:nvSpPr>
          <p:spPr>
            <a:xfrm>
              <a:off x="5728680" y="6122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02480" y="616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99"/>
                  </a:solidFill>
                  <a:latin typeface="Times New Roman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43640" y="2060640"/>
            <a:ext cx="1119240" cy="306720"/>
            <a:chOff x="1043640" y="2060640"/>
            <a:chExt cx="1119240" cy="306720"/>
          </a:xfrm>
        </p:grpSpPr>
        <p:sp>
          <p:nvSpPr>
            <p:cNvPr id="181" name=""/>
            <p:cNvSpPr/>
            <p:nvPr/>
          </p:nvSpPr>
          <p:spPr>
            <a:xfrm>
              <a:off x="1043640" y="2060640"/>
              <a:ext cx="1119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DUKTIVN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7960" y="221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(PROIZVODNOS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242480" y="6151680"/>
            <a:ext cx="786960" cy="306360"/>
            <a:chOff x="7242480" y="6151680"/>
            <a:chExt cx="786960" cy="306360"/>
          </a:xfrm>
        </p:grpSpPr>
        <p:sp>
          <p:nvSpPr>
            <p:cNvPr id="184" name=""/>
            <p:cNvSpPr/>
            <p:nvPr/>
          </p:nvSpPr>
          <p:spPr>
            <a:xfrm>
              <a:off x="7242480" y="615168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ASORTI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48960" y="630540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IZVO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4005360"/>
            <a:ext cx="0" cy="2087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4365720"/>
            <a:ext cx="0" cy="1727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češće mašinskog i ljudskog rada u procesu izrade proizvoda kod osnovnih vrsta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40760" y="2133720"/>
            <a:ext cx="7462440" cy="4431600"/>
            <a:chOff x="1040760" y="2133720"/>
            <a:chExt cx="7462440" cy="4431600"/>
          </a:xfrm>
        </p:grpSpPr>
        <p:sp>
          <p:nvSpPr>
            <p:cNvPr id="190" name=""/>
            <p:cNvSpPr/>
            <p:nvPr/>
          </p:nvSpPr>
          <p:spPr>
            <a:xfrm flipV="1">
              <a:off x="1407960" y="2738520"/>
              <a:ext cx="1440" cy="3736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48200" y="2585880"/>
              <a:ext cx="119520" cy="168480"/>
            </a:xfrm>
            <a:custGeom>
              <a:avLst/>
              <a:gdLst/>
              <a:ahLst/>
              <a:rect l="l" t="t" r="r" b="b"/>
              <a:pathLst>
                <a:path w="140" h="211">
                  <a:moveTo>
                    <a:pt x="0" y="211"/>
                  </a:moveTo>
                  <a:lnTo>
                    <a:pt x="70" y="0"/>
                  </a:lnTo>
                  <a:lnTo>
                    <a:pt x="14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260720" y="5776920"/>
              <a:ext cx="7166880" cy="112680"/>
              <a:chOff x="1260720" y="5776920"/>
              <a:chExt cx="7166880" cy="1126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60720" y="5834160"/>
                <a:ext cx="7000560" cy="14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247600" y="5776920"/>
                <a:ext cx="180000" cy="112680"/>
              </a:xfrm>
              <a:custGeom>
                <a:avLst/>
                <a:gdLst/>
                <a:ahLst/>
                <a:rect l="l" t="t" r="r" b="b"/>
                <a:pathLst>
                  <a:path w="212" h="141">
                    <a:moveTo>
                      <a:pt x="0" y="0"/>
                    </a:moveTo>
                    <a:lnTo>
                      <a:pt x="212" y="70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407960" y="3127320"/>
              <a:ext cx="5849640" cy="2706840"/>
            </a:xfrm>
            <a:custGeom>
              <a:avLst/>
              <a:gdLst/>
              <a:ahLst/>
              <a:rect l="l" t="t" r="r" b="b"/>
              <a:pathLst>
                <a:path w="6819" h="3409">
                  <a:moveTo>
                    <a:pt x="6819" y="0"/>
                  </a:moveTo>
                  <a:lnTo>
                    <a:pt x="6602" y="202"/>
                  </a:lnTo>
                  <a:lnTo>
                    <a:pt x="6386" y="396"/>
                  </a:lnTo>
                  <a:lnTo>
                    <a:pt x="6168" y="586"/>
                  </a:lnTo>
                  <a:lnTo>
                    <a:pt x="5950" y="769"/>
                  </a:lnTo>
                  <a:lnTo>
                    <a:pt x="5730" y="947"/>
                  </a:lnTo>
                  <a:lnTo>
                    <a:pt x="5510" y="1118"/>
                  </a:lnTo>
                  <a:lnTo>
                    <a:pt x="5288" y="1282"/>
                  </a:lnTo>
                  <a:lnTo>
                    <a:pt x="5067" y="1441"/>
                  </a:lnTo>
                  <a:lnTo>
                    <a:pt x="4844" y="1596"/>
                  </a:lnTo>
                  <a:lnTo>
                    <a:pt x="4621" y="1742"/>
                  </a:lnTo>
                  <a:lnTo>
                    <a:pt x="4398" y="1883"/>
                  </a:lnTo>
                  <a:lnTo>
                    <a:pt x="4173" y="2017"/>
                  </a:lnTo>
                  <a:lnTo>
                    <a:pt x="3948" y="2146"/>
                  </a:lnTo>
                  <a:lnTo>
                    <a:pt x="3721" y="2268"/>
                  </a:lnTo>
                  <a:lnTo>
                    <a:pt x="3495" y="2386"/>
                  </a:lnTo>
                  <a:lnTo>
                    <a:pt x="3267" y="2497"/>
                  </a:lnTo>
                  <a:lnTo>
                    <a:pt x="3038" y="2601"/>
                  </a:lnTo>
                  <a:lnTo>
                    <a:pt x="2809" y="2700"/>
                  </a:lnTo>
                  <a:lnTo>
                    <a:pt x="2579" y="2792"/>
                  </a:lnTo>
                  <a:lnTo>
                    <a:pt x="2349" y="2877"/>
                  </a:lnTo>
                  <a:lnTo>
                    <a:pt x="2117" y="2958"/>
                  </a:lnTo>
                  <a:lnTo>
                    <a:pt x="1884" y="3033"/>
                  </a:lnTo>
                  <a:lnTo>
                    <a:pt x="1653" y="3100"/>
                  </a:lnTo>
                  <a:lnTo>
                    <a:pt x="1418" y="3163"/>
                  </a:lnTo>
                  <a:lnTo>
                    <a:pt x="1183" y="3220"/>
                  </a:lnTo>
                  <a:lnTo>
                    <a:pt x="948" y="3268"/>
                  </a:lnTo>
                  <a:lnTo>
                    <a:pt x="713" y="3314"/>
                  </a:lnTo>
                  <a:lnTo>
                    <a:pt x="476" y="3350"/>
                  </a:lnTo>
                  <a:lnTo>
                    <a:pt x="238" y="3382"/>
                  </a:lnTo>
                  <a:lnTo>
                    <a:pt x="0" y="3409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1120" y="3133800"/>
              <a:ext cx="1440" cy="3308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1407960" y="3126960"/>
              <a:ext cx="584784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99040" y="3117960"/>
              <a:ext cx="29160" cy="2724120"/>
            </a:xfrm>
            <a:custGeom>
              <a:avLst/>
              <a:gdLst/>
              <a:ahLst/>
              <a:rect l="l" t="t" r="r" b="b"/>
              <a:pathLst>
                <a:path w="33" h="3430">
                  <a:moveTo>
                    <a:pt x="33" y="11"/>
                  </a:moveTo>
                  <a:lnTo>
                    <a:pt x="32" y="352"/>
                  </a:lnTo>
                  <a:lnTo>
                    <a:pt x="32" y="355"/>
                  </a:lnTo>
                  <a:lnTo>
                    <a:pt x="30" y="357"/>
                  </a:lnTo>
                  <a:lnTo>
                    <a:pt x="28" y="360"/>
                  </a:lnTo>
                  <a:lnTo>
                    <a:pt x="25" y="362"/>
                  </a:lnTo>
                  <a:lnTo>
                    <a:pt x="23" y="364"/>
                  </a:lnTo>
                  <a:lnTo>
                    <a:pt x="20" y="364"/>
                  </a:lnTo>
                  <a:lnTo>
                    <a:pt x="18" y="364"/>
                  </a:lnTo>
                  <a:lnTo>
                    <a:pt x="16" y="362"/>
                  </a:lnTo>
                  <a:lnTo>
                    <a:pt x="11" y="360"/>
                  </a:lnTo>
                  <a:lnTo>
                    <a:pt x="10" y="357"/>
                  </a:lnTo>
                  <a:lnTo>
                    <a:pt x="10" y="355"/>
                  </a:lnTo>
                  <a:lnTo>
                    <a:pt x="10" y="35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1"/>
                  </a:lnTo>
                  <a:close/>
                  <a:moveTo>
                    <a:pt x="32" y="557"/>
                  </a:moveTo>
                  <a:lnTo>
                    <a:pt x="30" y="897"/>
                  </a:lnTo>
                  <a:lnTo>
                    <a:pt x="30" y="901"/>
                  </a:lnTo>
                  <a:lnTo>
                    <a:pt x="28" y="902"/>
                  </a:lnTo>
                  <a:lnTo>
                    <a:pt x="26" y="906"/>
                  </a:lnTo>
                  <a:lnTo>
                    <a:pt x="23" y="909"/>
                  </a:lnTo>
                  <a:lnTo>
                    <a:pt x="21" y="909"/>
                  </a:lnTo>
                  <a:lnTo>
                    <a:pt x="18" y="909"/>
                  </a:lnTo>
                  <a:lnTo>
                    <a:pt x="16" y="909"/>
                  </a:lnTo>
                  <a:lnTo>
                    <a:pt x="15" y="909"/>
                  </a:lnTo>
                  <a:lnTo>
                    <a:pt x="10" y="906"/>
                  </a:lnTo>
                  <a:lnTo>
                    <a:pt x="8" y="902"/>
                  </a:lnTo>
                  <a:lnTo>
                    <a:pt x="8" y="901"/>
                  </a:lnTo>
                  <a:lnTo>
                    <a:pt x="8" y="897"/>
                  </a:lnTo>
                  <a:lnTo>
                    <a:pt x="8" y="557"/>
                  </a:lnTo>
                  <a:lnTo>
                    <a:pt x="8" y="555"/>
                  </a:lnTo>
                  <a:lnTo>
                    <a:pt x="10" y="553"/>
                  </a:lnTo>
                  <a:lnTo>
                    <a:pt x="11" y="548"/>
                  </a:lnTo>
                  <a:lnTo>
                    <a:pt x="15" y="547"/>
                  </a:lnTo>
                  <a:lnTo>
                    <a:pt x="18" y="547"/>
                  </a:lnTo>
                  <a:lnTo>
                    <a:pt x="20" y="545"/>
                  </a:lnTo>
                  <a:lnTo>
                    <a:pt x="21" y="547"/>
                  </a:lnTo>
                  <a:lnTo>
                    <a:pt x="25" y="547"/>
                  </a:lnTo>
                  <a:lnTo>
                    <a:pt x="28" y="548"/>
                  </a:lnTo>
                  <a:lnTo>
                    <a:pt x="30" y="553"/>
                  </a:lnTo>
                  <a:lnTo>
                    <a:pt x="32" y="555"/>
                  </a:lnTo>
                  <a:lnTo>
                    <a:pt x="32" y="557"/>
                  </a:lnTo>
                  <a:lnTo>
                    <a:pt x="32" y="557"/>
                  </a:lnTo>
                  <a:close/>
                  <a:moveTo>
                    <a:pt x="30" y="1102"/>
                  </a:moveTo>
                  <a:lnTo>
                    <a:pt x="28" y="1444"/>
                  </a:lnTo>
                  <a:lnTo>
                    <a:pt x="28" y="1446"/>
                  </a:lnTo>
                  <a:lnTo>
                    <a:pt x="26" y="1447"/>
                  </a:lnTo>
                  <a:lnTo>
                    <a:pt x="25" y="1451"/>
                  </a:lnTo>
                  <a:lnTo>
                    <a:pt x="21" y="1454"/>
                  </a:lnTo>
                  <a:lnTo>
                    <a:pt x="20" y="1454"/>
                  </a:lnTo>
                  <a:lnTo>
                    <a:pt x="16" y="1454"/>
                  </a:lnTo>
                  <a:lnTo>
                    <a:pt x="15" y="1454"/>
                  </a:lnTo>
                  <a:lnTo>
                    <a:pt x="13" y="1454"/>
                  </a:lnTo>
                  <a:lnTo>
                    <a:pt x="8" y="1451"/>
                  </a:lnTo>
                  <a:lnTo>
                    <a:pt x="6" y="1447"/>
                  </a:lnTo>
                  <a:lnTo>
                    <a:pt x="6" y="1446"/>
                  </a:lnTo>
                  <a:lnTo>
                    <a:pt x="6" y="1444"/>
                  </a:lnTo>
                  <a:lnTo>
                    <a:pt x="6" y="1102"/>
                  </a:lnTo>
                  <a:lnTo>
                    <a:pt x="6" y="1100"/>
                  </a:lnTo>
                  <a:lnTo>
                    <a:pt x="8" y="1098"/>
                  </a:lnTo>
                  <a:lnTo>
                    <a:pt x="10" y="1093"/>
                  </a:lnTo>
                  <a:lnTo>
                    <a:pt x="13" y="1092"/>
                  </a:lnTo>
                  <a:lnTo>
                    <a:pt x="16" y="1092"/>
                  </a:lnTo>
                  <a:lnTo>
                    <a:pt x="18" y="1092"/>
                  </a:lnTo>
                  <a:lnTo>
                    <a:pt x="20" y="1092"/>
                  </a:lnTo>
                  <a:lnTo>
                    <a:pt x="23" y="1092"/>
                  </a:lnTo>
                  <a:lnTo>
                    <a:pt x="26" y="1095"/>
                  </a:lnTo>
                  <a:lnTo>
                    <a:pt x="28" y="1098"/>
                  </a:lnTo>
                  <a:lnTo>
                    <a:pt x="30" y="1100"/>
                  </a:lnTo>
                  <a:lnTo>
                    <a:pt x="30" y="1102"/>
                  </a:lnTo>
                  <a:lnTo>
                    <a:pt x="30" y="1102"/>
                  </a:lnTo>
                  <a:close/>
                  <a:moveTo>
                    <a:pt x="28" y="1649"/>
                  </a:moveTo>
                  <a:lnTo>
                    <a:pt x="26" y="1989"/>
                  </a:lnTo>
                  <a:lnTo>
                    <a:pt x="26" y="1991"/>
                  </a:lnTo>
                  <a:lnTo>
                    <a:pt x="25" y="1993"/>
                  </a:lnTo>
                  <a:lnTo>
                    <a:pt x="23" y="1996"/>
                  </a:lnTo>
                  <a:lnTo>
                    <a:pt x="20" y="1999"/>
                  </a:lnTo>
                  <a:lnTo>
                    <a:pt x="18" y="1999"/>
                  </a:lnTo>
                  <a:lnTo>
                    <a:pt x="15" y="1999"/>
                  </a:lnTo>
                  <a:lnTo>
                    <a:pt x="13" y="1999"/>
                  </a:lnTo>
                  <a:lnTo>
                    <a:pt x="11" y="1999"/>
                  </a:lnTo>
                  <a:lnTo>
                    <a:pt x="6" y="1996"/>
                  </a:lnTo>
                  <a:lnTo>
                    <a:pt x="5" y="1993"/>
                  </a:lnTo>
                  <a:lnTo>
                    <a:pt x="5" y="1991"/>
                  </a:lnTo>
                  <a:lnTo>
                    <a:pt x="5" y="1989"/>
                  </a:lnTo>
                  <a:lnTo>
                    <a:pt x="5" y="1647"/>
                  </a:lnTo>
                  <a:lnTo>
                    <a:pt x="5" y="1645"/>
                  </a:lnTo>
                  <a:lnTo>
                    <a:pt x="6" y="1644"/>
                  </a:lnTo>
                  <a:lnTo>
                    <a:pt x="8" y="1640"/>
                  </a:lnTo>
                  <a:lnTo>
                    <a:pt x="11" y="1637"/>
                  </a:lnTo>
                  <a:lnTo>
                    <a:pt x="15" y="1637"/>
                  </a:lnTo>
                  <a:lnTo>
                    <a:pt x="16" y="1637"/>
                  </a:lnTo>
                  <a:lnTo>
                    <a:pt x="18" y="1637"/>
                  </a:lnTo>
                  <a:lnTo>
                    <a:pt x="21" y="1637"/>
                  </a:lnTo>
                  <a:lnTo>
                    <a:pt x="25" y="1640"/>
                  </a:lnTo>
                  <a:lnTo>
                    <a:pt x="26" y="1644"/>
                  </a:lnTo>
                  <a:lnTo>
                    <a:pt x="28" y="1645"/>
                  </a:lnTo>
                  <a:lnTo>
                    <a:pt x="28" y="1649"/>
                  </a:lnTo>
                  <a:lnTo>
                    <a:pt x="28" y="1649"/>
                  </a:lnTo>
                  <a:close/>
                  <a:moveTo>
                    <a:pt x="26" y="2194"/>
                  </a:moveTo>
                  <a:lnTo>
                    <a:pt x="25" y="2534"/>
                  </a:lnTo>
                  <a:lnTo>
                    <a:pt x="25" y="2536"/>
                  </a:lnTo>
                  <a:lnTo>
                    <a:pt x="23" y="2538"/>
                  </a:lnTo>
                  <a:lnTo>
                    <a:pt x="21" y="2543"/>
                  </a:lnTo>
                  <a:lnTo>
                    <a:pt x="18" y="2544"/>
                  </a:lnTo>
                  <a:lnTo>
                    <a:pt x="16" y="2544"/>
                  </a:lnTo>
                  <a:lnTo>
                    <a:pt x="13" y="2546"/>
                  </a:lnTo>
                  <a:lnTo>
                    <a:pt x="11" y="2544"/>
                  </a:lnTo>
                  <a:lnTo>
                    <a:pt x="10" y="2544"/>
                  </a:lnTo>
                  <a:lnTo>
                    <a:pt x="5" y="2543"/>
                  </a:lnTo>
                  <a:lnTo>
                    <a:pt x="3" y="2538"/>
                  </a:lnTo>
                  <a:lnTo>
                    <a:pt x="3" y="2536"/>
                  </a:lnTo>
                  <a:lnTo>
                    <a:pt x="3" y="2534"/>
                  </a:lnTo>
                  <a:lnTo>
                    <a:pt x="3" y="2194"/>
                  </a:lnTo>
                  <a:lnTo>
                    <a:pt x="3" y="2191"/>
                  </a:lnTo>
                  <a:lnTo>
                    <a:pt x="5" y="2189"/>
                  </a:lnTo>
                  <a:lnTo>
                    <a:pt x="6" y="2186"/>
                  </a:lnTo>
                  <a:lnTo>
                    <a:pt x="10" y="2182"/>
                  </a:lnTo>
                  <a:lnTo>
                    <a:pt x="13" y="2182"/>
                  </a:lnTo>
                  <a:lnTo>
                    <a:pt x="15" y="2182"/>
                  </a:lnTo>
                  <a:lnTo>
                    <a:pt x="16" y="2182"/>
                  </a:lnTo>
                  <a:lnTo>
                    <a:pt x="20" y="2182"/>
                  </a:lnTo>
                  <a:lnTo>
                    <a:pt x="23" y="2186"/>
                  </a:lnTo>
                  <a:lnTo>
                    <a:pt x="25" y="2189"/>
                  </a:lnTo>
                  <a:lnTo>
                    <a:pt x="26" y="2191"/>
                  </a:lnTo>
                  <a:lnTo>
                    <a:pt x="26" y="2194"/>
                  </a:lnTo>
                  <a:lnTo>
                    <a:pt x="26" y="2194"/>
                  </a:lnTo>
                  <a:close/>
                  <a:moveTo>
                    <a:pt x="25" y="2739"/>
                  </a:moveTo>
                  <a:lnTo>
                    <a:pt x="23" y="3080"/>
                  </a:lnTo>
                  <a:lnTo>
                    <a:pt x="23" y="3081"/>
                  </a:lnTo>
                  <a:lnTo>
                    <a:pt x="21" y="3085"/>
                  </a:lnTo>
                  <a:lnTo>
                    <a:pt x="20" y="3088"/>
                  </a:lnTo>
                  <a:lnTo>
                    <a:pt x="16" y="3090"/>
                  </a:lnTo>
                  <a:lnTo>
                    <a:pt x="15" y="3091"/>
                  </a:lnTo>
                  <a:lnTo>
                    <a:pt x="11" y="3091"/>
                  </a:lnTo>
                  <a:lnTo>
                    <a:pt x="10" y="3091"/>
                  </a:lnTo>
                  <a:lnTo>
                    <a:pt x="8" y="3090"/>
                  </a:lnTo>
                  <a:lnTo>
                    <a:pt x="3" y="3088"/>
                  </a:lnTo>
                  <a:lnTo>
                    <a:pt x="1" y="3085"/>
                  </a:lnTo>
                  <a:lnTo>
                    <a:pt x="1" y="3081"/>
                  </a:lnTo>
                  <a:lnTo>
                    <a:pt x="0" y="3080"/>
                  </a:lnTo>
                  <a:lnTo>
                    <a:pt x="1" y="2739"/>
                  </a:lnTo>
                  <a:lnTo>
                    <a:pt x="1" y="2736"/>
                  </a:lnTo>
                  <a:lnTo>
                    <a:pt x="3" y="2734"/>
                  </a:lnTo>
                  <a:lnTo>
                    <a:pt x="5" y="2731"/>
                  </a:lnTo>
                  <a:lnTo>
                    <a:pt x="8" y="2727"/>
                  </a:lnTo>
                  <a:lnTo>
                    <a:pt x="11" y="2727"/>
                  </a:lnTo>
                  <a:lnTo>
                    <a:pt x="13" y="2727"/>
                  </a:lnTo>
                  <a:lnTo>
                    <a:pt x="15" y="2727"/>
                  </a:lnTo>
                  <a:lnTo>
                    <a:pt x="18" y="2727"/>
                  </a:lnTo>
                  <a:lnTo>
                    <a:pt x="21" y="2731"/>
                  </a:lnTo>
                  <a:lnTo>
                    <a:pt x="23" y="2734"/>
                  </a:lnTo>
                  <a:lnTo>
                    <a:pt x="25" y="2736"/>
                  </a:lnTo>
                  <a:lnTo>
                    <a:pt x="25" y="2739"/>
                  </a:lnTo>
                  <a:lnTo>
                    <a:pt x="25" y="2739"/>
                  </a:lnTo>
                  <a:close/>
                  <a:moveTo>
                    <a:pt x="23" y="3284"/>
                  </a:moveTo>
                  <a:lnTo>
                    <a:pt x="21" y="3418"/>
                  </a:lnTo>
                  <a:lnTo>
                    <a:pt x="21" y="3422"/>
                  </a:lnTo>
                  <a:lnTo>
                    <a:pt x="21" y="3423"/>
                  </a:lnTo>
                  <a:lnTo>
                    <a:pt x="18" y="3427"/>
                  </a:lnTo>
                  <a:lnTo>
                    <a:pt x="15" y="3430"/>
                  </a:lnTo>
                  <a:lnTo>
                    <a:pt x="13" y="3430"/>
                  </a:lnTo>
                  <a:lnTo>
                    <a:pt x="11" y="3430"/>
                  </a:lnTo>
                  <a:lnTo>
                    <a:pt x="8" y="3430"/>
                  </a:lnTo>
                  <a:lnTo>
                    <a:pt x="6" y="3430"/>
                  </a:lnTo>
                  <a:lnTo>
                    <a:pt x="3" y="3427"/>
                  </a:lnTo>
                  <a:lnTo>
                    <a:pt x="0" y="3423"/>
                  </a:lnTo>
                  <a:lnTo>
                    <a:pt x="0" y="3422"/>
                  </a:lnTo>
                  <a:lnTo>
                    <a:pt x="0" y="3418"/>
                  </a:lnTo>
                  <a:lnTo>
                    <a:pt x="0" y="3284"/>
                  </a:lnTo>
                  <a:lnTo>
                    <a:pt x="0" y="3281"/>
                  </a:lnTo>
                  <a:lnTo>
                    <a:pt x="1" y="3279"/>
                  </a:lnTo>
                  <a:lnTo>
                    <a:pt x="3" y="3276"/>
                  </a:lnTo>
                  <a:lnTo>
                    <a:pt x="6" y="3274"/>
                  </a:lnTo>
                  <a:lnTo>
                    <a:pt x="10" y="3273"/>
                  </a:lnTo>
                  <a:lnTo>
                    <a:pt x="11" y="3273"/>
                  </a:lnTo>
                  <a:lnTo>
                    <a:pt x="13" y="3273"/>
                  </a:lnTo>
                  <a:lnTo>
                    <a:pt x="16" y="3274"/>
                  </a:lnTo>
                  <a:lnTo>
                    <a:pt x="20" y="3276"/>
                  </a:lnTo>
                  <a:lnTo>
                    <a:pt x="21" y="3279"/>
                  </a:lnTo>
                  <a:lnTo>
                    <a:pt x="23" y="3281"/>
                  </a:lnTo>
                  <a:lnTo>
                    <a:pt x="23" y="3284"/>
                  </a:lnTo>
                  <a:lnTo>
                    <a:pt x="23" y="32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1560" y="3119400"/>
              <a:ext cx="27360" cy="2722680"/>
            </a:xfrm>
            <a:custGeom>
              <a:avLst/>
              <a:gdLst/>
              <a:ahLst/>
              <a:rect l="l" t="t" r="r" b="b"/>
              <a:pathLst>
                <a:path w="34" h="3429">
                  <a:moveTo>
                    <a:pt x="24" y="12"/>
                  </a:moveTo>
                  <a:lnTo>
                    <a:pt x="24" y="353"/>
                  </a:lnTo>
                  <a:lnTo>
                    <a:pt x="24" y="354"/>
                  </a:lnTo>
                  <a:lnTo>
                    <a:pt x="24" y="358"/>
                  </a:lnTo>
                  <a:lnTo>
                    <a:pt x="20" y="361"/>
                  </a:lnTo>
                  <a:lnTo>
                    <a:pt x="17" y="363"/>
                  </a:lnTo>
                  <a:lnTo>
                    <a:pt x="15" y="364"/>
                  </a:lnTo>
                  <a:lnTo>
                    <a:pt x="14" y="364"/>
                  </a:lnTo>
                  <a:lnTo>
                    <a:pt x="10" y="364"/>
                  </a:lnTo>
                  <a:lnTo>
                    <a:pt x="9" y="363"/>
                  </a:lnTo>
                  <a:lnTo>
                    <a:pt x="5" y="361"/>
                  </a:lnTo>
                  <a:lnTo>
                    <a:pt x="2" y="358"/>
                  </a:lnTo>
                  <a:lnTo>
                    <a:pt x="2" y="354"/>
                  </a:lnTo>
                  <a:lnTo>
                    <a:pt x="2" y="35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5" y="557"/>
                  </a:moveTo>
                  <a:lnTo>
                    <a:pt x="27" y="898"/>
                  </a:lnTo>
                  <a:lnTo>
                    <a:pt x="25" y="901"/>
                  </a:lnTo>
                  <a:lnTo>
                    <a:pt x="25" y="903"/>
                  </a:lnTo>
                  <a:lnTo>
                    <a:pt x="24" y="906"/>
                  </a:lnTo>
                  <a:lnTo>
                    <a:pt x="19" y="908"/>
                  </a:lnTo>
                  <a:lnTo>
                    <a:pt x="17" y="910"/>
                  </a:lnTo>
                  <a:lnTo>
                    <a:pt x="15" y="910"/>
                  </a:lnTo>
                  <a:lnTo>
                    <a:pt x="12" y="910"/>
                  </a:lnTo>
                  <a:lnTo>
                    <a:pt x="10" y="908"/>
                  </a:lnTo>
                  <a:lnTo>
                    <a:pt x="7" y="906"/>
                  </a:lnTo>
                  <a:lnTo>
                    <a:pt x="4" y="903"/>
                  </a:lnTo>
                  <a:lnTo>
                    <a:pt x="4" y="901"/>
                  </a:lnTo>
                  <a:lnTo>
                    <a:pt x="4" y="898"/>
                  </a:lnTo>
                  <a:lnTo>
                    <a:pt x="2" y="557"/>
                  </a:lnTo>
                  <a:lnTo>
                    <a:pt x="2" y="556"/>
                  </a:lnTo>
                  <a:lnTo>
                    <a:pt x="4" y="552"/>
                  </a:lnTo>
                  <a:lnTo>
                    <a:pt x="5" y="549"/>
                  </a:lnTo>
                  <a:lnTo>
                    <a:pt x="9" y="547"/>
                  </a:lnTo>
                  <a:lnTo>
                    <a:pt x="12" y="546"/>
                  </a:lnTo>
                  <a:lnTo>
                    <a:pt x="14" y="546"/>
                  </a:lnTo>
                  <a:lnTo>
                    <a:pt x="15" y="546"/>
                  </a:lnTo>
                  <a:lnTo>
                    <a:pt x="19" y="547"/>
                  </a:lnTo>
                  <a:lnTo>
                    <a:pt x="22" y="549"/>
                  </a:lnTo>
                  <a:lnTo>
                    <a:pt x="24" y="552"/>
                  </a:lnTo>
                  <a:lnTo>
                    <a:pt x="25" y="556"/>
                  </a:lnTo>
                  <a:lnTo>
                    <a:pt x="25" y="557"/>
                  </a:lnTo>
                  <a:lnTo>
                    <a:pt x="25" y="557"/>
                  </a:lnTo>
                  <a:close/>
                  <a:moveTo>
                    <a:pt x="27" y="1103"/>
                  </a:moveTo>
                  <a:lnTo>
                    <a:pt x="29" y="1443"/>
                  </a:lnTo>
                  <a:lnTo>
                    <a:pt x="27" y="1446"/>
                  </a:lnTo>
                  <a:lnTo>
                    <a:pt x="27" y="1448"/>
                  </a:lnTo>
                  <a:lnTo>
                    <a:pt x="25" y="1451"/>
                  </a:lnTo>
                  <a:lnTo>
                    <a:pt x="20" y="1453"/>
                  </a:lnTo>
                  <a:lnTo>
                    <a:pt x="19" y="1455"/>
                  </a:lnTo>
                  <a:lnTo>
                    <a:pt x="17" y="1455"/>
                  </a:lnTo>
                  <a:lnTo>
                    <a:pt x="14" y="1455"/>
                  </a:lnTo>
                  <a:lnTo>
                    <a:pt x="12" y="1453"/>
                  </a:lnTo>
                  <a:lnTo>
                    <a:pt x="9" y="1451"/>
                  </a:lnTo>
                  <a:lnTo>
                    <a:pt x="5" y="1448"/>
                  </a:lnTo>
                  <a:lnTo>
                    <a:pt x="5" y="1446"/>
                  </a:lnTo>
                  <a:lnTo>
                    <a:pt x="5" y="1443"/>
                  </a:lnTo>
                  <a:lnTo>
                    <a:pt x="4" y="1103"/>
                  </a:lnTo>
                  <a:lnTo>
                    <a:pt x="4" y="1101"/>
                  </a:lnTo>
                  <a:lnTo>
                    <a:pt x="5" y="1097"/>
                  </a:lnTo>
                  <a:lnTo>
                    <a:pt x="7" y="1094"/>
                  </a:lnTo>
                  <a:lnTo>
                    <a:pt x="10" y="1092"/>
                  </a:lnTo>
                  <a:lnTo>
                    <a:pt x="14" y="1091"/>
                  </a:lnTo>
                  <a:lnTo>
                    <a:pt x="15" y="1091"/>
                  </a:lnTo>
                  <a:lnTo>
                    <a:pt x="17" y="1091"/>
                  </a:lnTo>
                  <a:lnTo>
                    <a:pt x="20" y="1092"/>
                  </a:lnTo>
                  <a:lnTo>
                    <a:pt x="24" y="1094"/>
                  </a:lnTo>
                  <a:lnTo>
                    <a:pt x="25" y="1097"/>
                  </a:lnTo>
                  <a:lnTo>
                    <a:pt x="27" y="1101"/>
                  </a:lnTo>
                  <a:lnTo>
                    <a:pt x="27" y="1103"/>
                  </a:lnTo>
                  <a:lnTo>
                    <a:pt x="27" y="1103"/>
                  </a:lnTo>
                  <a:close/>
                  <a:moveTo>
                    <a:pt x="29" y="1648"/>
                  </a:moveTo>
                  <a:lnTo>
                    <a:pt x="30" y="1988"/>
                  </a:lnTo>
                  <a:lnTo>
                    <a:pt x="29" y="1992"/>
                  </a:lnTo>
                  <a:lnTo>
                    <a:pt x="29" y="1993"/>
                  </a:lnTo>
                  <a:lnTo>
                    <a:pt x="27" y="1997"/>
                  </a:lnTo>
                  <a:lnTo>
                    <a:pt x="22" y="2000"/>
                  </a:lnTo>
                  <a:lnTo>
                    <a:pt x="20" y="2000"/>
                  </a:lnTo>
                  <a:lnTo>
                    <a:pt x="19" y="2000"/>
                  </a:lnTo>
                  <a:lnTo>
                    <a:pt x="15" y="2000"/>
                  </a:lnTo>
                  <a:lnTo>
                    <a:pt x="14" y="2000"/>
                  </a:lnTo>
                  <a:lnTo>
                    <a:pt x="10" y="1997"/>
                  </a:lnTo>
                  <a:lnTo>
                    <a:pt x="7" y="1993"/>
                  </a:lnTo>
                  <a:lnTo>
                    <a:pt x="7" y="1992"/>
                  </a:lnTo>
                  <a:lnTo>
                    <a:pt x="7" y="1988"/>
                  </a:lnTo>
                  <a:lnTo>
                    <a:pt x="5" y="1648"/>
                  </a:lnTo>
                  <a:lnTo>
                    <a:pt x="5" y="1646"/>
                  </a:lnTo>
                  <a:lnTo>
                    <a:pt x="7" y="1644"/>
                  </a:lnTo>
                  <a:lnTo>
                    <a:pt x="9" y="1639"/>
                  </a:lnTo>
                  <a:lnTo>
                    <a:pt x="12" y="1638"/>
                  </a:lnTo>
                  <a:lnTo>
                    <a:pt x="15" y="1638"/>
                  </a:lnTo>
                  <a:lnTo>
                    <a:pt x="17" y="1636"/>
                  </a:lnTo>
                  <a:lnTo>
                    <a:pt x="19" y="1638"/>
                  </a:lnTo>
                  <a:lnTo>
                    <a:pt x="22" y="1638"/>
                  </a:lnTo>
                  <a:lnTo>
                    <a:pt x="25" y="1639"/>
                  </a:lnTo>
                  <a:lnTo>
                    <a:pt x="27" y="1644"/>
                  </a:lnTo>
                  <a:lnTo>
                    <a:pt x="29" y="1646"/>
                  </a:lnTo>
                  <a:lnTo>
                    <a:pt x="29" y="1648"/>
                  </a:lnTo>
                  <a:lnTo>
                    <a:pt x="29" y="1648"/>
                  </a:lnTo>
                  <a:close/>
                  <a:moveTo>
                    <a:pt x="30" y="2193"/>
                  </a:moveTo>
                  <a:lnTo>
                    <a:pt x="32" y="2535"/>
                  </a:lnTo>
                  <a:lnTo>
                    <a:pt x="30" y="2537"/>
                  </a:lnTo>
                  <a:lnTo>
                    <a:pt x="30" y="2538"/>
                  </a:lnTo>
                  <a:lnTo>
                    <a:pt x="29" y="2542"/>
                  </a:lnTo>
                  <a:lnTo>
                    <a:pt x="24" y="2545"/>
                  </a:lnTo>
                  <a:lnTo>
                    <a:pt x="22" y="2545"/>
                  </a:lnTo>
                  <a:lnTo>
                    <a:pt x="20" y="2545"/>
                  </a:lnTo>
                  <a:lnTo>
                    <a:pt x="17" y="2545"/>
                  </a:lnTo>
                  <a:lnTo>
                    <a:pt x="15" y="2545"/>
                  </a:lnTo>
                  <a:lnTo>
                    <a:pt x="12" y="2542"/>
                  </a:lnTo>
                  <a:lnTo>
                    <a:pt x="10" y="2538"/>
                  </a:lnTo>
                  <a:lnTo>
                    <a:pt x="9" y="2537"/>
                  </a:lnTo>
                  <a:lnTo>
                    <a:pt x="9" y="2535"/>
                  </a:lnTo>
                  <a:lnTo>
                    <a:pt x="7" y="2193"/>
                  </a:lnTo>
                  <a:lnTo>
                    <a:pt x="7" y="2191"/>
                  </a:lnTo>
                  <a:lnTo>
                    <a:pt x="9" y="2190"/>
                  </a:lnTo>
                  <a:lnTo>
                    <a:pt x="10" y="2185"/>
                  </a:lnTo>
                  <a:lnTo>
                    <a:pt x="14" y="2183"/>
                  </a:lnTo>
                  <a:lnTo>
                    <a:pt x="17" y="2183"/>
                  </a:lnTo>
                  <a:lnTo>
                    <a:pt x="19" y="2183"/>
                  </a:lnTo>
                  <a:lnTo>
                    <a:pt x="20" y="2183"/>
                  </a:lnTo>
                  <a:lnTo>
                    <a:pt x="24" y="2183"/>
                  </a:lnTo>
                  <a:lnTo>
                    <a:pt x="27" y="2185"/>
                  </a:lnTo>
                  <a:lnTo>
                    <a:pt x="29" y="2190"/>
                  </a:lnTo>
                  <a:lnTo>
                    <a:pt x="30" y="2191"/>
                  </a:lnTo>
                  <a:lnTo>
                    <a:pt x="30" y="2193"/>
                  </a:lnTo>
                  <a:lnTo>
                    <a:pt x="30" y="2193"/>
                  </a:lnTo>
                  <a:close/>
                  <a:moveTo>
                    <a:pt x="32" y="2738"/>
                  </a:moveTo>
                  <a:lnTo>
                    <a:pt x="34" y="3080"/>
                  </a:lnTo>
                  <a:lnTo>
                    <a:pt x="32" y="3082"/>
                  </a:lnTo>
                  <a:lnTo>
                    <a:pt x="32" y="3084"/>
                  </a:lnTo>
                  <a:lnTo>
                    <a:pt x="30" y="3087"/>
                  </a:lnTo>
                  <a:lnTo>
                    <a:pt x="25" y="3090"/>
                  </a:lnTo>
                  <a:lnTo>
                    <a:pt x="24" y="3090"/>
                  </a:lnTo>
                  <a:lnTo>
                    <a:pt x="22" y="3090"/>
                  </a:lnTo>
                  <a:lnTo>
                    <a:pt x="19" y="3090"/>
                  </a:lnTo>
                  <a:lnTo>
                    <a:pt x="17" y="3090"/>
                  </a:lnTo>
                  <a:lnTo>
                    <a:pt x="14" y="3087"/>
                  </a:lnTo>
                  <a:lnTo>
                    <a:pt x="12" y="3084"/>
                  </a:lnTo>
                  <a:lnTo>
                    <a:pt x="10" y="3082"/>
                  </a:lnTo>
                  <a:lnTo>
                    <a:pt x="10" y="3080"/>
                  </a:lnTo>
                  <a:lnTo>
                    <a:pt x="9" y="2738"/>
                  </a:lnTo>
                  <a:lnTo>
                    <a:pt x="9" y="2736"/>
                  </a:lnTo>
                  <a:lnTo>
                    <a:pt x="10" y="2735"/>
                  </a:lnTo>
                  <a:lnTo>
                    <a:pt x="12" y="2731"/>
                  </a:lnTo>
                  <a:lnTo>
                    <a:pt x="15" y="2728"/>
                  </a:lnTo>
                  <a:lnTo>
                    <a:pt x="19" y="2728"/>
                  </a:lnTo>
                  <a:lnTo>
                    <a:pt x="20" y="2728"/>
                  </a:lnTo>
                  <a:lnTo>
                    <a:pt x="24" y="2728"/>
                  </a:lnTo>
                  <a:lnTo>
                    <a:pt x="25" y="2728"/>
                  </a:lnTo>
                  <a:lnTo>
                    <a:pt x="29" y="2731"/>
                  </a:lnTo>
                  <a:lnTo>
                    <a:pt x="30" y="2735"/>
                  </a:lnTo>
                  <a:lnTo>
                    <a:pt x="32" y="2736"/>
                  </a:lnTo>
                  <a:lnTo>
                    <a:pt x="32" y="2738"/>
                  </a:lnTo>
                  <a:lnTo>
                    <a:pt x="32" y="2738"/>
                  </a:lnTo>
                  <a:close/>
                  <a:moveTo>
                    <a:pt x="34" y="3285"/>
                  </a:moveTo>
                  <a:lnTo>
                    <a:pt x="34" y="3417"/>
                  </a:lnTo>
                  <a:lnTo>
                    <a:pt x="34" y="3421"/>
                  </a:lnTo>
                  <a:lnTo>
                    <a:pt x="34" y="3422"/>
                  </a:lnTo>
                  <a:lnTo>
                    <a:pt x="30" y="3426"/>
                  </a:lnTo>
                  <a:lnTo>
                    <a:pt x="27" y="3429"/>
                  </a:lnTo>
                  <a:lnTo>
                    <a:pt x="25" y="3429"/>
                  </a:lnTo>
                  <a:lnTo>
                    <a:pt x="22" y="3429"/>
                  </a:lnTo>
                  <a:lnTo>
                    <a:pt x="20" y="3429"/>
                  </a:lnTo>
                  <a:lnTo>
                    <a:pt x="19" y="3429"/>
                  </a:lnTo>
                  <a:lnTo>
                    <a:pt x="15" y="3426"/>
                  </a:lnTo>
                  <a:lnTo>
                    <a:pt x="12" y="3422"/>
                  </a:lnTo>
                  <a:lnTo>
                    <a:pt x="12" y="3421"/>
                  </a:lnTo>
                  <a:lnTo>
                    <a:pt x="12" y="3417"/>
                  </a:lnTo>
                  <a:lnTo>
                    <a:pt x="10" y="3285"/>
                  </a:lnTo>
                  <a:lnTo>
                    <a:pt x="12" y="3282"/>
                  </a:lnTo>
                  <a:lnTo>
                    <a:pt x="12" y="3280"/>
                  </a:lnTo>
                  <a:lnTo>
                    <a:pt x="14" y="3277"/>
                  </a:lnTo>
                  <a:lnTo>
                    <a:pt x="19" y="3273"/>
                  </a:lnTo>
                  <a:lnTo>
                    <a:pt x="20" y="3273"/>
                  </a:lnTo>
                  <a:lnTo>
                    <a:pt x="22" y="3273"/>
                  </a:lnTo>
                  <a:lnTo>
                    <a:pt x="25" y="3273"/>
                  </a:lnTo>
                  <a:lnTo>
                    <a:pt x="27" y="3273"/>
                  </a:lnTo>
                  <a:lnTo>
                    <a:pt x="30" y="3277"/>
                  </a:lnTo>
                  <a:lnTo>
                    <a:pt x="32" y="3280"/>
                  </a:lnTo>
                  <a:lnTo>
                    <a:pt x="34" y="3282"/>
                  </a:lnTo>
                  <a:lnTo>
                    <a:pt x="34" y="3285"/>
                  </a:lnTo>
                  <a:lnTo>
                    <a:pt x="34" y="328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0948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0640" y="5832360"/>
              <a:ext cx="144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72840" y="6373800"/>
              <a:ext cx="15699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796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76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76160" y="6373800"/>
              <a:ext cx="15681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0948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2" h="141">
                  <a:moveTo>
                    <a:pt x="212" y="141"/>
                  </a:moveTo>
                  <a:lnTo>
                    <a:pt x="0" y="70"/>
                  </a:lnTo>
                  <a:lnTo>
                    <a:pt x="212" y="0"/>
                  </a:lnTo>
                  <a:lnTo>
                    <a:pt x="212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8480" y="6318360"/>
              <a:ext cx="1818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7320" y="6373800"/>
              <a:ext cx="17089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0640" y="6318360"/>
              <a:ext cx="18000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211" y="141"/>
                  </a:moveTo>
                  <a:lnTo>
                    <a:pt x="0" y="70"/>
                  </a:lnTo>
                  <a:lnTo>
                    <a:pt x="211" y="0"/>
                  </a:lnTo>
                  <a:lnTo>
                    <a:pt x="211" y="141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9320" y="6318360"/>
              <a:ext cx="181440" cy="110880"/>
            </a:xfrm>
            <a:custGeom>
              <a:avLst/>
              <a:gdLst/>
              <a:ahLst/>
              <a:rect l="l" t="t" r="r" b="b"/>
              <a:pathLst>
                <a:path w="211" h="141">
                  <a:moveTo>
                    <a:pt x="0" y="0"/>
                  </a:moveTo>
                  <a:lnTo>
                    <a:pt x="211" y="70"/>
                  </a:lnTo>
                  <a:lnTo>
                    <a:pt x="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02320" y="2133720"/>
              <a:ext cx="718560" cy="459360"/>
              <a:chOff x="1102320" y="2133720"/>
              <a:chExt cx="718560" cy="459360"/>
            </a:xfrm>
          </p:grpSpPr>
          <p:sp>
            <p:nvSpPr>
              <p:cNvPr id="212" name=""/>
              <p:cNvSpPr/>
              <p:nvPr/>
            </p:nvSpPr>
            <p:spPr>
              <a:xfrm>
                <a:off x="1102320" y="21337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4128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29120" y="2133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16600" y="2133720"/>
                <a:ext cx="16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333399"/>
                    </a:solidFill>
                    <a:latin typeface="Times New Roman"/>
                  </a:rPr>
                  <a:t>š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77880" y="213372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e 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00680" y="2349360"/>
                <a:ext cx="303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[%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756520" y="43498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R A D N I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536720" y="5295960"/>
              <a:ext cx="990000" cy="213480"/>
              <a:chOff x="4536720" y="5295960"/>
              <a:chExt cx="990000" cy="213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536720" y="5295960"/>
                <a:ext cx="38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M 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57200" y="5295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67360" y="5295960"/>
                <a:ext cx="459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I N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803960" y="609300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Univerz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93160" y="60930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Mehan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38960" y="6093000"/>
              <a:ext cx="134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Automatizov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516440" y="5888160"/>
              <a:ext cx="986760" cy="677160"/>
              <a:chOff x="7516440" y="5888160"/>
              <a:chExt cx="986760" cy="677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798320" y="588816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Vrs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6440" y="6103800"/>
                <a:ext cx="986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sredstava z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878240" y="632160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r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040760" y="30448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2060640"/>
            <a:ext cx="5374440" cy="2278440"/>
            <a:chOff x="0" y="2060640"/>
            <a:chExt cx="5374440" cy="2278440"/>
          </a:xfrm>
        </p:grpSpPr>
        <p:grpSp>
          <p:nvGrpSpPr>
            <p:cNvPr id="233" name=""/>
            <p:cNvGrpSpPr/>
            <p:nvPr/>
          </p:nvGrpSpPr>
          <p:grpSpPr>
            <a:xfrm>
              <a:off x="573840" y="2060640"/>
              <a:ext cx="517320" cy="329040"/>
              <a:chOff x="573840" y="2060640"/>
              <a:chExt cx="517320" cy="329040"/>
            </a:xfrm>
          </p:grpSpPr>
          <p:sp>
            <p:nvSpPr>
              <p:cNvPr id="234" name=""/>
              <p:cNvSpPr/>
              <p:nvPr/>
            </p:nvSpPr>
            <p:spPr>
              <a:xfrm>
                <a:off x="695160" y="206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3840" y="2206800"/>
                <a:ext cx="51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nj/god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149120" y="2260800"/>
              <a:ext cx="74520" cy="1898280"/>
              <a:chOff x="1149120" y="2260800"/>
              <a:chExt cx="74520" cy="189828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1187280" y="2363760"/>
                <a:ext cx="1440" cy="17953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49120" y="22608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flipV="1">
              <a:off x="1187280" y="2260440"/>
              <a:ext cx="2847960" cy="144612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187280" y="2351160"/>
              <a:ext cx="3165480" cy="11750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187280" y="2395440"/>
              <a:ext cx="3525840" cy="679320"/>
            </a:xfrm>
            <a:prstGeom prst="line">
              <a:avLst/>
            </a:prstGeom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30560" y="206064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457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560" y="3543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8120" y="3553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6360" y="4077000"/>
              <a:ext cx="395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88640" y="4059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31400" y="4156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12680" y="4032360"/>
              <a:ext cx="5052960" cy="74880"/>
              <a:chOff x="112680" y="4032360"/>
              <a:chExt cx="5052960" cy="74880"/>
            </a:xfrm>
          </p:grpSpPr>
          <p:sp>
            <p:nvSpPr>
              <p:cNvPr id="250" name=""/>
              <p:cNvSpPr/>
              <p:nvPr/>
            </p:nvSpPr>
            <p:spPr>
              <a:xfrm>
                <a:off x="1096920" y="4069080"/>
                <a:ext cx="39672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52960" y="4032360"/>
                <a:ext cx="112680" cy="748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12680" y="4069080"/>
                <a:ext cx="99360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H="1">
              <a:off x="834480" y="3713400"/>
              <a:ext cx="35244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3040" y="3530880"/>
              <a:ext cx="714240" cy="1440"/>
            </a:xfrm>
            <a:custGeom>
              <a:avLst/>
              <a:gdLst/>
              <a:ahLst/>
              <a:rect l="l" t="t" r="r" b="b"/>
              <a:pathLst>
                <a:path w="899" h="0">
                  <a:moveTo>
                    <a:pt x="899" y="0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12320" y="3069000"/>
              <a:ext cx="107460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88840" y="3713400"/>
              <a:ext cx="74520" cy="355680"/>
              <a:chOff x="888840" y="3713400"/>
              <a:chExt cx="74520" cy="3556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925200" y="3814560"/>
                <a:ext cx="1800" cy="1508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88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371340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2">
                    <a:moveTo>
                      <a:pt x="0" y="142"/>
                    </a:moveTo>
                    <a:lnTo>
                      <a:pt x="47" y="0"/>
                    </a:lnTo>
                    <a:lnTo>
                      <a:pt x="94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27040" y="3530880"/>
              <a:ext cx="74520" cy="538200"/>
              <a:chOff x="527040" y="3530880"/>
              <a:chExt cx="74520" cy="5382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563400" y="3633840"/>
                <a:ext cx="1440" cy="3319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04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4" h="140">
                    <a:moveTo>
                      <a:pt x="94" y="0"/>
                    </a:moveTo>
                    <a:lnTo>
                      <a:pt x="47" y="14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7040" y="35308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64880" y="3069000"/>
              <a:ext cx="74520" cy="1000080"/>
              <a:chOff x="164880" y="3069000"/>
              <a:chExt cx="74520" cy="100008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01600" y="3170160"/>
                <a:ext cx="1440" cy="7952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880" y="39578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95" y="0"/>
                    </a:moveTo>
                    <a:lnTo>
                      <a:pt x="48" y="140"/>
                    </a:lnTo>
                    <a:lnTo>
                      <a:pt x="0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4880" y="306900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95" h="142">
                    <a:moveTo>
                      <a:pt x="0" y="142"/>
                    </a:moveTo>
                    <a:lnTo>
                      <a:pt x="48" y="0"/>
                    </a:lnTo>
                    <a:lnTo>
                      <a:pt x="95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 rot="16200000">
              <a:off x="627840" y="380772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F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-90720" y="351864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F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67120" y="3735720"/>
              <a:ext cx="36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F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92000" y="21322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50560" y="227664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19280" y="407700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47640" y="3069000"/>
              <a:ext cx="0" cy="1008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43280" y="2563920"/>
              <a:ext cx="0" cy="151308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00760" y="4076640"/>
            <a:ext cx="5137200" cy="2071440"/>
            <a:chOff x="500760" y="4076640"/>
            <a:chExt cx="5137200" cy="2071440"/>
          </a:xfrm>
        </p:grpSpPr>
        <p:grpSp>
          <p:nvGrpSpPr>
            <p:cNvPr id="277" name=""/>
            <p:cNvGrpSpPr/>
            <p:nvPr/>
          </p:nvGrpSpPr>
          <p:grpSpPr>
            <a:xfrm>
              <a:off x="500760" y="4219560"/>
              <a:ext cx="549720" cy="357840"/>
              <a:chOff x="500760" y="4219560"/>
              <a:chExt cx="549720" cy="357840"/>
            </a:xfrm>
          </p:grpSpPr>
          <p:sp>
            <p:nvSpPr>
              <p:cNvPr id="278" name=""/>
              <p:cNvSpPr/>
              <p:nvPr/>
            </p:nvSpPr>
            <p:spPr>
              <a:xfrm>
                <a:off x="647640" y="4219560"/>
                <a:ext cx="11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333399"/>
                    </a:solidFill>
                    <a:latin typeface="Times New Roman"/>
                  </a:rPr>
                  <a:t>t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0760" y="4363920"/>
                <a:ext cx="54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[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nj/kol</a:t>
                </a:r>
                <a:r>
                  <a:rPr b="1" lang="en-US" sz="1200" spc="-1" strike="noStrike">
                    <a:solidFill>
                      <a:srgbClr val="333399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96920" y="5840280"/>
              <a:ext cx="4068000" cy="74520"/>
              <a:chOff x="1096920" y="5840280"/>
              <a:chExt cx="4068000" cy="74520"/>
            </a:xfrm>
          </p:grpSpPr>
          <p:sp>
            <p:nvSpPr>
              <p:cNvPr id="281" name=""/>
              <p:cNvSpPr/>
              <p:nvPr/>
            </p:nvSpPr>
            <p:spPr>
              <a:xfrm>
                <a:off x="1096920" y="5878440"/>
                <a:ext cx="3966840" cy="14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52600" y="584028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5">
                    <a:moveTo>
                      <a:pt x="0" y="0"/>
                    </a:moveTo>
                    <a:lnTo>
                      <a:pt x="141" y="48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162080" y="4219560"/>
              <a:ext cx="74160" cy="1928520"/>
              <a:chOff x="1162080" y="4219560"/>
              <a:chExt cx="74160" cy="1928520"/>
            </a:xfrm>
          </p:grpSpPr>
          <p:sp>
            <p:nvSpPr>
              <p:cNvPr id="284" name=""/>
              <p:cNvSpPr/>
              <p:nvPr/>
            </p:nvSpPr>
            <p:spPr>
              <a:xfrm>
                <a:off x="1186920" y="4352760"/>
                <a:ext cx="1080" cy="161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62080" y="4219560"/>
                <a:ext cx="74160" cy="112680"/>
              </a:xfrm>
              <a:custGeom>
                <a:avLst/>
                <a:gdLst/>
                <a:ahLst/>
                <a:rect l="l" t="t" r="r" b="b"/>
                <a:pathLst>
                  <a:path w="94" h="141">
                    <a:moveTo>
                      <a:pt x="0" y="141"/>
                    </a:moveTo>
                    <a:lnTo>
                      <a:pt x="47" y="0"/>
                    </a:lnTo>
                    <a:lnTo>
                      <a:pt x="94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86920" y="5967360"/>
                <a:ext cx="1080" cy="180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743280" y="5876640"/>
              <a:ext cx="1080" cy="270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187280" y="6021360"/>
              <a:ext cx="1264680" cy="74520"/>
              <a:chOff x="1187280" y="6021360"/>
              <a:chExt cx="1264680" cy="74520"/>
            </a:xfrm>
          </p:grpSpPr>
          <p:sp>
            <p:nvSpPr>
              <p:cNvPr id="289" name=""/>
              <p:cNvSpPr/>
              <p:nvPr/>
            </p:nvSpPr>
            <p:spPr>
              <a:xfrm>
                <a:off x="1288440" y="6059160"/>
                <a:ext cx="106164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87280" y="6021360"/>
                <a:ext cx="11232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41080" y="602136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452680" y="6019560"/>
              <a:ext cx="1289880" cy="75960"/>
              <a:chOff x="2452680" y="6019560"/>
              <a:chExt cx="1289880" cy="75960"/>
            </a:xfrm>
          </p:grpSpPr>
          <p:sp>
            <p:nvSpPr>
              <p:cNvPr id="293" name=""/>
              <p:cNvSpPr/>
              <p:nvPr/>
            </p:nvSpPr>
            <p:spPr>
              <a:xfrm>
                <a:off x="2557440" y="6058080"/>
                <a:ext cx="1080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52680" y="60195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142" y="94"/>
                    </a:moveTo>
                    <a:lnTo>
                      <a:pt x="0" y="47"/>
                    </a:lnTo>
                    <a:lnTo>
                      <a:pt x="142" y="0"/>
                    </a:lnTo>
                    <a:lnTo>
                      <a:pt x="142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27720" y="6019560"/>
                <a:ext cx="114840" cy="759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0" y="0"/>
                    </a:moveTo>
                    <a:lnTo>
                      <a:pt x="141" y="47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743280" y="6019560"/>
              <a:ext cx="1083960" cy="74520"/>
              <a:chOff x="3743280" y="6019560"/>
              <a:chExt cx="1083960" cy="74520"/>
            </a:xfrm>
          </p:grpSpPr>
          <p:sp>
            <p:nvSpPr>
              <p:cNvPr id="297" name=""/>
              <p:cNvSpPr/>
              <p:nvPr/>
            </p:nvSpPr>
            <p:spPr>
              <a:xfrm>
                <a:off x="3846240" y="6057360"/>
                <a:ext cx="981000" cy="18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743280" y="601956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0" y="47"/>
                    </a:lnTo>
                    <a:lnTo>
                      <a:pt x="141" y="0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726200" y="5876640"/>
              <a:ext cx="131400" cy="217800"/>
              <a:chOff x="1726200" y="5876640"/>
              <a:chExt cx="131400" cy="217800"/>
            </a:xfrm>
          </p:grpSpPr>
          <p:sp>
            <p:nvSpPr>
              <p:cNvPr id="300" name=""/>
              <p:cNvSpPr/>
              <p:nvPr/>
            </p:nvSpPr>
            <p:spPr>
              <a:xfrm>
                <a:off x="172620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71560" y="591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023280" y="5876640"/>
              <a:ext cx="173520" cy="217800"/>
              <a:chOff x="3023280" y="5876640"/>
              <a:chExt cx="173520" cy="217800"/>
            </a:xfrm>
          </p:grpSpPr>
          <p:sp>
            <p:nvSpPr>
              <p:cNvPr id="303" name=""/>
              <p:cNvSpPr/>
              <p:nvPr/>
            </p:nvSpPr>
            <p:spPr>
              <a:xfrm>
                <a:off x="3023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69720" y="591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247280" y="5876640"/>
              <a:ext cx="123120" cy="217800"/>
              <a:chOff x="4247280" y="5876640"/>
              <a:chExt cx="123120" cy="217800"/>
            </a:xfrm>
          </p:grpSpPr>
          <p:sp>
            <p:nvSpPr>
              <p:cNvPr id="306" name=""/>
              <p:cNvSpPr/>
              <p:nvPr/>
            </p:nvSpPr>
            <p:spPr>
              <a:xfrm>
                <a:off x="4247280" y="5876640"/>
                <a:ext cx="6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93360" y="591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765080" y="4371840"/>
              <a:ext cx="2757240" cy="995400"/>
            </a:xfrm>
            <a:custGeom>
              <a:avLst/>
              <a:gdLst/>
              <a:ahLst/>
              <a:rect l="l" t="t" r="r" b="b"/>
              <a:pathLst>
                <a:path w="3475" h="1252">
                  <a:moveTo>
                    <a:pt x="0" y="0"/>
                  </a:moveTo>
                  <a:lnTo>
                    <a:pt x="91" y="58"/>
                  </a:lnTo>
                  <a:lnTo>
                    <a:pt x="186" y="116"/>
                  </a:lnTo>
                  <a:lnTo>
                    <a:pt x="285" y="173"/>
                  </a:lnTo>
                  <a:lnTo>
                    <a:pt x="388" y="231"/>
                  </a:lnTo>
                  <a:lnTo>
                    <a:pt x="494" y="287"/>
                  </a:lnTo>
                  <a:lnTo>
                    <a:pt x="605" y="342"/>
                  </a:lnTo>
                  <a:lnTo>
                    <a:pt x="720" y="397"/>
                  </a:lnTo>
                  <a:lnTo>
                    <a:pt x="840" y="449"/>
                  </a:lnTo>
                  <a:lnTo>
                    <a:pt x="962" y="503"/>
                  </a:lnTo>
                  <a:lnTo>
                    <a:pt x="1089" y="555"/>
                  </a:lnTo>
                  <a:lnTo>
                    <a:pt x="1220" y="606"/>
                  </a:lnTo>
                  <a:lnTo>
                    <a:pt x="1356" y="658"/>
                  </a:lnTo>
                  <a:lnTo>
                    <a:pt x="1495" y="707"/>
                  </a:lnTo>
                  <a:lnTo>
                    <a:pt x="1637" y="758"/>
                  </a:lnTo>
                  <a:lnTo>
                    <a:pt x="1784" y="806"/>
                  </a:lnTo>
                  <a:lnTo>
                    <a:pt x="1935" y="854"/>
                  </a:lnTo>
                  <a:lnTo>
                    <a:pt x="2090" y="901"/>
                  </a:lnTo>
                  <a:lnTo>
                    <a:pt x="2249" y="947"/>
                  </a:lnTo>
                  <a:lnTo>
                    <a:pt x="2412" y="993"/>
                  </a:lnTo>
                  <a:lnTo>
                    <a:pt x="2579" y="1038"/>
                  </a:lnTo>
                  <a:lnTo>
                    <a:pt x="2751" y="1083"/>
                  </a:lnTo>
                  <a:lnTo>
                    <a:pt x="2926" y="1127"/>
                  </a:lnTo>
                  <a:lnTo>
                    <a:pt x="3105" y="1169"/>
                  </a:lnTo>
                  <a:lnTo>
                    <a:pt x="3288" y="1211"/>
                  </a:lnTo>
                  <a:lnTo>
                    <a:pt x="3475" y="1252"/>
                  </a:lnTo>
                </a:path>
              </a:pathLst>
            </a:custGeom>
            <a:noFill/>
            <a:ln w="126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84000" y="4508280"/>
              <a:ext cx="2893680" cy="700200"/>
            </a:xfrm>
            <a:custGeom>
              <a:avLst/>
              <a:gdLst/>
              <a:ahLst/>
              <a:rect l="l" t="t" r="r" b="b"/>
              <a:pathLst>
                <a:path w="3646" h="883">
                  <a:moveTo>
                    <a:pt x="0" y="0"/>
                  </a:moveTo>
                  <a:lnTo>
                    <a:pt x="111" y="71"/>
                  </a:lnTo>
                  <a:lnTo>
                    <a:pt x="226" y="138"/>
                  </a:lnTo>
                  <a:lnTo>
                    <a:pt x="342" y="203"/>
                  </a:lnTo>
                  <a:lnTo>
                    <a:pt x="462" y="265"/>
                  </a:lnTo>
                  <a:lnTo>
                    <a:pt x="585" y="324"/>
                  </a:lnTo>
                  <a:lnTo>
                    <a:pt x="710" y="379"/>
                  </a:lnTo>
                  <a:lnTo>
                    <a:pt x="839" y="433"/>
                  </a:lnTo>
                  <a:lnTo>
                    <a:pt x="970" y="482"/>
                  </a:lnTo>
                  <a:lnTo>
                    <a:pt x="1105" y="529"/>
                  </a:lnTo>
                  <a:lnTo>
                    <a:pt x="1242" y="574"/>
                  </a:lnTo>
                  <a:lnTo>
                    <a:pt x="1382" y="615"/>
                  </a:lnTo>
                  <a:lnTo>
                    <a:pt x="1524" y="653"/>
                  </a:lnTo>
                  <a:lnTo>
                    <a:pt x="1670" y="689"/>
                  </a:lnTo>
                  <a:lnTo>
                    <a:pt x="1819" y="721"/>
                  </a:lnTo>
                  <a:lnTo>
                    <a:pt x="1971" y="750"/>
                  </a:lnTo>
                  <a:lnTo>
                    <a:pt x="2125" y="777"/>
                  </a:lnTo>
                  <a:lnTo>
                    <a:pt x="2282" y="801"/>
                  </a:lnTo>
                  <a:lnTo>
                    <a:pt x="2443" y="821"/>
                  </a:lnTo>
                  <a:lnTo>
                    <a:pt x="2606" y="839"/>
                  </a:lnTo>
                  <a:lnTo>
                    <a:pt x="2772" y="853"/>
                  </a:lnTo>
                  <a:lnTo>
                    <a:pt x="2942" y="866"/>
                  </a:lnTo>
                  <a:lnTo>
                    <a:pt x="3113" y="874"/>
                  </a:lnTo>
                  <a:lnTo>
                    <a:pt x="3288" y="880"/>
                  </a:lnTo>
                  <a:lnTo>
                    <a:pt x="3465" y="883"/>
                  </a:lnTo>
                  <a:lnTo>
                    <a:pt x="3646" y="883"/>
                  </a:lnTo>
                </a:path>
              </a:pathLst>
            </a:custGeom>
            <a:noFill/>
            <a:ln w="126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49360" y="4552920"/>
              <a:ext cx="3072960" cy="455400"/>
            </a:xfrm>
            <a:custGeom>
              <a:avLst/>
              <a:gdLst/>
              <a:ahLst/>
              <a:rect l="l" t="t" r="r" b="b"/>
              <a:pathLst>
                <a:path w="3873" h="574">
                  <a:moveTo>
                    <a:pt x="0" y="0"/>
                  </a:moveTo>
                  <a:lnTo>
                    <a:pt x="32" y="34"/>
                  </a:lnTo>
                  <a:lnTo>
                    <a:pt x="69" y="65"/>
                  </a:lnTo>
                  <a:lnTo>
                    <a:pt x="110" y="97"/>
                  </a:lnTo>
                  <a:lnTo>
                    <a:pt x="155" y="128"/>
                  </a:lnTo>
                  <a:lnTo>
                    <a:pt x="203" y="157"/>
                  </a:lnTo>
                  <a:lnTo>
                    <a:pt x="256" y="185"/>
                  </a:lnTo>
                  <a:lnTo>
                    <a:pt x="313" y="212"/>
                  </a:lnTo>
                  <a:lnTo>
                    <a:pt x="373" y="239"/>
                  </a:lnTo>
                  <a:lnTo>
                    <a:pt x="438" y="265"/>
                  </a:lnTo>
                  <a:lnTo>
                    <a:pt x="507" y="288"/>
                  </a:lnTo>
                  <a:lnTo>
                    <a:pt x="580" y="312"/>
                  </a:lnTo>
                  <a:lnTo>
                    <a:pt x="657" y="334"/>
                  </a:lnTo>
                  <a:lnTo>
                    <a:pt x="738" y="356"/>
                  </a:lnTo>
                  <a:lnTo>
                    <a:pt x="822" y="376"/>
                  </a:lnTo>
                  <a:lnTo>
                    <a:pt x="910" y="396"/>
                  </a:lnTo>
                  <a:lnTo>
                    <a:pt x="1003" y="414"/>
                  </a:lnTo>
                  <a:lnTo>
                    <a:pt x="1100" y="432"/>
                  </a:lnTo>
                  <a:lnTo>
                    <a:pt x="1201" y="448"/>
                  </a:lnTo>
                  <a:lnTo>
                    <a:pt x="1305" y="463"/>
                  </a:lnTo>
                  <a:lnTo>
                    <a:pt x="1414" y="478"/>
                  </a:lnTo>
                  <a:lnTo>
                    <a:pt x="1527" y="491"/>
                  </a:lnTo>
                  <a:lnTo>
                    <a:pt x="1644" y="504"/>
                  </a:lnTo>
                  <a:lnTo>
                    <a:pt x="1764" y="515"/>
                  </a:lnTo>
                  <a:lnTo>
                    <a:pt x="1889" y="525"/>
                  </a:lnTo>
                  <a:lnTo>
                    <a:pt x="2017" y="535"/>
                  </a:lnTo>
                  <a:lnTo>
                    <a:pt x="2151" y="543"/>
                  </a:lnTo>
                  <a:lnTo>
                    <a:pt x="2286" y="551"/>
                  </a:lnTo>
                  <a:lnTo>
                    <a:pt x="2428" y="556"/>
                  </a:lnTo>
                  <a:lnTo>
                    <a:pt x="2572" y="562"/>
                  </a:lnTo>
                  <a:lnTo>
                    <a:pt x="2720" y="567"/>
                  </a:lnTo>
                  <a:lnTo>
                    <a:pt x="2873" y="570"/>
                  </a:lnTo>
                  <a:lnTo>
                    <a:pt x="3030" y="572"/>
                  </a:lnTo>
                  <a:lnTo>
                    <a:pt x="3190" y="574"/>
                  </a:lnTo>
                  <a:lnTo>
                    <a:pt x="3355" y="574"/>
                  </a:lnTo>
                  <a:lnTo>
                    <a:pt x="3524" y="574"/>
                  </a:lnTo>
                  <a:lnTo>
                    <a:pt x="3696" y="572"/>
                  </a:lnTo>
                  <a:lnTo>
                    <a:pt x="3873" y="57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7280" y="594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99280" y="5371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24000" y="53719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34680" y="5402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47640" y="5876640"/>
              <a:ext cx="1440" cy="2541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764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3280" y="4076640"/>
              <a:ext cx="0" cy="180000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1636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9280" y="5587920"/>
              <a:ext cx="35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94920" y="594828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Q [kol/god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5280" y="4868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r>
                <a:rPr b="1" lang="en-US" sz="1400" spc="-1" strike="noStrike" baseline="-25000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5280" y="5084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r>
                <a:rPr b="1" lang="sr-Latn-CS" sz="1400" spc="-1" strike="noStrike" baseline="-25000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5280" y="5300640"/>
              <a:ext cx="358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r>
                <a:rPr b="1" lang="sr-Latn-CS" sz="1400" spc="-1" strike="noStrike" baseline="-25000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580000" y="2139480"/>
            <a:ext cx="356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- ukupni troškovi proizvodnje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FT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- ukupni fiks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m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vta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- jedinični varijabilni troškovi za 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27612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 obim proizvodnje u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ol/god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4869000"/>
            <a:ext cx="3419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ra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- troškovi proizvodnje po jedinici proizvoda za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, 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i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A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redstva za rad u [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j/kol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u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m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;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Ia 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- intervali odgovarajućih obima proizvodnje</a:t>
            </a:r>
            <a:r>
              <a:rPr b="0" lang="sr-Latn-C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4941720"/>
            <a:ext cx="518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u = FTu + vtu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u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m = FTm + vtm*Q; 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m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TRa = FTa + vta*Q;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200" spc="-1" strike="noStrike">
                <a:solidFill>
                  <a:srgbClr val="333399"/>
                </a:solidFill>
                <a:latin typeface="Tahoma"/>
              </a:rPr>
              <a:t>vta = con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visnost ukupnih i prosečnih troškova od obima proizvodnje i vrste sredstava za r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508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ajmanje troškove proizvodnje imać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niverzalna sredstva za rad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0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ehan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 Q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  <a:ea typeface="Tahoma"/>
              </a:rPr>
              <a:t>є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1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, 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utomatizovana sredstva za rad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za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Q&gt;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  <a:ea typeface="Tahoma"/>
              </a:rPr>
              <a:t>Q</a:t>
            </a:r>
            <a:r>
              <a:rPr b="0" lang="sl-SI" sz="1800" spc="-1" strike="noStrike" baseline="-20000">
                <a:solidFill>
                  <a:srgbClr val="333399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1916280"/>
            <a:ext cx="3589920" cy="2806920"/>
            <a:chOff x="0" y="1916280"/>
            <a:chExt cx="3589920" cy="2806920"/>
          </a:xfrm>
        </p:grpSpPr>
        <p:grpSp>
          <p:nvGrpSpPr>
            <p:cNvPr id="330" name=""/>
            <p:cNvGrpSpPr/>
            <p:nvPr/>
          </p:nvGrpSpPr>
          <p:grpSpPr>
            <a:xfrm>
              <a:off x="0" y="1916280"/>
              <a:ext cx="3426840" cy="1576800"/>
              <a:chOff x="0" y="1916280"/>
              <a:chExt cx="3426840" cy="15768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52080" y="1916280"/>
                <a:ext cx="390960" cy="237600"/>
                <a:chOff x="352080" y="1916280"/>
                <a:chExt cx="390960" cy="2376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28400" y="1916280"/>
                  <a:ext cx="1591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2080" y="2016360"/>
                  <a:ext cx="390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god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09920" y="2053440"/>
                <a:ext cx="46080" cy="1304280"/>
                <a:chOff x="709920" y="2053440"/>
                <a:chExt cx="46080" cy="130428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733320" y="2124360"/>
                  <a:ext cx="720" cy="1233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09920" y="205344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 flipV="1">
                <a:off x="733680" y="2053080"/>
                <a:ext cx="1764000" cy="99324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33680" y="2115720"/>
                <a:ext cx="1960920" cy="807120"/>
              </a:xfrm>
              <a:prstGeom prst="line">
                <a:avLst/>
              </a:prstGeom>
              <a:ln w="1260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733680" y="2146320"/>
                <a:ext cx="2184120" cy="466560"/>
              </a:xfrm>
              <a:prstGeom prst="line">
                <a:avLst/>
              </a:prstGeom>
              <a:ln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96600" y="1916280"/>
                <a:ext cx="22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4084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86760" y="2933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66880" y="2941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62320" y="3300120"/>
                <a:ext cx="2455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1760" y="32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66680" y="335556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67320" y="3270600"/>
                <a:ext cx="3130200" cy="51120"/>
                <a:chOff x="67320" y="3270600"/>
                <a:chExt cx="3130200" cy="51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77160" y="329544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128040" y="32706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67320" y="3295440"/>
                  <a:ext cx="61524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515160" y="3051360"/>
                <a:ext cx="21816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1240" y="2926080"/>
                <a:ext cx="442440" cy="720"/>
              </a:xfrm>
              <a:custGeom>
                <a:avLst/>
                <a:gdLst/>
                <a:ahLst/>
                <a:rect l="l" t="t" r="r" b="b"/>
                <a:pathLst>
                  <a:path w="899" h="0">
                    <a:moveTo>
                      <a:pt x="899" y="0"/>
                    </a:move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7320" y="2608920"/>
                <a:ext cx="665640" cy="72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548640" y="3051360"/>
                <a:ext cx="46080" cy="244080"/>
                <a:chOff x="548640" y="3051360"/>
                <a:chExt cx="46080" cy="24408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570960" y="3120480"/>
                  <a:ext cx="1080" cy="1033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864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48640" y="305136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2">
                      <a:moveTo>
                        <a:pt x="0" y="142"/>
                      </a:moveTo>
                      <a:lnTo>
                        <a:pt x="47" y="0"/>
                      </a:lnTo>
                      <a:lnTo>
                        <a:pt x="94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24360" y="2926080"/>
                <a:ext cx="46080" cy="369360"/>
                <a:chOff x="324360" y="2926080"/>
                <a:chExt cx="46080" cy="36936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346680" y="2996280"/>
                  <a:ext cx="720" cy="2278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24360" y="321912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4" h="140">
                      <a:moveTo>
                        <a:pt x="94" y="0"/>
                      </a:moveTo>
                      <a:lnTo>
                        <a:pt x="47" y="140"/>
                      </a:lnTo>
                      <a:lnTo>
                        <a:pt x="0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24360" y="292608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00080" y="2608920"/>
                <a:ext cx="46080" cy="686880"/>
                <a:chOff x="100080" y="2608920"/>
                <a:chExt cx="46080" cy="686880"/>
              </a:xfrm>
            </p:grpSpPr>
            <p:sp>
              <p:nvSpPr>
                <p:cNvPr id="363" name=""/>
                <p:cNvSpPr/>
                <p:nvPr/>
              </p:nvSpPr>
              <p:spPr>
                <a:xfrm flipV="1">
                  <a:off x="122760" y="2678040"/>
                  <a:ext cx="720" cy="5461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00080" y="3219480"/>
                  <a:ext cx="46080" cy="76320"/>
                </a:xfrm>
                <a:custGeom>
                  <a:avLst/>
                  <a:gdLst/>
                  <a:ahLst/>
                  <a:rect l="l" t="t" r="r" b="b"/>
                  <a:pathLst>
                    <a:path w="95" h="140">
                      <a:moveTo>
                        <a:pt x="95" y="0"/>
                      </a:moveTo>
                      <a:lnTo>
                        <a:pt x="48" y="140"/>
                      </a:lnTo>
                      <a:lnTo>
                        <a:pt x="0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00080" y="2608920"/>
                  <a:ext cx="46080" cy="75960"/>
                </a:xfrm>
                <a:custGeom>
                  <a:avLst/>
                  <a:gdLst/>
                  <a:ahLst/>
                  <a:rect l="l" t="t" r="r" b="b"/>
                  <a:pathLst>
                    <a:path w="95" h="142">
                      <a:moveTo>
                        <a:pt x="0" y="142"/>
                      </a:moveTo>
                      <a:lnTo>
                        <a:pt x="48" y="0"/>
                      </a:lnTo>
                      <a:lnTo>
                        <a:pt x="95" y="14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 rot="16200000">
                <a:off x="384480" y="310860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00cc99"/>
                    </a:solidFill>
                    <a:latin typeface="Times New Roman"/>
                  </a:rPr>
                  <a:t>FT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6200000">
                <a:off x="-56160" y="2910600"/>
                <a:ext cx="250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FT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200000">
                <a:off x="163440" y="3060720"/>
                <a:ext cx="25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FT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719440" y="1965240"/>
                <a:ext cx="253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1200" y="206352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T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58800" y="330120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14520" y="2608920"/>
                <a:ext cx="0" cy="69228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316960" y="2261880"/>
                <a:ext cx="0" cy="103932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08160" y="3300840"/>
              <a:ext cx="3281760" cy="1422360"/>
              <a:chOff x="308160" y="3300840"/>
              <a:chExt cx="3281760" cy="142236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08160" y="3397680"/>
                <a:ext cx="365040" cy="235440"/>
                <a:chOff x="308160" y="3397680"/>
                <a:chExt cx="365040" cy="2354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97800" y="3397680"/>
                  <a:ext cx="89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900" spc="-1" strike="noStrike">
                      <a:solidFill>
                        <a:srgbClr val="333399"/>
                      </a:solidFill>
                      <a:latin typeface="Times New Roman"/>
                    </a:rPr>
                    <a:t>t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160" y="3495600"/>
                  <a:ext cx="36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99"/>
                      </a:solidFill>
                      <a:latin typeface="Times New Roman"/>
                    </a:rPr>
                    <a:t>[nj/kol]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677520" y="4512240"/>
                <a:ext cx="2520000" cy="51120"/>
                <a:chOff x="677520" y="4512240"/>
                <a:chExt cx="2520000" cy="51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677520" y="4538160"/>
                  <a:ext cx="2457360" cy="72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128040" y="451224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5">
                      <a:moveTo>
                        <a:pt x="0" y="0"/>
                      </a:moveTo>
                      <a:lnTo>
                        <a:pt x="141" y="48"/>
                      </a:lnTo>
                      <a:lnTo>
                        <a:pt x="0" y="9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717840" y="3398760"/>
                <a:ext cx="46080" cy="1324440"/>
                <a:chOff x="717840" y="3398760"/>
                <a:chExt cx="46080" cy="13244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33320" y="3490200"/>
                  <a:ext cx="720" cy="110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17840" y="339876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94" h="141">
                      <a:moveTo>
                        <a:pt x="0" y="141"/>
                      </a:moveTo>
                      <a:lnTo>
                        <a:pt x="47" y="0"/>
                      </a:lnTo>
                      <a:lnTo>
                        <a:pt x="94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33320" y="4599360"/>
                  <a:ext cx="720" cy="12384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2316960" y="4537440"/>
                <a:ext cx="720" cy="1854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733320" y="4636800"/>
                <a:ext cx="783360" cy="51120"/>
                <a:chOff x="733320" y="4636800"/>
                <a:chExt cx="783360" cy="51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95960" y="4662720"/>
                  <a:ext cx="65772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3320" y="463680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47920" y="4636800"/>
                  <a:ext cx="6876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517400" y="4635720"/>
                <a:ext cx="799200" cy="52200"/>
                <a:chOff x="1517400" y="4635720"/>
                <a:chExt cx="799200" cy="52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582200" y="4662000"/>
                  <a:ext cx="6688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517400" y="4635720"/>
                  <a:ext cx="70920" cy="52200"/>
                </a:xfrm>
                <a:custGeom>
                  <a:avLst/>
                  <a:gdLst/>
                  <a:ahLst/>
                  <a:rect l="l" t="t" r="r" b="b"/>
                  <a:pathLst>
                    <a:path w="142" h="94">
                      <a:moveTo>
                        <a:pt x="142" y="94"/>
                      </a:moveTo>
                      <a:lnTo>
                        <a:pt x="0" y="47"/>
                      </a:lnTo>
                      <a:lnTo>
                        <a:pt x="142" y="0"/>
                      </a:lnTo>
                      <a:lnTo>
                        <a:pt x="142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245320" y="4635720"/>
                  <a:ext cx="71280" cy="5220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0" y="0"/>
                      </a:moveTo>
                      <a:lnTo>
                        <a:pt x="141" y="47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2316960" y="4635720"/>
                <a:ext cx="671400" cy="51120"/>
                <a:chOff x="2316960" y="4635720"/>
                <a:chExt cx="671400" cy="51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380680" y="4661640"/>
                  <a:ext cx="607680" cy="108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316960" y="4635720"/>
                  <a:ext cx="69480" cy="511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0" y="47"/>
                      </a:lnTo>
                      <a:lnTo>
                        <a:pt x="141" y="0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067760" y="4536360"/>
                <a:ext cx="92880" cy="161280"/>
                <a:chOff x="1067760" y="4536360"/>
                <a:chExt cx="92880" cy="1612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06776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95840" y="45601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cc99"/>
                      </a:solidFill>
                      <a:latin typeface="Times New Roman"/>
                    </a:rPr>
                    <a:t>u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1870920" y="4536360"/>
                <a:ext cx="124200" cy="161280"/>
                <a:chOff x="1870920" y="4536360"/>
                <a:chExt cx="124200" cy="1612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87092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00080" y="4560120"/>
                  <a:ext cx="9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00cc"/>
                      </a:solidFill>
                      <a:latin typeface="Times New Roman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29440" y="4536360"/>
                <a:ext cx="86400" cy="161280"/>
                <a:chOff x="2629440" y="4536360"/>
                <a:chExt cx="86400" cy="1612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29440" y="4536360"/>
                  <a:ext cx="4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7160" y="4560120"/>
                  <a:ext cx="58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9966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1091160" y="3503520"/>
                <a:ext cx="1708200" cy="683640"/>
              </a:xfrm>
              <a:custGeom>
                <a:avLst/>
                <a:gdLst/>
                <a:ahLst/>
                <a:rect l="l" t="t" r="r" b="b"/>
                <a:pathLst>
                  <a:path w="3475" h="1252">
                    <a:moveTo>
                      <a:pt x="0" y="0"/>
                    </a:moveTo>
                    <a:lnTo>
                      <a:pt x="91" y="58"/>
                    </a:lnTo>
                    <a:lnTo>
                      <a:pt x="186" y="116"/>
                    </a:lnTo>
                    <a:lnTo>
                      <a:pt x="285" y="173"/>
                    </a:lnTo>
                    <a:lnTo>
                      <a:pt x="388" y="231"/>
                    </a:lnTo>
                    <a:lnTo>
                      <a:pt x="494" y="287"/>
                    </a:lnTo>
                    <a:lnTo>
                      <a:pt x="605" y="342"/>
                    </a:lnTo>
                    <a:lnTo>
                      <a:pt x="720" y="397"/>
                    </a:lnTo>
                    <a:lnTo>
                      <a:pt x="840" y="449"/>
                    </a:lnTo>
                    <a:lnTo>
                      <a:pt x="962" y="503"/>
                    </a:lnTo>
                    <a:lnTo>
                      <a:pt x="1089" y="555"/>
                    </a:lnTo>
                    <a:lnTo>
                      <a:pt x="1220" y="606"/>
                    </a:lnTo>
                    <a:lnTo>
                      <a:pt x="1356" y="658"/>
                    </a:lnTo>
                    <a:lnTo>
                      <a:pt x="1495" y="707"/>
                    </a:lnTo>
                    <a:lnTo>
                      <a:pt x="1637" y="758"/>
                    </a:lnTo>
                    <a:lnTo>
                      <a:pt x="1784" y="806"/>
                    </a:lnTo>
                    <a:lnTo>
                      <a:pt x="1935" y="854"/>
                    </a:lnTo>
                    <a:lnTo>
                      <a:pt x="2090" y="901"/>
                    </a:lnTo>
                    <a:lnTo>
                      <a:pt x="2249" y="947"/>
                    </a:lnTo>
                    <a:lnTo>
                      <a:pt x="2412" y="993"/>
                    </a:lnTo>
                    <a:lnTo>
                      <a:pt x="2579" y="1038"/>
                    </a:lnTo>
                    <a:lnTo>
                      <a:pt x="2751" y="1083"/>
                    </a:lnTo>
                    <a:lnTo>
                      <a:pt x="2926" y="1127"/>
                    </a:lnTo>
                    <a:lnTo>
                      <a:pt x="3105" y="1169"/>
                    </a:lnTo>
                    <a:lnTo>
                      <a:pt x="3288" y="1211"/>
                    </a:lnTo>
                    <a:lnTo>
                      <a:pt x="3475" y="1252"/>
                    </a:lnTo>
                  </a:path>
                </a:pathLst>
              </a:custGeom>
              <a:noFill/>
              <a:ln w="1260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79200" y="3597120"/>
                <a:ext cx="1792800" cy="480960"/>
              </a:xfrm>
              <a:custGeom>
                <a:avLst/>
                <a:gdLst/>
                <a:ahLst/>
                <a:rect l="l" t="t" r="r" b="b"/>
                <a:pathLst>
                  <a:path w="3646" h="883">
                    <a:moveTo>
                      <a:pt x="0" y="0"/>
                    </a:moveTo>
                    <a:lnTo>
                      <a:pt x="111" y="71"/>
                    </a:lnTo>
                    <a:lnTo>
                      <a:pt x="226" y="138"/>
                    </a:lnTo>
                    <a:lnTo>
                      <a:pt x="342" y="203"/>
                    </a:lnTo>
                    <a:lnTo>
                      <a:pt x="462" y="265"/>
                    </a:lnTo>
                    <a:lnTo>
                      <a:pt x="585" y="324"/>
                    </a:lnTo>
                    <a:lnTo>
                      <a:pt x="710" y="379"/>
                    </a:lnTo>
                    <a:lnTo>
                      <a:pt x="839" y="433"/>
                    </a:lnTo>
                    <a:lnTo>
                      <a:pt x="970" y="482"/>
                    </a:lnTo>
                    <a:lnTo>
                      <a:pt x="1105" y="529"/>
                    </a:lnTo>
                    <a:lnTo>
                      <a:pt x="1242" y="574"/>
                    </a:lnTo>
                    <a:lnTo>
                      <a:pt x="1382" y="615"/>
                    </a:lnTo>
                    <a:lnTo>
                      <a:pt x="1524" y="653"/>
                    </a:lnTo>
                    <a:lnTo>
                      <a:pt x="1670" y="689"/>
                    </a:lnTo>
                    <a:lnTo>
                      <a:pt x="1819" y="721"/>
                    </a:lnTo>
                    <a:lnTo>
                      <a:pt x="1971" y="750"/>
                    </a:lnTo>
                    <a:lnTo>
                      <a:pt x="2125" y="777"/>
                    </a:lnTo>
                    <a:lnTo>
                      <a:pt x="2282" y="801"/>
                    </a:lnTo>
                    <a:lnTo>
                      <a:pt x="2443" y="821"/>
                    </a:lnTo>
                    <a:lnTo>
                      <a:pt x="2606" y="839"/>
                    </a:lnTo>
                    <a:lnTo>
                      <a:pt x="2772" y="853"/>
                    </a:lnTo>
                    <a:lnTo>
                      <a:pt x="2942" y="866"/>
                    </a:lnTo>
                    <a:lnTo>
                      <a:pt x="3113" y="874"/>
                    </a:lnTo>
                    <a:lnTo>
                      <a:pt x="3288" y="880"/>
                    </a:lnTo>
                    <a:lnTo>
                      <a:pt x="3465" y="883"/>
                    </a:lnTo>
                    <a:lnTo>
                      <a:pt x="3646" y="883"/>
                    </a:lnTo>
                  </a:path>
                </a:pathLst>
              </a:custGeom>
              <a:noFill/>
              <a:ln w="1260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5680" y="3627720"/>
                <a:ext cx="1903680" cy="312840"/>
              </a:xfrm>
              <a:custGeom>
                <a:avLst/>
                <a:gdLst/>
                <a:ahLst/>
                <a:rect l="l" t="t" r="r" b="b"/>
                <a:pathLst>
                  <a:path w="3873" h="574">
                    <a:moveTo>
                      <a:pt x="0" y="0"/>
                    </a:moveTo>
                    <a:lnTo>
                      <a:pt x="32" y="34"/>
                    </a:lnTo>
                    <a:lnTo>
                      <a:pt x="69" y="65"/>
                    </a:lnTo>
                    <a:lnTo>
                      <a:pt x="110" y="97"/>
                    </a:lnTo>
                    <a:lnTo>
                      <a:pt x="155" y="128"/>
                    </a:lnTo>
                    <a:lnTo>
                      <a:pt x="203" y="157"/>
                    </a:lnTo>
                    <a:lnTo>
                      <a:pt x="256" y="185"/>
                    </a:lnTo>
                    <a:lnTo>
                      <a:pt x="313" y="212"/>
                    </a:lnTo>
                    <a:lnTo>
                      <a:pt x="373" y="239"/>
                    </a:lnTo>
                    <a:lnTo>
                      <a:pt x="438" y="265"/>
                    </a:lnTo>
                    <a:lnTo>
                      <a:pt x="507" y="288"/>
                    </a:lnTo>
                    <a:lnTo>
                      <a:pt x="580" y="312"/>
                    </a:lnTo>
                    <a:lnTo>
                      <a:pt x="657" y="334"/>
                    </a:lnTo>
                    <a:lnTo>
                      <a:pt x="738" y="356"/>
                    </a:lnTo>
                    <a:lnTo>
                      <a:pt x="822" y="376"/>
                    </a:lnTo>
                    <a:lnTo>
                      <a:pt x="910" y="396"/>
                    </a:lnTo>
                    <a:lnTo>
                      <a:pt x="1003" y="414"/>
                    </a:lnTo>
                    <a:lnTo>
                      <a:pt x="1100" y="432"/>
                    </a:lnTo>
                    <a:lnTo>
                      <a:pt x="1201" y="448"/>
                    </a:lnTo>
                    <a:lnTo>
                      <a:pt x="1305" y="463"/>
                    </a:lnTo>
                    <a:lnTo>
                      <a:pt x="1414" y="478"/>
                    </a:lnTo>
                    <a:lnTo>
                      <a:pt x="1527" y="491"/>
                    </a:lnTo>
                    <a:lnTo>
                      <a:pt x="1644" y="504"/>
                    </a:lnTo>
                    <a:lnTo>
                      <a:pt x="1764" y="515"/>
                    </a:lnTo>
                    <a:lnTo>
                      <a:pt x="1889" y="525"/>
                    </a:lnTo>
                    <a:lnTo>
                      <a:pt x="2017" y="535"/>
                    </a:lnTo>
                    <a:lnTo>
                      <a:pt x="2151" y="543"/>
                    </a:lnTo>
                    <a:lnTo>
                      <a:pt x="2286" y="551"/>
                    </a:lnTo>
                    <a:lnTo>
                      <a:pt x="2428" y="556"/>
                    </a:lnTo>
                    <a:lnTo>
                      <a:pt x="2572" y="562"/>
                    </a:lnTo>
                    <a:lnTo>
                      <a:pt x="2720" y="567"/>
                    </a:lnTo>
                    <a:lnTo>
                      <a:pt x="2873" y="570"/>
                    </a:lnTo>
                    <a:lnTo>
                      <a:pt x="3030" y="572"/>
                    </a:lnTo>
                    <a:lnTo>
                      <a:pt x="3190" y="574"/>
                    </a:lnTo>
                    <a:lnTo>
                      <a:pt x="3355" y="574"/>
                    </a:lnTo>
                    <a:lnTo>
                      <a:pt x="3524" y="574"/>
                    </a:lnTo>
                    <a:lnTo>
                      <a:pt x="3696" y="572"/>
                    </a:lnTo>
                    <a:lnTo>
                      <a:pt x="3873" y="57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1720" y="4585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12760" y="419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70920" y="419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21160" y="4210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14160" y="4537440"/>
                <a:ext cx="1080" cy="17460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141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16960" y="3300840"/>
                <a:ext cx="0" cy="1236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6196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58440" y="4337640"/>
                <a:ext cx="222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en-US" sz="9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029760" y="4585320"/>
                <a:ext cx="56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99"/>
                    </a:solidFill>
                    <a:latin typeface="Times New Roman"/>
                  </a:rPr>
                  <a:t>Q [kol/god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08720" y="38448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cc99"/>
                    </a:solidFill>
                    <a:latin typeface="Times New Roman"/>
                  </a:rPr>
                  <a:t>tr</a:t>
                </a:r>
                <a:r>
                  <a:rPr b="1" lang="en-US" sz="900" spc="-1" strike="noStrike" baseline="-25000">
                    <a:solidFill>
                      <a:srgbClr val="00cc99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08720" y="399240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9900cc"/>
                    </a:solidFill>
                    <a:latin typeface="Times New Roman"/>
                  </a:rPr>
                  <a:t>tr</a:t>
                </a:r>
                <a:r>
                  <a:rPr b="1" lang="sr-Latn-CS" sz="900" spc="-1" strike="noStrike" baseline="-25000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08720" y="4141440"/>
                <a:ext cx="2210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ff9966"/>
                    </a:solidFill>
                    <a:latin typeface="Times New Roman"/>
                  </a:rPr>
                  <a:t>tr</a:t>
                </a:r>
                <a:r>
                  <a:rPr b="1" lang="sr-Latn-CS" sz="900" spc="-1" strike="noStrike" baseline="-25000">
                    <a:solidFill>
                      <a:srgbClr val="ff9966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1835280" y="5013360"/>
            <a:ext cx="4994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7640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Granice interv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5516640"/>
            <a:ext cx="212400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u   =   T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68360" y="5516640"/>
            <a:ext cx="142920" cy="1152360"/>
          </a:xfrm>
          <a:custGeom>
            <a:avLst/>
            <a:gdLst>
              <a:gd name="textAreaLeft" fmla="*/ 0 w 142920"/>
              <a:gd name="textAreaRight" fmla="*/ 514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27280" y="6019920"/>
            <a:ext cx="298440" cy="114120"/>
          </a:xfrm>
          <a:prstGeom prst="rightArrow">
            <a:avLst>
              <a:gd name="adj1" fmla="val 50000"/>
              <a:gd name="adj2" fmla="val 6537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59280" y="5805360"/>
            <a:ext cx="598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5516640"/>
            <a:ext cx="21222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m   =  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   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   =   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43640" y="5516640"/>
            <a:ext cx="144360" cy="11509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04000" y="6021360"/>
            <a:ext cx="298440" cy="114480"/>
          </a:xfrm>
          <a:prstGeom prst="rightArrow">
            <a:avLst>
              <a:gd name="adj1" fmla="val 50000"/>
              <a:gd name="adj2" fmla="val 6517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308720" y="5805360"/>
            <a:ext cx="5986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3213000"/>
            <a:ext cx="5435640" cy="15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iverzalnim sredstvima za rad odgovaraju najmanji troškovi proizvodnje pri malim obimima, mehanizovanim pri srednjim, a automatizovanim pri velikim obimima proizvod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4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92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92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192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192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92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192" fill="hold"/>
                                        <p:tgtEl>
                                          <p:spTgt spid="4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192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192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ukup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60560" y="5578560"/>
            <a:ext cx="6158880" cy="107640"/>
            <a:chOff x="1960560" y="5578560"/>
            <a:chExt cx="6158880" cy="107640"/>
          </a:xfrm>
        </p:grpSpPr>
        <p:sp>
          <p:nvSpPr>
            <p:cNvPr id="435" name=""/>
            <p:cNvSpPr/>
            <p:nvPr/>
          </p:nvSpPr>
          <p:spPr>
            <a:xfrm>
              <a:off x="1960560" y="5631120"/>
              <a:ext cx="6017040" cy="216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65360" y="5578560"/>
              <a:ext cx="154080" cy="1076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824280" y="3892680"/>
            <a:ext cx="30240" cy="1746000"/>
          </a:xfrm>
          <a:custGeom>
            <a:avLst/>
            <a:gdLst/>
            <a:ahLst/>
            <a:rect l="l" t="t" r="r" b="b"/>
            <a:pathLst>
              <a:path w="29" h="1649">
                <a:moveTo>
                  <a:pt x="15" y="7"/>
                </a:moveTo>
                <a:lnTo>
                  <a:pt x="17" y="122"/>
                </a:lnTo>
                <a:lnTo>
                  <a:pt x="17" y="125"/>
                </a:lnTo>
                <a:lnTo>
                  <a:pt x="17" y="126"/>
                </a:lnTo>
                <a:lnTo>
                  <a:pt x="14" y="128"/>
                </a:lnTo>
                <a:lnTo>
                  <a:pt x="12" y="130"/>
                </a:lnTo>
                <a:lnTo>
                  <a:pt x="11" y="131"/>
                </a:lnTo>
                <a:lnTo>
                  <a:pt x="8" y="131"/>
                </a:lnTo>
                <a:lnTo>
                  <a:pt x="7" y="131"/>
                </a:lnTo>
                <a:lnTo>
                  <a:pt x="6" y="130"/>
                </a:lnTo>
                <a:lnTo>
                  <a:pt x="3" y="128"/>
                </a:lnTo>
                <a:lnTo>
                  <a:pt x="1" y="126"/>
                </a:lnTo>
                <a:lnTo>
                  <a:pt x="1" y="125"/>
                </a:lnTo>
                <a:lnTo>
                  <a:pt x="1" y="122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3" y="2"/>
                </a:lnTo>
                <a:lnTo>
                  <a:pt x="15" y="4"/>
                </a:lnTo>
                <a:lnTo>
                  <a:pt x="15" y="6"/>
                </a:lnTo>
                <a:lnTo>
                  <a:pt x="15" y="7"/>
                </a:lnTo>
                <a:lnTo>
                  <a:pt x="15" y="7"/>
                </a:lnTo>
                <a:close/>
                <a:moveTo>
                  <a:pt x="18" y="205"/>
                </a:moveTo>
                <a:lnTo>
                  <a:pt x="18" y="321"/>
                </a:lnTo>
                <a:lnTo>
                  <a:pt x="18" y="322"/>
                </a:lnTo>
                <a:lnTo>
                  <a:pt x="18" y="323"/>
                </a:lnTo>
                <a:lnTo>
                  <a:pt x="15" y="327"/>
                </a:lnTo>
                <a:lnTo>
                  <a:pt x="13" y="328"/>
                </a:lnTo>
                <a:lnTo>
                  <a:pt x="12" y="328"/>
                </a:lnTo>
                <a:lnTo>
                  <a:pt x="11" y="329"/>
                </a:lnTo>
                <a:lnTo>
                  <a:pt x="8" y="328"/>
                </a:lnTo>
                <a:lnTo>
                  <a:pt x="7" y="328"/>
                </a:lnTo>
                <a:lnTo>
                  <a:pt x="4" y="327"/>
                </a:lnTo>
                <a:lnTo>
                  <a:pt x="2" y="324"/>
                </a:lnTo>
                <a:lnTo>
                  <a:pt x="2" y="322"/>
                </a:lnTo>
                <a:lnTo>
                  <a:pt x="2" y="321"/>
                </a:lnTo>
                <a:lnTo>
                  <a:pt x="1" y="205"/>
                </a:lnTo>
                <a:lnTo>
                  <a:pt x="1" y="204"/>
                </a:lnTo>
                <a:lnTo>
                  <a:pt x="2" y="201"/>
                </a:lnTo>
                <a:lnTo>
                  <a:pt x="3" y="199"/>
                </a:lnTo>
                <a:lnTo>
                  <a:pt x="6" y="198"/>
                </a:lnTo>
                <a:lnTo>
                  <a:pt x="7" y="197"/>
                </a:lnTo>
                <a:lnTo>
                  <a:pt x="9" y="197"/>
                </a:lnTo>
                <a:lnTo>
                  <a:pt x="11" y="197"/>
                </a:lnTo>
                <a:lnTo>
                  <a:pt x="12" y="198"/>
                </a:lnTo>
                <a:lnTo>
                  <a:pt x="15" y="199"/>
                </a:lnTo>
                <a:lnTo>
                  <a:pt x="17" y="201"/>
                </a:lnTo>
                <a:lnTo>
                  <a:pt x="17" y="204"/>
                </a:lnTo>
                <a:lnTo>
                  <a:pt x="18" y="205"/>
                </a:lnTo>
                <a:lnTo>
                  <a:pt x="18" y="205"/>
                </a:lnTo>
                <a:close/>
                <a:moveTo>
                  <a:pt x="19" y="403"/>
                </a:moveTo>
                <a:lnTo>
                  <a:pt x="20" y="518"/>
                </a:lnTo>
                <a:lnTo>
                  <a:pt x="19" y="520"/>
                </a:lnTo>
                <a:lnTo>
                  <a:pt x="19" y="521"/>
                </a:lnTo>
                <a:lnTo>
                  <a:pt x="18" y="524"/>
                </a:lnTo>
                <a:lnTo>
                  <a:pt x="14" y="526"/>
                </a:lnTo>
                <a:lnTo>
                  <a:pt x="13" y="526"/>
                </a:lnTo>
                <a:lnTo>
                  <a:pt x="12" y="526"/>
                </a:lnTo>
                <a:lnTo>
                  <a:pt x="9" y="526"/>
                </a:lnTo>
                <a:lnTo>
                  <a:pt x="8" y="526"/>
                </a:lnTo>
                <a:lnTo>
                  <a:pt x="6" y="524"/>
                </a:lnTo>
                <a:lnTo>
                  <a:pt x="4" y="521"/>
                </a:lnTo>
                <a:lnTo>
                  <a:pt x="3" y="520"/>
                </a:lnTo>
                <a:lnTo>
                  <a:pt x="3" y="518"/>
                </a:lnTo>
                <a:lnTo>
                  <a:pt x="2" y="403"/>
                </a:lnTo>
                <a:lnTo>
                  <a:pt x="2" y="401"/>
                </a:lnTo>
                <a:lnTo>
                  <a:pt x="3" y="400"/>
                </a:lnTo>
                <a:lnTo>
                  <a:pt x="4" y="397"/>
                </a:lnTo>
                <a:lnTo>
                  <a:pt x="7" y="395"/>
                </a:lnTo>
                <a:lnTo>
                  <a:pt x="9" y="395"/>
                </a:lnTo>
                <a:lnTo>
                  <a:pt x="11" y="395"/>
                </a:lnTo>
                <a:lnTo>
                  <a:pt x="12" y="395"/>
                </a:lnTo>
                <a:lnTo>
                  <a:pt x="14" y="395"/>
                </a:lnTo>
                <a:lnTo>
                  <a:pt x="17" y="397"/>
                </a:lnTo>
                <a:lnTo>
                  <a:pt x="18" y="400"/>
                </a:lnTo>
                <a:lnTo>
                  <a:pt x="19" y="401"/>
                </a:lnTo>
                <a:lnTo>
                  <a:pt x="19" y="403"/>
                </a:lnTo>
                <a:lnTo>
                  <a:pt x="19" y="403"/>
                </a:lnTo>
                <a:close/>
                <a:moveTo>
                  <a:pt x="20" y="600"/>
                </a:moveTo>
                <a:lnTo>
                  <a:pt x="22" y="716"/>
                </a:lnTo>
                <a:lnTo>
                  <a:pt x="22" y="717"/>
                </a:lnTo>
                <a:lnTo>
                  <a:pt x="20" y="720"/>
                </a:lnTo>
                <a:lnTo>
                  <a:pt x="19" y="722"/>
                </a:lnTo>
                <a:lnTo>
                  <a:pt x="17" y="723"/>
                </a:lnTo>
                <a:lnTo>
                  <a:pt x="14" y="725"/>
                </a:lnTo>
                <a:lnTo>
                  <a:pt x="13" y="725"/>
                </a:lnTo>
                <a:lnTo>
                  <a:pt x="12" y="725"/>
                </a:lnTo>
                <a:lnTo>
                  <a:pt x="9" y="723"/>
                </a:lnTo>
                <a:lnTo>
                  <a:pt x="7" y="722"/>
                </a:lnTo>
                <a:lnTo>
                  <a:pt x="6" y="720"/>
                </a:lnTo>
                <a:lnTo>
                  <a:pt x="4" y="717"/>
                </a:lnTo>
                <a:lnTo>
                  <a:pt x="4" y="716"/>
                </a:lnTo>
                <a:lnTo>
                  <a:pt x="4" y="600"/>
                </a:lnTo>
                <a:lnTo>
                  <a:pt x="4" y="599"/>
                </a:lnTo>
                <a:lnTo>
                  <a:pt x="4" y="598"/>
                </a:lnTo>
                <a:lnTo>
                  <a:pt x="6" y="594"/>
                </a:lnTo>
                <a:lnTo>
                  <a:pt x="9" y="593"/>
                </a:lnTo>
                <a:lnTo>
                  <a:pt x="11" y="592"/>
                </a:lnTo>
                <a:lnTo>
                  <a:pt x="12" y="592"/>
                </a:lnTo>
                <a:lnTo>
                  <a:pt x="14" y="592"/>
                </a:lnTo>
                <a:lnTo>
                  <a:pt x="15" y="593"/>
                </a:lnTo>
                <a:lnTo>
                  <a:pt x="18" y="594"/>
                </a:lnTo>
                <a:lnTo>
                  <a:pt x="19" y="597"/>
                </a:lnTo>
                <a:lnTo>
                  <a:pt x="20" y="599"/>
                </a:lnTo>
                <a:lnTo>
                  <a:pt x="20" y="600"/>
                </a:lnTo>
                <a:lnTo>
                  <a:pt x="20" y="600"/>
                </a:lnTo>
                <a:close/>
                <a:moveTo>
                  <a:pt x="22" y="799"/>
                </a:moveTo>
                <a:lnTo>
                  <a:pt x="23" y="913"/>
                </a:lnTo>
                <a:lnTo>
                  <a:pt x="23" y="915"/>
                </a:lnTo>
                <a:lnTo>
                  <a:pt x="22" y="917"/>
                </a:lnTo>
                <a:lnTo>
                  <a:pt x="20" y="919"/>
                </a:lnTo>
                <a:lnTo>
                  <a:pt x="18" y="922"/>
                </a:lnTo>
                <a:lnTo>
                  <a:pt x="17" y="922"/>
                </a:lnTo>
                <a:lnTo>
                  <a:pt x="14" y="922"/>
                </a:lnTo>
                <a:lnTo>
                  <a:pt x="13" y="922"/>
                </a:lnTo>
                <a:lnTo>
                  <a:pt x="12" y="922"/>
                </a:lnTo>
                <a:lnTo>
                  <a:pt x="8" y="919"/>
                </a:lnTo>
                <a:lnTo>
                  <a:pt x="7" y="917"/>
                </a:lnTo>
                <a:lnTo>
                  <a:pt x="7" y="915"/>
                </a:lnTo>
                <a:lnTo>
                  <a:pt x="6" y="914"/>
                </a:lnTo>
                <a:lnTo>
                  <a:pt x="6" y="799"/>
                </a:lnTo>
                <a:lnTo>
                  <a:pt x="6" y="796"/>
                </a:lnTo>
                <a:lnTo>
                  <a:pt x="6" y="795"/>
                </a:lnTo>
                <a:lnTo>
                  <a:pt x="8" y="793"/>
                </a:lnTo>
                <a:lnTo>
                  <a:pt x="11" y="790"/>
                </a:lnTo>
                <a:lnTo>
                  <a:pt x="12" y="790"/>
                </a:lnTo>
                <a:lnTo>
                  <a:pt x="13" y="790"/>
                </a:lnTo>
                <a:lnTo>
                  <a:pt x="15" y="790"/>
                </a:lnTo>
                <a:lnTo>
                  <a:pt x="17" y="790"/>
                </a:lnTo>
                <a:lnTo>
                  <a:pt x="19" y="793"/>
                </a:lnTo>
                <a:lnTo>
                  <a:pt x="22" y="795"/>
                </a:lnTo>
                <a:lnTo>
                  <a:pt x="22" y="796"/>
                </a:lnTo>
                <a:lnTo>
                  <a:pt x="22" y="799"/>
                </a:lnTo>
                <a:lnTo>
                  <a:pt x="22" y="799"/>
                </a:lnTo>
                <a:close/>
                <a:moveTo>
                  <a:pt x="24" y="996"/>
                </a:moveTo>
                <a:lnTo>
                  <a:pt x="24" y="1111"/>
                </a:lnTo>
                <a:lnTo>
                  <a:pt x="24" y="1113"/>
                </a:lnTo>
                <a:lnTo>
                  <a:pt x="24" y="1115"/>
                </a:lnTo>
                <a:lnTo>
                  <a:pt x="22" y="1117"/>
                </a:lnTo>
                <a:lnTo>
                  <a:pt x="19" y="1119"/>
                </a:lnTo>
                <a:lnTo>
                  <a:pt x="18" y="1120"/>
                </a:lnTo>
                <a:lnTo>
                  <a:pt x="17" y="1120"/>
                </a:lnTo>
                <a:lnTo>
                  <a:pt x="14" y="1120"/>
                </a:lnTo>
                <a:lnTo>
                  <a:pt x="13" y="1119"/>
                </a:lnTo>
                <a:lnTo>
                  <a:pt x="11" y="1117"/>
                </a:lnTo>
                <a:lnTo>
                  <a:pt x="8" y="1115"/>
                </a:lnTo>
                <a:lnTo>
                  <a:pt x="8" y="1113"/>
                </a:lnTo>
                <a:lnTo>
                  <a:pt x="8" y="1111"/>
                </a:lnTo>
                <a:lnTo>
                  <a:pt x="7" y="996"/>
                </a:lnTo>
                <a:lnTo>
                  <a:pt x="7" y="995"/>
                </a:lnTo>
                <a:lnTo>
                  <a:pt x="7" y="993"/>
                </a:lnTo>
                <a:lnTo>
                  <a:pt x="9" y="990"/>
                </a:lnTo>
                <a:lnTo>
                  <a:pt x="12" y="988"/>
                </a:lnTo>
                <a:lnTo>
                  <a:pt x="13" y="988"/>
                </a:lnTo>
                <a:lnTo>
                  <a:pt x="15" y="987"/>
                </a:lnTo>
                <a:lnTo>
                  <a:pt x="17" y="988"/>
                </a:lnTo>
                <a:lnTo>
                  <a:pt x="18" y="988"/>
                </a:lnTo>
                <a:lnTo>
                  <a:pt x="20" y="990"/>
                </a:lnTo>
                <a:lnTo>
                  <a:pt x="23" y="993"/>
                </a:lnTo>
                <a:lnTo>
                  <a:pt x="23" y="995"/>
                </a:lnTo>
                <a:lnTo>
                  <a:pt x="24" y="996"/>
                </a:lnTo>
                <a:lnTo>
                  <a:pt x="24" y="996"/>
                </a:lnTo>
                <a:close/>
                <a:moveTo>
                  <a:pt x="25" y="1194"/>
                </a:moveTo>
                <a:lnTo>
                  <a:pt x="25" y="1310"/>
                </a:lnTo>
                <a:lnTo>
                  <a:pt x="25" y="1311"/>
                </a:lnTo>
                <a:lnTo>
                  <a:pt x="25" y="1312"/>
                </a:lnTo>
                <a:lnTo>
                  <a:pt x="24" y="1314"/>
                </a:lnTo>
                <a:lnTo>
                  <a:pt x="20" y="1317"/>
                </a:lnTo>
                <a:lnTo>
                  <a:pt x="19" y="1317"/>
                </a:lnTo>
                <a:lnTo>
                  <a:pt x="18" y="1317"/>
                </a:lnTo>
                <a:lnTo>
                  <a:pt x="15" y="1317"/>
                </a:lnTo>
                <a:lnTo>
                  <a:pt x="14" y="1317"/>
                </a:lnTo>
                <a:lnTo>
                  <a:pt x="12" y="1314"/>
                </a:lnTo>
                <a:lnTo>
                  <a:pt x="9" y="1312"/>
                </a:lnTo>
                <a:lnTo>
                  <a:pt x="9" y="1311"/>
                </a:lnTo>
                <a:lnTo>
                  <a:pt x="9" y="1310"/>
                </a:lnTo>
                <a:lnTo>
                  <a:pt x="8" y="1194"/>
                </a:lnTo>
                <a:lnTo>
                  <a:pt x="8" y="1192"/>
                </a:lnTo>
                <a:lnTo>
                  <a:pt x="9" y="1190"/>
                </a:lnTo>
                <a:lnTo>
                  <a:pt x="11" y="1188"/>
                </a:lnTo>
                <a:lnTo>
                  <a:pt x="13" y="1187"/>
                </a:lnTo>
                <a:lnTo>
                  <a:pt x="15" y="1186"/>
                </a:lnTo>
                <a:lnTo>
                  <a:pt x="17" y="1186"/>
                </a:lnTo>
                <a:lnTo>
                  <a:pt x="18" y="1186"/>
                </a:lnTo>
                <a:lnTo>
                  <a:pt x="20" y="1186"/>
                </a:lnTo>
                <a:lnTo>
                  <a:pt x="23" y="1188"/>
                </a:lnTo>
                <a:lnTo>
                  <a:pt x="24" y="1190"/>
                </a:lnTo>
                <a:lnTo>
                  <a:pt x="25" y="1192"/>
                </a:lnTo>
                <a:lnTo>
                  <a:pt x="25" y="1194"/>
                </a:lnTo>
                <a:lnTo>
                  <a:pt x="25" y="1194"/>
                </a:lnTo>
                <a:close/>
                <a:moveTo>
                  <a:pt x="26" y="1391"/>
                </a:moveTo>
                <a:lnTo>
                  <a:pt x="28" y="1507"/>
                </a:lnTo>
                <a:lnTo>
                  <a:pt x="28" y="1508"/>
                </a:lnTo>
                <a:lnTo>
                  <a:pt x="26" y="1510"/>
                </a:lnTo>
                <a:lnTo>
                  <a:pt x="25" y="1513"/>
                </a:lnTo>
                <a:lnTo>
                  <a:pt x="23" y="1514"/>
                </a:lnTo>
                <a:lnTo>
                  <a:pt x="20" y="1515"/>
                </a:lnTo>
                <a:lnTo>
                  <a:pt x="19" y="1515"/>
                </a:lnTo>
                <a:lnTo>
                  <a:pt x="18" y="1515"/>
                </a:lnTo>
                <a:lnTo>
                  <a:pt x="15" y="1514"/>
                </a:lnTo>
                <a:lnTo>
                  <a:pt x="13" y="1513"/>
                </a:lnTo>
                <a:lnTo>
                  <a:pt x="12" y="1510"/>
                </a:lnTo>
                <a:lnTo>
                  <a:pt x="11" y="1509"/>
                </a:lnTo>
                <a:lnTo>
                  <a:pt x="11" y="1507"/>
                </a:lnTo>
                <a:lnTo>
                  <a:pt x="9" y="1391"/>
                </a:lnTo>
                <a:lnTo>
                  <a:pt x="11" y="1390"/>
                </a:lnTo>
                <a:lnTo>
                  <a:pt x="11" y="1389"/>
                </a:lnTo>
                <a:lnTo>
                  <a:pt x="12" y="1386"/>
                </a:lnTo>
                <a:lnTo>
                  <a:pt x="15" y="1384"/>
                </a:lnTo>
                <a:lnTo>
                  <a:pt x="17" y="1384"/>
                </a:lnTo>
                <a:lnTo>
                  <a:pt x="18" y="1384"/>
                </a:lnTo>
                <a:lnTo>
                  <a:pt x="20" y="1384"/>
                </a:lnTo>
                <a:lnTo>
                  <a:pt x="22" y="1384"/>
                </a:lnTo>
                <a:lnTo>
                  <a:pt x="24" y="1385"/>
                </a:lnTo>
                <a:lnTo>
                  <a:pt x="25" y="1389"/>
                </a:lnTo>
                <a:lnTo>
                  <a:pt x="26" y="1390"/>
                </a:lnTo>
                <a:lnTo>
                  <a:pt x="26" y="1391"/>
                </a:lnTo>
                <a:lnTo>
                  <a:pt x="26" y="1391"/>
                </a:lnTo>
                <a:close/>
                <a:moveTo>
                  <a:pt x="28" y="1589"/>
                </a:moveTo>
                <a:lnTo>
                  <a:pt x="29" y="1640"/>
                </a:lnTo>
                <a:lnTo>
                  <a:pt x="28" y="1643"/>
                </a:lnTo>
                <a:lnTo>
                  <a:pt x="28" y="1644"/>
                </a:lnTo>
                <a:lnTo>
                  <a:pt x="26" y="1647"/>
                </a:lnTo>
                <a:lnTo>
                  <a:pt x="23" y="1649"/>
                </a:lnTo>
                <a:lnTo>
                  <a:pt x="22" y="1649"/>
                </a:lnTo>
                <a:lnTo>
                  <a:pt x="20" y="1649"/>
                </a:lnTo>
                <a:lnTo>
                  <a:pt x="18" y="1649"/>
                </a:lnTo>
                <a:lnTo>
                  <a:pt x="17" y="1649"/>
                </a:lnTo>
                <a:lnTo>
                  <a:pt x="14" y="1647"/>
                </a:lnTo>
                <a:lnTo>
                  <a:pt x="13" y="1644"/>
                </a:lnTo>
                <a:lnTo>
                  <a:pt x="12" y="1643"/>
                </a:lnTo>
                <a:lnTo>
                  <a:pt x="12" y="1640"/>
                </a:lnTo>
                <a:lnTo>
                  <a:pt x="12" y="1589"/>
                </a:lnTo>
                <a:lnTo>
                  <a:pt x="12" y="1588"/>
                </a:lnTo>
                <a:lnTo>
                  <a:pt x="12" y="1586"/>
                </a:lnTo>
                <a:lnTo>
                  <a:pt x="14" y="1583"/>
                </a:lnTo>
                <a:lnTo>
                  <a:pt x="17" y="1582"/>
                </a:lnTo>
                <a:lnTo>
                  <a:pt x="18" y="1581"/>
                </a:lnTo>
                <a:lnTo>
                  <a:pt x="19" y="1581"/>
                </a:lnTo>
                <a:lnTo>
                  <a:pt x="22" y="1581"/>
                </a:lnTo>
                <a:lnTo>
                  <a:pt x="23" y="1582"/>
                </a:lnTo>
                <a:lnTo>
                  <a:pt x="25" y="1583"/>
                </a:lnTo>
                <a:lnTo>
                  <a:pt x="28" y="1586"/>
                </a:lnTo>
                <a:lnTo>
                  <a:pt x="28" y="1587"/>
                </a:lnTo>
                <a:lnTo>
                  <a:pt x="28" y="1589"/>
                </a:lnTo>
                <a:lnTo>
                  <a:pt x="28" y="1589"/>
                </a:lnTo>
                <a:close/>
              </a:path>
            </a:pathLst>
          </a:custGeom>
          <a:solidFill>
            <a:srgbClr val="333399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033640" y="2228760"/>
            <a:ext cx="102600" cy="3791880"/>
            <a:chOff x="2033640" y="2228760"/>
            <a:chExt cx="102600" cy="3791880"/>
          </a:xfrm>
        </p:grpSpPr>
        <p:sp>
          <p:nvSpPr>
            <p:cNvPr id="439" name=""/>
            <p:cNvSpPr/>
            <p:nvPr/>
          </p:nvSpPr>
          <p:spPr>
            <a:xfrm>
              <a:off x="2086200" y="2376720"/>
              <a:ext cx="1800" cy="338472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33640" y="2228760"/>
              <a:ext cx="102600" cy="162720"/>
            </a:xfrm>
            <a:custGeom>
              <a:avLst/>
              <a:gdLst/>
              <a:ahLst/>
              <a:rect l="l" t="t" r="r" b="b"/>
              <a:pathLst>
                <a:path w="103" h="153">
                  <a:moveTo>
                    <a:pt x="0" y="153"/>
                  </a:moveTo>
                  <a:lnTo>
                    <a:pt x="52" y="0"/>
                  </a:lnTo>
                  <a:lnTo>
                    <a:pt x="103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86200" y="5761440"/>
              <a:ext cx="1800" cy="2592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46600" y="5630760"/>
            <a:ext cx="32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05560" y="5630760"/>
            <a:ext cx="1440" cy="390600"/>
          </a:xfrm>
          <a:prstGeom prst="line">
            <a:avLst/>
          </a:prstGeom>
          <a:ln w="14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085840" y="5837400"/>
            <a:ext cx="1760400" cy="107280"/>
            <a:chOff x="2085840" y="5837400"/>
            <a:chExt cx="1760400" cy="107280"/>
          </a:xfrm>
        </p:grpSpPr>
        <p:sp>
          <p:nvSpPr>
            <p:cNvPr id="445" name=""/>
            <p:cNvSpPr/>
            <p:nvPr/>
          </p:nvSpPr>
          <p:spPr>
            <a:xfrm>
              <a:off x="2227320" y="5892120"/>
              <a:ext cx="147492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8584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964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0" y="0"/>
                  </a:moveTo>
                  <a:lnTo>
                    <a:pt x="153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846600" y="5837400"/>
            <a:ext cx="1758600" cy="107280"/>
            <a:chOff x="3846600" y="5837400"/>
            <a:chExt cx="1758600" cy="107280"/>
          </a:xfrm>
        </p:grpSpPr>
        <p:sp>
          <p:nvSpPr>
            <p:cNvPr id="449" name=""/>
            <p:cNvSpPr/>
            <p:nvPr/>
          </p:nvSpPr>
          <p:spPr>
            <a:xfrm>
              <a:off x="3988440" y="5892120"/>
              <a:ext cx="147456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46600" y="5837400"/>
              <a:ext cx="15408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154" y="102"/>
                  </a:moveTo>
                  <a:lnTo>
                    <a:pt x="0" y="51"/>
                  </a:lnTo>
                  <a:lnTo>
                    <a:pt x="154" y="0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4860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0" y="0"/>
                  </a:moveTo>
                  <a:lnTo>
                    <a:pt x="154" y="51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605560" y="5837400"/>
            <a:ext cx="1509120" cy="107280"/>
            <a:chOff x="5605560" y="5837400"/>
            <a:chExt cx="1509120" cy="107280"/>
          </a:xfrm>
        </p:grpSpPr>
        <p:sp>
          <p:nvSpPr>
            <p:cNvPr id="453" name=""/>
            <p:cNvSpPr/>
            <p:nvPr/>
          </p:nvSpPr>
          <p:spPr>
            <a:xfrm>
              <a:off x="5747400" y="5892120"/>
              <a:ext cx="1367280" cy="1800"/>
            </a:xfrm>
            <a:prstGeom prst="line">
              <a:avLst/>
            </a:prstGeom>
            <a:ln w="14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05560" y="5837400"/>
              <a:ext cx="156600" cy="10728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153" y="102"/>
                  </a:moveTo>
                  <a:lnTo>
                    <a:pt x="0" y="51"/>
                  </a:lnTo>
                  <a:lnTo>
                    <a:pt x="153" y="0"/>
                  </a:lnTo>
                  <a:lnTo>
                    <a:pt x="153" y="10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72440" y="5668920"/>
            <a:ext cx="166680" cy="266040"/>
            <a:chOff x="2872440" y="5668920"/>
            <a:chExt cx="166680" cy="266040"/>
          </a:xfrm>
        </p:grpSpPr>
        <p:sp>
          <p:nvSpPr>
            <p:cNvPr id="456" name=""/>
            <p:cNvSpPr/>
            <p:nvPr/>
          </p:nvSpPr>
          <p:spPr>
            <a:xfrm>
              <a:off x="287244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39400" y="572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618080" y="5668920"/>
            <a:ext cx="214200" cy="266040"/>
            <a:chOff x="4618080" y="5668920"/>
            <a:chExt cx="214200" cy="266040"/>
          </a:xfrm>
        </p:grpSpPr>
        <p:sp>
          <p:nvSpPr>
            <p:cNvPr id="459" name=""/>
            <p:cNvSpPr/>
            <p:nvPr/>
          </p:nvSpPr>
          <p:spPr>
            <a:xfrm>
              <a:off x="461808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83600" y="5721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327720" y="5668920"/>
            <a:ext cx="154440" cy="266040"/>
            <a:chOff x="6327720" y="5668920"/>
            <a:chExt cx="154440" cy="266040"/>
          </a:xfrm>
        </p:grpSpPr>
        <p:sp>
          <p:nvSpPr>
            <p:cNvPr id="462" name=""/>
            <p:cNvSpPr/>
            <p:nvPr/>
          </p:nvSpPr>
          <p:spPr>
            <a:xfrm>
              <a:off x="6327720" y="5668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1440" y="5721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085840" y="2624040"/>
            <a:ext cx="2639880" cy="2614320"/>
            <a:chOff x="2085840" y="2624040"/>
            <a:chExt cx="2639880" cy="2614320"/>
          </a:xfrm>
        </p:grpSpPr>
        <p:sp>
          <p:nvSpPr>
            <p:cNvPr id="465" name=""/>
            <p:cNvSpPr/>
            <p:nvPr/>
          </p:nvSpPr>
          <p:spPr>
            <a:xfrm>
              <a:off x="2085840" y="4714560"/>
              <a:ext cx="880920" cy="523800"/>
            </a:xfrm>
            <a:custGeom>
              <a:avLst/>
              <a:gdLst/>
              <a:ahLst/>
              <a:rect l="l" t="t" r="r" b="b"/>
              <a:pathLst>
                <a:path w="866" h="495">
                  <a:moveTo>
                    <a:pt x="866" y="0"/>
                  </a:moveTo>
                  <a:lnTo>
                    <a:pt x="783" y="26"/>
                  </a:lnTo>
                  <a:lnTo>
                    <a:pt x="704" y="52"/>
                  </a:lnTo>
                  <a:lnTo>
                    <a:pt x="630" y="77"/>
                  </a:lnTo>
                  <a:lnTo>
                    <a:pt x="561" y="104"/>
                  </a:lnTo>
                  <a:lnTo>
                    <a:pt x="494" y="130"/>
                  </a:lnTo>
                  <a:lnTo>
                    <a:pt x="432" y="157"/>
                  </a:lnTo>
                  <a:lnTo>
                    <a:pt x="374" y="182"/>
                  </a:lnTo>
                  <a:lnTo>
                    <a:pt x="321" y="208"/>
                  </a:lnTo>
                  <a:lnTo>
                    <a:pt x="271" y="234"/>
                  </a:lnTo>
                  <a:lnTo>
                    <a:pt x="225" y="260"/>
                  </a:lnTo>
                  <a:lnTo>
                    <a:pt x="183" y="285"/>
                  </a:lnTo>
                  <a:lnTo>
                    <a:pt x="147" y="312"/>
                  </a:lnTo>
                  <a:lnTo>
                    <a:pt x="113" y="338"/>
                  </a:lnTo>
                  <a:lnTo>
                    <a:pt x="84" y="365"/>
                  </a:lnTo>
                  <a:lnTo>
                    <a:pt x="59" y="390"/>
                  </a:lnTo>
                  <a:lnTo>
                    <a:pt x="39" y="416"/>
                  </a:lnTo>
                  <a:lnTo>
                    <a:pt x="22" y="442"/>
                  </a:lnTo>
                  <a:lnTo>
                    <a:pt x="8" y="468"/>
                  </a:lnTo>
                  <a:lnTo>
                    <a:pt x="0" y="495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66760" y="2624040"/>
              <a:ext cx="1758960" cy="2090520"/>
            </a:xfrm>
            <a:custGeom>
              <a:avLst/>
              <a:gdLst/>
              <a:ahLst/>
              <a:rect l="l" t="t" r="r" b="b"/>
              <a:pathLst>
                <a:path w="1731" h="1977">
                  <a:moveTo>
                    <a:pt x="1731" y="0"/>
                  </a:moveTo>
                  <a:lnTo>
                    <a:pt x="1649" y="125"/>
                  </a:lnTo>
                  <a:lnTo>
                    <a:pt x="1569" y="248"/>
                  </a:lnTo>
                  <a:lnTo>
                    <a:pt x="1490" y="366"/>
                  </a:lnTo>
                  <a:lnTo>
                    <a:pt x="1412" y="479"/>
                  </a:lnTo>
                  <a:lnTo>
                    <a:pt x="1335" y="590"/>
                  </a:lnTo>
                  <a:lnTo>
                    <a:pt x="1261" y="696"/>
                  </a:lnTo>
                  <a:lnTo>
                    <a:pt x="1187" y="797"/>
                  </a:lnTo>
                  <a:lnTo>
                    <a:pt x="1115" y="894"/>
                  </a:lnTo>
                  <a:lnTo>
                    <a:pt x="1044" y="988"/>
                  </a:lnTo>
                  <a:lnTo>
                    <a:pt x="974" y="1078"/>
                  </a:lnTo>
                  <a:lnTo>
                    <a:pt x="905" y="1163"/>
                  </a:lnTo>
                  <a:lnTo>
                    <a:pt x="839" y="1244"/>
                  </a:lnTo>
                  <a:lnTo>
                    <a:pt x="774" y="1322"/>
                  </a:lnTo>
                  <a:lnTo>
                    <a:pt x="710" y="1395"/>
                  </a:lnTo>
                  <a:lnTo>
                    <a:pt x="646" y="1464"/>
                  </a:lnTo>
                  <a:lnTo>
                    <a:pt x="585" y="1529"/>
                  </a:lnTo>
                  <a:lnTo>
                    <a:pt x="526" y="1590"/>
                  </a:lnTo>
                  <a:lnTo>
                    <a:pt x="466" y="1647"/>
                  </a:lnTo>
                  <a:lnTo>
                    <a:pt x="409" y="1700"/>
                  </a:lnTo>
                  <a:lnTo>
                    <a:pt x="353" y="1749"/>
                  </a:lnTo>
                  <a:lnTo>
                    <a:pt x="298" y="1794"/>
                  </a:lnTo>
                  <a:lnTo>
                    <a:pt x="246" y="1834"/>
                  </a:lnTo>
                  <a:lnTo>
                    <a:pt x="194" y="1871"/>
                  </a:lnTo>
                  <a:lnTo>
                    <a:pt x="142" y="1904"/>
                  </a:lnTo>
                  <a:lnTo>
                    <a:pt x="94" y="1932"/>
                  </a:lnTo>
                  <a:lnTo>
                    <a:pt x="46" y="1956"/>
                  </a:lnTo>
                  <a:lnTo>
                    <a:pt x="0" y="1977"/>
                  </a:lnTo>
                </a:path>
              </a:pathLst>
            </a:custGeom>
            <a:noFill/>
            <a:ln w="144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085840" y="2490840"/>
            <a:ext cx="4274640" cy="2353680"/>
            <a:chOff x="2085840" y="2490840"/>
            <a:chExt cx="4274640" cy="2353680"/>
          </a:xfrm>
        </p:grpSpPr>
        <p:sp>
          <p:nvSpPr>
            <p:cNvPr id="468" name=""/>
            <p:cNvSpPr/>
            <p:nvPr/>
          </p:nvSpPr>
          <p:spPr>
            <a:xfrm>
              <a:off x="2085840" y="3896640"/>
              <a:ext cx="1760400" cy="947880"/>
            </a:xfrm>
            <a:custGeom>
              <a:avLst/>
              <a:gdLst/>
              <a:ahLst/>
              <a:rect l="l" t="t" r="r" b="b"/>
              <a:pathLst>
                <a:path w="1731" h="897">
                  <a:moveTo>
                    <a:pt x="1731" y="0"/>
                  </a:moveTo>
                  <a:lnTo>
                    <a:pt x="1594" y="45"/>
                  </a:lnTo>
                  <a:lnTo>
                    <a:pt x="1461" y="93"/>
                  </a:lnTo>
                  <a:lnTo>
                    <a:pt x="1331" y="140"/>
                  </a:lnTo>
                  <a:lnTo>
                    <a:pt x="1206" y="190"/>
                  </a:lnTo>
                  <a:lnTo>
                    <a:pt x="1084" y="241"/>
                  </a:lnTo>
                  <a:lnTo>
                    <a:pt x="966" y="293"/>
                  </a:lnTo>
                  <a:lnTo>
                    <a:pt x="851" y="347"/>
                  </a:lnTo>
                  <a:lnTo>
                    <a:pt x="742" y="402"/>
                  </a:lnTo>
                  <a:lnTo>
                    <a:pt x="636" y="459"/>
                  </a:lnTo>
                  <a:lnTo>
                    <a:pt x="534" y="517"/>
                  </a:lnTo>
                  <a:lnTo>
                    <a:pt x="435" y="577"/>
                  </a:lnTo>
                  <a:lnTo>
                    <a:pt x="340" y="638"/>
                  </a:lnTo>
                  <a:lnTo>
                    <a:pt x="249" y="700"/>
                  </a:lnTo>
                  <a:lnTo>
                    <a:pt x="163" y="764"/>
                  </a:lnTo>
                  <a:lnTo>
                    <a:pt x="79" y="830"/>
                  </a:lnTo>
                  <a:lnTo>
                    <a:pt x="0" y="897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8040" y="2490840"/>
              <a:ext cx="2512440" cy="1411920"/>
            </a:xfrm>
            <a:custGeom>
              <a:avLst/>
              <a:gdLst/>
              <a:ahLst/>
              <a:rect l="l" t="t" r="r" b="b"/>
              <a:pathLst>
                <a:path w="2469" h="1333">
                  <a:moveTo>
                    <a:pt x="2469" y="0"/>
                  </a:moveTo>
                  <a:lnTo>
                    <a:pt x="2373" y="97"/>
                  </a:lnTo>
                  <a:lnTo>
                    <a:pt x="2274" y="192"/>
                  </a:lnTo>
                  <a:lnTo>
                    <a:pt x="2173" y="282"/>
                  </a:lnTo>
                  <a:lnTo>
                    <a:pt x="2069" y="370"/>
                  </a:lnTo>
                  <a:lnTo>
                    <a:pt x="1962" y="455"/>
                  </a:lnTo>
                  <a:lnTo>
                    <a:pt x="1852" y="536"/>
                  </a:lnTo>
                  <a:lnTo>
                    <a:pt x="1739" y="614"/>
                  </a:lnTo>
                  <a:lnTo>
                    <a:pt x="1622" y="688"/>
                  </a:lnTo>
                  <a:lnTo>
                    <a:pt x="1504" y="760"/>
                  </a:lnTo>
                  <a:lnTo>
                    <a:pt x="1381" y="828"/>
                  </a:lnTo>
                  <a:lnTo>
                    <a:pt x="1257" y="894"/>
                  </a:lnTo>
                  <a:lnTo>
                    <a:pt x="1129" y="955"/>
                  </a:lnTo>
                  <a:lnTo>
                    <a:pt x="998" y="1014"/>
                  </a:lnTo>
                  <a:lnTo>
                    <a:pt x="864" y="1069"/>
                  </a:lnTo>
                  <a:lnTo>
                    <a:pt x="728" y="1121"/>
                  </a:lnTo>
                  <a:lnTo>
                    <a:pt x="588" y="1170"/>
                  </a:lnTo>
                  <a:lnTo>
                    <a:pt x="445" y="1216"/>
                  </a:lnTo>
                  <a:lnTo>
                    <a:pt x="299" y="1258"/>
                  </a:lnTo>
                  <a:lnTo>
                    <a:pt x="151" y="1298"/>
                  </a:lnTo>
                  <a:lnTo>
                    <a:pt x="0" y="1333"/>
                  </a:lnTo>
                </a:path>
              </a:pathLst>
            </a:custGeom>
            <a:noFill/>
            <a:ln w="1440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586480" y="3149640"/>
            <a:ext cx="27000" cy="2489040"/>
            <a:chOff x="5586480" y="3149640"/>
            <a:chExt cx="27000" cy="2489040"/>
          </a:xfrm>
        </p:grpSpPr>
        <p:sp>
          <p:nvSpPr>
            <p:cNvPr id="471" name=""/>
            <p:cNvSpPr/>
            <p:nvPr/>
          </p:nvSpPr>
          <p:spPr>
            <a:xfrm>
              <a:off x="5592600" y="3630600"/>
              <a:ext cx="20880" cy="2008080"/>
            </a:xfrm>
            <a:custGeom>
              <a:avLst/>
              <a:gdLst/>
              <a:ahLst/>
              <a:rect l="l" t="t" r="r" b="b"/>
              <a:pathLst>
                <a:path w="19" h="1898">
                  <a:moveTo>
                    <a:pt x="16" y="8"/>
                  </a:moveTo>
                  <a:lnTo>
                    <a:pt x="17" y="123"/>
                  </a:lnTo>
                  <a:lnTo>
                    <a:pt x="17" y="126"/>
                  </a:lnTo>
                  <a:lnTo>
                    <a:pt x="16" y="127"/>
                  </a:lnTo>
                  <a:lnTo>
                    <a:pt x="14" y="129"/>
                  </a:lnTo>
                  <a:lnTo>
                    <a:pt x="11" y="131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6" y="132"/>
                  </a:lnTo>
                  <a:lnTo>
                    <a:pt x="5" y="131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17" y="206"/>
                  </a:moveTo>
                  <a:lnTo>
                    <a:pt x="17" y="322"/>
                  </a:lnTo>
                  <a:lnTo>
                    <a:pt x="17" y="323"/>
                  </a:lnTo>
                  <a:lnTo>
                    <a:pt x="16" y="324"/>
                  </a:lnTo>
                  <a:lnTo>
                    <a:pt x="14" y="328"/>
                  </a:lnTo>
                  <a:lnTo>
                    <a:pt x="12" y="329"/>
                  </a:lnTo>
                  <a:lnTo>
                    <a:pt x="10" y="329"/>
                  </a:lnTo>
                  <a:lnTo>
                    <a:pt x="8" y="330"/>
                  </a:lnTo>
                  <a:lnTo>
                    <a:pt x="7" y="329"/>
                  </a:lnTo>
                  <a:lnTo>
                    <a:pt x="5" y="329"/>
                  </a:lnTo>
                  <a:lnTo>
                    <a:pt x="2" y="328"/>
                  </a:lnTo>
                  <a:lnTo>
                    <a:pt x="1" y="324"/>
                  </a:lnTo>
                  <a:lnTo>
                    <a:pt x="0" y="323"/>
                  </a:lnTo>
                  <a:lnTo>
                    <a:pt x="0" y="322"/>
                  </a:lnTo>
                  <a:lnTo>
                    <a:pt x="0" y="206"/>
                  </a:lnTo>
                  <a:lnTo>
                    <a:pt x="0" y="205"/>
                  </a:lnTo>
                  <a:lnTo>
                    <a:pt x="1" y="202"/>
                  </a:lnTo>
                  <a:lnTo>
                    <a:pt x="2" y="200"/>
                  </a:lnTo>
                  <a:lnTo>
                    <a:pt x="5" y="199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10" y="197"/>
                  </a:lnTo>
                  <a:lnTo>
                    <a:pt x="12" y="199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7" y="205"/>
                  </a:lnTo>
                  <a:lnTo>
                    <a:pt x="17" y="206"/>
                  </a:lnTo>
                  <a:lnTo>
                    <a:pt x="17" y="206"/>
                  </a:lnTo>
                  <a:close/>
                  <a:moveTo>
                    <a:pt x="17" y="404"/>
                  </a:moveTo>
                  <a:lnTo>
                    <a:pt x="17" y="519"/>
                  </a:lnTo>
                  <a:lnTo>
                    <a:pt x="17" y="521"/>
                  </a:lnTo>
                  <a:lnTo>
                    <a:pt x="17" y="522"/>
                  </a:lnTo>
                  <a:lnTo>
                    <a:pt x="14" y="525"/>
                  </a:lnTo>
                  <a:lnTo>
                    <a:pt x="12" y="527"/>
                  </a:lnTo>
                  <a:lnTo>
                    <a:pt x="11" y="527"/>
                  </a:lnTo>
                  <a:lnTo>
                    <a:pt x="8" y="527"/>
                  </a:lnTo>
                  <a:lnTo>
                    <a:pt x="7" y="527"/>
                  </a:lnTo>
                  <a:lnTo>
                    <a:pt x="6" y="527"/>
                  </a:lnTo>
                  <a:lnTo>
                    <a:pt x="4" y="525"/>
                  </a:lnTo>
                  <a:lnTo>
                    <a:pt x="1" y="522"/>
                  </a:lnTo>
                  <a:lnTo>
                    <a:pt x="1" y="521"/>
                  </a:lnTo>
                  <a:lnTo>
                    <a:pt x="1" y="519"/>
                  </a:lnTo>
                  <a:lnTo>
                    <a:pt x="0" y="404"/>
                  </a:lnTo>
                  <a:lnTo>
                    <a:pt x="1" y="402"/>
                  </a:lnTo>
                  <a:lnTo>
                    <a:pt x="1" y="401"/>
                  </a:lnTo>
                  <a:lnTo>
                    <a:pt x="2" y="398"/>
                  </a:lnTo>
                  <a:lnTo>
                    <a:pt x="6" y="396"/>
                  </a:lnTo>
                  <a:lnTo>
                    <a:pt x="7" y="396"/>
                  </a:lnTo>
                  <a:lnTo>
                    <a:pt x="8" y="396"/>
                  </a:lnTo>
                  <a:lnTo>
                    <a:pt x="11" y="396"/>
                  </a:lnTo>
                  <a:lnTo>
                    <a:pt x="12" y="396"/>
                  </a:lnTo>
                  <a:lnTo>
                    <a:pt x="14" y="398"/>
                  </a:lnTo>
                  <a:lnTo>
                    <a:pt x="16" y="401"/>
                  </a:lnTo>
                  <a:lnTo>
                    <a:pt x="17" y="402"/>
                  </a:lnTo>
                  <a:lnTo>
                    <a:pt x="17" y="404"/>
                  </a:lnTo>
                  <a:lnTo>
                    <a:pt x="17" y="404"/>
                  </a:lnTo>
                  <a:close/>
                  <a:moveTo>
                    <a:pt x="17" y="601"/>
                  </a:moveTo>
                  <a:lnTo>
                    <a:pt x="17" y="717"/>
                  </a:lnTo>
                  <a:lnTo>
                    <a:pt x="17" y="718"/>
                  </a:lnTo>
                  <a:lnTo>
                    <a:pt x="17" y="721"/>
                  </a:lnTo>
                  <a:lnTo>
                    <a:pt x="14" y="723"/>
                  </a:lnTo>
                  <a:lnTo>
                    <a:pt x="12" y="724"/>
                  </a:lnTo>
                  <a:lnTo>
                    <a:pt x="11" y="725"/>
                  </a:lnTo>
                  <a:lnTo>
                    <a:pt x="10" y="725"/>
                  </a:lnTo>
                  <a:lnTo>
                    <a:pt x="7" y="725"/>
                  </a:lnTo>
                  <a:lnTo>
                    <a:pt x="6" y="724"/>
                  </a:lnTo>
                  <a:lnTo>
                    <a:pt x="4" y="723"/>
                  </a:lnTo>
                  <a:lnTo>
                    <a:pt x="1" y="721"/>
                  </a:lnTo>
                  <a:lnTo>
                    <a:pt x="1" y="718"/>
                  </a:lnTo>
                  <a:lnTo>
                    <a:pt x="1" y="717"/>
                  </a:lnTo>
                  <a:lnTo>
                    <a:pt x="1" y="601"/>
                  </a:lnTo>
                  <a:lnTo>
                    <a:pt x="1" y="600"/>
                  </a:lnTo>
                  <a:lnTo>
                    <a:pt x="1" y="598"/>
                  </a:lnTo>
                  <a:lnTo>
                    <a:pt x="4" y="595"/>
                  </a:lnTo>
                  <a:lnTo>
                    <a:pt x="6" y="594"/>
                  </a:lnTo>
                  <a:lnTo>
                    <a:pt x="7" y="593"/>
                  </a:lnTo>
                  <a:lnTo>
                    <a:pt x="8" y="593"/>
                  </a:lnTo>
                  <a:lnTo>
                    <a:pt x="11" y="593"/>
                  </a:lnTo>
                  <a:lnTo>
                    <a:pt x="12" y="594"/>
                  </a:lnTo>
                  <a:lnTo>
                    <a:pt x="14" y="595"/>
                  </a:lnTo>
                  <a:lnTo>
                    <a:pt x="17" y="598"/>
                  </a:lnTo>
                  <a:lnTo>
                    <a:pt x="17" y="600"/>
                  </a:lnTo>
                  <a:lnTo>
                    <a:pt x="17" y="601"/>
                  </a:lnTo>
                  <a:lnTo>
                    <a:pt x="17" y="601"/>
                  </a:lnTo>
                  <a:close/>
                  <a:moveTo>
                    <a:pt x="18" y="800"/>
                  </a:moveTo>
                  <a:lnTo>
                    <a:pt x="18" y="915"/>
                  </a:lnTo>
                  <a:lnTo>
                    <a:pt x="18" y="916"/>
                  </a:lnTo>
                  <a:lnTo>
                    <a:pt x="17" y="918"/>
                  </a:lnTo>
                  <a:lnTo>
                    <a:pt x="16" y="920"/>
                  </a:lnTo>
                  <a:lnTo>
                    <a:pt x="13" y="922"/>
                  </a:lnTo>
                  <a:lnTo>
                    <a:pt x="11" y="922"/>
                  </a:lnTo>
                  <a:lnTo>
                    <a:pt x="10" y="922"/>
                  </a:lnTo>
                  <a:lnTo>
                    <a:pt x="8" y="922"/>
                  </a:lnTo>
                  <a:lnTo>
                    <a:pt x="6" y="922"/>
                  </a:lnTo>
                  <a:lnTo>
                    <a:pt x="4" y="920"/>
                  </a:lnTo>
                  <a:lnTo>
                    <a:pt x="2" y="918"/>
                  </a:lnTo>
                  <a:lnTo>
                    <a:pt x="1" y="916"/>
                  </a:lnTo>
                  <a:lnTo>
                    <a:pt x="1" y="915"/>
                  </a:lnTo>
                  <a:lnTo>
                    <a:pt x="1" y="800"/>
                  </a:lnTo>
                  <a:lnTo>
                    <a:pt x="1" y="797"/>
                  </a:lnTo>
                  <a:lnTo>
                    <a:pt x="1" y="796"/>
                  </a:lnTo>
                  <a:lnTo>
                    <a:pt x="4" y="793"/>
                  </a:lnTo>
                  <a:lnTo>
                    <a:pt x="6" y="791"/>
                  </a:lnTo>
                  <a:lnTo>
                    <a:pt x="7" y="791"/>
                  </a:lnTo>
                  <a:lnTo>
                    <a:pt x="10" y="791"/>
                  </a:lnTo>
                  <a:lnTo>
                    <a:pt x="11" y="791"/>
                  </a:lnTo>
                  <a:lnTo>
                    <a:pt x="12" y="791"/>
                  </a:lnTo>
                  <a:lnTo>
                    <a:pt x="14" y="793"/>
                  </a:lnTo>
                  <a:lnTo>
                    <a:pt x="17" y="796"/>
                  </a:lnTo>
                  <a:lnTo>
                    <a:pt x="17" y="797"/>
                  </a:lnTo>
                  <a:lnTo>
                    <a:pt x="18" y="800"/>
                  </a:lnTo>
                  <a:lnTo>
                    <a:pt x="18" y="800"/>
                  </a:lnTo>
                  <a:close/>
                  <a:moveTo>
                    <a:pt x="18" y="997"/>
                  </a:moveTo>
                  <a:lnTo>
                    <a:pt x="18" y="1112"/>
                  </a:lnTo>
                  <a:lnTo>
                    <a:pt x="18" y="1113"/>
                  </a:lnTo>
                  <a:lnTo>
                    <a:pt x="17" y="1116"/>
                  </a:lnTo>
                  <a:lnTo>
                    <a:pt x="16" y="1118"/>
                  </a:lnTo>
                  <a:lnTo>
                    <a:pt x="13" y="1119"/>
                  </a:lnTo>
                  <a:lnTo>
                    <a:pt x="12" y="1121"/>
                  </a:lnTo>
                  <a:lnTo>
                    <a:pt x="10" y="1121"/>
                  </a:lnTo>
                  <a:lnTo>
                    <a:pt x="8" y="1121"/>
                  </a:lnTo>
                  <a:lnTo>
                    <a:pt x="7" y="1119"/>
                  </a:lnTo>
                  <a:lnTo>
                    <a:pt x="4" y="1118"/>
                  </a:lnTo>
                  <a:lnTo>
                    <a:pt x="2" y="1116"/>
                  </a:lnTo>
                  <a:lnTo>
                    <a:pt x="2" y="1113"/>
                  </a:lnTo>
                  <a:lnTo>
                    <a:pt x="1" y="1112"/>
                  </a:lnTo>
                  <a:lnTo>
                    <a:pt x="1" y="997"/>
                  </a:lnTo>
                  <a:lnTo>
                    <a:pt x="1" y="995"/>
                  </a:lnTo>
                  <a:lnTo>
                    <a:pt x="2" y="994"/>
                  </a:lnTo>
                  <a:lnTo>
                    <a:pt x="4" y="991"/>
                  </a:lnTo>
                  <a:lnTo>
                    <a:pt x="6" y="989"/>
                  </a:lnTo>
                  <a:lnTo>
                    <a:pt x="8" y="989"/>
                  </a:lnTo>
                  <a:lnTo>
                    <a:pt x="10" y="988"/>
                  </a:lnTo>
                  <a:lnTo>
                    <a:pt x="11" y="989"/>
                  </a:lnTo>
                  <a:lnTo>
                    <a:pt x="13" y="989"/>
                  </a:lnTo>
                  <a:lnTo>
                    <a:pt x="16" y="991"/>
                  </a:lnTo>
                  <a:lnTo>
                    <a:pt x="17" y="994"/>
                  </a:lnTo>
                  <a:lnTo>
                    <a:pt x="18" y="995"/>
                  </a:lnTo>
                  <a:lnTo>
                    <a:pt x="18" y="997"/>
                  </a:lnTo>
                  <a:lnTo>
                    <a:pt x="18" y="997"/>
                  </a:lnTo>
                  <a:close/>
                  <a:moveTo>
                    <a:pt x="18" y="1195"/>
                  </a:moveTo>
                  <a:lnTo>
                    <a:pt x="18" y="1310"/>
                  </a:lnTo>
                  <a:lnTo>
                    <a:pt x="18" y="1312"/>
                  </a:lnTo>
                  <a:lnTo>
                    <a:pt x="18" y="1313"/>
                  </a:lnTo>
                  <a:lnTo>
                    <a:pt x="16" y="1315"/>
                  </a:lnTo>
                  <a:lnTo>
                    <a:pt x="13" y="1318"/>
                  </a:lnTo>
                  <a:lnTo>
                    <a:pt x="12" y="1318"/>
                  </a:lnTo>
                  <a:lnTo>
                    <a:pt x="10" y="1318"/>
                  </a:lnTo>
                  <a:lnTo>
                    <a:pt x="8" y="1318"/>
                  </a:lnTo>
                  <a:lnTo>
                    <a:pt x="7" y="1318"/>
                  </a:lnTo>
                  <a:lnTo>
                    <a:pt x="5" y="1315"/>
                  </a:lnTo>
                  <a:lnTo>
                    <a:pt x="2" y="1313"/>
                  </a:lnTo>
                  <a:lnTo>
                    <a:pt x="2" y="1312"/>
                  </a:lnTo>
                  <a:lnTo>
                    <a:pt x="2" y="1310"/>
                  </a:lnTo>
                  <a:lnTo>
                    <a:pt x="1" y="1195"/>
                  </a:lnTo>
                  <a:lnTo>
                    <a:pt x="2" y="1192"/>
                  </a:lnTo>
                  <a:lnTo>
                    <a:pt x="2" y="1191"/>
                  </a:lnTo>
                  <a:lnTo>
                    <a:pt x="4" y="1189"/>
                  </a:lnTo>
                  <a:lnTo>
                    <a:pt x="7" y="1188"/>
                  </a:lnTo>
                  <a:lnTo>
                    <a:pt x="8" y="1186"/>
                  </a:lnTo>
                  <a:lnTo>
                    <a:pt x="10" y="1186"/>
                  </a:lnTo>
                  <a:lnTo>
                    <a:pt x="12" y="1186"/>
                  </a:lnTo>
                  <a:lnTo>
                    <a:pt x="13" y="1188"/>
                  </a:lnTo>
                  <a:lnTo>
                    <a:pt x="16" y="1189"/>
                  </a:lnTo>
                  <a:lnTo>
                    <a:pt x="17" y="1191"/>
                  </a:lnTo>
                  <a:lnTo>
                    <a:pt x="18" y="1192"/>
                  </a:lnTo>
                  <a:lnTo>
                    <a:pt x="18" y="1195"/>
                  </a:lnTo>
                  <a:lnTo>
                    <a:pt x="18" y="1195"/>
                  </a:lnTo>
                  <a:close/>
                  <a:moveTo>
                    <a:pt x="18" y="1392"/>
                  </a:moveTo>
                  <a:lnTo>
                    <a:pt x="18" y="1508"/>
                  </a:lnTo>
                  <a:lnTo>
                    <a:pt x="18" y="1510"/>
                  </a:lnTo>
                  <a:lnTo>
                    <a:pt x="18" y="1511"/>
                  </a:lnTo>
                  <a:lnTo>
                    <a:pt x="16" y="1514"/>
                  </a:lnTo>
                  <a:lnTo>
                    <a:pt x="13" y="1515"/>
                  </a:lnTo>
                  <a:lnTo>
                    <a:pt x="12" y="1516"/>
                  </a:lnTo>
                  <a:lnTo>
                    <a:pt x="11" y="1516"/>
                  </a:lnTo>
                  <a:lnTo>
                    <a:pt x="8" y="1516"/>
                  </a:lnTo>
                  <a:lnTo>
                    <a:pt x="7" y="1515"/>
                  </a:lnTo>
                  <a:lnTo>
                    <a:pt x="5" y="1514"/>
                  </a:lnTo>
                  <a:lnTo>
                    <a:pt x="2" y="1511"/>
                  </a:lnTo>
                  <a:lnTo>
                    <a:pt x="2" y="1510"/>
                  </a:lnTo>
                  <a:lnTo>
                    <a:pt x="2" y="1508"/>
                  </a:lnTo>
                  <a:lnTo>
                    <a:pt x="2" y="1392"/>
                  </a:lnTo>
                  <a:lnTo>
                    <a:pt x="2" y="1391"/>
                  </a:lnTo>
                  <a:lnTo>
                    <a:pt x="2" y="1390"/>
                  </a:lnTo>
                  <a:lnTo>
                    <a:pt x="5" y="1387"/>
                  </a:lnTo>
                  <a:lnTo>
                    <a:pt x="7" y="1385"/>
                  </a:lnTo>
                  <a:lnTo>
                    <a:pt x="8" y="1385"/>
                  </a:lnTo>
                  <a:lnTo>
                    <a:pt x="11" y="1385"/>
                  </a:lnTo>
                  <a:lnTo>
                    <a:pt x="12" y="1385"/>
                  </a:lnTo>
                  <a:lnTo>
                    <a:pt x="13" y="1385"/>
                  </a:lnTo>
                  <a:lnTo>
                    <a:pt x="16" y="1386"/>
                  </a:lnTo>
                  <a:lnTo>
                    <a:pt x="18" y="1390"/>
                  </a:lnTo>
                  <a:lnTo>
                    <a:pt x="18" y="1391"/>
                  </a:lnTo>
                  <a:lnTo>
                    <a:pt x="18" y="1392"/>
                  </a:lnTo>
                  <a:lnTo>
                    <a:pt x="18" y="1392"/>
                  </a:lnTo>
                  <a:close/>
                  <a:moveTo>
                    <a:pt x="19" y="1590"/>
                  </a:moveTo>
                  <a:lnTo>
                    <a:pt x="19" y="1706"/>
                  </a:lnTo>
                  <a:lnTo>
                    <a:pt x="19" y="1707"/>
                  </a:lnTo>
                  <a:lnTo>
                    <a:pt x="18" y="1708"/>
                  </a:lnTo>
                  <a:lnTo>
                    <a:pt x="17" y="1711"/>
                  </a:lnTo>
                  <a:lnTo>
                    <a:pt x="14" y="1713"/>
                  </a:lnTo>
                  <a:lnTo>
                    <a:pt x="12" y="1713"/>
                  </a:lnTo>
                  <a:lnTo>
                    <a:pt x="11" y="1714"/>
                  </a:lnTo>
                  <a:lnTo>
                    <a:pt x="10" y="1713"/>
                  </a:lnTo>
                  <a:lnTo>
                    <a:pt x="7" y="1713"/>
                  </a:lnTo>
                  <a:lnTo>
                    <a:pt x="5" y="1712"/>
                  </a:lnTo>
                  <a:lnTo>
                    <a:pt x="4" y="1708"/>
                  </a:lnTo>
                  <a:lnTo>
                    <a:pt x="2" y="1707"/>
                  </a:lnTo>
                  <a:lnTo>
                    <a:pt x="2" y="1706"/>
                  </a:lnTo>
                  <a:lnTo>
                    <a:pt x="2" y="1590"/>
                  </a:lnTo>
                  <a:lnTo>
                    <a:pt x="2" y="1589"/>
                  </a:lnTo>
                  <a:lnTo>
                    <a:pt x="4" y="1587"/>
                  </a:lnTo>
                  <a:lnTo>
                    <a:pt x="5" y="1584"/>
                  </a:lnTo>
                  <a:lnTo>
                    <a:pt x="7" y="1583"/>
                  </a:lnTo>
                  <a:lnTo>
                    <a:pt x="8" y="1582"/>
                  </a:lnTo>
                  <a:lnTo>
                    <a:pt x="11" y="1582"/>
                  </a:lnTo>
                  <a:lnTo>
                    <a:pt x="12" y="1582"/>
                  </a:lnTo>
                  <a:lnTo>
                    <a:pt x="13" y="1583"/>
                  </a:lnTo>
                  <a:lnTo>
                    <a:pt x="17" y="1584"/>
                  </a:lnTo>
                  <a:lnTo>
                    <a:pt x="18" y="1587"/>
                  </a:lnTo>
                  <a:lnTo>
                    <a:pt x="18" y="1589"/>
                  </a:lnTo>
                  <a:lnTo>
                    <a:pt x="19" y="1590"/>
                  </a:lnTo>
                  <a:lnTo>
                    <a:pt x="19" y="1590"/>
                  </a:lnTo>
                  <a:close/>
                  <a:moveTo>
                    <a:pt x="19" y="1787"/>
                  </a:moveTo>
                  <a:lnTo>
                    <a:pt x="19" y="1889"/>
                  </a:lnTo>
                  <a:lnTo>
                    <a:pt x="19" y="1892"/>
                  </a:lnTo>
                  <a:lnTo>
                    <a:pt x="18" y="1893"/>
                  </a:lnTo>
                  <a:lnTo>
                    <a:pt x="17" y="1896"/>
                  </a:lnTo>
                  <a:lnTo>
                    <a:pt x="14" y="1898"/>
                  </a:lnTo>
                  <a:lnTo>
                    <a:pt x="13" y="1898"/>
                  </a:lnTo>
                  <a:lnTo>
                    <a:pt x="11" y="1898"/>
                  </a:lnTo>
                  <a:lnTo>
                    <a:pt x="10" y="1898"/>
                  </a:lnTo>
                  <a:lnTo>
                    <a:pt x="8" y="1898"/>
                  </a:lnTo>
                  <a:lnTo>
                    <a:pt x="5" y="1896"/>
                  </a:lnTo>
                  <a:lnTo>
                    <a:pt x="4" y="1893"/>
                  </a:lnTo>
                  <a:lnTo>
                    <a:pt x="4" y="1892"/>
                  </a:lnTo>
                  <a:lnTo>
                    <a:pt x="2" y="1889"/>
                  </a:lnTo>
                  <a:lnTo>
                    <a:pt x="2" y="1788"/>
                  </a:lnTo>
                  <a:lnTo>
                    <a:pt x="2" y="1786"/>
                  </a:lnTo>
                  <a:lnTo>
                    <a:pt x="4" y="1785"/>
                  </a:lnTo>
                  <a:lnTo>
                    <a:pt x="5" y="1782"/>
                  </a:lnTo>
                  <a:lnTo>
                    <a:pt x="7" y="1780"/>
                  </a:lnTo>
                  <a:lnTo>
                    <a:pt x="10" y="1780"/>
                  </a:lnTo>
                  <a:lnTo>
                    <a:pt x="11" y="1780"/>
                  </a:lnTo>
                  <a:lnTo>
                    <a:pt x="12" y="1780"/>
                  </a:lnTo>
                  <a:lnTo>
                    <a:pt x="14" y="1780"/>
                  </a:lnTo>
                  <a:lnTo>
                    <a:pt x="17" y="1782"/>
                  </a:lnTo>
                  <a:lnTo>
                    <a:pt x="18" y="1785"/>
                  </a:lnTo>
                  <a:lnTo>
                    <a:pt x="19" y="1786"/>
                  </a:lnTo>
                  <a:lnTo>
                    <a:pt x="19" y="1787"/>
                  </a:lnTo>
                  <a:lnTo>
                    <a:pt x="19" y="17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86480" y="3149640"/>
              <a:ext cx="25200" cy="541440"/>
            </a:xfrm>
            <a:custGeom>
              <a:avLst/>
              <a:gdLst/>
              <a:ahLst/>
              <a:rect l="l" t="t" r="r" b="b"/>
              <a:pathLst>
                <a:path w="27" h="510">
                  <a:moveTo>
                    <a:pt x="17" y="9"/>
                  </a:moveTo>
                  <a:lnTo>
                    <a:pt x="20" y="123"/>
                  </a:lnTo>
                  <a:lnTo>
                    <a:pt x="20" y="126"/>
                  </a:lnTo>
                  <a:lnTo>
                    <a:pt x="18" y="127"/>
                  </a:lnTo>
                  <a:lnTo>
                    <a:pt x="17" y="129"/>
                  </a:lnTo>
                  <a:lnTo>
                    <a:pt x="15" y="132"/>
                  </a:lnTo>
                  <a:lnTo>
                    <a:pt x="12" y="132"/>
                  </a:lnTo>
                  <a:lnTo>
                    <a:pt x="11" y="132"/>
                  </a:lnTo>
                  <a:lnTo>
                    <a:pt x="10" y="132"/>
                  </a:lnTo>
                  <a:lnTo>
                    <a:pt x="7" y="132"/>
                  </a:lnTo>
                  <a:lnTo>
                    <a:pt x="5" y="129"/>
                  </a:lnTo>
                  <a:lnTo>
                    <a:pt x="4" y="127"/>
                  </a:lnTo>
                  <a:lnTo>
                    <a:pt x="3" y="126"/>
                  </a:lnTo>
                  <a:lnTo>
                    <a:pt x="3" y="12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9"/>
                  </a:lnTo>
                  <a:close/>
                  <a:moveTo>
                    <a:pt x="21" y="206"/>
                  </a:moveTo>
                  <a:lnTo>
                    <a:pt x="23" y="322"/>
                  </a:lnTo>
                  <a:lnTo>
                    <a:pt x="23" y="323"/>
                  </a:lnTo>
                  <a:lnTo>
                    <a:pt x="22" y="325"/>
                  </a:lnTo>
                  <a:lnTo>
                    <a:pt x="21" y="328"/>
                  </a:lnTo>
                  <a:lnTo>
                    <a:pt x="18" y="329"/>
                  </a:lnTo>
                  <a:lnTo>
                    <a:pt x="16" y="330"/>
                  </a:lnTo>
                  <a:lnTo>
                    <a:pt x="15" y="330"/>
                  </a:lnTo>
                  <a:lnTo>
                    <a:pt x="14" y="330"/>
                  </a:lnTo>
                  <a:lnTo>
                    <a:pt x="11" y="329"/>
                  </a:lnTo>
                  <a:lnTo>
                    <a:pt x="9" y="328"/>
                  </a:lnTo>
                  <a:lnTo>
                    <a:pt x="7" y="325"/>
                  </a:lnTo>
                  <a:lnTo>
                    <a:pt x="6" y="324"/>
                  </a:lnTo>
                  <a:lnTo>
                    <a:pt x="6" y="322"/>
                  </a:lnTo>
                  <a:lnTo>
                    <a:pt x="4" y="206"/>
                  </a:lnTo>
                  <a:lnTo>
                    <a:pt x="4" y="205"/>
                  </a:lnTo>
                  <a:lnTo>
                    <a:pt x="5" y="204"/>
                  </a:lnTo>
                  <a:lnTo>
                    <a:pt x="6" y="201"/>
                  </a:lnTo>
                  <a:lnTo>
                    <a:pt x="9" y="199"/>
                  </a:lnTo>
                  <a:lnTo>
                    <a:pt x="11" y="199"/>
                  </a:lnTo>
                  <a:lnTo>
                    <a:pt x="12" y="199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lnTo>
                    <a:pt x="20" y="204"/>
                  </a:lnTo>
                  <a:lnTo>
                    <a:pt x="21" y="205"/>
                  </a:lnTo>
                  <a:lnTo>
                    <a:pt x="21" y="206"/>
                  </a:lnTo>
                  <a:lnTo>
                    <a:pt x="21" y="206"/>
                  </a:lnTo>
                  <a:close/>
                  <a:moveTo>
                    <a:pt x="24" y="404"/>
                  </a:moveTo>
                  <a:lnTo>
                    <a:pt x="27" y="502"/>
                  </a:lnTo>
                  <a:lnTo>
                    <a:pt x="26" y="503"/>
                  </a:lnTo>
                  <a:lnTo>
                    <a:pt x="26" y="504"/>
                  </a:lnTo>
                  <a:lnTo>
                    <a:pt x="24" y="508"/>
                  </a:lnTo>
                  <a:lnTo>
                    <a:pt x="22" y="509"/>
                  </a:lnTo>
                  <a:lnTo>
                    <a:pt x="20" y="510"/>
                  </a:lnTo>
                  <a:lnTo>
                    <a:pt x="18" y="510"/>
                  </a:lnTo>
                  <a:lnTo>
                    <a:pt x="17" y="510"/>
                  </a:lnTo>
                  <a:lnTo>
                    <a:pt x="15" y="509"/>
                  </a:lnTo>
                  <a:lnTo>
                    <a:pt x="12" y="508"/>
                  </a:lnTo>
                  <a:lnTo>
                    <a:pt x="11" y="505"/>
                  </a:lnTo>
                  <a:lnTo>
                    <a:pt x="10" y="503"/>
                  </a:lnTo>
                  <a:lnTo>
                    <a:pt x="10" y="502"/>
                  </a:lnTo>
                  <a:lnTo>
                    <a:pt x="7" y="404"/>
                  </a:lnTo>
                  <a:lnTo>
                    <a:pt x="9" y="403"/>
                  </a:lnTo>
                  <a:lnTo>
                    <a:pt x="9" y="401"/>
                  </a:lnTo>
                  <a:lnTo>
                    <a:pt x="10" y="398"/>
                  </a:lnTo>
                  <a:lnTo>
                    <a:pt x="14" y="397"/>
                  </a:lnTo>
                  <a:lnTo>
                    <a:pt x="15" y="396"/>
                  </a:lnTo>
                  <a:lnTo>
                    <a:pt x="16" y="396"/>
                  </a:lnTo>
                  <a:lnTo>
                    <a:pt x="17" y="396"/>
                  </a:lnTo>
                  <a:lnTo>
                    <a:pt x="20" y="397"/>
                  </a:lnTo>
                  <a:lnTo>
                    <a:pt x="22" y="398"/>
                  </a:lnTo>
                  <a:lnTo>
                    <a:pt x="23" y="401"/>
                  </a:lnTo>
                  <a:lnTo>
                    <a:pt x="24" y="402"/>
                  </a:lnTo>
                  <a:lnTo>
                    <a:pt x="24" y="404"/>
                  </a:lnTo>
                  <a:lnTo>
                    <a:pt x="24" y="4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085840" y="2624040"/>
            <a:ext cx="4838400" cy="1566720"/>
            <a:chOff x="2085840" y="2624040"/>
            <a:chExt cx="4838400" cy="1566720"/>
          </a:xfrm>
        </p:grpSpPr>
        <p:sp>
          <p:nvSpPr>
            <p:cNvPr id="474" name=""/>
            <p:cNvSpPr/>
            <p:nvPr/>
          </p:nvSpPr>
          <p:spPr>
            <a:xfrm>
              <a:off x="2085840" y="3324960"/>
              <a:ext cx="2184120" cy="865800"/>
            </a:xfrm>
            <a:custGeom>
              <a:avLst/>
              <a:gdLst/>
              <a:ahLst/>
              <a:rect l="l" t="t" r="r" b="b"/>
              <a:pathLst>
                <a:path w="2149" h="819">
                  <a:moveTo>
                    <a:pt x="2149" y="0"/>
                  </a:moveTo>
                  <a:lnTo>
                    <a:pt x="2016" y="7"/>
                  </a:lnTo>
                  <a:lnTo>
                    <a:pt x="1888" y="17"/>
                  </a:lnTo>
                  <a:lnTo>
                    <a:pt x="1763" y="29"/>
                  </a:lnTo>
                  <a:lnTo>
                    <a:pt x="1642" y="44"/>
                  </a:lnTo>
                  <a:lnTo>
                    <a:pt x="1524" y="62"/>
                  </a:lnTo>
                  <a:lnTo>
                    <a:pt x="1410" y="82"/>
                  </a:lnTo>
                  <a:lnTo>
                    <a:pt x="1299" y="105"/>
                  </a:lnTo>
                  <a:lnTo>
                    <a:pt x="1192" y="129"/>
                  </a:lnTo>
                  <a:lnTo>
                    <a:pt x="1088" y="157"/>
                  </a:lnTo>
                  <a:lnTo>
                    <a:pt x="988" y="187"/>
                  </a:lnTo>
                  <a:lnTo>
                    <a:pt x="890" y="220"/>
                  </a:lnTo>
                  <a:lnTo>
                    <a:pt x="797" y="256"/>
                  </a:lnTo>
                  <a:lnTo>
                    <a:pt x="708" y="294"/>
                  </a:lnTo>
                  <a:lnTo>
                    <a:pt x="621" y="335"/>
                  </a:lnTo>
                  <a:lnTo>
                    <a:pt x="537" y="378"/>
                  </a:lnTo>
                  <a:lnTo>
                    <a:pt x="458" y="425"/>
                  </a:lnTo>
                  <a:lnTo>
                    <a:pt x="383" y="472"/>
                  </a:lnTo>
                  <a:lnTo>
                    <a:pt x="310" y="524"/>
                  </a:lnTo>
                  <a:lnTo>
                    <a:pt x="241" y="578"/>
                  </a:lnTo>
                  <a:lnTo>
                    <a:pt x="176" y="634"/>
                  </a:lnTo>
                  <a:lnTo>
                    <a:pt x="114" y="692"/>
                  </a:lnTo>
                  <a:lnTo>
                    <a:pt x="56" y="754"/>
                  </a:lnTo>
                  <a:lnTo>
                    <a:pt x="0" y="819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3840" y="2624040"/>
              <a:ext cx="2660400" cy="713520"/>
            </a:xfrm>
            <a:custGeom>
              <a:avLst/>
              <a:gdLst/>
              <a:ahLst/>
              <a:rect l="l" t="t" r="r" b="b"/>
              <a:pathLst>
                <a:path w="2619" h="675">
                  <a:moveTo>
                    <a:pt x="2619" y="0"/>
                  </a:moveTo>
                  <a:lnTo>
                    <a:pt x="2474" y="71"/>
                  </a:lnTo>
                  <a:lnTo>
                    <a:pt x="2328" y="139"/>
                  </a:lnTo>
                  <a:lnTo>
                    <a:pt x="2184" y="202"/>
                  </a:lnTo>
                  <a:lnTo>
                    <a:pt x="2038" y="261"/>
                  </a:lnTo>
                  <a:lnTo>
                    <a:pt x="1893" y="317"/>
                  </a:lnTo>
                  <a:lnTo>
                    <a:pt x="1747" y="369"/>
                  </a:lnTo>
                  <a:lnTo>
                    <a:pt x="1602" y="416"/>
                  </a:lnTo>
                  <a:lnTo>
                    <a:pt x="1456" y="460"/>
                  </a:lnTo>
                  <a:lnTo>
                    <a:pt x="1311" y="499"/>
                  </a:lnTo>
                  <a:lnTo>
                    <a:pt x="1165" y="535"/>
                  </a:lnTo>
                  <a:lnTo>
                    <a:pt x="1020" y="567"/>
                  </a:lnTo>
                  <a:lnTo>
                    <a:pt x="874" y="594"/>
                  </a:lnTo>
                  <a:lnTo>
                    <a:pt x="728" y="618"/>
                  </a:lnTo>
                  <a:lnTo>
                    <a:pt x="583" y="637"/>
                  </a:lnTo>
                  <a:lnTo>
                    <a:pt x="437" y="652"/>
                  </a:lnTo>
                  <a:lnTo>
                    <a:pt x="291" y="664"/>
                  </a:lnTo>
                  <a:lnTo>
                    <a:pt x="145" y="671"/>
                  </a:lnTo>
                  <a:lnTo>
                    <a:pt x="0" y="675"/>
                  </a:lnTo>
                </a:path>
              </a:pathLst>
            </a:custGeom>
            <a:noFill/>
            <a:ln w="1440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485360" y="2163600"/>
            <a:ext cx="607320" cy="420840"/>
            <a:chOff x="1485360" y="2163600"/>
            <a:chExt cx="607320" cy="420840"/>
          </a:xfrm>
        </p:grpSpPr>
        <p:sp>
          <p:nvSpPr>
            <p:cNvPr id="477" name=""/>
            <p:cNvSpPr/>
            <p:nvPr/>
          </p:nvSpPr>
          <p:spPr>
            <a:xfrm>
              <a:off x="1655280" y="21636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85360" y="237096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god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944000" y="566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890160" y="5386320"/>
            <a:ext cx="219960" cy="266040"/>
            <a:chOff x="3890160" y="5386320"/>
            <a:chExt cx="219960" cy="266040"/>
          </a:xfrm>
        </p:grpSpPr>
        <p:sp>
          <p:nvSpPr>
            <p:cNvPr id="481" name=""/>
            <p:cNvSpPr/>
            <p:nvPr/>
          </p:nvSpPr>
          <p:spPr>
            <a:xfrm>
              <a:off x="3890160" y="53863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19400" y="543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650920" y="5351400"/>
            <a:ext cx="218160" cy="266400"/>
            <a:chOff x="5650920" y="5351400"/>
            <a:chExt cx="218160" cy="266400"/>
          </a:xfrm>
        </p:grpSpPr>
        <p:sp>
          <p:nvSpPr>
            <p:cNvPr id="484" name=""/>
            <p:cNvSpPr/>
            <p:nvPr/>
          </p:nvSpPr>
          <p:spPr>
            <a:xfrm>
              <a:off x="5650920" y="5351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8360" y="54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672080" y="2370240"/>
            <a:ext cx="331920" cy="266040"/>
            <a:chOff x="4672080" y="2370240"/>
            <a:chExt cx="331920" cy="266040"/>
          </a:xfrm>
        </p:grpSpPr>
        <p:sp>
          <p:nvSpPr>
            <p:cNvPr id="487" name=""/>
            <p:cNvSpPr/>
            <p:nvPr/>
          </p:nvSpPr>
          <p:spPr>
            <a:xfrm>
              <a:off x="4672080" y="237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04280" y="242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61120" y="2214720"/>
            <a:ext cx="379440" cy="266400"/>
            <a:chOff x="6261120" y="2214720"/>
            <a:chExt cx="379440" cy="266400"/>
          </a:xfrm>
        </p:grpSpPr>
        <p:sp>
          <p:nvSpPr>
            <p:cNvPr id="490" name=""/>
            <p:cNvSpPr/>
            <p:nvPr/>
          </p:nvSpPr>
          <p:spPr>
            <a:xfrm>
              <a:off x="6261120" y="22147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1880" y="2267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971040" y="2421000"/>
            <a:ext cx="321840" cy="266400"/>
            <a:chOff x="6971040" y="2421000"/>
            <a:chExt cx="321840" cy="266400"/>
          </a:xfrm>
        </p:grpSpPr>
        <p:sp>
          <p:nvSpPr>
            <p:cNvPr id="493" name=""/>
            <p:cNvSpPr/>
            <p:nvPr/>
          </p:nvSpPr>
          <p:spPr>
            <a:xfrm>
              <a:off x="6971040" y="24210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02160" y="247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45680" y="566892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el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earna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prosečnih troškova od obima proizvodnje i vrste sredstava za r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836640" y="4929120"/>
            <a:ext cx="6726240" cy="92160"/>
            <a:chOff x="836640" y="4929120"/>
            <a:chExt cx="6726240" cy="92160"/>
          </a:xfrm>
        </p:grpSpPr>
        <p:sp>
          <p:nvSpPr>
            <p:cNvPr id="498" name=""/>
            <p:cNvSpPr/>
            <p:nvPr/>
          </p:nvSpPr>
          <p:spPr>
            <a:xfrm>
              <a:off x="836640" y="4975200"/>
              <a:ext cx="65707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1520" y="4929120"/>
              <a:ext cx="171360" cy="9216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0" y="0"/>
                  </a:moveTo>
                  <a:lnTo>
                    <a:pt x="214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873520" y="3495600"/>
            <a:ext cx="31680" cy="1486080"/>
          </a:xfrm>
          <a:custGeom>
            <a:avLst/>
            <a:gdLst/>
            <a:ahLst/>
            <a:rect l="l" t="t" r="r" b="b"/>
            <a:pathLst>
              <a:path w="40" h="1872">
                <a:moveTo>
                  <a:pt x="22" y="8"/>
                </a:moveTo>
                <a:lnTo>
                  <a:pt x="23" y="139"/>
                </a:lnTo>
                <a:lnTo>
                  <a:pt x="23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8"/>
                </a:lnTo>
                <a:lnTo>
                  <a:pt x="15" y="149"/>
                </a:lnTo>
                <a:lnTo>
                  <a:pt x="11" y="149"/>
                </a:lnTo>
                <a:lnTo>
                  <a:pt x="10" y="149"/>
                </a:lnTo>
                <a:lnTo>
                  <a:pt x="8" y="148"/>
                </a:lnTo>
                <a:lnTo>
                  <a:pt x="3" y="146"/>
                </a:lnTo>
                <a:lnTo>
                  <a:pt x="1" y="144"/>
                </a:lnTo>
                <a:lnTo>
                  <a:pt x="1" y="142"/>
                </a:lnTo>
                <a:lnTo>
                  <a:pt x="1" y="139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8" y="3"/>
                </a:lnTo>
                <a:lnTo>
                  <a:pt x="22" y="5"/>
                </a:lnTo>
                <a:lnTo>
                  <a:pt x="22" y="7"/>
                </a:lnTo>
                <a:lnTo>
                  <a:pt x="22" y="8"/>
                </a:lnTo>
                <a:lnTo>
                  <a:pt x="22" y="8"/>
                </a:lnTo>
                <a:close/>
                <a:moveTo>
                  <a:pt x="25" y="233"/>
                </a:moveTo>
                <a:lnTo>
                  <a:pt x="25" y="364"/>
                </a:lnTo>
                <a:lnTo>
                  <a:pt x="25" y="366"/>
                </a:lnTo>
                <a:lnTo>
                  <a:pt x="25" y="367"/>
                </a:lnTo>
                <a:lnTo>
                  <a:pt x="22" y="371"/>
                </a:lnTo>
                <a:lnTo>
                  <a:pt x="18" y="373"/>
                </a:lnTo>
                <a:lnTo>
                  <a:pt x="17" y="373"/>
                </a:lnTo>
                <a:lnTo>
                  <a:pt x="15" y="374"/>
                </a:lnTo>
                <a:lnTo>
                  <a:pt x="11" y="373"/>
                </a:lnTo>
                <a:lnTo>
                  <a:pt x="10" y="373"/>
                </a:lnTo>
                <a:lnTo>
                  <a:pt x="6" y="371"/>
                </a:lnTo>
                <a:lnTo>
                  <a:pt x="3" y="368"/>
                </a:lnTo>
                <a:lnTo>
                  <a:pt x="3" y="366"/>
                </a:lnTo>
                <a:lnTo>
                  <a:pt x="3" y="364"/>
                </a:lnTo>
                <a:lnTo>
                  <a:pt x="1" y="233"/>
                </a:lnTo>
                <a:lnTo>
                  <a:pt x="1" y="232"/>
                </a:lnTo>
                <a:lnTo>
                  <a:pt x="3" y="229"/>
                </a:lnTo>
                <a:lnTo>
                  <a:pt x="5" y="226"/>
                </a:lnTo>
                <a:lnTo>
                  <a:pt x="8" y="225"/>
                </a:lnTo>
                <a:lnTo>
                  <a:pt x="10" y="224"/>
                </a:lnTo>
                <a:lnTo>
                  <a:pt x="13" y="224"/>
                </a:lnTo>
                <a:lnTo>
                  <a:pt x="15" y="224"/>
                </a:lnTo>
                <a:lnTo>
                  <a:pt x="17" y="225"/>
                </a:lnTo>
                <a:lnTo>
                  <a:pt x="22" y="226"/>
                </a:lnTo>
                <a:lnTo>
                  <a:pt x="23" y="229"/>
                </a:lnTo>
                <a:lnTo>
                  <a:pt x="23" y="232"/>
                </a:lnTo>
                <a:lnTo>
                  <a:pt x="25" y="233"/>
                </a:lnTo>
                <a:lnTo>
                  <a:pt x="25" y="233"/>
                </a:lnTo>
                <a:close/>
                <a:moveTo>
                  <a:pt x="27" y="458"/>
                </a:moveTo>
                <a:lnTo>
                  <a:pt x="29" y="588"/>
                </a:lnTo>
                <a:lnTo>
                  <a:pt x="27" y="591"/>
                </a:lnTo>
                <a:lnTo>
                  <a:pt x="27" y="592"/>
                </a:lnTo>
                <a:lnTo>
                  <a:pt x="25" y="595"/>
                </a:lnTo>
                <a:lnTo>
                  <a:pt x="20" y="598"/>
                </a:lnTo>
                <a:lnTo>
                  <a:pt x="18" y="598"/>
                </a:lnTo>
                <a:lnTo>
                  <a:pt x="17" y="598"/>
                </a:lnTo>
                <a:lnTo>
                  <a:pt x="13" y="598"/>
                </a:lnTo>
                <a:lnTo>
                  <a:pt x="11" y="598"/>
                </a:lnTo>
                <a:lnTo>
                  <a:pt x="8" y="595"/>
                </a:lnTo>
                <a:lnTo>
                  <a:pt x="5" y="592"/>
                </a:lnTo>
                <a:lnTo>
                  <a:pt x="5" y="591"/>
                </a:lnTo>
                <a:lnTo>
                  <a:pt x="5" y="588"/>
                </a:lnTo>
                <a:lnTo>
                  <a:pt x="3" y="458"/>
                </a:lnTo>
                <a:lnTo>
                  <a:pt x="3" y="455"/>
                </a:lnTo>
                <a:lnTo>
                  <a:pt x="5" y="454"/>
                </a:lnTo>
                <a:lnTo>
                  <a:pt x="6" y="451"/>
                </a:lnTo>
                <a:lnTo>
                  <a:pt x="10" y="449"/>
                </a:lnTo>
                <a:lnTo>
                  <a:pt x="13" y="449"/>
                </a:lnTo>
                <a:lnTo>
                  <a:pt x="15" y="449"/>
                </a:lnTo>
                <a:lnTo>
                  <a:pt x="17" y="449"/>
                </a:lnTo>
                <a:lnTo>
                  <a:pt x="20" y="449"/>
                </a:lnTo>
                <a:lnTo>
                  <a:pt x="23" y="451"/>
                </a:lnTo>
                <a:lnTo>
                  <a:pt x="25" y="454"/>
                </a:lnTo>
                <a:lnTo>
                  <a:pt x="27" y="455"/>
                </a:lnTo>
                <a:lnTo>
                  <a:pt x="27" y="458"/>
                </a:lnTo>
                <a:lnTo>
                  <a:pt x="27" y="458"/>
                </a:lnTo>
                <a:close/>
                <a:moveTo>
                  <a:pt x="29" y="682"/>
                </a:moveTo>
                <a:lnTo>
                  <a:pt x="30" y="813"/>
                </a:lnTo>
                <a:lnTo>
                  <a:pt x="30" y="814"/>
                </a:lnTo>
                <a:lnTo>
                  <a:pt x="29" y="817"/>
                </a:lnTo>
                <a:lnTo>
                  <a:pt x="27" y="820"/>
                </a:lnTo>
                <a:lnTo>
                  <a:pt x="23" y="821"/>
                </a:lnTo>
                <a:lnTo>
                  <a:pt x="20" y="823"/>
                </a:lnTo>
                <a:lnTo>
                  <a:pt x="18" y="823"/>
                </a:lnTo>
                <a:lnTo>
                  <a:pt x="17" y="823"/>
                </a:lnTo>
                <a:lnTo>
                  <a:pt x="13" y="821"/>
                </a:lnTo>
                <a:lnTo>
                  <a:pt x="10" y="820"/>
                </a:lnTo>
                <a:lnTo>
                  <a:pt x="8" y="817"/>
                </a:lnTo>
                <a:lnTo>
                  <a:pt x="6" y="814"/>
                </a:lnTo>
                <a:lnTo>
                  <a:pt x="6" y="813"/>
                </a:lnTo>
                <a:lnTo>
                  <a:pt x="5" y="682"/>
                </a:lnTo>
                <a:lnTo>
                  <a:pt x="6" y="680"/>
                </a:lnTo>
                <a:lnTo>
                  <a:pt x="6" y="679"/>
                </a:lnTo>
                <a:lnTo>
                  <a:pt x="8" y="675"/>
                </a:lnTo>
                <a:lnTo>
                  <a:pt x="13" y="674"/>
                </a:lnTo>
                <a:lnTo>
                  <a:pt x="15" y="672"/>
                </a:lnTo>
                <a:lnTo>
                  <a:pt x="17" y="672"/>
                </a:lnTo>
                <a:lnTo>
                  <a:pt x="20" y="672"/>
                </a:lnTo>
                <a:lnTo>
                  <a:pt x="22" y="674"/>
                </a:lnTo>
                <a:lnTo>
                  <a:pt x="25" y="675"/>
                </a:lnTo>
                <a:lnTo>
                  <a:pt x="27" y="678"/>
                </a:lnTo>
                <a:lnTo>
                  <a:pt x="29" y="680"/>
                </a:lnTo>
                <a:lnTo>
                  <a:pt x="29" y="682"/>
                </a:lnTo>
                <a:lnTo>
                  <a:pt x="29" y="682"/>
                </a:lnTo>
                <a:close/>
                <a:moveTo>
                  <a:pt x="30" y="907"/>
                </a:moveTo>
                <a:lnTo>
                  <a:pt x="32" y="1037"/>
                </a:lnTo>
                <a:lnTo>
                  <a:pt x="32" y="1039"/>
                </a:lnTo>
                <a:lnTo>
                  <a:pt x="30" y="1041"/>
                </a:lnTo>
                <a:lnTo>
                  <a:pt x="29" y="1043"/>
                </a:lnTo>
                <a:lnTo>
                  <a:pt x="25" y="1046"/>
                </a:lnTo>
                <a:lnTo>
                  <a:pt x="23" y="1046"/>
                </a:lnTo>
                <a:lnTo>
                  <a:pt x="20" y="1046"/>
                </a:lnTo>
                <a:lnTo>
                  <a:pt x="18" y="1046"/>
                </a:lnTo>
                <a:lnTo>
                  <a:pt x="17" y="1046"/>
                </a:lnTo>
                <a:lnTo>
                  <a:pt x="11" y="1043"/>
                </a:lnTo>
                <a:lnTo>
                  <a:pt x="10" y="1041"/>
                </a:lnTo>
                <a:lnTo>
                  <a:pt x="10" y="1039"/>
                </a:lnTo>
                <a:lnTo>
                  <a:pt x="8" y="1038"/>
                </a:lnTo>
                <a:lnTo>
                  <a:pt x="8" y="907"/>
                </a:lnTo>
                <a:lnTo>
                  <a:pt x="8" y="904"/>
                </a:lnTo>
                <a:lnTo>
                  <a:pt x="8" y="903"/>
                </a:lnTo>
                <a:lnTo>
                  <a:pt x="11" y="900"/>
                </a:lnTo>
                <a:lnTo>
                  <a:pt x="15" y="897"/>
                </a:lnTo>
                <a:lnTo>
                  <a:pt x="17" y="897"/>
                </a:lnTo>
                <a:lnTo>
                  <a:pt x="18" y="897"/>
                </a:lnTo>
                <a:lnTo>
                  <a:pt x="22" y="897"/>
                </a:lnTo>
                <a:lnTo>
                  <a:pt x="23" y="897"/>
                </a:lnTo>
                <a:lnTo>
                  <a:pt x="27" y="900"/>
                </a:lnTo>
                <a:lnTo>
                  <a:pt x="30" y="903"/>
                </a:lnTo>
                <a:lnTo>
                  <a:pt x="30" y="904"/>
                </a:lnTo>
                <a:lnTo>
                  <a:pt x="30" y="907"/>
                </a:lnTo>
                <a:lnTo>
                  <a:pt x="30" y="907"/>
                </a:lnTo>
                <a:close/>
                <a:moveTo>
                  <a:pt x="34" y="1130"/>
                </a:moveTo>
                <a:lnTo>
                  <a:pt x="34" y="1262"/>
                </a:lnTo>
                <a:lnTo>
                  <a:pt x="34" y="1263"/>
                </a:lnTo>
                <a:lnTo>
                  <a:pt x="34" y="1266"/>
                </a:lnTo>
                <a:lnTo>
                  <a:pt x="30" y="1268"/>
                </a:lnTo>
                <a:lnTo>
                  <a:pt x="27" y="1270"/>
                </a:lnTo>
                <a:lnTo>
                  <a:pt x="25" y="1271"/>
                </a:lnTo>
                <a:lnTo>
                  <a:pt x="22" y="1271"/>
                </a:lnTo>
                <a:lnTo>
                  <a:pt x="20" y="1271"/>
                </a:lnTo>
                <a:lnTo>
                  <a:pt x="18" y="1270"/>
                </a:lnTo>
                <a:lnTo>
                  <a:pt x="15" y="1268"/>
                </a:lnTo>
                <a:lnTo>
                  <a:pt x="11" y="1266"/>
                </a:lnTo>
                <a:lnTo>
                  <a:pt x="11" y="1263"/>
                </a:lnTo>
                <a:lnTo>
                  <a:pt x="11" y="1262"/>
                </a:lnTo>
                <a:lnTo>
                  <a:pt x="10" y="1130"/>
                </a:lnTo>
                <a:lnTo>
                  <a:pt x="10" y="1129"/>
                </a:lnTo>
                <a:lnTo>
                  <a:pt x="10" y="1128"/>
                </a:lnTo>
                <a:lnTo>
                  <a:pt x="13" y="1124"/>
                </a:lnTo>
                <a:lnTo>
                  <a:pt x="17" y="1122"/>
                </a:lnTo>
                <a:lnTo>
                  <a:pt x="18" y="1122"/>
                </a:lnTo>
                <a:lnTo>
                  <a:pt x="22" y="1121"/>
                </a:lnTo>
                <a:lnTo>
                  <a:pt x="23" y="1122"/>
                </a:lnTo>
                <a:lnTo>
                  <a:pt x="25" y="1122"/>
                </a:lnTo>
                <a:lnTo>
                  <a:pt x="29" y="1124"/>
                </a:lnTo>
                <a:lnTo>
                  <a:pt x="32" y="1128"/>
                </a:lnTo>
                <a:lnTo>
                  <a:pt x="32" y="1129"/>
                </a:lnTo>
                <a:lnTo>
                  <a:pt x="34" y="1130"/>
                </a:lnTo>
                <a:lnTo>
                  <a:pt x="34" y="1130"/>
                </a:lnTo>
                <a:close/>
                <a:moveTo>
                  <a:pt x="35" y="1355"/>
                </a:moveTo>
                <a:lnTo>
                  <a:pt x="35" y="1487"/>
                </a:lnTo>
                <a:lnTo>
                  <a:pt x="35" y="1488"/>
                </a:lnTo>
                <a:lnTo>
                  <a:pt x="35" y="1489"/>
                </a:lnTo>
                <a:lnTo>
                  <a:pt x="32" y="1492"/>
                </a:lnTo>
                <a:lnTo>
                  <a:pt x="29" y="1495"/>
                </a:lnTo>
                <a:lnTo>
                  <a:pt x="27" y="1495"/>
                </a:lnTo>
                <a:lnTo>
                  <a:pt x="25" y="1495"/>
                </a:lnTo>
                <a:lnTo>
                  <a:pt x="22" y="1495"/>
                </a:lnTo>
                <a:lnTo>
                  <a:pt x="20" y="1495"/>
                </a:lnTo>
                <a:lnTo>
                  <a:pt x="17" y="1492"/>
                </a:lnTo>
                <a:lnTo>
                  <a:pt x="13" y="1489"/>
                </a:lnTo>
                <a:lnTo>
                  <a:pt x="13" y="1488"/>
                </a:lnTo>
                <a:lnTo>
                  <a:pt x="13" y="1487"/>
                </a:lnTo>
                <a:lnTo>
                  <a:pt x="11" y="1355"/>
                </a:lnTo>
                <a:lnTo>
                  <a:pt x="11" y="1353"/>
                </a:lnTo>
                <a:lnTo>
                  <a:pt x="13" y="1351"/>
                </a:lnTo>
                <a:lnTo>
                  <a:pt x="15" y="1349"/>
                </a:lnTo>
                <a:lnTo>
                  <a:pt x="18" y="1347"/>
                </a:lnTo>
                <a:lnTo>
                  <a:pt x="22" y="1346"/>
                </a:lnTo>
                <a:lnTo>
                  <a:pt x="23" y="1346"/>
                </a:lnTo>
                <a:lnTo>
                  <a:pt x="25" y="1346"/>
                </a:lnTo>
                <a:lnTo>
                  <a:pt x="29" y="1346"/>
                </a:lnTo>
                <a:lnTo>
                  <a:pt x="32" y="1349"/>
                </a:lnTo>
                <a:lnTo>
                  <a:pt x="34" y="1351"/>
                </a:lnTo>
                <a:lnTo>
                  <a:pt x="35" y="1353"/>
                </a:lnTo>
                <a:lnTo>
                  <a:pt x="35" y="1355"/>
                </a:lnTo>
                <a:lnTo>
                  <a:pt x="35" y="1355"/>
                </a:lnTo>
                <a:close/>
                <a:moveTo>
                  <a:pt x="37" y="1579"/>
                </a:moveTo>
                <a:lnTo>
                  <a:pt x="39" y="1710"/>
                </a:lnTo>
                <a:lnTo>
                  <a:pt x="39" y="1712"/>
                </a:lnTo>
                <a:lnTo>
                  <a:pt x="37" y="1714"/>
                </a:lnTo>
                <a:lnTo>
                  <a:pt x="35" y="1717"/>
                </a:lnTo>
                <a:lnTo>
                  <a:pt x="32" y="1718"/>
                </a:lnTo>
                <a:lnTo>
                  <a:pt x="29" y="1720"/>
                </a:lnTo>
                <a:lnTo>
                  <a:pt x="27" y="1720"/>
                </a:lnTo>
                <a:lnTo>
                  <a:pt x="25" y="1720"/>
                </a:lnTo>
                <a:lnTo>
                  <a:pt x="22" y="1718"/>
                </a:lnTo>
                <a:lnTo>
                  <a:pt x="18" y="1717"/>
                </a:lnTo>
                <a:lnTo>
                  <a:pt x="17" y="1714"/>
                </a:lnTo>
                <a:lnTo>
                  <a:pt x="15" y="1713"/>
                </a:lnTo>
                <a:lnTo>
                  <a:pt x="15" y="1710"/>
                </a:lnTo>
                <a:lnTo>
                  <a:pt x="13" y="1579"/>
                </a:lnTo>
                <a:lnTo>
                  <a:pt x="15" y="1578"/>
                </a:lnTo>
                <a:lnTo>
                  <a:pt x="15" y="1576"/>
                </a:lnTo>
                <a:lnTo>
                  <a:pt x="17" y="1574"/>
                </a:lnTo>
                <a:lnTo>
                  <a:pt x="22" y="1571"/>
                </a:lnTo>
                <a:lnTo>
                  <a:pt x="23" y="1571"/>
                </a:lnTo>
                <a:lnTo>
                  <a:pt x="25" y="1571"/>
                </a:lnTo>
                <a:lnTo>
                  <a:pt x="27" y="1571"/>
                </a:lnTo>
                <a:lnTo>
                  <a:pt x="30" y="1571"/>
                </a:lnTo>
                <a:lnTo>
                  <a:pt x="34" y="1572"/>
                </a:lnTo>
                <a:lnTo>
                  <a:pt x="35" y="1576"/>
                </a:lnTo>
                <a:lnTo>
                  <a:pt x="37" y="1578"/>
                </a:lnTo>
                <a:lnTo>
                  <a:pt x="37" y="1579"/>
                </a:lnTo>
                <a:lnTo>
                  <a:pt x="37" y="1579"/>
                </a:lnTo>
                <a:close/>
                <a:moveTo>
                  <a:pt x="39" y="1804"/>
                </a:moveTo>
                <a:lnTo>
                  <a:pt x="40" y="1862"/>
                </a:lnTo>
                <a:lnTo>
                  <a:pt x="39" y="1865"/>
                </a:lnTo>
                <a:lnTo>
                  <a:pt x="39" y="1866"/>
                </a:lnTo>
                <a:lnTo>
                  <a:pt x="37" y="1869"/>
                </a:lnTo>
                <a:lnTo>
                  <a:pt x="32" y="1872"/>
                </a:lnTo>
                <a:lnTo>
                  <a:pt x="30" y="1872"/>
                </a:lnTo>
                <a:lnTo>
                  <a:pt x="29" y="1872"/>
                </a:lnTo>
                <a:lnTo>
                  <a:pt x="25" y="1872"/>
                </a:lnTo>
                <a:lnTo>
                  <a:pt x="23" y="1872"/>
                </a:lnTo>
                <a:lnTo>
                  <a:pt x="20" y="1869"/>
                </a:lnTo>
                <a:lnTo>
                  <a:pt x="17" y="1866"/>
                </a:lnTo>
                <a:lnTo>
                  <a:pt x="17" y="1865"/>
                </a:lnTo>
                <a:lnTo>
                  <a:pt x="17" y="1862"/>
                </a:lnTo>
                <a:lnTo>
                  <a:pt x="17" y="1804"/>
                </a:lnTo>
                <a:lnTo>
                  <a:pt x="17" y="1803"/>
                </a:lnTo>
                <a:lnTo>
                  <a:pt x="17" y="1800"/>
                </a:lnTo>
                <a:lnTo>
                  <a:pt x="20" y="1797"/>
                </a:lnTo>
                <a:lnTo>
                  <a:pt x="23" y="1796"/>
                </a:lnTo>
                <a:lnTo>
                  <a:pt x="25" y="1794"/>
                </a:lnTo>
                <a:lnTo>
                  <a:pt x="27" y="1794"/>
                </a:lnTo>
                <a:lnTo>
                  <a:pt x="30" y="1794"/>
                </a:lnTo>
                <a:lnTo>
                  <a:pt x="32" y="1796"/>
                </a:lnTo>
                <a:lnTo>
                  <a:pt x="35" y="1797"/>
                </a:lnTo>
                <a:lnTo>
                  <a:pt x="39" y="1800"/>
                </a:lnTo>
                <a:lnTo>
                  <a:pt x="39" y="1801"/>
                </a:lnTo>
                <a:lnTo>
                  <a:pt x="39" y="1804"/>
                </a:lnTo>
                <a:lnTo>
                  <a:pt x="39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07080" y="3724200"/>
            <a:ext cx="19080" cy="1187640"/>
          </a:xfrm>
          <a:custGeom>
            <a:avLst/>
            <a:gdLst/>
            <a:ahLst/>
            <a:rect l="l" t="t" r="r" b="b"/>
            <a:pathLst>
              <a:path w="24" h="1496">
                <a:moveTo>
                  <a:pt x="24" y="10"/>
                </a:moveTo>
                <a:lnTo>
                  <a:pt x="24" y="139"/>
                </a:lnTo>
                <a:lnTo>
                  <a:pt x="24" y="142"/>
                </a:lnTo>
                <a:lnTo>
                  <a:pt x="22" y="144"/>
                </a:lnTo>
                <a:lnTo>
                  <a:pt x="20" y="146"/>
                </a:lnTo>
                <a:lnTo>
                  <a:pt x="17" y="149"/>
                </a:lnTo>
                <a:lnTo>
                  <a:pt x="13" y="149"/>
                </a:lnTo>
                <a:lnTo>
                  <a:pt x="12" y="149"/>
                </a:lnTo>
                <a:lnTo>
                  <a:pt x="10" y="149"/>
                </a:lnTo>
                <a:lnTo>
                  <a:pt x="7" y="149"/>
                </a:lnTo>
                <a:lnTo>
                  <a:pt x="3" y="146"/>
                </a:lnTo>
                <a:lnTo>
                  <a:pt x="1" y="144"/>
                </a:lnTo>
                <a:lnTo>
                  <a:pt x="0" y="142"/>
                </a:lnTo>
                <a:lnTo>
                  <a:pt x="0" y="139"/>
                </a:lnTo>
                <a:lnTo>
                  <a:pt x="0" y="10"/>
                </a:lnTo>
                <a:lnTo>
                  <a:pt x="0" y="7"/>
                </a:lnTo>
                <a:lnTo>
                  <a:pt x="1" y="6"/>
                </a:lnTo>
                <a:lnTo>
                  <a:pt x="3" y="3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7" y="0"/>
                </a:lnTo>
                <a:lnTo>
                  <a:pt x="20" y="3"/>
                </a:lnTo>
                <a:lnTo>
                  <a:pt x="22" y="6"/>
                </a:lnTo>
                <a:lnTo>
                  <a:pt x="24" y="7"/>
                </a:lnTo>
                <a:lnTo>
                  <a:pt x="24" y="10"/>
                </a:lnTo>
                <a:lnTo>
                  <a:pt x="24" y="10"/>
                </a:lnTo>
                <a:close/>
                <a:moveTo>
                  <a:pt x="24" y="233"/>
                </a:moveTo>
                <a:lnTo>
                  <a:pt x="24" y="364"/>
                </a:lnTo>
                <a:lnTo>
                  <a:pt x="24" y="366"/>
                </a:lnTo>
                <a:lnTo>
                  <a:pt x="22" y="369"/>
                </a:lnTo>
                <a:lnTo>
                  <a:pt x="20" y="371"/>
                </a:lnTo>
                <a:lnTo>
                  <a:pt x="17" y="373"/>
                </a:lnTo>
                <a:lnTo>
                  <a:pt x="13" y="374"/>
                </a:lnTo>
                <a:lnTo>
                  <a:pt x="12" y="374"/>
                </a:lnTo>
                <a:lnTo>
                  <a:pt x="10" y="374"/>
                </a:lnTo>
                <a:lnTo>
                  <a:pt x="7" y="373"/>
                </a:lnTo>
                <a:lnTo>
                  <a:pt x="3" y="371"/>
                </a:lnTo>
                <a:lnTo>
                  <a:pt x="1" y="369"/>
                </a:lnTo>
                <a:lnTo>
                  <a:pt x="0" y="366"/>
                </a:lnTo>
                <a:lnTo>
                  <a:pt x="0" y="364"/>
                </a:lnTo>
                <a:lnTo>
                  <a:pt x="0" y="233"/>
                </a:lnTo>
                <a:lnTo>
                  <a:pt x="0" y="232"/>
                </a:lnTo>
                <a:lnTo>
                  <a:pt x="1" y="231"/>
                </a:lnTo>
                <a:lnTo>
                  <a:pt x="3" y="226"/>
                </a:lnTo>
                <a:lnTo>
                  <a:pt x="7" y="225"/>
                </a:lnTo>
                <a:lnTo>
                  <a:pt x="10" y="225"/>
                </a:lnTo>
                <a:lnTo>
                  <a:pt x="12" y="224"/>
                </a:lnTo>
                <a:lnTo>
                  <a:pt x="13" y="225"/>
                </a:lnTo>
                <a:lnTo>
                  <a:pt x="17" y="225"/>
                </a:lnTo>
                <a:lnTo>
                  <a:pt x="20" y="226"/>
                </a:lnTo>
                <a:lnTo>
                  <a:pt x="22" y="231"/>
                </a:lnTo>
                <a:lnTo>
                  <a:pt x="24" y="232"/>
                </a:lnTo>
                <a:lnTo>
                  <a:pt x="24" y="233"/>
                </a:lnTo>
                <a:lnTo>
                  <a:pt x="24" y="233"/>
                </a:lnTo>
                <a:close/>
                <a:moveTo>
                  <a:pt x="24" y="458"/>
                </a:moveTo>
                <a:lnTo>
                  <a:pt x="24" y="589"/>
                </a:lnTo>
                <a:lnTo>
                  <a:pt x="24" y="591"/>
                </a:lnTo>
                <a:lnTo>
                  <a:pt x="22" y="592"/>
                </a:lnTo>
                <a:lnTo>
                  <a:pt x="20" y="595"/>
                </a:lnTo>
                <a:lnTo>
                  <a:pt x="17" y="598"/>
                </a:lnTo>
                <a:lnTo>
                  <a:pt x="13" y="598"/>
                </a:lnTo>
                <a:lnTo>
                  <a:pt x="12" y="598"/>
                </a:lnTo>
                <a:lnTo>
                  <a:pt x="10" y="598"/>
                </a:lnTo>
                <a:lnTo>
                  <a:pt x="7" y="598"/>
                </a:lnTo>
                <a:lnTo>
                  <a:pt x="3" y="595"/>
                </a:lnTo>
                <a:lnTo>
                  <a:pt x="1" y="592"/>
                </a:lnTo>
                <a:lnTo>
                  <a:pt x="0" y="591"/>
                </a:lnTo>
                <a:lnTo>
                  <a:pt x="0" y="589"/>
                </a:lnTo>
                <a:lnTo>
                  <a:pt x="0" y="458"/>
                </a:lnTo>
                <a:lnTo>
                  <a:pt x="0" y="456"/>
                </a:lnTo>
                <a:lnTo>
                  <a:pt x="1" y="454"/>
                </a:lnTo>
                <a:lnTo>
                  <a:pt x="3" y="451"/>
                </a:lnTo>
                <a:lnTo>
                  <a:pt x="7" y="449"/>
                </a:lnTo>
                <a:lnTo>
                  <a:pt x="10" y="449"/>
                </a:lnTo>
                <a:lnTo>
                  <a:pt x="12" y="449"/>
                </a:lnTo>
                <a:lnTo>
                  <a:pt x="13" y="449"/>
                </a:lnTo>
                <a:lnTo>
                  <a:pt x="17" y="449"/>
                </a:lnTo>
                <a:lnTo>
                  <a:pt x="20" y="451"/>
                </a:lnTo>
                <a:lnTo>
                  <a:pt x="22" y="454"/>
                </a:lnTo>
                <a:lnTo>
                  <a:pt x="24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682"/>
                </a:moveTo>
                <a:lnTo>
                  <a:pt x="24" y="813"/>
                </a:lnTo>
                <a:lnTo>
                  <a:pt x="24" y="814"/>
                </a:lnTo>
                <a:lnTo>
                  <a:pt x="22" y="817"/>
                </a:lnTo>
                <a:lnTo>
                  <a:pt x="20" y="820"/>
                </a:lnTo>
                <a:lnTo>
                  <a:pt x="17" y="821"/>
                </a:lnTo>
                <a:lnTo>
                  <a:pt x="13" y="823"/>
                </a:lnTo>
                <a:lnTo>
                  <a:pt x="12" y="823"/>
                </a:lnTo>
                <a:lnTo>
                  <a:pt x="10" y="823"/>
                </a:lnTo>
                <a:lnTo>
                  <a:pt x="7" y="821"/>
                </a:lnTo>
                <a:lnTo>
                  <a:pt x="3" y="820"/>
                </a:lnTo>
                <a:lnTo>
                  <a:pt x="1" y="817"/>
                </a:lnTo>
                <a:lnTo>
                  <a:pt x="0" y="816"/>
                </a:lnTo>
                <a:lnTo>
                  <a:pt x="0" y="813"/>
                </a:lnTo>
                <a:lnTo>
                  <a:pt x="0" y="682"/>
                </a:lnTo>
                <a:lnTo>
                  <a:pt x="0" y="681"/>
                </a:lnTo>
                <a:lnTo>
                  <a:pt x="1" y="679"/>
                </a:lnTo>
                <a:lnTo>
                  <a:pt x="3" y="675"/>
                </a:lnTo>
                <a:lnTo>
                  <a:pt x="7" y="674"/>
                </a:lnTo>
                <a:lnTo>
                  <a:pt x="10" y="674"/>
                </a:lnTo>
                <a:lnTo>
                  <a:pt x="12" y="674"/>
                </a:lnTo>
                <a:lnTo>
                  <a:pt x="13" y="674"/>
                </a:lnTo>
                <a:lnTo>
                  <a:pt x="17" y="674"/>
                </a:lnTo>
                <a:lnTo>
                  <a:pt x="20" y="675"/>
                </a:lnTo>
                <a:lnTo>
                  <a:pt x="22" y="679"/>
                </a:lnTo>
                <a:lnTo>
                  <a:pt x="24" y="681"/>
                </a:lnTo>
                <a:lnTo>
                  <a:pt x="24" y="682"/>
                </a:lnTo>
                <a:lnTo>
                  <a:pt x="24" y="682"/>
                </a:lnTo>
                <a:close/>
                <a:moveTo>
                  <a:pt x="24" y="907"/>
                </a:moveTo>
                <a:lnTo>
                  <a:pt x="24" y="1038"/>
                </a:lnTo>
                <a:lnTo>
                  <a:pt x="24" y="1039"/>
                </a:lnTo>
                <a:lnTo>
                  <a:pt x="22" y="1041"/>
                </a:lnTo>
                <a:lnTo>
                  <a:pt x="20" y="1044"/>
                </a:lnTo>
                <a:lnTo>
                  <a:pt x="17" y="1046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3" y="1044"/>
                </a:lnTo>
                <a:lnTo>
                  <a:pt x="1" y="1041"/>
                </a:lnTo>
                <a:lnTo>
                  <a:pt x="0" y="1039"/>
                </a:lnTo>
                <a:lnTo>
                  <a:pt x="0" y="1038"/>
                </a:lnTo>
                <a:lnTo>
                  <a:pt x="0" y="907"/>
                </a:lnTo>
                <a:lnTo>
                  <a:pt x="0" y="904"/>
                </a:lnTo>
                <a:lnTo>
                  <a:pt x="1" y="903"/>
                </a:lnTo>
                <a:lnTo>
                  <a:pt x="3" y="900"/>
                </a:lnTo>
                <a:lnTo>
                  <a:pt x="7" y="899"/>
                </a:lnTo>
                <a:lnTo>
                  <a:pt x="10" y="897"/>
                </a:lnTo>
                <a:lnTo>
                  <a:pt x="12" y="897"/>
                </a:lnTo>
                <a:lnTo>
                  <a:pt x="13" y="897"/>
                </a:lnTo>
                <a:lnTo>
                  <a:pt x="17" y="899"/>
                </a:lnTo>
                <a:lnTo>
                  <a:pt x="20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  <a:moveTo>
                  <a:pt x="24" y="1131"/>
                </a:moveTo>
                <a:lnTo>
                  <a:pt x="24" y="1262"/>
                </a:lnTo>
                <a:lnTo>
                  <a:pt x="24" y="1264"/>
                </a:lnTo>
                <a:lnTo>
                  <a:pt x="22" y="1266"/>
                </a:lnTo>
                <a:lnTo>
                  <a:pt x="20" y="1269"/>
                </a:lnTo>
                <a:lnTo>
                  <a:pt x="17" y="1270"/>
                </a:lnTo>
                <a:lnTo>
                  <a:pt x="13" y="1271"/>
                </a:lnTo>
                <a:lnTo>
                  <a:pt x="12" y="1271"/>
                </a:lnTo>
                <a:lnTo>
                  <a:pt x="10" y="1271"/>
                </a:lnTo>
                <a:lnTo>
                  <a:pt x="7" y="1270"/>
                </a:lnTo>
                <a:lnTo>
                  <a:pt x="3" y="1269"/>
                </a:lnTo>
                <a:lnTo>
                  <a:pt x="1" y="1266"/>
                </a:lnTo>
                <a:lnTo>
                  <a:pt x="0" y="1264"/>
                </a:lnTo>
                <a:lnTo>
                  <a:pt x="0" y="1262"/>
                </a:lnTo>
                <a:lnTo>
                  <a:pt x="0" y="1131"/>
                </a:lnTo>
                <a:lnTo>
                  <a:pt x="0" y="1129"/>
                </a:lnTo>
                <a:lnTo>
                  <a:pt x="1" y="1128"/>
                </a:lnTo>
                <a:lnTo>
                  <a:pt x="3" y="1125"/>
                </a:lnTo>
                <a:lnTo>
                  <a:pt x="7" y="1122"/>
                </a:lnTo>
                <a:lnTo>
                  <a:pt x="10" y="1122"/>
                </a:lnTo>
                <a:lnTo>
                  <a:pt x="12" y="1122"/>
                </a:lnTo>
                <a:lnTo>
                  <a:pt x="13" y="1122"/>
                </a:lnTo>
                <a:lnTo>
                  <a:pt x="17" y="1122"/>
                </a:lnTo>
                <a:lnTo>
                  <a:pt x="20" y="1125"/>
                </a:lnTo>
                <a:lnTo>
                  <a:pt x="22" y="1128"/>
                </a:lnTo>
                <a:lnTo>
                  <a:pt x="24" y="1129"/>
                </a:lnTo>
                <a:lnTo>
                  <a:pt x="24" y="1131"/>
                </a:lnTo>
                <a:lnTo>
                  <a:pt x="24" y="1131"/>
                </a:lnTo>
                <a:close/>
                <a:moveTo>
                  <a:pt x="24" y="1356"/>
                </a:moveTo>
                <a:lnTo>
                  <a:pt x="24" y="1487"/>
                </a:lnTo>
                <a:lnTo>
                  <a:pt x="24" y="1488"/>
                </a:lnTo>
                <a:lnTo>
                  <a:pt x="22" y="1489"/>
                </a:lnTo>
                <a:lnTo>
                  <a:pt x="20" y="1494"/>
                </a:lnTo>
                <a:lnTo>
                  <a:pt x="17" y="1495"/>
                </a:lnTo>
                <a:lnTo>
                  <a:pt x="13" y="1495"/>
                </a:lnTo>
                <a:lnTo>
                  <a:pt x="12" y="1496"/>
                </a:lnTo>
                <a:lnTo>
                  <a:pt x="10" y="1495"/>
                </a:lnTo>
                <a:lnTo>
                  <a:pt x="7" y="1495"/>
                </a:lnTo>
                <a:lnTo>
                  <a:pt x="3" y="1494"/>
                </a:lnTo>
                <a:lnTo>
                  <a:pt x="1" y="1489"/>
                </a:lnTo>
                <a:lnTo>
                  <a:pt x="0" y="1488"/>
                </a:lnTo>
                <a:lnTo>
                  <a:pt x="0" y="1487"/>
                </a:lnTo>
                <a:lnTo>
                  <a:pt x="0" y="1356"/>
                </a:lnTo>
                <a:lnTo>
                  <a:pt x="0" y="1354"/>
                </a:lnTo>
                <a:lnTo>
                  <a:pt x="1" y="1351"/>
                </a:lnTo>
                <a:lnTo>
                  <a:pt x="3" y="1349"/>
                </a:lnTo>
                <a:lnTo>
                  <a:pt x="7" y="1347"/>
                </a:lnTo>
                <a:lnTo>
                  <a:pt x="10" y="1346"/>
                </a:lnTo>
                <a:lnTo>
                  <a:pt x="12" y="1346"/>
                </a:lnTo>
                <a:lnTo>
                  <a:pt x="13" y="1346"/>
                </a:lnTo>
                <a:lnTo>
                  <a:pt x="17" y="1347"/>
                </a:lnTo>
                <a:lnTo>
                  <a:pt x="20" y="1349"/>
                </a:lnTo>
                <a:lnTo>
                  <a:pt x="22" y="1351"/>
                </a:lnTo>
                <a:lnTo>
                  <a:pt x="24" y="1354"/>
                </a:lnTo>
                <a:lnTo>
                  <a:pt x="24" y="1356"/>
                </a:lnTo>
                <a:lnTo>
                  <a:pt x="24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917640" y="2079720"/>
            <a:ext cx="112680" cy="3228840"/>
            <a:chOff x="917640" y="2079720"/>
            <a:chExt cx="112680" cy="3228840"/>
          </a:xfrm>
        </p:grpSpPr>
        <p:sp>
          <p:nvSpPr>
            <p:cNvPr id="503" name=""/>
            <p:cNvSpPr/>
            <p:nvPr/>
          </p:nvSpPr>
          <p:spPr>
            <a:xfrm>
              <a:off x="973080" y="2206800"/>
              <a:ext cx="1800" cy="2877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2079720"/>
              <a:ext cx="112680" cy="13788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0" y="173"/>
                  </a:moveTo>
                  <a:lnTo>
                    <a:pt x="72" y="0"/>
                  </a:lnTo>
                  <a:lnTo>
                    <a:pt x="14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73080" y="5084640"/>
              <a:ext cx="1800" cy="223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89548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16440" y="4973760"/>
            <a:ext cx="18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73080" y="5151600"/>
            <a:ext cx="1922400" cy="91800"/>
            <a:chOff x="973080" y="5151600"/>
            <a:chExt cx="1922400" cy="91800"/>
          </a:xfrm>
        </p:grpSpPr>
        <p:sp>
          <p:nvSpPr>
            <p:cNvPr id="509" name=""/>
            <p:cNvSpPr/>
            <p:nvPr/>
          </p:nvSpPr>
          <p:spPr>
            <a:xfrm>
              <a:off x="1130400" y="5197320"/>
              <a:ext cx="16095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7308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2556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895480" y="5151600"/>
            <a:ext cx="1920960" cy="91800"/>
            <a:chOff x="2895480" y="5151600"/>
            <a:chExt cx="1920960" cy="91800"/>
          </a:xfrm>
        </p:grpSpPr>
        <p:sp>
          <p:nvSpPr>
            <p:cNvPr id="513" name=""/>
            <p:cNvSpPr/>
            <p:nvPr/>
          </p:nvSpPr>
          <p:spPr>
            <a:xfrm>
              <a:off x="3051000" y="5197320"/>
              <a:ext cx="16099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548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6520" y="5151600"/>
              <a:ext cx="169920" cy="9180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5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16440" y="5151600"/>
            <a:ext cx="1647720" cy="91800"/>
            <a:chOff x="4816440" y="5151600"/>
            <a:chExt cx="1647720" cy="91800"/>
          </a:xfrm>
        </p:grpSpPr>
        <p:sp>
          <p:nvSpPr>
            <p:cNvPr id="517" name=""/>
            <p:cNvSpPr/>
            <p:nvPr/>
          </p:nvSpPr>
          <p:spPr>
            <a:xfrm>
              <a:off x="4973760" y="5197320"/>
              <a:ext cx="14904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16440" y="5151600"/>
              <a:ext cx="171360" cy="9180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214" y="116"/>
                  </a:moveTo>
                  <a:lnTo>
                    <a:pt x="0" y="58"/>
                  </a:lnTo>
                  <a:lnTo>
                    <a:pt x="214" y="0"/>
                  </a:lnTo>
                  <a:lnTo>
                    <a:pt x="214" y="116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837800" y="5006880"/>
            <a:ext cx="157320" cy="227520"/>
            <a:chOff x="1837800" y="5006880"/>
            <a:chExt cx="157320" cy="227520"/>
          </a:xfrm>
        </p:grpSpPr>
        <p:sp>
          <p:nvSpPr>
            <p:cNvPr id="520" name=""/>
            <p:cNvSpPr/>
            <p:nvPr/>
          </p:nvSpPr>
          <p:spPr>
            <a:xfrm>
              <a:off x="18378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09080" y="505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737880" y="5006880"/>
            <a:ext cx="199080" cy="227520"/>
            <a:chOff x="3737880" y="5006880"/>
            <a:chExt cx="199080" cy="227520"/>
          </a:xfrm>
        </p:grpSpPr>
        <p:sp>
          <p:nvSpPr>
            <p:cNvPr id="523" name=""/>
            <p:cNvSpPr/>
            <p:nvPr/>
          </p:nvSpPr>
          <p:spPr>
            <a:xfrm>
              <a:off x="373788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9880" y="5051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01600" y="5006880"/>
            <a:ext cx="147240" cy="227520"/>
            <a:chOff x="5601600" y="5006880"/>
            <a:chExt cx="147240" cy="227520"/>
          </a:xfrm>
        </p:grpSpPr>
        <p:sp>
          <p:nvSpPr>
            <p:cNvPr id="526" name=""/>
            <p:cNvSpPr/>
            <p:nvPr/>
          </p:nvSpPr>
          <p:spPr>
            <a:xfrm>
              <a:off x="5601600" y="50068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71800" y="5051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37680" y="2023920"/>
            <a:ext cx="567720" cy="391320"/>
            <a:chOff x="337680" y="2023920"/>
            <a:chExt cx="567720" cy="391320"/>
          </a:xfrm>
        </p:grpSpPr>
        <p:sp>
          <p:nvSpPr>
            <p:cNvPr id="529" name=""/>
            <p:cNvSpPr/>
            <p:nvPr/>
          </p:nvSpPr>
          <p:spPr>
            <a:xfrm>
              <a:off x="559800" y="2023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7680" y="22017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[nj/ko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755280" y="5013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941560" y="4765680"/>
            <a:ext cx="219600" cy="227160"/>
            <a:chOff x="2941560" y="4765680"/>
            <a:chExt cx="219600" cy="227160"/>
          </a:xfrm>
        </p:grpSpPr>
        <p:sp>
          <p:nvSpPr>
            <p:cNvPr id="533" name=""/>
            <p:cNvSpPr/>
            <p:nvPr/>
          </p:nvSpPr>
          <p:spPr>
            <a:xfrm>
              <a:off x="2941560" y="476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84120" y="4809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863960" y="4738680"/>
            <a:ext cx="218160" cy="227160"/>
            <a:chOff x="4863960" y="4738680"/>
            <a:chExt cx="218160" cy="227160"/>
          </a:xfrm>
        </p:grpSpPr>
        <p:sp>
          <p:nvSpPr>
            <p:cNvPr id="536" name=""/>
            <p:cNvSpPr/>
            <p:nvPr/>
          </p:nvSpPr>
          <p:spPr>
            <a:xfrm>
              <a:off x="4863960" y="4738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508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922920" y="2533680"/>
            <a:ext cx="226440" cy="227160"/>
            <a:chOff x="3922920" y="2533680"/>
            <a:chExt cx="226440" cy="227160"/>
          </a:xfrm>
        </p:grpSpPr>
        <p:sp>
          <p:nvSpPr>
            <p:cNvPr id="539" name=""/>
            <p:cNvSpPr/>
            <p:nvPr/>
          </p:nvSpPr>
          <p:spPr>
            <a:xfrm>
              <a:off x="3922920" y="25336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63320" y="25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999400" y="2558880"/>
            <a:ext cx="268200" cy="227520"/>
            <a:chOff x="5999400" y="2558880"/>
            <a:chExt cx="268200" cy="227520"/>
          </a:xfrm>
        </p:grpSpPr>
        <p:sp>
          <p:nvSpPr>
            <p:cNvPr id="542" name=""/>
            <p:cNvSpPr/>
            <p:nvPr/>
          </p:nvSpPr>
          <p:spPr>
            <a:xfrm>
              <a:off x="5999400" y="255888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9900cc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40520" y="26035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910920" y="3424320"/>
            <a:ext cx="220680" cy="227160"/>
            <a:chOff x="6910920" y="3424320"/>
            <a:chExt cx="220680" cy="227160"/>
          </a:xfrm>
        </p:grpSpPr>
        <p:sp>
          <p:nvSpPr>
            <p:cNvPr id="545" name=""/>
            <p:cNvSpPr/>
            <p:nvPr/>
          </p:nvSpPr>
          <p:spPr>
            <a:xfrm>
              <a:off x="6910920" y="3424320"/>
              <a:ext cx="11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54560" y="3468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7047720" y="5006880"/>
            <a:ext cx="74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Q [kol/go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60680" y="2747880"/>
            <a:ext cx="2333520" cy="779400"/>
          </a:xfrm>
          <a:custGeom>
            <a:avLst/>
            <a:gdLst/>
            <a:ahLst/>
            <a:rect l="l" t="t" r="r" b="b"/>
            <a:pathLst>
              <a:path w="2941" h="983">
                <a:moveTo>
                  <a:pt x="0" y="0"/>
                </a:moveTo>
                <a:lnTo>
                  <a:pt x="50" y="97"/>
                </a:lnTo>
                <a:lnTo>
                  <a:pt x="99" y="188"/>
                </a:lnTo>
                <a:lnTo>
                  <a:pt x="150" y="273"/>
                </a:lnTo>
                <a:lnTo>
                  <a:pt x="201" y="354"/>
                </a:lnTo>
                <a:lnTo>
                  <a:pt x="256" y="431"/>
                </a:lnTo>
                <a:lnTo>
                  <a:pt x="310" y="501"/>
                </a:lnTo>
                <a:lnTo>
                  <a:pt x="366" y="568"/>
                </a:lnTo>
                <a:lnTo>
                  <a:pt x="422" y="630"/>
                </a:lnTo>
                <a:lnTo>
                  <a:pt x="482" y="685"/>
                </a:lnTo>
                <a:lnTo>
                  <a:pt x="541" y="737"/>
                </a:lnTo>
                <a:lnTo>
                  <a:pt x="603" y="784"/>
                </a:lnTo>
                <a:lnTo>
                  <a:pt x="664" y="826"/>
                </a:lnTo>
                <a:lnTo>
                  <a:pt x="729" y="862"/>
                </a:lnTo>
                <a:lnTo>
                  <a:pt x="793" y="895"/>
                </a:lnTo>
                <a:lnTo>
                  <a:pt x="860" y="921"/>
                </a:lnTo>
                <a:lnTo>
                  <a:pt x="928" y="943"/>
                </a:lnTo>
                <a:lnTo>
                  <a:pt x="996" y="961"/>
                </a:lnTo>
                <a:lnTo>
                  <a:pt x="1067" y="973"/>
                </a:lnTo>
                <a:lnTo>
                  <a:pt x="1139" y="980"/>
                </a:lnTo>
                <a:lnTo>
                  <a:pt x="1212" y="983"/>
                </a:lnTo>
                <a:lnTo>
                  <a:pt x="1285" y="980"/>
                </a:lnTo>
                <a:lnTo>
                  <a:pt x="1360" y="973"/>
                </a:lnTo>
                <a:lnTo>
                  <a:pt x="1438" y="961"/>
                </a:lnTo>
                <a:lnTo>
                  <a:pt x="1515" y="943"/>
                </a:lnTo>
                <a:lnTo>
                  <a:pt x="1595" y="921"/>
                </a:lnTo>
                <a:lnTo>
                  <a:pt x="1675" y="895"/>
                </a:lnTo>
                <a:lnTo>
                  <a:pt x="1757" y="862"/>
                </a:lnTo>
                <a:lnTo>
                  <a:pt x="1840" y="826"/>
                </a:lnTo>
                <a:lnTo>
                  <a:pt x="1925" y="784"/>
                </a:lnTo>
                <a:lnTo>
                  <a:pt x="2010" y="737"/>
                </a:lnTo>
                <a:lnTo>
                  <a:pt x="2099" y="685"/>
                </a:lnTo>
                <a:lnTo>
                  <a:pt x="2187" y="630"/>
                </a:lnTo>
                <a:lnTo>
                  <a:pt x="2276" y="568"/>
                </a:lnTo>
                <a:lnTo>
                  <a:pt x="2368" y="501"/>
                </a:lnTo>
                <a:lnTo>
                  <a:pt x="2460" y="431"/>
                </a:lnTo>
                <a:lnTo>
                  <a:pt x="2553" y="354"/>
                </a:lnTo>
                <a:lnTo>
                  <a:pt x="2648" y="273"/>
                </a:lnTo>
                <a:lnTo>
                  <a:pt x="2744" y="188"/>
                </a:lnTo>
                <a:lnTo>
                  <a:pt x="2841" y="97"/>
                </a:lnTo>
                <a:lnTo>
                  <a:pt x="2941" y="0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97120" y="2359080"/>
            <a:ext cx="4255920" cy="1538280"/>
          </a:xfrm>
          <a:custGeom>
            <a:avLst/>
            <a:gdLst/>
            <a:ahLst/>
            <a:rect l="l" t="t" r="r" b="b"/>
            <a:pathLst>
              <a:path w="5361" h="1940">
                <a:moveTo>
                  <a:pt x="0" y="0"/>
                </a:moveTo>
                <a:lnTo>
                  <a:pt x="104" y="140"/>
                </a:lnTo>
                <a:lnTo>
                  <a:pt x="207" y="273"/>
                </a:lnTo>
                <a:lnTo>
                  <a:pt x="310" y="402"/>
                </a:lnTo>
                <a:lnTo>
                  <a:pt x="413" y="526"/>
                </a:lnTo>
                <a:lnTo>
                  <a:pt x="517" y="645"/>
                </a:lnTo>
                <a:lnTo>
                  <a:pt x="621" y="758"/>
                </a:lnTo>
                <a:lnTo>
                  <a:pt x="725" y="866"/>
                </a:lnTo>
                <a:lnTo>
                  <a:pt x="829" y="969"/>
                </a:lnTo>
                <a:lnTo>
                  <a:pt x="932" y="1066"/>
                </a:lnTo>
                <a:lnTo>
                  <a:pt x="1036" y="1158"/>
                </a:lnTo>
                <a:lnTo>
                  <a:pt x="1140" y="1247"/>
                </a:lnTo>
                <a:lnTo>
                  <a:pt x="1246" y="1328"/>
                </a:lnTo>
                <a:lnTo>
                  <a:pt x="1349" y="1405"/>
                </a:lnTo>
                <a:lnTo>
                  <a:pt x="1453" y="1477"/>
                </a:lnTo>
                <a:lnTo>
                  <a:pt x="1557" y="1543"/>
                </a:lnTo>
                <a:lnTo>
                  <a:pt x="1663" y="1605"/>
                </a:lnTo>
                <a:lnTo>
                  <a:pt x="1766" y="1662"/>
                </a:lnTo>
                <a:lnTo>
                  <a:pt x="1872" y="1713"/>
                </a:lnTo>
                <a:lnTo>
                  <a:pt x="1976" y="1759"/>
                </a:lnTo>
                <a:lnTo>
                  <a:pt x="2081" y="1800"/>
                </a:lnTo>
                <a:lnTo>
                  <a:pt x="2185" y="1835"/>
                </a:lnTo>
                <a:lnTo>
                  <a:pt x="2291" y="1865"/>
                </a:lnTo>
                <a:lnTo>
                  <a:pt x="2394" y="1891"/>
                </a:lnTo>
                <a:lnTo>
                  <a:pt x="2500" y="1911"/>
                </a:lnTo>
                <a:lnTo>
                  <a:pt x="2606" y="1926"/>
                </a:lnTo>
                <a:lnTo>
                  <a:pt x="2711" y="1935"/>
                </a:lnTo>
                <a:lnTo>
                  <a:pt x="2815" y="1940"/>
                </a:lnTo>
                <a:lnTo>
                  <a:pt x="2920" y="1938"/>
                </a:lnTo>
                <a:lnTo>
                  <a:pt x="3026" y="1933"/>
                </a:lnTo>
                <a:lnTo>
                  <a:pt x="3131" y="1922"/>
                </a:lnTo>
                <a:lnTo>
                  <a:pt x="3237" y="1905"/>
                </a:lnTo>
                <a:lnTo>
                  <a:pt x="3342" y="1884"/>
                </a:lnTo>
                <a:lnTo>
                  <a:pt x="3448" y="1857"/>
                </a:lnTo>
                <a:lnTo>
                  <a:pt x="3553" y="1825"/>
                </a:lnTo>
                <a:lnTo>
                  <a:pt x="3659" y="1788"/>
                </a:lnTo>
                <a:lnTo>
                  <a:pt x="3765" y="1746"/>
                </a:lnTo>
                <a:lnTo>
                  <a:pt x="3872" y="1699"/>
                </a:lnTo>
                <a:lnTo>
                  <a:pt x="3977" y="1646"/>
                </a:lnTo>
                <a:lnTo>
                  <a:pt x="4083" y="1589"/>
                </a:lnTo>
                <a:lnTo>
                  <a:pt x="4188" y="1525"/>
                </a:lnTo>
                <a:lnTo>
                  <a:pt x="4296" y="1458"/>
                </a:lnTo>
                <a:lnTo>
                  <a:pt x="4401" y="1385"/>
                </a:lnTo>
                <a:lnTo>
                  <a:pt x="4508" y="1306"/>
                </a:lnTo>
                <a:lnTo>
                  <a:pt x="4614" y="1222"/>
                </a:lnTo>
                <a:lnTo>
                  <a:pt x="4721" y="1133"/>
                </a:lnTo>
                <a:lnTo>
                  <a:pt x="4827" y="1040"/>
                </a:lnTo>
                <a:lnTo>
                  <a:pt x="4934" y="940"/>
                </a:lnTo>
                <a:lnTo>
                  <a:pt x="5039" y="835"/>
                </a:lnTo>
                <a:lnTo>
                  <a:pt x="5147" y="726"/>
                </a:lnTo>
                <a:lnTo>
                  <a:pt x="5254" y="610"/>
                </a:lnTo>
                <a:lnTo>
                  <a:pt x="5361" y="492"/>
                </a:lnTo>
              </a:path>
            </a:pathLst>
          </a:custGeom>
          <a:noFill/>
          <a:ln w="1908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32280" y="2301840"/>
            <a:ext cx="3981240" cy="1782720"/>
          </a:xfrm>
          <a:custGeom>
            <a:avLst/>
            <a:gdLst/>
            <a:ahLst/>
            <a:rect l="l" t="t" r="r" b="b"/>
            <a:pathLst>
              <a:path w="5016" h="2244">
                <a:moveTo>
                  <a:pt x="0" y="0"/>
                </a:moveTo>
                <a:lnTo>
                  <a:pt x="150" y="147"/>
                </a:lnTo>
                <a:lnTo>
                  <a:pt x="298" y="290"/>
                </a:lnTo>
                <a:lnTo>
                  <a:pt x="443" y="426"/>
                </a:lnTo>
                <a:lnTo>
                  <a:pt x="588" y="559"/>
                </a:lnTo>
                <a:lnTo>
                  <a:pt x="729" y="686"/>
                </a:lnTo>
                <a:lnTo>
                  <a:pt x="870" y="807"/>
                </a:lnTo>
                <a:lnTo>
                  <a:pt x="1008" y="925"/>
                </a:lnTo>
                <a:lnTo>
                  <a:pt x="1146" y="1038"/>
                </a:lnTo>
                <a:lnTo>
                  <a:pt x="1280" y="1144"/>
                </a:lnTo>
                <a:lnTo>
                  <a:pt x="1415" y="1246"/>
                </a:lnTo>
                <a:lnTo>
                  <a:pt x="1546" y="1344"/>
                </a:lnTo>
                <a:lnTo>
                  <a:pt x="1677" y="1437"/>
                </a:lnTo>
                <a:lnTo>
                  <a:pt x="1804" y="1524"/>
                </a:lnTo>
                <a:lnTo>
                  <a:pt x="1932" y="1605"/>
                </a:lnTo>
                <a:lnTo>
                  <a:pt x="2056" y="1682"/>
                </a:lnTo>
                <a:lnTo>
                  <a:pt x="2181" y="1756"/>
                </a:lnTo>
                <a:lnTo>
                  <a:pt x="2301" y="1822"/>
                </a:lnTo>
                <a:lnTo>
                  <a:pt x="2422" y="1885"/>
                </a:lnTo>
                <a:lnTo>
                  <a:pt x="2540" y="1942"/>
                </a:lnTo>
                <a:lnTo>
                  <a:pt x="2657" y="1994"/>
                </a:lnTo>
                <a:lnTo>
                  <a:pt x="2771" y="2041"/>
                </a:lnTo>
                <a:lnTo>
                  <a:pt x="2885" y="2084"/>
                </a:lnTo>
                <a:lnTo>
                  <a:pt x="2996" y="2121"/>
                </a:lnTo>
                <a:lnTo>
                  <a:pt x="3106" y="2154"/>
                </a:lnTo>
                <a:lnTo>
                  <a:pt x="3214" y="2182"/>
                </a:lnTo>
                <a:lnTo>
                  <a:pt x="3321" y="2204"/>
                </a:lnTo>
                <a:lnTo>
                  <a:pt x="3425" y="2221"/>
                </a:lnTo>
                <a:lnTo>
                  <a:pt x="3529" y="2235"/>
                </a:lnTo>
                <a:lnTo>
                  <a:pt x="3629" y="2241"/>
                </a:lnTo>
                <a:lnTo>
                  <a:pt x="3728" y="2244"/>
                </a:lnTo>
                <a:lnTo>
                  <a:pt x="3826" y="2241"/>
                </a:lnTo>
                <a:lnTo>
                  <a:pt x="3922" y="2235"/>
                </a:lnTo>
                <a:lnTo>
                  <a:pt x="4017" y="2221"/>
                </a:lnTo>
                <a:lnTo>
                  <a:pt x="4109" y="2204"/>
                </a:lnTo>
                <a:lnTo>
                  <a:pt x="4201" y="2182"/>
                </a:lnTo>
                <a:lnTo>
                  <a:pt x="4289" y="2154"/>
                </a:lnTo>
                <a:lnTo>
                  <a:pt x="4378" y="2121"/>
                </a:lnTo>
                <a:lnTo>
                  <a:pt x="4463" y="2084"/>
                </a:lnTo>
                <a:lnTo>
                  <a:pt x="4546" y="2041"/>
                </a:lnTo>
                <a:lnTo>
                  <a:pt x="4630" y="1994"/>
                </a:lnTo>
                <a:lnTo>
                  <a:pt x="4710" y="1942"/>
                </a:lnTo>
                <a:lnTo>
                  <a:pt x="4790" y="1885"/>
                </a:lnTo>
                <a:lnTo>
                  <a:pt x="4866" y="1822"/>
                </a:lnTo>
                <a:lnTo>
                  <a:pt x="4941" y="1756"/>
                </a:lnTo>
                <a:lnTo>
                  <a:pt x="5016" y="1682"/>
                </a:lnTo>
              </a:path>
            </a:pathLst>
          </a:custGeom>
          <a:noFill/>
          <a:ln w="1908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03520" y="3519360"/>
            <a:ext cx="27000" cy="1462320"/>
          </a:xfrm>
          <a:custGeom>
            <a:avLst/>
            <a:gdLst/>
            <a:ahLst/>
            <a:rect l="l" t="t" r="r" b="b"/>
            <a:pathLst>
              <a:path w="32" h="1842">
                <a:moveTo>
                  <a:pt x="22" y="10"/>
                </a:moveTo>
                <a:lnTo>
                  <a:pt x="24" y="290"/>
                </a:lnTo>
                <a:lnTo>
                  <a:pt x="24" y="292"/>
                </a:lnTo>
                <a:lnTo>
                  <a:pt x="24" y="293"/>
                </a:lnTo>
                <a:lnTo>
                  <a:pt x="20" y="296"/>
                </a:lnTo>
                <a:lnTo>
                  <a:pt x="17" y="298"/>
                </a:lnTo>
                <a:lnTo>
                  <a:pt x="15" y="298"/>
                </a:lnTo>
                <a:lnTo>
                  <a:pt x="12" y="300"/>
                </a:lnTo>
                <a:lnTo>
                  <a:pt x="10" y="298"/>
                </a:lnTo>
                <a:lnTo>
                  <a:pt x="8" y="298"/>
                </a:lnTo>
                <a:lnTo>
                  <a:pt x="5" y="297"/>
                </a:lnTo>
                <a:lnTo>
                  <a:pt x="2" y="293"/>
                </a:lnTo>
                <a:lnTo>
                  <a:pt x="2" y="292"/>
                </a:lnTo>
                <a:lnTo>
                  <a:pt x="2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3" y="3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5" y="0"/>
                </a:lnTo>
                <a:lnTo>
                  <a:pt x="19" y="3"/>
                </a:lnTo>
                <a:lnTo>
                  <a:pt x="22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5" y="459"/>
                </a:moveTo>
                <a:lnTo>
                  <a:pt x="27" y="739"/>
                </a:lnTo>
                <a:lnTo>
                  <a:pt x="27" y="740"/>
                </a:lnTo>
                <a:lnTo>
                  <a:pt x="25" y="742"/>
                </a:lnTo>
                <a:lnTo>
                  <a:pt x="24" y="746"/>
                </a:lnTo>
                <a:lnTo>
                  <a:pt x="20" y="747"/>
                </a:lnTo>
                <a:lnTo>
                  <a:pt x="17" y="748"/>
                </a:lnTo>
                <a:lnTo>
                  <a:pt x="15" y="748"/>
                </a:lnTo>
                <a:lnTo>
                  <a:pt x="14" y="748"/>
                </a:lnTo>
                <a:lnTo>
                  <a:pt x="10" y="747"/>
                </a:lnTo>
                <a:lnTo>
                  <a:pt x="7" y="746"/>
                </a:lnTo>
                <a:lnTo>
                  <a:pt x="5" y="743"/>
                </a:lnTo>
                <a:lnTo>
                  <a:pt x="3" y="740"/>
                </a:lnTo>
                <a:lnTo>
                  <a:pt x="3" y="739"/>
                </a:lnTo>
                <a:lnTo>
                  <a:pt x="2" y="459"/>
                </a:lnTo>
                <a:lnTo>
                  <a:pt x="2" y="456"/>
                </a:lnTo>
                <a:lnTo>
                  <a:pt x="3" y="454"/>
                </a:lnTo>
                <a:lnTo>
                  <a:pt x="5" y="452"/>
                </a:lnTo>
                <a:lnTo>
                  <a:pt x="8" y="449"/>
                </a:lnTo>
                <a:lnTo>
                  <a:pt x="12" y="449"/>
                </a:lnTo>
                <a:lnTo>
                  <a:pt x="14" y="449"/>
                </a:lnTo>
                <a:lnTo>
                  <a:pt x="15" y="449"/>
                </a:lnTo>
                <a:lnTo>
                  <a:pt x="19" y="449"/>
                </a:lnTo>
                <a:lnTo>
                  <a:pt x="22" y="452"/>
                </a:lnTo>
                <a:lnTo>
                  <a:pt x="24" y="454"/>
                </a:lnTo>
                <a:lnTo>
                  <a:pt x="25" y="456"/>
                </a:lnTo>
                <a:lnTo>
                  <a:pt x="25" y="459"/>
                </a:lnTo>
                <a:lnTo>
                  <a:pt x="25" y="459"/>
                </a:lnTo>
                <a:close/>
                <a:moveTo>
                  <a:pt x="27" y="907"/>
                </a:moveTo>
                <a:lnTo>
                  <a:pt x="29" y="1187"/>
                </a:lnTo>
                <a:lnTo>
                  <a:pt x="29" y="1189"/>
                </a:lnTo>
                <a:lnTo>
                  <a:pt x="29" y="1192"/>
                </a:lnTo>
                <a:lnTo>
                  <a:pt x="25" y="1194"/>
                </a:lnTo>
                <a:lnTo>
                  <a:pt x="22" y="1196"/>
                </a:lnTo>
                <a:lnTo>
                  <a:pt x="20" y="1197"/>
                </a:lnTo>
                <a:lnTo>
                  <a:pt x="17" y="1197"/>
                </a:lnTo>
                <a:lnTo>
                  <a:pt x="15" y="1197"/>
                </a:lnTo>
                <a:lnTo>
                  <a:pt x="14" y="1196"/>
                </a:lnTo>
                <a:lnTo>
                  <a:pt x="10" y="1194"/>
                </a:lnTo>
                <a:lnTo>
                  <a:pt x="7" y="1192"/>
                </a:lnTo>
                <a:lnTo>
                  <a:pt x="7" y="1189"/>
                </a:lnTo>
                <a:lnTo>
                  <a:pt x="7" y="1187"/>
                </a:lnTo>
                <a:lnTo>
                  <a:pt x="5" y="907"/>
                </a:lnTo>
                <a:lnTo>
                  <a:pt x="5" y="904"/>
                </a:lnTo>
                <a:lnTo>
                  <a:pt x="5" y="903"/>
                </a:lnTo>
                <a:lnTo>
                  <a:pt x="8" y="900"/>
                </a:lnTo>
                <a:lnTo>
                  <a:pt x="12" y="899"/>
                </a:lnTo>
                <a:lnTo>
                  <a:pt x="14" y="898"/>
                </a:lnTo>
                <a:lnTo>
                  <a:pt x="15" y="898"/>
                </a:lnTo>
                <a:lnTo>
                  <a:pt x="19" y="898"/>
                </a:lnTo>
                <a:lnTo>
                  <a:pt x="20" y="899"/>
                </a:lnTo>
                <a:lnTo>
                  <a:pt x="24" y="900"/>
                </a:lnTo>
                <a:lnTo>
                  <a:pt x="27" y="903"/>
                </a:lnTo>
                <a:lnTo>
                  <a:pt x="27" y="904"/>
                </a:lnTo>
                <a:lnTo>
                  <a:pt x="27" y="907"/>
                </a:lnTo>
                <a:lnTo>
                  <a:pt x="27" y="907"/>
                </a:lnTo>
                <a:close/>
                <a:moveTo>
                  <a:pt x="31" y="1356"/>
                </a:moveTo>
                <a:lnTo>
                  <a:pt x="32" y="1636"/>
                </a:lnTo>
                <a:lnTo>
                  <a:pt x="32" y="1637"/>
                </a:lnTo>
                <a:lnTo>
                  <a:pt x="31" y="1640"/>
                </a:lnTo>
                <a:lnTo>
                  <a:pt x="29" y="1643"/>
                </a:lnTo>
                <a:lnTo>
                  <a:pt x="25" y="1644"/>
                </a:lnTo>
                <a:lnTo>
                  <a:pt x="22" y="1646"/>
                </a:lnTo>
                <a:lnTo>
                  <a:pt x="20" y="1646"/>
                </a:lnTo>
                <a:lnTo>
                  <a:pt x="19" y="1646"/>
                </a:lnTo>
                <a:lnTo>
                  <a:pt x="15" y="1644"/>
                </a:lnTo>
                <a:lnTo>
                  <a:pt x="12" y="1643"/>
                </a:lnTo>
                <a:lnTo>
                  <a:pt x="10" y="1640"/>
                </a:lnTo>
                <a:lnTo>
                  <a:pt x="8" y="1639"/>
                </a:lnTo>
                <a:lnTo>
                  <a:pt x="8" y="1636"/>
                </a:lnTo>
                <a:lnTo>
                  <a:pt x="7" y="1356"/>
                </a:lnTo>
                <a:lnTo>
                  <a:pt x="7" y="1354"/>
                </a:lnTo>
                <a:lnTo>
                  <a:pt x="8" y="1352"/>
                </a:lnTo>
                <a:lnTo>
                  <a:pt x="10" y="1349"/>
                </a:lnTo>
                <a:lnTo>
                  <a:pt x="14" y="1348"/>
                </a:lnTo>
                <a:lnTo>
                  <a:pt x="17" y="1346"/>
                </a:lnTo>
                <a:lnTo>
                  <a:pt x="19" y="1346"/>
                </a:lnTo>
                <a:lnTo>
                  <a:pt x="20" y="1346"/>
                </a:lnTo>
                <a:lnTo>
                  <a:pt x="24" y="1348"/>
                </a:lnTo>
                <a:lnTo>
                  <a:pt x="27" y="1349"/>
                </a:lnTo>
                <a:lnTo>
                  <a:pt x="29" y="1352"/>
                </a:lnTo>
                <a:lnTo>
                  <a:pt x="31" y="1354"/>
                </a:lnTo>
                <a:lnTo>
                  <a:pt x="31" y="1356"/>
                </a:lnTo>
                <a:lnTo>
                  <a:pt x="31" y="1356"/>
                </a:lnTo>
                <a:close/>
                <a:moveTo>
                  <a:pt x="32" y="1804"/>
                </a:moveTo>
                <a:lnTo>
                  <a:pt x="32" y="1832"/>
                </a:lnTo>
                <a:lnTo>
                  <a:pt x="32" y="1835"/>
                </a:lnTo>
                <a:lnTo>
                  <a:pt x="32" y="1836"/>
                </a:lnTo>
                <a:lnTo>
                  <a:pt x="29" y="1839"/>
                </a:lnTo>
                <a:lnTo>
                  <a:pt x="25" y="1842"/>
                </a:lnTo>
                <a:lnTo>
                  <a:pt x="24" y="1842"/>
                </a:lnTo>
                <a:lnTo>
                  <a:pt x="22" y="1842"/>
                </a:lnTo>
                <a:lnTo>
                  <a:pt x="19" y="1842"/>
                </a:lnTo>
                <a:lnTo>
                  <a:pt x="17" y="1842"/>
                </a:lnTo>
                <a:lnTo>
                  <a:pt x="14" y="1839"/>
                </a:lnTo>
                <a:lnTo>
                  <a:pt x="10" y="1836"/>
                </a:lnTo>
                <a:lnTo>
                  <a:pt x="10" y="1835"/>
                </a:lnTo>
                <a:lnTo>
                  <a:pt x="10" y="1832"/>
                </a:lnTo>
                <a:lnTo>
                  <a:pt x="10" y="1804"/>
                </a:lnTo>
                <a:lnTo>
                  <a:pt x="10" y="1803"/>
                </a:lnTo>
                <a:lnTo>
                  <a:pt x="10" y="1800"/>
                </a:lnTo>
                <a:lnTo>
                  <a:pt x="14" y="1798"/>
                </a:lnTo>
                <a:lnTo>
                  <a:pt x="17" y="1796"/>
                </a:lnTo>
                <a:lnTo>
                  <a:pt x="19" y="1795"/>
                </a:lnTo>
                <a:lnTo>
                  <a:pt x="20" y="1795"/>
                </a:lnTo>
                <a:lnTo>
                  <a:pt x="24" y="1795"/>
                </a:lnTo>
                <a:lnTo>
                  <a:pt x="25" y="1796"/>
                </a:lnTo>
                <a:lnTo>
                  <a:pt x="29" y="1798"/>
                </a:lnTo>
                <a:lnTo>
                  <a:pt x="32" y="1800"/>
                </a:lnTo>
                <a:lnTo>
                  <a:pt x="32" y="1803"/>
                </a:lnTo>
                <a:lnTo>
                  <a:pt x="32" y="1804"/>
                </a:lnTo>
                <a:lnTo>
                  <a:pt x="32" y="180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10120" y="3889440"/>
            <a:ext cx="30240" cy="1092240"/>
          </a:xfrm>
          <a:custGeom>
            <a:avLst/>
            <a:gdLst/>
            <a:ahLst/>
            <a:rect l="l" t="t" r="r" b="b"/>
            <a:pathLst>
              <a:path w="37" h="1377">
                <a:moveTo>
                  <a:pt x="23" y="10"/>
                </a:moveTo>
                <a:lnTo>
                  <a:pt x="25" y="290"/>
                </a:lnTo>
                <a:lnTo>
                  <a:pt x="25" y="293"/>
                </a:lnTo>
                <a:lnTo>
                  <a:pt x="25" y="294"/>
                </a:lnTo>
                <a:lnTo>
                  <a:pt x="22" y="297"/>
                </a:lnTo>
                <a:lnTo>
                  <a:pt x="18" y="299"/>
                </a:lnTo>
                <a:lnTo>
                  <a:pt x="17" y="300"/>
                </a:lnTo>
                <a:lnTo>
                  <a:pt x="15" y="300"/>
                </a:lnTo>
                <a:lnTo>
                  <a:pt x="11" y="300"/>
                </a:lnTo>
                <a:lnTo>
                  <a:pt x="10" y="300"/>
                </a:lnTo>
                <a:lnTo>
                  <a:pt x="6" y="297"/>
                </a:lnTo>
                <a:lnTo>
                  <a:pt x="3" y="294"/>
                </a:lnTo>
                <a:lnTo>
                  <a:pt x="3" y="293"/>
                </a:lnTo>
                <a:lnTo>
                  <a:pt x="3" y="290"/>
                </a:lnTo>
                <a:lnTo>
                  <a:pt x="0" y="10"/>
                </a:lnTo>
                <a:lnTo>
                  <a:pt x="0" y="9"/>
                </a:lnTo>
                <a:lnTo>
                  <a:pt x="1" y="7"/>
                </a:lnTo>
                <a:lnTo>
                  <a:pt x="3" y="3"/>
                </a:lnTo>
                <a:lnTo>
                  <a:pt x="6" y="2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7" y="2"/>
                </a:lnTo>
                <a:lnTo>
                  <a:pt x="20" y="3"/>
                </a:lnTo>
                <a:lnTo>
                  <a:pt x="22" y="6"/>
                </a:lnTo>
                <a:lnTo>
                  <a:pt x="23" y="9"/>
                </a:lnTo>
                <a:lnTo>
                  <a:pt x="23" y="10"/>
                </a:lnTo>
                <a:lnTo>
                  <a:pt x="23" y="10"/>
                </a:lnTo>
                <a:close/>
                <a:moveTo>
                  <a:pt x="27" y="459"/>
                </a:moveTo>
                <a:lnTo>
                  <a:pt x="30" y="739"/>
                </a:lnTo>
                <a:lnTo>
                  <a:pt x="30" y="742"/>
                </a:lnTo>
                <a:lnTo>
                  <a:pt x="30" y="743"/>
                </a:lnTo>
                <a:lnTo>
                  <a:pt x="27" y="746"/>
                </a:lnTo>
                <a:lnTo>
                  <a:pt x="23" y="749"/>
                </a:lnTo>
                <a:lnTo>
                  <a:pt x="22" y="749"/>
                </a:lnTo>
                <a:lnTo>
                  <a:pt x="18" y="749"/>
                </a:lnTo>
                <a:lnTo>
                  <a:pt x="17" y="749"/>
                </a:lnTo>
                <a:lnTo>
                  <a:pt x="15" y="749"/>
                </a:lnTo>
                <a:lnTo>
                  <a:pt x="11" y="746"/>
                </a:lnTo>
                <a:lnTo>
                  <a:pt x="8" y="743"/>
                </a:lnTo>
                <a:lnTo>
                  <a:pt x="8" y="742"/>
                </a:lnTo>
                <a:lnTo>
                  <a:pt x="8" y="739"/>
                </a:lnTo>
                <a:lnTo>
                  <a:pt x="5" y="459"/>
                </a:lnTo>
                <a:lnTo>
                  <a:pt x="5" y="457"/>
                </a:lnTo>
                <a:lnTo>
                  <a:pt x="5" y="456"/>
                </a:lnTo>
                <a:lnTo>
                  <a:pt x="8" y="452"/>
                </a:lnTo>
                <a:lnTo>
                  <a:pt x="11" y="450"/>
                </a:lnTo>
                <a:lnTo>
                  <a:pt x="13" y="450"/>
                </a:lnTo>
                <a:lnTo>
                  <a:pt x="17" y="449"/>
                </a:lnTo>
                <a:lnTo>
                  <a:pt x="18" y="450"/>
                </a:lnTo>
                <a:lnTo>
                  <a:pt x="20" y="450"/>
                </a:lnTo>
                <a:lnTo>
                  <a:pt x="23" y="452"/>
                </a:lnTo>
                <a:lnTo>
                  <a:pt x="27" y="456"/>
                </a:lnTo>
                <a:lnTo>
                  <a:pt x="27" y="457"/>
                </a:lnTo>
                <a:lnTo>
                  <a:pt x="27" y="459"/>
                </a:lnTo>
                <a:lnTo>
                  <a:pt x="27" y="459"/>
                </a:lnTo>
                <a:close/>
                <a:moveTo>
                  <a:pt x="32" y="907"/>
                </a:moveTo>
                <a:lnTo>
                  <a:pt x="35" y="1188"/>
                </a:lnTo>
                <a:lnTo>
                  <a:pt x="35" y="1190"/>
                </a:lnTo>
                <a:lnTo>
                  <a:pt x="34" y="1192"/>
                </a:lnTo>
                <a:lnTo>
                  <a:pt x="32" y="1194"/>
                </a:lnTo>
                <a:lnTo>
                  <a:pt x="28" y="1197"/>
                </a:lnTo>
                <a:lnTo>
                  <a:pt x="25" y="1197"/>
                </a:lnTo>
                <a:lnTo>
                  <a:pt x="23" y="1197"/>
                </a:lnTo>
                <a:lnTo>
                  <a:pt x="22" y="1197"/>
                </a:lnTo>
                <a:lnTo>
                  <a:pt x="18" y="1197"/>
                </a:lnTo>
                <a:lnTo>
                  <a:pt x="15" y="1194"/>
                </a:lnTo>
                <a:lnTo>
                  <a:pt x="13" y="1192"/>
                </a:lnTo>
                <a:lnTo>
                  <a:pt x="11" y="1190"/>
                </a:lnTo>
                <a:lnTo>
                  <a:pt x="11" y="1189"/>
                </a:lnTo>
                <a:lnTo>
                  <a:pt x="10" y="907"/>
                </a:lnTo>
                <a:lnTo>
                  <a:pt x="10" y="906"/>
                </a:lnTo>
                <a:lnTo>
                  <a:pt x="10" y="905"/>
                </a:lnTo>
                <a:lnTo>
                  <a:pt x="11" y="902"/>
                </a:lnTo>
                <a:lnTo>
                  <a:pt x="17" y="899"/>
                </a:lnTo>
                <a:lnTo>
                  <a:pt x="18" y="899"/>
                </a:lnTo>
                <a:lnTo>
                  <a:pt x="20" y="899"/>
                </a:lnTo>
                <a:lnTo>
                  <a:pt x="23" y="899"/>
                </a:lnTo>
                <a:lnTo>
                  <a:pt x="25" y="899"/>
                </a:lnTo>
                <a:lnTo>
                  <a:pt x="28" y="900"/>
                </a:lnTo>
                <a:lnTo>
                  <a:pt x="32" y="905"/>
                </a:lnTo>
                <a:lnTo>
                  <a:pt x="32" y="906"/>
                </a:lnTo>
                <a:lnTo>
                  <a:pt x="32" y="907"/>
                </a:lnTo>
                <a:lnTo>
                  <a:pt x="32" y="907"/>
                </a:lnTo>
                <a:close/>
                <a:moveTo>
                  <a:pt x="37" y="1356"/>
                </a:moveTo>
                <a:lnTo>
                  <a:pt x="37" y="1367"/>
                </a:lnTo>
                <a:lnTo>
                  <a:pt x="37" y="1370"/>
                </a:lnTo>
                <a:lnTo>
                  <a:pt x="35" y="1371"/>
                </a:lnTo>
                <a:lnTo>
                  <a:pt x="34" y="1374"/>
                </a:lnTo>
                <a:lnTo>
                  <a:pt x="30" y="1377"/>
                </a:lnTo>
                <a:lnTo>
                  <a:pt x="28" y="1377"/>
                </a:lnTo>
                <a:lnTo>
                  <a:pt x="25" y="1377"/>
                </a:lnTo>
                <a:lnTo>
                  <a:pt x="23" y="1377"/>
                </a:lnTo>
                <a:lnTo>
                  <a:pt x="22" y="1377"/>
                </a:lnTo>
                <a:lnTo>
                  <a:pt x="17" y="1374"/>
                </a:lnTo>
                <a:lnTo>
                  <a:pt x="15" y="1371"/>
                </a:lnTo>
                <a:lnTo>
                  <a:pt x="13" y="1370"/>
                </a:lnTo>
                <a:lnTo>
                  <a:pt x="13" y="1367"/>
                </a:lnTo>
                <a:lnTo>
                  <a:pt x="13" y="1357"/>
                </a:lnTo>
                <a:lnTo>
                  <a:pt x="13" y="1355"/>
                </a:lnTo>
                <a:lnTo>
                  <a:pt x="15" y="1353"/>
                </a:lnTo>
                <a:lnTo>
                  <a:pt x="17" y="1350"/>
                </a:lnTo>
                <a:lnTo>
                  <a:pt x="20" y="1348"/>
                </a:lnTo>
                <a:lnTo>
                  <a:pt x="23" y="1348"/>
                </a:lnTo>
                <a:lnTo>
                  <a:pt x="25" y="1348"/>
                </a:lnTo>
                <a:lnTo>
                  <a:pt x="27" y="1348"/>
                </a:lnTo>
                <a:lnTo>
                  <a:pt x="30" y="1348"/>
                </a:lnTo>
                <a:lnTo>
                  <a:pt x="34" y="1350"/>
                </a:lnTo>
                <a:lnTo>
                  <a:pt x="35" y="1353"/>
                </a:lnTo>
                <a:lnTo>
                  <a:pt x="37" y="1355"/>
                </a:lnTo>
                <a:lnTo>
                  <a:pt x="37" y="1356"/>
                </a:lnTo>
                <a:lnTo>
                  <a:pt x="37" y="135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41880" y="4075200"/>
            <a:ext cx="19080" cy="906480"/>
          </a:xfrm>
          <a:custGeom>
            <a:avLst/>
            <a:gdLst/>
            <a:ahLst/>
            <a:rect l="l" t="t" r="r" b="b"/>
            <a:pathLst>
              <a:path w="24" h="1142">
                <a:moveTo>
                  <a:pt x="22" y="10"/>
                </a:moveTo>
                <a:lnTo>
                  <a:pt x="22" y="290"/>
                </a:lnTo>
                <a:lnTo>
                  <a:pt x="22" y="291"/>
                </a:lnTo>
                <a:lnTo>
                  <a:pt x="22" y="293"/>
                </a:lnTo>
                <a:lnTo>
                  <a:pt x="19" y="297"/>
                </a:lnTo>
                <a:lnTo>
                  <a:pt x="16" y="298"/>
                </a:lnTo>
                <a:lnTo>
                  <a:pt x="14" y="298"/>
                </a:lnTo>
                <a:lnTo>
                  <a:pt x="12" y="300"/>
                </a:lnTo>
                <a:lnTo>
                  <a:pt x="9" y="298"/>
                </a:lnTo>
                <a:lnTo>
                  <a:pt x="7" y="298"/>
                </a:lnTo>
                <a:lnTo>
                  <a:pt x="4" y="297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2" y="3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9" y="3"/>
                </a:lnTo>
                <a:lnTo>
                  <a:pt x="21" y="6"/>
                </a:lnTo>
                <a:lnTo>
                  <a:pt x="22" y="7"/>
                </a:lnTo>
                <a:lnTo>
                  <a:pt x="22" y="10"/>
                </a:lnTo>
                <a:lnTo>
                  <a:pt x="22" y="10"/>
                </a:lnTo>
                <a:close/>
                <a:moveTo>
                  <a:pt x="24" y="458"/>
                </a:moveTo>
                <a:lnTo>
                  <a:pt x="24" y="739"/>
                </a:lnTo>
                <a:lnTo>
                  <a:pt x="24" y="740"/>
                </a:lnTo>
                <a:lnTo>
                  <a:pt x="22" y="741"/>
                </a:lnTo>
                <a:lnTo>
                  <a:pt x="21" y="746"/>
                </a:lnTo>
                <a:lnTo>
                  <a:pt x="17" y="747"/>
                </a:lnTo>
                <a:lnTo>
                  <a:pt x="14" y="748"/>
                </a:lnTo>
                <a:lnTo>
                  <a:pt x="12" y="748"/>
                </a:lnTo>
                <a:lnTo>
                  <a:pt x="11" y="748"/>
                </a:lnTo>
                <a:lnTo>
                  <a:pt x="7" y="747"/>
                </a:lnTo>
                <a:lnTo>
                  <a:pt x="4" y="746"/>
                </a:lnTo>
                <a:lnTo>
                  <a:pt x="2" y="743"/>
                </a:lnTo>
                <a:lnTo>
                  <a:pt x="0" y="740"/>
                </a:lnTo>
                <a:lnTo>
                  <a:pt x="0" y="739"/>
                </a:lnTo>
                <a:lnTo>
                  <a:pt x="0" y="458"/>
                </a:lnTo>
                <a:lnTo>
                  <a:pt x="0" y="456"/>
                </a:lnTo>
                <a:lnTo>
                  <a:pt x="2" y="454"/>
                </a:lnTo>
                <a:lnTo>
                  <a:pt x="4" y="452"/>
                </a:lnTo>
                <a:lnTo>
                  <a:pt x="7" y="450"/>
                </a:lnTo>
                <a:lnTo>
                  <a:pt x="9" y="449"/>
                </a:lnTo>
                <a:lnTo>
                  <a:pt x="12" y="449"/>
                </a:lnTo>
                <a:lnTo>
                  <a:pt x="14" y="449"/>
                </a:lnTo>
                <a:lnTo>
                  <a:pt x="16" y="450"/>
                </a:lnTo>
                <a:lnTo>
                  <a:pt x="21" y="452"/>
                </a:lnTo>
                <a:lnTo>
                  <a:pt x="22" y="454"/>
                </a:lnTo>
                <a:lnTo>
                  <a:pt x="22" y="456"/>
                </a:lnTo>
                <a:lnTo>
                  <a:pt x="24" y="458"/>
                </a:lnTo>
                <a:lnTo>
                  <a:pt x="24" y="458"/>
                </a:lnTo>
                <a:close/>
                <a:moveTo>
                  <a:pt x="24" y="907"/>
                </a:moveTo>
                <a:lnTo>
                  <a:pt x="24" y="1133"/>
                </a:lnTo>
                <a:lnTo>
                  <a:pt x="24" y="1135"/>
                </a:lnTo>
                <a:lnTo>
                  <a:pt x="24" y="1136"/>
                </a:lnTo>
                <a:lnTo>
                  <a:pt x="21" y="1139"/>
                </a:lnTo>
                <a:lnTo>
                  <a:pt x="17" y="1142"/>
                </a:lnTo>
                <a:lnTo>
                  <a:pt x="16" y="1142"/>
                </a:lnTo>
                <a:lnTo>
                  <a:pt x="14" y="1142"/>
                </a:lnTo>
                <a:lnTo>
                  <a:pt x="11" y="1142"/>
                </a:lnTo>
                <a:lnTo>
                  <a:pt x="9" y="1142"/>
                </a:lnTo>
                <a:lnTo>
                  <a:pt x="5" y="1139"/>
                </a:lnTo>
                <a:lnTo>
                  <a:pt x="2" y="1136"/>
                </a:lnTo>
                <a:lnTo>
                  <a:pt x="2" y="1135"/>
                </a:lnTo>
                <a:lnTo>
                  <a:pt x="2" y="1133"/>
                </a:lnTo>
                <a:lnTo>
                  <a:pt x="2" y="907"/>
                </a:lnTo>
                <a:lnTo>
                  <a:pt x="2" y="904"/>
                </a:lnTo>
                <a:lnTo>
                  <a:pt x="2" y="903"/>
                </a:lnTo>
                <a:lnTo>
                  <a:pt x="4" y="900"/>
                </a:lnTo>
                <a:lnTo>
                  <a:pt x="9" y="899"/>
                </a:lnTo>
                <a:lnTo>
                  <a:pt x="11" y="897"/>
                </a:lnTo>
                <a:lnTo>
                  <a:pt x="12" y="897"/>
                </a:lnTo>
                <a:lnTo>
                  <a:pt x="16" y="897"/>
                </a:lnTo>
                <a:lnTo>
                  <a:pt x="17" y="899"/>
                </a:lnTo>
                <a:lnTo>
                  <a:pt x="21" y="900"/>
                </a:lnTo>
                <a:lnTo>
                  <a:pt x="22" y="903"/>
                </a:lnTo>
                <a:lnTo>
                  <a:pt x="24" y="904"/>
                </a:lnTo>
                <a:lnTo>
                  <a:pt x="24" y="907"/>
                </a:lnTo>
                <a:lnTo>
                  <a:pt x="24" y="9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268360" y="4724280"/>
            <a:ext cx="295560" cy="227520"/>
            <a:chOff x="2268360" y="4724280"/>
            <a:chExt cx="295560" cy="227520"/>
          </a:xfrm>
        </p:grpSpPr>
        <p:sp>
          <p:nvSpPr>
            <p:cNvPr id="555" name=""/>
            <p:cNvSpPr/>
            <p:nvPr/>
          </p:nvSpPr>
          <p:spPr>
            <a:xfrm>
              <a:off x="2268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10920" y="4768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cc99"/>
                  </a:solidFill>
                  <a:latin typeface="Times New Roman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780000" y="4724280"/>
            <a:ext cx="337680" cy="227160"/>
            <a:chOff x="3780000" y="4724280"/>
            <a:chExt cx="337680" cy="227160"/>
          </a:xfrm>
        </p:grpSpPr>
        <p:sp>
          <p:nvSpPr>
            <p:cNvPr id="558" name=""/>
            <p:cNvSpPr/>
            <p:nvPr/>
          </p:nvSpPr>
          <p:spPr>
            <a:xfrm>
              <a:off x="378000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23280" y="4768560"/>
              <a:ext cx="19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cc"/>
                  </a:solidFill>
                  <a:latin typeface="Times New Roman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724360" y="4724280"/>
            <a:ext cx="287280" cy="227160"/>
            <a:chOff x="5724360" y="4724280"/>
            <a:chExt cx="287280" cy="227160"/>
          </a:xfrm>
        </p:grpSpPr>
        <p:sp>
          <p:nvSpPr>
            <p:cNvPr id="561" name=""/>
            <p:cNvSpPr/>
            <p:nvPr/>
          </p:nvSpPr>
          <p:spPr>
            <a:xfrm>
              <a:off x="5724360" y="4724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66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67640" y="4768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66"/>
                  </a:solidFill>
                  <a:latin typeface="Times New Roman"/>
                </a:rPr>
                <a:t>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83492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64000" y="42210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435280" y="4221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68640" y="1864080"/>
            <a:ext cx="2103840" cy="9262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u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 tr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=&gt; Q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5371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8840" indent="-258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Prag ekonomičnosti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izvodnj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a stanovišta dobit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j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bim proizvodnje koji odgovara minimumu prosečn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92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192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8" dur="192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0" dur="192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92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192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192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192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92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192" fill="hold"/>
                                        <p:tgtEl>
                                          <p:spTgt spid="5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7" dur="192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9" dur="192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92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2" dur="192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4" dur="192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6" dur="192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92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192" fill="hold"/>
                                        <p:tgtEl>
                                          <p:spTgt spid="5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192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192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92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6" dur="192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8" dur="192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0" dur="192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Administrator</cp:lastModifiedBy>
  <dcterms:modified xsi:type="dcterms:W3CDTF">2007-02-16T09:47:56Z</dcterms:modified>
  <cp:revision>28</cp:revision>
  <dc:subject/>
  <dc:title>Slide 1</dc:title>
</cp:coreProperties>
</file>