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763A-CD40-4AB7-BFCE-CA21CABBDB5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Fakultet organizacionih na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29EC-2C48-4CC2-9CE7-12756C21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926A-CA38-4B03-8519-A1F57921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21A1-BD03-426A-8776-5F5C53D1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7E9F-DE04-45DB-A957-2294ED2C6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A3AD-D6AD-45BB-9301-B77AF8EBD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5FA4-3982-4C1A-82F0-2E13A55B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782B-632A-4A8B-B856-B16E4DC8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78F1-FB94-423F-9D22-5DC561D0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35AD-7C38-41C1-B58E-3F25EC66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67F9-F674-4AF3-B36C-24EC3097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DF9C-FE2D-435F-B9C2-FC8580F4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842B-2C2A-4090-A18B-3E2F1D7B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7BD9-8FCD-4B5F-ADBB-5E69ECB9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8B47-F752-4F36-9B65-960958D8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2ED8-2A10-428B-8D99-3211F991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3958-D168-40B2-84B2-3DC8F976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9D28-44DE-4B8B-A1E4-23DF5CB1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0322-F009-4096-A9D2-72FDF1F1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DCC5-7B0C-4DA8-8E93-D1C05F24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67F3-D818-4779-BFFF-59EA90A4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EF50-0E7C-4F18-B3DF-119CC8F1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86C1-A416-4818-A5DB-B71EB029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8F62-F268-49B2-B215-A9CEAD4A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C117-750F-4766-B9E4-FBAEF545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6663-8390-4CF7-805E-4E4867538BF4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350E-C9AC-4427-9BC8-7276132EB2F1}" type="slidenum"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2244240"/>
            <a:ext cx="77724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333399"/>
                </a:solidFill>
                <a:latin typeface="Tahoma"/>
              </a:rPr>
              <a:t>PROIZVODNI SISTEMI</a:t>
            </a:r>
            <a:br>
              <a:rPr sz="6000"/>
            </a:br>
            <a:r>
              <a:rPr b="0" lang="sl-SI" sz="6000" spc="-1" strike="noStrike">
                <a:solidFill>
                  <a:srgbClr val="333399"/>
                </a:solidFill>
                <a:latin typeface="Tahoma"/>
              </a:rPr>
              <a:t>(Osnovi organizacije proizvodnje)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41400" y="711360"/>
            <a:ext cx="263376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sl-SI" sz="5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O</a:t>
            </a:r>
            <a:r>
              <a:rPr b="0" lang="sl-SI" sz="5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81400" y="347760"/>
            <a:ext cx="46800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1800" indent="-631800">
              <a:lnSpc>
                <a:spcPct val="75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54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Informacioni sistemi</a:t>
            </a:r>
            <a:r>
              <a:rPr b="1" lang="sr-Latn-CS" sz="2400" spc="-1" strike="noStrike">
                <a:solidFill>
                  <a:srgbClr val="333399"/>
                </a:solidFill>
                <a:latin typeface="Tahoma"/>
              </a:rPr>
              <a:t> i tehnolog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lnSpc>
                <a:spcPct val="75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54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Menad</a:t>
            </a:r>
            <a:r>
              <a:rPr b="1" lang="sl-SI" sz="2400" spc="-1" strike="noStrike">
                <a:solidFill>
                  <a:srgbClr val="333399"/>
                </a:solidFill>
                <a:latin typeface="Tahoma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lnSpc>
                <a:spcPct val="85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54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Tahoma"/>
              </a:rPr>
              <a:t>Operacioni menadž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lnSpc>
                <a:spcPct val="75000"/>
              </a:lnSpc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54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Tahoma"/>
              </a:rPr>
              <a:t>Upravljanje kvalite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10160" y="2657520"/>
            <a:ext cx="32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I godina, II seme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4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4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4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1400"/>
                            </p:stCondLst>
                            <p:childTnLst>
                              <p:par>
                                <p:cTn id="2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27" dur="3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668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9680"/>
                            </p:stCondLst>
                            <p:childTnLst>
                              <p:par>
                                <p:cTn id="34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5" dur="5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" dur="5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" dur="5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8" dur="5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4680"/>
                            </p:stCondLst>
                            <p:childTnLst>
                              <p:par>
                                <p:cTn id="40" nodeType="after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" dur="3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2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1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Organizacioni oblici radnih mes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Otvoreno 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Zatvoreno 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Stabilizovano 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2560680" y="2682720"/>
            <a:ext cx="0" cy="50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73280" y="3914640"/>
            <a:ext cx="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873400" y="4294080"/>
            <a:ext cx="790560" cy="776520"/>
            <a:chOff x="5873400" y="4294080"/>
            <a:chExt cx="790560" cy="776520"/>
          </a:xfrm>
        </p:grpSpPr>
        <p:sp>
          <p:nvSpPr>
            <p:cNvPr id="182" name=""/>
            <p:cNvSpPr/>
            <p:nvPr/>
          </p:nvSpPr>
          <p:spPr>
            <a:xfrm flipV="1">
              <a:off x="6157800" y="4530240"/>
              <a:ext cx="26352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5873400" y="4824360"/>
              <a:ext cx="244440" cy="2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5881680" y="4294080"/>
              <a:ext cx="782280" cy="760680"/>
              <a:chOff x="5881680" y="4294080"/>
              <a:chExt cx="782280" cy="760680"/>
            </a:xfrm>
          </p:grpSpPr>
          <p:sp>
            <p:nvSpPr>
              <p:cNvPr id="185" name=""/>
              <p:cNvSpPr/>
              <p:nvPr/>
            </p:nvSpPr>
            <p:spPr>
              <a:xfrm flipH="1">
                <a:off x="6419520" y="4294080"/>
                <a:ext cx="24444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6080040" y="4497480"/>
                <a:ext cx="385920" cy="365040"/>
                <a:chOff x="6080040" y="4497480"/>
                <a:chExt cx="385920" cy="36504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080040" y="4497480"/>
                  <a:ext cx="385920" cy="3650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159600" y="4553640"/>
                  <a:ext cx="242640" cy="263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 flipH="1" flipV="1">
                <a:off x="5881680" y="4308120"/>
                <a:ext cx="24624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flipV="1">
                <a:off x="6400800" y="4809960"/>
                <a:ext cx="246240" cy="24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5848200" y="3125880"/>
            <a:ext cx="814320" cy="761760"/>
            <a:chOff x="5848200" y="3125880"/>
            <a:chExt cx="814320" cy="761760"/>
          </a:xfrm>
        </p:grpSpPr>
        <p:sp>
          <p:nvSpPr>
            <p:cNvPr id="192" name=""/>
            <p:cNvSpPr/>
            <p:nvPr/>
          </p:nvSpPr>
          <p:spPr>
            <a:xfrm>
              <a:off x="6076800" y="3327480"/>
              <a:ext cx="385920" cy="36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848200" y="3125880"/>
              <a:ext cx="814320" cy="761760"/>
              <a:chOff x="5848200" y="3125880"/>
              <a:chExt cx="814320" cy="761760"/>
            </a:xfrm>
          </p:grpSpPr>
          <p:sp>
            <p:nvSpPr>
              <p:cNvPr id="194" name=""/>
              <p:cNvSpPr/>
              <p:nvPr/>
            </p:nvSpPr>
            <p:spPr>
              <a:xfrm flipH="1">
                <a:off x="5848200" y="3641760"/>
                <a:ext cx="244800" cy="24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6418080" y="3125880"/>
                <a:ext cx="244440" cy="24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>
                <a:off x="5897520" y="3128760"/>
                <a:ext cx="24624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flipV="1">
                <a:off x="6397560" y="3628800"/>
                <a:ext cx="24624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5843160" y="1873080"/>
            <a:ext cx="816480" cy="795240"/>
            <a:chOff x="5843160" y="1873080"/>
            <a:chExt cx="816480" cy="795240"/>
          </a:xfrm>
        </p:grpSpPr>
        <p:sp>
          <p:nvSpPr>
            <p:cNvPr id="199" name=""/>
            <p:cNvSpPr/>
            <p:nvPr/>
          </p:nvSpPr>
          <p:spPr>
            <a:xfrm flipH="1">
              <a:off x="6384600" y="1873080"/>
              <a:ext cx="244440" cy="2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5843160" y="1896840"/>
              <a:ext cx="816480" cy="771480"/>
              <a:chOff x="5843160" y="1896840"/>
              <a:chExt cx="816480" cy="771480"/>
            </a:xfrm>
          </p:grpSpPr>
          <p:sp>
            <p:nvSpPr>
              <p:cNvPr id="201" name=""/>
              <p:cNvSpPr/>
              <p:nvPr/>
            </p:nvSpPr>
            <p:spPr>
              <a:xfrm>
                <a:off x="6076800" y="2116080"/>
                <a:ext cx="385920" cy="36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5843160" y="2417760"/>
                <a:ext cx="24444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flipV="1">
                <a:off x="6413400" y="2423880"/>
                <a:ext cx="24624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flipV="1">
                <a:off x="5886360" y="1896840"/>
                <a:ext cx="24624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77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2" dur="77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4" dur="77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6" dur="77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77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0" dur="77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2" dur="77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4" dur="77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000"/>
                            </p:stCondLst>
                            <p:childTnLst>
                              <p:par>
                                <p:cTn id="7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77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8" dur="77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0" dur="77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2" dur="77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000"/>
                            </p:stCondLst>
                            <p:childTnLst>
                              <p:par>
                                <p:cTn id="8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9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022400" y="4114800"/>
            <a:ext cx="2157480" cy="674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Izračunavanje pokazatelja načina rada </a:t>
            </a: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OTVORENOG 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995400" y="4105440"/>
            <a:ext cx="7234200" cy="69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995400" y="2374920"/>
            <a:ext cx="7254720" cy="1760400"/>
            <a:chOff x="995400" y="2374920"/>
            <a:chExt cx="7254720" cy="1760400"/>
          </a:xfrm>
        </p:grpSpPr>
        <p:sp>
          <p:nvSpPr>
            <p:cNvPr id="209" name=""/>
            <p:cNvSpPr/>
            <p:nvPr/>
          </p:nvSpPr>
          <p:spPr>
            <a:xfrm>
              <a:off x="6197760" y="2560680"/>
              <a:ext cx="20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995400" y="2374920"/>
              <a:ext cx="7248600" cy="1760400"/>
              <a:chOff x="995400" y="2374920"/>
              <a:chExt cx="7248600" cy="1760400"/>
            </a:xfrm>
          </p:grpSpPr>
          <p:sp>
            <p:nvSpPr>
              <p:cNvPr id="211" name=""/>
              <p:cNvSpPr/>
              <p:nvPr/>
            </p:nvSpPr>
            <p:spPr>
              <a:xfrm>
                <a:off x="2906640" y="2374920"/>
                <a:ext cx="337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800" spc="-1" strike="noStrike">
                    <a:solidFill>
                      <a:srgbClr val="333399"/>
                    </a:solidFill>
                    <a:latin typeface="Tahoma"/>
                  </a:rPr>
                  <a:t>RASPOLOŽIVO RADNO VRE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995400" y="2417760"/>
                <a:ext cx="0" cy="170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8244000" y="2428920"/>
                <a:ext cx="0" cy="170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028880" y="2573280"/>
                <a:ext cx="205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5" name=""/>
          <p:cNvSpPr/>
          <p:nvPr/>
        </p:nvSpPr>
        <p:spPr>
          <a:xfrm>
            <a:off x="3156120" y="3343320"/>
            <a:ext cx="0" cy="20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09520" y="4245120"/>
            <a:ext cx="196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Produktivan 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79880" y="4202280"/>
            <a:ext cx="49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Gubici zbog loše organiz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08720" y="3287880"/>
            <a:ext cx="0" cy="309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993600" y="4680000"/>
            <a:ext cx="0" cy="17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9560" y="5268960"/>
            <a:ext cx="2155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4878360"/>
            <a:ext cx="6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05480" y="3546360"/>
            <a:ext cx="2722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30560" y="354636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24440" y="3544920"/>
            <a:ext cx="1522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91040" y="3068640"/>
            <a:ext cx="4201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20600" y="5680080"/>
            <a:ext cx="306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19160" y="6202440"/>
            <a:ext cx="4506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06560" y="5724360"/>
            <a:ext cx="6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392640" y="3108240"/>
            <a:ext cx="65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Tahoma"/>
              </a:rPr>
              <a:t>G</a:t>
            </a:r>
            <a:r>
              <a:rPr b="0" lang="sl-SI" sz="20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27680" y="2606760"/>
            <a:ext cx="65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Tahoma"/>
              </a:rPr>
              <a:t>η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3108240"/>
            <a:ext cx="65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Tahoma"/>
              </a:rPr>
              <a:t>G</a:t>
            </a:r>
            <a:r>
              <a:rPr b="0" lang="sl-SI" sz="20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27880" y="3110040"/>
            <a:ext cx="65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Tahoma"/>
              </a:rPr>
              <a:t>G</a:t>
            </a:r>
            <a:r>
              <a:rPr b="0" lang="sl-SI" sz="20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03480" y="5218200"/>
            <a:ext cx="65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Tahoma"/>
              </a:rPr>
              <a:t>η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70520" y="2894040"/>
            <a:ext cx="0" cy="309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73920" y="4964040"/>
            <a:ext cx="25462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0" lang="sl-SI" sz="2000" spc="-1" strike="noStrike" baseline="-25000">
                <a:solidFill>
                  <a:srgbClr val="333399"/>
                </a:solidFill>
                <a:latin typeface="Tahoma"/>
              </a:rPr>
              <a:t>1 </a:t>
            </a: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– prekidi u radu zbog loše organiz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900760" y="4921200"/>
            <a:ext cx="26985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0" lang="sl-SI" sz="20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 – rad radnika koji je posledica loše organiz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02240" y="4919760"/>
            <a:ext cx="24368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0" lang="sl-SI" sz="20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 – neostvareni učinak zbog loše organiz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61040" y="5051520"/>
            <a:ext cx="25052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Tahoma"/>
              </a:rPr>
              <a:t>η</a:t>
            </a:r>
            <a:r>
              <a:rPr b="0" lang="sl-SI" sz="2000" spc="-1" strike="noStrike" baseline="-25000">
                <a:solidFill>
                  <a:srgbClr val="333399"/>
                </a:solidFill>
                <a:latin typeface="Tahoma"/>
              </a:rPr>
              <a:t>o</a:t>
            </a: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 – stepen otvorenosti radnog m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5880" y="4896000"/>
            <a:ext cx="26971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Tahoma"/>
              </a:rPr>
              <a:t>η</a:t>
            </a:r>
            <a:r>
              <a:rPr b="0" lang="sl-SI" sz="2000" spc="-1" strike="noStrike" baseline="-25000">
                <a:solidFill>
                  <a:srgbClr val="333399"/>
                </a:solidFill>
                <a:latin typeface="Tahoma"/>
              </a:rPr>
              <a:t>K</a:t>
            </a: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 – stepen korišćenja kapaciteta na radnom mes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57760" y="4991040"/>
            <a:ext cx="24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Z – zauzetost rad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15000" y="521964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Pr – Produktivnost (učinak) radnog m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27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155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0" dur="1155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2" dur="1155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4" dur="1155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7000"/>
                            </p:stCondLst>
                            <p:childTnLst>
                              <p:par>
                                <p:cTn id="8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155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4" dur="1155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6" dur="1155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8" dur="1155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77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5" dur="770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7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9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000"/>
                            </p:stCondLst>
                            <p:childTnLst>
                              <p:par>
                                <p:cTn id="9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4000"/>
                            </p:stCondLst>
                            <p:childTnLst>
                              <p:par>
                                <p:cTn id="9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6000"/>
                            </p:stCondLst>
                            <p:childTnLst>
                              <p:par>
                                <p:cTn id="93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5" dur="5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77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3" dur="770" fill="hold"/>
                                        <p:tgtEl>
                                          <p:spTgt spid="2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5" dur="77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7" dur="77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4000"/>
                            </p:stCondLst>
                            <p:childTnLst>
                              <p:par>
                                <p:cTn id="9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6000"/>
                            </p:stCondLst>
                            <p:childTnLst>
                              <p:par>
                                <p:cTn id="97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3" dur="3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2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3" dur="3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77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1" dur="770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3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5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27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7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7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0" dur="3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2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0" dur="5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77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8" dur="770" fill="hold"/>
                                        <p:tgtEl>
                                          <p:spTgt spid="2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0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2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0" dur="5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77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8" dur="770" fill="hold"/>
                                        <p:tgtEl>
                                          <p:spTgt spid="2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2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7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27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0" dur="5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Izračunavanje pokazatelja načina rada </a:t>
            </a: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OTVORENOG 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957920" y="3914640"/>
                <a:ext cx="2414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*100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929120" y="3092400"/>
                <a:ext cx="3152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V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*100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957920" y="2111400"/>
                <a:ext cx="24447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V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*100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46" name=""/>
          <p:cNvGrpSpPr/>
          <p:nvPr/>
        </p:nvGrpSpPr>
        <p:grpSpPr>
          <a:xfrm>
            <a:off x="376200" y="2589120"/>
            <a:ext cx="4272120" cy="2160000"/>
            <a:chOff x="376200" y="2589120"/>
            <a:chExt cx="4272120" cy="2160000"/>
          </a:xfrm>
        </p:grpSpPr>
        <p:sp>
          <p:nvSpPr>
            <p:cNvPr id="247" name=""/>
            <p:cNvSpPr/>
            <p:nvPr/>
          </p:nvSpPr>
          <p:spPr>
            <a:xfrm>
              <a:off x="392040" y="3419640"/>
              <a:ext cx="1219320" cy="347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376200" y="2589120"/>
              <a:ext cx="4272120" cy="2160000"/>
              <a:chOff x="376200" y="2589120"/>
              <a:chExt cx="4272120" cy="2160000"/>
            </a:xfrm>
          </p:grpSpPr>
          <p:sp>
            <p:nvSpPr>
              <p:cNvPr id="249" name=""/>
              <p:cNvSpPr/>
              <p:nvPr/>
            </p:nvSpPr>
            <p:spPr>
              <a:xfrm>
                <a:off x="1625040" y="3227400"/>
                <a:ext cx="59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376200" y="2589120"/>
                <a:ext cx="4272120" cy="2160000"/>
                <a:chOff x="376200" y="2589120"/>
                <a:chExt cx="4272120" cy="216000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2186280" y="2985480"/>
                  <a:ext cx="2462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2" name=""/>
                <p:cNvGrpSpPr/>
                <p:nvPr/>
              </p:nvGrpSpPr>
              <p:grpSpPr>
                <a:xfrm>
                  <a:off x="376200" y="2589120"/>
                  <a:ext cx="4266720" cy="2160000"/>
                  <a:chOff x="376200" y="2589120"/>
                  <a:chExt cx="4266720" cy="2160000"/>
                </a:xfrm>
              </p:grpSpPr>
              <p:grpSp>
                <p:nvGrpSpPr>
                  <p:cNvPr id="253" name=""/>
                  <p:cNvGrpSpPr/>
                  <p:nvPr/>
                </p:nvGrpSpPr>
                <p:grpSpPr>
                  <a:xfrm>
                    <a:off x="376200" y="2589120"/>
                    <a:ext cx="4266720" cy="2160000"/>
                    <a:chOff x="376200" y="2589120"/>
                    <a:chExt cx="4266720" cy="2160000"/>
                  </a:xfrm>
                </p:grpSpPr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1447560" y="4393800"/>
                      <a:ext cx="3819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55" name=""/>
                    <p:cNvGrpSpPr/>
                    <p:nvPr/>
                  </p:nvGrpSpPr>
                  <p:grpSpPr>
                    <a:xfrm>
                      <a:off x="376200" y="2589120"/>
                      <a:ext cx="4266720" cy="2160000"/>
                      <a:chOff x="376200" y="2589120"/>
                      <a:chExt cx="4266720" cy="2160000"/>
                    </a:xfrm>
                  </p:grpSpPr>
                  <p:grpSp>
                    <p:nvGrpSpPr>
                      <p:cNvPr id="256" name=""/>
                      <p:cNvGrpSpPr/>
                      <p:nvPr/>
                    </p:nvGrpSpPr>
                    <p:grpSpPr>
                      <a:xfrm>
                        <a:off x="385200" y="2589120"/>
                        <a:ext cx="4250520" cy="947520"/>
                        <a:chOff x="385200" y="2589120"/>
                        <a:chExt cx="4250520" cy="947520"/>
                      </a:xfrm>
                    </p:grpSpPr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>
                          <a:off x="3433320" y="2688840"/>
                          <a:ext cx="12024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58" name=""/>
                        <p:cNvGrpSpPr/>
                        <p:nvPr/>
                      </p:nvGrpSpPr>
                      <p:grpSpPr>
                        <a:xfrm>
                          <a:off x="385200" y="2589120"/>
                          <a:ext cx="4247280" cy="947520"/>
                          <a:chOff x="385200" y="2589120"/>
                          <a:chExt cx="4247280" cy="947520"/>
                        </a:xfrm>
                      </p:grpSpPr>
                      <p:sp>
                        <p:nvSpPr>
                          <p:cNvPr id="259" name=""/>
                          <p:cNvSpPr/>
                          <p:nvPr/>
                        </p:nvSpPr>
                        <p:spPr>
                          <a:xfrm>
                            <a:off x="1504080" y="2589120"/>
                            <a:ext cx="1976400" cy="2462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marL="343080" indent="-343080" algn="ctr">
                              <a:lnSpc>
                                <a:spcPct val="100000"/>
                              </a:lnSpc>
                              <a:spcBef>
                                <a:spcPts val="624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sl-SI" sz="1000" spc="-1" strike="noStrike">
                                <a:solidFill>
                                  <a:srgbClr val="333399"/>
                                </a:solidFill>
                                <a:latin typeface="Tahoma"/>
                              </a:rPr>
                              <a:t>RASPOLOŽIVO RADNO VREME</a:t>
                            </a:r>
                            <a:endParaRPr b="0" lang="en-US" sz="1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0" name=""/>
                          <p:cNvSpPr/>
                          <p:nvPr/>
                        </p:nvSpPr>
                        <p:spPr>
                          <a:xfrm flipV="1">
                            <a:off x="385200" y="2612160"/>
                            <a:ext cx="0" cy="9187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1" name=""/>
                          <p:cNvSpPr/>
                          <p:nvPr/>
                        </p:nvSpPr>
                        <p:spPr>
                          <a:xfrm flipV="1">
                            <a:off x="4632480" y="2617920"/>
                            <a:ext cx="0" cy="9187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2" name=""/>
                          <p:cNvSpPr/>
                          <p:nvPr/>
                        </p:nvSpPr>
                        <p:spPr>
                          <a:xfrm>
                            <a:off x="404640" y="2695680"/>
                            <a:ext cx="12024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head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1651320" y="3110400"/>
                        <a:ext cx="0" cy="1120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1667160" y="3573000"/>
                        <a:ext cx="288000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marL="343080" indent="-343080" algn="ctr">
                          <a:lnSpc>
                            <a:spcPct val="100000"/>
                          </a:lnSpc>
                          <a:spcBef>
                            <a:spcPts val="624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sl-SI" sz="1000" spc="-1" strike="noStrike">
                            <a:solidFill>
                              <a:srgbClr val="333399"/>
                            </a:solidFill>
                            <a:latin typeface="Tahoma"/>
                          </a:rPr>
                          <a:t>Gubici zbog loše organizacije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5" name=""/>
                      <p:cNvSpPr/>
                      <p:nvPr/>
                    </p:nvSpPr>
                    <p:spPr>
                      <a:xfrm>
                        <a:off x="3029760" y="3080520"/>
                        <a:ext cx="0" cy="1665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6" name=""/>
                      <p:cNvSpPr/>
                      <p:nvPr/>
                    </p:nvSpPr>
                    <p:spPr>
                      <a:xfrm flipV="1">
                        <a:off x="384120" y="3830400"/>
                        <a:ext cx="0" cy="918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" name=""/>
                      <p:cNvSpPr/>
                      <p:nvPr/>
                    </p:nvSpPr>
                    <p:spPr>
                      <a:xfrm>
                        <a:off x="376200" y="4147560"/>
                        <a:ext cx="12628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med" type="triangle" w="med"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" name=""/>
                      <p:cNvSpPr/>
                      <p:nvPr/>
                    </p:nvSpPr>
                    <p:spPr>
                      <a:xfrm>
                        <a:off x="782640" y="3936240"/>
                        <a:ext cx="3841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marL="343080" indent="-343080" algn="ctr">
                          <a:lnSpc>
                            <a:spcPct val="100000"/>
                          </a:lnSpc>
                          <a:spcBef>
                            <a:spcPts val="624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sl-SI" sz="1000" spc="-1" strike="noStrike">
                            <a:solidFill>
                              <a:srgbClr val="333399"/>
                            </a:solidFill>
                            <a:latin typeface="Tahoma"/>
                          </a:rPr>
                          <a:t>Pr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" name=""/>
                      <p:cNvSpPr/>
                      <p:nvPr/>
                    </p:nvSpPr>
                    <p:spPr>
                      <a:xfrm>
                        <a:off x="3027960" y="3219840"/>
                        <a:ext cx="15951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med" type="triangle" w="med"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2160000" y="3219120"/>
                        <a:ext cx="8920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med" type="triangle" w="med"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" name=""/>
                      <p:cNvSpPr/>
                      <p:nvPr/>
                    </p:nvSpPr>
                    <p:spPr>
                      <a:xfrm>
                        <a:off x="399960" y="4368960"/>
                        <a:ext cx="17978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med" type="triangle" w="med"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" name=""/>
                      <p:cNvSpPr/>
                      <p:nvPr/>
                    </p:nvSpPr>
                    <p:spPr>
                      <a:xfrm>
                        <a:off x="3217680" y="2714760"/>
                        <a:ext cx="382320" cy="267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marL="343080" indent="-343080" algn="ctr">
                          <a:lnSpc>
                            <a:spcPct val="100000"/>
                          </a:lnSpc>
                          <a:spcBef>
                            <a:spcPts val="624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l-GR" sz="1000" spc="-1" strike="noStrike">
                            <a:solidFill>
                              <a:srgbClr val="333399"/>
                            </a:solidFill>
                            <a:latin typeface="Tahoma"/>
                          </a:rPr>
                          <a:t>η</a:t>
                        </a:r>
                        <a:r>
                          <a:rPr b="0" lang="sl-SI" sz="1000" spc="-1" strike="noStrike" baseline="-25000">
                            <a:solidFill>
                              <a:srgbClr val="333399"/>
                            </a:solidFill>
                            <a:latin typeface="Tahoma"/>
                          </a:rPr>
                          <a:t>o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2440080" y="2984040"/>
                        <a:ext cx="381960" cy="267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marL="343080" indent="-343080" algn="ctr">
                          <a:lnSpc>
                            <a:spcPct val="100000"/>
                          </a:lnSpc>
                          <a:spcBef>
                            <a:spcPts val="624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sl-SI" sz="1000" spc="-1" strike="noStrike">
                            <a:solidFill>
                              <a:srgbClr val="ff0000"/>
                            </a:solidFill>
                            <a:latin typeface="Tahoma"/>
                          </a:rPr>
                          <a:t>G</a:t>
                        </a:r>
                        <a:r>
                          <a:rPr b="0" lang="sl-SI" sz="1000" spc="-1" strike="noStrike" baseline="-25000">
                            <a:solidFill>
                              <a:srgbClr val="ff0000"/>
                            </a:solidFill>
                            <a:latin typeface="Tahoma"/>
                          </a:rPr>
                          <a:t>2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>
                        <a:off x="3625200" y="2984040"/>
                        <a:ext cx="384120" cy="267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marL="343080" indent="-343080" algn="ctr">
                          <a:lnSpc>
                            <a:spcPct val="100000"/>
                          </a:lnSpc>
                          <a:spcBef>
                            <a:spcPts val="624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sl-SI" sz="1000" spc="-1" strike="noStrike">
                            <a:solidFill>
                              <a:srgbClr val="ff0000"/>
                            </a:solidFill>
                            <a:latin typeface="Tahoma"/>
                          </a:rPr>
                          <a:t>G</a:t>
                        </a:r>
                        <a:r>
                          <a:rPr b="0" lang="sl-SI" sz="1000" spc="-1" strike="noStrike" baseline="-25000">
                            <a:solidFill>
                              <a:srgbClr val="ff0000"/>
                            </a:solidFill>
                            <a:latin typeface="Tahoma"/>
                          </a:rPr>
                          <a:t>1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" name=""/>
                      <p:cNvSpPr/>
                      <p:nvPr/>
                    </p:nvSpPr>
                    <p:spPr>
                      <a:xfrm>
                        <a:off x="1034640" y="4119480"/>
                        <a:ext cx="381960" cy="267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marL="343080" indent="-343080" algn="ctr">
                          <a:lnSpc>
                            <a:spcPct val="100000"/>
                          </a:lnSpc>
                          <a:spcBef>
                            <a:spcPts val="624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l-GR" sz="1000" spc="-1" strike="noStrike">
                            <a:solidFill>
                              <a:srgbClr val="333399"/>
                            </a:solidFill>
                            <a:latin typeface="Tahoma"/>
                          </a:rPr>
                          <a:t>η</a:t>
                        </a:r>
                        <a:r>
                          <a:rPr b="0" lang="sl-SI" sz="1000" spc="-1" strike="noStrike" baseline="-25000">
                            <a:solidFill>
                              <a:srgbClr val="333399"/>
                            </a:solidFill>
                            <a:latin typeface="Tahoma"/>
                          </a:rPr>
                          <a:t>K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6" name=""/>
                      <p:cNvSpPr/>
                      <p:nvPr/>
                    </p:nvSpPr>
                    <p:spPr>
                      <a:xfrm>
                        <a:off x="2187000" y="2868480"/>
                        <a:ext cx="0" cy="1665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"/>
                      <p:cNvSpPr/>
                      <p:nvPr/>
                    </p:nvSpPr>
                    <p:spPr>
                      <a:xfrm>
                        <a:off x="415800" y="3561840"/>
                        <a:ext cx="114588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marL="343080" indent="-343080" algn="ctr">
                          <a:lnSpc>
                            <a:spcPct val="100000"/>
                          </a:lnSpc>
                          <a:spcBef>
                            <a:spcPts val="624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sl-SI" sz="1000" spc="-1" strike="noStrike">
                            <a:solidFill>
                              <a:srgbClr val="333399"/>
                            </a:solidFill>
                            <a:latin typeface="Tahoma"/>
                          </a:rPr>
                          <a:t>Produktivan rad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8" name=""/>
                      <p:cNvSpPr/>
                      <p:nvPr/>
                    </p:nvSpPr>
                    <p:spPr>
                      <a:xfrm>
                        <a:off x="403920" y="3404520"/>
                        <a:ext cx="4239000" cy="3718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79" name=""/>
                  <p:cNvSpPr/>
                  <p:nvPr/>
                </p:nvSpPr>
                <p:spPr>
                  <a:xfrm>
                    <a:off x="1718280" y="2971080"/>
                    <a:ext cx="38016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343080" indent="-343080"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l-SI" sz="1000" spc="-1" strike="noStrike">
                        <a:solidFill>
                          <a:srgbClr val="ff0000"/>
                        </a:solidFill>
                        <a:latin typeface="Tahoma"/>
                      </a:rPr>
                      <a:t>G</a:t>
                    </a:r>
                    <a:r>
                      <a:rPr b="0" lang="sl-SI" sz="2000" spc="-1" strike="noStrike" baseline="-25000">
                        <a:solidFill>
                          <a:srgbClr val="ff0000"/>
                        </a:solidFill>
                        <a:latin typeface="Tahoma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"/>
              <p:cNvSpPr/>
              <p:nvPr/>
            </p:nvSpPr>
            <p:spPr>
              <a:xfrm>
                <a:off x="407520" y="4668840"/>
                <a:ext cx="262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021280" y="4881600"/>
                <a:ext cx="3782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V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*100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0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77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770" fill="hold"/>
                                        <p:tgtEl>
                                          <p:spTgt spid="2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9" dur="77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77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8" dur="770" fill="hold"/>
                                        <p:tgtEl>
                                          <p:spTgt spid="2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2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77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9" dur="770" fill="hold"/>
                                        <p:tgtEl>
                                          <p:spTgt spid="2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1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3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77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0" dur="770" fill="hold"/>
                                        <p:tgtEl>
                                          <p:spTgt spid="2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2" dur="77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4" dur="77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047600" y="4125960"/>
            <a:ext cx="4929480" cy="668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Izračunavanje pokazatelja načina rada </a:t>
            </a: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ZATVORENOG 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995400" y="4105440"/>
            <a:ext cx="7234200" cy="69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982800" y="2374920"/>
            <a:ext cx="7254720" cy="1760400"/>
            <a:chOff x="982800" y="2374920"/>
            <a:chExt cx="7254720" cy="1760400"/>
          </a:xfrm>
        </p:grpSpPr>
        <p:sp>
          <p:nvSpPr>
            <p:cNvPr id="286" name=""/>
            <p:cNvSpPr/>
            <p:nvPr/>
          </p:nvSpPr>
          <p:spPr>
            <a:xfrm>
              <a:off x="6185160" y="2560680"/>
              <a:ext cx="20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982800" y="2374920"/>
              <a:ext cx="7248600" cy="1760400"/>
              <a:chOff x="982800" y="2374920"/>
              <a:chExt cx="7248600" cy="1760400"/>
            </a:xfrm>
          </p:grpSpPr>
          <p:sp>
            <p:nvSpPr>
              <p:cNvPr id="288" name=""/>
              <p:cNvSpPr/>
              <p:nvPr/>
            </p:nvSpPr>
            <p:spPr>
              <a:xfrm>
                <a:off x="2894040" y="2374920"/>
                <a:ext cx="337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800" spc="-1" strike="noStrike">
                    <a:solidFill>
                      <a:srgbClr val="333399"/>
                    </a:solidFill>
                    <a:latin typeface="Tahoma"/>
                  </a:rPr>
                  <a:t>RASPOLOŽIVO RADNO VRE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982800" y="2417760"/>
                <a:ext cx="0" cy="170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8231400" y="2428920"/>
                <a:ext cx="0" cy="170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016280" y="2573280"/>
                <a:ext cx="205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"/>
          <p:cNvSpPr/>
          <p:nvPr/>
        </p:nvSpPr>
        <p:spPr>
          <a:xfrm>
            <a:off x="1109520" y="426708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Produktivan 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987880" y="4137120"/>
            <a:ext cx="2111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Gubici zbog loše organi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86440" y="3308400"/>
            <a:ext cx="0" cy="210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993600" y="4680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86280" y="4840200"/>
            <a:ext cx="6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985000" y="3546360"/>
            <a:ext cx="224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5627520"/>
            <a:ext cx="725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00520" y="5243400"/>
            <a:ext cx="65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Z,</a:t>
            </a:r>
            <a:r>
              <a:rPr b="0" lang="el-GR" sz="2000" spc="-1" strike="noStrike">
                <a:solidFill>
                  <a:srgbClr val="333399"/>
                </a:solidFill>
                <a:latin typeface="Tahoma"/>
              </a:rPr>
              <a:t>η</a:t>
            </a:r>
            <a:r>
              <a:rPr b="0" lang="sl-SI" sz="2000" spc="-1" strike="noStrike" baseline="-25000">
                <a:solidFill>
                  <a:srgbClr val="333399"/>
                </a:solidFill>
                <a:latin typeface="Tahom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680160" y="3043080"/>
            <a:ext cx="652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Tahoma"/>
              </a:rPr>
              <a:t>G</a:t>
            </a:r>
            <a:r>
              <a:rPr b="0" lang="sl-SI" sz="20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0560" y="5264280"/>
            <a:ext cx="23511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0" lang="sl-SI" sz="20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 – neostvareni učinak zbog loše organiz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09520" y="5851440"/>
            <a:ext cx="4024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Tahoma"/>
              </a:rPr>
              <a:t>η</a:t>
            </a:r>
            <a:r>
              <a:rPr b="0" lang="sl-SI" sz="2000" spc="-1" strike="noStrike" baseline="-25000">
                <a:solidFill>
                  <a:srgbClr val="333399"/>
                </a:solidFill>
                <a:latin typeface="Tahoma"/>
              </a:rPr>
              <a:t>K</a:t>
            </a: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 – stepen korišćenja kapaciteta na radnom mes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30680" y="5877000"/>
            <a:ext cx="24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Z – zauzetost rad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59480" y="5611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Pr – Produktivnost (učinak) radnog m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220240" y="4614840"/>
            <a:ext cx="0" cy="119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06560" y="5249880"/>
            <a:ext cx="4995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0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3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27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155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1" dur="1155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3" dur="1155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5" dur="1155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1155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5" dur="1155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7" dur="1155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9" dur="1155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77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6" dur="770" fill="hold"/>
                                        <p:tgtEl>
                                          <p:spTgt spid="3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8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0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8" dur="3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3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5" dur="77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6" dur="770" fill="hold"/>
                                        <p:tgtEl>
                                          <p:spTgt spid="3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8" dur="77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0" dur="77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3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7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27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7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0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5" dur="3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3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77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3" dur="770" fill="hold"/>
                                        <p:tgtEl>
                                          <p:spTgt spid="3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5" dur="77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7" dur="77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385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3" dur="385" fill="hold"/>
                                        <p:tgtEl>
                                          <p:spTgt spid="3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5" dur="385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7" dur="385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3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0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7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3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27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2" dur="5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6" dur="5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Izračunavanje pokazatelja načina rada </a:t>
            </a: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ZATVORENOG 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5581800" y="2598840"/>
                <a:ext cx="2506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z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z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5511960" y="3697200"/>
                <a:ext cx="30589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sup>
                        <m:r>
                          <m:t xml:space="preserve">z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V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*100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696960" y="2638440"/>
            <a:ext cx="4200120" cy="2022120"/>
            <a:chOff x="696960" y="2638440"/>
            <a:chExt cx="4200120" cy="2022120"/>
          </a:xfrm>
        </p:grpSpPr>
        <p:sp>
          <p:nvSpPr>
            <p:cNvPr id="311" name=""/>
            <p:cNvSpPr/>
            <p:nvPr/>
          </p:nvSpPr>
          <p:spPr>
            <a:xfrm>
              <a:off x="696960" y="3643200"/>
              <a:ext cx="2901960" cy="390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01640" y="2638440"/>
              <a:ext cx="4195440" cy="2022120"/>
              <a:chOff x="701640" y="2638440"/>
              <a:chExt cx="4195440" cy="2022120"/>
            </a:xfrm>
          </p:grpSpPr>
          <p:sp>
            <p:nvSpPr>
              <p:cNvPr id="313" name=""/>
              <p:cNvSpPr/>
              <p:nvPr/>
            </p:nvSpPr>
            <p:spPr>
              <a:xfrm>
                <a:off x="705960" y="4502520"/>
                <a:ext cx="419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701640" y="2638440"/>
                <a:ext cx="4189680" cy="2022120"/>
                <a:chOff x="701640" y="2638440"/>
                <a:chExt cx="4189680" cy="20221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708840" y="3630240"/>
                  <a:ext cx="4178160" cy="395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6" name=""/>
                <p:cNvGrpSpPr/>
                <p:nvPr/>
              </p:nvGrpSpPr>
              <p:grpSpPr>
                <a:xfrm>
                  <a:off x="701640" y="2638440"/>
                  <a:ext cx="4189680" cy="1008360"/>
                  <a:chOff x="701640" y="2638440"/>
                  <a:chExt cx="4189680" cy="100836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3706200" y="2744640"/>
                    <a:ext cx="1185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701640" y="2638440"/>
                    <a:ext cx="4186440" cy="1008360"/>
                    <a:chOff x="701640" y="2638440"/>
                    <a:chExt cx="4186440" cy="100836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1806480" y="2638440"/>
                      <a:ext cx="194616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RASPOLOŽIVO RADNO VR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flipV="1">
                      <a:off x="701640" y="2662920"/>
                      <a:ext cx="0" cy="977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flipV="1">
                      <a:off x="4888080" y="2669040"/>
                      <a:ext cx="0" cy="977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720720" y="2751840"/>
                      <a:ext cx="1185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23" name=""/>
                <p:cNvSpPr/>
                <p:nvPr/>
              </p:nvSpPr>
              <p:spPr>
                <a:xfrm>
                  <a:off x="775800" y="3722760"/>
                  <a:ext cx="2726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43080" indent="-343080"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l-SI" sz="1400" spc="-1" strike="noStrike">
                      <a:solidFill>
                        <a:srgbClr val="333399"/>
                      </a:solidFill>
                      <a:latin typeface="Tahoma"/>
                    </a:rPr>
                    <a:t>Produktivan ra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95320" y="3648240"/>
                  <a:ext cx="1216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marL="343080" indent="-343080"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l-SI" sz="1000" spc="-1" strike="noStrike">
                      <a:solidFill>
                        <a:srgbClr val="333399"/>
                      </a:solidFill>
                      <a:latin typeface="Tahoma"/>
                    </a:rPr>
                    <a:t>Gubici zbog loše organizacij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591360" y="3173400"/>
                  <a:ext cx="0" cy="120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V="1">
                  <a:off x="707760" y="3959280"/>
                  <a:ext cx="0" cy="70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915200" y="4052880"/>
                  <a:ext cx="376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43080" indent="-343080"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l-SI" sz="1000" spc="-1" strike="noStrike">
                      <a:solidFill>
                        <a:srgbClr val="333399"/>
                      </a:solidFill>
                      <a:latin typeface="Tahoma"/>
                    </a:rPr>
                    <a:t>P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590640" y="3309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327760" y="4281480"/>
                  <a:ext cx="377640" cy="23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43080" indent="-343080"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l-SI" sz="800" spc="-1" strike="noStrike">
                      <a:solidFill>
                        <a:srgbClr val="333399"/>
                      </a:solidFill>
                      <a:latin typeface="Tahoma"/>
                    </a:rPr>
                    <a:t>Z,</a:t>
                  </a:r>
                  <a:r>
                    <a:rPr b="0" lang="el-GR" sz="800" spc="-1" strike="noStrike">
                      <a:solidFill>
                        <a:srgbClr val="333399"/>
                      </a:solidFill>
                      <a:latin typeface="Tahoma"/>
                    </a:rPr>
                    <a:t>η</a:t>
                  </a:r>
                  <a:r>
                    <a:rPr b="0" lang="sl-SI" sz="800" spc="-1" strike="noStrike" baseline="-25000">
                      <a:solidFill>
                        <a:srgbClr val="333399"/>
                      </a:solidFill>
                      <a:latin typeface="Tahoma"/>
                    </a:rPr>
                    <a:t>k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991320" y="3021120"/>
                  <a:ext cx="377640" cy="26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43080" indent="-343080"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l-SI" sz="1000" spc="-1" strike="noStrike">
                      <a:solidFill>
                        <a:srgbClr val="ff0000"/>
                      </a:solidFill>
                      <a:latin typeface="Tahoma"/>
                    </a:rPr>
                    <a:t>G</a:t>
                  </a:r>
                  <a:r>
                    <a:rPr b="0" lang="sl-SI" sz="1000" spc="-1" strike="noStrike" baseline="-25000">
                      <a:solidFill>
                        <a:srgbClr val="ff0000"/>
                      </a:solidFill>
                      <a:latin typeface="Tahoma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881600" y="392220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15320" y="4286160"/>
                  <a:ext cx="2885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809960" y="5014800"/>
                <a:ext cx="3597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z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  <m:r>
                      <m:t xml:space="preserve">⇔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ča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fill="hold">
                      <p:stCondLst>
                        <p:cond delay="0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2" dur="77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3" dur="770" fill="hold"/>
                                        <p:tgtEl>
                                          <p:spTgt spid="3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5" dur="77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7" dur="77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77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4" dur="770" fill="hold"/>
                                        <p:tgtEl>
                                          <p:spTgt spid="3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6" dur="77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8" dur="77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77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5" dur="770" fill="hold"/>
                                        <p:tgtEl>
                                          <p:spTgt spid="3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7" dur="77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9" dur="77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025640" y="4125960"/>
            <a:ext cx="7203960" cy="646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Izračunavanje pokazatelja načina rada </a:t>
            </a: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STABILIZOVANOG R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995400" y="4105440"/>
            <a:ext cx="7234200" cy="690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982800" y="2374920"/>
            <a:ext cx="7254720" cy="1760400"/>
            <a:chOff x="982800" y="2374920"/>
            <a:chExt cx="7254720" cy="1760400"/>
          </a:xfrm>
        </p:grpSpPr>
        <p:sp>
          <p:nvSpPr>
            <p:cNvPr id="338" name=""/>
            <p:cNvSpPr/>
            <p:nvPr/>
          </p:nvSpPr>
          <p:spPr>
            <a:xfrm>
              <a:off x="6185160" y="2560680"/>
              <a:ext cx="20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982800" y="2374920"/>
              <a:ext cx="7248600" cy="1760400"/>
              <a:chOff x="982800" y="2374920"/>
              <a:chExt cx="7248600" cy="1760400"/>
            </a:xfrm>
          </p:grpSpPr>
          <p:sp>
            <p:nvSpPr>
              <p:cNvPr id="340" name=""/>
              <p:cNvSpPr/>
              <p:nvPr/>
            </p:nvSpPr>
            <p:spPr>
              <a:xfrm>
                <a:off x="2894040" y="2374920"/>
                <a:ext cx="337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800" spc="-1" strike="noStrike">
                    <a:solidFill>
                      <a:srgbClr val="333399"/>
                    </a:solidFill>
                    <a:latin typeface="Tahoma"/>
                  </a:rPr>
                  <a:t>RASPOLOŽIVO RADNO VRE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982800" y="2417760"/>
                <a:ext cx="0" cy="170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8231400" y="2428920"/>
                <a:ext cx="0" cy="170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016280" y="2573280"/>
                <a:ext cx="205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4" name=""/>
          <p:cNvSpPr/>
          <p:nvPr/>
        </p:nvSpPr>
        <p:spPr>
          <a:xfrm>
            <a:off x="1109520" y="4224240"/>
            <a:ext cx="70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Produktivan 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993600" y="4680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90720" y="5627520"/>
            <a:ext cx="725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21040" y="5243400"/>
            <a:ext cx="1349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Pr; Z; </a:t>
            </a:r>
            <a:r>
              <a:rPr b="0" lang="el-GR" sz="2000" spc="-1" strike="noStrike">
                <a:solidFill>
                  <a:srgbClr val="333399"/>
                </a:solidFill>
                <a:latin typeface="Tahoma"/>
              </a:rPr>
              <a:t>η</a:t>
            </a:r>
            <a:r>
              <a:rPr b="0" lang="sl-SI" sz="2000" spc="-1" strike="noStrike" baseline="-25000">
                <a:solidFill>
                  <a:srgbClr val="333399"/>
                </a:solidFill>
                <a:latin typeface="Tahom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479600" y="5851440"/>
            <a:ext cx="4024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Tahoma"/>
              </a:rPr>
              <a:t>η</a:t>
            </a:r>
            <a:r>
              <a:rPr b="0" lang="sl-SI" sz="2000" spc="-1" strike="noStrike" baseline="-25000">
                <a:solidFill>
                  <a:srgbClr val="333399"/>
                </a:solidFill>
                <a:latin typeface="Tahoma"/>
              </a:rPr>
              <a:t>K</a:t>
            </a: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 – stepen korišćenja kapaciteta na radnom mes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313320" y="5877000"/>
            <a:ext cx="198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Z – zauzetost rad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 rot="10784400">
            <a:off x="2684520" y="28260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Tahoma"/>
              </a:rPr>
              <a:t>Pr – Produktivnost (učinak) radnog m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220240" y="4614840"/>
            <a:ext cx="0" cy="119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fill="hold">
                      <p:stCondLst>
                        <p:cond delay="0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500"/>
                            </p:stCondLst>
                            <p:childTnLst>
                              <p:par>
                                <p:cTn id="14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0" dur="3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1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27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1155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8" dur="1155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0" dur="1155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2" dur="1155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77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3" dur="770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5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7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2" dur="77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3" dur="770" fill="hold"/>
                                        <p:tgtEl>
                                          <p:spTgt spid="3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5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7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77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3" dur="770" fill="hold"/>
                                        <p:tgtEl>
                                          <p:spTgt spid="3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5" dur="77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7" dur="77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3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8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4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9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7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27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4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27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9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9" dur="3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3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0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4" dur="5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8" dur="5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Izračunavanje pokazatelja načina rada </a:t>
            </a: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STABILIZOVANOG R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919080" y="4610160"/>
                <a:ext cx="2992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54" name=""/>
          <p:cNvGrpSpPr/>
          <p:nvPr/>
        </p:nvGrpSpPr>
        <p:grpSpPr>
          <a:xfrm>
            <a:off x="1069920" y="1982880"/>
            <a:ext cx="6325920" cy="2417040"/>
            <a:chOff x="1069920" y="1982880"/>
            <a:chExt cx="6325920" cy="2417040"/>
          </a:xfrm>
        </p:grpSpPr>
        <p:sp>
          <p:nvSpPr>
            <p:cNvPr id="355" name=""/>
            <p:cNvSpPr/>
            <p:nvPr/>
          </p:nvSpPr>
          <p:spPr>
            <a:xfrm>
              <a:off x="3560760" y="3872880"/>
              <a:ext cx="206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400" spc="-1" strike="noStrike">
                  <a:solidFill>
                    <a:srgbClr val="333399"/>
                  </a:solidFill>
                  <a:latin typeface="Tahoma"/>
                </a:rPr>
                <a:t>Pr; Z; </a:t>
              </a:r>
              <a:r>
                <a:rPr b="0" lang="el-GR" sz="1400" spc="-1" strike="noStrike">
                  <a:solidFill>
                    <a:srgbClr val="333399"/>
                  </a:solidFill>
                  <a:latin typeface="Tahoma"/>
                </a:rPr>
                <a:t>η</a:t>
              </a:r>
              <a:r>
                <a:rPr b="0" lang="sl-SI" sz="1400" spc="-1" strike="noStrike" baseline="-25000">
                  <a:solidFill>
                    <a:srgbClr val="333399"/>
                  </a:solidFill>
                  <a:latin typeface="Tahoma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1069920" y="1982880"/>
              <a:ext cx="6325920" cy="2417040"/>
              <a:chOff x="1069920" y="1982880"/>
              <a:chExt cx="6325920" cy="2417040"/>
            </a:xfrm>
          </p:grpSpPr>
          <p:sp>
            <p:nvSpPr>
              <p:cNvPr id="357" name=""/>
              <p:cNvSpPr/>
              <p:nvPr/>
            </p:nvSpPr>
            <p:spPr>
              <a:xfrm>
                <a:off x="1080720" y="3168360"/>
                <a:ext cx="6299640" cy="4730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1069920" y="1982880"/>
                <a:ext cx="6317280" cy="1205280"/>
                <a:chOff x="1069920" y="1982880"/>
                <a:chExt cx="6317280" cy="12052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5600160" y="2109960"/>
                  <a:ext cx="1787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0" name=""/>
                <p:cNvGrpSpPr/>
                <p:nvPr/>
              </p:nvGrpSpPr>
              <p:grpSpPr>
                <a:xfrm>
                  <a:off x="1069920" y="1982880"/>
                  <a:ext cx="6312240" cy="1205280"/>
                  <a:chOff x="1069920" y="1982880"/>
                  <a:chExt cx="6312240" cy="120528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>
                    <a:off x="2731320" y="1982880"/>
                    <a:ext cx="29376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343080" indent="-34308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l-SI" sz="1400" spc="-1" strike="noStrike">
                        <a:solidFill>
                          <a:srgbClr val="333399"/>
                        </a:solidFill>
                        <a:latin typeface="Tahoma"/>
                      </a:rPr>
                      <a:t>RASPOLOŽIVO RADNO VREME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flipV="1">
                    <a:off x="1069920" y="2011680"/>
                    <a:ext cx="0" cy="1168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flipV="1">
                    <a:off x="7382160" y="2019240"/>
                    <a:ext cx="0" cy="1168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1098720" y="2118600"/>
                    <a:ext cx="1787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5" name=""/>
              <p:cNvSpPr/>
              <p:nvPr/>
            </p:nvSpPr>
            <p:spPr>
              <a:xfrm>
                <a:off x="1180080" y="3247560"/>
                <a:ext cx="6161760" cy="337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600" spc="-1" strike="noStrike">
                    <a:solidFill>
                      <a:srgbClr val="333399"/>
                    </a:solidFill>
                    <a:latin typeface="Tahoma"/>
                  </a:rPr>
                  <a:t>Produktivan ra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1079280" y="3561480"/>
                <a:ext cx="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076760" y="4211280"/>
                <a:ext cx="631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372440" y="3517200"/>
                <a:ext cx="0" cy="82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3390840" y="5375160"/>
                <a:ext cx="42242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  <m:r>
                      <m:t xml:space="preserve">⇔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ča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1" dur="indefinite" restart="never" nodeType="tmRoot">
          <p:childTnLst>
            <p:seq>
              <p:cTn id="1512" dur="indefinite" nodeType="mainSeq">
                <p:childTnLst>
                  <p:par>
                    <p:cTn id="1513" fill="hold">
                      <p:stCondLst>
                        <p:cond delay="0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3" dur="77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4" dur="770" fill="hold"/>
                                        <p:tgtEl>
                                          <p:spTgt spid="3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6" dur="77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8" dur="77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3" dur="77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4" dur="770" fill="hold"/>
                                        <p:tgtEl>
                                          <p:spTgt spid="3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6" dur="77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8" dur="77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RAZLIKE IZMEĐU OTVORENOG, ZATVORENOG I STABILIZOVANOG RADNOG MES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2760" y="5545080"/>
            <a:ext cx="79470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POSTUPAK ZATVARANJA RADNIH MESTA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2873520" y="2009880"/>
                <a:ext cx="30081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z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2825640" y="2808360"/>
                <a:ext cx="3246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&lt;</m:t>
                    </m:r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z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2808360" y="4414680"/>
                <a:ext cx="3321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&lt;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z</m:t>
                        </m:r>
                      </m:sup>
                    </m:sSubSup>
                    <m:r>
                      <m:t xml:space="preserve">&lt;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813040" y="3578400"/>
                <a:ext cx="331308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&gt;</m:t>
                    </m:r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z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0" dur="indefinite" restart="never" nodeType="tmRoot">
          <p:childTnLst>
            <p:seq>
              <p:cTn id="1541" dur="indefinite" nodeType="mainSeq">
                <p:childTnLst>
                  <p:par>
                    <p:cTn id="1542" fill="hold">
                      <p:stCondLst>
                        <p:cond delay="0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Kvalitet organizovanja i nivo organizovanost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Kvalitet organizovanja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 nekog procesa proizvodnje je njegovo svojstvo koje pokazuje oblik postojanja, način korišćenja, rezultate funkcionisanja i promenu u vremenu svih elemenata proizvodnje povezanih u jednu celinu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Nivo organizovanosti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 je mera kvaliteta organizovan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9" dur="indefinite" restart="never" nodeType="tmRoot">
          <p:childTnLst>
            <p:seq>
              <p:cTn id="1580" dur="indefinite" nodeType="mainSeq">
                <p:childTnLst>
                  <p:par>
                    <p:cTn id="1581" fill="hold">
                      <p:stCondLst>
                        <p:cond delay="0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5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8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0" dur="1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9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322200"/>
            <a:ext cx="322092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Tahoma"/>
              </a:rPr>
              <a:t>PROIZVODNI SISTEM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31840" y="2089080"/>
            <a:ext cx="801216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99"/>
                </a:solidFill>
                <a:latin typeface="Tahoma"/>
              </a:rPr>
              <a:t>Predavanja    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2 časa nedelj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                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Prof dr Milić Radović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konsultacije: sreda 13-16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99"/>
                </a:solidFill>
                <a:latin typeface="Tahoma"/>
              </a:rPr>
              <a:t>Vežbe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          2 časa nedelj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               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Barbara Simeunović, dipl. 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               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Ivan Tomašević, dipl. 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Dragana Stojanović, dipl. 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99"/>
                </a:solidFill>
                <a:latin typeface="Tahoma"/>
              </a:rPr>
              <a:t>Ispit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pisani de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usmeni de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Projektni zadatak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Seminarski rad 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Kolokvijumi 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0" y="2482920"/>
            <a:ext cx="849240" cy="32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2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4760" y="3648240"/>
            <a:ext cx="849240" cy="32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1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85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385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385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385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85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385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385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385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385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385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385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385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385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385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385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385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385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385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385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385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85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385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385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385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600"/>
                            </p:stCondLst>
                            <p:childTnLst>
                              <p:par>
                                <p:cTn id="1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SADRŽAJ PREDAV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13800" indent="-6138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Osnovi organi</a:t>
            </a:r>
            <a:r>
              <a:rPr b="1" lang="sl-SI" sz="1800" spc="-1" strike="noStrike">
                <a:solidFill>
                  <a:srgbClr val="333399"/>
                </a:solidFill>
                <a:latin typeface="Tahoma"/>
              </a:rPr>
              <a:t>z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acije proizvodn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291680" indent="-537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OPSP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291680" indent="-537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Procesi kao osnova za projektovanje org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291680" indent="-537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Organizacija proizvodn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291680" indent="-537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Radno mesto kao osnovna ćelija u procesu ra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291680" indent="-537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Kvalitet organizovanja i nivo organizovanos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13800" indent="-6138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Osnove inženjeringa proizvodnih siste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291680" indent="-537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Optimizacija programa proizvodnje i uslug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291680" indent="-537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Tehnološki proces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=&gt;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OP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291680" indent="-537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Način realizacije plana (serij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291680" indent="-537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Oprema za r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291680" indent="-537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Dimenzije sistema (proračun potrebnog broja sredstava za rad, radnika i radnih mest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291680" indent="-537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Raspored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291680" indent="-537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Redosled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13800" indent="-6138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Analiza načina rada proizvodnih siste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77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3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77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77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2" dur="77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4" dur="77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770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770" fill="hold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7" dur="770" fill="hold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OSNOVE INŽENJERING ORGANIZACIONIH SISTEMA </a:t>
            </a:r>
            <a:br>
              <a:rPr sz="3200"/>
            </a:b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(preduzeća i ustanova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96640" y="1887120"/>
            <a:ext cx="5465880" cy="470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lgDash"/>
            <a:miter/>
          </a:ln>
        </p:spPr>
        <p:txBody>
          <a:bodyPr anchor="t">
            <a:normAutofit/>
          </a:bodyPr>
          <a:p>
            <a:pPr marL="544680" indent="-54468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99"/>
                </a:solidFill>
                <a:latin typeface="Tahoma"/>
              </a:rPr>
              <a:t>Definisanje misije, vizije i ciljev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44680" indent="-54468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99"/>
                </a:solidFill>
                <a:latin typeface="Tahoma"/>
              </a:rPr>
              <a:t>Projektovanj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44680" indent="-54468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99"/>
                </a:solidFill>
                <a:latin typeface="Tahoma"/>
              </a:rPr>
              <a:t>Obuka menadžment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44680" indent="-54468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99"/>
                </a:solidFill>
                <a:latin typeface="Tahoma"/>
              </a:rPr>
              <a:t>Postavljanj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44680" indent="-54468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99"/>
                </a:solidFill>
                <a:latin typeface="Tahoma"/>
              </a:rPr>
              <a:t>Organizovanje funkcionisanj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44680" indent="-54468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99"/>
                </a:solidFill>
                <a:latin typeface="Tahoma"/>
              </a:rPr>
              <a:t>Obuka svih zaposleni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44680" indent="-54468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99"/>
                </a:solidFill>
                <a:latin typeface="Tahoma"/>
              </a:rPr>
              <a:t>Funkcionisanj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44680" indent="-54468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99"/>
                </a:solidFill>
                <a:latin typeface="Tahoma"/>
              </a:rPr>
              <a:t>Upravljanj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44680" indent="-54468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99"/>
                </a:solidFill>
                <a:latin typeface="Tahoma"/>
              </a:rPr>
              <a:t>Razvoj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44680" indent="-54468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99"/>
                </a:solidFill>
                <a:latin typeface="Tahoma"/>
              </a:rPr>
              <a:t>Otklanjanje problema i konsalting u vremenu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20462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740"/>
                            </p:stCondLst>
                            <p:childTnLst>
                              <p:par>
                                <p:cTn id="42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760"/>
                            </p:stCondLst>
                            <p:childTnLst>
                              <p:par>
                                <p:cTn id="42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520"/>
                            </p:stCondLst>
                            <p:childTnLst>
                              <p:par>
                                <p:cTn id="43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1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220"/>
                            </p:stCondLst>
                            <p:childTnLst>
                              <p:par>
                                <p:cTn id="43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4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3141720"/>
            <a:ext cx="3384720" cy="159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OSNOVNI ELEMENTI PROIZVOD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16640" y="2852640"/>
            <a:ext cx="266364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Sredstva za 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08720" y="4581360"/>
            <a:ext cx="2663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Ener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3789360"/>
            <a:ext cx="2663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Izvrši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5373720"/>
            <a:ext cx="2663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Inform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97560" y="1989000"/>
            <a:ext cx="2663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Predmet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162320" y="2160720"/>
            <a:ext cx="1365120" cy="3552840"/>
            <a:chOff x="4162320" y="2160720"/>
            <a:chExt cx="1365120" cy="3552840"/>
          </a:xfrm>
        </p:grpSpPr>
        <p:sp>
          <p:nvSpPr>
            <p:cNvPr id="126" name=""/>
            <p:cNvSpPr/>
            <p:nvPr/>
          </p:nvSpPr>
          <p:spPr>
            <a:xfrm>
              <a:off x="4532040" y="2176560"/>
              <a:ext cx="39960" cy="353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162320" y="2160720"/>
              <a:ext cx="1365120" cy="3549600"/>
              <a:chOff x="4162320" y="2160720"/>
              <a:chExt cx="1365120" cy="3549600"/>
            </a:xfrm>
          </p:grpSpPr>
          <p:sp>
            <p:nvSpPr>
              <p:cNvPr id="128" name=""/>
              <p:cNvSpPr/>
              <p:nvPr/>
            </p:nvSpPr>
            <p:spPr>
              <a:xfrm flipV="1">
                <a:off x="4162320" y="4003200"/>
                <a:ext cx="1365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92520" y="57103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539960" y="309420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95760" y="4832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539960" y="21607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>
            <a:off x="3760920" y="42696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oizvodni si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38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9" dur="385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1" dur="38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3" dur="38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385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385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1" dur="38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3" dur="38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38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9" dur="385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1" dur="38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3" dur="38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0"/>
                            </p:stCondLst>
                            <p:childTnLst>
                              <p:par>
                                <p:cTn id="4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385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9" dur="385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1" dur="385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3" dur="385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6000"/>
                            </p:stCondLst>
                            <p:childTnLst>
                              <p:par>
                                <p:cTn id="4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38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9" dur="385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1" dur="38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3" dur="38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7000"/>
                            </p:stCondLst>
                            <p:childTnLst>
                              <p:par>
                                <p:cTn id="4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Organizacija proizvodn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333399"/>
                </a:solidFill>
                <a:latin typeface="Tahoma"/>
              </a:rPr>
              <a:t>...je, sa stanovišta tehnike i tehnologije, međusobna zavisnost i uzajamna povezanost osnovnih elemenata proizvodnje u tehnički racionalnu a ekonomski celishodnu celinučiji je zadatak da stvara proizvode i/ili pruža uslug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Tehnološka organizaci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Obradna organizaci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Predmetna organizaci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10840" y="2017440"/>
            <a:ext cx="844380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osnovna ćelija u procesu proizvodnje i procesu rada u celi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najmanja tehnološki i organizaciono zaokružena celina u okviru koje se odvija jedan tačno određen deo procesa r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POSA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RADN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ZADAT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365040"/>
            <a:ext cx="7437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38320" y="365040"/>
            <a:ext cx="71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7200" spc="-1" strike="noStrike">
                <a:solidFill>
                  <a:srgbClr val="333399"/>
                </a:solidFill>
                <a:latin typeface="Tahoma"/>
              </a:rPr>
              <a:t>RADNO MEST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7280" y="3983400"/>
            <a:ext cx="63597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organizacioni pojam koji ne mora biti vremenski ograničen, lokaciono i vrednosno u potpunosti određ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54560" y="3475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68440" y="5123520"/>
            <a:ext cx="63388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uži organizacioni pojam i predstavlja “isečak” posla. Potpuno je vremenski i lokaciono određ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3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3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6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3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4000"/>
                            </p:stCondLst>
                            <p:childTnLst>
                              <p:par>
                                <p:cTn id="5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385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5" dur="385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7" dur="385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9" dur="385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385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4" dur="385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6" dur="385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8" dur="385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862280" y="2126880"/>
            <a:ext cx="5811840" cy="3630960"/>
            <a:chOff x="1862280" y="2126880"/>
            <a:chExt cx="5811840" cy="3630960"/>
          </a:xfrm>
        </p:grpSpPr>
        <p:sp>
          <p:nvSpPr>
            <p:cNvPr id="143" name=""/>
            <p:cNvSpPr/>
            <p:nvPr/>
          </p:nvSpPr>
          <p:spPr>
            <a:xfrm>
              <a:off x="2995920" y="3974760"/>
              <a:ext cx="61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862280" y="2126880"/>
              <a:ext cx="5811840" cy="3630960"/>
              <a:chOff x="1862280" y="2126880"/>
              <a:chExt cx="5811840" cy="3630960"/>
            </a:xfrm>
          </p:grpSpPr>
          <p:sp>
            <p:nvSpPr>
              <p:cNvPr id="145" name=""/>
              <p:cNvSpPr/>
              <p:nvPr/>
            </p:nvSpPr>
            <p:spPr>
              <a:xfrm>
                <a:off x="1889280" y="2132280"/>
                <a:ext cx="173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1862280" y="2126880"/>
                <a:ext cx="5811840" cy="3630960"/>
                <a:chOff x="1862280" y="2126880"/>
                <a:chExt cx="5811840" cy="3630960"/>
              </a:xfrm>
            </p:grpSpPr>
            <p:grpSp>
              <p:nvGrpSpPr>
                <p:cNvPr id="147" name=""/>
                <p:cNvGrpSpPr/>
                <p:nvPr/>
              </p:nvGrpSpPr>
              <p:grpSpPr>
                <a:xfrm>
                  <a:off x="4697280" y="2578320"/>
                  <a:ext cx="1769760" cy="2536560"/>
                  <a:chOff x="4697280" y="2578320"/>
                  <a:chExt cx="1769760" cy="253656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5852880" y="3944880"/>
                    <a:ext cx="614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H="1">
                    <a:off x="4697280" y="2578320"/>
                    <a:ext cx="1440" cy="290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H="1">
                    <a:off x="4730760" y="4824000"/>
                    <a:ext cx="1440" cy="29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1862280" y="2126880"/>
                  <a:ext cx="5811840" cy="3630960"/>
                  <a:chOff x="1862280" y="2126880"/>
                  <a:chExt cx="5811840" cy="363096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>
                    <a:off x="5934600" y="2187000"/>
                    <a:ext cx="1739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1873080" y="5756400"/>
                    <a:ext cx="1739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5886720" y="5757840"/>
                    <a:ext cx="1739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V="1">
                    <a:off x="1889280" y="4636800"/>
                    <a:ext cx="0" cy="1095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V="1">
                    <a:off x="7632720" y="4647960"/>
                    <a:ext cx="0" cy="1095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V="1">
                    <a:off x="1862280" y="2126880"/>
                    <a:ext cx="0" cy="929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flipV="1">
                    <a:off x="7666200" y="2181960"/>
                    <a:ext cx="0" cy="887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Radno mesto, </a:t>
            </a:r>
            <a:br>
              <a:rPr sz="3600"/>
            </a:b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činioci koji ga određuju i </a:t>
            </a:r>
            <a:br>
              <a:rPr sz="3600"/>
            </a:b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njihove međuzavisnost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3941640" y="2336760"/>
            <a:ext cx="1018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16200" y="1747800"/>
            <a:ext cx="2256120" cy="81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72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Tahoma"/>
              </a:rPr>
              <a:t>PREDMET 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(Proizvod ili uslug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5080" y="3057480"/>
            <a:ext cx="2133720" cy="155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72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Tahoma"/>
              </a:rPr>
              <a:t>POS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radni zadat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materij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al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dokumenta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75240" y="5016600"/>
            <a:ext cx="2195280" cy="159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36000" bIns="72000" anchor="t">
            <a:spAutoFit/>
          </a:bodyPr>
          <a:p>
            <a:pPr marL="343080" indent="-343080"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Tahoma"/>
              </a:rPr>
              <a:t>SREDSTVA ZA R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maš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uređa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instalac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energ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62040" y="3078000"/>
            <a:ext cx="2359080" cy="16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72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Tahoma"/>
              </a:rPr>
              <a:t>PROSTOR ZA R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velič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obl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mikrokl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psihosociološki uslo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7960" y="1611360"/>
            <a:ext cx="8310600" cy="510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2011320"/>
            <a:ext cx="9144000" cy="31680"/>
            <a:chOff x="0" y="2011320"/>
            <a:chExt cx="9144000" cy="31680"/>
          </a:xfrm>
        </p:grpSpPr>
        <p:sp>
          <p:nvSpPr>
            <p:cNvPr id="167" name=""/>
            <p:cNvSpPr/>
            <p:nvPr/>
          </p:nvSpPr>
          <p:spPr>
            <a:xfrm>
              <a:off x="0" y="2011320"/>
              <a:ext cx="48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487440" y="2031840"/>
              <a:ext cx="8656560" cy="11160"/>
              <a:chOff x="487440" y="2031840"/>
              <a:chExt cx="8656560" cy="11160"/>
            </a:xfrm>
          </p:grpSpPr>
          <p:sp>
            <p:nvSpPr>
              <p:cNvPr id="169" name=""/>
              <p:cNvSpPr/>
              <p:nvPr/>
            </p:nvSpPr>
            <p:spPr>
              <a:xfrm>
                <a:off x="487440" y="2031840"/>
                <a:ext cx="3128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45320" y="2043000"/>
                <a:ext cx="298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818560" y="2043000"/>
                <a:ext cx="32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0" y="1584360"/>
            <a:ext cx="28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859960" y="1596960"/>
            <a:ext cx="28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49600" y="2765520"/>
            <a:ext cx="2354400" cy="2089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4600" indent="-174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5. </a:t>
            </a:r>
            <a:r>
              <a:rPr b="1" lang="sl-SI" sz="1600" spc="-1" strike="noStrike">
                <a:solidFill>
                  <a:srgbClr val="333399"/>
                </a:solidFill>
                <a:latin typeface="Tahoma"/>
              </a:rPr>
              <a:t>ČOV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zn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sposob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psihofiziološke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Tahoma"/>
              </a:rPr>
              <a:t>psihosociološke osob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9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1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3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77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770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2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4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3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5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77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2" dur="770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4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6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77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3" dur="770" fill="hold"/>
                                        <p:tgtEl>
                                          <p:spTgt spid="1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5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7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7000"/>
                            </p:stCondLst>
                            <p:childTnLst>
                              <p:par>
                                <p:cTn id="6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GOTOVOST RADNIH MES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RM je “gotovo” ako ima sve činioce celovite i sa odgovarajućim svojstvi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ČINILAC RADNOG MES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ne posto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postoj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- nije odgovarajuć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- odgavarajuće 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4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4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5:35:31Z</dcterms:created>
  <dc:creator>Barbara</dc:creator>
  <dc:description/>
  <dc:language>en-US</dc:language>
  <cp:lastModifiedBy>FON</cp:lastModifiedBy>
  <dcterms:modified xsi:type="dcterms:W3CDTF">2009-02-23T08:52:51Z</dcterms:modified>
  <cp:revision>27</cp:revision>
  <dc:subject/>
  <dc:title>prof. dr Milić Radović  OSNOVI ORGANIZACIJE PROIZVODNJE</dc:title>
</cp:coreProperties>
</file>