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8BC-21D8-4BB6-A883-5579FDA4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F50-7D81-4423-B8D5-AE9EECA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EC-A059-422D-994B-5F00C8FA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BF9-9B00-450D-A627-79DE01D5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30C-5B0C-434C-BA7C-B45AD3D2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D41A-E7E4-46D5-95F3-1E6A4127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A73F-535F-44D0-B2D2-F8F8AE1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F056-04EC-49AD-852D-5DA5AE7D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9669-0CD5-441B-AB7E-7187D398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622-6E6E-4AFE-B39A-A1673FA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8241-304F-4FC1-9F5B-58EF2853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4E8-6E68-428A-95F0-06D8CA4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04B-8BD0-414B-965A-766AC60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3B41-BA3D-4F21-B1F8-99875FB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936-5ADD-4AB9-B553-3199B2EF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0E55-1F4D-4485-A043-74FCA720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765-3447-4D68-B8F8-1D153D48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3E7F-C0DB-4D0B-9F42-3CC86727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7A15-9A56-4D6D-BEAD-99842E8D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75D8-9D43-47DD-93A4-40DC8D9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DABC-3FE7-4661-9D18-64E4683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715E-2AE4-4056-885C-3F43D7F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C13-7228-4A87-8205-26AC717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2C75-FEF5-4074-81FC-E19D1187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F552-AFEA-4EAB-B4C6-6436BD6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C1C9-17C6-4D05-97B4-5F4AA27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67C8-E164-44D9-8DF5-35861CA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8552-1C42-49BC-9344-84A8BEE1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4DB3-8874-402F-BBF0-CAC30ECA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9C8F-D5B9-4374-BCDB-A5776F0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940-AEA7-41E1-B3F7-44D545DC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CEE-A483-4B5B-B2A0-C49A6E1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A88-74D0-45F5-A381-3F5C8837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F98-F6E6-4DF7-A70E-67EFAD6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363-6A5B-479F-98C1-53F0FCB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4C0-14DA-412C-A05D-713F66F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3E3-17C2-4104-809B-C519EE31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823-A6DD-4138-807A-58A5D8D970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15A-BECF-420C-BE81-E985D7D28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RE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ĐIVANJE REDOSLEDA POSLO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DŽONSONOV MET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Na izradi četiri dalekovoda angažovane su tri ekipe jednog elektroprivrednog preduzeća. Osnovni podaci o dalekovodima i ekipama su slede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71600" y="1800360"/>
            <a:ext cx="6172200" cy="246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648320"/>
            <a:ext cx="91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Cilj je da se dalekovodi završe za najkraće moguće vr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redosled postavljanja dalekovoda i najkraće vreme završetka sva četiri dalekov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Izračunati koliko će ekipa za montažu čekati da se razvuku kablovi dalekovoda DV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koliko će razvučeni kablovi za dalekovod DV2 čekati na montaž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ronađi optimalan redosled serija S1 - S6, koje se izvršavaju u pogonima P1 i P2 i to tako da  svaka serija počinje da se izvršava u pogonu P1 a završava u pogonu P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Potrebna vremena u mesecima za izvršavanje serija po pogonima su sledeća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drediti trajanje svih zastoja pogona P2 pomo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 izraza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 za zastoj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 najkra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 vreme zavr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tka svih serija. Grafi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i prikazati izvr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je optimalnog redosl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09480" y="4267080"/>
                <a:ext cx="73152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914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Pronađi optimalan redosled serija S1 - S6, koje se izvršavaju u pogonima P1 i P2 i to tako da  svaka serija počinje da se izvršava u pogonu P1 a završava u pogonu P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Potrebna vremena u mesecima za izvršavanje serija po pogonima su sledeća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1146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352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drediti trajanje svih zastoja pogona P2 pomo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 izraza za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zastoj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 najkr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 vreme zavr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tka svih serija. Grafi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i prikazati izvr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je optimalnog redosl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38280" y="5486400"/>
                <a:ext cx="266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znata je proizvodna linija od n = 3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 za obradu serija m = 5 razli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ih delova, sa istim tehnolo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im redosledom. </a:t>
            </a: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trica ukupnih vremena operacija obrade T (za jednu partiju po seriji) ima sledeći oblik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511280" cy="142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0481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Očigledno je da se ovih 5 delova izrađuju iz 3, odnosno 2 operacije i da redni broj mašine odgovara rednom broju operacije. Kao kriterijum optimizacije, na osnovu koga će delovi zauzimati svoja mesta u redosledu, uzeti minimalno vreme izrade svih delo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1148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Tabelarno prikazati vrednost optimalnog rešenja sa sledećim komenta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čekanje svih delova i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simalno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e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uma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a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ksimalno čekanje svih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suma čekanja svih maš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Grafički prikazati rešenje i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del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-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0" y="0"/>
          <a:ext cx="45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45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znata je proizvodna linija od n = 3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 za obradu serija m = 5 razli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ih delova, sa istim tehnolo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im redosledom. </a:t>
            </a: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trica ukupnih vremena operacija obrade T (za jednu partiju po seriji) ima sledeći oblik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511280" cy="142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30481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Očigledno je da se ovih 5 delova izrađuju iz 3, odnosno 2 operacije i da redni broj mašine odgovara rednom broju operacije. Kao kriterijum optimizacije, na osnovu koga će delovi zauzimati svoja mesta u redosledu, uzeti minimalno vreme izrade svih delo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1148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Tabelarno prikazati vrednost optimalnog rešenja sa sledećim komenta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čekanje svih delova i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simalno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e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uma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kanja svih delo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maksimalno čekanje svih maši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suma čekanja svih maš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99"/>
                </a:solidFill>
                <a:latin typeface="Arial"/>
              </a:rPr>
              <a:t>Grafički prikazati rešenje i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m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a del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Arial"/>
              </a:rPr>
              <a:t>Zadatak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6668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U procesu izrad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  <a:ea typeface="Arial"/>
              </a:rPr>
              <a:t>0.15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0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5 i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30 postoje tri faze: grubo izvlačenje, fino izvlačenje i kalajisanje, čiji se redosled ne može menj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Vremena trajanja faza u [čas/t]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38480"/>
            <a:ext cx="914400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Cilj je da se za najkraće moguće vreme proizv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1 tona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2 ton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2 tone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1 tona kalajisane Cu ži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0.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2057400"/>
          <a:ext cx="5943600" cy="1827360"/>
        </p:xfrm>
        <a:graphic>
          <a:graphicData uri="http://schemas.openxmlformats.org/drawingml/2006/table">
            <a:tbl>
              <a:tblPr/>
              <a:tblGrid>
                <a:gridCol w="2133720"/>
                <a:gridCol w="990360"/>
                <a:gridCol w="914400"/>
                <a:gridCol w="990720"/>
                <a:gridCol w="91440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izv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ubo izvlač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o izvlač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alajis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5715000"/>
            <a:ext cx="9144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24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Odrediti optimalni redosled proizvodnje žice i najkraće vreme izrade sve 4 vrste žice u potrebnim količin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Izračunati najmanje ukupne vremenske gubitke uređaja za fino izvlačenje i kalajis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2:58:43Z</dcterms:created>
  <dc:creator>Administrator</dc:creator>
  <dc:description/>
  <dc:language>en-US</dc:language>
  <cp:lastModifiedBy>Barbara</cp:lastModifiedBy>
  <dcterms:modified xsi:type="dcterms:W3CDTF">2009-04-26T11:37:57Z</dcterms:modified>
  <cp:revision>6</cp:revision>
  <dc:subject/>
  <dc:title>ODREĐIVANJE REDOSLEDA POSLOVA</dc:title>
</cp:coreProperties>
</file>