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5E5-199A-4305-B7CF-6D98CE1A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03C-E39E-48C8-95FE-C303DDD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9EC-CE46-4667-B25A-058A3D4D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B8D-B98A-4CAA-A361-BB2CEEDE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2AD-C477-408C-8846-0D234160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DD19-2AEC-440E-BCDD-4CC81BE1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31C-BF53-4C32-B14E-EF440D14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9100-529B-425C-B4F9-8AF12255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A455-CA59-4762-B321-518E8320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A18-F3D3-4C2B-86AA-E6131E16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C7FE-3BB7-492B-975F-607CF9D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BA4-A28E-4720-9ED2-756C6F0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BE08-1AEA-41EC-A170-714B0F25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6886-425A-4054-8561-7609BA6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58B-1BB3-4D74-A086-F630BF3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CF9A-ECD3-407F-9C5C-80288A14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0FC-C014-41B7-A80B-5B6BC912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4DC-58DE-487B-8FD1-D43CA42F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B5C-C14D-46AF-A3A7-44F7B140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BE8-C49D-4041-8D7A-6CF9C5D8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935-AD98-44DE-A101-38BDA43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919-7E07-44C4-8C84-9E53E8E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84-B1D0-4289-8866-60DE164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859-44B3-4347-B6EE-2FCF4C8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CB77-39EB-4C94-A967-BA63ED369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718-7C15-42D3-9232-70D7410CB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30240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NALIZA NAČINA RADA PROIZVODNIH SISTE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960720" y="260280"/>
            <a:ext cx="518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611280" y="2349360"/>
                <a:ext cx="28083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24000" y="3573360"/>
                <a:ext cx="4316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851280" y="2492280"/>
                <a:ext cx="541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500720" y="2133720"/>
                <a:ext cx="41767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971640" y="3429000"/>
            <a:ext cx="7777080" cy="520560"/>
          </a:xfrm>
          <a:prstGeom prst="rect">
            <a:avLst/>
          </a:pr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što je veličina 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 veća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potrebno 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je 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581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Kako n zavisi od broja obilaza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44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4360" y="5734080"/>
            <a:ext cx="64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476360" y="5589720"/>
            <a:ext cx="2878200" cy="825480"/>
            <a:chOff x="1476360" y="5589720"/>
            <a:chExt cx="2878200" cy="825480"/>
          </a:xfrm>
        </p:grpSpPr>
        <p:sp>
          <p:nvSpPr>
            <p:cNvPr id="587" name=""/>
            <p:cNvSpPr/>
            <p:nvPr/>
          </p:nvSpPr>
          <p:spPr>
            <a:xfrm>
              <a:off x="1619280" y="5589720"/>
              <a:ext cx="27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Broj objekata koji se posmatra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76360" y="5661000"/>
              <a:ext cx="2735280" cy="6494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284720" y="573408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716360" y="5734080"/>
            <a:ext cx="2232000" cy="574560"/>
            <a:chOff x="4716360" y="5734080"/>
            <a:chExt cx="2232000" cy="574560"/>
          </a:xfrm>
        </p:grpSpPr>
        <p:sp>
          <p:nvSpPr>
            <p:cNvPr id="591" name=""/>
            <p:cNvSpPr/>
            <p:nvPr/>
          </p:nvSpPr>
          <p:spPr>
            <a:xfrm>
              <a:off x="4716360" y="57340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Broj obilaza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16360" y="5734080"/>
              <a:ext cx="2017800" cy="5745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5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9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OSTUPAK SPROVOĐENJA METODA “TZ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83920" y="2017440"/>
            <a:ext cx="8559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drediti cilj snimanja, cilj primene meto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poznati ljude koji rade u okviru radnih mesta koja će se snimati sa ciljem i načinom sniman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apraviti šematski prikaz objekata koji će se snimi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finisati putanju snimača, odrediti najbolji položaj snimača za svaki objekat koji će se snimati i sve to ucrtati u šematski prik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apraviti formulare za snim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učiti radnike koji će snim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drediti vreme svakog polaska snimača na snimanje pomoću tabele slučajnih broje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9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9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9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vojiti tačnost pokazatelja koje metodom “TZ” treba odredi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zračunati potreban broj zabeležaka i obilaza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ontrolisati da li  se proces koji se snima odvija normalno.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ko to nije slučaj, prekinuti snim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rediti snimljeni materij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zračunati pokazatelje (parametre, vrednosti veličine itd.) i odrediti njihovu tač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zvršiti analizu dobijenih rezult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neti odgovarajuće zaključ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eduzeti potrebne me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OSTUPAK SPROVOĐENJA METODA “TZ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9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9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9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9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NALIZA NAČINA RADA PROIZVODNIH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oizvodni sistem – deo organizacionog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Kreativna komponenta organizacionih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Parametri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za sagledavanje postojećeg načina rada proizvodnog siste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tepen korišćenja kapacit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tepen otvorenosti radnih m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nivo organizovanosti procesa proizvod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07664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8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65300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8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53440" y="515772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</a:t>
            </a:r>
            <a:br>
              <a:rPr sz="4400"/>
            </a:b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TRENUTNIH ZAPAŽ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Z”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 je matematičko-statistički metod koji se zasniva na primeni teorije uzoraka kao dela matematičke statist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snovno svojstvo  - jednostavno izračunavan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3840" indent="-27432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direktna zavisnost između vremena sprovođenja metoda “TZ” i tačnosti rezultata dobijenih na osnovu nje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0560" y="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19280" y="3284640"/>
            <a:ext cx="6049800" cy="441360"/>
            <a:chOff x="1619280" y="3284640"/>
            <a:chExt cx="6049800" cy="441360"/>
          </a:xfrm>
        </p:grpSpPr>
        <p:sp>
          <p:nvSpPr>
            <p:cNvPr id="112" name=""/>
            <p:cNvSpPr/>
            <p:nvPr/>
          </p:nvSpPr>
          <p:spPr>
            <a:xfrm>
              <a:off x="161928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9</a:t>
              </a:r>
              <a:r>
                <a:rPr b="0" lang="sl-SI" sz="1800" spc="-1" strike="noStrike" baseline="30000">
                  <a:solidFill>
                    <a:srgbClr val="333399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20000" y="3284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333399"/>
                  </a:solidFill>
                  <a:latin typeface="Tahoma"/>
                </a:rPr>
                <a:t>17</a:t>
              </a:r>
              <a:r>
                <a:rPr b="0" lang="sl-SI" sz="1800" spc="-1" strike="noStrike" baseline="30000">
                  <a:solidFill>
                    <a:srgbClr val="333399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2492280"/>
            <a:ext cx="122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Važno (skupo) sredstvo za rad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835280" y="2421000"/>
          <a:ext cx="5325840" cy="792000"/>
        </p:xfrm>
        <a:graphic>
          <a:graphicData uri="http://schemas.openxmlformats.org/drawingml/2006/table">
            <a:tbl>
              <a:tblPr/>
              <a:tblGrid>
                <a:gridCol w="664920"/>
                <a:gridCol w="665280"/>
                <a:gridCol w="665280"/>
                <a:gridCol w="666720"/>
                <a:gridCol w="664920"/>
                <a:gridCol w="667080"/>
                <a:gridCol w="664920"/>
                <a:gridCol w="666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835280" y="3860640"/>
          <a:ext cx="5325840" cy="790560"/>
        </p:xfrm>
        <a:graphic>
          <a:graphicData uri="http://schemas.openxmlformats.org/drawingml/2006/table">
            <a:tbl>
              <a:tblPr/>
              <a:tblGrid>
                <a:gridCol w="664920"/>
                <a:gridCol w="664920"/>
                <a:gridCol w="665280"/>
                <a:gridCol w="666720"/>
                <a:gridCol w="665280"/>
                <a:gridCol w="666720"/>
                <a:gridCol w="664920"/>
                <a:gridCol w="667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7667640" y="2565000"/>
            <a:ext cx="430200" cy="576720"/>
            <a:chOff x="7667640" y="2565000"/>
            <a:chExt cx="430200" cy="576720"/>
          </a:xfrm>
        </p:grpSpPr>
        <p:grpSp>
          <p:nvGrpSpPr>
            <p:cNvPr id="118" name=""/>
            <p:cNvGrpSpPr/>
            <p:nvPr/>
          </p:nvGrpSpPr>
          <p:grpSpPr>
            <a:xfrm>
              <a:off x="7667640" y="2638440"/>
              <a:ext cx="430200" cy="503280"/>
              <a:chOff x="7667640" y="2638440"/>
              <a:chExt cx="430200" cy="503280"/>
            </a:xfrm>
          </p:grpSpPr>
          <p:sp>
            <p:nvSpPr>
              <p:cNvPr id="119" name=""/>
              <p:cNvSpPr/>
              <p:nvPr/>
            </p:nvSpPr>
            <p:spPr>
              <a:xfrm>
                <a:off x="7667640" y="2638440"/>
                <a:ext cx="430200" cy="43200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667640" y="2710080"/>
                <a:ext cx="360360" cy="431640"/>
                <a:chOff x="7667640" y="2710080"/>
                <a:chExt cx="360360" cy="431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883640" y="2710080"/>
                  <a:ext cx="0" cy="4316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7640" y="285444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7811640" y="2565000"/>
              <a:ext cx="142920" cy="73080"/>
              <a:chOff x="7811640" y="2565000"/>
              <a:chExt cx="142920" cy="7308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7883640" y="2565000"/>
                <a:ext cx="0" cy="730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811640" y="2565360"/>
                <a:ext cx="1429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1835280" y="2421000"/>
            <a:ext cx="5329080" cy="792000"/>
            <a:chOff x="1835280" y="2421000"/>
            <a:chExt cx="5329080" cy="792000"/>
          </a:xfrm>
        </p:grpSpPr>
        <p:sp>
          <p:nvSpPr>
            <p:cNvPr id="127" name=""/>
            <p:cNvSpPr/>
            <p:nvPr/>
          </p:nvSpPr>
          <p:spPr>
            <a:xfrm>
              <a:off x="1835280" y="2421000"/>
              <a:ext cx="684000" cy="79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00720" y="2421000"/>
              <a:ext cx="684000" cy="79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29480" y="2421000"/>
              <a:ext cx="684000" cy="79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51280" y="2421000"/>
              <a:ext cx="324000" cy="79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5480" y="2421000"/>
              <a:ext cx="684360" cy="792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0360" y="2421000"/>
              <a:ext cx="324000" cy="792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380360" y="4149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55640" y="4797360"/>
            <a:ext cx="2376360" cy="459720"/>
            <a:chOff x="755640" y="4797360"/>
            <a:chExt cx="2376360" cy="459720"/>
          </a:xfrm>
        </p:grpSpPr>
        <p:sp>
          <p:nvSpPr>
            <p:cNvPr id="135" name=""/>
            <p:cNvSpPr/>
            <p:nvPr/>
          </p:nvSpPr>
          <p:spPr>
            <a:xfrm>
              <a:off x="755640" y="4797360"/>
              <a:ext cx="360360" cy="431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280" y="47973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RAD 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640" y="5373720"/>
            <a:ext cx="6624720" cy="459720"/>
            <a:chOff x="755640" y="5373720"/>
            <a:chExt cx="6624720" cy="459720"/>
          </a:xfrm>
        </p:grpSpPr>
        <p:sp>
          <p:nvSpPr>
            <p:cNvPr id="138" name=""/>
            <p:cNvSpPr/>
            <p:nvPr/>
          </p:nvSpPr>
          <p:spPr>
            <a:xfrm>
              <a:off x="755640" y="5375160"/>
              <a:ext cx="36036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6360" y="5373720"/>
              <a:ext cx="59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333399"/>
                  </a:solidFill>
                  <a:latin typeface="Tahoma"/>
                </a:rPr>
                <a:t>ZASTOJI, ČEKANJA, PREKIDI U RAD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43280" y="47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(5 S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3355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(3 S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05480" y="4005360"/>
            <a:ext cx="433080" cy="504720"/>
            <a:chOff x="4605480" y="4005360"/>
            <a:chExt cx="433080" cy="504720"/>
          </a:xfrm>
        </p:grpSpPr>
        <p:sp>
          <p:nvSpPr>
            <p:cNvPr id="143" name=""/>
            <p:cNvSpPr/>
            <p:nvPr/>
          </p:nvSpPr>
          <p:spPr>
            <a:xfrm>
              <a:off x="46054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131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225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291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38560" y="4005360"/>
              <a:ext cx="0" cy="503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94328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072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4005360"/>
            <a:ext cx="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6360" y="4005360"/>
            <a:ext cx="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624720" y="4005360"/>
            <a:ext cx="431640" cy="504720"/>
            <a:chOff x="6624720" y="4005360"/>
            <a:chExt cx="431640" cy="504720"/>
          </a:xfrm>
        </p:grpSpPr>
        <p:sp>
          <p:nvSpPr>
            <p:cNvPr id="154" name=""/>
            <p:cNvSpPr/>
            <p:nvPr/>
          </p:nvSpPr>
          <p:spPr>
            <a:xfrm>
              <a:off x="7056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13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8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4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627280" y="4005360"/>
            <a:ext cx="432000" cy="504720"/>
            <a:chOff x="2627280" y="4005360"/>
            <a:chExt cx="432000" cy="504720"/>
          </a:xfrm>
        </p:grpSpPr>
        <p:sp>
          <p:nvSpPr>
            <p:cNvPr id="159" name=""/>
            <p:cNvSpPr/>
            <p:nvPr/>
          </p:nvSpPr>
          <p:spPr>
            <a:xfrm>
              <a:off x="30592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16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16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72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76720" y="4005360"/>
            <a:ext cx="431640" cy="504720"/>
            <a:chOff x="3276720" y="4005360"/>
            <a:chExt cx="431640" cy="504720"/>
          </a:xfrm>
        </p:grpSpPr>
        <p:sp>
          <p:nvSpPr>
            <p:cNvPr id="164" name=""/>
            <p:cNvSpPr/>
            <p:nvPr/>
          </p:nvSpPr>
          <p:spPr>
            <a:xfrm>
              <a:off x="3708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5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0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957480" y="4005360"/>
            <a:ext cx="432000" cy="504720"/>
            <a:chOff x="3957480" y="4005360"/>
            <a:chExt cx="432000" cy="504720"/>
          </a:xfrm>
        </p:grpSpPr>
        <p:sp>
          <p:nvSpPr>
            <p:cNvPr id="169" name=""/>
            <p:cNvSpPr/>
            <p:nvPr/>
          </p:nvSpPr>
          <p:spPr>
            <a:xfrm>
              <a:off x="43894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465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018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748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73480" y="3860640"/>
            <a:ext cx="2666880" cy="792360"/>
            <a:chOff x="4173480" y="3860640"/>
            <a:chExt cx="2666880" cy="792360"/>
          </a:xfrm>
        </p:grpSpPr>
        <p:sp>
          <p:nvSpPr>
            <p:cNvPr id="174" name=""/>
            <p:cNvSpPr/>
            <p:nvPr/>
          </p:nvSpPr>
          <p:spPr>
            <a:xfrm>
              <a:off x="4173480" y="3860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0360" y="3860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92720" y="4005360"/>
            <a:ext cx="431640" cy="504720"/>
            <a:chOff x="5292720" y="4005360"/>
            <a:chExt cx="431640" cy="504720"/>
          </a:xfrm>
        </p:grpSpPr>
        <p:sp>
          <p:nvSpPr>
            <p:cNvPr id="177" name=""/>
            <p:cNvSpPr/>
            <p:nvPr/>
          </p:nvSpPr>
          <p:spPr>
            <a:xfrm>
              <a:off x="5724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1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36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92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940360" y="4005360"/>
            <a:ext cx="432000" cy="504720"/>
            <a:chOff x="5940360" y="4005360"/>
            <a:chExt cx="432000" cy="504720"/>
          </a:xfrm>
        </p:grpSpPr>
        <p:sp>
          <p:nvSpPr>
            <p:cNvPr id="182" name=""/>
            <p:cNvSpPr/>
            <p:nvPr/>
          </p:nvSpPr>
          <p:spPr>
            <a:xfrm>
              <a:off x="6372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944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472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0360" y="4005360"/>
              <a:ext cx="0" cy="504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68360" y="59500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34 OBILASKA (ZABELEŠ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5877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22  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6381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12   NE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877000"/>
            <a:ext cx="289080" cy="98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5560 h 981000"/>
              <a:gd name="textAreaBottom" fmla="*/ 95544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30560" y="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5280" y="2133720"/>
            <a:ext cx="4715640" cy="2001600"/>
            <a:chOff x="395280" y="2133720"/>
            <a:chExt cx="4715640" cy="2001600"/>
          </a:xfrm>
        </p:grpSpPr>
        <p:sp>
          <p:nvSpPr>
            <p:cNvPr id="193" name=""/>
            <p:cNvSpPr/>
            <p:nvPr/>
          </p:nvSpPr>
          <p:spPr>
            <a:xfrm>
              <a:off x="3828960" y="3114000"/>
              <a:ext cx="469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0800" y="3114000"/>
              <a:ext cx="469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52640" y="3114000"/>
              <a:ext cx="469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15560" y="3114000"/>
              <a:ext cx="4683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0600" y="3114000"/>
              <a:ext cx="468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84280" y="3114000"/>
              <a:ext cx="4683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2440" y="3114000"/>
              <a:ext cx="468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7200" y="3114000"/>
              <a:ext cx="468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7200" y="3114000"/>
              <a:ext cx="3751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200" y="3652200"/>
              <a:ext cx="3751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200" y="3114000"/>
              <a:ext cx="0" cy="538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98760" y="3114000"/>
              <a:ext cx="0" cy="538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8428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060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1556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5264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9080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8960" y="3114000"/>
              <a:ext cx="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95280" y="2133720"/>
              <a:ext cx="4715640" cy="2001600"/>
              <a:chOff x="395280" y="2133720"/>
              <a:chExt cx="4715640" cy="2001600"/>
            </a:xfrm>
          </p:grpSpPr>
          <p:sp>
            <p:nvSpPr>
              <p:cNvPr id="213" name=""/>
              <p:cNvSpPr/>
              <p:nvPr/>
            </p:nvSpPr>
            <p:spPr>
              <a:xfrm>
                <a:off x="3828960" y="2133720"/>
                <a:ext cx="46944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90800" y="2133720"/>
                <a:ext cx="4698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52640" y="2133720"/>
                <a:ext cx="46944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15560" y="2133720"/>
                <a:ext cx="46836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60600" y="2133720"/>
                <a:ext cx="4680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4280" y="2133720"/>
                <a:ext cx="46836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22440" y="2133720"/>
                <a:ext cx="4680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7200" y="2133720"/>
                <a:ext cx="4680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200" y="2133720"/>
                <a:ext cx="3751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7200" y="2673000"/>
                <a:ext cx="3751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7200" y="2133720"/>
                <a:ext cx="0" cy="539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98760" y="2133720"/>
                <a:ext cx="0" cy="539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2244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8428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6060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1556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264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9080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28960" y="2133720"/>
                <a:ext cx="0" cy="53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395280" y="2133720"/>
                <a:ext cx="4715640" cy="2001600"/>
                <a:chOff x="395280" y="2133720"/>
                <a:chExt cx="4715640" cy="200160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395280" y="2721600"/>
                  <a:ext cx="4260600" cy="570600"/>
                  <a:chOff x="395280" y="2721600"/>
                  <a:chExt cx="4260600" cy="5706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395280" y="2772000"/>
                    <a:ext cx="3553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9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199040" y="2721600"/>
                    <a:ext cx="45684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17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547200" y="2133720"/>
                  <a:ext cx="4410720" cy="539280"/>
                  <a:chOff x="547200" y="2133720"/>
                  <a:chExt cx="4410720" cy="53928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655160" y="2232000"/>
                    <a:ext cx="302760" cy="392040"/>
                    <a:chOff x="4655160" y="2232000"/>
                    <a:chExt cx="302760" cy="392040"/>
                  </a:xfrm>
                </p:grpSpPr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4655160" y="2281680"/>
                      <a:ext cx="302760" cy="342360"/>
                      <a:chOff x="4655160" y="2281680"/>
                      <a:chExt cx="302760" cy="34236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4655160" y="2281680"/>
                        <a:ext cx="302760" cy="2941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655160" y="2330280"/>
                        <a:ext cx="253440" cy="293760"/>
                        <a:chOff x="4655160" y="2330280"/>
                        <a:chExt cx="253440" cy="293760"/>
                      </a:xfrm>
                    </p:grpSpPr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4807080" y="2330280"/>
                          <a:ext cx="0" cy="29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4655160" y="2428560"/>
                          <a:ext cx="253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756320" y="2232000"/>
                      <a:ext cx="100440" cy="49680"/>
                      <a:chOff x="4756320" y="2232000"/>
                      <a:chExt cx="100440" cy="4968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 flipV="1">
                        <a:off x="4807080" y="2232000"/>
                        <a:ext cx="0" cy="49680"/>
                      </a:xfrm>
                      <a:prstGeom prst="line">
                        <a:avLst/>
                      </a:prstGeom>
                      <a:ln w="381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H="1">
                        <a:off x="4756320" y="2232000"/>
                        <a:ext cx="100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7200" y="2133720"/>
                    <a:ext cx="3753000" cy="539280"/>
                    <a:chOff x="547200" y="2133720"/>
                    <a:chExt cx="3753000" cy="53928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4720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42424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36024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1967040" y="2133720"/>
                      <a:ext cx="227880" cy="53928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483920" y="2133720"/>
                      <a:ext cx="481680" cy="53928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72320" y="2133720"/>
                      <a:ext cx="227880" cy="53928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3160" y="3114000"/>
                  <a:ext cx="4487760" cy="1021320"/>
                  <a:chOff x="623160" y="3114000"/>
                  <a:chExt cx="4487760" cy="1021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453560" y="3309840"/>
                    <a:ext cx="65736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2400" spc="-1" strike="noStrike">
                        <a:solidFill>
                          <a:srgbClr val="333399"/>
                        </a:solidFill>
                        <a:latin typeface="Tahoma"/>
                      </a:rPr>
                      <a:t>“</a:t>
                    </a:r>
                    <a:r>
                      <a:rPr b="0" lang="sl-SI" sz="2400" spc="-1" strike="noStrike">
                        <a:solidFill>
                          <a:srgbClr val="333399"/>
                        </a:solidFill>
                        <a:latin typeface="Tahoma"/>
                      </a:rPr>
                      <a:t>TZ”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498040" y="3212280"/>
                    <a:ext cx="304920" cy="343440"/>
                    <a:chOff x="2498040" y="3212280"/>
                    <a:chExt cx="304920" cy="34344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498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57400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651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72592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802960" y="3212280"/>
                      <a:ext cx="0" cy="34236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623160" y="3212280"/>
                    <a:ext cx="0" cy="343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8760" y="3212280"/>
                    <a:ext cx="0" cy="343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76160" y="3212280"/>
                    <a:ext cx="0" cy="34236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51040" y="3212280"/>
                    <a:ext cx="0" cy="343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928080" y="3212280"/>
                    <a:ext cx="0" cy="34236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920400" y="3212280"/>
                    <a:ext cx="303840" cy="343440"/>
                    <a:chOff x="3920400" y="3212280"/>
                    <a:chExt cx="303840" cy="34344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2242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1234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02192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392040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1104840" y="3212280"/>
                    <a:ext cx="304200" cy="343440"/>
                    <a:chOff x="1104840" y="3212280"/>
                    <a:chExt cx="304200" cy="34344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09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13082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2063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1048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1562040" y="3212280"/>
                    <a:ext cx="303840" cy="343440"/>
                    <a:chOff x="1562040" y="3212280"/>
                    <a:chExt cx="303840" cy="34344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8658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7650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6635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15620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2041560" y="3212280"/>
                    <a:ext cx="304200" cy="343440"/>
                    <a:chOff x="2041560" y="3212280"/>
                    <a:chExt cx="304200" cy="3434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23457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22449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21430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0415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2193840" y="3114000"/>
                    <a:ext cx="1878120" cy="539280"/>
                    <a:chOff x="2193840" y="3114000"/>
                    <a:chExt cx="1878120" cy="5392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2193840" y="3114000"/>
                      <a:ext cx="0" cy="539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071960" y="3114000"/>
                      <a:ext cx="0" cy="539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82240" y="3212280"/>
                    <a:ext cx="303840" cy="343440"/>
                    <a:chOff x="2982240" y="3212280"/>
                    <a:chExt cx="303840" cy="3434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2860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1852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0837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298224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438360" y="3212280"/>
                    <a:ext cx="304200" cy="343440"/>
                    <a:chOff x="3438360" y="3212280"/>
                    <a:chExt cx="304200" cy="34344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7425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6417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53988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438360" y="3212280"/>
                      <a:ext cx="0" cy="34344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"/>
          <p:cNvGrpSpPr/>
          <p:nvPr/>
        </p:nvGrpSpPr>
        <p:grpSpPr>
          <a:xfrm>
            <a:off x="5148360" y="2060640"/>
            <a:ext cx="4559040" cy="2365200"/>
            <a:chOff x="5148360" y="2060640"/>
            <a:chExt cx="4559040" cy="2365200"/>
          </a:xfrm>
        </p:grpSpPr>
        <p:grpSp>
          <p:nvGrpSpPr>
            <p:cNvPr id="300" name=""/>
            <p:cNvGrpSpPr/>
            <p:nvPr/>
          </p:nvGrpSpPr>
          <p:grpSpPr>
            <a:xfrm>
              <a:off x="5148360" y="2060640"/>
              <a:ext cx="4559040" cy="1246320"/>
              <a:chOff x="5148360" y="2060640"/>
              <a:chExt cx="4559040" cy="12463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148360" y="2060640"/>
                <a:ext cx="4559040" cy="909720"/>
                <a:chOff x="5148360" y="2060640"/>
                <a:chExt cx="4559040" cy="90972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148360" y="2060640"/>
                  <a:ext cx="1635480" cy="389520"/>
                  <a:chOff x="5148360" y="2060640"/>
                  <a:chExt cx="1635480" cy="3895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148360" y="2060640"/>
                    <a:ext cx="247680" cy="389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594040" y="2060640"/>
                    <a:ext cx="11898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600" spc="-1" strike="noStrike">
                        <a:solidFill>
                          <a:srgbClr val="333399"/>
                        </a:solidFill>
                        <a:latin typeface="Tahoma"/>
                      </a:rPr>
                      <a:t>RAD M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5148360" y="2579760"/>
                  <a:ext cx="4559040" cy="390600"/>
                  <a:chOff x="5148360" y="2579760"/>
                  <a:chExt cx="4559040" cy="3906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5148360" y="2580840"/>
                    <a:ext cx="247680" cy="389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643360" y="2579760"/>
                    <a:ext cx="40640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600" spc="-1" strike="noStrike">
                        <a:solidFill>
                          <a:srgbClr val="333399"/>
                        </a:solidFill>
                        <a:latin typeface="Tahoma"/>
                      </a:rPr>
                      <a:t>ZASTOJI, ČEKANJA, PREKIDI U RAD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" name=""/>
                <p:cNvSpPr/>
                <p:nvPr/>
              </p:nvSpPr>
              <p:spPr>
                <a:xfrm>
                  <a:off x="6585480" y="2060640"/>
                  <a:ext cx="113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600" spc="-1" strike="noStrike">
                      <a:solidFill>
                        <a:srgbClr val="333399"/>
                      </a:solidFill>
                      <a:latin typeface="Tahoma"/>
                    </a:rPr>
                    <a:t>(</a:t>
                  </a:r>
                  <a:r>
                    <a:rPr b="1" lang="sl-SI" sz="1600" spc="-1" strike="noStrike">
                      <a:solidFill>
                        <a:srgbClr val="333399"/>
                      </a:solidFill>
                      <a:latin typeface="Tahoma"/>
                    </a:rPr>
                    <a:t>5 SATI</a:t>
                  </a:r>
                  <a:r>
                    <a:rPr b="0" lang="sl-SI" sz="1600" spc="-1" strike="noStrike">
                      <a:solidFill>
                        <a:srgbClr val="333399"/>
                      </a:solidFill>
                      <a:latin typeface="Tahoma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72360" y="2969640"/>
                <a:ext cx="117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333399"/>
                    </a:solidFill>
                    <a:latin typeface="Tahoma"/>
                  </a:rPr>
                  <a:t>(</a:t>
                </a:r>
                <a:r>
                  <a:rPr b="1" lang="sl-SI" sz="1600" spc="-1" strike="noStrike">
                    <a:solidFill>
                      <a:srgbClr val="333399"/>
                    </a:solidFill>
                    <a:latin typeface="Tahoma"/>
                  </a:rPr>
                  <a:t>3 SATA</a:t>
                </a:r>
                <a:r>
                  <a:rPr b="0" lang="sl-SI" sz="1600" spc="-1" strike="noStrike">
                    <a:solidFill>
                      <a:srgbClr val="333399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56360" y="3388680"/>
              <a:ext cx="29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600" spc="-1" strike="noStrike">
                  <a:solidFill>
                    <a:srgbClr val="333399"/>
                  </a:solidFill>
                  <a:latin typeface="Tahoma"/>
                </a:rPr>
                <a:t>34</a:t>
              </a: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 OBILASKA (ZABELEŠK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12000" y="3738600"/>
              <a:ext cx="165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6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   R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12000" y="408852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600" spc="-1" strike="noStrike">
                  <a:solidFill>
                    <a:srgbClr val="333399"/>
                  </a:solidFill>
                  <a:latin typeface="Tahoma"/>
                </a:rPr>
                <a:t>12</a:t>
              </a:r>
              <a:r>
                <a:rPr b="0" lang="sl-SI" sz="1600" spc="-1" strike="noStrike">
                  <a:solidFill>
                    <a:srgbClr val="333399"/>
                  </a:solidFill>
                  <a:latin typeface="Tahoma"/>
                </a:rPr>
                <a:t>   NER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187280" y="45813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3860640"/>
            <a:ext cx="194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</a:rPr>
              <a:t>k 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7840" y="510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11160" y="4365720"/>
                <a:ext cx="5018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REME RA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UKUPNO RASP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VRE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24000" y="6093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826920" y="5229360"/>
                <a:ext cx="2643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⊕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,</m:t>
                    </m:r>
                    <m:r>
                      <m:t xml:space="preserve">5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26920" y="5950080"/>
                <a:ext cx="2870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Z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780000" y="537372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gt;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tačnost t= 100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[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1164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=?    g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76720" y="-360"/>
            <a:ext cx="496728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2050920" y="1052640"/>
            <a:ext cx="5113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omna raspod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71640" y="3068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o definici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19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  +  g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2565360"/>
                <a:ext cx="4032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643280" y="37162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tandardna devijacija binomne raspod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148360" y="4653000"/>
                <a:ext cx="2590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4716360" y="5516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 – ukupan broj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zabelež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0" y="1989000"/>
            <a:ext cx="4570200" cy="4867560"/>
            <a:chOff x="0" y="1989000"/>
            <a:chExt cx="4570200" cy="4867560"/>
          </a:xfrm>
        </p:grpSpPr>
        <p:grpSp>
          <p:nvGrpSpPr>
            <p:cNvPr id="332" name=""/>
            <p:cNvGrpSpPr/>
            <p:nvPr/>
          </p:nvGrpSpPr>
          <p:grpSpPr>
            <a:xfrm>
              <a:off x="164880" y="2024280"/>
              <a:ext cx="4405320" cy="4832280"/>
              <a:chOff x="164880" y="2024280"/>
              <a:chExt cx="4405320" cy="48322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64880" y="2024280"/>
                <a:ext cx="4302720" cy="4194000"/>
                <a:chOff x="164880" y="2024280"/>
                <a:chExt cx="4302720" cy="4194000"/>
              </a:xfrm>
            </p:grpSpPr>
            <p:sp>
              <p:nvSpPr>
                <p:cNvPr id="334" name=""/>
                <p:cNvSpPr/>
                <p:nvPr/>
              </p:nvSpPr>
              <p:spPr>
                <a:xfrm flipV="1">
                  <a:off x="922680" y="3173400"/>
                  <a:ext cx="116280" cy="1519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922680" y="3171960"/>
                  <a:ext cx="253800" cy="2973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922680" y="3171600"/>
                  <a:ext cx="375480" cy="4431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922680" y="3170160"/>
                  <a:ext cx="517680" cy="5889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922680" y="3206520"/>
                  <a:ext cx="618840" cy="6969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922680" y="3250080"/>
                  <a:ext cx="701280" cy="7977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922680" y="3294720"/>
                  <a:ext cx="769680" cy="89820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917640" y="3356280"/>
                  <a:ext cx="857160" cy="98100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922680" y="3441960"/>
                  <a:ext cx="947880" cy="10393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922680" y="3517560"/>
                  <a:ext cx="1016280" cy="11102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922680" y="3611880"/>
                  <a:ext cx="1085040" cy="11581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922680" y="3733920"/>
                  <a:ext cx="1153800" cy="11822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922680" y="3844800"/>
                  <a:ext cx="1198440" cy="121680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922680" y="3981960"/>
                  <a:ext cx="1235880" cy="12225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922680" y="4313160"/>
                  <a:ext cx="1266840" cy="11869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049760" y="4463640"/>
                  <a:ext cx="1137960" cy="103788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164880" y="2024280"/>
                  <a:ext cx="4302720" cy="4194000"/>
                  <a:chOff x="164880" y="2024280"/>
                  <a:chExt cx="4302720" cy="41940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797400" y="6072840"/>
                    <a:ext cx="3544920" cy="10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330440" y="6020640"/>
                    <a:ext cx="1371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8">
                        <a:moveTo>
                          <a:pt x="0" y="0"/>
                        </a:moveTo>
                        <a:lnTo>
                          <a:pt x="160" y="70"/>
                        </a:lnTo>
                        <a:lnTo>
                          <a:pt x="0" y="1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922680" y="2166480"/>
                    <a:ext cx="1800" cy="40518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78400" y="2024280"/>
                    <a:ext cx="90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9">
                        <a:moveTo>
                          <a:pt x="0" y="209"/>
                        </a:moveTo>
                        <a:lnTo>
                          <a:pt x="52" y="0"/>
                        </a:lnTo>
                        <a:lnTo>
                          <a:pt x="106" y="209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43960" y="4337640"/>
                    <a:ext cx="2404800" cy="10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917640" y="5634360"/>
                    <a:ext cx="327240" cy="44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593">
                        <a:moveTo>
                          <a:pt x="379" y="15"/>
                        </a:moveTo>
                        <a:lnTo>
                          <a:pt x="321" y="63"/>
                        </a:lnTo>
                        <a:lnTo>
                          <a:pt x="309" y="72"/>
                        </a:lnTo>
                        <a:lnTo>
                          <a:pt x="306" y="74"/>
                        </a:lnTo>
                        <a:lnTo>
                          <a:pt x="305" y="74"/>
                        </a:lnTo>
                        <a:lnTo>
                          <a:pt x="302" y="72"/>
                        </a:lnTo>
                        <a:lnTo>
                          <a:pt x="301" y="70"/>
                        </a:lnTo>
                        <a:lnTo>
                          <a:pt x="301" y="68"/>
                        </a:lnTo>
                        <a:lnTo>
                          <a:pt x="301" y="65"/>
                        </a:lnTo>
                        <a:lnTo>
                          <a:pt x="301" y="63"/>
                        </a:lnTo>
                        <a:lnTo>
                          <a:pt x="302" y="61"/>
                        </a:lnTo>
                        <a:lnTo>
                          <a:pt x="315" y="49"/>
                        </a:lnTo>
                        <a:lnTo>
                          <a:pt x="372" y="2"/>
                        </a:lnTo>
                        <a:lnTo>
                          <a:pt x="375" y="0"/>
                        </a:lnTo>
                        <a:lnTo>
                          <a:pt x="376" y="0"/>
                        </a:lnTo>
                        <a:lnTo>
                          <a:pt x="379" y="2"/>
                        </a:lnTo>
                        <a:lnTo>
                          <a:pt x="380" y="4"/>
                        </a:lnTo>
                        <a:lnTo>
                          <a:pt x="380" y="6"/>
                        </a:lnTo>
                        <a:lnTo>
                          <a:pt x="380" y="10"/>
                        </a:lnTo>
                        <a:lnTo>
                          <a:pt x="380" y="11"/>
                        </a:lnTo>
                        <a:lnTo>
                          <a:pt x="379" y="15"/>
                        </a:lnTo>
                        <a:lnTo>
                          <a:pt x="379" y="15"/>
                        </a:lnTo>
                        <a:close/>
                        <a:moveTo>
                          <a:pt x="261" y="118"/>
                        </a:moveTo>
                        <a:lnTo>
                          <a:pt x="222" y="155"/>
                        </a:lnTo>
                        <a:lnTo>
                          <a:pt x="196" y="184"/>
                        </a:lnTo>
                        <a:lnTo>
                          <a:pt x="194" y="184"/>
                        </a:lnTo>
                        <a:lnTo>
                          <a:pt x="191" y="184"/>
                        </a:lnTo>
                        <a:lnTo>
                          <a:pt x="190" y="184"/>
                        </a:lnTo>
                        <a:lnTo>
                          <a:pt x="187" y="182"/>
                        </a:lnTo>
                        <a:lnTo>
                          <a:pt x="187" y="180"/>
                        </a:lnTo>
                        <a:lnTo>
                          <a:pt x="186" y="176"/>
                        </a:lnTo>
                        <a:lnTo>
                          <a:pt x="187" y="174"/>
                        </a:lnTo>
                        <a:lnTo>
                          <a:pt x="189" y="171"/>
                        </a:lnTo>
                        <a:lnTo>
                          <a:pt x="215" y="142"/>
                        </a:lnTo>
                        <a:lnTo>
                          <a:pt x="254" y="104"/>
                        </a:lnTo>
                        <a:lnTo>
                          <a:pt x="255" y="102"/>
                        </a:lnTo>
                        <a:lnTo>
                          <a:pt x="258" y="102"/>
                        </a:lnTo>
                        <a:lnTo>
                          <a:pt x="260" y="104"/>
                        </a:lnTo>
                        <a:lnTo>
                          <a:pt x="263" y="106"/>
                        </a:lnTo>
                        <a:lnTo>
                          <a:pt x="263" y="108"/>
                        </a:lnTo>
                        <a:lnTo>
                          <a:pt x="263" y="112"/>
                        </a:lnTo>
                        <a:lnTo>
                          <a:pt x="263" y="114"/>
                        </a:lnTo>
                        <a:lnTo>
                          <a:pt x="261" y="118"/>
                        </a:lnTo>
                        <a:lnTo>
                          <a:pt x="261" y="118"/>
                        </a:lnTo>
                        <a:close/>
                        <a:moveTo>
                          <a:pt x="152" y="233"/>
                        </a:moveTo>
                        <a:lnTo>
                          <a:pt x="142" y="246"/>
                        </a:lnTo>
                        <a:lnTo>
                          <a:pt x="109" y="290"/>
                        </a:lnTo>
                        <a:lnTo>
                          <a:pt x="96" y="311"/>
                        </a:lnTo>
                        <a:lnTo>
                          <a:pt x="94" y="313"/>
                        </a:lnTo>
                        <a:lnTo>
                          <a:pt x="91" y="315"/>
                        </a:lnTo>
                        <a:lnTo>
                          <a:pt x="90" y="313"/>
                        </a:lnTo>
                        <a:lnTo>
                          <a:pt x="87" y="313"/>
                        </a:lnTo>
                        <a:lnTo>
                          <a:pt x="85" y="309"/>
                        </a:lnTo>
                        <a:lnTo>
                          <a:pt x="85" y="307"/>
                        </a:lnTo>
                        <a:lnTo>
                          <a:pt x="85" y="303"/>
                        </a:lnTo>
                        <a:lnTo>
                          <a:pt x="87" y="301"/>
                        </a:lnTo>
                        <a:lnTo>
                          <a:pt x="100" y="281"/>
                        </a:lnTo>
                        <a:lnTo>
                          <a:pt x="133" y="235"/>
                        </a:lnTo>
                        <a:lnTo>
                          <a:pt x="144" y="222"/>
                        </a:lnTo>
                        <a:lnTo>
                          <a:pt x="146" y="220"/>
                        </a:lnTo>
                        <a:lnTo>
                          <a:pt x="148" y="220"/>
                        </a:lnTo>
                        <a:lnTo>
                          <a:pt x="151" y="222"/>
                        </a:lnTo>
                        <a:lnTo>
                          <a:pt x="152" y="224"/>
                        </a:lnTo>
                        <a:lnTo>
                          <a:pt x="154" y="226"/>
                        </a:lnTo>
                        <a:lnTo>
                          <a:pt x="154" y="228"/>
                        </a:lnTo>
                        <a:lnTo>
                          <a:pt x="154" y="231"/>
                        </a:lnTo>
                        <a:lnTo>
                          <a:pt x="152" y="233"/>
                        </a:lnTo>
                        <a:lnTo>
                          <a:pt x="152" y="233"/>
                        </a:lnTo>
                        <a:close/>
                        <a:moveTo>
                          <a:pt x="61" y="372"/>
                        </a:moveTo>
                        <a:lnTo>
                          <a:pt x="58" y="379"/>
                        </a:lnTo>
                        <a:lnTo>
                          <a:pt x="39" y="421"/>
                        </a:lnTo>
                        <a:lnTo>
                          <a:pt x="24" y="462"/>
                        </a:lnTo>
                        <a:lnTo>
                          <a:pt x="24" y="466"/>
                        </a:lnTo>
                        <a:lnTo>
                          <a:pt x="23" y="468"/>
                        </a:lnTo>
                        <a:lnTo>
                          <a:pt x="21" y="470"/>
                        </a:lnTo>
                        <a:lnTo>
                          <a:pt x="19" y="472"/>
                        </a:lnTo>
                        <a:lnTo>
                          <a:pt x="17" y="472"/>
                        </a:lnTo>
                        <a:lnTo>
                          <a:pt x="14" y="470"/>
                        </a:lnTo>
                        <a:lnTo>
                          <a:pt x="13" y="468"/>
                        </a:lnTo>
                        <a:lnTo>
                          <a:pt x="13" y="464"/>
                        </a:lnTo>
                        <a:lnTo>
                          <a:pt x="13" y="462"/>
                        </a:lnTo>
                        <a:lnTo>
                          <a:pt x="14" y="457"/>
                        </a:lnTo>
                        <a:lnTo>
                          <a:pt x="29" y="413"/>
                        </a:lnTo>
                        <a:lnTo>
                          <a:pt x="48" y="370"/>
                        </a:lnTo>
                        <a:lnTo>
                          <a:pt x="50" y="364"/>
                        </a:lnTo>
                        <a:lnTo>
                          <a:pt x="52" y="362"/>
                        </a:lnTo>
                        <a:lnTo>
                          <a:pt x="55" y="360"/>
                        </a:lnTo>
                        <a:lnTo>
                          <a:pt x="56" y="360"/>
                        </a:lnTo>
                        <a:lnTo>
                          <a:pt x="59" y="362"/>
                        </a:lnTo>
                        <a:lnTo>
                          <a:pt x="61" y="364"/>
                        </a:lnTo>
                        <a:lnTo>
                          <a:pt x="61" y="366"/>
                        </a:lnTo>
                        <a:lnTo>
                          <a:pt x="61" y="370"/>
                        </a:lnTo>
                        <a:lnTo>
                          <a:pt x="61" y="372"/>
                        </a:lnTo>
                        <a:lnTo>
                          <a:pt x="61" y="372"/>
                        </a:lnTo>
                        <a:close/>
                        <a:moveTo>
                          <a:pt x="13" y="540"/>
                        </a:moveTo>
                        <a:lnTo>
                          <a:pt x="11" y="546"/>
                        </a:lnTo>
                        <a:lnTo>
                          <a:pt x="11" y="544"/>
                        </a:lnTo>
                        <a:lnTo>
                          <a:pt x="11" y="586"/>
                        </a:lnTo>
                        <a:lnTo>
                          <a:pt x="11" y="588"/>
                        </a:lnTo>
                        <a:lnTo>
                          <a:pt x="10" y="591"/>
                        </a:lnTo>
                        <a:lnTo>
                          <a:pt x="8" y="593"/>
                        </a:lnTo>
                        <a:lnTo>
                          <a:pt x="5" y="593"/>
                        </a:lnTo>
                        <a:lnTo>
                          <a:pt x="4" y="593"/>
                        </a:lnTo>
                        <a:lnTo>
                          <a:pt x="1" y="591"/>
                        </a:lnTo>
                        <a:lnTo>
                          <a:pt x="1" y="588"/>
                        </a:lnTo>
                        <a:lnTo>
                          <a:pt x="0" y="586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0" y="538"/>
                        </a:lnTo>
                        <a:lnTo>
                          <a:pt x="1" y="534"/>
                        </a:lnTo>
                        <a:lnTo>
                          <a:pt x="3" y="533"/>
                        </a:lnTo>
                        <a:lnTo>
                          <a:pt x="4" y="531"/>
                        </a:lnTo>
                        <a:lnTo>
                          <a:pt x="7" y="531"/>
                        </a:lnTo>
                        <a:lnTo>
                          <a:pt x="10" y="533"/>
                        </a:lnTo>
                        <a:lnTo>
                          <a:pt x="11" y="534"/>
                        </a:lnTo>
                        <a:lnTo>
                          <a:pt x="11" y="536"/>
                        </a:lnTo>
                        <a:lnTo>
                          <a:pt x="13" y="540"/>
                        </a:lnTo>
                        <a:lnTo>
                          <a:pt x="13" y="5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239840" y="4337640"/>
                    <a:ext cx="949320" cy="13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1732">
                        <a:moveTo>
                          <a:pt x="1107" y="0"/>
                        </a:moveTo>
                        <a:lnTo>
                          <a:pt x="1109" y="96"/>
                        </a:lnTo>
                        <a:lnTo>
                          <a:pt x="1104" y="191"/>
                        </a:lnTo>
                        <a:lnTo>
                          <a:pt x="1096" y="286"/>
                        </a:lnTo>
                        <a:lnTo>
                          <a:pt x="1081" y="377"/>
                        </a:lnTo>
                        <a:lnTo>
                          <a:pt x="1064" y="468"/>
                        </a:lnTo>
                        <a:lnTo>
                          <a:pt x="1039" y="555"/>
                        </a:lnTo>
                        <a:lnTo>
                          <a:pt x="1011" y="642"/>
                        </a:lnTo>
                        <a:lnTo>
                          <a:pt x="978" y="727"/>
                        </a:lnTo>
                        <a:lnTo>
                          <a:pt x="940" y="811"/>
                        </a:lnTo>
                        <a:lnTo>
                          <a:pt x="897" y="892"/>
                        </a:lnTo>
                        <a:lnTo>
                          <a:pt x="849" y="972"/>
                        </a:lnTo>
                        <a:lnTo>
                          <a:pt x="796" y="1050"/>
                        </a:lnTo>
                        <a:lnTo>
                          <a:pt x="738" y="1125"/>
                        </a:lnTo>
                        <a:lnTo>
                          <a:pt x="676" y="1199"/>
                        </a:lnTo>
                        <a:lnTo>
                          <a:pt x="609" y="1273"/>
                        </a:lnTo>
                        <a:lnTo>
                          <a:pt x="536" y="1343"/>
                        </a:lnTo>
                        <a:lnTo>
                          <a:pt x="459" y="1413"/>
                        </a:lnTo>
                        <a:lnTo>
                          <a:pt x="378" y="1480"/>
                        </a:lnTo>
                        <a:lnTo>
                          <a:pt x="290" y="1546"/>
                        </a:lnTo>
                        <a:lnTo>
                          <a:pt x="199" y="1609"/>
                        </a:lnTo>
                        <a:lnTo>
                          <a:pt x="101" y="1671"/>
                        </a:lnTo>
                        <a:lnTo>
                          <a:pt x="0" y="1732"/>
                        </a:lnTo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491840" y="3180960"/>
                    <a:ext cx="697680" cy="11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1541">
                        <a:moveTo>
                          <a:pt x="812" y="1541"/>
                        </a:moveTo>
                        <a:lnTo>
                          <a:pt x="814" y="1433"/>
                        </a:lnTo>
                        <a:lnTo>
                          <a:pt x="809" y="1330"/>
                        </a:lnTo>
                        <a:lnTo>
                          <a:pt x="802" y="1230"/>
                        </a:lnTo>
                        <a:lnTo>
                          <a:pt x="789" y="1131"/>
                        </a:lnTo>
                        <a:lnTo>
                          <a:pt x="772" y="1039"/>
                        </a:lnTo>
                        <a:lnTo>
                          <a:pt x="751" y="948"/>
                        </a:lnTo>
                        <a:lnTo>
                          <a:pt x="725" y="859"/>
                        </a:lnTo>
                        <a:lnTo>
                          <a:pt x="696" y="773"/>
                        </a:lnTo>
                        <a:lnTo>
                          <a:pt x="661" y="692"/>
                        </a:lnTo>
                        <a:lnTo>
                          <a:pt x="623" y="614"/>
                        </a:lnTo>
                        <a:lnTo>
                          <a:pt x="581" y="538"/>
                        </a:lnTo>
                        <a:lnTo>
                          <a:pt x="533" y="466"/>
                        </a:lnTo>
                        <a:lnTo>
                          <a:pt x="482" y="396"/>
                        </a:lnTo>
                        <a:lnTo>
                          <a:pt x="426" y="330"/>
                        </a:lnTo>
                        <a:lnTo>
                          <a:pt x="366" y="267"/>
                        </a:lnTo>
                        <a:lnTo>
                          <a:pt x="302" y="209"/>
                        </a:lnTo>
                        <a:lnTo>
                          <a:pt x="232" y="152"/>
                        </a:lnTo>
                        <a:lnTo>
                          <a:pt x="160" y="97"/>
                        </a:lnTo>
                        <a:lnTo>
                          <a:pt x="83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917640" y="2596320"/>
                    <a:ext cx="664920" cy="632160"/>
                  </a:xfrm>
                  <a:custGeom>
                    <a:avLst/>
                    <a:gdLst/>
                    <a:ahLst/>
                    <a:rect l="l" t="t" r="r" b="b"/>
                    <a:pathLst>
                      <a:path w="774" h="844">
                        <a:moveTo>
                          <a:pt x="766" y="844"/>
                        </a:moveTo>
                        <a:lnTo>
                          <a:pt x="690" y="800"/>
                        </a:lnTo>
                        <a:lnTo>
                          <a:pt x="689" y="798"/>
                        </a:lnTo>
                        <a:lnTo>
                          <a:pt x="687" y="796"/>
                        </a:lnTo>
                        <a:lnTo>
                          <a:pt x="687" y="792"/>
                        </a:lnTo>
                        <a:lnTo>
                          <a:pt x="687" y="790"/>
                        </a:lnTo>
                        <a:lnTo>
                          <a:pt x="689" y="789"/>
                        </a:lnTo>
                        <a:lnTo>
                          <a:pt x="690" y="787"/>
                        </a:lnTo>
                        <a:lnTo>
                          <a:pt x="693" y="785"/>
                        </a:lnTo>
                        <a:lnTo>
                          <a:pt x="696" y="787"/>
                        </a:lnTo>
                        <a:lnTo>
                          <a:pt x="771" y="830"/>
                        </a:lnTo>
                        <a:lnTo>
                          <a:pt x="773" y="830"/>
                        </a:lnTo>
                        <a:lnTo>
                          <a:pt x="774" y="834"/>
                        </a:lnTo>
                        <a:lnTo>
                          <a:pt x="774" y="836"/>
                        </a:lnTo>
                        <a:lnTo>
                          <a:pt x="774" y="840"/>
                        </a:lnTo>
                        <a:lnTo>
                          <a:pt x="773" y="842"/>
                        </a:lnTo>
                        <a:lnTo>
                          <a:pt x="771" y="844"/>
                        </a:lnTo>
                        <a:lnTo>
                          <a:pt x="769" y="844"/>
                        </a:lnTo>
                        <a:lnTo>
                          <a:pt x="766" y="844"/>
                        </a:lnTo>
                        <a:lnTo>
                          <a:pt x="766" y="844"/>
                        </a:lnTo>
                        <a:close/>
                        <a:moveTo>
                          <a:pt x="636" y="768"/>
                        </a:moveTo>
                        <a:lnTo>
                          <a:pt x="603" y="747"/>
                        </a:lnTo>
                        <a:lnTo>
                          <a:pt x="562" y="720"/>
                        </a:lnTo>
                        <a:lnTo>
                          <a:pt x="561" y="718"/>
                        </a:lnTo>
                        <a:lnTo>
                          <a:pt x="559" y="717"/>
                        </a:lnTo>
                        <a:lnTo>
                          <a:pt x="559" y="713"/>
                        </a:lnTo>
                        <a:lnTo>
                          <a:pt x="559" y="711"/>
                        </a:lnTo>
                        <a:lnTo>
                          <a:pt x="561" y="707"/>
                        </a:lnTo>
                        <a:lnTo>
                          <a:pt x="564" y="707"/>
                        </a:lnTo>
                        <a:lnTo>
                          <a:pt x="565" y="705"/>
                        </a:lnTo>
                        <a:lnTo>
                          <a:pt x="568" y="707"/>
                        </a:lnTo>
                        <a:lnTo>
                          <a:pt x="609" y="734"/>
                        </a:lnTo>
                        <a:lnTo>
                          <a:pt x="642" y="754"/>
                        </a:lnTo>
                        <a:lnTo>
                          <a:pt x="644" y="756"/>
                        </a:lnTo>
                        <a:lnTo>
                          <a:pt x="645" y="758"/>
                        </a:lnTo>
                        <a:lnTo>
                          <a:pt x="645" y="762"/>
                        </a:lnTo>
                        <a:lnTo>
                          <a:pt x="645" y="764"/>
                        </a:lnTo>
                        <a:lnTo>
                          <a:pt x="644" y="766"/>
                        </a:lnTo>
                        <a:lnTo>
                          <a:pt x="641" y="768"/>
                        </a:lnTo>
                        <a:lnTo>
                          <a:pt x="639" y="768"/>
                        </a:lnTo>
                        <a:lnTo>
                          <a:pt x="636" y="768"/>
                        </a:lnTo>
                        <a:lnTo>
                          <a:pt x="636" y="768"/>
                        </a:lnTo>
                        <a:close/>
                        <a:moveTo>
                          <a:pt x="510" y="684"/>
                        </a:moveTo>
                        <a:lnTo>
                          <a:pt x="459" y="648"/>
                        </a:lnTo>
                        <a:lnTo>
                          <a:pt x="437" y="633"/>
                        </a:lnTo>
                        <a:lnTo>
                          <a:pt x="436" y="629"/>
                        </a:lnTo>
                        <a:lnTo>
                          <a:pt x="434" y="627"/>
                        </a:lnTo>
                        <a:lnTo>
                          <a:pt x="434" y="624"/>
                        </a:lnTo>
                        <a:lnTo>
                          <a:pt x="436" y="622"/>
                        </a:lnTo>
                        <a:lnTo>
                          <a:pt x="437" y="620"/>
                        </a:lnTo>
                        <a:lnTo>
                          <a:pt x="439" y="618"/>
                        </a:lnTo>
                        <a:lnTo>
                          <a:pt x="442" y="618"/>
                        </a:lnTo>
                        <a:lnTo>
                          <a:pt x="443" y="620"/>
                        </a:lnTo>
                        <a:lnTo>
                          <a:pt x="465" y="635"/>
                        </a:lnTo>
                        <a:lnTo>
                          <a:pt x="516" y="671"/>
                        </a:lnTo>
                        <a:lnTo>
                          <a:pt x="517" y="673"/>
                        </a:lnTo>
                        <a:lnTo>
                          <a:pt x="519" y="677"/>
                        </a:lnTo>
                        <a:lnTo>
                          <a:pt x="519" y="679"/>
                        </a:lnTo>
                        <a:lnTo>
                          <a:pt x="517" y="682"/>
                        </a:lnTo>
                        <a:lnTo>
                          <a:pt x="516" y="684"/>
                        </a:lnTo>
                        <a:lnTo>
                          <a:pt x="514" y="686"/>
                        </a:lnTo>
                        <a:lnTo>
                          <a:pt x="511" y="686"/>
                        </a:lnTo>
                        <a:lnTo>
                          <a:pt x="510" y="684"/>
                        </a:lnTo>
                        <a:lnTo>
                          <a:pt x="510" y="684"/>
                        </a:lnTo>
                        <a:close/>
                        <a:moveTo>
                          <a:pt x="386" y="593"/>
                        </a:moveTo>
                        <a:lnTo>
                          <a:pt x="334" y="548"/>
                        </a:lnTo>
                        <a:lnTo>
                          <a:pt x="318" y="533"/>
                        </a:lnTo>
                        <a:lnTo>
                          <a:pt x="315" y="531"/>
                        </a:lnTo>
                        <a:lnTo>
                          <a:pt x="315" y="527"/>
                        </a:lnTo>
                        <a:lnTo>
                          <a:pt x="315" y="525"/>
                        </a:lnTo>
                        <a:lnTo>
                          <a:pt x="317" y="521"/>
                        </a:lnTo>
                        <a:lnTo>
                          <a:pt x="318" y="519"/>
                        </a:lnTo>
                        <a:lnTo>
                          <a:pt x="319" y="519"/>
                        </a:lnTo>
                        <a:lnTo>
                          <a:pt x="322" y="519"/>
                        </a:lnTo>
                        <a:lnTo>
                          <a:pt x="324" y="519"/>
                        </a:lnTo>
                        <a:lnTo>
                          <a:pt x="340" y="535"/>
                        </a:lnTo>
                        <a:lnTo>
                          <a:pt x="394" y="580"/>
                        </a:lnTo>
                        <a:lnTo>
                          <a:pt x="395" y="582"/>
                        </a:lnTo>
                        <a:lnTo>
                          <a:pt x="395" y="584"/>
                        </a:lnTo>
                        <a:lnTo>
                          <a:pt x="395" y="588"/>
                        </a:lnTo>
                        <a:lnTo>
                          <a:pt x="395" y="590"/>
                        </a:lnTo>
                        <a:lnTo>
                          <a:pt x="394" y="593"/>
                        </a:lnTo>
                        <a:lnTo>
                          <a:pt x="391" y="593"/>
                        </a:lnTo>
                        <a:lnTo>
                          <a:pt x="389" y="593"/>
                        </a:lnTo>
                        <a:lnTo>
                          <a:pt x="386" y="593"/>
                        </a:lnTo>
                        <a:lnTo>
                          <a:pt x="386" y="593"/>
                        </a:lnTo>
                        <a:close/>
                        <a:moveTo>
                          <a:pt x="270" y="487"/>
                        </a:moveTo>
                        <a:lnTo>
                          <a:pt x="228" y="446"/>
                        </a:lnTo>
                        <a:lnTo>
                          <a:pt x="205" y="419"/>
                        </a:lnTo>
                        <a:lnTo>
                          <a:pt x="203" y="415"/>
                        </a:lnTo>
                        <a:lnTo>
                          <a:pt x="203" y="413"/>
                        </a:lnTo>
                        <a:lnTo>
                          <a:pt x="203" y="410"/>
                        </a:lnTo>
                        <a:lnTo>
                          <a:pt x="205" y="408"/>
                        </a:lnTo>
                        <a:lnTo>
                          <a:pt x="206" y="406"/>
                        </a:lnTo>
                        <a:lnTo>
                          <a:pt x="209" y="406"/>
                        </a:lnTo>
                        <a:lnTo>
                          <a:pt x="210" y="406"/>
                        </a:lnTo>
                        <a:lnTo>
                          <a:pt x="213" y="408"/>
                        </a:lnTo>
                        <a:lnTo>
                          <a:pt x="237" y="434"/>
                        </a:lnTo>
                        <a:lnTo>
                          <a:pt x="277" y="476"/>
                        </a:lnTo>
                        <a:lnTo>
                          <a:pt x="279" y="478"/>
                        </a:lnTo>
                        <a:lnTo>
                          <a:pt x="279" y="480"/>
                        </a:lnTo>
                        <a:lnTo>
                          <a:pt x="279" y="483"/>
                        </a:lnTo>
                        <a:lnTo>
                          <a:pt x="277" y="485"/>
                        </a:lnTo>
                        <a:lnTo>
                          <a:pt x="276" y="487"/>
                        </a:lnTo>
                        <a:lnTo>
                          <a:pt x="274" y="489"/>
                        </a:lnTo>
                        <a:lnTo>
                          <a:pt x="271" y="489"/>
                        </a:lnTo>
                        <a:lnTo>
                          <a:pt x="270" y="487"/>
                        </a:lnTo>
                        <a:lnTo>
                          <a:pt x="270" y="487"/>
                        </a:lnTo>
                        <a:close/>
                        <a:moveTo>
                          <a:pt x="162" y="366"/>
                        </a:moveTo>
                        <a:lnTo>
                          <a:pt x="142" y="339"/>
                        </a:lnTo>
                        <a:lnTo>
                          <a:pt x="107" y="286"/>
                        </a:lnTo>
                        <a:lnTo>
                          <a:pt x="106" y="284"/>
                        </a:lnTo>
                        <a:lnTo>
                          <a:pt x="104" y="283"/>
                        </a:lnTo>
                        <a:lnTo>
                          <a:pt x="104" y="279"/>
                        </a:lnTo>
                        <a:lnTo>
                          <a:pt x="106" y="277"/>
                        </a:lnTo>
                        <a:lnTo>
                          <a:pt x="107" y="275"/>
                        </a:lnTo>
                        <a:lnTo>
                          <a:pt x="109" y="273"/>
                        </a:lnTo>
                        <a:lnTo>
                          <a:pt x="112" y="273"/>
                        </a:lnTo>
                        <a:lnTo>
                          <a:pt x="113" y="273"/>
                        </a:lnTo>
                        <a:lnTo>
                          <a:pt x="114" y="277"/>
                        </a:lnTo>
                        <a:lnTo>
                          <a:pt x="116" y="277"/>
                        </a:lnTo>
                        <a:lnTo>
                          <a:pt x="151" y="330"/>
                        </a:lnTo>
                        <a:lnTo>
                          <a:pt x="170" y="355"/>
                        </a:lnTo>
                        <a:lnTo>
                          <a:pt x="171" y="357"/>
                        </a:lnTo>
                        <a:lnTo>
                          <a:pt x="173" y="360"/>
                        </a:lnTo>
                        <a:lnTo>
                          <a:pt x="171" y="362"/>
                        </a:lnTo>
                        <a:lnTo>
                          <a:pt x="170" y="366"/>
                        </a:lnTo>
                        <a:lnTo>
                          <a:pt x="168" y="368"/>
                        </a:lnTo>
                        <a:lnTo>
                          <a:pt x="165" y="368"/>
                        </a:lnTo>
                        <a:lnTo>
                          <a:pt x="164" y="368"/>
                        </a:lnTo>
                        <a:lnTo>
                          <a:pt x="162" y="366"/>
                        </a:lnTo>
                        <a:lnTo>
                          <a:pt x="162" y="366"/>
                        </a:lnTo>
                        <a:close/>
                        <a:moveTo>
                          <a:pt x="71" y="222"/>
                        </a:moveTo>
                        <a:lnTo>
                          <a:pt x="49" y="178"/>
                        </a:lnTo>
                        <a:lnTo>
                          <a:pt x="30" y="127"/>
                        </a:lnTo>
                        <a:lnTo>
                          <a:pt x="29" y="125"/>
                        </a:lnTo>
                        <a:lnTo>
                          <a:pt x="30" y="122"/>
                        </a:lnTo>
                        <a:lnTo>
                          <a:pt x="30" y="120"/>
                        </a:lnTo>
                        <a:lnTo>
                          <a:pt x="33" y="118"/>
                        </a:lnTo>
                        <a:lnTo>
                          <a:pt x="34" y="116"/>
                        </a:lnTo>
                        <a:lnTo>
                          <a:pt x="37" y="118"/>
                        </a:lnTo>
                        <a:lnTo>
                          <a:pt x="39" y="118"/>
                        </a:lnTo>
                        <a:lnTo>
                          <a:pt x="40" y="122"/>
                        </a:lnTo>
                        <a:lnTo>
                          <a:pt x="59" y="171"/>
                        </a:lnTo>
                        <a:lnTo>
                          <a:pt x="81" y="214"/>
                        </a:lnTo>
                        <a:lnTo>
                          <a:pt x="81" y="216"/>
                        </a:lnTo>
                        <a:lnTo>
                          <a:pt x="81" y="220"/>
                        </a:lnTo>
                        <a:lnTo>
                          <a:pt x="81" y="222"/>
                        </a:lnTo>
                        <a:lnTo>
                          <a:pt x="78" y="226"/>
                        </a:lnTo>
                        <a:lnTo>
                          <a:pt x="77" y="226"/>
                        </a:lnTo>
                        <a:lnTo>
                          <a:pt x="74" y="226"/>
                        </a:lnTo>
                        <a:lnTo>
                          <a:pt x="72" y="224"/>
                        </a:lnTo>
                        <a:lnTo>
                          <a:pt x="71" y="222"/>
                        </a:lnTo>
                        <a:lnTo>
                          <a:pt x="71" y="222"/>
                        </a:lnTo>
                        <a:close/>
                        <a:moveTo>
                          <a:pt x="8" y="55"/>
                        </a:move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20" y="50"/>
                        </a:lnTo>
                        <a:lnTo>
                          <a:pt x="20" y="53"/>
                        </a:lnTo>
                        <a:lnTo>
                          <a:pt x="20" y="57"/>
                        </a:lnTo>
                        <a:lnTo>
                          <a:pt x="19" y="59"/>
                        </a:lnTo>
                        <a:lnTo>
                          <a:pt x="16" y="59"/>
                        </a:lnTo>
                        <a:lnTo>
                          <a:pt x="14" y="59"/>
                        </a:lnTo>
                        <a:lnTo>
                          <a:pt x="11" y="59"/>
                        </a:lnTo>
                        <a:lnTo>
                          <a:pt x="10" y="57"/>
                        </a:lnTo>
                        <a:lnTo>
                          <a:pt x="8" y="55"/>
                        </a:lnTo>
                        <a:lnTo>
                          <a:pt x="8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822040" y="4480560"/>
                    <a:ext cx="1800" cy="144936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777760" y="4337640"/>
                    <a:ext cx="90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6">
                        <a:moveTo>
                          <a:pt x="0" y="206"/>
                        </a:moveTo>
                        <a:lnTo>
                          <a:pt x="53" y="0"/>
                        </a:lnTo>
                        <a:lnTo>
                          <a:pt x="107" y="206"/>
                        </a:lnTo>
                        <a:lnTo>
                          <a:pt x="0" y="206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777760" y="5916600"/>
                    <a:ext cx="903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9">
                        <a:moveTo>
                          <a:pt x="107" y="0"/>
                        </a:moveTo>
                        <a:lnTo>
                          <a:pt x="53" y="209"/>
                        </a:lnTo>
                        <a:lnTo>
                          <a:pt x="0" y="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>
                    <a:off x="165240" y="3170160"/>
                    <a:ext cx="1306080" cy="10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flipV="1">
                    <a:off x="164880" y="5495760"/>
                    <a:ext cx="1312920" cy="10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670680" y="3320640"/>
                    <a:ext cx="5040" cy="874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31440" y="3176280"/>
                    <a:ext cx="903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9">
                        <a:moveTo>
                          <a:pt x="0" y="209"/>
                        </a:moveTo>
                        <a:lnTo>
                          <a:pt x="54" y="0"/>
                        </a:lnTo>
                        <a:lnTo>
                          <a:pt x="106" y="209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26040" y="4181400"/>
                    <a:ext cx="9072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9">
                        <a:moveTo>
                          <a:pt x="106" y="0"/>
                        </a:moveTo>
                        <a:lnTo>
                          <a:pt x="52" y="209"/>
                        </a:lnTo>
                        <a:lnTo>
                          <a:pt x="0" y="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656640" y="4480560"/>
                    <a:ext cx="11880" cy="8758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22800" y="4337640"/>
                    <a:ext cx="9036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8">
                        <a:moveTo>
                          <a:pt x="0" y="206"/>
                        </a:moveTo>
                        <a:lnTo>
                          <a:pt x="55" y="0"/>
                        </a:lnTo>
                        <a:lnTo>
                          <a:pt x="106" y="208"/>
                        </a:lnTo>
                        <a:lnTo>
                          <a:pt x="0" y="206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10920" y="5341320"/>
                    <a:ext cx="907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10">
                        <a:moveTo>
                          <a:pt x="106" y="2"/>
                        </a:moveTo>
                        <a:lnTo>
                          <a:pt x="50" y="210"/>
                        </a:lnTo>
                        <a:lnTo>
                          <a:pt x="0" y="0"/>
                        </a:lnTo>
                        <a:lnTo>
                          <a:pt x="106" y="2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83680" y="3323520"/>
                    <a:ext cx="6480" cy="202968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36880" y="3179520"/>
                    <a:ext cx="928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09">
                        <a:moveTo>
                          <a:pt x="0" y="209"/>
                        </a:moveTo>
                        <a:lnTo>
                          <a:pt x="54" y="0"/>
                        </a:lnTo>
                        <a:lnTo>
                          <a:pt x="108" y="209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44080" y="5338440"/>
                    <a:ext cx="907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08">
                        <a:moveTo>
                          <a:pt x="106" y="0"/>
                        </a:moveTo>
                        <a:lnTo>
                          <a:pt x="54" y="208"/>
                        </a:lnTo>
                        <a:lnTo>
                          <a:pt x="0" y="2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>
                    <a:off x="922680" y="4142520"/>
                    <a:ext cx="1261440" cy="1207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>
                    <a:off x="1176480" y="4628880"/>
                    <a:ext cx="988560" cy="8744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flipV="1">
                  <a:off x="1308600" y="4842360"/>
                  <a:ext cx="789840" cy="66096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74400" y="4585320"/>
                <a:ext cx="4195800" cy="2271240"/>
                <a:chOff x="374400" y="4585320"/>
                <a:chExt cx="4195800" cy="227124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785880" y="5136840"/>
                  <a:ext cx="3784320" cy="1719720"/>
                  <a:chOff x="785880" y="5136840"/>
                  <a:chExt cx="3784320" cy="17197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2523960" y="5133240"/>
                    <a:ext cx="256680" cy="26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P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85880" y="6083280"/>
                    <a:ext cx="10944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336120" y="6099480"/>
                    <a:ext cx="1234080" cy="75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Raspodel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(u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č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estanost) veli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č</a:t>
                    </a:r>
                    <a:r>
                      <a:rPr b="1" lang="sr-Latn-CS" sz="1600" spc="-1" strike="noStrike">
                        <a:solidFill>
                          <a:srgbClr val="333399"/>
                        </a:solidFill>
                        <a:latin typeface="Times New Roman"/>
                        <a:ea typeface="SimSun"/>
                      </a:rPr>
                      <a:t>ine P[1]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rot="16200000">
                  <a:off x="290160" y="4669560"/>
                  <a:ext cx="432360" cy="26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2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+</a:t>
                  </a: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2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0" y="1989000"/>
              <a:ext cx="887760" cy="2916360"/>
              <a:chOff x="0" y="1989000"/>
              <a:chExt cx="887760" cy="29163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53800" y="1989000"/>
                <a:ext cx="633960" cy="789480"/>
                <a:chOff x="253800" y="1989000"/>
                <a:chExt cx="633960" cy="789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53800" y="1989000"/>
                  <a:ext cx="633960" cy="23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P [%]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07240" y="2541960"/>
                  <a:ext cx="338040" cy="23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0" y="3648600"/>
                <a:ext cx="651600" cy="1256760"/>
                <a:chOff x="0" y="3648600"/>
                <a:chExt cx="651600" cy="1256760"/>
              </a:xfrm>
            </p:grpSpPr>
            <p:sp>
              <p:nvSpPr>
                <p:cNvPr id="388" name=""/>
                <p:cNvSpPr/>
                <p:nvPr/>
              </p:nvSpPr>
              <p:spPr>
                <a:xfrm rot="16200000">
                  <a:off x="477720" y="4731480"/>
                  <a:ext cx="76320" cy="27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6200000">
                  <a:off x="294120" y="3735000"/>
                  <a:ext cx="4424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-2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6200000">
                  <a:off x="-30240" y="4231800"/>
                  <a:ext cx="331920" cy="27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333399"/>
                      </a:solidFill>
                      <a:latin typeface="Times New Roman"/>
                      <a:ea typeface="SimSun"/>
                    </a:rPr>
                    <a:t>4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75280" y="0"/>
            <a:ext cx="49687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24000" y="2492280"/>
                <a:ext cx="8424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n</m:t>
                            </m:r>
                          </m:den>
                        </m:f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39640" y="1916280"/>
                <a:ext cx="18828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1547640" y="400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050920" y="4076640"/>
            <a:ext cx="216000" cy="4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6836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  <a:ea typeface="Tahoma"/>
              </a:rPr>
              <a:t>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360" y="4149720"/>
            <a:ext cx="144720" cy="43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95280" y="4652640"/>
            <a:ext cx="3889440" cy="520920"/>
            <a:chOff x="395280" y="4652640"/>
            <a:chExt cx="3889440" cy="520920"/>
          </a:xfrm>
        </p:grpSpPr>
        <p:sp>
          <p:nvSpPr>
            <p:cNvPr id="401" name=""/>
            <p:cNvSpPr/>
            <p:nvPr/>
          </p:nvSpPr>
          <p:spPr>
            <a:xfrm>
              <a:off x="395280" y="46530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800" spc="-1" strike="noStrike">
                  <a:solidFill>
                    <a:srgbClr val="333399"/>
                  </a:solidFill>
                  <a:latin typeface="Tahoma"/>
                </a:rPr>
                <a:t>za n=+</a:t>
              </a:r>
              <a:r>
                <a:rPr b="1" lang="sl-SI" sz="2800" spc="-1" strike="noStrike">
                  <a:solidFill>
                    <a:srgbClr val="333399"/>
                  </a:solidFill>
                  <a:latin typeface="Tahoma"/>
                  <a:ea typeface="Tahoma"/>
                </a:rPr>
                <a:t>∞ </a:t>
              </a:r>
              <a:r>
                <a:rPr b="0" lang="sl-SI" sz="2800" spc="-1" strike="noStrike">
                  <a:solidFill>
                    <a:srgbClr val="333399"/>
                  </a:solidFill>
                  <a:latin typeface="Tahoma"/>
                  <a:ea typeface="Tahoma"/>
                </a:rPr>
                <a:t>odnosno</a:t>
              </a:r>
              <a:r>
                <a:rPr b="1" lang="sl-SI" sz="2800" spc="-1" strike="noStrike">
                  <a:solidFill>
                    <a:srgbClr val="333399"/>
                  </a:solidFill>
                  <a:latin typeface="Tahoma"/>
                  <a:ea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924360" y="4652640"/>
              <a:ext cx="360360" cy="504360"/>
              <a:chOff x="3924360" y="4652640"/>
              <a:chExt cx="360360" cy="5043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3924360" y="4716720"/>
                <a:ext cx="360360" cy="440280"/>
                <a:chOff x="3924360" y="4716720"/>
                <a:chExt cx="360360" cy="4402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924360" y="4716720"/>
                  <a:ext cx="360360" cy="378000"/>
                </a:xfrm>
                <a:prstGeom prst="ellipse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3924360" y="4779360"/>
                  <a:ext cx="301680" cy="377640"/>
                  <a:chOff x="3924360" y="4779360"/>
                  <a:chExt cx="301680" cy="3776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4105080" y="4779360"/>
                    <a:ext cx="0" cy="37764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924360" y="4905360"/>
                    <a:ext cx="30168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4044960" y="4652640"/>
                <a:ext cx="119520" cy="63720"/>
                <a:chOff x="4044960" y="4652640"/>
                <a:chExt cx="119520" cy="63720"/>
              </a:xfrm>
            </p:grpSpPr>
            <p:sp>
              <p:nvSpPr>
                <p:cNvPr id="409" name=""/>
                <p:cNvSpPr/>
                <p:nvPr/>
              </p:nvSpPr>
              <p:spPr>
                <a:xfrm flipV="1">
                  <a:off x="4104720" y="4652640"/>
                  <a:ext cx="0" cy="637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4044960" y="4653000"/>
                  <a:ext cx="11952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1" name=""/>
          <p:cNvSpPr/>
          <p:nvPr/>
        </p:nvSpPr>
        <p:spPr>
          <a:xfrm>
            <a:off x="4427640" y="46530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&gt;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  <a:ea typeface="Tahoma"/>
              </a:rPr>
              <a:t>  g=0; t=100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[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  <a:ea typeface="Tahoma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960" y="5442120"/>
                <a:ext cx="8132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0720" y="259920"/>
            <a:ext cx="51832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292720" y="3184560"/>
                <a:ext cx="3166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Z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003640" y="4221000"/>
                <a:ext cx="3240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24000" y="2637000"/>
            <a:ext cx="4176000" cy="1657800"/>
            <a:chOff x="324000" y="2637000"/>
            <a:chExt cx="4176000" cy="1657800"/>
          </a:xfrm>
        </p:grpSpPr>
        <p:sp>
          <p:nvSpPr>
            <p:cNvPr id="419" name=""/>
            <p:cNvSpPr/>
            <p:nvPr/>
          </p:nvSpPr>
          <p:spPr>
            <a:xfrm>
              <a:off x="3364920" y="3484080"/>
              <a:ext cx="415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34040" y="3484080"/>
              <a:ext cx="415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03160" y="3484080"/>
              <a:ext cx="415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336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5020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8844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932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8640" y="3484080"/>
              <a:ext cx="414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8640" y="3484080"/>
              <a:ext cx="3322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8640" y="3949200"/>
              <a:ext cx="3322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8640" y="3484080"/>
              <a:ext cx="0" cy="46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80720" y="3484080"/>
              <a:ext cx="0" cy="46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1932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8844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5020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336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316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3404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64920" y="34840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24000" y="2637000"/>
              <a:ext cx="4176000" cy="1657800"/>
              <a:chOff x="324000" y="2637000"/>
              <a:chExt cx="4176000" cy="1657800"/>
            </a:xfrm>
          </p:grpSpPr>
          <p:sp>
            <p:nvSpPr>
              <p:cNvPr id="439" name=""/>
              <p:cNvSpPr/>
              <p:nvPr/>
            </p:nvSpPr>
            <p:spPr>
              <a:xfrm>
                <a:off x="3364920" y="2637000"/>
                <a:ext cx="41580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34040" y="2637000"/>
                <a:ext cx="41580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03160" y="2637000"/>
                <a:ext cx="41580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7336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5020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8844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1932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8640" y="2637000"/>
                <a:ext cx="4147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8640" y="2637000"/>
                <a:ext cx="3322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58640" y="3102840"/>
                <a:ext cx="3322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8640" y="2637000"/>
                <a:ext cx="0" cy="465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80720" y="2637000"/>
                <a:ext cx="0" cy="465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1932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8844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5020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7336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0316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3404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64920" y="2637000"/>
                <a:ext cx="0" cy="46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324000" y="2637000"/>
                <a:ext cx="4176000" cy="1657800"/>
                <a:chOff x="324000" y="2637000"/>
                <a:chExt cx="4176000" cy="165780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324000" y="3144960"/>
                  <a:ext cx="3773160" cy="564840"/>
                  <a:chOff x="324000" y="3144960"/>
                  <a:chExt cx="3773160" cy="564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324000" y="3189600"/>
                    <a:ext cx="3139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9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3691440" y="3144960"/>
                    <a:ext cx="405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17</a:t>
                    </a:r>
                    <a:r>
                      <a:rPr b="0" lang="sl-SI" sz="1400" spc="-1" strike="noStrike" baseline="30000">
                        <a:solidFill>
                          <a:srgbClr val="333399"/>
                        </a:solidFill>
                        <a:latin typeface="Tahoma"/>
                      </a:rPr>
                      <a:t>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458640" y="2637000"/>
                  <a:ext cx="3906000" cy="465840"/>
                  <a:chOff x="458640" y="2637000"/>
                  <a:chExt cx="3906000" cy="465840"/>
                </a:xfrm>
              </p:grpSpPr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4096440" y="2721240"/>
                    <a:ext cx="268200" cy="339120"/>
                    <a:chOff x="4096440" y="2721240"/>
                    <a:chExt cx="268200" cy="339120"/>
                  </a:xfrm>
                </p:grpSpPr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4096440" y="2764440"/>
                      <a:ext cx="268200" cy="295920"/>
                      <a:chOff x="4096440" y="2764440"/>
                      <a:chExt cx="268200" cy="295920"/>
                    </a:xfrm>
                  </p:grpSpPr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4096440" y="2764440"/>
                        <a:ext cx="268200" cy="2538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4096440" y="2806560"/>
                        <a:ext cx="224640" cy="253800"/>
                        <a:chOff x="4096440" y="2806560"/>
                        <a:chExt cx="224640" cy="25380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4231080" y="2806560"/>
                          <a:ext cx="0" cy="25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4096440" y="2891160"/>
                          <a:ext cx="2246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99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4186080" y="2721240"/>
                      <a:ext cx="88920" cy="42840"/>
                      <a:chOff x="4186080" y="2721240"/>
                      <a:chExt cx="88920" cy="4284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 flipV="1">
                        <a:off x="4231080" y="2721240"/>
                        <a:ext cx="0" cy="42840"/>
                      </a:xfrm>
                      <a:prstGeom prst="line">
                        <a:avLst/>
                      </a:prstGeom>
                      <a:ln w="381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 flipH="1">
                        <a:off x="4186080" y="2721600"/>
                        <a:ext cx="8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458640" y="2637000"/>
                    <a:ext cx="3323880" cy="465840"/>
                    <a:chOff x="458640" y="2637000"/>
                    <a:chExt cx="3323880" cy="46584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5864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212112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294984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1716120" y="2637000"/>
                      <a:ext cx="201960" cy="46584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1288080" y="2637000"/>
                      <a:ext cx="426600" cy="46584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3580560" y="2637000"/>
                      <a:ext cx="201960" cy="46584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25960" y="3484080"/>
                  <a:ext cx="3974040" cy="810720"/>
                  <a:chOff x="525960" y="3484080"/>
                  <a:chExt cx="3974040" cy="8107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917880" y="3652200"/>
                    <a:ext cx="5821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800" spc="-1" strike="noStrike">
                        <a:solidFill>
                          <a:srgbClr val="333399"/>
                        </a:solidFill>
                        <a:latin typeface="Tahoma"/>
                      </a:rPr>
                      <a:t>“</a:t>
                    </a:r>
                    <a:r>
                      <a:rPr b="0" lang="sl-SI" sz="1800" spc="-1" strike="noStrike">
                        <a:solidFill>
                          <a:srgbClr val="333399"/>
                        </a:solidFill>
                        <a:latin typeface="Tahoma"/>
                      </a:rPr>
                      <a:t>TZ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186280" y="3569040"/>
                    <a:ext cx="270000" cy="297000"/>
                    <a:chOff x="2186280" y="3569040"/>
                    <a:chExt cx="270000" cy="2970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21862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22532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23216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23878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2456280" y="3569040"/>
                      <a:ext cx="0" cy="29628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7" name=""/>
                  <p:cNvSpPr/>
                  <p:nvPr/>
                </p:nvSpPr>
                <p:spPr>
                  <a:xfrm>
                    <a:off x="525960" y="3569040"/>
                    <a:ext cx="0" cy="2970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92920" y="3569040"/>
                    <a:ext cx="0" cy="2970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61320" y="3569040"/>
                    <a:ext cx="0" cy="29592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27560" y="3569040"/>
                    <a:ext cx="0" cy="29700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95960" y="3569040"/>
                    <a:ext cx="0" cy="29592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3445920" y="3569040"/>
                    <a:ext cx="268920" cy="297000"/>
                    <a:chOff x="3445920" y="3569040"/>
                    <a:chExt cx="268920" cy="2970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7148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362592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3535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344592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952560" y="3569040"/>
                    <a:ext cx="269280" cy="297000"/>
                    <a:chOff x="952560" y="3569040"/>
                    <a:chExt cx="269280" cy="2970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12218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1132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1042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952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1357560" y="3569040"/>
                    <a:ext cx="268920" cy="297000"/>
                    <a:chOff x="1357560" y="3569040"/>
                    <a:chExt cx="268920" cy="2970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16264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1537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14472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13575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782000" y="3569040"/>
                    <a:ext cx="269280" cy="297000"/>
                    <a:chOff x="1782000" y="3569040"/>
                    <a:chExt cx="269280" cy="29700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20512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9620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18720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178200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1917000" y="3484080"/>
                    <a:ext cx="1663200" cy="466200"/>
                    <a:chOff x="1917000" y="3484080"/>
                    <a:chExt cx="1663200" cy="46620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1917000" y="3484080"/>
                      <a:ext cx="0" cy="466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580200" y="3484080"/>
                      <a:ext cx="0" cy="466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615040" y="3569040"/>
                    <a:ext cx="268920" cy="297000"/>
                    <a:chOff x="2615040" y="3569040"/>
                    <a:chExt cx="268920" cy="2970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2883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27950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70468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6150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3018960" y="3569040"/>
                    <a:ext cx="269280" cy="297000"/>
                    <a:chOff x="3018960" y="3569040"/>
                    <a:chExt cx="269280" cy="2970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28824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198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108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18960" y="3569040"/>
                      <a:ext cx="0" cy="297000"/>
                    </a:xfrm>
                    <a:prstGeom prst="line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25" name=""/>
          <p:cNvSpPr/>
          <p:nvPr/>
        </p:nvSpPr>
        <p:spPr>
          <a:xfrm>
            <a:off x="2484360" y="1916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imer  M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826920" y="5445000"/>
                <a:ext cx="7632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,64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0,647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4,66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5300640" y="24922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34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OBILASKA (ZABELEŠ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4365720"/>
                <a:ext cx="3382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4930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Koja tačnost bi bila zadovoljavajuć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960720" y="260280"/>
            <a:ext cx="518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ANANLIZA NAČINA RADA</a:t>
            </a:r>
            <a:br>
              <a:rPr sz="2800"/>
            </a:b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 PROIZVODN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19280" y="1125360"/>
            <a:ext cx="51134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TOD “T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4869000"/>
            <a:ext cx="3888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16000" y="2781000"/>
            <a:ext cx="0" cy="2305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3280" y="4941720"/>
            <a:ext cx="2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0960" y="2637000"/>
            <a:ext cx="212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Tahoma"/>
                <a:ea typeface="Tahoma"/>
              </a:rPr>
              <a:t>η</a:t>
            </a:r>
            <a:r>
              <a:rPr b="0" lang="sl-SI" sz="18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3860640"/>
            <a:ext cx="316872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84000" y="3860640"/>
            <a:ext cx="43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26920" y="3860640"/>
            <a:ext cx="0" cy="648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0800000">
            <a:off x="468000" y="3933360"/>
            <a:ext cx="24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62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288800" y="2316240"/>
            <a:ext cx="5254920" cy="2995920"/>
            <a:chOff x="1288800" y="2316240"/>
            <a:chExt cx="5254920" cy="2995920"/>
          </a:xfrm>
        </p:grpSpPr>
        <p:sp>
          <p:nvSpPr>
            <p:cNvPr id="542" name=""/>
            <p:cNvSpPr/>
            <p:nvPr/>
          </p:nvSpPr>
          <p:spPr>
            <a:xfrm flipV="1" rot="10767000">
              <a:off x="1308600" y="3993480"/>
              <a:ext cx="4897080" cy="12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6" y="10"/>
                  </a:moveTo>
                  <a:arcTo wR="10800" hR="10800" stAng="-5550919" swAng="5051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6" y="10"/>
                  </a:moveTo>
                  <a:arcTo wR="10800" hR="10800" stAng="-5550919" swAng="5051786"/>
                </a:path>
              </a:pathLst>
            </a:custGeom>
            <a:noFill/>
            <a:ln w="936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5333400">
              <a:off x="3239640" y="427680"/>
              <a:ext cx="1352880" cy="522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7" y="101"/>
                  </a:moveTo>
                  <a:arcTo wR="10800" hR="10800" stAng="-4928332" swAng="48213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7" y="101"/>
                  </a:moveTo>
                  <a:arcTo wR="10800" hR="10800" stAng="-4928332" swAng="4821342"/>
                </a:path>
              </a:pathLst>
            </a:custGeom>
            <a:noFill/>
            <a:ln w="936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332000" y="4797360"/>
            <a:ext cx="2088720" cy="144360"/>
            <a:chOff x="1332000" y="4797360"/>
            <a:chExt cx="2088720" cy="144360"/>
          </a:xfrm>
        </p:grpSpPr>
        <p:grpSp>
          <p:nvGrpSpPr>
            <p:cNvPr id="545" name=""/>
            <p:cNvGrpSpPr/>
            <p:nvPr/>
          </p:nvGrpSpPr>
          <p:grpSpPr>
            <a:xfrm>
              <a:off x="1332000" y="4797360"/>
              <a:ext cx="1855080" cy="144360"/>
              <a:chOff x="1332000" y="4797360"/>
              <a:chExt cx="1855080" cy="144360"/>
            </a:xfrm>
          </p:grpSpPr>
          <p:sp>
            <p:nvSpPr>
              <p:cNvPr id="546" name=""/>
              <p:cNvSpPr/>
              <p:nvPr/>
            </p:nvSpPr>
            <p:spPr>
              <a:xfrm>
                <a:off x="133200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6348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9532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02752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2304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9120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5936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5524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87080" y="4797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3420720" y="479736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87280" y="5013360"/>
            <a:ext cx="2449800" cy="182880"/>
            <a:chOff x="1187280" y="5013360"/>
            <a:chExt cx="2449800" cy="182880"/>
          </a:xfrm>
        </p:grpSpPr>
        <p:sp>
          <p:nvSpPr>
            <p:cNvPr id="557" name=""/>
            <p:cNvSpPr/>
            <p:nvPr/>
          </p:nvSpPr>
          <p:spPr>
            <a:xfrm>
              <a:off x="1187280" y="50133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76360" y="50133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92360" y="50133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08000" y="50133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76720" y="5013360"/>
              <a:ext cx="36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24000" y="5013360"/>
              <a:ext cx="36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333399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476360" y="3357720"/>
            <a:ext cx="360360" cy="1511280"/>
            <a:chOff x="1476360" y="3357720"/>
            <a:chExt cx="360360" cy="1511280"/>
          </a:xfrm>
        </p:grpSpPr>
        <p:sp>
          <p:nvSpPr>
            <p:cNvPr id="564" name=""/>
            <p:cNvSpPr/>
            <p:nvPr/>
          </p:nvSpPr>
          <p:spPr>
            <a:xfrm>
              <a:off x="1476360" y="3357720"/>
              <a:ext cx="0" cy="1511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7640" y="4581360"/>
              <a:ext cx="289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0000"/>
                  </a:solidFill>
                  <a:latin typeface="Tahoma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84360" y="3284640"/>
            <a:ext cx="792000" cy="243720"/>
            <a:chOff x="684360" y="3284640"/>
            <a:chExt cx="792000" cy="243720"/>
          </a:xfrm>
        </p:grpSpPr>
        <p:sp>
          <p:nvSpPr>
            <p:cNvPr id="567" name=""/>
            <p:cNvSpPr/>
            <p:nvPr/>
          </p:nvSpPr>
          <p:spPr>
            <a:xfrm>
              <a:off x="1116000" y="3357720"/>
              <a:ext cx="3603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4360" y="3284640"/>
              <a:ext cx="4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0000"/>
                  </a:solidFill>
                  <a:latin typeface="Tahoma"/>
                </a:rPr>
                <a:t>64,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651640" y="2852640"/>
                <a:ext cx="3101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156360" y="4221000"/>
                <a:ext cx="235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651640" y="4581360"/>
                <a:ext cx="43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5661000"/>
            <a:ext cx="9144000" cy="875880"/>
          </a:xfrm>
          <a:prstGeom prst="rect">
            <a:avLst/>
          </a:prstGeom>
          <a:solidFill>
            <a:srgbClr val="ffe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Ako je 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</a:rPr>
              <a:t>g 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  <a:ea typeface="Tahoma"/>
              </a:rPr>
              <a:t>≤5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[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  <a:ea typeface="Tahoma"/>
              </a:rPr>
              <a:t>%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]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  <a:ea typeface="Tahoma"/>
              </a:rPr>
              <a:t> odnosno 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  <a:ea typeface="Tahoma"/>
              </a:rPr>
              <a:t>t≥95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sl-SI" sz="2400" spc="-1" strike="noStrike">
                <a:solidFill>
                  <a:srgbClr val="ff0000"/>
                </a:solidFill>
                <a:latin typeface="Tahoma"/>
              </a:rPr>
              <a:t>%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, tada je veličina (</a:t>
            </a:r>
            <a:r>
              <a:rPr b="1" lang="el-GR" sz="2400" spc="-1" strike="noStrike">
                <a:solidFill>
                  <a:srgbClr val="333399"/>
                </a:solidFill>
                <a:latin typeface="Tahoma"/>
                <a:ea typeface="Tahoma"/>
              </a:rPr>
              <a:t>η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k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  <a:ea typeface="Tahoma"/>
              </a:rPr>
              <a:t>) određena metodom “TZ” praktično upotreblj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4:36:07Z</dcterms:created>
  <dc:creator>Barbara</dc:creator>
  <dc:description/>
  <dc:language>en-US</dc:language>
  <cp:lastModifiedBy>nn</cp:lastModifiedBy>
  <dcterms:modified xsi:type="dcterms:W3CDTF">2005-05-25T14:00:21Z</dcterms:modified>
  <cp:revision>22</cp:revision>
  <dc:subject/>
  <dc:title>Osnovi  Organizacije  Proizvodnje</dc:title>
</cp:coreProperties>
</file>