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8ECA-9226-4B40-8A10-429DA1B1A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41DC-C899-494E-834B-0CF45FC4F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F07C-D399-4770-93DF-2006C316E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9B2B-5970-4A1A-8639-80D3C828E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02E88-32A6-4A99-B046-B9C405985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632BE-341D-4E46-8AB4-9B60B79A8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11D23-3F5B-49F6-9F30-1CE033AAF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E0F9E-E13A-4922-92A6-CE1F4D4AD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0AE32-ECE9-4F51-9FB1-0721C0BAE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EDA11-CD31-43AC-80E5-08233659A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0D041-DF5D-4611-995B-E380D5FE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DAD6-7177-4877-8A2B-C3324F617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5490C-E3B7-40C0-9536-6707E25E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05512-A8D8-4CE4-9A9F-B775D3E1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EF2FD-1FEA-4B14-926E-7B75BB5FB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7BA14-938B-4F0C-A18B-6214757E5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0AF7F-B2BB-4D04-87A0-6C0B18C81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C88D3-95BB-4B28-ACCD-09715D151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4B1B6-8D41-4F96-850A-A700839BE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C7BDC-33DA-4AEF-89FA-E319CAA3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4A720-814B-44E2-A7EF-F1C4E7C11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218CD-BD32-4B2A-B917-0E74C2AFA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807B-FD3F-4803-8480-32692B137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F421E-77F1-429E-9123-DDF2A873B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97364-DF9A-44C2-B461-F4EFC964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9D237-C9D4-4B09-AFDF-2BB15745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29511-D79F-4AD1-A2C7-92E25D0D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02230-2598-4B55-B0CA-C9B47E48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C6894-0021-481E-AE8B-ED9D1B5B4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A5C3F-1E7C-4D84-99AA-AC8B4BBEB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3FE9-8E8F-40DD-9BF0-DB4989B35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BDF9-13EB-4F4B-B08D-D2ED1D385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1DA6-B2AC-474D-8948-E00E6B663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3EAA-224D-4202-B85D-3037BE5B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FDB0-882B-4256-ABC2-9A60F63F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59B9-57DD-43F3-AF8F-47D27E31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89BA7-631C-41B8-8F2B-46607B72C41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478D1-7D48-4A14-AF2A-F9A96FC9F2E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64A7A-380D-4A1F-84E8-B25FACF86E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1295280"/>
            <a:ext cx="7772400" cy="18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DRE</a:t>
            </a:r>
            <a:r>
              <a:rPr b="0" lang="sr-Latn-CS" sz="4000" spc="-1" strike="noStrike">
                <a:solidFill>
                  <a:srgbClr val="333399"/>
                </a:solidFill>
                <a:latin typeface="Tahoma"/>
              </a:rPr>
              <a:t>ĐIVANJE OPTIMALNOG LINIJSKOG I KOMBINOVANOG RASPOREDA RADNIH MEST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3399"/>
                </a:solidFill>
                <a:latin typeface="Tahoma"/>
              </a:rPr>
              <a:t>METOD USLOVNIH NIZO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333399"/>
                </a:solidFill>
                <a:latin typeface="Tahoma"/>
              </a:rPr>
              <a:t>Određivanje optimalnog linijskog i kombinovanog rasporeda RM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333399"/>
                </a:solidFill>
                <a:latin typeface="Tahoma"/>
              </a:rPr>
              <a:t>Za razliku od grupnog rasporeda ovde se traži pretežni redosled operacija;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333399"/>
                </a:solidFill>
                <a:latin typeface="Tahoma"/>
              </a:rPr>
              <a:t>Ovakav raspored je tehnički i organizaciono racionalniji kod srednjeserijske i velikoserijske proizvodnje;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333399"/>
                </a:solidFill>
                <a:latin typeface="Tahoma"/>
              </a:rPr>
              <a:t>Za ove tipove proizvodnje je važno odrediti optimalan položaj radnog mesta u liniji;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09480"/>
            <a:ext cx="7792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333399"/>
                </a:solidFill>
                <a:latin typeface="Tahoma"/>
              </a:rPr>
              <a:t>Osnovni zadatak pri projektovanju linijskih procesa proizvodnje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26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3399"/>
                </a:solidFill>
                <a:latin typeface="Tahoma"/>
              </a:rPr>
              <a:t>Odrediti takav položaj radnih mesta koji će zahtevati najkraće putanje predmeta rada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99"/>
                </a:solidFill>
                <a:latin typeface="Tahoma"/>
              </a:rPr>
              <a:t>Pojedinačne putanje predmeta rada ne moraju biti najkrać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5165640"/>
            <a:ext cx="9144000" cy="1464480"/>
          </a:xfrm>
          <a:prstGeom prst="rect">
            <a:avLst/>
          </a:prstGeom>
          <a:solidFill>
            <a:srgbClr val="fefe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333399"/>
                </a:solidFill>
                <a:latin typeface="Tahoma"/>
              </a:rPr>
              <a:t>Optimalni linijski raspored radnih mesta je onaj kome odgovara najmanji ukupni put predmeta ra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99"/>
                </a:solidFill>
                <a:latin typeface="Arial"/>
              </a:rPr>
              <a:t>Zadatak 1.15 </a:t>
            </a:r>
            <a:r>
              <a:rPr b="0" i="1" lang="sr-Latn-CS" sz="4000" spc="-1" strike="noStrike">
                <a:solidFill>
                  <a:srgbClr val="333399"/>
                </a:solidFill>
                <a:latin typeface="Arial"/>
              </a:rPr>
              <a:t>str 7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Služba tehničke pripreme utvrdila je sledeći redosled radnih mesta za izradu proizvoda P1, P2, P3, P4 i P5: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P1:  RM1 - RM2 - RM3 - RM5 - RM4 - RM6 - RM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P2:  RM2 - RM1 - RM3 - RM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P3:  RM2 - RM1 - RM5 - RM4 - RM6 - RM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P4:  RM2 - RM3 - RM5 - RM4 - RM6 - RM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P5:  RM1 - RM4 - RM5 - RM6 - RM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otrebno 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sastaviti tabelu frekvencija radnih mesta u uslovnom nizu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na osnovu tabele frekvencija odrediti liniju  rasporeda radnih mest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šematski prikazati utvrđenu liniju rasporeda radnih mesta sa  putanjama proizvoda u procesu proizvodnj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izračunati najmanju vrednost funkcije cil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04560" y="609480"/>
            <a:ext cx="818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Modifikovana frekvencija</a:t>
            </a: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 – jačina zahteva da se neko radno mesto nađe na određenoj poziciji u optimalnom niz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1600200" y="1828800"/>
                <a:ext cx="4343400" cy="13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304920" y="3352680"/>
            <a:ext cx="8076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5000"/>
              </a:lnSpc>
              <a:spcBef>
                <a:spcPts val="3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i – prati radna mesta, tj.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kolone</a:t>
            </a: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 u tabel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j – prati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vrste</a:t>
            </a: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, tj. pozicije u opštim nizovim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k –označava pozicije na koje se raspoređuju radna mes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99"/>
                </a:solidFill>
                <a:latin typeface="Arial"/>
              </a:rPr>
              <a:t>Zadatak 1.15 </a:t>
            </a:r>
            <a:r>
              <a:rPr b="0" i="1" lang="sr-Latn-CS" sz="4000" spc="-1" strike="noStrike">
                <a:solidFill>
                  <a:srgbClr val="333399"/>
                </a:solidFill>
                <a:latin typeface="Arial"/>
              </a:rPr>
              <a:t>str 7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5331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Služba tehničke pripreme utvrdila je sledeći redosled radnih mesta za izradu proizvoda P1, P2, P3, P4 i P5: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P1:  RM1 - RM2 - RM3 - RM5 - RM4 - RM6 - RM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P2:  RM2 - RM1 - RM3 - RM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P3:  RM2 - RM1 - RM5 - RM4 - RM6 - RM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P4:  RM2 - RM3 - RM5 - RM4 - RM6 - RM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P5:  RM1 - RM4 - RM5 - RM6 - RM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otrebno 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sastaviti tabelu frekvencija radnih mesta u uslovnom nizu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na osnovu tabele frekvencija odrediti liniju  rasporeda radnih mest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šematski prikazati utvrđenu liniju rasporeda radnih mesta sa  putanjama proizvoda u procesu proizvodnj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izračunati najmanju vrednost funkcije cil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5943600"/>
            <a:ext cx="8686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Funkcija cilja – </a:t>
            </a:r>
            <a:r>
              <a:rPr b="0" lang="pl-PL" sz="2400" spc="-1" strike="noStrike">
                <a:solidFill>
                  <a:srgbClr val="ff3300"/>
                </a:solidFill>
                <a:latin typeface="Arial"/>
              </a:rPr>
              <a:t>najkraći put predmeta 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99"/>
                </a:solidFill>
                <a:latin typeface="Arial"/>
              </a:rPr>
              <a:t>Primer 1.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rcRect l="27118" t="30605" r="12398" b="30448"/>
          <a:stretch/>
        </p:blipFill>
        <p:spPr>
          <a:xfrm>
            <a:off x="1523880" y="914400"/>
            <a:ext cx="6019920" cy="2901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1828800" y="4495680"/>
          <a:ext cx="2514600" cy="793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4495680"/>
                    <a:ext cx="251460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4495680" y="46944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1,2,...,6;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1,2,...,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024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99"/>
                </a:solidFill>
                <a:latin typeface="Arial"/>
              </a:rPr>
              <a:t>Primer 1.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27118" t="30605" r="12398" b="30448"/>
          <a:stretch/>
        </p:blipFill>
        <p:spPr>
          <a:xfrm>
            <a:off x="0" y="457200"/>
            <a:ext cx="3429000" cy="1652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2" name=""/>
          <p:cNvGraphicFramePr/>
          <p:nvPr/>
        </p:nvGraphicFramePr>
        <p:xfrm>
          <a:off x="95400" y="2133720"/>
          <a:ext cx="1371600" cy="43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5400" y="2133720"/>
                    <a:ext cx="137160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1438200" y="219240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= 1,2,...,6; </a:t>
            </a: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= 1,2,...,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457200"/>
            <a:ext cx="556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[</a:t>
            </a:r>
            <a:r>
              <a:rPr b="0" i="1" lang="en-US" sz="1800" spc="-1" strike="noStrike">
                <a:solidFill>
                  <a:srgbClr val="333399"/>
                </a:solidFill>
                <a:latin typeface="Tahoma"/>
              </a:rPr>
              <a:t>k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= 1]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, </a:t>
            </a:r>
            <a:r>
              <a:rPr b="0" i="1" lang="en-US" sz="1800" spc="-1" strike="noStrike">
                <a:solidFill>
                  <a:srgbClr val="333399"/>
                </a:solidFill>
                <a:latin typeface="Tahoma"/>
              </a:rPr>
              <a:t>i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= 1,2,3,4,5,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F11 = 4 + 2[(1-1) 4]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Fi1 &lt; 0, </a:t>
            </a:r>
            <a:r>
              <a:rPr b="0" i="1" lang="en-US" sz="1800" spc="-1" strike="noStrike">
                <a:solidFill>
                  <a:srgbClr val="333399"/>
                </a:solidFill>
                <a:latin typeface="Tahoma"/>
              </a:rPr>
              <a:t>i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= 2,3,4,5,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max Fi1 = F11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prvo radno mesto u 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liniji biće RM1</a:t>
            </a:r>
            <a:r>
              <a:rPr b="0" lang="pl-PL" sz="16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299120" y="279360"/>
          <a:ext cx="1904760" cy="85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99120" y="279360"/>
                    <a:ext cx="1904760" cy="8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0" y="25909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[</a:t>
            </a:r>
            <a:r>
              <a:rPr b="0" i="1" lang="pl-PL" sz="1800" spc="-1" strike="noStrike">
                <a:solidFill>
                  <a:srgbClr val="333399"/>
                </a:solidFill>
                <a:latin typeface="Tahoma"/>
              </a:rPr>
              <a:t>k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 = 2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]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, </a:t>
            </a:r>
            <a:r>
              <a:rPr b="0" i="1" lang="pl-PL" sz="1800" spc="-1" strike="noStrike">
                <a:solidFill>
                  <a:srgbClr val="333399"/>
                </a:solidFill>
                <a:latin typeface="Tahoma"/>
              </a:rPr>
              <a:t>i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 = 2,3,4,5,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F22 = 4 + 2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[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(2-4) 1 + (2-5) 1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]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 = 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F32 = 0 + 2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[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(2-3) 3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]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 = 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F42 = 0 + 2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[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(2-3) 1 + (2-4) 1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]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 = 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F52 = 0 + 2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[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(2-6) 1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]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 = -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F62 = 0 + 2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[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(2-4) 2 + (2-5) 1 + (2-7) 1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]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 = -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838080" y="2419200"/>
          <a:ext cx="1905120" cy="838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38080" y="2419200"/>
                    <a:ext cx="190512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2743200" y="426708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max Fi2 = F22 = F32 = F42 = -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53341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[k=3]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F23 = 0 + 2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[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(3-2) 4 + (3-4) 1 + (3-5) 1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]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 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F33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F43 = 1 + 2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[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(3-4) 1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]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 =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19520" y="45720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pl-PL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l-PL" sz="1800" spc="-1" strike="noStrike">
                <a:solidFill>
                  <a:srgbClr val="333399"/>
                </a:solidFill>
                <a:latin typeface="Tahoma"/>
              </a:rPr>
              <a:t>treba odrediti modifikovanu frekvenciju radnih mesta RM2, RM3, RM4   za poziciju 3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min Fi3 = F43 =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drugo radno mesto u liniji biće RM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2T12:32:02Z</dcterms:created>
  <dc:creator>Administrator</dc:creator>
  <dc:description/>
  <dc:language>en-US</dc:language>
  <cp:lastModifiedBy>Barbara</cp:lastModifiedBy>
  <dcterms:modified xsi:type="dcterms:W3CDTF">2008-05-12T07:12:40Z</dcterms:modified>
  <cp:revision>9</cp:revision>
  <dc:subject/>
  <dc:title>ODREĐIVANJE OPTIMALNOG LINIJSKOG I KOMBINOVANOG RASPOREDA RADNIH MESTA</dc:title>
</cp:coreProperties>
</file>