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5AA-920F-444D-9298-C0215FCD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334-A41A-4FB4-9055-CDDC8558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19F-4E4E-4B12-863F-0182D91B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798-BC45-4CF8-B2CC-12B0F4ED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0DE0-532D-4F6A-9866-7943E0CA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FFF7-4C53-4B43-B7BE-AF2985BC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988E-AD5F-41FB-90E5-3000CABE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058A-B0CF-4A93-858D-E308416C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52C2-6B7E-4582-9EC2-C83CA770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5DD5-E54E-42E6-A02D-8A15724C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CCC2-4B2A-4A18-AB49-0C1EB3BC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D54-314C-4593-985A-DDACF0C8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5B25-A3F9-47EA-82F3-B6395438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31D3-7B82-4CBF-8737-87E4A2D3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3F11-7D45-4598-AF2D-D63C65B0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ABF1-96EB-453D-B9C8-6B757511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3AC3-F43D-471C-82B6-C25E9E8C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ED1-A820-40D2-8893-66C11B1F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76D-313C-4FFE-88A7-8A3D0C05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880-CBFE-4D8E-A3AF-2FC961D3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AC4-A755-43B5-B2B5-C07D6511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646-2812-4E01-9D1E-DD8AABB9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C18-C728-44BE-A948-3F51C0FA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108-8040-4C58-929F-1B21ED57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462E-195A-4646-B5C5-E3E522508384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BF37-64D7-4A7B-AA48-392B32B93DBB}" type="slidenum"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981000"/>
            <a:ext cx="30243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izvodni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357720"/>
            <a:ext cx="7127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DRE</a:t>
            </a:r>
            <a:r>
              <a:rPr b="1" lang="sl-SI" sz="4400" spc="-1" strike="noStrike">
                <a:solidFill>
                  <a:srgbClr val="333399"/>
                </a:solidFill>
                <a:latin typeface="Tahoma"/>
              </a:rPr>
              <a:t>Đ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VANJE ODGOVARAJU</a:t>
            </a:r>
            <a:r>
              <a:rPr b="1" lang="sl-SI" sz="4400" spc="-1" strike="noStrike">
                <a:solidFill>
                  <a:srgbClr val="333399"/>
                </a:solidFill>
                <a:latin typeface="Tahoma"/>
              </a:rPr>
              <a:t>Ć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G NA</a:t>
            </a:r>
            <a:r>
              <a:rPr b="1" lang="sl-SI" sz="4400" spc="-1" strike="noStrike">
                <a:solidFill>
                  <a:srgbClr val="333399"/>
                </a:solidFill>
                <a:latin typeface="Tahoma"/>
              </a:rPr>
              <a:t>ČINA PROIZVODNJE PROIZVODA IZ OPTIMALNOG PL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50720" y="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DREĐIVANJE OPTIMALNE VELIČINE I BROJA SERIJA U PROCESU PROIZVODNJ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56000" y="2781360"/>
            <a:ext cx="6192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0400" indent="-23040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optimalna veličina serije u [kom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1042920" y="105264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Tahoma"/>
              </a:rPr>
              <a:t>Optimalne vrednosti parametara koji određuju seriju:</a:t>
            </a:r>
            <a:r>
              <a:rPr b="0" lang="sr-Latn-C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24000" y="2708280"/>
                <a:ext cx="2016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r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rs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684360" y="3789360"/>
                <a:ext cx="11509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84360" y="5013360"/>
                <a:ext cx="1236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56000" y="4941720"/>
            <a:ext cx="4895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8200" indent="-2682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-  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optimalno vreme proizvodnje jedne serije u [dan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484360" y="3645000"/>
            <a:ext cx="53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42720" indent="-25740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optimalan broj serija u toku vremenskog intervala u [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4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77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3" dur="770" fill="hold"/>
                                        <p:tgtEl>
                                          <p:spTgt spid="4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7" dur="77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ODREĐIVANJE OPTIMALNE VELIČINE I BROJA SERIJA U PROCESU PROIZVODNJ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324000" y="2133720"/>
                <a:ext cx="4464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p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s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227640" y="1989000"/>
                <a:ext cx="2232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r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rs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543564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4000" y="3500280"/>
                <a:ext cx="4316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116000" y="3213000"/>
                <a:ext cx="640872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p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tr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trs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s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r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rs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835280" y="5013360"/>
                <a:ext cx="53290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p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s</m:t>
                        </m:r>
                      </m:e>
                    </m:ra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77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2" dur="770" fill="hold"/>
                                        <p:tgtEl>
                                          <p:spTgt spid="4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4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6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U slučaju kada nije poznata kontinualna zavisnost troškova od veličine seri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ODREĐIVANJE OPTIMALNE VELIČINE I BROJA SERIJA 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U PROCESU PROIZVODNJ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04920" y="3230640"/>
            <a:ext cx="3352680" cy="1295280"/>
            <a:chOff x="304920" y="3230640"/>
            <a:chExt cx="3352680" cy="1295280"/>
          </a:xfrm>
        </p:grpSpPr>
        <p:sp>
          <p:nvSpPr>
            <p:cNvPr id="479" name=""/>
            <p:cNvSpPr/>
            <p:nvPr/>
          </p:nvSpPr>
          <p:spPr>
            <a:xfrm>
              <a:off x="1066680" y="3230640"/>
              <a:ext cx="0" cy="1295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4920" y="3840120"/>
              <a:ext cx="33526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457200" y="3230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066680" y="323064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q</a:t>
            </a:r>
            <a:r>
              <a:rPr b="1" lang="sr-Latn-CS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3885840"/>
            <a:ext cx="68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323064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q</a:t>
            </a:r>
            <a:r>
              <a:rPr b="1" lang="sr-Latn-CS" sz="24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286000" y="323064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q</a:t>
            </a:r>
            <a:r>
              <a:rPr b="1" lang="sr-Latn-CS" sz="24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42920" y="3835080"/>
            <a:ext cx="685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1" lang="sr-Latn-CS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3860640"/>
            <a:ext cx="685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1" lang="sr-Latn-CS" sz="24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86000" y="3860640"/>
            <a:ext cx="685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1" lang="sr-Latn-CS" sz="24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676520" y="323064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323064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323064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3428640"/>
            <a:ext cx="68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95480" y="3885840"/>
            <a:ext cx="68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9000000">
            <a:off x="4365000" y="-761400"/>
            <a:ext cx="5794200" cy="580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54" y="178"/>
                </a:moveTo>
                <a:arcTo wR="10800" hR="10800" stAng="-4774616" swAng="5413237"/>
                <a:lnTo>
                  <a:pt x="10800" y="10800"/>
                </a:lnTo>
                <a:close/>
              </a:path>
              <a:path fill="none" w="21600" h="21600">
                <a:moveTo>
                  <a:pt x="12754" y="178"/>
                </a:moveTo>
                <a:arcTo wR="10800" hR="10800" stAng="-4774616" swAng="5413237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62520" y="6129360"/>
            <a:ext cx="47116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140360" y="2666880"/>
            <a:ext cx="0" cy="3556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29000" y="2791800"/>
            <a:ext cx="53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29600" y="6248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851360" y="351000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724280" y="373392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00800" y="510552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562720" y="472608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829480" y="4444920"/>
            <a:ext cx="8856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473800" y="416412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62640" y="481968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934320" y="510552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467480" y="510552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848720" y="4724280"/>
            <a:ext cx="88920" cy="9396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229600" y="500688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06760" y="313524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4191120"/>
            <a:ext cx="88920" cy="9360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918040" y="4008600"/>
            <a:ext cx="240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TR=TR(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019920" y="4343400"/>
            <a:ext cx="63504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5638680"/>
            <a:ext cx="335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TR- aproksimativna fun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809880" y="6172200"/>
            <a:ext cx="30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500"/>
                            </p:stCondLst>
                            <p:childTnLst>
                              <p:par>
                                <p:cTn id="8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000"/>
                            </p:stCondLst>
                            <p:childTnLst>
                              <p:par>
                                <p:cTn id="8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500"/>
                            </p:stCondLst>
                            <p:childTnLst>
                              <p:par>
                                <p:cTn id="8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500"/>
                            </p:stCondLst>
                            <p:childTnLst>
                              <p:par>
                                <p:cTn id="8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0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40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500"/>
                            </p:stCondLst>
                            <p:childTnLst>
                              <p:par>
                                <p:cTn id="9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60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DRE</a:t>
            </a:r>
            <a:r>
              <a:rPr b="1" lang="sl-SI" sz="3200" spc="-1" strike="noStrike">
                <a:solidFill>
                  <a:srgbClr val="333399"/>
                </a:solidFill>
                <a:latin typeface="Tahoma"/>
              </a:rPr>
              <a:t>Đ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VANJE ODGOVARAJU</a:t>
            </a:r>
            <a:r>
              <a:rPr b="1" lang="sl-SI" sz="3200" spc="-1" strike="noStrike">
                <a:solidFill>
                  <a:srgbClr val="333399"/>
                </a:solidFill>
                <a:latin typeface="Tahoma"/>
              </a:rPr>
              <a:t>Ć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G NA</a:t>
            </a:r>
            <a:r>
              <a:rPr b="1" lang="sl-SI" sz="3200" spc="-1" strike="noStrike">
                <a:solidFill>
                  <a:srgbClr val="333399"/>
                </a:solidFill>
                <a:latin typeface="Tahoma"/>
              </a:rPr>
              <a:t>ČINA PROIZVODNJE PROIZVODA IZ OPTIMALNOG PLAN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010880" y="2681280"/>
            <a:ext cx="1111680" cy="2525760"/>
            <a:chOff x="1010880" y="2681280"/>
            <a:chExt cx="1111680" cy="2525760"/>
          </a:xfrm>
        </p:grpSpPr>
        <p:sp>
          <p:nvSpPr>
            <p:cNvPr id="104" name=""/>
            <p:cNvSpPr/>
            <p:nvPr/>
          </p:nvSpPr>
          <p:spPr>
            <a:xfrm>
              <a:off x="1039680" y="3068640"/>
              <a:ext cx="1082880" cy="2138400"/>
            </a:xfrm>
            <a:custGeom>
              <a:avLst/>
              <a:gdLst/>
              <a:ahLst/>
              <a:rect l="l" t="t" r="r" b="b"/>
              <a:pathLst>
                <a:path w="1365" h="2694">
                  <a:moveTo>
                    <a:pt x="12" y="2673"/>
                  </a:moveTo>
                  <a:lnTo>
                    <a:pt x="175" y="2673"/>
                  </a:lnTo>
                  <a:lnTo>
                    <a:pt x="177" y="2675"/>
                  </a:lnTo>
                  <a:lnTo>
                    <a:pt x="178" y="2675"/>
                  </a:lnTo>
                  <a:lnTo>
                    <a:pt x="182" y="2676"/>
                  </a:lnTo>
                  <a:lnTo>
                    <a:pt x="185" y="2681"/>
                  </a:lnTo>
                  <a:lnTo>
                    <a:pt x="185" y="2682"/>
                  </a:lnTo>
                  <a:lnTo>
                    <a:pt x="185" y="2684"/>
                  </a:lnTo>
                  <a:lnTo>
                    <a:pt x="185" y="2687"/>
                  </a:lnTo>
                  <a:lnTo>
                    <a:pt x="185" y="2688"/>
                  </a:lnTo>
                  <a:lnTo>
                    <a:pt x="182" y="2691"/>
                  </a:lnTo>
                  <a:lnTo>
                    <a:pt x="178" y="2693"/>
                  </a:lnTo>
                  <a:lnTo>
                    <a:pt x="177" y="2694"/>
                  </a:lnTo>
                  <a:lnTo>
                    <a:pt x="175" y="2694"/>
                  </a:lnTo>
                  <a:lnTo>
                    <a:pt x="12" y="2694"/>
                  </a:lnTo>
                  <a:lnTo>
                    <a:pt x="9" y="2694"/>
                  </a:lnTo>
                  <a:lnTo>
                    <a:pt x="7" y="2693"/>
                  </a:lnTo>
                  <a:lnTo>
                    <a:pt x="4" y="2691"/>
                  </a:lnTo>
                  <a:lnTo>
                    <a:pt x="2" y="2688"/>
                  </a:lnTo>
                  <a:lnTo>
                    <a:pt x="0" y="2687"/>
                  </a:lnTo>
                  <a:lnTo>
                    <a:pt x="0" y="2684"/>
                  </a:lnTo>
                  <a:lnTo>
                    <a:pt x="0" y="2682"/>
                  </a:lnTo>
                  <a:lnTo>
                    <a:pt x="2" y="2681"/>
                  </a:lnTo>
                  <a:lnTo>
                    <a:pt x="4" y="2676"/>
                  </a:lnTo>
                  <a:lnTo>
                    <a:pt x="7" y="2675"/>
                  </a:lnTo>
                  <a:lnTo>
                    <a:pt x="9" y="2675"/>
                  </a:lnTo>
                  <a:lnTo>
                    <a:pt x="12" y="2673"/>
                  </a:lnTo>
                  <a:lnTo>
                    <a:pt x="12" y="2673"/>
                  </a:lnTo>
                  <a:close/>
                  <a:moveTo>
                    <a:pt x="289" y="2673"/>
                  </a:moveTo>
                  <a:lnTo>
                    <a:pt x="452" y="2673"/>
                  </a:lnTo>
                  <a:lnTo>
                    <a:pt x="455" y="2675"/>
                  </a:lnTo>
                  <a:lnTo>
                    <a:pt x="457" y="2675"/>
                  </a:lnTo>
                  <a:lnTo>
                    <a:pt x="460" y="2676"/>
                  </a:lnTo>
                  <a:lnTo>
                    <a:pt x="462" y="2681"/>
                  </a:lnTo>
                  <a:lnTo>
                    <a:pt x="464" y="2682"/>
                  </a:lnTo>
                  <a:lnTo>
                    <a:pt x="464" y="2684"/>
                  </a:lnTo>
                  <a:lnTo>
                    <a:pt x="464" y="2687"/>
                  </a:lnTo>
                  <a:lnTo>
                    <a:pt x="462" y="2688"/>
                  </a:lnTo>
                  <a:lnTo>
                    <a:pt x="460" y="2691"/>
                  </a:lnTo>
                  <a:lnTo>
                    <a:pt x="457" y="2693"/>
                  </a:lnTo>
                  <a:lnTo>
                    <a:pt x="455" y="2694"/>
                  </a:lnTo>
                  <a:lnTo>
                    <a:pt x="452" y="2694"/>
                  </a:lnTo>
                  <a:lnTo>
                    <a:pt x="289" y="2694"/>
                  </a:lnTo>
                  <a:lnTo>
                    <a:pt x="288" y="2694"/>
                  </a:lnTo>
                  <a:lnTo>
                    <a:pt x="286" y="2693"/>
                  </a:lnTo>
                  <a:lnTo>
                    <a:pt x="281" y="2691"/>
                  </a:lnTo>
                  <a:lnTo>
                    <a:pt x="279" y="2688"/>
                  </a:lnTo>
                  <a:lnTo>
                    <a:pt x="279" y="2687"/>
                  </a:lnTo>
                  <a:lnTo>
                    <a:pt x="279" y="2684"/>
                  </a:lnTo>
                  <a:lnTo>
                    <a:pt x="279" y="2682"/>
                  </a:lnTo>
                  <a:lnTo>
                    <a:pt x="279" y="2681"/>
                  </a:lnTo>
                  <a:lnTo>
                    <a:pt x="281" y="2676"/>
                  </a:lnTo>
                  <a:lnTo>
                    <a:pt x="286" y="2675"/>
                  </a:lnTo>
                  <a:lnTo>
                    <a:pt x="288" y="2675"/>
                  </a:lnTo>
                  <a:lnTo>
                    <a:pt x="289" y="2673"/>
                  </a:lnTo>
                  <a:lnTo>
                    <a:pt x="289" y="2673"/>
                  </a:lnTo>
                  <a:close/>
                  <a:moveTo>
                    <a:pt x="568" y="2673"/>
                  </a:moveTo>
                  <a:lnTo>
                    <a:pt x="731" y="2673"/>
                  </a:lnTo>
                  <a:lnTo>
                    <a:pt x="732" y="2675"/>
                  </a:lnTo>
                  <a:lnTo>
                    <a:pt x="734" y="2675"/>
                  </a:lnTo>
                  <a:lnTo>
                    <a:pt x="737" y="2676"/>
                  </a:lnTo>
                  <a:lnTo>
                    <a:pt x="741" y="2681"/>
                  </a:lnTo>
                  <a:lnTo>
                    <a:pt x="741" y="2682"/>
                  </a:lnTo>
                  <a:lnTo>
                    <a:pt x="742" y="2684"/>
                  </a:lnTo>
                  <a:lnTo>
                    <a:pt x="741" y="2687"/>
                  </a:lnTo>
                  <a:lnTo>
                    <a:pt x="741" y="2688"/>
                  </a:lnTo>
                  <a:lnTo>
                    <a:pt x="737" y="2691"/>
                  </a:lnTo>
                  <a:lnTo>
                    <a:pt x="734" y="2693"/>
                  </a:lnTo>
                  <a:lnTo>
                    <a:pt x="732" y="2694"/>
                  </a:lnTo>
                  <a:lnTo>
                    <a:pt x="731" y="2694"/>
                  </a:lnTo>
                  <a:lnTo>
                    <a:pt x="568" y="2694"/>
                  </a:lnTo>
                  <a:lnTo>
                    <a:pt x="566" y="2694"/>
                  </a:lnTo>
                  <a:lnTo>
                    <a:pt x="563" y="2693"/>
                  </a:lnTo>
                  <a:lnTo>
                    <a:pt x="560" y="2691"/>
                  </a:lnTo>
                  <a:lnTo>
                    <a:pt x="558" y="2688"/>
                  </a:lnTo>
                  <a:lnTo>
                    <a:pt x="556" y="2687"/>
                  </a:lnTo>
                  <a:lnTo>
                    <a:pt x="556" y="2684"/>
                  </a:lnTo>
                  <a:lnTo>
                    <a:pt x="556" y="2682"/>
                  </a:lnTo>
                  <a:lnTo>
                    <a:pt x="558" y="2681"/>
                  </a:lnTo>
                  <a:lnTo>
                    <a:pt x="560" y="2676"/>
                  </a:lnTo>
                  <a:lnTo>
                    <a:pt x="563" y="2675"/>
                  </a:lnTo>
                  <a:lnTo>
                    <a:pt x="566" y="2675"/>
                  </a:lnTo>
                  <a:lnTo>
                    <a:pt x="568" y="2673"/>
                  </a:lnTo>
                  <a:lnTo>
                    <a:pt x="568" y="2673"/>
                  </a:lnTo>
                  <a:close/>
                  <a:moveTo>
                    <a:pt x="845" y="2673"/>
                  </a:moveTo>
                  <a:lnTo>
                    <a:pt x="1008" y="2673"/>
                  </a:lnTo>
                  <a:lnTo>
                    <a:pt x="1011" y="2675"/>
                  </a:lnTo>
                  <a:lnTo>
                    <a:pt x="1013" y="2675"/>
                  </a:lnTo>
                  <a:lnTo>
                    <a:pt x="1016" y="2676"/>
                  </a:lnTo>
                  <a:lnTo>
                    <a:pt x="1018" y="2681"/>
                  </a:lnTo>
                  <a:lnTo>
                    <a:pt x="1020" y="2682"/>
                  </a:lnTo>
                  <a:lnTo>
                    <a:pt x="1020" y="2684"/>
                  </a:lnTo>
                  <a:lnTo>
                    <a:pt x="1020" y="2687"/>
                  </a:lnTo>
                  <a:lnTo>
                    <a:pt x="1018" y="2688"/>
                  </a:lnTo>
                  <a:lnTo>
                    <a:pt x="1016" y="2691"/>
                  </a:lnTo>
                  <a:lnTo>
                    <a:pt x="1013" y="2693"/>
                  </a:lnTo>
                  <a:lnTo>
                    <a:pt x="1011" y="2694"/>
                  </a:lnTo>
                  <a:lnTo>
                    <a:pt x="1008" y="2694"/>
                  </a:lnTo>
                  <a:lnTo>
                    <a:pt x="845" y="2694"/>
                  </a:lnTo>
                  <a:lnTo>
                    <a:pt x="843" y="2694"/>
                  </a:lnTo>
                  <a:lnTo>
                    <a:pt x="842" y="2693"/>
                  </a:lnTo>
                  <a:lnTo>
                    <a:pt x="838" y="2691"/>
                  </a:lnTo>
                  <a:lnTo>
                    <a:pt x="835" y="2688"/>
                  </a:lnTo>
                  <a:lnTo>
                    <a:pt x="835" y="2687"/>
                  </a:lnTo>
                  <a:lnTo>
                    <a:pt x="835" y="2684"/>
                  </a:lnTo>
                  <a:lnTo>
                    <a:pt x="835" y="2682"/>
                  </a:lnTo>
                  <a:lnTo>
                    <a:pt x="835" y="2681"/>
                  </a:lnTo>
                  <a:lnTo>
                    <a:pt x="838" y="2676"/>
                  </a:lnTo>
                  <a:lnTo>
                    <a:pt x="842" y="2675"/>
                  </a:lnTo>
                  <a:lnTo>
                    <a:pt x="843" y="2675"/>
                  </a:lnTo>
                  <a:lnTo>
                    <a:pt x="845" y="2673"/>
                  </a:lnTo>
                  <a:lnTo>
                    <a:pt x="845" y="2673"/>
                  </a:lnTo>
                  <a:close/>
                  <a:moveTo>
                    <a:pt x="1124" y="2673"/>
                  </a:moveTo>
                  <a:lnTo>
                    <a:pt x="1286" y="2673"/>
                  </a:lnTo>
                  <a:lnTo>
                    <a:pt x="1288" y="2675"/>
                  </a:lnTo>
                  <a:lnTo>
                    <a:pt x="1290" y="2675"/>
                  </a:lnTo>
                  <a:lnTo>
                    <a:pt x="1295" y="2676"/>
                  </a:lnTo>
                  <a:lnTo>
                    <a:pt x="1297" y="2681"/>
                  </a:lnTo>
                  <a:lnTo>
                    <a:pt x="1298" y="2682"/>
                  </a:lnTo>
                  <a:lnTo>
                    <a:pt x="1298" y="2684"/>
                  </a:lnTo>
                  <a:lnTo>
                    <a:pt x="1298" y="2687"/>
                  </a:lnTo>
                  <a:lnTo>
                    <a:pt x="1297" y="2688"/>
                  </a:lnTo>
                  <a:lnTo>
                    <a:pt x="1295" y="2691"/>
                  </a:lnTo>
                  <a:lnTo>
                    <a:pt x="1290" y="2693"/>
                  </a:lnTo>
                  <a:lnTo>
                    <a:pt x="1288" y="2694"/>
                  </a:lnTo>
                  <a:lnTo>
                    <a:pt x="1286" y="2694"/>
                  </a:lnTo>
                  <a:lnTo>
                    <a:pt x="1124" y="2694"/>
                  </a:lnTo>
                  <a:lnTo>
                    <a:pt x="1122" y="2694"/>
                  </a:lnTo>
                  <a:lnTo>
                    <a:pt x="1119" y="2693"/>
                  </a:lnTo>
                  <a:lnTo>
                    <a:pt x="1115" y="2691"/>
                  </a:lnTo>
                  <a:lnTo>
                    <a:pt x="1114" y="2688"/>
                  </a:lnTo>
                  <a:lnTo>
                    <a:pt x="1112" y="2687"/>
                  </a:lnTo>
                  <a:lnTo>
                    <a:pt x="1112" y="2684"/>
                  </a:lnTo>
                  <a:lnTo>
                    <a:pt x="1112" y="2682"/>
                  </a:lnTo>
                  <a:lnTo>
                    <a:pt x="1114" y="2681"/>
                  </a:lnTo>
                  <a:lnTo>
                    <a:pt x="1115" y="2676"/>
                  </a:lnTo>
                  <a:lnTo>
                    <a:pt x="1119" y="2675"/>
                  </a:lnTo>
                  <a:lnTo>
                    <a:pt x="1122" y="2675"/>
                  </a:lnTo>
                  <a:lnTo>
                    <a:pt x="1124" y="2673"/>
                  </a:lnTo>
                  <a:lnTo>
                    <a:pt x="1124" y="2673"/>
                  </a:lnTo>
                  <a:close/>
                  <a:moveTo>
                    <a:pt x="1343" y="2643"/>
                  </a:moveTo>
                  <a:lnTo>
                    <a:pt x="1343" y="2504"/>
                  </a:lnTo>
                  <a:lnTo>
                    <a:pt x="1343" y="2502"/>
                  </a:lnTo>
                  <a:lnTo>
                    <a:pt x="1343" y="2501"/>
                  </a:lnTo>
                  <a:lnTo>
                    <a:pt x="1346" y="2497"/>
                  </a:lnTo>
                  <a:lnTo>
                    <a:pt x="1350" y="2495"/>
                  </a:lnTo>
                  <a:lnTo>
                    <a:pt x="1351" y="2495"/>
                  </a:lnTo>
                  <a:lnTo>
                    <a:pt x="1355" y="2495"/>
                  </a:lnTo>
                  <a:lnTo>
                    <a:pt x="1356" y="2495"/>
                  </a:lnTo>
                  <a:lnTo>
                    <a:pt x="1358" y="2495"/>
                  </a:lnTo>
                  <a:lnTo>
                    <a:pt x="1361" y="2497"/>
                  </a:lnTo>
                  <a:lnTo>
                    <a:pt x="1365" y="2501"/>
                  </a:lnTo>
                  <a:lnTo>
                    <a:pt x="1365" y="2502"/>
                  </a:lnTo>
                  <a:lnTo>
                    <a:pt x="1365" y="2504"/>
                  </a:lnTo>
                  <a:lnTo>
                    <a:pt x="1365" y="2643"/>
                  </a:lnTo>
                  <a:lnTo>
                    <a:pt x="1365" y="2646"/>
                  </a:lnTo>
                  <a:lnTo>
                    <a:pt x="1365" y="2647"/>
                  </a:lnTo>
                  <a:lnTo>
                    <a:pt x="1361" y="2650"/>
                  </a:lnTo>
                  <a:lnTo>
                    <a:pt x="1358" y="2652"/>
                  </a:lnTo>
                  <a:lnTo>
                    <a:pt x="1356" y="2653"/>
                  </a:lnTo>
                  <a:lnTo>
                    <a:pt x="1355" y="2653"/>
                  </a:lnTo>
                  <a:lnTo>
                    <a:pt x="1351" y="2653"/>
                  </a:lnTo>
                  <a:lnTo>
                    <a:pt x="1350" y="2652"/>
                  </a:lnTo>
                  <a:lnTo>
                    <a:pt x="1346" y="2650"/>
                  </a:lnTo>
                  <a:lnTo>
                    <a:pt x="1343" y="2647"/>
                  </a:lnTo>
                  <a:lnTo>
                    <a:pt x="1343" y="2646"/>
                  </a:lnTo>
                  <a:lnTo>
                    <a:pt x="1343" y="2643"/>
                  </a:lnTo>
                  <a:lnTo>
                    <a:pt x="1343" y="2643"/>
                  </a:lnTo>
                  <a:close/>
                  <a:moveTo>
                    <a:pt x="1343" y="2406"/>
                  </a:moveTo>
                  <a:lnTo>
                    <a:pt x="1343" y="2267"/>
                  </a:lnTo>
                  <a:lnTo>
                    <a:pt x="1343" y="2264"/>
                  </a:lnTo>
                  <a:lnTo>
                    <a:pt x="1343" y="2263"/>
                  </a:lnTo>
                  <a:lnTo>
                    <a:pt x="1346" y="2260"/>
                  </a:lnTo>
                  <a:lnTo>
                    <a:pt x="1350" y="2258"/>
                  </a:lnTo>
                  <a:lnTo>
                    <a:pt x="1351" y="2257"/>
                  </a:lnTo>
                  <a:lnTo>
                    <a:pt x="1355" y="2257"/>
                  </a:lnTo>
                  <a:lnTo>
                    <a:pt x="1356" y="2257"/>
                  </a:lnTo>
                  <a:lnTo>
                    <a:pt x="1358" y="2258"/>
                  </a:lnTo>
                  <a:lnTo>
                    <a:pt x="1361" y="2260"/>
                  </a:lnTo>
                  <a:lnTo>
                    <a:pt x="1365" y="2263"/>
                  </a:lnTo>
                  <a:lnTo>
                    <a:pt x="1365" y="2264"/>
                  </a:lnTo>
                  <a:lnTo>
                    <a:pt x="1365" y="2267"/>
                  </a:lnTo>
                  <a:lnTo>
                    <a:pt x="1365" y="2406"/>
                  </a:lnTo>
                  <a:lnTo>
                    <a:pt x="1365" y="2407"/>
                  </a:lnTo>
                  <a:lnTo>
                    <a:pt x="1365" y="2409"/>
                  </a:lnTo>
                  <a:lnTo>
                    <a:pt x="1361" y="2412"/>
                  </a:lnTo>
                  <a:lnTo>
                    <a:pt x="1358" y="2415"/>
                  </a:lnTo>
                  <a:lnTo>
                    <a:pt x="1356" y="2415"/>
                  </a:lnTo>
                  <a:lnTo>
                    <a:pt x="1355" y="2415"/>
                  </a:lnTo>
                  <a:lnTo>
                    <a:pt x="1351" y="2415"/>
                  </a:lnTo>
                  <a:lnTo>
                    <a:pt x="1350" y="2415"/>
                  </a:lnTo>
                  <a:lnTo>
                    <a:pt x="1346" y="2412"/>
                  </a:lnTo>
                  <a:lnTo>
                    <a:pt x="1343" y="2409"/>
                  </a:lnTo>
                  <a:lnTo>
                    <a:pt x="1343" y="2407"/>
                  </a:lnTo>
                  <a:lnTo>
                    <a:pt x="1343" y="2406"/>
                  </a:lnTo>
                  <a:lnTo>
                    <a:pt x="1343" y="2406"/>
                  </a:lnTo>
                  <a:close/>
                  <a:moveTo>
                    <a:pt x="1343" y="2167"/>
                  </a:moveTo>
                  <a:lnTo>
                    <a:pt x="1343" y="2029"/>
                  </a:lnTo>
                  <a:lnTo>
                    <a:pt x="1343" y="2027"/>
                  </a:lnTo>
                  <a:lnTo>
                    <a:pt x="1343" y="2026"/>
                  </a:lnTo>
                  <a:lnTo>
                    <a:pt x="1346" y="2021"/>
                  </a:lnTo>
                  <a:lnTo>
                    <a:pt x="1350" y="2020"/>
                  </a:lnTo>
                  <a:lnTo>
                    <a:pt x="1351" y="2020"/>
                  </a:lnTo>
                  <a:lnTo>
                    <a:pt x="1355" y="2018"/>
                  </a:lnTo>
                  <a:lnTo>
                    <a:pt x="1356" y="2020"/>
                  </a:lnTo>
                  <a:lnTo>
                    <a:pt x="1358" y="2020"/>
                  </a:lnTo>
                  <a:lnTo>
                    <a:pt x="1361" y="2021"/>
                  </a:lnTo>
                  <a:lnTo>
                    <a:pt x="1365" y="2026"/>
                  </a:lnTo>
                  <a:lnTo>
                    <a:pt x="1365" y="2027"/>
                  </a:lnTo>
                  <a:lnTo>
                    <a:pt x="1365" y="2029"/>
                  </a:lnTo>
                  <a:lnTo>
                    <a:pt x="1365" y="2167"/>
                  </a:lnTo>
                  <a:lnTo>
                    <a:pt x="1365" y="2169"/>
                  </a:lnTo>
                  <a:lnTo>
                    <a:pt x="1365" y="2172"/>
                  </a:lnTo>
                  <a:lnTo>
                    <a:pt x="1361" y="2175"/>
                  </a:lnTo>
                  <a:lnTo>
                    <a:pt x="1358" y="2176"/>
                  </a:lnTo>
                  <a:lnTo>
                    <a:pt x="1356" y="2178"/>
                  </a:lnTo>
                  <a:lnTo>
                    <a:pt x="1355" y="2178"/>
                  </a:lnTo>
                  <a:lnTo>
                    <a:pt x="1351" y="2178"/>
                  </a:lnTo>
                  <a:lnTo>
                    <a:pt x="1350" y="2176"/>
                  </a:lnTo>
                  <a:lnTo>
                    <a:pt x="1346" y="2175"/>
                  </a:lnTo>
                  <a:lnTo>
                    <a:pt x="1343" y="2172"/>
                  </a:lnTo>
                  <a:lnTo>
                    <a:pt x="1343" y="2169"/>
                  </a:lnTo>
                  <a:lnTo>
                    <a:pt x="1343" y="2167"/>
                  </a:lnTo>
                  <a:lnTo>
                    <a:pt x="1343" y="2167"/>
                  </a:lnTo>
                  <a:close/>
                  <a:moveTo>
                    <a:pt x="1343" y="1929"/>
                  </a:moveTo>
                  <a:lnTo>
                    <a:pt x="1343" y="1792"/>
                  </a:lnTo>
                  <a:lnTo>
                    <a:pt x="1343" y="1789"/>
                  </a:lnTo>
                  <a:lnTo>
                    <a:pt x="1343" y="1787"/>
                  </a:lnTo>
                  <a:lnTo>
                    <a:pt x="1346" y="1784"/>
                  </a:lnTo>
                  <a:lnTo>
                    <a:pt x="1350" y="1781"/>
                  </a:lnTo>
                  <a:lnTo>
                    <a:pt x="1351" y="1781"/>
                  </a:lnTo>
                  <a:lnTo>
                    <a:pt x="1355" y="1781"/>
                  </a:lnTo>
                  <a:lnTo>
                    <a:pt x="1356" y="1781"/>
                  </a:lnTo>
                  <a:lnTo>
                    <a:pt x="1358" y="1781"/>
                  </a:lnTo>
                  <a:lnTo>
                    <a:pt x="1361" y="1784"/>
                  </a:lnTo>
                  <a:lnTo>
                    <a:pt x="1365" y="1787"/>
                  </a:lnTo>
                  <a:lnTo>
                    <a:pt x="1365" y="1789"/>
                  </a:lnTo>
                  <a:lnTo>
                    <a:pt x="1365" y="1792"/>
                  </a:lnTo>
                  <a:lnTo>
                    <a:pt x="1365" y="1929"/>
                  </a:lnTo>
                  <a:lnTo>
                    <a:pt x="1365" y="1932"/>
                  </a:lnTo>
                  <a:lnTo>
                    <a:pt x="1365" y="1933"/>
                  </a:lnTo>
                  <a:lnTo>
                    <a:pt x="1361" y="1936"/>
                  </a:lnTo>
                  <a:lnTo>
                    <a:pt x="1358" y="1939"/>
                  </a:lnTo>
                  <a:lnTo>
                    <a:pt x="1356" y="1939"/>
                  </a:lnTo>
                  <a:lnTo>
                    <a:pt x="1355" y="1939"/>
                  </a:lnTo>
                  <a:lnTo>
                    <a:pt x="1351" y="1939"/>
                  </a:lnTo>
                  <a:lnTo>
                    <a:pt x="1350" y="1939"/>
                  </a:lnTo>
                  <a:lnTo>
                    <a:pt x="1346" y="1936"/>
                  </a:lnTo>
                  <a:lnTo>
                    <a:pt x="1343" y="1933"/>
                  </a:lnTo>
                  <a:lnTo>
                    <a:pt x="1343" y="1932"/>
                  </a:lnTo>
                  <a:lnTo>
                    <a:pt x="1343" y="1929"/>
                  </a:lnTo>
                  <a:lnTo>
                    <a:pt x="1343" y="1929"/>
                  </a:lnTo>
                  <a:close/>
                  <a:moveTo>
                    <a:pt x="1343" y="1692"/>
                  </a:moveTo>
                  <a:lnTo>
                    <a:pt x="1343" y="1553"/>
                  </a:lnTo>
                  <a:lnTo>
                    <a:pt x="1343" y="1552"/>
                  </a:lnTo>
                  <a:lnTo>
                    <a:pt x="1343" y="1549"/>
                  </a:lnTo>
                  <a:lnTo>
                    <a:pt x="1346" y="1546"/>
                  </a:lnTo>
                  <a:lnTo>
                    <a:pt x="1350" y="1544"/>
                  </a:lnTo>
                  <a:lnTo>
                    <a:pt x="1351" y="1543"/>
                  </a:lnTo>
                  <a:lnTo>
                    <a:pt x="1355" y="1543"/>
                  </a:lnTo>
                  <a:lnTo>
                    <a:pt x="1356" y="1543"/>
                  </a:lnTo>
                  <a:lnTo>
                    <a:pt x="1358" y="1544"/>
                  </a:lnTo>
                  <a:lnTo>
                    <a:pt x="1361" y="1546"/>
                  </a:lnTo>
                  <a:lnTo>
                    <a:pt x="1365" y="1549"/>
                  </a:lnTo>
                  <a:lnTo>
                    <a:pt x="1365" y="1552"/>
                  </a:lnTo>
                  <a:lnTo>
                    <a:pt x="1365" y="1553"/>
                  </a:lnTo>
                  <a:lnTo>
                    <a:pt x="1365" y="1692"/>
                  </a:lnTo>
                  <a:lnTo>
                    <a:pt x="1365" y="1694"/>
                  </a:lnTo>
                  <a:lnTo>
                    <a:pt x="1365" y="1697"/>
                  </a:lnTo>
                  <a:lnTo>
                    <a:pt x="1361" y="1699"/>
                  </a:lnTo>
                  <a:lnTo>
                    <a:pt x="1358" y="1701"/>
                  </a:lnTo>
                  <a:lnTo>
                    <a:pt x="1356" y="1702"/>
                  </a:lnTo>
                  <a:lnTo>
                    <a:pt x="1355" y="1702"/>
                  </a:lnTo>
                  <a:lnTo>
                    <a:pt x="1351" y="1702"/>
                  </a:lnTo>
                  <a:lnTo>
                    <a:pt x="1350" y="1701"/>
                  </a:lnTo>
                  <a:lnTo>
                    <a:pt x="1346" y="1699"/>
                  </a:lnTo>
                  <a:lnTo>
                    <a:pt x="1343" y="1697"/>
                  </a:lnTo>
                  <a:lnTo>
                    <a:pt x="1343" y="1694"/>
                  </a:lnTo>
                  <a:lnTo>
                    <a:pt x="1343" y="1692"/>
                  </a:lnTo>
                  <a:lnTo>
                    <a:pt x="1343" y="1692"/>
                  </a:lnTo>
                  <a:close/>
                  <a:moveTo>
                    <a:pt x="1343" y="1454"/>
                  </a:moveTo>
                  <a:lnTo>
                    <a:pt x="1343" y="1316"/>
                  </a:lnTo>
                  <a:lnTo>
                    <a:pt x="1343" y="1313"/>
                  </a:lnTo>
                  <a:lnTo>
                    <a:pt x="1343" y="1312"/>
                  </a:lnTo>
                  <a:lnTo>
                    <a:pt x="1346" y="1309"/>
                  </a:lnTo>
                  <a:lnTo>
                    <a:pt x="1350" y="1306"/>
                  </a:lnTo>
                  <a:lnTo>
                    <a:pt x="1351" y="1306"/>
                  </a:lnTo>
                  <a:lnTo>
                    <a:pt x="1355" y="1306"/>
                  </a:lnTo>
                  <a:lnTo>
                    <a:pt x="1356" y="1306"/>
                  </a:lnTo>
                  <a:lnTo>
                    <a:pt x="1358" y="1306"/>
                  </a:lnTo>
                  <a:lnTo>
                    <a:pt x="1361" y="1309"/>
                  </a:lnTo>
                  <a:lnTo>
                    <a:pt x="1365" y="1312"/>
                  </a:lnTo>
                  <a:lnTo>
                    <a:pt x="1365" y="1313"/>
                  </a:lnTo>
                  <a:lnTo>
                    <a:pt x="1365" y="1316"/>
                  </a:lnTo>
                  <a:lnTo>
                    <a:pt x="1365" y="1454"/>
                  </a:lnTo>
                  <a:lnTo>
                    <a:pt x="1365" y="1457"/>
                  </a:lnTo>
                  <a:lnTo>
                    <a:pt x="1365" y="1458"/>
                  </a:lnTo>
                  <a:lnTo>
                    <a:pt x="1361" y="1461"/>
                  </a:lnTo>
                  <a:lnTo>
                    <a:pt x="1358" y="1464"/>
                  </a:lnTo>
                  <a:lnTo>
                    <a:pt x="1356" y="1464"/>
                  </a:lnTo>
                  <a:lnTo>
                    <a:pt x="1355" y="1464"/>
                  </a:lnTo>
                  <a:lnTo>
                    <a:pt x="1351" y="1464"/>
                  </a:lnTo>
                  <a:lnTo>
                    <a:pt x="1350" y="1464"/>
                  </a:lnTo>
                  <a:lnTo>
                    <a:pt x="1346" y="1461"/>
                  </a:lnTo>
                  <a:lnTo>
                    <a:pt x="1343" y="1458"/>
                  </a:lnTo>
                  <a:lnTo>
                    <a:pt x="1343" y="1457"/>
                  </a:lnTo>
                  <a:lnTo>
                    <a:pt x="1343" y="1454"/>
                  </a:lnTo>
                  <a:lnTo>
                    <a:pt x="1343" y="1454"/>
                  </a:lnTo>
                  <a:close/>
                  <a:moveTo>
                    <a:pt x="1343" y="1217"/>
                  </a:moveTo>
                  <a:lnTo>
                    <a:pt x="1343" y="1078"/>
                  </a:lnTo>
                  <a:lnTo>
                    <a:pt x="1343" y="1076"/>
                  </a:lnTo>
                  <a:lnTo>
                    <a:pt x="1343" y="1074"/>
                  </a:lnTo>
                  <a:lnTo>
                    <a:pt x="1346" y="1071"/>
                  </a:lnTo>
                  <a:lnTo>
                    <a:pt x="1350" y="1069"/>
                  </a:lnTo>
                  <a:lnTo>
                    <a:pt x="1351" y="1068"/>
                  </a:lnTo>
                  <a:lnTo>
                    <a:pt x="1355" y="1068"/>
                  </a:lnTo>
                  <a:lnTo>
                    <a:pt x="1356" y="1068"/>
                  </a:lnTo>
                  <a:lnTo>
                    <a:pt x="1358" y="1069"/>
                  </a:lnTo>
                  <a:lnTo>
                    <a:pt x="1361" y="1071"/>
                  </a:lnTo>
                  <a:lnTo>
                    <a:pt x="1365" y="1074"/>
                  </a:lnTo>
                  <a:lnTo>
                    <a:pt x="1365" y="1076"/>
                  </a:lnTo>
                  <a:lnTo>
                    <a:pt x="1365" y="1078"/>
                  </a:lnTo>
                  <a:lnTo>
                    <a:pt x="1365" y="1217"/>
                  </a:lnTo>
                  <a:lnTo>
                    <a:pt x="1365" y="1218"/>
                  </a:lnTo>
                  <a:lnTo>
                    <a:pt x="1365" y="1220"/>
                  </a:lnTo>
                  <a:lnTo>
                    <a:pt x="1361" y="1224"/>
                  </a:lnTo>
                  <a:lnTo>
                    <a:pt x="1358" y="1226"/>
                  </a:lnTo>
                  <a:lnTo>
                    <a:pt x="1356" y="1226"/>
                  </a:lnTo>
                  <a:lnTo>
                    <a:pt x="1355" y="1227"/>
                  </a:lnTo>
                  <a:lnTo>
                    <a:pt x="1351" y="1226"/>
                  </a:lnTo>
                  <a:lnTo>
                    <a:pt x="1350" y="1226"/>
                  </a:lnTo>
                  <a:lnTo>
                    <a:pt x="1346" y="1224"/>
                  </a:lnTo>
                  <a:lnTo>
                    <a:pt x="1343" y="1220"/>
                  </a:lnTo>
                  <a:lnTo>
                    <a:pt x="1343" y="1218"/>
                  </a:lnTo>
                  <a:lnTo>
                    <a:pt x="1343" y="1217"/>
                  </a:lnTo>
                  <a:lnTo>
                    <a:pt x="1343" y="1217"/>
                  </a:lnTo>
                  <a:close/>
                  <a:moveTo>
                    <a:pt x="1343" y="978"/>
                  </a:moveTo>
                  <a:lnTo>
                    <a:pt x="1343" y="840"/>
                  </a:lnTo>
                  <a:lnTo>
                    <a:pt x="1343" y="838"/>
                  </a:lnTo>
                  <a:lnTo>
                    <a:pt x="1343" y="837"/>
                  </a:lnTo>
                  <a:lnTo>
                    <a:pt x="1346" y="834"/>
                  </a:lnTo>
                  <a:lnTo>
                    <a:pt x="1350" y="831"/>
                  </a:lnTo>
                  <a:lnTo>
                    <a:pt x="1351" y="831"/>
                  </a:lnTo>
                  <a:lnTo>
                    <a:pt x="1355" y="831"/>
                  </a:lnTo>
                  <a:lnTo>
                    <a:pt x="1356" y="831"/>
                  </a:lnTo>
                  <a:lnTo>
                    <a:pt x="1358" y="831"/>
                  </a:lnTo>
                  <a:lnTo>
                    <a:pt x="1361" y="834"/>
                  </a:lnTo>
                  <a:lnTo>
                    <a:pt x="1365" y="837"/>
                  </a:lnTo>
                  <a:lnTo>
                    <a:pt x="1365" y="838"/>
                  </a:lnTo>
                  <a:lnTo>
                    <a:pt x="1365" y="840"/>
                  </a:lnTo>
                  <a:lnTo>
                    <a:pt x="1365" y="978"/>
                  </a:lnTo>
                  <a:lnTo>
                    <a:pt x="1365" y="981"/>
                  </a:lnTo>
                  <a:lnTo>
                    <a:pt x="1365" y="983"/>
                  </a:lnTo>
                  <a:lnTo>
                    <a:pt x="1361" y="986"/>
                  </a:lnTo>
                  <a:lnTo>
                    <a:pt x="1358" y="987"/>
                  </a:lnTo>
                  <a:lnTo>
                    <a:pt x="1356" y="989"/>
                  </a:lnTo>
                  <a:lnTo>
                    <a:pt x="1355" y="989"/>
                  </a:lnTo>
                  <a:lnTo>
                    <a:pt x="1351" y="989"/>
                  </a:lnTo>
                  <a:lnTo>
                    <a:pt x="1350" y="987"/>
                  </a:lnTo>
                  <a:lnTo>
                    <a:pt x="1346" y="986"/>
                  </a:lnTo>
                  <a:lnTo>
                    <a:pt x="1343" y="983"/>
                  </a:lnTo>
                  <a:lnTo>
                    <a:pt x="1343" y="981"/>
                  </a:lnTo>
                  <a:lnTo>
                    <a:pt x="1343" y="978"/>
                  </a:lnTo>
                  <a:lnTo>
                    <a:pt x="1343" y="978"/>
                  </a:lnTo>
                  <a:close/>
                  <a:moveTo>
                    <a:pt x="1343" y="742"/>
                  </a:moveTo>
                  <a:lnTo>
                    <a:pt x="1343" y="603"/>
                  </a:lnTo>
                  <a:lnTo>
                    <a:pt x="1343" y="600"/>
                  </a:lnTo>
                  <a:lnTo>
                    <a:pt x="1343" y="598"/>
                  </a:lnTo>
                  <a:lnTo>
                    <a:pt x="1346" y="595"/>
                  </a:lnTo>
                  <a:lnTo>
                    <a:pt x="1350" y="594"/>
                  </a:lnTo>
                  <a:lnTo>
                    <a:pt x="1351" y="592"/>
                  </a:lnTo>
                  <a:lnTo>
                    <a:pt x="1355" y="592"/>
                  </a:lnTo>
                  <a:lnTo>
                    <a:pt x="1356" y="592"/>
                  </a:lnTo>
                  <a:lnTo>
                    <a:pt x="1358" y="594"/>
                  </a:lnTo>
                  <a:lnTo>
                    <a:pt x="1361" y="595"/>
                  </a:lnTo>
                  <a:lnTo>
                    <a:pt x="1365" y="598"/>
                  </a:lnTo>
                  <a:lnTo>
                    <a:pt x="1365" y="600"/>
                  </a:lnTo>
                  <a:lnTo>
                    <a:pt x="1365" y="603"/>
                  </a:lnTo>
                  <a:lnTo>
                    <a:pt x="1365" y="742"/>
                  </a:lnTo>
                  <a:lnTo>
                    <a:pt x="1365" y="743"/>
                  </a:lnTo>
                  <a:lnTo>
                    <a:pt x="1365" y="744"/>
                  </a:lnTo>
                  <a:lnTo>
                    <a:pt x="1361" y="747"/>
                  </a:lnTo>
                  <a:lnTo>
                    <a:pt x="1358" y="750"/>
                  </a:lnTo>
                  <a:lnTo>
                    <a:pt x="1356" y="750"/>
                  </a:lnTo>
                  <a:lnTo>
                    <a:pt x="1355" y="750"/>
                  </a:lnTo>
                  <a:lnTo>
                    <a:pt x="1351" y="750"/>
                  </a:lnTo>
                  <a:lnTo>
                    <a:pt x="1350" y="750"/>
                  </a:lnTo>
                  <a:lnTo>
                    <a:pt x="1346" y="747"/>
                  </a:lnTo>
                  <a:lnTo>
                    <a:pt x="1343" y="744"/>
                  </a:lnTo>
                  <a:lnTo>
                    <a:pt x="1343" y="743"/>
                  </a:lnTo>
                  <a:lnTo>
                    <a:pt x="1343" y="742"/>
                  </a:lnTo>
                  <a:lnTo>
                    <a:pt x="1343" y="742"/>
                  </a:lnTo>
                  <a:close/>
                  <a:moveTo>
                    <a:pt x="1343" y="503"/>
                  </a:moveTo>
                  <a:lnTo>
                    <a:pt x="1343" y="364"/>
                  </a:lnTo>
                  <a:lnTo>
                    <a:pt x="1343" y="363"/>
                  </a:lnTo>
                  <a:lnTo>
                    <a:pt x="1343" y="361"/>
                  </a:lnTo>
                  <a:lnTo>
                    <a:pt x="1346" y="357"/>
                  </a:lnTo>
                  <a:lnTo>
                    <a:pt x="1350" y="355"/>
                  </a:lnTo>
                  <a:lnTo>
                    <a:pt x="1351" y="355"/>
                  </a:lnTo>
                  <a:lnTo>
                    <a:pt x="1355" y="355"/>
                  </a:lnTo>
                  <a:lnTo>
                    <a:pt x="1356" y="355"/>
                  </a:lnTo>
                  <a:lnTo>
                    <a:pt x="1358" y="355"/>
                  </a:lnTo>
                  <a:lnTo>
                    <a:pt x="1361" y="357"/>
                  </a:lnTo>
                  <a:lnTo>
                    <a:pt x="1365" y="361"/>
                  </a:lnTo>
                  <a:lnTo>
                    <a:pt x="1365" y="363"/>
                  </a:lnTo>
                  <a:lnTo>
                    <a:pt x="1365" y="364"/>
                  </a:lnTo>
                  <a:lnTo>
                    <a:pt x="1365" y="503"/>
                  </a:lnTo>
                  <a:lnTo>
                    <a:pt x="1365" y="505"/>
                  </a:lnTo>
                  <a:lnTo>
                    <a:pt x="1365" y="508"/>
                  </a:lnTo>
                  <a:lnTo>
                    <a:pt x="1361" y="510"/>
                  </a:lnTo>
                  <a:lnTo>
                    <a:pt x="1358" y="512"/>
                  </a:lnTo>
                  <a:lnTo>
                    <a:pt x="1356" y="513"/>
                  </a:lnTo>
                  <a:lnTo>
                    <a:pt x="1355" y="513"/>
                  </a:lnTo>
                  <a:lnTo>
                    <a:pt x="1351" y="513"/>
                  </a:lnTo>
                  <a:lnTo>
                    <a:pt x="1350" y="512"/>
                  </a:lnTo>
                  <a:lnTo>
                    <a:pt x="1346" y="510"/>
                  </a:lnTo>
                  <a:lnTo>
                    <a:pt x="1343" y="508"/>
                  </a:lnTo>
                  <a:lnTo>
                    <a:pt x="1343" y="505"/>
                  </a:lnTo>
                  <a:lnTo>
                    <a:pt x="1343" y="503"/>
                  </a:lnTo>
                  <a:lnTo>
                    <a:pt x="1343" y="503"/>
                  </a:lnTo>
                  <a:close/>
                  <a:moveTo>
                    <a:pt x="1343" y="266"/>
                  </a:moveTo>
                  <a:lnTo>
                    <a:pt x="1343" y="127"/>
                  </a:lnTo>
                  <a:lnTo>
                    <a:pt x="1343" y="124"/>
                  </a:lnTo>
                  <a:lnTo>
                    <a:pt x="1343" y="123"/>
                  </a:lnTo>
                  <a:lnTo>
                    <a:pt x="1346" y="120"/>
                  </a:lnTo>
                  <a:lnTo>
                    <a:pt x="1350" y="117"/>
                  </a:lnTo>
                  <a:lnTo>
                    <a:pt x="1351" y="117"/>
                  </a:lnTo>
                  <a:lnTo>
                    <a:pt x="1355" y="117"/>
                  </a:lnTo>
                  <a:lnTo>
                    <a:pt x="1356" y="117"/>
                  </a:lnTo>
                  <a:lnTo>
                    <a:pt x="1358" y="117"/>
                  </a:lnTo>
                  <a:lnTo>
                    <a:pt x="1361" y="120"/>
                  </a:lnTo>
                  <a:lnTo>
                    <a:pt x="1365" y="123"/>
                  </a:lnTo>
                  <a:lnTo>
                    <a:pt x="1365" y="124"/>
                  </a:lnTo>
                  <a:lnTo>
                    <a:pt x="1365" y="127"/>
                  </a:lnTo>
                  <a:lnTo>
                    <a:pt x="1365" y="266"/>
                  </a:lnTo>
                  <a:lnTo>
                    <a:pt x="1365" y="268"/>
                  </a:lnTo>
                  <a:lnTo>
                    <a:pt x="1365" y="269"/>
                  </a:lnTo>
                  <a:lnTo>
                    <a:pt x="1361" y="272"/>
                  </a:lnTo>
                  <a:lnTo>
                    <a:pt x="1358" y="275"/>
                  </a:lnTo>
                  <a:lnTo>
                    <a:pt x="1356" y="275"/>
                  </a:lnTo>
                  <a:lnTo>
                    <a:pt x="1355" y="275"/>
                  </a:lnTo>
                  <a:lnTo>
                    <a:pt x="1351" y="275"/>
                  </a:lnTo>
                  <a:lnTo>
                    <a:pt x="1350" y="275"/>
                  </a:lnTo>
                  <a:lnTo>
                    <a:pt x="1346" y="272"/>
                  </a:lnTo>
                  <a:lnTo>
                    <a:pt x="1343" y="269"/>
                  </a:lnTo>
                  <a:lnTo>
                    <a:pt x="1343" y="268"/>
                  </a:lnTo>
                  <a:lnTo>
                    <a:pt x="1343" y="266"/>
                  </a:lnTo>
                  <a:lnTo>
                    <a:pt x="1343" y="266"/>
                  </a:lnTo>
                  <a:close/>
                  <a:moveTo>
                    <a:pt x="1343" y="28"/>
                  </a:moveTo>
                  <a:lnTo>
                    <a:pt x="1343" y="9"/>
                  </a:lnTo>
                  <a:lnTo>
                    <a:pt x="1355" y="19"/>
                  </a:lnTo>
                  <a:lnTo>
                    <a:pt x="1213" y="19"/>
                  </a:lnTo>
                  <a:lnTo>
                    <a:pt x="1211" y="19"/>
                  </a:lnTo>
                  <a:lnTo>
                    <a:pt x="1209" y="19"/>
                  </a:lnTo>
                  <a:lnTo>
                    <a:pt x="1204" y="16"/>
                  </a:lnTo>
                  <a:lnTo>
                    <a:pt x="1202" y="13"/>
                  </a:lnTo>
                  <a:lnTo>
                    <a:pt x="1202" y="12"/>
                  </a:lnTo>
                  <a:lnTo>
                    <a:pt x="1202" y="9"/>
                  </a:lnTo>
                  <a:lnTo>
                    <a:pt x="1202" y="7"/>
                  </a:lnTo>
                  <a:lnTo>
                    <a:pt x="1202" y="6"/>
                  </a:lnTo>
                  <a:lnTo>
                    <a:pt x="1204" y="3"/>
                  </a:lnTo>
                  <a:lnTo>
                    <a:pt x="1209" y="0"/>
                  </a:lnTo>
                  <a:lnTo>
                    <a:pt x="1211" y="0"/>
                  </a:lnTo>
                  <a:lnTo>
                    <a:pt x="1213" y="0"/>
                  </a:lnTo>
                  <a:lnTo>
                    <a:pt x="1355" y="0"/>
                  </a:lnTo>
                  <a:lnTo>
                    <a:pt x="1356" y="0"/>
                  </a:lnTo>
                  <a:lnTo>
                    <a:pt x="1358" y="0"/>
                  </a:lnTo>
                  <a:lnTo>
                    <a:pt x="1361" y="3"/>
                  </a:lnTo>
                  <a:lnTo>
                    <a:pt x="1365" y="6"/>
                  </a:lnTo>
                  <a:lnTo>
                    <a:pt x="1365" y="7"/>
                  </a:lnTo>
                  <a:lnTo>
                    <a:pt x="1365" y="9"/>
                  </a:lnTo>
                  <a:lnTo>
                    <a:pt x="1365" y="28"/>
                  </a:lnTo>
                  <a:lnTo>
                    <a:pt x="1365" y="29"/>
                  </a:lnTo>
                  <a:lnTo>
                    <a:pt x="1365" y="32"/>
                  </a:lnTo>
                  <a:lnTo>
                    <a:pt x="1361" y="35"/>
                  </a:lnTo>
                  <a:lnTo>
                    <a:pt x="1358" y="37"/>
                  </a:lnTo>
                  <a:lnTo>
                    <a:pt x="1356" y="38"/>
                  </a:lnTo>
                  <a:lnTo>
                    <a:pt x="1355" y="38"/>
                  </a:lnTo>
                  <a:lnTo>
                    <a:pt x="1351" y="38"/>
                  </a:lnTo>
                  <a:lnTo>
                    <a:pt x="1350" y="37"/>
                  </a:lnTo>
                  <a:lnTo>
                    <a:pt x="1346" y="35"/>
                  </a:lnTo>
                  <a:lnTo>
                    <a:pt x="1343" y="32"/>
                  </a:lnTo>
                  <a:lnTo>
                    <a:pt x="1343" y="29"/>
                  </a:lnTo>
                  <a:lnTo>
                    <a:pt x="1343" y="28"/>
                  </a:lnTo>
                  <a:lnTo>
                    <a:pt x="1343" y="28"/>
                  </a:lnTo>
                  <a:close/>
                  <a:moveTo>
                    <a:pt x="1098" y="19"/>
                  </a:moveTo>
                  <a:lnTo>
                    <a:pt x="936" y="19"/>
                  </a:lnTo>
                  <a:lnTo>
                    <a:pt x="932" y="19"/>
                  </a:lnTo>
                  <a:lnTo>
                    <a:pt x="931" y="19"/>
                  </a:lnTo>
                  <a:lnTo>
                    <a:pt x="927" y="16"/>
                  </a:lnTo>
                  <a:lnTo>
                    <a:pt x="925" y="13"/>
                  </a:lnTo>
                  <a:lnTo>
                    <a:pt x="924" y="12"/>
                  </a:lnTo>
                  <a:lnTo>
                    <a:pt x="924" y="9"/>
                  </a:lnTo>
                  <a:lnTo>
                    <a:pt x="924" y="7"/>
                  </a:lnTo>
                  <a:lnTo>
                    <a:pt x="925" y="6"/>
                  </a:lnTo>
                  <a:lnTo>
                    <a:pt x="927" y="3"/>
                  </a:lnTo>
                  <a:lnTo>
                    <a:pt x="931" y="0"/>
                  </a:lnTo>
                  <a:lnTo>
                    <a:pt x="932" y="0"/>
                  </a:lnTo>
                  <a:lnTo>
                    <a:pt x="936" y="0"/>
                  </a:lnTo>
                  <a:lnTo>
                    <a:pt x="1098" y="0"/>
                  </a:lnTo>
                  <a:lnTo>
                    <a:pt x="1100" y="0"/>
                  </a:lnTo>
                  <a:lnTo>
                    <a:pt x="1102" y="0"/>
                  </a:lnTo>
                  <a:lnTo>
                    <a:pt x="1105" y="3"/>
                  </a:lnTo>
                  <a:lnTo>
                    <a:pt x="1108" y="6"/>
                  </a:lnTo>
                  <a:lnTo>
                    <a:pt x="1108" y="7"/>
                  </a:lnTo>
                  <a:lnTo>
                    <a:pt x="1108" y="9"/>
                  </a:lnTo>
                  <a:lnTo>
                    <a:pt x="1108" y="12"/>
                  </a:lnTo>
                  <a:lnTo>
                    <a:pt x="1108" y="13"/>
                  </a:lnTo>
                  <a:lnTo>
                    <a:pt x="1105" y="16"/>
                  </a:lnTo>
                  <a:lnTo>
                    <a:pt x="1102" y="19"/>
                  </a:lnTo>
                  <a:lnTo>
                    <a:pt x="1100" y="19"/>
                  </a:lnTo>
                  <a:lnTo>
                    <a:pt x="1098" y="19"/>
                  </a:lnTo>
                  <a:lnTo>
                    <a:pt x="1098" y="19"/>
                  </a:lnTo>
                  <a:close/>
                  <a:moveTo>
                    <a:pt x="819" y="19"/>
                  </a:moveTo>
                  <a:lnTo>
                    <a:pt x="657" y="19"/>
                  </a:lnTo>
                  <a:lnTo>
                    <a:pt x="655" y="19"/>
                  </a:lnTo>
                  <a:lnTo>
                    <a:pt x="654" y="19"/>
                  </a:lnTo>
                  <a:lnTo>
                    <a:pt x="648" y="16"/>
                  </a:lnTo>
                  <a:lnTo>
                    <a:pt x="647" y="13"/>
                  </a:lnTo>
                  <a:lnTo>
                    <a:pt x="647" y="12"/>
                  </a:lnTo>
                  <a:lnTo>
                    <a:pt x="645" y="9"/>
                  </a:lnTo>
                  <a:lnTo>
                    <a:pt x="647" y="7"/>
                  </a:lnTo>
                  <a:lnTo>
                    <a:pt x="647" y="6"/>
                  </a:lnTo>
                  <a:lnTo>
                    <a:pt x="648" y="3"/>
                  </a:lnTo>
                  <a:lnTo>
                    <a:pt x="654" y="0"/>
                  </a:lnTo>
                  <a:lnTo>
                    <a:pt x="655" y="0"/>
                  </a:lnTo>
                  <a:lnTo>
                    <a:pt x="657" y="0"/>
                  </a:lnTo>
                  <a:lnTo>
                    <a:pt x="819" y="0"/>
                  </a:lnTo>
                  <a:lnTo>
                    <a:pt x="821" y="0"/>
                  </a:lnTo>
                  <a:lnTo>
                    <a:pt x="825" y="0"/>
                  </a:lnTo>
                  <a:lnTo>
                    <a:pt x="828" y="3"/>
                  </a:lnTo>
                  <a:lnTo>
                    <a:pt x="830" y="6"/>
                  </a:lnTo>
                  <a:lnTo>
                    <a:pt x="831" y="7"/>
                  </a:lnTo>
                  <a:lnTo>
                    <a:pt x="831" y="9"/>
                  </a:lnTo>
                  <a:lnTo>
                    <a:pt x="831" y="12"/>
                  </a:lnTo>
                  <a:lnTo>
                    <a:pt x="830" y="13"/>
                  </a:lnTo>
                  <a:lnTo>
                    <a:pt x="828" y="16"/>
                  </a:lnTo>
                  <a:lnTo>
                    <a:pt x="825" y="19"/>
                  </a:lnTo>
                  <a:lnTo>
                    <a:pt x="821" y="19"/>
                  </a:lnTo>
                  <a:lnTo>
                    <a:pt x="819" y="19"/>
                  </a:lnTo>
                  <a:lnTo>
                    <a:pt x="819" y="19"/>
                  </a:lnTo>
                  <a:close/>
                  <a:moveTo>
                    <a:pt x="541" y="19"/>
                  </a:moveTo>
                  <a:lnTo>
                    <a:pt x="380" y="19"/>
                  </a:lnTo>
                  <a:lnTo>
                    <a:pt x="377" y="19"/>
                  </a:lnTo>
                  <a:lnTo>
                    <a:pt x="375" y="19"/>
                  </a:lnTo>
                  <a:lnTo>
                    <a:pt x="371" y="16"/>
                  </a:lnTo>
                  <a:lnTo>
                    <a:pt x="368" y="13"/>
                  </a:lnTo>
                  <a:lnTo>
                    <a:pt x="368" y="12"/>
                  </a:lnTo>
                  <a:lnTo>
                    <a:pt x="368" y="9"/>
                  </a:lnTo>
                  <a:lnTo>
                    <a:pt x="368" y="7"/>
                  </a:lnTo>
                  <a:lnTo>
                    <a:pt x="368" y="6"/>
                  </a:lnTo>
                  <a:lnTo>
                    <a:pt x="371" y="3"/>
                  </a:lnTo>
                  <a:lnTo>
                    <a:pt x="375" y="0"/>
                  </a:lnTo>
                  <a:lnTo>
                    <a:pt x="377" y="0"/>
                  </a:lnTo>
                  <a:lnTo>
                    <a:pt x="380" y="0"/>
                  </a:lnTo>
                  <a:lnTo>
                    <a:pt x="541" y="0"/>
                  </a:lnTo>
                  <a:lnTo>
                    <a:pt x="544" y="0"/>
                  </a:lnTo>
                  <a:lnTo>
                    <a:pt x="546" y="0"/>
                  </a:lnTo>
                  <a:lnTo>
                    <a:pt x="549" y="3"/>
                  </a:lnTo>
                  <a:lnTo>
                    <a:pt x="553" y="6"/>
                  </a:lnTo>
                  <a:lnTo>
                    <a:pt x="553" y="7"/>
                  </a:lnTo>
                  <a:lnTo>
                    <a:pt x="553" y="9"/>
                  </a:lnTo>
                  <a:lnTo>
                    <a:pt x="553" y="12"/>
                  </a:lnTo>
                  <a:lnTo>
                    <a:pt x="553" y="13"/>
                  </a:lnTo>
                  <a:lnTo>
                    <a:pt x="549" y="16"/>
                  </a:lnTo>
                  <a:lnTo>
                    <a:pt x="546" y="19"/>
                  </a:lnTo>
                  <a:lnTo>
                    <a:pt x="544" y="19"/>
                  </a:lnTo>
                  <a:lnTo>
                    <a:pt x="541" y="19"/>
                  </a:lnTo>
                  <a:lnTo>
                    <a:pt x="541" y="19"/>
                  </a:lnTo>
                  <a:close/>
                  <a:moveTo>
                    <a:pt x="264" y="19"/>
                  </a:moveTo>
                  <a:lnTo>
                    <a:pt x="101" y="19"/>
                  </a:lnTo>
                  <a:lnTo>
                    <a:pt x="100" y="19"/>
                  </a:lnTo>
                  <a:lnTo>
                    <a:pt x="96" y="19"/>
                  </a:lnTo>
                  <a:lnTo>
                    <a:pt x="93" y="16"/>
                  </a:lnTo>
                  <a:lnTo>
                    <a:pt x="91" y="13"/>
                  </a:lnTo>
                  <a:lnTo>
                    <a:pt x="89" y="12"/>
                  </a:lnTo>
                  <a:lnTo>
                    <a:pt x="89" y="9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3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9" y="0"/>
                  </a:lnTo>
                  <a:lnTo>
                    <a:pt x="272" y="3"/>
                  </a:lnTo>
                  <a:lnTo>
                    <a:pt x="274" y="6"/>
                  </a:lnTo>
                  <a:lnTo>
                    <a:pt x="276" y="7"/>
                  </a:lnTo>
                  <a:lnTo>
                    <a:pt x="276" y="9"/>
                  </a:lnTo>
                  <a:lnTo>
                    <a:pt x="276" y="12"/>
                  </a:lnTo>
                  <a:lnTo>
                    <a:pt x="274" y="13"/>
                  </a:lnTo>
                  <a:lnTo>
                    <a:pt x="272" y="16"/>
                  </a:lnTo>
                  <a:lnTo>
                    <a:pt x="269" y="19"/>
                  </a:lnTo>
                  <a:lnTo>
                    <a:pt x="265" y="19"/>
                  </a:lnTo>
                  <a:lnTo>
                    <a:pt x="264" y="19"/>
                  </a:lnTo>
                  <a:lnTo>
                    <a:pt x="264" y="19"/>
                  </a:lnTo>
                  <a:close/>
                  <a:moveTo>
                    <a:pt x="24" y="32"/>
                  </a:moveTo>
                  <a:lnTo>
                    <a:pt x="24" y="171"/>
                  </a:lnTo>
                  <a:lnTo>
                    <a:pt x="23" y="173"/>
                  </a:lnTo>
                  <a:lnTo>
                    <a:pt x="23" y="174"/>
                  </a:lnTo>
                  <a:lnTo>
                    <a:pt x="21" y="177"/>
                  </a:lnTo>
                  <a:lnTo>
                    <a:pt x="16" y="180"/>
                  </a:lnTo>
                  <a:lnTo>
                    <a:pt x="14" y="180"/>
                  </a:lnTo>
                  <a:lnTo>
                    <a:pt x="12" y="180"/>
                  </a:lnTo>
                  <a:lnTo>
                    <a:pt x="9" y="180"/>
                  </a:lnTo>
                  <a:lnTo>
                    <a:pt x="7" y="180"/>
                  </a:lnTo>
                  <a:lnTo>
                    <a:pt x="4" y="177"/>
                  </a:lnTo>
                  <a:lnTo>
                    <a:pt x="2" y="174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21" y="25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4" y="32"/>
                  </a:lnTo>
                  <a:lnTo>
                    <a:pt x="24" y="32"/>
                  </a:lnTo>
                  <a:close/>
                  <a:moveTo>
                    <a:pt x="24" y="269"/>
                  </a:moveTo>
                  <a:lnTo>
                    <a:pt x="24" y="408"/>
                  </a:lnTo>
                  <a:lnTo>
                    <a:pt x="23" y="411"/>
                  </a:lnTo>
                  <a:lnTo>
                    <a:pt x="23" y="412"/>
                  </a:lnTo>
                  <a:lnTo>
                    <a:pt x="21" y="415"/>
                  </a:lnTo>
                  <a:lnTo>
                    <a:pt x="16" y="417"/>
                  </a:lnTo>
                  <a:lnTo>
                    <a:pt x="14" y="418"/>
                  </a:lnTo>
                  <a:lnTo>
                    <a:pt x="12" y="418"/>
                  </a:lnTo>
                  <a:lnTo>
                    <a:pt x="9" y="418"/>
                  </a:lnTo>
                  <a:lnTo>
                    <a:pt x="7" y="417"/>
                  </a:lnTo>
                  <a:lnTo>
                    <a:pt x="4" y="415"/>
                  </a:lnTo>
                  <a:lnTo>
                    <a:pt x="2" y="412"/>
                  </a:lnTo>
                  <a:lnTo>
                    <a:pt x="0" y="411"/>
                  </a:lnTo>
                  <a:lnTo>
                    <a:pt x="0" y="408"/>
                  </a:lnTo>
                  <a:lnTo>
                    <a:pt x="0" y="269"/>
                  </a:lnTo>
                  <a:lnTo>
                    <a:pt x="0" y="268"/>
                  </a:lnTo>
                  <a:lnTo>
                    <a:pt x="2" y="266"/>
                  </a:lnTo>
                  <a:lnTo>
                    <a:pt x="4" y="263"/>
                  </a:lnTo>
                  <a:lnTo>
                    <a:pt x="7" y="260"/>
                  </a:lnTo>
                  <a:lnTo>
                    <a:pt x="9" y="260"/>
                  </a:lnTo>
                  <a:lnTo>
                    <a:pt x="12" y="260"/>
                  </a:lnTo>
                  <a:lnTo>
                    <a:pt x="14" y="260"/>
                  </a:lnTo>
                  <a:lnTo>
                    <a:pt x="16" y="260"/>
                  </a:lnTo>
                  <a:lnTo>
                    <a:pt x="21" y="263"/>
                  </a:lnTo>
                  <a:lnTo>
                    <a:pt x="23" y="266"/>
                  </a:lnTo>
                  <a:lnTo>
                    <a:pt x="23" y="268"/>
                  </a:lnTo>
                  <a:lnTo>
                    <a:pt x="24" y="269"/>
                  </a:lnTo>
                  <a:lnTo>
                    <a:pt x="24" y="269"/>
                  </a:lnTo>
                  <a:close/>
                  <a:moveTo>
                    <a:pt x="24" y="508"/>
                  </a:moveTo>
                  <a:lnTo>
                    <a:pt x="24" y="646"/>
                  </a:lnTo>
                  <a:lnTo>
                    <a:pt x="23" y="648"/>
                  </a:lnTo>
                  <a:lnTo>
                    <a:pt x="23" y="649"/>
                  </a:lnTo>
                  <a:lnTo>
                    <a:pt x="21" y="654"/>
                  </a:lnTo>
                  <a:lnTo>
                    <a:pt x="16" y="655"/>
                  </a:lnTo>
                  <a:lnTo>
                    <a:pt x="14" y="655"/>
                  </a:lnTo>
                  <a:lnTo>
                    <a:pt x="12" y="657"/>
                  </a:lnTo>
                  <a:lnTo>
                    <a:pt x="9" y="655"/>
                  </a:lnTo>
                  <a:lnTo>
                    <a:pt x="7" y="655"/>
                  </a:lnTo>
                  <a:lnTo>
                    <a:pt x="4" y="654"/>
                  </a:lnTo>
                  <a:lnTo>
                    <a:pt x="2" y="649"/>
                  </a:lnTo>
                  <a:lnTo>
                    <a:pt x="0" y="648"/>
                  </a:lnTo>
                  <a:lnTo>
                    <a:pt x="0" y="646"/>
                  </a:lnTo>
                  <a:lnTo>
                    <a:pt x="0" y="508"/>
                  </a:lnTo>
                  <a:lnTo>
                    <a:pt x="0" y="506"/>
                  </a:lnTo>
                  <a:lnTo>
                    <a:pt x="2" y="503"/>
                  </a:lnTo>
                  <a:lnTo>
                    <a:pt x="4" y="500"/>
                  </a:lnTo>
                  <a:lnTo>
                    <a:pt x="7" y="499"/>
                  </a:lnTo>
                  <a:lnTo>
                    <a:pt x="9" y="497"/>
                  </a:lnTo>
                  <a:lnTo>
                    <a:pt x="12" y="497"/>
                  </a:lnTo>
                  <a:lnTo>
                    <a:pt x="14" y="497"/>
                  </a:lnTo>
                  <a:lnTo>
                    <a:pt x="16" y="499"/>
                  </a:lnTo>
                  <a:lnTo>
                    <a:pt x="21" y="500"/>
                  </a:lnTo>
                  <a:lnTo>
                    <a:pt x="23" y="503"/>
                  </a:lnTo>
                  <a:lnTo>
                    <a:pt x="23" y="506"/>
                  </a:lnTo>
                  <a:lnTo>
                    <a:pt x="24" y="508"/>
                  </a:lnTo>
                  <a:lnTo>
                    <a:pt x="24" y="508"/>
                  </a:lnTo>
                  <a:close/>
                  <a:moveTo>
                    <a:pt x="24" y="744"/>
                  </a:moveTo>
                  <a:lnTo>
                    <a:pt x="24" y="883"/>
                  </a:lnTo>
                  <a:lnTo>
                    <a:pt x="23" y="886"/>
                  </a:lnTo>
                  <a:lnTo>
                    <a:pt x="23" y="888"/>
                  </a:lnTo>
                  <a:lnTo>
                    <a:pt x="21" y="891"/>
                  </a:lnTo>
                  <a:lnTo>
                    <a:pt x="16" y="892"/>
                  </a:lnTo>
                  <a:lnTo>
                    <a:pt x="14" y="894"/>
                  </a:lnTo>
                  <a:lnTo>
                    <a:pt x="12" y="894"/>
                  </a:lnTo>
                  <a:lnTo>
                    <a:pt x="9" y="894"/>
                  </a:lnTo>
                  <a:lnTo>
                    <a:pt x="7" y="892"/>
                  </a:lnTo>
                  <a:lnTo>
                    <a:pt x="4" y="891"/>
                  </a:lnTo>
                  <a:lnTo>
                    <a:pt x="2" y="888"/>
                  </a:lnTo>
                  <a:lnTo>
                    <a:pt x="0" y="886"/>
                  </a:lnTo>
                  <a:lnTo>
                    <a:pt x="0" y="883"/>
                  </a:lnTo>
                  <a:lnTo>
                    <a:pt x="0" y="744"/>
                  </a:lnTo>
                  <a:lnTo>
                    <a:pt x="0" y="743"/>
                  </a:lnTo>
                  <a:lnTo>
                    <a:pt x="2" y="742"/>
                  </a:lnTo>
                  <a:lnTo>
                    <a:pt x="4" y="739"/>
                  </a:lnTo>
                  <a:lnTo>
                    <a:pt x="7" y="736"/>
                  </a:lnTo>
                  <a:lnTo>
                    <a:pt x="9" y="736"/>
                  </a:lnTo>
                  <a:lnTo>
                    <a:pt x="12" y="736"/>
                  </a:lnTo>
                  <a:lnTo>
                    <a:pt x="14" y="736"/>
                  </a:lnTo>
                  <a:lnTo>
                    <a:pt x="16" y="736"/>
                  </a:lnTo>
                  <a:lnTo>
                    <a:pt x="21" y="739"/>
                  </a:lnTo>
                  <a:lnTo>
                    <a:pt x="23" y="742"/>
                  </a:lnTo>
                  <a:lnTo>
                    <a:pt x="23" y="743"/>
                  </a:lnTo>
                  <a:lnTo>
                    <a:pt x="24" y="744"/>
                  </a:lnTo>
                  <a:lnTo>
                    <a:pt x="24" y="744"/>
                  </a:lnTo>
                  <a:close/>
                  <a:moveTo>
                    <a:pt x="24" y="983"/>
                  </a:moveTo>
                  <a:lnTo>
                    <a:pt x="24" y="1122"/>
                  </a:lnTo>
                  <a:lnTo>
                    <a:pt x="23" y="1123"/>
                  </a:lnTo>
                  <a:lnTo>
                    <a:pt x="23" y="1125"/>
                  </a:lnTo>
                  <a:lnTo>
                    <a:pt x="21" y="1129"/>
                  </a:lnTo>
                  <a:lnTo>
                    <a:pt x="16" y="1131"/>
                  </a:lnTo>
                  <a:lnTo>
                    <a:pt x="14" y="1132"/>
                  </a:lnTo>
                  <a:lnTo>
                    <a:pt x="12" y="1132"/>
                  </a:lnTo>
                  <a:lnTo>
                    <a:pt x="9" y="1132"/>
                  </a:lnTo>
                  <a:lnTo>
                    <a:pt x="7" y="1131"/>
                  </a:lnTo>
                  <a:lnTo>
                    <a:pt x="4" y="1129"/>
                  </a:lnTo>
                  <a:lnTo>
                    <a:pt x="2" y="1125"/>
                  </a:lnTo>
                  <a:lnTo>
                    <a:pt x="0" y="1123"/>
                  </a:lnTo>
                  <a:lnTo>
                    <a:pt x="0" y="1122"/>
                  </a:lnTo>
                  <a:lnTo>
                    <a:pt x="0" y="983"/>
                  </a:lnTo>
                  <a:lnTo>
                    <a:pt x="0" y="981"/>
                  </a:lnTo>
                  <a:lnTo>
                    <a:pt x="2" y="978"/>
                  </a:lnTo>
                  <a:lnTo>
                    <a:pt x="4" y="976"/>
                  </a:lnTo>
                  <a:lnTo>
                    <a:pt x="7" y="974"/>
                  </a:lnTo>
                  <a:lnTo>
                    <a:pt x="9" y="973"/>
                  </a:lnTo>
                  <a:lnTo>
                    <a:pt x="12" y="973"/>
                  </a:lnTo>
                  <a:lnTo>
                    <a:pt x="14" y="973"/>
                  </a:lnTo>
                  <a:lnTo>
                    <a:pt x="16" y="974"/>
                  </a:lnTo>
                  <a:lnTo>
                    <a:pt x="21" y="976"/>
                  </a:lnTo>
                  <a:lnTo>
                    <a:pt x="23" y="978"/>
                  </a:lnTo>
                  <a:lnTo>
                    <a:pt x="23" y="981"/>
                  </a:lnTo>
                  <a:lnTo>
                    <a:pt x="24" y="983"/>
                  </a:lnTo>
                  <a:lnTo>
                    <a:pt x="24" y="983"/>
                  </a:lnTo>
                  <a:close/>
                  <a:moveTo>
                    <a:pt x="24" y="1221"/>
                  </a:moveTo>
                  <a:lnTo>
                    <a:pt x="24" y="1359"/>
                  </a:lnTo>
                  <a:lnTo>
                    <a:pt x="23" y="1362"/>
                  </a:lnTo>
                  <a:lnTo>
                    <a:pt x="23" y="1363"/>
                  </a:lnTo>
                  <a:lnTo>
                    <a:pt x="21" y="1366"/>
                  </a:lnTo>
                  <a:lnTo>
                    <a:pt x="16" y="1369"/>
                  </a:lnTo>
                  <a:lnTo>
                    <a:pt x="14" y="1369"/>
                  </a:lnTo>
                  <a:lnTo>
                    <a:pt x="12" y="1369"/>
                  </a:lnTo>
                  <a:lnTo>
                    <a:pt x="9" y="1369"/>
                  </a:lnTo>
                  <a:lnTo>
                    <a:pt x="7" y="1369"/>
                  </a:lnTo>
                  <a:lnTo>
                    <a:pt x="4" y="1366"/>
                  </a:lnTo>
                  <a:lnTo>
                    <a:pt x="2" y="1363"/>
                  </a:lnTo>
                  <a:lnTo>
                    <a:pt x="0" y="1362"/>
                  </a:lnTo>
                  <a:lnTo>
                    <a:pt x="0" y="1359"/>
                  </a:lnTo>
                  <a:lnTo>
                    <a:pt x="0" y="1221"/>
                  </a:lnTo>
                  <a:lnTo>
                    <a:pt x="0" y="1218"/>
                  </a:lnTo>
                  <a:lnTo>
                    <a:pt x="2" y="1217"/>
                  </a:lnTo>
                  <a:lnTo>
                    <a:pt x="4" y="1214"/>
                  </a:lnTo>
                  <a:lnTo>
                    <a:pt x="7" y="1211"/>
                  </a:lnTo>
                  <a:lnTo>
                    <a:pt x="9" y="1211"/>
                  </a:lnTo>
                  <a:lnTo>
                    <a:pt x="12" y="1211"/>
                  </a:lnTo>
                  <a:lnTo>
                    <a:pt x="14" y="1211"/>
                  </a:lnTo>
                  <a:lnTo>
                    <a:pt x="16" y="1211"/>
                  </a:lnTo>
                  <a:lnTo>
                    <a:pt x="21" y="1214"/>
                  </a:lnTo>
                  <a:lnTo>
                    <a:pt x="23" y="1217"/>
                  </a:lnTo>
                  <a:lnTo>
                    <a:pt x="23" y="1218"/>
                  </a:lnTo>
                  <a:lnTo>
                    <a:pt x="24" y="1221"/>
                  </a:lnTo>
                  <a:lnTo>
                    <a:pt x="24" y="1221"/>
                  </a:lnTo>
                  <a:close/>
                  <a:moveTo>
                    <a:pt x="24" y="1458"/>
                  </a:moveTo>
                  <a:lnTo>
                    <a:pt x="24" y="1597"/>
                  </a:lnTo>
                  <a:lnTo>
                    <a:pt x="23" y="1599"/>
                  </a:lnTo>
                  <a:lnTo>
                    <a:pt x="23" y="1601"/>
                  </a:lnTo>
                  <a:lnTo>
                    <a:pt x="21" y="1604"/>
                  </a:lnTo>
                  <a:lnTo>
                    <a:pt x="16" y="1606"/>
                  </a:lnTo>
                  <a:lnTo>
                    <a:pt x="14" y="1607"/>
                  </a:lnTo>
                  <a:lnTo>
                    <a:pt x="12" y="1607"/>
                  </a:lnTo>
                  <a:lnTo>
                    <a:pt x="9" y="1607"/>
                  </a:lnTo>
                  <a:lnTo>
                    <a:pt x="7" y="1606"/>
                  </a:lnTo>
                  <a:lnTo>
                    <a:pt x="4" y="1604"/>
                  </a:lnTo>
                  <a:lnTo>
                    <a:pt x="2" y="1601"/>
                  </a:lnTo>
                  <a:lnTo>
                    <a:pt x="0" y="1599"/>
                  </a:lnTo>
                  <a:lnTo>
                    <a:pt x="0" y="1597"/>
                  </a:lnTo>
                  <a:lnTo>
                    <a:pt x="0" y="1458"/>
                  </a:lnTo>
                  <a:lnTo>
                    <a:pt x="0" y="1457"/>
                  </a:lnTo>
                  <a:lnTo>
                    <a:pt x="2" y="1455"/>
                  </a:lnTo>
                  <a:lnTo>
                    <a:pt x="4" y="1451"/>
                  </a:lnTo>
                  <a:lnTo>
                    <a:pt x="7" y="1449"/>
                  </a:lnTo>
                  <a:lnTo>
                    <a:pt x="9" y="1449"/>
                  </a:lnTo>
                  <a:lnTo>
                    <a:pt x="12" y="1448"/>
                  </a:lnTo>
                  <a:lnTo>
                    <a:pt x="14" y="1449"/>
                  </a:lnTo>
                  <a:lnTo>
                    <a:pt x="16" y="1449"/>
                  </a:lnTo>
                  <a:lnTo>
                    <a:pt x="21" y="1451"/>
                  </a:lnTo>
                  <a:lnTo>
                    <a:pt x="23" y="1455"/>
                  </a:lnTo>
                  <a:lnTo>
                    <a:pt x="23" y="1457"/>
                  </a:lnTo>
                  <a:lnTo>
                    <a:pt x="24" y="1458"/>
                  </a:lnTo>
                  <a:lnTo>
                    <a:pt x="24" y="1458"/>
                  </a:lnTo>
                  <a:close/>
                  <a:moveTo>
                    <a:pt x="24" y="1697"/>
                  </a:moveTo>
                  <a:lnTo>
                    <a:pt x="24" y="1835"/>
                  </a:lnTo>
                  <a:lnTo>
                    <a:pt x="23" y="1837"/>
                  </a:lnTo>
                  <a:lnTo>
                    <a:pt x="23" y="1838"/>
                  </a:lnTo>
                  <a:lnTo>
                    <a:pt x="21" y="1841"/>
                  </a:lnTo>
                  <a:lnTo>
                    <a:pt x="16" y="1844"/>
                  </a:lnTo>
                  <a:lnTo>
                    <a:pt x="14" y="1844"/>
                  </a:lnTo>
                  <a:lnTo>
                    <a:pt x="12" y="1844"/>
                  </a:lnTo>
                  <a:lnTo>
                    <a:pt x="9" y="1844"/>
                  </a:lnTo>
                  <a:lnTo>
                    <a:pt x="7" y="1844"/>
                  </a:lnTo>
                  <a:lnTo>
                    <a:pt x="4" y="1841"/>
                  </a:lnTo>
                  <a:lnTo>
                    <a:pt x="2" y="1838"/>
                  </a:lnTo>
                  <a:lnTo>
                    <a:pt x="0" y="1837"/>
                  </a:lnTo>
                  <a:lnTo>
                    <a:pt x="0" y="1835"/>
                  </a:lnTo>
                  <a:lnTo>
                    <a:pt x="0" y="1697"/>
                  </a:lnTo>
                  <a:lnTo>
                    <a:pt x="0" y="1694"/>
                  </a:lnTo>
                  <a:lnTo>
                    <a:pt x="2" y="1692"/>
                  </a:lnTo>
                  <a:lnTo>
                    <a:pt x="4" y="1689"/>
                  </a:lnTo>
                  <a:lnTo>
                    <a:pt x="7" y="1686"/>
                  </a:lnTo>
                  <a:lnTo>
                    <a:pt x="9" y="1686"/>
                  </a:lnTo>
                  <a:lnTo>
                    <a:pt x="12" y="1686"/>
                  </a:lnTo>
                  <a:lnTo>
                    <a:pt x="14" y="1686"/>
                  </a:lnTo>
                  <a:lnTo>
                    <a:pt x="16" y="1686"/>
                  </a:lnTo>
                  <a:lnTo>
                    <a:pt x="21" y="1689"/>
                  </a:lnTo>
                  <a:lnTo>
                    <a:pt x="23" y="1692"/>
                  </a:lnTo>
                  <a:lnTo>
                    <a:pt x="23" y="1694"/>
                  </a:lnTo>
                  <a:lnTo>
                    <a:pt x="24" y="1697"/>
                  </a:lnTo>
                  <a:lnTo>
                    <a:pt x="24" y="1697"/>
                  </a:lnTo>
                  <a:close/>
                  <a:moveTo>
                    <a:pt x="24" y="1933"/>
                  </a:moveTo>
                  <a:lnTo>
                    <a:pt x="24" y="2072"/>
                  </a:lnTo>
                  <a:lnTo>
                    <a:pt x="23" y="2074"/>
                  </a:lnTo>
                  <a:lnTo>
                    <a:pt x="23" y="2077"/>
                  </a:lnTo>
                  <a:lnTo>
                    <a:pt x="21" y="2080"/>
                  </a:lnTo>
                  <a:lnTo>
                    <a:pt x="16" y="2081"/>
                  </a:lnTo>
                  <a:lnTo>
                    <a:pt x="14" y="2083"/>
                  </a:lnTo>
                  <a:lnTo>
                    <a:pt x="12" y="2083"/>
                  </a:lnTo>
                  <a:lnTo>
                    <a:pt x="9" y="2083"/>
                  </a:lnTo>
                  <a:lnTo>
                    <a:pt x="7" y="2081"/>
                  </a:lnTo>
                  <a:lnTo>
                    <a:pt x="4" y="2080"/>
                  </a:lnTo>
                  <a:lnTo>
                    <a:pt x="2" y="2077"/>
                  </a:lnTo>
                  <a:lnTo>
                    <a:pt x="0" y="2074"/>
                  </a:lnTo>
                  <a:lnTo>
                    <a:pt x="0" y="2072"/>
                  </a:lnTo>
                  <a:lnTo>
                    <a:pt x="0" y="1933"/>
                  </a:lnTo>
                  <a:lnTo>
                    <a:pt x="0" y="1932"/>
                  </a:lnTo>
                  <a:lnTo>
                    <a:pt x="2" y="1931"/>
                  </a:lnTo>
                  <a:lnTo>
                    <a:pt x="4" y="1926"/>
                  </a:lnTo>
                  <a:lnTo>
                    <a:pt x="7" y="1925"/>
                  </a:lnTo>
                  <a:lnTo>
                    <a:pt x="9" y="1925"/>
                  </a:lnTo>
                  <a:lnTo>
                    <a:pt x="12" y="1925"/>
                  </a:lnTo>
                  <a:lnTo>
                    <a:pt x="14" y="1925"/>
                  </a:lnTo>
                  <a:lnTo>
                    <a:pt x="16" y="1925"/>
                  </a:lnTo>
                  <a:lnTo>
                    <a:pt x="21" y="1926"/>
                  </a:lnTo>
                  <a:lnTo>
                    <a:pt x="23" y="1931"/>
                  </a:lnTo>
                  <a:lnTo>
                    <a:pt x="23" y="1932"/>
                  </a:lnTo>
                  <a:lnTo>
                    <a:pt x="24" y="1933"/>
                  </a:lnTo>
                  <a:lnTo>
                    <a:pt x="24" y="1933"/>
                  </a:lnTo>
                  <a:close/>
                  <a:moveTo>
                    <a:pt x="24" y="2172"/>
                  </a:moveTo>
                  <a:lnTo>
                    <a:pt x="24" y="2311"/>
                  </a:lnTo>
                  <a:lnTo>
                    <a:pt x="23" y="2312"/>
                  </a:lnTo>
                  <a:lnTo>
                    <a:pt x="23" y="2314"/>
                  </a:lnTo>
                  <a:lnTo>
                    <a:pt x="21" y="2317"/>
                  </a:lnTo>
                  <a:lnTo>
                    <a:pt x="16" y="2320"/>
                  </a:lnTo>
                  <a:lnTo>
                    <a:pt x="14" y="2320"/>
                  </a:lnTo>
                  <a:lnTo>
                    <a:pt x="12" y="2320"/>
                  </a:lnTo>
                  <a:lnTo>
                    <a:pt x="9" y="2320"/>
                  </a:lnTo>
                  <a:lnTo>
                    <a:pt x="7" y="2320"/>
                  </a:lnTo>
                  <a:lnTo>
                    <a:pt x="4" y="2317"/>
                  </a:lnTo>
                  <a:lnTo>
                    <a:pt x="2" y="2314"/>
                  </a:lnTo>
                  <a:lnTo>
                    <a:pt x="0" y="2312"/>
                  </a:lnTo>
                  <a:lnTo>
                    <a:pt x="0" y="2311"/>
                  </a:lnTo>
                  <a:lnTo>
                    <a:pt x="0" y="2172"/>
                  </a:lnTo>
                  <a:lnTo>
                    <a:pt x="0" y="2169"/>
                  </a:lnTo>
                  <a:lnTo>
                    <a:pt x="2" y="2167"/>
                  </a:lnTo>
                  <a:lnTo>
                    <a:pt x="4" y="2165"/>
                  </a:lnTo>
                  <a:lnTo>
                    <a:pt x="7" y="2163"/>
                  </a:lnTo>
                  <a:lnTo>
                    <a:pt x="9" y="2162"/>
                  </a:lnTo>
                  <a:lnTo>
                    <a:pt x="12" y="2162"/>
                  </a:lnTo>
                  <a:lnTo>
                    <a:pt x="14" y="2162"/>
                  </a:lnTo>
                  <a:lnTo>
                    <a:pt x="16" y="2163"/>
                  </a:lnTo>
                  <a:lnTo>
                    <a:pt x="21" y="2165"/>
                  </a:lnTo>
                  <a:lnTo>
                    <a:pt x="23" y="2167"/>
                  </a:lnTo>
                  <a:lnTo>
                    <a:pt x="23" y="2169"/>
                  </a:lnTo>
                  <a:lnTo>
                    <a:pt x="24" y="2172"/>
                  </a:lnTo>
                  <a:lnTo>
                    <a:pt x="24" y="2172"/>
                  </a:lnTo>
                  <a:close/>
                  <a:moveTo>
                    <a:pt x="24" y="2409"/>
                  </a:moveTo>
                  <a:lnTo>
                    <a:pt x="24" y="2548"/>
                  </a:lnTo>
                  <a:lnTo>
                    <a:pt x="23" y="2551"/>
                  </a:lnTo>
                  <a:lnTo>
                    <a:pt x="23" y="2552"/>
                  </a:lnTo>
                  <a:lnTo>
                    <a:pt x="21" y="2555"/>
                  </a:lnTo>
                  <a:lnTo>
                    <a:pt x="16" y="2556"/>
                  </a:lnTo>
                  <a:lnTo>
                    <a:pt x="14" y="2558"/>
                  </a:lnTo>
                  <a:lnTo>
                    <a:pt x="12" y="2558"/>
                  </a:lnTo>
                  <a:lnTo>
                    <a:pt x="9" y="2558"/>
                  </a:lnTo>
                  <a:lnTo>
                    <a:pt x="7" y="2556"/>
                  </a:lnTo>
                  <a:lnTo>
                    <a:pt x="4" y="2555"/>
                  </a:lnTo>
                  <a:lnTo>
                    <a:pt x="2" y="2552"/>
                  </a:lnTo>
                  <a:lnTo>
                    <a:pt x="0" y="2551"/>
                  </a:lnTo>
                  <a:lnTo>
                    <a:pt x="0" y="2548"/>
                  </a:lnTo>
                  <a:lnTo>
                    <a:pt x="0" y="2409"/>
                  </a:lnTo>
                  <a:lnTo>
                    <a:pt x="0" y="2407"/>
                  </a:lnTo>
                  <a:lnTo>
                    <a:pt x="2" y="2406"/>
                  </a:lnTo>
                  <a:lnTo>
                    <a:pt x="4" y="2403"/>
                  </a:lnTo>
                  <a:lnTo>
                    <a:pt x="7" y="2400"/>
                  </a:lnTo>
                  <a:lnTo>
                    <a:pt x="9" y="2400"/>
                  </a:lnTo>
                  <a:lnTo>
                    <a:pt x="12" y="2400"/>
                  </a:lnTo>
                  <a:lnTo>
                    <a:pt x="14" y="2400"/>
                  </a:lnTo>
                  <a:lnTo>
                    <a:pt x="16" y="2400"/>
                  </a:lnTo>
                  <a:lnTo>
                    <a:pt x="21" y="2403"/>
                  </a:lnTo>
                  <a:lnTo>
                    <a:pt x="23" y="2406"/>
                  </a:lnTo>
                  <a:lnTo>
                    <a:pt x="23" y="2407"/>
                  </a:lnTo>
                  <a:lnTo>
                    <a:pt x="24" y="2409"/>
                  </a:lnTo>
                  <a:lnTo>
                    <a:pt x="24" y="2409"/>
                  </a:lnTo>
                  <a:close/>
                  <a:moveTo>
                    <a:pt x="24" y="2647"/>
                  </a:moveTo>
                  <a:lnTo>
                    <a:pt x="24" y="2684"/>
                  </a:lnTo>
                  <a:lnTo>
                    <a:pt x="23" y="2687"/>
                  </a:lnTo>
                  <a:lnTo>
                    <a:pt x="23" y="2688"/>
                  </a:lnTo>
                  <a:lnTo>
                    <a:pt x="21" y="2691"/>
                  </a:lnTo>
                  <a:lnTo>
                    <a:pt x="16" y="2693"/>
                  </a:lnTo>
                  <a:lnTo>
                    <a:pt x="14" y="2694"/>
                  </a:lnTo>
                  <a:lnTo>
                    <a:pt x="12" y="2694"/>
                  </a:lnTo>
                  <a:lnTo>
                    <a:pt x="9" y="2694"/>
                  </a:lnTo>
                  <a:lnTo>
                    <a:pt x="7" y="2693"/>
                  </a:lnTo>
                  <a:lnTo>
                    <a:pt x="4" y="2691"/>
                  </a:lnTo>
                  <a:lnTo>
                    <a:pt x="2" y="2688"/>
                  </a:lnTo>
                  <a:lnTo>
                    <a:pt x="0" y="2687"/>
                  </a:lnTo>
                  <a:lnTo>
                    <a:pt x="0" y="2684"/>
                  </a:lnTo>
                  <a:lnTo>
                    <a:pt x="0" y="2647"/>
                  </a:lnTo>
                  <a:lnTo>
                    <a:pt x="0" y="2646"/>
                  </a:lnTo>
                  <a:lnTo>
                    <a:pt x="2" y="2643"/>
                  </a:lnTo>
                  <a:lnTo>
                    <a:pt x="4" y="2640"/>
                  </a:lnTo>
                  <a:lnTo>
                    <a:pt x="7" y="2638"/>
                  </a:lnTo>
                  <a:lnTo>
                    <a:pt x="9" y="2637"/>
                  </a:lnTo>
                  <a:lnTo>
                    <a:pt x="12" y="2637"/>
                  </a:lnTo>
                  <a:lnTo>
                    <a:pt x="14" y="2637"/>
                  </a:lnTo>
                  <a:lnTo>
                    <a:pt x="16" y="2638"/>
                  </a:lnTo>
                  <a:lnTo>
                    <a:pt x="21" y="2640"/>
                  </a:lnTo>
                  <a:lnTo>
                    <a:pt x="23" y="2643"/>
                  </a:lnTo>
                  <a:lnTo>
                    <a:pt x="23" y="2646"/>
                  </a:lnTo>
                  <a:lnTo>
                    <a:pt x="24" y="2647"/>
                  </a:lnTo>
                  <a:lnTo>
                    <a:pt x="24" y="264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92400" y="3192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4360" y="3290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65200" y="319248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: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65360" y="31924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07560" y="3290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92400" y="3381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4360" y="3479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65200" y="338148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: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65360" y="33814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07560" y="3479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2920" y="3948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25240" y="4044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65200" y="394812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: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65360" y="39481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07920" y="4044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65400" y="48909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7720" y="4989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5200" y="48909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: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6536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07920" y="4989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010880" y="2681280"/>
              <a:ext cx="727560" cy="341640"/>
              <a:chOff x="1010880" y="2681280"/>
              <a:chExt cx="727560" cy="341640"/>
            </a:xfrm>
          </p:grpSpPr>
          <p:sp>
            <p:nvSpPr>
              <p:cNvPr id="126" name=""/>
              <p:cNvSpPr/>
              <p:nvPr/>
            </p:nvSpPr>
            <p:spPr>
              <a:xfrm>
                <a:off x="1108440" y="2681280"/>
                <a:ext cx="524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200" spc="-1" strike="noStrike">
                    <a:solidFill>
                      <a:srgbClr val="ff0000"/>
                    </a:solidFill>
                    <a:latin typeface="Times New Roman"/>
                  </a:rPr>
                  <a:t>Progra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10880" y="2840040"/>
                <a:ext cx="727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200" spc="-1" strike="noStrike">
                    <a:solidFill>
                      <a:srgbClr val="ff0000"/>
                    </a:solidFill>
                    <a:latin typeface="Times New Roman"/>
                  </a:rPr>
                  <a:t>proizvod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2773080" y="2708280"/>
            <a:ext cx="1395360" cy="2486160"/>
            <a:chOff x="2773080" y="2708280"/>
            <a:chExt cx="1395360" cy="2486160"/>
          </a:xfrm>
        </p:grpSpPr>
        <p:sp>
          <p:nvSpPr>
            <p:cNvPr id="129" name=""/>
            <p:cNvSpPr/>
            <p:nvPr/>
          </p:nvSpPr>
          <p:spPr>
            <a:xfrm>
              <a:off x="2917440" y="3056040"/>
              <a:ext cx="1084320" cy="2138400"/>
            </a:xfrm>
            <a:custGeom>
              <a:avLst/>
              <a:gdLst/>
              <a:ahLst/>
              <a:rect l="l" t="t" r="r" b="b"/>
              <a:pathLst>
                <a:path w="1366" h="2694">
                  <a:moveTo>
                    <a:pt x="12" y="2673"/>
                  </a:moveTo>
                  <a:lnTo>
                    <a:pt x="175" y="2673"/>
                  </a:lnTo>
                  <a:lnTo>
                    <a:pt x="176" y="2675"/>
                  </a:lnTo>
                  <a:lnTo>
                    <a:pt x="180" y="2675"/>
                  </a:lnTo>
                  <a:lnTo>
                    <a:pt x="183" y="2676"/>
                  </a:lnTo>
                  <a:lnTo>
                    <a:pt x="185" y="2681"/>
                  </a:lnTo>
                  <a:lnTo>
                    <a:pt x="187" y="2682"/>
                  </a:lnTo>
                  <a:lnTo>
                    <a:pt x="187" y="2684"/>
                  </a:lnTo>
                  <a:lnTo>
                    <a:pt x="187" y="2687"/>
                  </a:lnTo>
                  <a:lnTo>
                    <a:pt x="185" y="2688"/>
                  </a:lnTo>
                  <a:lnTo>
                    <a:pt x="183" y="2691"/>
                  </a:lnTo>
                  <a:lnTo>
                    <a:pt x="180" y="2693"/>
                  </a:lnTo>
                  <a:lnTo>
                    <a:pt x="176" y="2694"/>
                  </a:lnTo>
                  <a:lnTo>
                    <a:pt x="175" y="2694"/>
                  </a:lnTo>
                  <a:lnTo>
                    <a:pt x="12" y="2694"/>
                  </a:lnTo>
                  <a:lnTo>
                    <a:pt x="10" y="2694"/>
                  </a:lnTo>
                  <a:lnTo>
                    <a:pt x="7" y="2693"/>
                  </a:lnTo>
                  <a:lnTo>
                    <a:pt x="4" y="2691"/>
                  </a:lnTo>
                  <a:lnTo>
                    <a:pt x="2" y="2688"/>
                  </a:lnTo>
                  <a:lnTo>
                    <a:pt x="0" y="2687"/>
                  </a:lnTo>
                  <a:lnTo>
                    <a:pt x="0" y="2684"/>
                  </a:lnTo>
                  <a:lnTo>
                    <a:pt x="0" y="2682"/>
                  </a:lnTo>
                  <a:lnTo>
                    <a:pt x="2" y="2681"/>
                  </a:lnTo>
                  <a:lnTo>
                    <a:pt x="4" y="2676"/>
                  </a:lnTo>
                  <a:lnTo>
                    <a:pt x="7" y="2675"/>
                  </a:lnTo>
                  <a:lnTo>
                    <a:pt x="10" y="2675"/>
                  </a:lnTo>
                  <a:lnTo>
                    <a:pt x="12" y="2673"/>
                  </a:lnTo>
                  <a:lnTo>
                    <a:pt x="12" y="2673"/>
                  </a:lnTo>
                  <a:close/>
                  <a:moveTo>
                    <a:pt x="291" y="2673"/>
                  </a:moveTo>
                  <a:lnTo>
                    <a:pt x="453" y="2673"/>
                  </a:lnTo>
                  <a:lnTo>
                    <a:pt x="455" y="2675"/>
                  </a:lnTo>
                  <a:lnTo>
                    <a:pt x="457" y="2675"/>
                  </a:lnTo>
                  <a:lnTo>
                    <a:pt x="460" y="2676"/>
                  </a:lnTo>
                  <a:lnTo>
                    <a:pt x="464" y="2681"/>
                  </a:lnTo>
                  <a:lnTo>
                    <a:pt x="464" y="2682"/>
                  </a:lnTo>
                  <a:lnTo>
                    <a:pt x="464" y="2684"/>
                  </a:lnTo>
                  <a:lnTo>
                    <a:pt x="464" y="2687"/>
                  </a:lnTo>
                  <a:lnTo>
                    <a:pt x="464" y="2688"/>
                  </a:lnTo>
                  <a:lnTo>
                    <a:pt x="460" y="2691"/>
                  </a:lnTo>
                  <a:lnTo>
                    <a:pt x="457" y="2693"/>
                  </a:lnTo>
                  <a:lnTo>
                    <a:pt x="455" y="2694"/>
                  </a:lnTo>
                  <a:lnTo>
                    <a:pt x="453" y="2694"/>
                  </a:lnTo>
                  <a:lnTo>
                    <a:pt x="291" y="2694"/>
                  </a:lnTo>
                  <a:lnTo>
                    <a:pt x="287" y="2694"/>
                  </a:lnTo>
                  <a:lnTo>
                    <a:pt x="286" y="2693"/>
                  </a:lnTo>
                  <a:lnTo>
                    <a:pt x="282" y="2691"/>
                  </a:lnTo>
                  <a:lnTo>
                    <a:pt x="279" y="2688"/>
                  </a:lnTo>
                  <a:lnTo>
                    <a:pt x="279" y="2687"/>
                  </a:lnTo>
                  <a:lnTo>
                    <a:pt x="279" y="2684"/>
                  </a:lnTo>
                  <a:lnTo>
                    <a:pt x="279" y="2682"/>
                  </a:lnTo>
                  <a:lnTo>
                    <a:pt x="279" y="2681"/>
                  </a:lnTo>
                  <a:lnTo>
                    <a:pt x="282" y="2676"/>
                  </a:lnTo>
                  <a:lnTo>
                    <a:pt x="286" y="2675"/>
                  </a:lnTo>
                  <a:lnTo>
                    <a:pt x="287" y="2675"/>
                  </a:lnTo>
                  <a:lnTo>
                    <a:pt x="291" y="2673"/>
                  </a:lnTo>
                  <a:lnTo>
                    <a:pt x="291" y="2673"/>
                  </a:lnTo>
                  <a:close/>
                  <a:moveTo>
                    <a:pt x="568" y="2673"/>
                  </a:moveTo>
                  <a:lnTo>
                    <a:pt x="730" y="2673"/>
                  </a:lnTo>
                  <a:lnTo>
                    <a:pt x="732" y="2675"/>
                  </a:lnTo>
                  <a:lnTo>
                    <a:pt x="735" y="2675"/>
                  </a:lnTo>
                  <a:lnTo>
                    <a:pt x="739" y="2676"/>
                  </a:lnTo>
                  <a:lnTo>
                    <a:pt x="741" y="2681"/>
                  </a:lnTo>
                  <a:lnTo>
                    <a:pt x="742" y="2682"/>
                  </a:lnTo>
                  <a:lnTo>
                    <a:pt x="742" y="2684"/>
                  </a:lnTo>
                  <a:lnTo>
                    <a:pt x="742" y="2687"/>
                  </a:lnTo>
                  <a:lnTo>
                    <a:pt x="741" y="2688"/>
                  </a:lnTo>
                  <a:lnTo>
                    <a:pt x="739" y="2691"/>
                  </a:lnTo>
                  <a:lnTo>
                    <a:pt x="735" y="2693"/>
                  </a:lnTo>
                  <a:lnTo>
                    <a:pt x="732" y="2694"/>
                  </a:lnTo>
                  <a:lnTo>
                    <a:pt x="730" y="2694"/>
                  </a:lnTo>
                  <a:lnTo>
                    <a:pt x="568" y="2694"/>
                  </a:lnTo>
                  <a:lnTo>
                    <a:pt x="566" y="2694"/>
                  </a:lnTo>
                  <a:lnTo>
                    <a:pt x="564" y="2693"/>
                  </a:lnTo>
                  <a:lnTo>
                    <a:pt x="559" y="2691"/>
                  </a:lnTo>
                  <a:lnTo>
                    <a:pt x="558" y="2688"/>
                  </a:lnTo>
                  <a:lnTo>
                    <a:pt x="558" y="2687"/>
                  </a:lnTo>
                  <a:lnTo>
                    <a:pt x="556" y="2684"/>
                  </a:lnTo>
                  <a:lnTo>
                    <a:pt x="558" y="2682"/>
                  </a:lnTo>
                  <a:lnTo>
                    <a:pt x="558" y="2681"/>
                  </a:lnTo>
                  <a:lnTo>
                    <a:pt x="559" y="2676"/>
                  </a:lnTo>
                  <a:lnTo>
                    <a:pt x="564" y="2675"/>
                  </a:lnTo>
                  <a:lnTo>
                    <a:pt x="566" y="2675"/>
                  </a:lnTo>
                  <a:lnTo>
                    <a:pt x="568" y="2673"/>
                  </a:lnTo>
                  <a:lnTo>
                    <a:pt x="568" y="2673"/>
                  </a:lnTo>
                  <a:close/>
                  <a:moveTo>
                    <a:pt x="847" y="2673"/>
                  </a:moveTo>
                  <a:lnTo>
                    <a:pt x="1009" y="2673"/>
                  </a:lnTo>
                  <a:lnTo>
                    <a:pt x="1011" y="2675"/>
                  </a:lnTo>
                  <a:lnTo>
                    <a:pt x="1012" y="2675"/>
                  </a:lnTo>
                  <a:lnTo>
                    <a:pt x="1016" y="2676"/>
                  </a:lnTo>
                  <a:lnTo>
                    <a:pt x="1019" y="2681"/>
                  </a:lnTo>
                  <a:lnTo>
                    <a:pt x="1019" y="2682"/>
                  </a:lnTo>
                  <a:lnTo>
                    <a:pt x="1019" y="2684"/>
                  </a:lnTo>
                  <a:lnTo>
                    <a:pt x="1019" y="2687"/>
                  </a:lnTo>
                  <a:lnTo>
                    <a:pt x="1019" y="2688"/>
                  </a:lnTo>
                  <a:lnTo>
                    <a:pt x="1016" y="2691"/>
                  </a:lnTo>
                  <a:lnTo>
                    <a:pt x="1012" y="2693"/>
                  </a:lnTo>
                  <a:lnTo>
                    <a:pt x="1011" y="2694"/>
                  </a:lnTo>
                  <a:lnTo>
                    <a:pt x="1009" y="2694"/>
                  </a:lnTo>
                  <a:lnTo>
                    <a:pt x="847" y="2694"/>
                  </a:lnTo>
                  <a:lnTo>
                    <a:pt x="843" y="2694"/>
                  </a:lnTo>
                  <a:lnTo>
                    <a:pt x="841" y="2693"/>
                  </a:lnTo>
                  <a:lnTo>
                    <a:pt x="838" y="2691"/>
                  </a:lnTo>
                  <a:lnTo>
                    <a:pt x="836" y="2688"/>
                  </a:lnTo>
                  <a:lnTo>
                    <a:pt x="835" y="2687"/>
                  </a:lnTo>
                  <a:lnTo>
                    <a:pt x="835" y="2684"/>
                  </a:lnTo>
                  <a:lnTo>
                    <a:pt x="835" y="2682"/>
                  </a:lnTo>
                  <a:lnTo>
                    <a:pt x="836" y="2681"/>
                  </a:lnTo>
                  <a:lnTo>
                    <a:pt x="838" y="2676"/>
                  </a:lnTo>
                  <a:lnTo>
                    <a:pt x="841" y="2675"/>
                  </a:lnTo>
                  <a:lnTo>
                    <a:pt x="843" y="2675"/>
                  </a:lnTo>
                  <a:lnTo>
                    <a:pt x="847" y="2673"/>
                  </a:lnTo>
                  <a:lnTo>
                    <a:pt x="847" y="2673"/>
                  </a:lnTo>
                  <a:close/>
                  <a:moveTo>
                    <a:pt x="1124" y="2673"/>
                  </a:moveTo>
                  <a:lnTo>
                    <a:pt x="1286" y="2673"/>
                  </a:lnTo>
                  <a:lnTo>
                    <a:pt x="1289" y="2675"/>
                  </a:lnTo>
                  <a:lnTo>
                    <a:pt x="1291" y="2675"/>
                  </a:lnTo>
                  <a:lnTo>
                    <a:pt x="1295" y="2676"/>
                  </a:lnTo>
                  <a:lnTo>
                    <a:pt x="1296" y="2681"/>
                  </a:lnTo>
                  <a:lnTo>
                    <a:pt x="1298" y="2682"/>
                  </a:lnTo>
                  <a:lnTo>
                    <a:pt x="1298" y="2684"/>
                  </a:lnTo>
                  <a:lnTo>
                    <a:pt x="1298" y="2687"/>
                  </a:lnTo>
                  <a:lnTo>
                    <a:pt x="1296" y="2688"/>
                  </a:lnTo>
                  <a:lnTo>
                    <a:pt x="1295" y="2691"/>
                  </a:lnTo>
                  <a:lnTo>
                    <a:pt x="1291" y="2693"/>
                  </a:lnTo>
                  <a:lnTo>
                    <a:pt x="1289" y="2694"/>
                  </a:lnTo>
                  <a:lnTo>
                    <a:pt x="1286" y="2694"/>
                  </a:lnTo>
                  <a:lnTo>
                    <a:pt x="1124" y="2694"/>
                  </a:lnTo>
                  <a:lnTo>
                    <a:pt x="1122" y="2694"/>
                  </a:lnTo>
                  <a:lnTo>
                    <a:pt x="1120" y="2693"/>
                  </a:lnTo>
                  <a:lnTo>
                    <a:pt x="1117" y="2691"/>
                  </a:lnTo>
                  <a:lnTo>
                    <a:pt x="1113" y="2688"/>
                  </a:lnTo>
                  <a:lnTo>
                    <a:pt x="1113" y="2687"/>
                  </a:lnTo>
                  <a:lnTo>
                    <a:pt x="1113" y="2684"/>
                  </a:lnTo>
                  <a:lnTo>
                    <a:pt x="1113" y="2682"/>
                  </a:lnTo>
                  <a:lnTo>
                    <a:pt x="1113" y="2681"/>
                  </a:lnTo>
                  <a:lnTo>
                    <a:pt x="1117" y="2676"/>
                  </a:lnTo>
                  <a:lnTo>
                    <a:pt x="1120" y="2675"/>
                  </a:lnTo>
                  <a:lnTo>
                    <a:pt x="1122" y="2675"/>
                  </a:lnTo>
                  <a:lnTo>
                    <a:pt x="1124" y="2673"/>
                  </a:lnTo>
                  <a:lnTo>
                    <a:pt x="1124" y="2673"/>
                  </a:lnTo>
                  <a:close/>
                  <a:moveTo>
                    <a:pt x="1342" y="2643"/>
                  </a:moveTo>
                  <a:lnTo>
                    <a:pt x="1342" y="2504"/>
                  </a:lnTo>
                  <a:lnTo>
                    <a:pt x="1342" y="2502"/>
                  </a:lnTo>
                  <a:lnTo>
                    <a:pt x="1344" y="2501"/>
                  </a:lnTo>
                  <a:lnTo>
                    <a:pt x="1346" y="2497"/>
                  </a:lnTo>
                  <a:lnTo>
                    <a:pt x="1349" y="2495"/>
                  </a:lnTo>
                  <a:lnTo>
                    <a:pt x="1353" y="2495"/>
                  </a:lnTo>
                  <a:lnTo>
                    <a:pt x="1354" y="2495"/>
                  </a:lnTo>
                  <a:lnTo>
                    <a:pt x="1356" y="2495"/>
                  </a:lnTo>
                  <a:lnTo>
                    <a:pt x="1360" y="2495"/>
                  </a:lnTo>
                  <a:lnTo>
                    <a:pt x="1363" y="2497"/>
                  </a:lnTo>
                  <a:lnTo>
                    <a:pt x="1365" y="2501"/>
                  </a:lnTo>
                  <a:lnTo>
                    <a:pt x="1366" y="2502"/>
                  </a:lnTo>
                  <a:lnTo>
                    <a:pt x="1366" y="2504"/>
                  </a:lnTo>
                  <a:lnTo>
                    <a:pt x="1366" y="2643"/>
                  </a:lnTo>
                  <a:lnTo>
                    <a:pt x="1366" y="2646"/>
                  </a:lnTo>
                  <a:lnTo>
                    <a:pt x="1365" y="2647"/>
                  </a:lnTo>
                  <a:lnTo>
                    <a:pt x="1363" y="2650"/>
                  </a:lnTo>
                  <a:lnTo>
                    <a:pt x="1360" y="2652"/>
                  </a:lnTo>
                  <a:lnTo>
                    <a:pt x="1356" y="2653"/>
                  </a:lnTo>
                  <a:lnTo>
                    <a:pt x="1354" y="2653"/>
                  </a:lnTo>
                  <a:lnTo>
                    <a:pt x="1353" y="2653"/>
                  </a:lnTo>
                  <a:lnTo>
                    <a:pt x="1349" y="2652"/>
                  </a:lnTo>
                  <a:lnTo>
                    <a:pt x="1346" y="2650"/>
                  </a:lnTo>
                  <a:lnTo>
                    <a:pt x="1344" y="2647"/>
                  </a:lnTo>
                  <a:lnTo>
                    <a:pt x="1342" y="2646"/>
                  </a:lnTo>
                  <a:lnTo>
                    <a:pt x="1342" y="2643"/>
                  </a:lnTo>
                  <a:lnTo>
                    <a:pt x="1342" y="2643"/>
                  </a:lnTo>
                  <a:close/>
                  <a:moveTo>
                    <a:pt x="1342" y="2406"/>
                  </a:moveTo>
                  <a:lnTo>
                    <a:pt x="1342" y="2267"/>
                  </a:lnTo>
                  <a:lnTo>
                    <a:pt x="1342" y="2264"/>
                  </a:lnTo>
                  <a:lnTo>
                    <a:pt x="1344" y="2263"/>
                  </a:lnTo>
                  <a:lnTo>
                    <a:pt x="1346" y="2260"/>
                  </a:lnTo>
                  <a:lnTo>
                    <a:pt x="1349" y="2258"/>
                  </a:lnTo>
                  <a:lnTo>
                    <a:pt x="1353" y="2257"/>
                  </a:lnTo>
                  <a:lnTo>
                    <a:pt x="1354" y="2257"/>
                  </a:lnTo>
                  <a:lnTo>
                    <a:pt x="1356" y="2257"/>
                  </a:lnTo>
                  <a:lnTo>
                    <a:pt x="1360" y="2258"/>
                  </a:lnTo>
                  <a:lnTo>
                    <a:pt x="1363" y="2260"/>
                  </a:lnTo>
                  <a:lnTo>
                    <a:pt x="1365" y="2263"/>
                  </a:lnTo>
                  <a:lnTo>
                    <a:pt x="1366" y="2264"/>
                  </a:lnTo>
                  <a:lnTo>
                    <a:pt x="1366" y="2267"/>
                  </a:lnTo>
                  <a:lnTo>
                    <a:pt x="1366" y="2406"/>
                  </a:lnTo>
                  <a:lnTo>
                    <a:pt x="1366" y="2407"/>
                  </a:lnTo>
                  <a:lnTo>
                    <a:pt x="1365" y="2409"/>
                  </a:lnTo>
                  <a:lnTo>
                    <a:pt x="1363" y="2412"/>
                  </a:lnTo>
                  <a:lnTo>
                    <a:pt x="1360" y="2415"/>
                  </a:lnTo>
                  <a:lnTo>
                    <a:pt x="1356" y="2415"/>
                  </a:lnTo>
                  <a:lnTo>
                    <a:pt x="1354" y="2415"/>
                  </a:lnTo>
                  <a:lnTo>
                    <a:pt x="1353" y="2415"/>
                  </a:lnTo>
                  <a:lnTo>
                    <a:pt x="1349" y="2415"/>
                  </a:lnTo>
                  <a:lnTo>
                    <a:pt x="1346" y="2412"/>
                  </a:lnTo>
                  <a:lnTo>
                    <a:pt x="1344" y="2409"/>
                  </a:lnTo>
                  <a:lnTo>
                    <a:pt x="1342" y="2407"/>
                  </a:lnTo>
                  <a:lnTo>
                    <a:pt x="1342" y="2406"/>
                  </a:lnTo>
                  <a:lnTo>
                    <a:pt x="1342" y="2406"/>
                  </a:lnTo>
                  <a:close/>
                  <a:moveTo>
                    <a:pt x="1342" y="2167"/>
                  </a:moveTo>
                  <a:lnTo>
                    <a:pt x="1342" y="2029"/>
                  </a:lnTo>
                  <a:lnTo>
                    <a:pt x="1342" y="2027"/>
                  </a:lnTo>
                  <a:lnTo>
                    <a:pt x="1344" y="2026"/>
                  </a:lnTo>
                  <a:lnTo>
                    <a:pt x="1346" y="2021"/>
                  </a:lnTo>
                  <a:lnTo>
                    <a:pt x="1349" y="2020"/>
                  </a:lnTo>
                  <a:lnTo>
                    <a:pt x="1353" y="2020"/>
                  </a:lnTo>
                  <a:lnTo>
                    <a:pt x="1354" y="2018"/>
                  </a:lnTo>
                  <a:lnTo>
                    <a:pt x="1356" y="2020"/>
                  </a:lnTo>
                  <a:lnTo>
                    <a:pt x="1360" y="2020"/>
                  </a:lnTo>
                  <a:lnTo>
                    <a:pt x="1363" y="2021"/>
                  </a:lnTo>
                  <a:lnTo>
                    <a:pt x="1365" y="2026"/>
                  </a:lnTo>
                  <a:lnTo>
                    <a:pt x="1366" y="2027"/>
                  </a:lnTo>
                  <a:lnTo>
                    <a:pt x="1366" y="2029"/>
                  </a:lnTo>
                  <a:lnTo>
                    <a:pt x="1366" y="2167"/>
                  </a:lnTo>
                  <a:lnTo>
                    <a:pt x="1366" y="2169"/>
                  </a:lnTo>
                  <a:lnTo>
                    <a:pt x="1365" y="2172"/>
                  </a:lnTo>
                  <a:lnTo>
                    <a:pt x="1363" y="2175"/>
                  </a:lnTo>
                  <a:lnTo>
                    <a:pt x="1360" y="2176"/>
                  </a:lnTo>
                  <a:lnTo>
                    <a:pt x="1356" y="2178"/>
                  </a:lnTo>
                  <a:lnTo>
                    <a:pt x="1354" y="2178"/>
                  </a:lnTo>
                  <a:lnTo>
                    <a:pt x="1353" y="2178"/>
                  </a:lnTo>
                  <a:lnTo>
                    <a:pt x="1349" y="2176"/>
                  </a:lnTo>
                  <a:lnTo>
                    <a:pt x="1346" y="2175"/>
                  </a:lnTo>
                  <a:lnTo>
                    <a:pt x="1344" y="2172"/>
                  </a:lnTo>
                  <a:lnTo>
                    <a:pt x="1342" y="2169"/>
                  </a:lnTo>
                  <a:lnTo>
                    <a:pt x="1342" y="2167"/>
                  </a:lnTo>
                  <a:lnTo>
                    <a:pt x="1342" y="2167"/>
                  </a:lnTo>
                  <a:close/>
                  <a:moveTo>
                    <a:pt x="1342" y="1929"/>
                  </a:moveTo>
                  <a:lnTo>
                    <a:pt x="1342" y="1792"/>
                  </a:lnTo>
                  <a:lnTo>
                    <a:pt x="1342" y="1789"/>
                  </a:lnTo>
                  <a:lnTo>
                    <a:pt x="1344" y="1787"/>
                  </a:lnTo>
                  <a:lnTo>
                    <a:pt x="1346" y="1784"/>
                  </a:lnTo>
                  <a:lnTo>
                    <a:pt x="1349" y="1781"/>
                  </a:lnTo>
                  <a:lnTo>
                    <a:pt x="1353" y="1781"/>
                  </a:lnTo>
                  <a:lnTo>
                    <a:pt x="1354" y="1781"/>
                  </a:lnTo>
                  <a:lnTo>
                    <a:pt x="1356" y="1781"/>
                  </a:lnTo>
                  <a:lnTo>
                    <a:pt x="1360" y="1781"/>
                  </a:lnTo>
                  <a:lnTo>
                    <a:pt x="1363" y="1784"/>
                  </a:lnTo>
                  <a:lnTo>
                    <a:pt x="1365" y="1787"/>
                  </a:lnTo>
                  <a:lnTo>
                    <a:pt x="1366" y="1789"/>
                  </a:lnTo>
                  <a:lnTo>
                    <a:pt x="1366" y="1792"/>
                  </a:lnTo>
                  <a:lnTo>
                    <a:pt x="1366" y="1929"/>
                  </a:lnTo>
                  <a:lnTo>
                    <a:pt x="1366" y="1932"/>
                  </a:lnTo>
                  <a:lnTo>
                    <a:pt x="1365" y="1933"/>
                  </a:lnTo>
                  <a:lnTo>
                    <a:pt x="1363" y="1936"/>
                  </a:lnTo>
                  <a:lnTo>
                    <a:pt x="1360" y="1939"/>
                  </a:lnTo>
                  <a:lnTo>
                    <a:pt x="1356" y="1939"/>
                  </a:lnTo>
                  <a:lnTo>
                    <a:pt x="1354" y="1939"/>
                  </a:lnTo>
                  <a:lnTo>
                    <a:pt x="1353" y="1939"/>
                  </a:lnTo>
                  <a:lnTo>
                    <a:pt x="1349" y="1939"/>
                  </a:lnTo>
                  <a:lnTo>
                    <a:pt x="1346" y="1936"/>
                  </a:lnTo>
                  <a:lnTo>
                    <a:pt x="1344" y="1933"/>
                  </a:lnTo>
                  <a:lnTo>
                    <a:pt x="1342" y="1932"/>
                  </a:lnTo>
                  <a:lnTo>
                    <a:pt x="1342" y="1929"/>
                  </a:lnTo>
                  <a:lnTo>
                    <a:pt x="1342" y="1929"/>
                  </a:lnTo>
                  <a:close/>
                  <a:moveTo>
                    <a:pt x="1342" y="1692"/>
                  </a:moveTo>
                  <a:lnTo>
                    <a:pt x="1342" y="1553"/>
                  </a:lnTo>
                  <a:lnTo>
                    <a:pt x="1342" y="1552"/>
                  </a:lnTo>
                  <a:lnTo>
                    <a:pt x="1344" y="1549"/>
                  </a:lnTo>
                  <a:lnTo>
                    <a:pt x="1346" y="1546"/>
                  </a:lnTo>
                  <a:lnTo>
                    <a:pt x="1349" y="1544"/>
                  </a:lnTo>
                  <a:lnTo>
                    <a:pt x="1353" y="1543"/>
                  </a:lnTo>
                  <a:lnTo>
                    <a:pt x="1354" y="1543"/>
                  </a:lnTo>
                  <a:lnTo>
                    <a:pt x="1356" y="1543"/>
                  </a:lnTo>
                  <a:lnTo>
                    <a:pt x="1360" y="1544"/>
                  </a:lnTo>
                  <a:lnTo>
                    <a:pt x="1363" y="1546"/>
                  </a:lnTo>
                  <a:lnTo>
                    <a:pt x="1365" y="1549"/>
                  </a:lnTo>
                  <a:lnTo>
                    <a:pt x="1366" y="1552"/>
                  </a:lnTo>
                  <a:lnTo>
                    <a:pt x="1366" y="1553"/>
                  </a:lnTo>
                  <a:lnTo>
                    <a:pt x="1366" y="1692"/>
                  </a:lnTo>
                  <a:lnTo>
                    <a:pt x="1366" y="1694"/>
                  </a:lnTo>
                  <a:lnTo>
                    <a:pt x="1365" y="1697"/>
                  </a:lnTo>
                  <a:lnTo>
                    <a:pt x="1363" y="1699"/>
                  </a:lnTo>
                  <a:lnTo>
                    <a:pt x="1360" y="1701"/>
                  </a:lnTo>
                  <a:lnTo>
                    <a:pt x="1356" y="1702"/>
                  </a:lnTo>
                  <a:lnTo>
                    <a:pt x="1354" y="1702"/>
                  </a:lnTo>
                  <a:lnTo>
                    <a:pt x="1353" y="1702"/>
                  </a:lnTo>
                  <a:lnTo>
                    <a:pt x="1349" y="1701"/>
                  </a:lnTo>
                  <a:lnTo>
                    <a:pt x="1346" y="1699"/>
                  </a:lnTo>
                  <a:lnTo>
                    <a:pt x="1344" y="1697"/>
                  </a:lnTo>
                  <a:lnTo>
                    <a:pt x="1342" y="1694"/>
                  </a:lnTo>
                  <a:lnTo>
                    <a:pt x="1342" y="1692"/>
                  </a:lnTo>
                  <a:lnTo>
                    <a:pt x="1342" y="1692"/>
                  </a:lnTo>
                  <a:close/>
                  <a:moveTo>
                    <a:pt x="1342" y="1454"/>
                  </a:moveTo>
                  <a:lnTo>
                    <a:pt x="1342" y="1316"/>
                  </a:lnTo>
                  <a:lnTo>
                    <a:pt x="1342" y="1313"/>
                  </a:lnTo>
                  <a:lnTo>
                    <a:pt x="1344" y="1312"/>
                  </a:lnTo>
                  <a:lnTo>
                    <a:pt x="1346" y="1309"/>
                  </a:lnTo>
                  <a:lnTo>
                    <a:pt x="1349" y="1306"/>
                  </a:lnTo>
                  <a:lnTo>
                    <a:pt x="1353" y="1306"/>
                  </a:lnTo>
                  <a:lnTo>
                    <a:pt x="1354" y="1306"/>
                  </a:lnTo>
                  <a:lnTo>
                    <a:pt x="1356" y="1306"/>
                  </a:lnTo>
                  <a:lnTo>
                    <a:pt x="1360" y="1306"/>
                  </a:lnTo>
                  <a:lnTo>
                    <a:pt x="1363" y="1309"/>
                  </a:lnTo>
                  <a:lnTo>
                    <a:pt x="1365" y="1312"/>
                  </a:lnTo>
                  <a:lnTo>
                    <a:pt x="1366" y="1313"/>
                  </a:lnTo>
                  <a:lnTo>
                    <a:pt x="1366" y="1316"/>
                  </a:lnTo>
                  <a:lnTo>
                    <a:pt x="1366" y="1454"/>
                  </a:lnTo>
                  <a:lnTo>
                    <a:pt x="1366" y="1457"/>
                  </a:lnTo>
                  <a:lnTo>
                    <a:pt x="1365" y="1458"/>
                  </a:lnTo>
                  <a:lnTo>
                    <a:pt x="1363" y="1461"/>
                  </a:lnTo>
                  <a:lnTo>
                    <a:pt x="1360" y="1464"/>
                  </a:lnTo>
                  <a:lnTo>
                    <a:pt x="1356" y="1464"/>
                  </a:lnTo>
                  <a:lnTo>
                    <a:pt x="1354" y="1464"/>
                  </a:lnTo>
                  <a:lnTo>
                    <a:pt x="1353" y="1464"/>
                  </a:lnTo>
                  <a:lnTo>
                    <a:pt x="1349" y="1464"/>
                  </a:lnTo>
                  <a:lnTo>
                    <a:pt x="1346" y="1461"/>
                  </a:lnTo>
                  <a:lnTo>
                    <a:pt x="1344" y="1458"/>
                  </a:lnTo>
                  <a:lnTo>
                    <a:pt x="1342" y="1457"/>
                  </a:lnTo>
                  <a:lnTo>
                    <a:pt x="1342" y="1454"/>
                  </a:lnTo>
                  <a:lnTo>
                    <a:pt x="1342" y="1454"/>
                  </a:lnTo>
                  <a:close/>
                  <a:moveTo>
                    <a:pt x="1342" y="1217"/>
                  </a:moveTo>
                  <a:lnTo>
                    <a:pt x="1342" y="1078"/>
                  </a:lnTo>
                  <a:lnTo>
                    <a:pt x="1342" y="1076"/>
                  </a:lnTo>
                  <a:lnTo>
                    <a:pt x="1344" y="1074"/>
                  </a:lnTo>
                  <a:lnTo>
                    <a:pt x="1346" y="1071"/>
                  </a:lnTo>
                  <a:lnTo>
                    <a:pt x="1349" y="1069"/>
                  </a:lnTo>
                  <a:lnTo>
                    <a:pt x="1353" y="1068"/>
                  </a:lnTo>
                  <a:lnTo>
                    <a:pt x="1354" y="1068"/>
                  </a:lnTo>
                  <a:lnTo>
                    <a:pt x="1356" y="1068"/>
                  </a:lnTo>
                  <a:lnTo>
                    <a:pt x="1360" y="1069"/>
                  </a:lnTo>
                  <a:lnTo>
                    <a:pt x="1363" y="1071"/>
                  </a:lnTo>
                  <a:lnTo>
                    <a:pt x="1365" y="1074"/>
                  </a:lnTo>
                  <a:lnTo>
                    <a:pt x="1366" y="1076"/>
                  </a:lnTo>
                  <a:lnTo>
                    <a:pt x="1366" y="1078"/>
                  </a:lnTo>
                  <a:lnTo>
                    <a:pt x="1366" y="1217"/>
                  </a:lnTo>
                  <a:lnTo>
                    <a:pt x="1366" y="1218"/>
                  </a:lnTo>
                  <a:lnTo>
                    <a:pt x="1365" y="1220"/>
                  </a:lnTo>
                  <a:lnTo>
                    <a:pt x="1363" y="1224"/>
                  </a:lnTo>
                  <a:lnTo>
                    <a:pt x="1360" y="1226"/>
                  </a:lnTo>
                  <a:lnTo>
                    <a:pt x="1356" y="1226"/>
                  </a:lnTo>
                  <a:lnTo>
                    <a:pt x="1354" y="1227"/>
                  </a:lnTo>
                  <a:lnTo>
                    <a:pt x="1353" y="1226"/>
                  </a:lnTo>
                  <a:lnTo>
                    <a:pt x="1349" y="1226"/>
                  </a:lnTo>
                  <a:lnTo>
                    <a:pt x="1346" y="1224"/>
                  </a:lnTo>
                  <a:lnTo>
                    <a:pt x="1344" y="1220"/>
                  </a:lnTo>
                  <a:lnTo>
                    <a:pt x="1342" y="1218"/>
                  </a:lnTo>
                  <a:lnTo>
                    <a:pt x="1342" y="1217"/>
                  </a:lnTo>
                  <a:lnTo>
                    <a:pt x="1342" y="1217"/>
                  </a:lnTo>
                  <a:close/>
                  <a:moveTo>
                    <a:pt x="1342" y="978"/>
                  </a:moveTo>
                  <a:lnTo>
                    <a:pt x="1342" y="840"/>
                  </a:lnTo>
                  <a:lnTo>
                    <a:pt x="1342" y="838"/>
                  </a:lnTo>
                  <a:lnTo>
                    <a:pt x="1344" y="837"/>
                  </a:lnTo>
                  <a:lnTo>
                    <a:pt x="1346" y="834"/>
                  </a:lnTo>
                  <a:lnTo>
                    <a:pt x="1349" y="831"/>
                  </a:lnTo>
                  <a:lnTo>
                    <a:pt x="1353" y="831"/>
                  </a:lnTo>
                  <a:lnTo>
                    <a:pt x="1354" y="831"/>
                  </a:lnTo>
                  <a:lnTo>
                    <a:pt x="1356" y="831"/>
                  </a:lnTo>
                  <a:lnTo>
                    <a:pt x="1360" y="831"/>
                  </a:lnTo>
                  <a:lnTo>
                    <a:pt x="1363" y="834"/>
                  </a:lnTo>
                  <a:lnTo>
                    <a:pt x="1365" y="837"/>
                  </a:lnTo>
                  <a:lnTo>
                    <a:pt x="1366" y="838"/>
                  </a:lnTo>
                  <a:lnTo>
                    <a:pt x="1366" y="840"/>
                  </a:lnTo>
                  <a:lnTo>
                    <a:pt x="1366" y="978"/>
                  </a:lnTo>
                  <a:lnTo>
                    <a:pt x="1366" y="981"/>
                  </a:lnTo>
                  <a:lnTo>
                    <a:pt x="1365" y="983"/>
                  </a:lnTo>
                  <a:lnTo>
                    <a:pt x="1363" y="986"/>
                  </a:lnTo>
                  <a:lnTo>
                    <a:pt x="1360" y="987"/>
                  </a:lnTo>
                  <a:lnTo>
                    <a:pt x="1356" y="989"/>
                  </a:lnTo>
                  <a:lnTo>
                    <a:pt x="1354" y="989"/>
                  </a:lnTo>
                  <a:lnTo>
                    <a:pt x="1353" y="989"/>
                  </a:lnTo>
                  <a:lnTo>
                    <a:pt x="1349" y="987"/>
                  </a:lnTo>
                  <a:lnTo>
                    <a:pt x="1346" y="986"/>
                  </a:lnTo>
                  <a:lnTo>
                    <a:pt x="1344" y="983"/>
                  </a:lnTo>
                  <a:lnTo>
                    <a:pt x="1342" y="981"/>
                  </a:lnTo>
                  <a:lnTo>
                    <a:pt x="1342" y="978"/>
                  </a:lnTo>
                  <a:lnTo>
                    <a:pt x="1342" y="978"/>
                  </a:lnTo>
                  <a:close/>
                  <a:moveTo>
                    <a:pt x="1342" y="742"/>
                  </a:moveTo>
                  <a:lnTo>
                    <a:pt x="1342" y="603"/>
                  </a:lnTo>
                  <a:lnTo>
                    <a:pt x="1342" y="600"/>
                  </a:lnTo>
                  <a:lnTo>
                    <a:pt x="1344" y="598"/>
                  </a:lnTo>
                  <a:lnTo>
                    <a:pt x="1346" y="595"/>
                  </a:lnTo>
                  <a:lnTo>
                    <a:pt x="1349" y="594"/>
                  </a:lnTo>
                  <a:lnTo>
                    <a:pt x="1353" y="592"/>
                  </a:lnTo>
                  <a:lnTo>
                    <a:pt x="1354" y="592"/>
                  </a:lnTo>
                  <a:lnTo>
                    <a:pt x="1356" y="592"/>
                  </a:lnTo>
                  <a:lnTo>
                    <a:pt x="1360" y="594"/>
                  </a:lnTo>
                  <a:lnTo>
                    <a:pt x="1363" y="595"/>
                  </a:lnTo>
                  <a:lnTo>
                    <a:pt x="1365" y="598"/>
                  </a:lnTo>
                  <a:lnTo>
                    <a:pt x="1366" y="600"/>
                  </a:lnTo>
                  <a:lnTo>
                    <a:pt x="1366" y="603"/>
                  </a:lnTo>
                  <a:lnTo>
                    <a:pt x="1366" y="742"/>
                  </a:lnTo>
                  <a:lnTo>
                    <a:pt x="1366" y="743"/>
                  </a:lnTo>
                  <a:lnTo>
                    <a:pt x="1365" y="744"/>
                  </a:lnTo>
                  <a:lnTo>
                    <a:pt x="1363" y="747"/>
                  </a:lnTo>
                  <a:lnTo>
                    <a:pt x="1360" y="750"/>
                  </a:lnTo>
                  <a:lnTo>
                    <a:pt x="1356" y="750"/>
                  </a:lnTo>
                  <a:lnTo>
                    <a:pt x="1354" y="750"/>
                  </a:lnTo>
                  <a:lnTo>
                    <a:pt x="1353" y="750"/>
                  </a:lnTo>
                  <a:lnTo>
                    <a:pt x="1349" y="750"/>
                  </a:lnTo>
                  <a:lnTo>
                    <a:pt x="1346" y="747"/>
                  </a:lnTo>
                  <a:lnTo>
                    <a:pt x="1344" y="744"/>
                  </a:lnTo>
                  <a:lnTo>
                    <a:pt x="1342" y="743"/>
                  </a:lnTo>
                  <a:lnTo>
                    <a:pt x="1342" y="742"/>
                  </a:lnTo>
                  <a:lnTo>
                    <a:pt x="1342" y="742"/>
                  </a:lnTo>
                  <a:close/>
                  <a:moveTo>
                    <a:pt x="1342" y="503"/>
                  </a:moveTo>
                  <a:lnTo>
                    <a:pt x="1342" y="364"/>
                  </a:lnTo>
                  <a:lnTo>
                    <a:pt x="1342" y="363"/>
                  </a:lnTo>
                  <a:lnTo>
                    <a:pt x="1344" y="361"/>
                  </a:lnTo>
                  <a:lnTo>
                    <a:pt x="1346" y="357"/>
                  </a:lnTo>
                  <a:lnTo>
                    <a:pt x="1349" y="355"/>
                  </a:lnTo>
                  <a:lnTo>
                    <a:pt x="1353" y="355"/>
                  </a:lnTo>
                  <a:lnTo>
                    <a:pt x="1354" y="355"/>
                  </a:lnTo>
                  <a:lnTo>
                    <a:pt x="1356" y="355"/>
                  </a:lnTo>
                  <a:lnTo>
                    <a:pt x="1360" y="355"/>
                  </a:lnTo>
                  <a:lnTo>
                    <a:pt x="1363" y="357"/>
                  </a:lnTo>
                  <a:lnTo>
                    <a:pt x="1365" y="361"/>
                  </a:lnTo>
                  <a:lnTo>
                    <a:pt x="1366" y="363"/>
                  </a:lnTo>
                  <a:lnTo>
                    <a:pt x="1366" y="364"/>
                  </a:lnTo>
                  <a:lnTo>
                    <a:pt x="1366" y="503"/>
                  </a:lnTo>
                  <a:lnTo>
                    <a:pt x="1366" y="505"/>
                  </a:lnTo>
                  <a:lnTo>
                    <a:pt x="1365" y="508"/>
                  </a:lnTo>
                  <a:lnTo>
                    <a:pt x="1363" y="510"/>
                  </a:lnTo>
                  <a:lnTo>
                    <a:pt x="1360" y="512"/>
                  </a:lnTo>
                  <a:lnTo>
                    <a:pt x="1356" y="513"/>
                  </a:lnTo>
                  <a:lnTo>
                    <a:pt x="1354" y="513"/>
                  </a:lnTo>
                  <a:lnTo>
                    <a:pt x="1353" y="513"/>
                  </a:lnTo>
                  <a:lnTo>
                    <a:pt x="1349" y="512"/>
                  </a:lnTo>
                  <a:lnTo>
                    <a:pt x="1346" y="510"/>
                  </a:lnTo>
                  <a:lnTo>
                    <a:pt x="1344" y="508"/>
                  </a:lnTo>
                  <a:lnTo>
                    <a:pt x="1342" y="505"/>
                  </a:lnTo>
                  <a:lnTo>
                    <a:pt x="1342" y="503"/>
                  </a:lnTo>
                  <a:lnTo>
                    <a:pt x="1342" y="503"/>
                  </a:lnTo>
                  <a:close/>
                  <a:moveTo>
                    <a:pt x="1342" y="266"/>
                  </a:moveTo>
                  <a:lnTo>
                    <a:pt x="1342" y="127"/>
                  </a:lnTo>
                  <a:lnTo>
                    <a:pt x="1342" y="124"/>
                  </a:lnTo>
                  <a:lnTo>
                    <a:pt x="1344" y="123"/>
                  </a:lnTo>
                  <a:lnTo>
                    <a:pt x="1346" y="120"/>
                  </a:lnTo>
                  <a:lnTo>
                    <a:pt x="1349" y="117"/>
                  </a:lnTo>
                  <a:lnTo>
                    <a:pt x="1353" y="117"/>
                  </a:lnTo>
                  <a:lnTo>
                    <a:pt x="1354" y="117"/>
                  </a:lnTo>
                  <a:lnTo>
                    <a:pt x="1356" y="117"/>
                  </a:lnTo>
                  <a:lnTo>
                    <a:pt x="1360" y="117"/>
                  </a:lnTo>
                  <a:lnTo>
                    <a:pt x="1363" y="120"/>
                  </a:lnTo>
                  <a:lnTo>
                    <a:pt x="1365" y="123"/>
                  </a:lnTo>
                  <a:lnTo>
                    <a:pt x="1366" y="124"/>
                  </a:lnTo>
                  <a:lnTo>
                    <a:pt x="1366" y="127"/>
                  </a:lnTo>
                  <a:lnTo>
                    <a:pt x="1366" y="266"/>
                  </a:lnTo>
                  <a:lnTo>
                    <a:pt x="1366" y="268"/>
                  </a:lnTo>
                  <a:lnTo>
                    <a:pt x="1365" y="269"/>
                  </a:lnTo>
                  <a:lnTo>
                    <a:pt x="1363" y="272"/>
                  </a:lnTo>
                  <a:lnTo>
                    <a:pt x="1360" y="275"/>
                  </a:lnTo>
                  <a:lnTo>
                    <a:pt x="1356" y="275"/>
                  </a:lnTo>
                  <a:lnTo>
                    <a:pt x="1354" y="275"/>
                  </a:lnTo>
                  <a:lnTo>
                    <a:pt x="1353" y="275"/>
                  </a:lnTo>
                  <a:lnTo>
                    <a:pt x="1349" y="275"/>
                  </a:lnTo>
                  <a:lnTo>
                    <a:pt x="1346" y="272"/>
                  </a:lnTo>
                  <a:lnTo>
                    <a:pt x="1344" y="269"/>
                  </a:lnTo>
                  <a:lnTo>
                    <a:pt x="1342" y="268"/>
                  </a:lnTo>
                  <a:lnTo>
                    <a:pt x="1342" y="266"/>
                  </a:lnTo>
                  <a:lnTo>
                    <a:pt x="1342" y="266"/>
                  </a:lnTo>
                  <a:close/>
                  <a:moveTo>
                    <a:pt x="1342" y="28"/>
                  </a:moveTo>
                  <a:lnTo>
                    <a:pt x="1342" y="9"/>
                  </a:lnTo>
                  <a:lnTo>
                    <a:pt x="1354" y="19"/>
                  </a:lnTo>
                  <a:lnTo>
                    <a:pt x="1214" y="19"/>
                  </a:lnTo>
                  <a:lnTo>
                    <a:pt x="1211" y="19"/>
                  </a:lnTo>
                  <a:lnTo>
                    <a:pt x="1209" y="19"/>
                  </a:lnTo>
                  <a:lnTo>
                    <a:pt x="1206" y="16"/>
                  </a:lnTo>
                  <a:lnTo>
                    <a:pt x="1202" y="13"/>
                  </a:lnTo>
                  <a:lnTo>
                    <a:pt x="1202" y="12"/>
                  </a:lnTo>
                  <a:lnTo>
                    <a:pt x="1202" y="9"/>
                  </a:lnTo>
                  <a:lnTo>
                    <a:pt x="1202" y="7"/>
                  </a:lnTo>
                  <a:lnTo>
                    <a:pt x="1202" y="6"/>
                  </a:lnTo>
                  <a:lnTo>
                    <a:pt x="1206" y="3"/>
                  </a:lnTo>
                  <a:lnTo>
                    <a:pt x="1209" y="0"/>
                  </a:lnTo>
                  <a:lnTo>
                    <a:pt x="1211" y="0"/>
                  </a:lnTo>
                  <a:lnTo>
                    <a:pt x="1214" y="0"/>
                  </a:lnTo>
                  <a:lnTo>
                    <a:pt x="1354" y="0"/>
                  </a:lnTo>
                  <a:lnTo>
                    <a:pt x="1356" y="0"/>
                  </a:lnTo>
                  <a:lnTo>
                    <a:pt x="1360" y="0"/>
                  </a:lnTo>
                  <a:lnTo>
                    <a:pt x="1363" y="3"/>
                  </a:lnTo>
                  <a:lnTo>
                    <a:pt x="1365" y="6"/>
                  </a:lnTo>
                  <a:lnTo>
                    <a:pt x="1366" y="7"/>
                  </a:lnTo>
                  <a:lnTo>
                    <a:pt x="1366" y="9"/>
                  </a:lnTo>
                  <a:lnTo>
                    <a:pt x="1366" y="28"/>
                  </a:lnTo>
                  <a:lnTo>
                    <a:pt x="1366" y="29"/>
                  </a:lnTo>
                  <a:lnTo>
                    <a:pt x="1365" y="32"/>
                  </a:lnTo>
                  <a:lnTo>
                    <a:pt x="1363" y="35"/>
                  </a:lnTo>
                  <a:lnTo>
                    <a:pt x="1360" y="37"/>
                  </a:lnTo>
                  <a:lnTo>
                    <a:pt x="1356" y="38"/>
                  </a:lnTo>
                  <a:lnTo>
                    <a:pt x="1354" y="38"/>
                  </a:lnTo>
                  <a:lnTo>
                    <a:pt x="1353" y="38"/>
                  </a:lnTo>
                  <a:lnTo>
                    <a:pt x="1349" y="37"/>
                  </a:lnTo>
                  <a:lnTo>
                    <a:pt x="1346" y="35"/>
                  </a:lnTo>
                  <a:lnTo>
                    <a:pt x="1344" y="32"/>
                  </a:lnTo>
                  <a:lnTo>
                    <a:pt x="1342" y="29"/>
                  </a:lnTo>
                  <a:lnTo>
                    <a:pt x="1342" y="28"/>
                  </a:lnTo>
                  <a:lnTo>
                    <a:pt x="1342" y="28"/>
                  </a:lnTo>
                  <a:close/>
                  <a:moveTo>
                    <a:pt x="1098" y="19"/>
                  </a:moveTo>
                  <a:lnTo>
                    <a:pt x="935" y="19"/>
                  </a:lnTo>
                  <a:lnTo>
                    <a:pt x="934" y="19"/>
                  </a:lnTo>
                  <a:lnTo>
                    <a:pt x="930" y="19"/>
                  </a:lnTo>
                  <a:lnTo>
                    <a:pt x="927" y="16"/>
                  </a:lnTo>
                  <a:lnTo>
                    <a:pt x="925" y="13"/>
                  </a:lnTo>
                  <a:lnTo>
                    <a:pt x="924" y="12"/>
                  </a:lnTo>
                  <a:lnTo>
                    <a:pt x="924" y="9"/>
                  </a:lnTo>
                  <a:lnTo>
                    <a:pt x="924" y="7"/>
                  </a:lnTo>
                  <a:lnTo>
                    <a:pt x="925" y="6"/>
                  </a:lnTo>
                  <a:lnTo>
                    <a:pt x="927" y="3"/>
                  </a:lnTo>
                  <a:lnTo>
                    <a:pt x="930" y="0"/>
                  </a:lnTo>
                  <a:lnTo>
                    <a:pt x="934" y="0"/>
                  </a:lnTo>
                  <a:lnTo>
                    <a:pt x="935" y="0"/>
                  </a:lnTo>
                  <a:lnTo>
                    <a:pt x="1098" y="0"/>
                  </a:lnTo>
                  <a:lnTo>
                    <a:pt x="1100" y="0"/>
                  </a:lnTo>
                  <a:lnTo>
                    <a:pt x="1103" y="0"/>
                  </a:lnTo>
                  <a:lnTo>
                    <a:pt x="1106" y="3"/>
                  </a:lnTo>
                  <a:lnTo>
                    <a:pt x="1108" y="6"/>
                  </a:lnTo>
                  <a:lnTo>
                    <a:pt x="1110" y="7"/>
                  </a:lnTo>
                  <a:lnTo>
                    <a:pt x="1110" y="9"/>
                  </a:lnTo>
                  <a:lnTo>
                    <a:pt x="1110" y="12"/>
                  </a:lnTo>
                  <a:lnTo>
                    <a:pt x="1108" y="13"/>
                  </a:lnTo>
                  <a:lnTo>
                    <a:pt x="1106" y="16"/>
                  </a:lnTo>
                  <a:lnTo>
                    <a:pt x="1103" y="19"/>
                  </a:lnTo>
                  <a:lnTo>
                    <a:pt x="1100" y="19"/>
                  </a:lnTo>
                  <a:lnTo>
                    <a:pt x="1098" y="19"/>
                  </a:lnTo>
                  <a:lnTo>
                    <a:pt x="1098" y="19"/>
                  </a:lnTo>
                  <a:close/>
                  <a:moveTo>
                    <a:pt x="819" y="19"/>
                  </a:moveTo>
                  <a:lnTo>
                    <a:pt x="658" y="19"/>
                  </a:lnTo>
                  <a:lnTo>
                    <a:pt x="655" y="19"/>
                  </a:lnTo>
                  <a:lnTo>
                    <a:pt x="653" y="19"/>
                  </a:lnTo>
                  <a:lnTo>
                    <a:pt x="650" y="16"/>
                  </a:lnTo>
                  <a:lnTo>
                    <a:pt x="646" y="13"/>
                  </a:lnTo>
                  <a:lnTo>
                    <a:pt x="646" y="12"/>
                  </a:lnTo>
                  <a:lnTo>
                    <a:pt x="646" y="9"/>
                  </a:lnTo>
                  <a:lnTo>
                    <a:pt x="646" y="7"/>
                  </a:lnTo>
                  <a:lnTo>
                    <a:pt x="646" y="6"/>
                  </a:lnTo>
                  <a:lnTo>
                    <a:pt x="650" y="3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8" y="0"/>
                  </a:lnTo>
                  <a:lnTo>
                    <a:pt x="819" y="0"/>
                  </a:lnTo>
                  <a:lnTo>
                    <a:pt x="823" y="0"/>
                  </a:lnTo>
                  <a:lnTo>
                    <a:pt x="824" y="0"/>
                  </a:lnTo>
                  <a:lnTo>
                    <a:pt x="828" y="3"/>
                  </a:lnTo>
                  <a:lnTo>
                    <a:pt x="831" y="6"/>
                  </a:lnTo>
                  <a:lnTo>
                    <a:pt x="831" y="7"/>
                  </a:lnTo>
                  <a:lnTo>
                    <a:pt x="831" y="9"/>
                  </a:lnTo>
                  <a:lnTo>
                    <a:pt x="831" y="12"/>
                  </a:lnTo>
                  <a:lnTo>
                    <a:pt x="831" y="13"/>
                  </a:lnTo>
                  <a:lnTo>
                    <a:pt x="828" y="16"/>
                  </a:lnTo>
                  <a:lnTo>
                    <a:pt x="824" y="19"/>
                  </a:lnTo>
                  <a:lnTo>
                    <a:pt x="823" y="19"/>
                  </a:lnTo>
                  <a:lnTo>
                    <a:pt x="819" y="19"/>
                  </a:lnTo>
                  <a:lnTo>
                    <a:pt x="819" y="19"/>
                  </a:lnTo>
                  <a:close/>
                  <a:moveTo>
                    <a:pt x="542" y="19"/>
                  </a:moveTo>
                  <a:lnTo>
                    <a:pt x="380" y="19"/>
                  </a:lnTo>
                  <a:lnTo>
                    <a:pt x="378" y="19"/>
                  </a:lnTo>
                  <a:lnTo>
                    <a:pt x="375" y="19"/>
                  </a:lnTo>
                  <a:lnTo>
                    <a:pt x="371" y="16"/>
                  </a:lnTo>
                  <a:lnTo>
                    <a:pt x="369" y="13"/>
                  </a:lnTo>
                  <a:lnTo>
                    <a:pt x="368" y="12"/>
                  </a:lnTo>
                  <a:lnTo>
                    <a:pt x="368" y="9"/>
                  </a:lnTo>
                  <a:lnTo>
                    <a:pt x="368" y="7"/>
                  </a:lnTo>
                  <a:lnTo>
                    <a:pt x="369" y="6"/>
                  </a:lnTo>
                  <a:lnTo>
                    <a:pt x="371" y="3"/>
                  </a:lnTo>
                  <a:lnTo>
                    <a:pt x="375" y="0"/>
                  </a:lnTo>
                  <a:lnTo>
                    <a:pt x="378" y="0"/>
                  </a:lnTo>
                  <a:lnTo>
                    <a:pt x="380" y="0"/>
                  </a:lnTo>
                  <a:lnTo>
                    <a:pt x="542" y="0"/>
                  </a:lnTo>
                  <a:lnTo>
                    <a:pt x="544" y="0"/>
                  </a:lnTo>
                  <a:lnTo>
                    <a:pt x="546" y="0"/>
                  </a:lnTo>
                  <a:lnTo>
                    <a:pt x="551" y="3"/>
                  </a:lnTo>
                  <a:lnTo>
                    <a:pt x="552" y="6"/>
                  </a:lnTo>
                  <a:lnTo>
                    <a:pt x="552" y="7"/>
                  </a:lnTo>
                  <a:lnTo>
                    <a:pt x="554" y="9"/>
                  </a:lnTo>
                  <a:lnTo>
                    <a:pt x="552" y="12"/>
                  </a:lnTo>
                  <a:lnTo>
                    <a:pt x="552" y="13"/>
                  </a:lnTo>
                  <a:lnTo>
                    <a:pt x="551" y="16"/>
                  </a:lnTo>
                  <a:lnTo>
                    <a:pt x="546" y="19"/>
                  </a:lnTo>
                  <a:lnTo>
                    <a:pt x="544" y="19"/>
                  </a:lnTo>
                  <a:lnTo>
                    <a:pt x="542" y="19"/>
                  </a:lnTo>
                  <a:lnTo>
                    <a:pt x="542" y="19"/>
                  </a:lnTo>
                  <a:close/>
                  <a:moveTo>
                    <a:pt x="263" y="19"/>
                  </a:moveTo>
                  <a:lnTo>
                    <a:pt x="101" y="19"/>
                  </a:lnTo>
                  <a:lnTo>
                    <a:pt x="99" y="19"/>
                  </a:lnTo>
                  <a:lnTo>
                    <a:pt x="98" y="19"/>
                  </a:lnTo>
                  <a:lnTo>
                    <a:pt x="94" y="16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1" y="9"/>
                  </a:lnTo>
                  <a:lnTo>
                    <a:pt x="91" y="7"/>
                  </a:lnTo>
                  <a:lnTo>
                    <a:pt x="91" y="6"/>
                  </a:lnTo>
                  <a:lnTo>
                    <a:pt x="94" y="3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263" y="0"/>
                  </a:lnTo>
                  <a:lnTo>
                    <a:pt x="267" y="0"/>
                  </a:lnTo>
                  <a:lnTo>
                    <a:pt x="269" y="0"/>
                  </a:lnTo>
                  <a:lnTo>
                    <a:pt x="272" y="3"/>
                  </a:lnTo>
                  <a:lnTo>
                    <a:pt x="274" y="6"/>
                  </a:lnTo>
                  <a:lnTo>
                    <a:pt x="275" y="7"/>
                  </a:lnTo>
                  <a:lnTo>
                    <a:pt x="275" y="9"/>
                  </a:lnTo>
                  <a:lnTo>
                    <a:pt x="275" y="12"/>
                  </a:lnTo>
                  <a:lnTo>
                    <a:pt x="274" y="13"/>
                  </a:lnTo>
                  <a:lnTo>
                    <a:pt x="272" y="16"/>
                  </a:lnTo>
                  <a:lnTo>
                    <a:pt x="269" y="19"/>
                  </a:lnTo>
                  <a:lnTo>
                    <a:pt x="267" y="19"/>
                  </a:lnTo>
                  <a:lnTo>
                    <a:pt x="263" y="19"/>
                  </a:lnTo>
                  <a:lnTo>
                    <a:pt x="263" y="19"/>
                  </a:lnTo>
                  <a:close/>
                  <a:moveTo>
                    <a:pt x="24" y="32"/>
                  </a:moveTo>
                  <a:lnTo>
                    <a:pt x="24" y="171"/>
                  </a:lnTo>
                  <a:lnTo>
                    <a:pt x="24" y="173"/>
                  </a:lnTo>
                  <a:lnTo>
                    <a:pt x="22" y="174"/>
                  </a:lnTo>
                  <a:lnTo>
                    <a:pt x="21" y="177"/>
                  </a:lnTo>
                  <a:lnTo>
                    <a:pt x="17" y="180"/>
                  </a:lnTo>
                  <a:lnTo>
                    <a:pt x="16" y="180"/>
                  </a:lnTo>
                  <a:lnTo>
                    <a:pt x="12" y="180"/>
                  </a:lnTo>
                  <a:lnTo>
                    <a:pt x="10" y="180"/>
                  </a:lnTo>
                  <a:lnTo>
                    <a:pt x="7" y="180"/>
                  </a:lnTo>
                  <a:lnTo>
                    <a:pt x="4" y="177"/>
                  </a:lnTo>
                  <a:lnTo>
                    <a:pt x="2" y="174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7" y="23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6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4" y="32"/>
                  </a:lnTo>
                  <a:lnTo>
                    <a:pt x="24" y="32"/>
                  </a:lnTo>
                  <a:close/>
                  <a:moveTo>
                    <a:pt x="24" y="269"/>
                  </a:moveTo>
                  <a:lnTo>
                    <a:pt x="24" y="408"/>
                  </a:lnTo>
                  <a:lnTo>
                    <a:pt x="24" y="411"/>
                  </a:lnTo>
                  <a:lnTo>
                    <a:pt x="22" y="412"/>
                  </a:lnTo>
                  <a:lnTo>
                    <a:pt x="21" y="415"/>
                  </a:lnTo>
                  <a:lnTo>
                    <a:pt x="17" y="417"/>
                  </a:lnTo>
                  <a:lnTo>
                    <a:pt x="16" y="418"/>
                  </a:lnTo>
                  <a:lnTo>
                    <a:pt x="12" y="418"/>
                  </a:lnTo>
                  <a:lnTo>
                    <a:pt x="10" y="418"/>
                  </a:lnTo>
                  <a:lnTo>
                    <a:pt x="7" y="417"/>
                  </a:lnTo>
                  <a:lnTo>
                    <a:pt x="4" y="415"/>
                  </a:lnTo>
                  <a:lnTo>
                    <a:pt x="2" y="412"/>
                  </a:lnTo>
                  <a:lnTo>
                    <a:pt x="0" y="411"/>
                  </a:lnTo>
                  <a:lnTo>
                    <a:pt x="0" y="408"/>
                  </a:lnTo>
                  <a:lnTo>
                    <a:pt x="0" y="269"/>
                  </a:lnTo>
                  <a:lnTo>
                    <a:pt x="0" y="268"/>
                  </a:lnTo>
                  <a:lnTo>
                    <a:pt x="2" y="266"/>
                  </a:lnTo>
                  <a:lnTo>
                    <a:pt x="4" y="263"/>
                  </a:lnTo>
                  <a:lnTo>
                    <a:pt x="7" y="260"/>
                  </a:lnTo>
                  <a:lnTo>
                    <a:pt x="10" y="260"/>
                  </a:lnTo>
                  <a:lnTo>
                    <a:pt x="12" y="260"/>
                  </a:lnTo>
                  <a:lnTo>
                    <a:pt x="16" y="260"/>
                  </a:lnTo>
                  <a:lnTo>
                    <a:pt x="17" y="260"/>
                  </a:lnTo>
                  <a:lnTo>
                    <a:pt x="21" y="263"/>
                  </a:lnTo>
                  <a:lnTo>
                    <a:pt x="22" y="266"/>
                  </a:lnTo>
                  <a:lnTo>
                    <a:pt x="24" y="268"/>
                  </a:lnTo>
                  <a:lnTo>
                    <a:pt x="24" y="269"/>
                  </a:lnTo>
                  <a:lnTo>
                    <a:pt x="24" y="269"/>
                  </a:lnTo>
                  <a:close/>
                  <a:moveTo>
                    <a:pt x="24" y="508"/>
                  </a:moveTo>
                  <a:lnTo>
                    <a:pt x="24" y="646"/>
                  </a:lnTo>
                  <a:lnTo>
                    <a:pt x="24" y="648"/>
                  </a:lnTo>
                  <a:lnTo>
                    <a:pt x="22" y="649"/>
                  </a:lnTo>
                  <a:lnTo>
                    <a:pt x="21" y="654"/>
                  </a:lnTo>
                  <a:lnTo>
                    <a:pt x="17" y="655"/>
                  </a:lnTo>
                  <a:lnTo>
                    <a:pt x="16" y="655"/>
                  </a:lnTo>
                  <a:lnTo>
                    <a:pt x="12" y="657"/>
                  </a:lnTo>
                  <a:lnTo>
                    <a:pt x="10" y="655"/>
                  </a:lnTo>
                  <a:lnTo>
                    <a:pt x="7" y="655"/>
                  </a:lnTo>
                  <a:lnTo>
                    <a:pt x="4" y="654"/>
                  </a:lnTo>
                  <a:lnTo>
                    <a:pt x="2" y="649"/>
                  </a:lnTo>
                  <a:lnTo>
                    <a:pt x="0" y="648"/>
                  </a:lnTo>
                  <a:lnTo>
                    <a:pt x="0" y="646"/>
                  </a:lnTo>
                  <a:lnTo>
                    <a:pt x="0" y="508"/>
                  </a:lnTo>
                  <a:lnTo>
                    <a:pt x="0" y="506"/>
                  </a:lnTo>
                  <a:lnTo>
                    <a:pt x="2" y="503"/>
                  </a:lnTo>
                  <a:lnTo>
                    <a:pt x="4" y="500"/>
                  </a:lnTo>
                  <a:lnTo>
                    <a:pt x="7" y="499"/>
                  </a:lnTo>
                  <a:lnTo>
                    <a:pt x="10" y="497"/>
                  </a:lnTo>
                  <a:lnTo>
                    <a:pt x="12" y="497"/>
                  </a:lnTo>
                  <a:lnTo>
                    <a:pt x="16" y="497"/>
                  </a:lnTo>
                  <a:lnTo>
                    <a:pt x="17" y="499"/>
                  </a:lnTo>
                  <a:lnTo>
                    <a:pt x="21" y="500"/>
                  </a:lnTo>
                  <a:lnTo>
                    <a:pt x="22" y="503"/>
                  </a:lnTo>
                  <a:lnTo>
                    <a:pt x="24" y="506"/>
                  </a:lnTo>
                  <a:lnTo>
                    <a:pt x="24" y="508"/>
                  </a:lnTo>
                  <a:lnTo>
                    <a:pt x="24" y="508"/>
                  </a:lnTo>
                  <a:close/>
                  <a:moveTo>
                    <a:pt x="24" y="744"/>
                  </a:moveTo>
                  <a:lnTo>
                    <a:pt x="24" y="883"/>
                  </a:lnTo>
                  <a:lnTo>
                    <a:pt x="24" y="886"/>
                  </a:lnTo>
                  <a:lnTo>
                    <a:pt x="22" y="888"/>
                  </a:lnTo>
                  <a:lnTo>
                    <a:pt x="21" y="891"/>
                  </a:lnTo>
                  <a:lnTo>
                    <a:pt x="17" y="892"/>
                  </a:lnTo>
                  <a:lnTo>
                    <a:pt x="16" y="894"/>
                  </a:lnTo>
                  <a:lnTo>
                    <a:pt x="12" y="894"/>
                  </a:lnTo>
                  <a:lnTo>
                    <a:pt x="10" y="894"/>
                  </a:lnTo>
                  <a:lnTo>
                    <a:pt x="7" y="892"/>
                  </a:lnTo>
                  <a:lnTo>
                    <a:pt x="4" y="891"/>
                  </a:lnTo>
                  <a:lnTo>
                    <a:pt x="2" y="888"/>
                  </a:lnTo>
                  <a:lnTo>
                    <a:pt x="0" y="886"/>
                  </a:lnTo>
                  <a:lnTo>
                    <a:pt x="0" y="883"/>
                  </a:lnTo>
                  <a:lnTo>
                    <a:pt x="0" y="744"/>
                  </a:lnTo>
                  <a:lnTo>
                    <a:pt x="0" y="743"/>
                  </a:lnTo>
                  <a:lnTo>
                    <a:pt x="2" y="742"/>
                  </a:lnTo>
                  <a:lnTo>
                    <a:pt x="4" y="739"/>
                  </a:lnTo>
                  <a:lnTo>
                    <a:pt x="7" y="736"/>
                  </a:lnTo>
                  <a:lnTo>
                    <a:pt x="10" y="736"/>
                  </a:lnTo>
                  <a:lnTo>
                    <a:pt x="12" y="736"/>
                  </a:lnTo>
                  <a:lnTo>
                    <a:pt x="16" y="736"/>
                  </a:lnTo>
                  <a:lnTo>
                    <a:pt x="17" y="736"/>
                  </a:lnTo>
                  <a:lnTo>
                    <a:pt x="21" y="739"/>
                  </a:lnTo>
                  <a:lnTo>
                    <a:pt x="22" y="742"/>
                  </a:lnTo>
                  <a:lnTo>
                    <a:pt x="24" y="743"/>
                  </a:lnTo>
                  <a:lnTo>
                    <a:pt x="24" y="744"/>
                  </a:lnTo>
                  <a:lnTo>
                    <a:pt x="24" y="744"/>
                  </a:lnTo>
                  <a:close/>
                  <a:moveTo>
                    <a:pt x="24" y="983"/>
                  </a:moveTo>
                  <a:lnTo>
                    <a:pt x="24" y="1122"/>
                  </a:lnTo>
                  <a:lnTo>
                    <a:pt x="24" y="1123"/>
                  </a:lnTo>
                  <a:lnTo>
                    <a:pt x="22" y="1125"/>
                  </a:lnTo>
                  <a:lnTo>
                    <a:pt x="21" y="1129"/>
                  </a:lnTo>
                  <a:lnTo>
                    <a:pt x="17" y="1131"/>
                  </a:lnTo>
                  <a:lnTo>
                    <a:pt x="16" y="1132"/>
                  </a:lnTo>
                  <a:lnTo>
                    <a:pt x="12" y="1132"/>
                  </a:lnTo>
                  <a:lnTo>
                    <a:pt x="10" y="1132"/>
                  </a:lnTo>
                  <a:lnTo>
                    <a:pt x="7" y="1131"/>
                  </a:lnTo>
                  <a:lnTo>
                    <a:pt x="4" y="1129"/>
                  </a:lnTo>
                  <a:lnTo>
                    <a:pt x="2" y="1125"/>
                  </a:lnTo>
                  <a:lnTo>
                    <a:pt x="0" y="1123"/>
                  </a:lnTo>
                  <a:lnTo>
                    <a:pt x="0" y="1122"/>
                  </a:lnTo>
                  <a:lnTo>
                    <a:pt x="0" y="983"/>
                  </a:lnTo>
                  <a:lnTo>
                    <a:pt x="0" y="981"/>
                  </a:lnTo>
                  <a:lnTo>
                    <a:pt x="2" y="978"/>
                  </a:lnTo>
                  <a:lnTo>
                    <a:pt x="4" y="976"/>
                  </a:lnTo>
                  <a:lnTo>
                    <a:pt x="7" y="974"/>
                  </a:lnTo>
                  <a:lnTo>
                    <a:pt x="10" y="973"/>
                  </a:lnTo>
                  <a:lnTo>
                    <a:pt x="12" y="973"/>
                  </a:lnTo>
                  <a:lnTo>
                    <a:pt x="16" y="973"/>
                  </a:lnTo>
                  <a:lnTo>
                    <a:pt x="17" y="974"/>
                  </a:lnTo>
                  <a:lnTo>
                    <a:pt x="21" y="976"/>
                  </a:lnTo>
                  <a:lnTo>
                    <a:pt x="22" y="978"/>
                  </a:lnTo>
                  <a:lnTo>
                    <a:pt x="24" y="981"/>
                  </a:lnTo>
                  <a:lnTo>
                    <a:pt x="24" y="983"/>
                  </a:lnTo>
                  <a:lnTo>
                    <a:pt x="24" y="983"/>
                  </a:lnTo>
                  <a:close/>
                  <a:moveTo>
                    <a:pt x="24" y="1221"/>
                  </a:moveTo>
                  <a:lnTo>
                    <a:pt x="24" y="1359"/>
                  </a:lnTo>
                  <a:lnTo>
                    <a:pt x="24" y="1362"/>
                  </a:lnTo>
                  <a:lnTo>
                    <a:pt x="22" y="1363"/>
                  </a:lnTo>
                  <a:lnTo>
                    <a:pt x="21" y="1366"/>
                  </a:lnTo>
                  <a:lnTo>
                    <a:pt x="17" y="1369"/>
                  </a:lnTo>
                  <a:lnTo>
                    <a:pt x="16" y="1369"/>
                  </a:lnTo>
                  <a:lnTo>
                    <a:pt x="12" y="1369"/>
                  </a:lnTo>
                  <a:lnTo>
                    <a:pt x="10" y="1369"/>
                  </a:lnTo>
                  <a:lnTo>
                    <a:pt x="7" y="1369"/>
                  </a:lnTo>
                  <a:lnTo>
                    <a:pt x="4" y="1366"/>
                  </a:lnTo>
                  <a:lnTo>
                    <a:pt x="2" y="1363"/>
                  </a:lnTo>
                  <a:lnTo>
                    <a:pt x="0" y="1362"/>
                  </a:lnTo>
                  <a:lnTo>
                    <a:pt x="0" y="1359"/>
                  </a:lnTo>
                  <a:lnTo>
                    <a:pt x="0" y="1221"/>
                  </a:lnTo>
                  <a:lnTo>
                    <a:pt x="0" y="1218"/>
                  </a:lnTo>
                  <a:lnTo>
                    <a:pt x="2" y="1217"/>
                  </a:lnTo>
                  <a:lnTo>
                    <a:pt x="4" y="1214"/>
                  </a:lnTo>
                  <a:lnTo>
                    <a:pt x="7" y="1211"/>
                  </a:lnTo>
                  <a:lnTo>
                    <a:pt x="10" y="1211"/>
                  </a:lnTo>
                  <a:lnTo>
                    <a:pt x="12" y="1211"/>
                  </a:lnTo>
                  <a:lnTo>
                    <a:pt x="16" y="1211"/>
                  </a:lnTo>
                  <a:lnTo>
                    <a:pt x="17" y="1211"/>
                  </a:lnTo>
                  <a:lnTo>
                    <a:pt x="21" y="1214"/>
                  </a:lnTo>
                  <a:lnTo>
                    <a:pt x="22" y="1217"/>
                  </a:lnTo>
                  <a:lnTo>
                    <a:pt x="24" y="1218"/>
                  </a:lnTo>
                  <a:lnTo>
                    <a:pt x="24" y="1221"/>
                  </a:lnTo>
                  <a:lnTo>
                    <a:pt x="24" y="1221"/>
                  </a:lnTo>
                  <a:close/>
                  <a:moveTo>
                    <a:pt x="24" y="1458"/>
                  </a:moveTo>
                  <a:lnTo>
                    <a:pt x="24" y="1597"/>
                  </a:lnTo>
                  <a:lnTo>
                    <a:pt x="24" y="1599"/>
                  </a:lnTo>
                  <a:lnTo>
                    <a:pt x="22" y="1601"/>
                  </a:lnTo>
                  <a:lnTo>
                    <a:pt x="21" y="1604"/>
                  </a:lnTo>
                  <a:lnTo>
                    <a:pt x="17" y="1606"/>
                  </a:lnTo>
                  <a:lnTo>
                    <a:pt x="16" y="1607"/>
                  </a:lnTo>
                  <a:lnTo>
                    <a:pt x="12" y="1607"/>
                  </a:lnTo>
                  <a:lnTo>
                    <a:pt x="10" y="1607"/>
                  </a:lnTo>
                  <a:lnTo>
                    <a:pt x="7" y="1606"/>
                  </a:lnTo>
                  <a:lnTo>
                    <a:pt x="4" y="1604"/>
                  </a:lnTo>
                  <a:lnTo>
                    <a:pt x="2" y="1601"/>
                  </a:lnTo>
                  <a:lnTo>
                    <a:pt x="0" y="1599"/>
                  </a:lnTo>
                  <a:lnTo>
                    <a:pt x="0" y="1597"/>
                  </a:lnTo>
                  <a:lnTo>
                    <a:pt x="0" y="1458"/>
                  </a:lnTo>
                  <a:lnTo>
                    <a:pt x="0" y="1457"/>
                  </a:lnTo>
                  <a:lnTo>
                    <a:pt x="2" y="1455"/>
                  </a:lnTo>
                  <a:lnTo>
                    <a:pt x="4" y="1451"/>
                  </a:lnTo>
                  <a:lnTo>
                    <a:pt x="7" y="1449"/>
                  </a:lnTo>
                  <a:lnTo>
                    <a:pt x="10" y="1449"/>
                  </a:lnTo>
                  <a:lnTo>
                    <a:pt x="12" y="1448"/>
                  </a:lnTo>
                  <a:lnTo>
                    <a:pt x="16" y="1449"/>
                  </a:lnTo>
                  <a:lnTo>
                    <a:pt x="17" y="1449"/>
                  </a:lnTo>
                  <a:lnTo>
                    <a:pt x="21" y="1451"/>
                  </a:lnTo>
                  <a:lnTo>
                    <a:pt x="22" y="1455"/>
                  </a:lnTo>
                  <a:lnTo>
                    <a:pt x="24" y="1457"/>
                  </a:lnTo>
                  <a:lnTo>
                    <a:pt x="24" y="1458"/>
                  </a:lnTo>
                  <a:lnTo>
                    <a:pt x="24" y="1458"/>
                  </a:lnTo>
                  <a:close/>
                  <a:moveTo>
                    <a:pt x="24" y="1697"/>
                  </a:moveTo>
                  <a:lnTo>
                    <a:pt x="24" y="1835"/>
                  </a:lnTo>
                  <a:lnTo>
                    <a:pt x="24" y="1837"/>
                  </a:lnTo>
                  <a:lnTo>
                    <a:pt x="22" y="1838"/>
                  </a:lnTo>
                  <a:lnTo>
                    <a:pt x="21" y="1841"/>
                  </a:lnTo>
                  <a:lnTo>
                    <a:pt x="17" y="1844"/>
                  </a:lnTo>
                  <a:lnTo>
                    <a:pt x="16" y="1844"/>
                  </a:lnTo>
                  <a:lnTo>
                    <a:pt x="12" y="1844"/>
                  </a:lnTo>
                  <a:lnTo>
                    <a:pt x="10" y="1844"/>
                  </a:lnTo>
                  <a:lnTo>
                    <a:pt x="7" y="1844"/>
                  </a:lnTo>
                  <a:lnTo>
                    <a:pt x="4" y="1841"/>
                  </a:lnTo>
                  <a:lnTo>
                    <a:pt x="2" y="1838"/>
                  </a:lnTo>
                  <a:lnTo>
                    <a:pt x="0" y="1837"/>
                  </a:lnTo>
                  <a:lnTo>
                    <a:pt x="0" y="1835"/>
                  </a:lnTo>
                  <a:lnTo>
                    <a:pt x="0" y="1697"/>
                  </a:lnTo>
                  <a:lnTo>
                    <a:pt x="0" y="1694"/>
                  </a:lnTo>
                  <a:lnTo>
                    <a:pt x="2" y="1692"/>
                  </a:lnTo>
                  <a:lnTo>
                    <a:pt x="4" y="1689"/>
                  </a:lnTo>
                  <a:lnTo>
                    <a:pt x="7" y="1686"/>
                  </a:lnTo>
                  <a:lnTo>
                    <a:pt x="10" y="1686"/>
                  </a:lnTo>
                  <a:lnTo>
                    <a:pt x="12" y="1686"/>
                  </a:lnTo>
                  <a:lnTo>
                    <a:pt x="16" y="1686"/>
                  </a:lnTo>
                  <a:lnTo>
                    <a:pt x="17" y="1686"/>
                  </a:lnTo>
                  <a:lnTo>
                    <a:pt x="21" y="1689"/>
                  </a:lnTo>
                  <a:lnTo>
                    <a:pt x="22" y="1692"/>
                  </a:lnTo>
                  <a:lnTo>
                    <a:pt x="24" y="1694"/>
                  </a:lnTo>
                  <a:lnTo>
                    <a:pt x="24" y="1697"/>
                  </a:lnTo>
                  <a:lnTo>
                    <a:pt x="24" y="1697"/>
                  </a:lnTo>
                  <a:close/>
                  <a:moveTo>
                    <a:pt x="24" y="1933"/>
                  </a:moveTo>
                  <a:lnTo>
                    <a:pt x="24" y="2072"/>
                  </a:lnTo>
                  <a:lnTo>
                    <a:pt x="24" y="2074"/>
                  </a:lnTo>
                  <a:lnTo>
                    <a:pt x="22" y="2077"/>
                  </a:lnTo>
                  <a:lnTo>
                    <a:pt x="21" y="2080"/>
                  </a:lnTo>
                  <a:lnTo>
                    <a:pt x="17" y="2081"/>
                  </a:lnTo>
                  <a:lnTo>
                    <a:pt x="16" y="2083"/>
                  </a:lnTo>
                  <a:lnTo>
                    <a:pt x="12" y="2083"/>
                  </a:lnTo>
                  <a:lnTo>
                    <a:pt x="10" y="2083"/>
                  </a:lnTo>
                  <a:lnTo>
                    <a:pt x="7" y="2081"/>
                  </a:lnTo>
                  <a:lnTo>
                    <a:pt x="4" y="2080"/>
                  </a:lnTo>
                  <a:lnTo>
                    <a:pt x="2" y="2077"/>
                  </a:lnTo>
                  <a:lnTo>
                    <a:pt x="0" y="2074"/>
                  </a:lnTo>
                  <a:lnTo>
                    <a:pt x="0" y="2072"/>
                  </a:lnTo>
                  <a:lnTo>
                    <a:pt x="0" y="1933"/>
                  </a:lnTo>
                  <a:lnTo>
                    <a:pt x="0" y="1932"/>
                  </a:lnTo>
                  <a:lnTo>
                    <a:pt x="2" y="1931"/>
                  </a:lnTo>
                  <a:lnTo>
                    <a:pt x="4" y="1926"/>
                  </a:lnTo>
                  <a:lnTo>
                    <a:pt x="7" y="1925"/>
                  </a:lnTo>
                  <a:lnTo>
                    <a:pt x="10" y="1925"/>
                  </a:lnTo>
                  <a:lnTo>
                    <a:pt x="12" y="1925"/>
                  </a:lnTo>
                  <a:lnTo>
                    <a:pt x="16" y="1925"/>
                  </a:lnTo>
                  <a:lnTo>
                    <a:pt x="17" y="1925"/>
                  </a:lnTo>
                  <a:lnTo>
                    <a:pt x="21" y="1926"/>
                  </a:lnTo>
                  <a:lnTo>
                    <a:pt x="22" y="1931"/>
                  </a:lnTo>
                  <a:lnTo>
                    <a:pt x="24" y="1932"/>
                  </a:lnTo>
                  <a:lnTo>
                    <a:pt x="24" y="1933"/>
                  </a:lnTo>
                  <a:lnTo>
                    <a:pt x="24" y="1933"/>
                  </a:lnTo>
                  <a:close/>
                  <a:moveTo>
                    <a:pt x="24" y="2172"/>
                  </a:moveTo>
                  <a:lnTo>
                    <a:pt x="24" y="2311"/>
                  </a:lnTo>
                  <a:lnTo>
                    <a:pt x="24" y="2312"/>
                  </a:lnTo>
                  <a:lnTo>
                    <a:pt x="22" y="2314"/>
                  </a:lnTo>
                  <a:lnTo>
                    <a:pt x="21" y="2317"/>
                  </a:lnTo>
                  <a:lnTo>
                    <a:pt x="17" y="2320"/>
                  </a:lnTo>
                  <a:lnTo>
                    <a:pt x="16" y="2320"/>
                  </a:lnTo>
                  <a:lnTo>
                    <a:pt x="12" y="2320"/>
                  </a:lnTo>
                  <a:lnTo>
                    <a:pt x="10" y="2320"/>
                  </a:lnTo>
                  <a:lnTo>
                    <a:pt x="7" y="2320"/>
                  </a:lnTo>
                  <a:lnTo>
                    <a:pt x="4" y="2317"/>
                  </a:lnTo>
                  <a:lnTo>
                    <a:pt x="2" y="2314"/>
                  </a:lnTo>
                  <a:lnTo>
                    <a:pt x="0" y="2312"/>
                  </a:lnTo>
                  <a:lnTo>
                    <a:pt x="0" y="2311"/>
                  </a:lnTo>
                  <a:lnTo>
                    <a:pt x="0" y="2172"/>
                  </a:lnTo>
                  <a:lnTo>
                    <a:pt x="0" y="2169"/>
                  </a:lnTo>
                  <a:lnTo>
                    <a:pt x="2" y="2167"/>
                  </a:lnTo>
                  <a:lnTo>
                    <a:pt x="4" y="2165"/>
                  </a:lnTo>
                  <a:lnTo>
                    <a:pt x="7" y="2163"/>
                  </a:lnTo>
                  <a:lnTo>
                    <a:pt x="10" y="2162"/>
                  </a:lnTo>
                  <a:lnTo>
                    <a:pt x="12" y="2162"/>
                  </a:lnTo>
                  <a:lnTo>
                    <a:pt x="16" y="2162"/>
                  </a:lnTo>
                  <a:lnTo>
                    <a:pt x="17" y="2163"/>
                  </a:lnTo>
                  <a:lnTo>
                    <a:pt x="21" y="2165"/>
                  </a:lnTo>
                  <a:lnTo>
                    <a:pt x="22" y="2167"/>
                  </a:lnTo>
                  <a:lnTo>
                    <a:pt x="24" y="2169"/>
                  </a:lnTo>
                  <a:lnTo>
                    <a:pt x="24" y="2172"/>
                  </a:lnTo>
                  <a:lnTo>
                    <a:pt x="24" y="2172"/>
                  </a:lnTo>
                  <a:close/>
                  <a:moveTo>
                    <a:pt x="24" y="2409"/>
                  </a:moveTo>
                  <a:lnTo>
                    <a:pt x="24" y="2548"/>
                  </a:lnTo>
                  <a:lnTo>
                    <a:pt x="24" y="2551"/>
                  </a:lnTo>
                  <a:lnTo>
                    <a:pt x="22" y="2552"/>
                  </a:lnTo>
                  <a:lnTo>
                    <a:pt x="21" y="2555"/>
                  </a:lnTo>
                  <a:lnTo>
                    <a:pt x="17" y="2556"/>
                  </a:lnTo>
                  <a:lnTo>
                    <a:pt x="16" y="2558"/>
                  </a:lnTo>
                  <a:lnTo>
                    <a:pt x="12" y="2558"/>
                  </a:lnTo>
                  <a:lnTo>
                    <a:pt x="10" y="2558"/>
                  </a:lnTo>
                  <a:lnTo>
                    <a:pt x="7" y="2556"/>
                  </a:lnTo>
                  <a:lnTo>
                    <a:pt x="4" y="2555"/>
                  </a:lnTo>
                  <a:lnTo>
                    <a:pt x="2" y="2552"/>
                  </a:lnTo>
                  <a:lnTo>
                    <a:pt x="0" y="2551"/>
                  </a:lnTo>
                  <a:lnTo>
                    <a:pt x="0" y="2548"/>
                  </a:lnTo>
                  <a:lnTo>
                    <a:pt x="0" y="2409"/>
                  </a:lnTo>
                  <a:lnTo>
                    <a:pt x="0" y="2407"/>
                  </a:lnTo>
                  <a:lnTo>
                    <a:pt x="2" y="2406"/>
                  </a:lnTo>
                  <a:lnTo>
                    <a:pt x="4" y="2403"/>
                  </a:lnTo>
                  <a:lnTo>
                    <a:pt x="7" y="2400"/>
                  </a:lnTo>
                  <a:lnTo>
                    <a:pt x="10" y="2400"/>
                  </a:lnTo>
                  <a:lnTo>
                    <a:pt x="12" y="2400"/>
                  </a:lnTo>
                  <a:lnTo>
                    <a:pt x="16" y="2400"/>
                  </a:lnTo>
                  <a:lnTo>
                    <a:pt x="17" y="2400"/>
                  </a:lnTo>
                  <a:lnTo>
                    <a:pt x="21" y="2403"/>
                  </a:lnTo>
                  <a:lnTo>
                    <a:pt x="22" y="2406"/>
                  </a:lnTo>
                  <a:lnTo>
                    <a:pt x="24" y="2407"/>
                  </a:lnTo>
                  <a:lnTo>
                    <a:pt x="24" y="2409"/>
                  </a:lnTo>
                  <a:lnTo>
                    <a:pt x="24" y="2409"/>
                  </a:lnTo>
                  <a:close/>
                  <a:moveTo>
                    <a:pt x="24" y="2647"/>
                  </a:moveTo>
                  <a:lnTo>
                    <a:pt x="24" y="2684"/>
                  </a:lnTo>
                  <a:lnTo>
                    <a:pt x="24" y="2687"/>
                  </a:lnTo>
                  <a:lnTo>
                    <a:pt x="22" y="2688"/>
                  </a:lnTo>
                  <a:lnTo>
                    <a:pt x="21" y="2691"/>
                  </a:lnTo>
                  <a:lnTo>
                    <a:pt x="17" y="2693"/>
                  </a:lnTo>
                  <a:lnTo>
                    <a:pt x="16" y="2694"/>
                  </a:lnTo>
                  <a:lnTo>
                    <a:pt x="12" y="2694"/>
                  </a:lnTo>
                  <a:lnTo>
                    <a:pt x="10" y="2694"/>
                  </a:lnTo>
                  <a:lnTo>
                    <a:pt x="7" y="2693"/>
                  </a:lnTo>
                  <a:lnTo>
                    <a:pt x="4" y="2691"/>
                  </a:lnTo>
                  <a:lnTo>
                    <a:pt x="2" y="2688"/>
                  </a:lnTo>
                  <a:lnTo>
                    <a:pt x="0" y="2687"/>
                  </a:lnTo>
                  <a:lnTo>
                    <a:pt x="0" y="2684"/>
                  </a:lnTo>
                  <a:lnTo>
                    <a:pt x="0" y="2647"/>
                  </a:lnTo>
                  <a:lnTo>
                    <a:pt x="0" y="2646"/>
                  </a:lnTo>
                  <a:lnTo>
                    <a:pt x="2" y="2643"/>
                  </a:lnTo>
                  <a:lnTo>
                    <a:pt x="4" y="2640"/>
                  </a:lnTo>
                  <a:lnTo>
                    <a:pt x="7" y="2638"/>
                  </a:lnTo>
                  <a:lnTo>
                    <a:pt x="10" y="2637"/>
                  </a:lnTo>
                  <a:lnTo>
                    <a:pt x="12" y="2637"/>
                  </a:lnTo>
                  <a:lnTo>
                    <a:pt x="16" y="2637"/>
                  </a:lnTo>
                  <a:lnTo>
                    <a:pt x="17" y="2638"/>
                  </a:lnTo>
                  <a:lnTo>
                    <a:pt x="21" y="2640"/>
                  </a:lnTo>
                  <a:lnTo>
                    <a:pt x="22" y="2643"/>
                  </a:lnTo>
                  <a:lnTo>
                    <a:pt x="24" y="2646"/>
                  </a:lnTo>
                  <a:lnTo>
                    <a:pt x="24" y="2647"/>
                  </a:lnTo>
                  <a:lnTo>
                    <a:pt x="24" y="264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71760" y="3086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3720" y="3184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71760" y="3273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83720" y="3372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82560" y="4029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95240" y="41277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68520" y="47847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81200" y="4883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36400" y="4972320"/>
              <a:ext cx="36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n&lt;&lt;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773080" y="2708280"/>
              <a:ext cx="1395360" cy="340200"/>
              <a:chOff x="2773080" y="2708280"/>
              <a:chExt cx="1395360" cy="34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2773080" y="2708280"/>
                <a:ext cx="1395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200" spc="-1" strike="noStrike">
                    <a:solidFill>
                      <a:srgbClr val="ff0000"/>
                    </a:solidFill>
                    <a:latin typeface="Times New Roman"/>
                  </a:rPr>
                  <a:t>Osnovni deo program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34880" y="2865600"/>
                <a:ext cx="727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200" spc="-1" strike="noStrike">
                    <a:solidFill>
                      <a:srgbClr val="ff0000"/>
                    </a:solidFill>
                    <a:latin typeface="Times New Roman"/>
                  </a:rPr>
                  <a:t>proizvod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4767120" y="2681280"/>
            <a:ext cx="1084320" cy="2525760"/>
            <a:chOff x="4767120" y="2681280"/>
            <a:chExt cx="1084320" cy="2525760"/>
          </a:xfrm>
        </p:grpSpPr>
        <p:sp>
          <p:nvSpPr>
            <p:cNvPr id="143" name=""/>
            <p:cNvSpPr/>
            <p:nvPr/>
          </p:nvSpPr>
          <p:spPr>
            <a:xfrm>
              <a:off x="4767120" y="3068640"/>
              <a:ext cx="1084320" cy="2138400"/>
            </a:xfrm>
            <a:custGeom>
              <a:avLst/>
              <a:gdLst/>
              <a:ahLst/>
              <a:rect l="l" t="t" r="r" b="b"/>
              <a:pathLst>
                <a:path w="1364" h="2694">
                  <a:moveTo>
                    <a:pt x="10" y="2673"/>
                  </a:moveTo>
                  <a:lnTo>
                    <a:pt x="172" y="2673"/>
                  </a:lnTo>
                  <a:lnTo>
                    <a:pt x="176" y="2675"/>
                  </a:lnTo>
                  <a:lnTo>
                    <a:pt x="177" y="2675"/>
                  </a:lnTo>
                  <a:lnTo>
                    <a:pt x="181" y="2676"/>
                  </a:lnTo>
                  <a:lnTo>
                    <a:pt x="183" y="2681"/>
                  </a:lnTo>
                  <a:lnTo>
                    <a:pt x="184" y="2682"/>
                  </a:lnTo>
                  <a:lnTo>
                    <a:pt x="184" y="2684"/>
                  </a:lnTo>
                  <a:lnTo>
                    <a:pt x="184" y="2687"/>
                  </a:lnTo>
                  <a:lnTo>
                    <a:pt x="183" y="2688"/>
                  </a:lnTo>
                  <a:lnTo>
                    <a:pt x="181" y="2691"/>
                  </a:lnTo>
                  <a:lnTo>
                    <a:pt x="177" y="2693"/>
                  </a:lnTo>
                  <a:lnTo>
                    <a:pt x="176" y="2694"/>
                  </a:lnTo>
                  <a:lnTo>
                    <a:pt x="172" y="2694"/>
                  </a:lnTo>
                  <a:lnTo>
                    <a:pt x="10" y="2694"/>
                  </a:lnTo>
                  <a:lnTo>
                    <a:pt x="8" y="2694"/>
                  </a:lnTo>
                  <a:lnTo>
                    <a:pt x="6" y="2693"/>
                  </a:lnTo>
                  <a:lnTo>
                    <a:pt x="3" y="2691"/>
                  </a:lnTo>
                  <a:lnTo>
                    <a:pt x="0" y="2688"/>
                  </a:lnTo>
                  <a:lnTo>
                    <a:pt x="0" y="2687"/>
                  </a:lnTo>
                  <a:lnTo>
                    <a:pt x="0" y="2684"/>
                  </a:lnTo>
                  <a:lnTo>
                    <a:pt x="0" y="2682"/>
                  </a:lnTo>
                  <a:lnTo>
                    <a:pt x="0" y="2681"/>
                  </a:lnTo>
                  <a:lnTo>
                    <a:pt x="3" y="2676"/>
                  </a:lnTo>
                  <a:lnTo>
                    <a:pt x="6" y="2675"/>
                  </a:lnTo>
                  <a:lnTo>
                    <a:pt x="8" y="2675"/>
                  </a:lnTo>
                  <a:lnTo>
                    <a:pt x="10" y="2673"/>
                  </a:lnTo>
                  <a:lnTo>
                    <a:pt x="10" y="2673"/>
                  </a:lnTo>
                  <a:close/>
                  <a:moveTo>
                    <a:pt x="289" y="2673"/>
                  </a:moveTo>
                  <a:lnTo>
                    <a:pt x="451" y="2673"/>
                  </a:lnTo>
                  <a:lnTo>
                    <a:pt x="453" y="2675"/>
                  </a:lnTo>
                  <a:lnTo>
                    <a:pt x="454" y="2675"/>
                  </a:lnTo>
                  <a:lnTo>
                    <a:pt x="460" y="2676"/>
                  </a:lnTo>
                  <a:lnTo>
                    <a:pt x="461" y="2681"/>
                  </a:lnTo>
                  <a:lnTo>
                    <a:pt x="463" y="2682"/>
                  </a:lnTo>
                  <a:lnTo>
                    <a:pt x="463" y="2684"/>
                  </a:lnTo>
                  <a:lnTo>
                    <a:pt x="463" y="2687"/>
                  </a:lnTo>
                  <a:lnTo>
                    <a:pt x="461" y="2688"/>
                  </a:lnTo>
                  <a:lnTo>
                    <a:pt x="460" y="2691"/>
                  </a:lnTo>
                  <a:lnTo>
                    <a:pt x="454" y="2693"/>
                  </a:lnTo>
                  <a:lnTo>
                    <a:pt x="453" y="2694"/>
                  </a:lnTo>
                  <a:lnTo>
                    <a:pt x="451" y="2694"/>
                  </a:lnTo>
                  <a:lnTo>
                    <a:pt x="289" y="2694"/>
                  </a:lnTo>
                  <a:lnTo>
                    <a:pt x="287" y="2694"/>
                  </a:lnTo>
                  <a:lnTo>
                    <a:pt x="283" y="2693"/>
                  </a:lnTo>
                  <a:lnTo>
                    <a:pt x="280" y="2691"/>
                  </a:lnTo>
                  <a:lnTo>
                    <a:pt x="278" y="2688"/>
                  </a:lnTo>
                  <a:lnTo>
                    <a:pt x="277" y="2687"/>
                  </a:lnTo>
                  <a:lnTo>
                    <a:pt x="277" y="2684"/>
                  </a:lnTo>
                  <a:lnTo>
                    <a:pt x="277" y="2682"/>
                  </a:lnTo>
                  <a:lnTo>
                    <a:pt x="278" y="2681"/>
                  </a:lnTo>
                  <a:lnTo>
                    <a:pt x="280" y="2676"/>
                  </a:lnTo>
                  <a:lnTo>
                    <a:pt x="283" y="2675"/>
                  </a:lnTo>
                  <a:lnTo>
                    <a:pt x="287" y="2675"/>
                  </a:lnTo>
                  <a:lnTo>
                    <a:pt x="289" y="2673"/>
                  </a:lnTo>
                  <a:lnTo>
                    <a:pt x="289" y="2673"/>
                  </a:lnTo>
                  <a:close/>
                  <a:moveTo>
                    <a:pt x="567" y="2673"/>
                  </a:moveTo>
                  <a:lnTo>
                    <a:pt x="728" y="2673"/>
                  </a:lnTo>
                  <a:lnTo>
                    <a:pt x="731" y="2675"/>
                  </a:lnTo>
                  <a:lnTo>
                    <a:pt x="733" y="2675"/>
                  </a:lnTo>
                  <a:lnTo>
                    <a:pt x="737" y="2676"/>
                  </a:lnTo>
                  <a:lnTo>
                    <a:pt x="740" y="2681"/>
                  </a:lnTo>
                  <a:lnTo>
                    <a:pt x="740" y="2682"/>
                  </a:lnTo>
                  <a:lnTo>
                    <a:pt x="740" y="2684"/>
                  </a:lnTo>
                  <a:lnTo>
                    <a:pt x="740" y="2687"/>
                  </a:lnTo>
                  <a:lnTo>
                    <a:pt x="740" y="2688"/>
                  </a:lnTo>
                  <a:lnTo>
                    <a:pt x="737" y="2691"/>
                  </a:lnTo>
                  <a:lnTo>
                    <a:pt x="733" y="2693"/>
                  </a:lnTo>
                  <a:lnTo>
                    <a:pt x="731" y="2694"/>
                  </a:lnTo>
                  <a:lnTo>
                    <a:pt x="728" y="2694"/>
                  </a:lnTo>
                  <a:lnTo>
                    <a:pt x="567" y="2694"/>
                  </a:lnTo>
                  <a:lnTo>
                    <a:pt x="564" y="2694"/>
                  </a:lnTo>
                  <a:lnTo>
                    <a:pt x="562" y="2693"/>
                  </a:lnTo>
                  <a:lnTo>
                    <a:pt x="559" y="2691"/>
                  </a:lnTo>
                  <a:lnTo>
                    <a:pt x="555" y="2688"/>
                  </a:lnTo>
                  <a:lnTo>
                    <a:pt x="555" y="2687"/>
                  </a:lnTo>
                  <a:lnTo>
                    <a:pt x="555" y="2684"/>
                  </a:lnTo>
                  <a:lnTo>
                    <a:pt x="555" y="2682"/>
                  </a:lnTo>
                  <a:lnTo>
                    <a:pt x="555" y="2681"/>
                  </a:lnTo>
                  <a:lnTo>
                    <a:pt x="559" y="2676"/>
                  </a:lnTo>
                  <a:lnTo>
                    <a:pt x="562" y="2675"/>
                  </a:lnTo>
                  <a:lnTo>
                    <a:pt x="564" y="2675"/>
                  </a:lnTo>
                  <a:lnTo>
                    <a:pt x="567" y="2673"/>
                  </a:lnTo>
                  <a:lnTo>
                    <a:pt x="567" y="2673"/>
                  </a:lnTo>
                  <a:close/>
                  <a:moveTo>
                    <a:pt x="844" y="2673"/>
                  </a:moveTo>
                  <a:lnTo>
                    <a:pt x="1007" y="2673"/>
                  </a:lnTo>
                  <a:lnTo>
                    <a:pt x="1008" y="2675"/>
                  </a:lnTo>
                  <a:lnTo>
                    <a:pt x="1012" y="2675"/>
                  </a:lnTo>
                  <a:lnTo>
                    <a:pt x="1015" y="2676"/>
                  </a:lnTo>
                  <a:lnTo>
                    <a:pt x="1017" y="2681"/>
                  </a:lnTo>
                  <a:lnTo>
                    <a:pt x="1019" y="2682"/>
                  </a:lnTo>
                  <a:lnTo>
                    <a:pt x="1019" y="2684"/>
                  </a:lnTo>
                  <a:lnTo>
                    <a:pt x="1019" y="2687"/>
                  </a:lnTo>
                  <a:lnTo>
                    <a:pt x="1017" y="2688"/>
                  </a:lnTo>
                  <a:lnTo>
                    <a:pt x="1015" y="2691"/>
                  </a:lnTo>
                  <a:lnTo>
                    <a:pt x="1012" y="2693"/>
                  </a:lnTo>
                  <a:lnTo>
                    <a:pt x="1008" y="2694"/>
                  </a:lnTo>
                  <a:lnTo>
                    <a:pt x="1007" y="2694"/>
                  </a:lnTo>
                  <a:lnTo>
                    <a:pt x="844" y="2694"/>
                  </a:lnTo>
                  <a:lnTo>
                    <a:pt x="843" y="2694"/>
                  </a:lnTo>
                  <a:lnTo>
                    <a:pt x="841" y="2693"/>
                  </a:lnTo>
                  <a:lnTo>
                    <a:pt x="836" y="2691"/>
                  </a:lnTo>
                  <a:lnTo>
                    <a:pt x="834" y="2688"/>
                  </a:lnTo>
                  <a:lnTo>
                    <a:pt x="834" y="2687"/>
                  </a:lnTo>
                  <a:lnTo>
                    <a:pt x="832" y="2684"/>
                  </a:lnTo>
                  <a:lnTo>
                    <a:pt x="834" y="2682"/>
                  </a:lnTo>
                  <a:lnTo>
                    <a:pt x="834" y="2681"/>
                  </a:lnTo>
                  <a:lnTo>
                    <a:pt x="836" y="2676"/>
                  </a:lnTo>
                  <a:lnTo>
                    <a:pt x="841" y="2675"/>
                  </a:lnTo>
                  <a:lnTo>
                    <a:pt x="843" y="2675"/>
                  </a:lnTo>
                  <a:lnTo>
                    <a:pt x="844" y="2673"/>
                  </a:lnTo>
                  <a:lnTo>
                    <a:pt x="844" y="2673"/>
                  </a:lnTo>
                  <a:close/>
                  <a:moveTo>
                    <a:pt x="1123" y="2673"/>
                  </a:moveTo>
                  <a:lnTo>
                    <a:pt x="1285" y="2673"/>
                  </a:lnTo>
                  <a:lnTo>
                    <a:pt x="1287" y="2675"/>
                  </a:lnTo>
                  <a:lnTo>
                    <a:pt x="1289" y="2675"/>
                  </a:lnTo>
                  <a:lnTo>
                    <a:pt x="1292" y="2676"/>
                  </a:lnTo>
                  <a:lnTo>
                    <a:pt x="1296" y="2681"/>
                  </a:lnTo>
                  <a:lnTo>
                    <a:pt x="1296" y="2682"/>
                  </a:lnTo>
                  <a:lnTo>
                    <a:pt x="1296" y="2684"/>
                  </a:lnTo>
                  <a:lnTo>
                    <a:pt x="1296" y="2687"/>
                  </a:lnTo>
                  <a:lnTo>
                    <a:pt x="1296" y="2688"/>
                  </a:lnTo>
                  <a:lnTo>
                    <a:pt x="1292" y="2691"/>
                  </a:lnTo>
                  <a:lnTo>
                    <a:pt x="1289" y="2693"/>
                  </a:lnTo>
                  <a:lnTo>
                    <a:pt x="1287" y="2694"/>
                  </a:lnTo>
                  <a:lnTo>
                    <a:pt x="1285" y="2694"/>
                  </a:lnTo>
                  <a:lnTo>
                    <a:pt x="1123" y="2694"/>
                  </a:lnTo>
                  <a:lnTo>
                    <a:pt x="1120" y="2694"/>
                  </a:lnTo>
                  <a:lnTo>
                    <a:pt x="1118" y="2693"/>
                  </a:lnTo>
                  <a:lnTo>
                    <a:pt x="1114" y="2691"/>
                  </a:lnTo>
                  <a:lnTo>
                    <a:pt x="1111" y="2688"/>
                  </a:lnTo>
                  <a:lnTo>
                    <a:pt x="1111" y="2687"/>
                  </a:lnTo>
                  <a:lnTo>
                    <a:pt x="1111" y="2684"/>
                  </a:lnTo>
                  <a:lnTo>
                    <a:pt x="1111" y="2682"/>
                  </a:lnTo>
                  <a:lnTo>
                    <a:pt x="1111" y="2681"/>
                  </a:lnTo>
                  <a:lnTo>
                    <a:pt x="1114" y="2676"/>
                  </a:lnTo>
                  <a:lnTo>
                    <a:pt x="1118" y="2675"/>
                  </a:lnTo>
                  <a:lnTo>
                    <a:pt x="1120" y="2675"/>
                  </a:lnTo>
                  <a:lnTo>
                    <a:pt x="1123" y="2673"/>
                  </a:lnTo>
                  <a:lnTo>
                    <a:pt x="1123" y="2673"/>
                  </a:lnTo>
                  <a:close/>
                  <a:moveTo>
                    <a:pt x="1340" y="2643"/>
                  </a:moveTo>
                  <a:lnTo>
                    <a:pt x="1340" y="2504"/>
                  </a:lnTo>
                  <a:lnTo>
                    <a:pt x="1342" y="2502"/>
                  </a:lnTo>
                  <a:lnTo>
                    <a:pt x="1342" y="2501"/>
                  </a:lnTo>
                  <a:lnTo>
                    <a:pt x="1344" y="2497"/>
                  </a:lnTo>
                  <a:lnTo>
                    <a:pt x="1349" y="2495"/>
                  </a:lnTo>
                  <a:lnTo>
                    <a:pt x="1350" y="2495"/>
                  </a:lnTo>
                  <a:lnTo>
                    <a:pt x="1352" y="2495"/>
                  </a:lnTo>
                  <a:lnTo>
                    <a:pt x="1356" y="2495"/>
                  </a:lnTo>
                  <a:lnTo>
                    <a:pt x="1357" y="2495"/>
                  </a:lnTo>
                  <a:lnTo>
                    <a:pt x="1361" y="2497"/>
                  </a:lnTo>
                  <a:lnTo>
                    <a:pt x="1362" y="2501"/>
                  </a:lnTo>
                  <a:lnTo>
                    <a:pt x="1364" y="2502"/>
                  </a:lnTo>
                  <a:lnTo>
                    <a:pt x="1364" y="2504"/>
                  </a:lnTo>
                  <a:lnTo>
                    <a:pt x="1364" y="2643"/>
                  </a:lnTo>
                  <a:lnTo>
                    <a:pt x="1364" y="2646"/>
                  </a:lnTo>
                  <a:lnTo>
                    <a:pt x="1362" y="2647"/>
                  </a:lnTo>
                  <a:lnTo>
                    <a:pt x="1361" y="2650"/>
                  </a:lnTo>
                  <a:lnTo>
                    <a:pt x="1357" y="2652"/>
                  </a:lnTo>
                  <a:lnTo>
                    <a:pt x="1356" y="2653"/>
                  </a:lnTo>
                  <a:lnTo>
                    <a:pt x="1352" y="2653"/>
                  </a:lnTo>
                  <a:lnTo>
                    <a:pt x="1350" y="2653"/>
                  </a:lnTo>
                  <a:lnTo>
                    <a:pt x="1349" y="2652"/>
                  </a:lnTo>
                  <a:lnTo>
                    <a:pt x="1344" y="2650"/>
                  </a:lnTo>
                  <a:lnTo>
                    <a:pt x="1342" y="2647"/>
                  </a:lnTo>
                  <a:lnTo>
                    <a:pt x="1342" y="2646"/>
                  </a:lnTo>
                  <a:lnTo>
                    <a:pt x="1340" y="2643"/>
                  </a:lnTo>
                  <a:lnTo>
                    <a:pt x="1340" y="2643"/>
                  </a:lnTo>
                  <a:close/>
                  <a:moveTo>
                    <a:pt x="1340" y="2406"/>
                  </a:moveTo>
                  <a:lnTo>
                    <a:pt x="1340" y="2267"/>
                  </a:lnTo>
                  <a:lnTo>
                    <a:pt x="1342" y="2264"/>
                  </a:lnTo>
                  <a:lnTo>
                    <a:pt x="1342" y="2263"/>
                  </a:lnTo>
                  <a:lnTo>
                    <a:pt x="1344" y="2260"/>
                  </a:lnTo>
                  <a:lnTo>
                    <a:pt x="1349" y="2258"/>
                  </a:lnTo>
                  <a:lnTo>
                    <a:pt x="1350" y="2257"/>
                  </a:lnTo>
                  <a:lnTo>
                    <a:pt x="1352" y="2257"/>
                  </a:lnTo>
                  <a:lnTo>
                    <a:pt x="1356" y="2257"/>
                  </a:lnTo>
                  <a:lnTo>
                    <a:pt x="1357" y="2258"/>
                  </a:lnTo>
                  <a:lnTo>
                    <a:pt x="1361" y="2260"/>
                  </a:lnTo>
                  <a:lnTo>
                    <a:pt x="1362" y="2263"/>
                  </a:lnTo>
                  <a:lnTo>
                    <a:pt x="1364" y="2264"/>
                  </a:lnTo>
                  <a:lnTo>
                    <a:pt x="1364" y="2267"/>
                  </a:lnTo>
                  <a:lnTo>
                    <a:pt x="1364" y="2406"/>
                  </a:lnTo>
                  <a:lnTo>
                    <a:pt x="1364" y="2407"/>
                  </a:lnTo>
                  <a:lnTo>
                    <a:pt x="1362" y="2409"/>
                  </a:lnTo>
                  <a:lnTo>
                    <a:pt x="1361" y="2412"/>
                  </a:lnTo>
                  <a:lnTo>
                    <a:pt x="1357" y="2415"/>
                  </a:lnTo>
                  <a:lnTo>
                    <a:pt x="1356" y="2415"/>
                  </a:lnTo>
                  <a:lnTo>
                    <a:pt x="1352" y="2415"/>
                  </a:lnTo>
                  <a:lnTo>
                    <a:pt x="1350" y="2415"/>
                  </a:lnTo>
                  <a:lnTo>
                    <a:pt x="1349" y="2415"/>
                  </a:lnTo>
                  <a:lnTo>
                    <a:pt x="1344" y="2412"/>
                  </a:lnTo>
                  <a:lnTo>
                    <a:pt x="1342" y="2409"/>
                  </a:lnTo>
                  <a:lnTo>
                    <a:pt x="1342" y="2407"/>
                  </a:lnTo>
                  <a:lnTo>
                    <a:pt x="1340" y="2406"/>
                  </a:lnTo>
                  <a:lnTo>
                    <a:pt x="1340" y="2406"/>
                  </a:lnTo>
                  <a:close/>
                  <a:moveTo>
                    <a:pt x="1340" y="2167"/>
                  </a:moveTo>
                  <a:lnTo>
                    <a:pt x="1340" y="2029"/>
                  </a:lnTo>
                  <a:lnTo>
                    <a:pt x="1342" y="2027"/>
                  </a:lnTo>
                  <a:lnTo>
                    <a:pt x="1342" y="2026"/>
                  </a:lnTo>
                  <a:lnTo>
                    <a:pt x="1344" y="2021"/>
                  </a:lnTo>
                  <a:lnTo>
                    <a:pt x="1349" y="2020"/>
                  </a:lnTo>
                  <a:lnTo>
                    <a:pt x="1350" y="2020"/>
                  </a:lnTo>
                  <a:lnTo>
                    <a:pt x="1352" y="2018"/>
                  </a:lnTo>
                  <a:lnTo>
                    <a:pt x="1356" y="2020"/>
                  </a:lnTo>
                  <a:lnTo>
                    <a:pt x="1357" y="2020"/>
                  </a:lnTo>
                  <a:lnTo>
                    <a:pt x="1361" y="2021"/>
                  </a:lnTo>
                  <a:lnTo>
                    <a:pt x="1362" y="2026"/>
                  </a:lnTo>
                  <a:lnTo>
                    <a:pt x="1364" y="2027"/>
                  </a:lnTo>
                  <a:lnTo>
                    <a:pt x="1364" y="2029"/>
                  </a:lnTo>
                  <a:lnTo>
                    <a:pt x="1364" y="2167"/>
                  </a:lnTo>
                  <a:lnTo>
                    <a:pt x="1364" y="2169"/>
                  </a:lnTo>
                  <a:lnTo>
                    <a:pt x="1362" y="2172"/>
                  </a:lnTo>
                  <a:lnTo>
                    <a:pt x="1361" y="2175"/>
                  </a:lnTo>
                  <a:lnTo>
                    <a:pt x="1357" y="2176"/>
                  </a:lnTo>
                  <a:lnTo>
                    <a:pt x="1356" y="2178"/>
                  </a:lnTo>
                  <a:lnTo>
                    <a:pt x="1352" y="2178"/>
                  </a:lnTo>
                  <a:lnTo>
                    <a:pt x="1350" y="2178"/>
                  </a:lnTo>
                  <a:lnTo>
                    <a:pt x="1349" y="2176"/>
                  </a:lnTo>
                  <a:lnTo>
                    <a:pt x="1344" y="2175"/>
                  </a:lnTo>
                  <a:lnTo>
                    <a:pt x="1342" y="2172"/>
                  </a:lnTo>
                  <a:lnTo>
                    <a:pt x="1342" y="2169"/>
                  </a:lnTo>
                  <a:lnTo>
                    <a:pt x="1340" y="2167"/>
                  </a:lnTo>
                  <a:lnTo>
                    <a:pt x="1340" y="2167"/>
                  </a:lnTo>
                  <a:close/>
                  <a:moveTo>
                    <a:pt x="1340" y="1929"/>
                  </a:moveTo>
                  <a:lnTo>
                    <a:pt x="1340" y="1792"/>
                  </a:lnTo>
                  <a:lnTo>
                    <a:pt x="1342" y="1789"/>
                  </a:lnTo>
                  <a:lnTo>
                    <a:pt x="1342" y="1787"/>
                  </a:lnTo>
                  <a:lnTo>
                    <a:pt x="1344" y="1784"/>
                  </a:lnTo>
                  <a:lnTo>
                    <a:pt x="1349" y="1781"/>
                  </a:lnTo>
                  <a:lnTo>
                    <a:pt x="1350" y="1781"/>
                  </a:lnTo>
                  <a:lnTo>
                    <a:pt x="1352" y="1781"/>
                  </a:lnTo>
                  <a:lnTo>
                    <a:pt x="1356" y="1781"/>
                  </a:lnTo>
                  <a:lnTo>
                    <a:pt x="1357" y="1781"/>
                  </a:lnTo>
                  <a:lnTo>
                    <a:pt x="1361" y="1784"/>
                  </a:lnTo>
                  <a:lnTo>
                    <a:pt x="1362" y="1787"/>
                  </a:lnTo>
                  <a:lnTo>
                    <a:pt x="1364" y="1789"/>
                  </a:lnTo>
                  <a:lnTo>
                    <a:pt x="1364" y="1792"/>
                  </a:lnTo>
                  <a:lnTo>
                    <a:pt x="1364" y="1929"/>
                  </a:lnTo>
                  <a:lnTo>
                    <a:pt x="1364" y="1932"/>
                  </a:lnTo>
                  <a:lnTo>
                    <a:pt x="1362" y="1933"/>
                  </a:lnTo>
                  <a:lnTo>
                    <a:pt x="1361" y="1936"/>
                  </a:lnTo>
                  <a:lnTo>
                    <a:pt x="1357" y="1939"/>
                  </a:lnTo>
                  <a:lnTo>
                    <a:pt x="1356" y="1939"/>
                  </a:lnTo>
                  <a:lnTo>
                    <a:pt x="1352" y="1939"/>
                  </a:lnTo>
                  <a:lnTo>
                    <a:pt x="1350" y="1939"/>
                  </a:lnTo>
                  <a:lnTo>
                    <a:pt x="1349" y="1939"/>
                  </a:lnTo>
                  <a:lnTo>
                    <a:pt x="1344" y="1936"/>
                  </a:lnTo>
                  <a:lnTo>
                    <a:pt x="1342" y="1933"/>
                  </a:lnTo>
                  <a:lnTo>
                    <a:pt x="1342" y="1932"/>
                  </a:lnTo>
                  <a:lnTo>
                    <a:pt x="1340" y="1929"/>
                  </a:lnTo>
                  <a:lnTo>
                    <a:pt x="1340" y="1929"/>
                  </a:lnTo>
                  <a:close/>
                  <a:moveTo>
                    <a:pt x="1340" y="1692"/>
                  </a:moveTo>
                  <a:lnTo>
                    <a:pt x="1340" y="1553"/>
                  </a:lnTo>
                  <a:lnTo>
                    <a:pt x="1342" y="1552"/>
                  </a:lnTo>
                  <a:lnTo>
                    <a:pt x="1342" y="1549"/>
                  </a:lnTo>
                  <a:lnTo>
                    <a:pt x="1344" y="1546"/>
                  </a:lnTo>
                  <a:lnTo>
                    <a:pt x="1349" y="1544"/>
                  </a:lnTo>
                  <a:lnTo>
                    <a:pt x="1350" y="1543"/>
                  </a:lnTo>
                  <a:lnTo>
                    <a:pt x="1352" y="1543"/>
                  </a:lnTo>
                  <a:lnTo>
                    <a:pt x="1356" y="1543"/>
                  </a:lnTo>
                  <a:lnTo>
                    <a:pt x="1357" y="1544"/>
                  </a:lnTo>
                  <a:lnTo>
                    <a:pt x="1361" y="1546"/>
                  </a:lnTo>
                  <a:lnTo>
                    <a:pt x="1362" y="1549"/>
                  </a:lnTo>
                  <a:lnTo>
                    <a:pt x="1364" y="1552"/>
                  </a:lnTo>
                  <a:lnTo>
                    <a:pt x="1364" y="1553"/>
                  </a:lnTo>
                  <a:lnTo>
                    <a:pt x="1364" y="1692"/>
                  </a:lnTo>
                  <a:lnTo>
                    <a:pt x="1364" y="1694"/>
                  </a:lnTo>
                  <a:lnTo>
                    <a:pt x="1362" y="1697"/>
                  </a:lnTo>
                  <a:lnTo>
                    <a:pt x="1361" y="1699"/>
                  </a:lnTo>
                  <a:lnTo>
                    <a:pt x="1357" y="1701"/>
                  </a:lnTo>
                  <a:lnTo>
                    <a:pt x="1356" y="1702"/>
                  </a:lnTo>
                  <a:lnTo>
                    <a:pt x="1352" y="1702"/>
                  </a:lnTo>
                  <a:lnTo>
                    <a:pt x="1350" y="1702"/>
                  </a:lnTo>
                  <a:lnTo>
                    <a:pt x="1349" y="1701"/>
                  </a:lnTo>
                  <a:lnTo>
                    <a:pt x="1344" y="1699"/>
                  </a:lnTo>
                  <a:lnTo>
                    <a:pt x="1342" y="1697"/>
                  </a:lnTo>
                  <a:lnTo>
                    <a:pt x="1342" y="1694"/>
                  </a:lnTo>
                  <a:lnTo>
                    <a:pt x="1340" y="1692"/>
                  </a:lnTo>
                  <a:lnTo>
                    <a:pt x="1340" y="1692"/>
                  </a:lnTo>
                  <a:close/>
                  <a:moveTo>
                    <a:pt x="1340" y="1454"/>
                  </a:moveTo>
                  <a:lnTo>
                    <a:pt x="1340" y="1316"/>
                  </a:lnTo>
                  <a:lnTo>
                    <a:pt x="1342" y="1313"/>
                  </a:lnTo>
                  <a:lnTo>
                    <a:pt x="1342" y="1312"/>
                  </a:lnTo>
                  <a:lnTo>
                    <a:pt x="1344" y="1309"/>
                  </a:lnTo>
                  <a:lnTo>
                    <a:pt x="1349" y="1306"/>
                  </a:lnTo>
                  <a:lnTo>
                    <a:pt x="1350" y="1306"/>
                  </a:lnTo>
                  <a:lnTo>
                    <a:pt x="1352" y="1306"/>
                  </a:lnTo>
                  <a:lnTo>
                    <a:pt x="1356" y="1306"/>
                  </a:lnTo>
                  <a:lnTo>
                    <a:pt x="1357" y="1306"/>
                  </a:lnTo>
                  <a:lnTo>
                    <a:pt x="1361" y="1309"/>
                  </a:lnTo>
                  <a:lnTo>
                    <a:pt x="1362" y="1312"/>
                  </a:lnTo>
                  <a:lnTo>
                    <a:pt x="1364" y="1313"/>
                  </a:lnTo>
                  <a:lnTo>
                    <a:pt x="1364" y="1316"/>
                  </a:lnTo>
                  <a:lnTo>
                    <a:pt x="1364" y="1454"/>
                  </a:lnTo>
                  <a:lnTo>
                    <a:pt x="1364" y="1457"/>
                  </a:lnTo>
                  <a:lnTo>
                    <a:pt x="1362" y="1458"/>
                  </a:lnTo>
                  <a:lnTo>
                    <a:pt x="1361" y="1461"/>
                  </a:lnTo>
                  <a:lnTo>
                    <a:pt x="1357" y="1464"/>
                  </a:lnTo>
                  <a:lnTo>
                    <a:pt x="1356" y="1464"/>
                  </a:lnTo>
                  <a:lnTo>
                    <a:pt x="1352" y="1464"/>
                  </a:lnTo>
                  <a:lnTo>
                    <a:pt x="1350" y="1464"/>
                  </a:lnTo>
                  <a:lnTo>
                    <a:pt x="1349" y="1464"/>
                  </a:lnTo>
                  <a:lnTo>
                    <a:pt x="1344" y="1461"/>
                  </a:lnTo>
                  <a:lnTo>
                    <a:pt x="1342" y="1458"/>
                  </a:lnTo>
                  <a:lnTo>
                    <a:pt x="1342" y="1457"/>
                  </a:lnTo>
                  <a:lnTo>
                    <a:pt x="1340" y="1454"/>
                  </a:lnTo>
                  <a:lnTo>
                    <a:pt x="1340" y="1454"/>
                  </a:lnTo>
                  <a:close/>
                  <a:moveTo>
                    <a:pt x="1340" y="1217"/>
                  </a:moveTo>
                  <a:lnTo>
                    <a:pt x="1340" y="1078"/>
                  </a:lnTo>
                  <a:lnTo>
                    <a:pt x="1342" y="1076"/>
                  </a:lnTo>
                  <a:lnTo>
                    <a:pt x="1342" y="1074"/>
                  </a:lnTo>
                  <a:lnTo>
                    <a:pt x="1344" y="1071"/>
                  </a:lnTo>
                  <a:lnTo>
                    <a:pt x="1349" y="1069"/>
                  </a:lnTo>
                  <a:lnTo>
                    <a:pt x="1350" y="1068"/>
                  </a:lnTo>
                  <a:lnTo>
                    <a:pt x="1352" y="1068"/>
                  </a:lnTo>
                  <a:lnTo>
                    <a:pt x="1356" y="1068"/>
                  </a:lnTo>
                  <a:lnTo>
                    <a:pt x="1357" y="1069"/>
                  </a:lnTo>
                  <a:lnTo>
                    <a:pt x="1361" y="1071"/>
                  </a:lnTo>
                  <a:lnTo>
                    <a:pt x="1362" y="1074"/>
                  </a:lnTo>
                  <a:lnTo>
                    <a:pt x="1364" y="1076"/>
                  </a:lnTo>
                  <a:lnTo>
                    <a:pt x="1364" y="1078"/>
                  </a:lnTo>
                  <a:lnTo>
                    <a:pt x="1364" y="1217"/>
                  </a:lnTo>
                  <a:lnTo>
                    <a:pt x="1364" y="1218"/>
                  </a:lnTo>
                  <a:lnTo>
                    <a:pt x="1362" y="1220"/>
                  </a:lnTo>
                  <a:lnTo>
                    <a:pt x="1361" y="1224"/>
                  </a:lnTo>
                  <a:lnTo>
                    <a:pt x="1357" y="1226"/>
                  </a:lnTo>
                  <a:lnTo>
                    <a:pt x="1356" y="1226"/>
                  </a:lnTo>
                  <a:lnTo>
                    <a:pt x="1352" y="1227"/>
                  </a:lnTo>
                  <a:lnTo>
                    <a:pt x="1350" y="1226"/>
                  </a:lnTo>
                  <a:lnTo>
                    <a:pt x="1349" y="1226"/>
                  </a:lnTo>
                  <a:lnTo>
                    <a:pt x="1344" y="1224"/>
                  </a:lnTo>
                  <a:lnTo>
                    <a:pt x="1342" y="1220"/>
                  </a:lnTo>
                  <a:lnTo>
                    <a:pt x="1342" y="1218"/>
                  </a:lnTo>
                  <a:lnTo>
                    <a:pt x="1340" y="1217"/>
                  </a:lnTo>
                  <a:lnTo>
                    <a:pt x="1340" y="1217"/>
                  </a:lnTo>
                  <a:close/>
                  <a:moveTo>
                    <a:pt x="1340" y="978"/>
                  </a:moveTo>
                  <a:lnTo>
                    <a:pt x="1340" y="840"/>
                  </a:lnTo>
                  <a:lnTo>
                    <a:pt x="1342" y="838"/>
                  </a:lnTo>
                  <a:lnTo>
                    <a:pt x="1342" y="837"/>
                  </a:lnTo>
                  <a:lnTo>
                    <a:pt x="1344" y="834"/>
                  </a:lnTo>
                  <a:lnTo>
                    <a:pt x="1349" y="831"/>
                  </a:lnTo>
                  <a:lnTo>
                    <a:pt x="1350" y="831"/>
                  </a:lnTo>
                  <a:lnTo>
                    <a:pt x="1352" y="831"/>
                  </a:lnTo>
                  <a:lnTo>
                    <a:pt x="1356" y="831"/>
                  </a:lnTo>
                  <a:lnTo>
                    <a:pt x="1357" y="831"/>
                  </a:lnTo>
                  <a:lnTo>
                    <a:pt x="1361" y="834"/>
                  </a:lnTo>
                  <a:lnTo>
                    <a:pt x="1362" y="837"/>
                  </a:lnTo>
                  <a:lnTo>
                    <a:pt x="1364" y="838"/>
                  </a:lnTo>
                  <a:lnTo>
                    <a:pt x="1364" y="840"/>
                  </a:lnTo>
                  <a:lnTo>
                    <a:pt x="1364" y="978"/>
                  </a:lnTo>
                  <a:lnTo>
                    <a:pt x="1364" y="981"/>
                  </a:lnTo>
                  <a:lnTo>
                    <a:pt x="1362" y="983"/>
                  </a:lnTo>
                  <a:lnTo>
                    <a:pt x="1361" y="986"/>
                  </a:lnTo>
                  <a:lnTo>
                    <a:pt x="1357" y="987"/>
                  </a:lnTo>
                  <a:lnTo>
                    <a:pt x="1356" y="989"/>
                  </a:lnTo>
                  <a:lnTo>
                    <a:pt x="1352" y="989"/>
                  </a:lnTo>
                  <a:lnTo>
                    <a:pt x="1350" y="989"/>
                  </a:lnTo>
                  <a:lnTo>
                    <a:pt x="1349" y="987"/>
                  </a:lnTo>
                  <a:lnTo>
                    <a:pt x="1344" y="986"/>
                  </a:lnTo>
                  <a:lnTo>
                    <a:pt x="1342" y="983"/>
                  </a:lnTo>
                  <a:lnTo>
                    <a:pt x="1342" y="981"/>
                  </a:lnTo>
                  <a:lnTo>
                    <a:pt x="1340" y="978"/>
                  </a:lnTo>
                  <a:lnTo>
                    <a:pt x="1340" y="978"/>
                  </a:lnTo>
                  <a:close/>
                  <a:moveTo>
                    <a:pt x="1340" y="742"/>
                  </a:moveTo>
                  <a:lnTo>
                    <a:pt x="1340" y="603"/>
                  </a:lnTo>
                  <a:lnTo>
                    <a:pt x="1342" y="600"/>
                  </a:lnTo>
                  <a:lnTo>
                    <a:pt x="1342" y="598"/>
                  </a:lnTo>
                  <a:lnTo>
                    <a:pt x="1344" y="595"/>
                  </a:lnTo>
                  <a:lnTo>
                    <a:pt x="1349" y="594"/>
                  </a:lnTo>
                  <a:lnTo>
                    <a:pt x="1350" y="592"/>
                  </a:lnTo>
                  <a:lnTo>
                    <a:pt x="1352" y="592"/>
                  </a:lnTo>
                  <a:lnTo>
                    <a:pt x="1356" y="592"/>
                  </a:lnTo>
                  <a:lnTo>
                    <a:pt x="1357" y="594"/>
                  </a:lnTo>
                  <a:lnTo>
                    <a:pt x="1361" y="595"/>
                  </a:lnTo>
                  <a:lnTo>
                    <a:pt x="1362" y="598"/>
                  </a:lnTo>
                  <a:lnTo>
                    <a:pt x="1364" y="600"/>
                  </a:lnTo>
                  <a:lnTo>
                    <a:pt x="1364" y="603"/>
                  </a:lnTo>
                  <a:lnTo>
                    <a:pt x="1364" y="742"/>
                  </a:lnTo>
                  <a:lnTo>
                    <a:pt x="1364" y="743"/>
                  </a:lnTo>
                  <a:lnTo>
                    <a:pt x="1362" y="744"/>
                  </a:lnTo>
                  <a:lnTo>
                    <a:pt x="1361" y="747"/>
                  </a:lnTo>
                  <a:lnTo>
                    <a:pt x="1357" y="750"/>
                  </a:lnTo>
                  <a:lnTo>
                    <a:pt x="1356" y="750"/>
                  </a:lnTo>
                  <a:lnTo>
                    <a:pt x="1352" y="750"/>
                  </a:lnTo>
                  <a:lnTo>
                    <a:pt x="1350" y="750"/>
                  </a:lnTo>
                  <a:lnTo>
                    <a:pt x="1349" y="750"/>
                  </a:lnTo>
                  <a:lnTo>
                    <a:pt x="1344" y="747"/>
                  </a:lnTo>
                  <a:lnTo>
                    <a:pt x="1342" y="744"/>
                  </a:lnTo>
                  <a:lnTo>
                    <a:pt x="1342" y="743"/>
                  </a:lnTo>
                  <a:lnTo>
                    <a:pt x="1340" y="742"/>
                  </a:lnTo>
                  <a:lnTo>
                    <a:pt x="1340" y="742"/>
                  </a:lnTo>
                  <a:close/>
                  <a:moveTo>
                    <a:pt x="1340" y="503"/>
                  </a:moveTo>
                  <a:lnTo>
                    <a:pt x="1340" y="364"/>
                  </a:lnTo>
                  <a:lnTo>
                    <a:pt x="1342" y="363"/>
                  </a:lnTo>
                  <a:lnTo>
                    <a:pt x="1342" y="361"/>
                  </a:lnTo>
                  <a:lnTo>
                    <a:pt x="1344" y="357"/>
                  </a:lnTo>
                  <a:lnTo>
                    <a:pt x="1349" y="355"/>
                  </a:lnTo>
                  <a:lnTo>
                    <a:pt x="1350" y="355"/>
                  </a:lnTo>
                  <a:lnTo>
                    <a:pt x="1352" y="355"/>
                  </a:lnTo>
                  <a:lnTo>
                    <a:pt x="1356" y="355"/>
                  </a:lnTo>
                  <a:lnTo>
                    <a:pt x="1357" y="355"/>
                  </a:lnTo>
                  <a:lnTo>
                    <a:pt x="1361" y="357"/>
                  </a:lnTo>
                  <a:lnTo>
                    <a:pt x="1362" y="361"/>
                  </a:lnTo>
                  <a:lnTo>
                    <a:pt x="1364" y="363"/>
                  </a:lnTo>
                  <a:lnTo>
                    <a:pt x="1364" y="364"/>
                  </a:lnTo>
                  <a:lnTo>
                    <a:pt x="1364" y="503"/>
                  </a:lnTo>
                  <a:lnTo>
                    <a:pt x="1364" y="505"/>
                  </a:lnTo>
                  <a:lnTo>
                    <a:pt x="1362" y="508"/>
                  </a:lnTo>
                  <a:lnTo>
                    <a:pt x="1361" y="510"/>
                  </a:lnTo>
                  <a:lnTo>
                    <a:pt x="1357" y="512"/>
                  </a:lnTo>
                  <a:lnTo>
                    <a:pt x="1356" y="513"/>
                  </a:lnTo>
                  <a:lnTo>
                    <a:pt x="1352" y="513"/>
                  </a:lnTo>
                  <a:lnTo>
                    <a:pt x="1350" y="513"/>
                  </a:lnTo>
                  <a:lnTo>
                    <a:pt x="1349" y="512"/>
                  </a:lnTo>
                  <a:lnTo>
                    <a:pt x="1344" y="510"/>
                  </a:lnTo>
                  <a:lnTo>
                    <a:pt x="1342" y="508"/>
                  </a:lnTo>
                  <a:lnTo>
                    <a:pt x="1342" y="505"/>
                  </a:lnTo>
                  <a:lnTo>
                    <a:pt x="1340" y="503"/>
                  </a:lnTo>
                  <a:lnTo>
                    <a:pt x="1340" y="503"/>
                  </a:lnTo>
                  <a:close/>
                  <a:moveTo>
                    <a:pt x="1340" y="266"/>
                  </a:moveTo>
                  <a:lnTo>
                    <a:pt x="1340" y="127"/>
                  </a:lnTo>
                  <a:lnTo>
                    <a:pt x="1342" y="124"/>
                  </a:lnTo>
                  <a:lnTo>
                    <a:pt x="1342" y="123"/>
                  </a:lnTo>
                  <a:lnTo>
                    <a:pt x="1344" y="120"/>
                  </a:lnTo>
                  <a:lnTo>
                    <a:pt x="1349" y="117"/>
                  </a:lnTo>
                  <a:lnTo>
                    <a:pt x="1350" y="117"/>
                  </a:lnTo>
                  <a:lnTo>
                    <a:pt x="1352" y="117"/>
                  </a:lnTo>
                  <a:lnTo>
                    <a:pt x="1356" y="117"/>
                  </a:lnTo>
                  <a:lnTo>
                    <a:pt x="1357" y="117"/>
                  </a:lnTo>
                  <a:lnTo>
                    <a:pt x="1361" y="120"/>
                  </a:lnTo>
                  <a:lnTo>
                    <a:pt x="1362" y="123"/>
                  </a:lnTo>
                  <a:lnTo>
                    <a:pt x="1364" y="124"/>
                  </a:lnTo>
                  <a:lnTo>
                    <a:pt x="1364" y="127"/>
                  </a:lnTo>
                  <a:lnTo>
                    <a:pt x="1364" y="266"/>
                  </a:lnTo>
                  <a:lnTo>
                    <a:pt x="1364" y="268"/>
                  </a:lnTo>
                  <a:lnTo>
                    <a:pt x="1362" y="269"/>
                  </a:lnTo>
                  <a:lnTo>
                    <a:pt x="1361" y="272"/>
                  </a:lnTo>
                  <a:lnTo>
                    <a:pt x="1357" y="275"/>
                  </a:lnTo>
                  <a:lnTo>
                    <a:pt x="1356" y="275"/>
                  </a:lnTo>
                  <a:lnTo>
                    <a:pt x="1352" y="275"/>
                  </a:lnTo>
                  <a:lnTo>
                    <a:pt x="1350" y="275"/>
                  </a:lnTo>
                  <a:lnTo>
                    <a:pt x="1349" y="275"/>
                  </a:lnTo>
                  <a:lnTo>
                    <a:pt x="1344" y="272"/>
                  </a:lnTo>
                  <a:lnTo>
                    <a:pt x="1342" y="269"/>
                  </a:lnTo>
                  <a:lnTo>
                    <a:pt x="1342" y="268"/>
                  </a:lnTo>
                  <a:lnTo>
                    <a:pt x="1340" y="266"/>
                  </a:lnTo>
                  <a:lnTo>
                    <a:pt x="1340" y="266"/>
                  </a:lnTo>
                  <a:close/>
                  <a:moveTo>
                    <a:pt x="1340" y="28"/>
                  </a:moveTo>
                  <a:lnTo>
                    <a:pt x="1340" y="9"/>
                  </a:lnTo>
                  <a:lnTo>
                    <a:pt x="1352" y="19"/>
                  </a:lnTo>
                  <a:lnTo>
                    <a:pt x="1212" y="19"/>
                  </a:lnTo>
                  <a:lnTo>
                    <a:pt x="1210" y="19"/>
                  </a:lnTo>
                  <a:lnTo>
                    <a:pt x="1207" y="19"/>
                  </a:lnTo>
                  <a:lnTo>
                    <a:pt x="1203" y="16"/>
                  </a:lnTo>
                  <a:lnTo>
                    <a:pt x="1202" y="13"/>
                  </a:lnTo>
                  <a:lnTo>
                    <a:pt x="1200" y="12"/>
                  </a:lnTo>
                  <a:lnTo>
                    <a:pt x="1200" y="9"/>
                  </a:lnTo>
                  <a:lnTo>
                    <a:pt x="1200" y="7"/>
                  </a:lnTo>
                  <a:lnTo>
                    <a:pt x="1202" y="6"/>
                  </a:lnTo>
                  <a:lnTo>
                    <a:pt x="1203" y="3"/>
                  </a:lnTo>
                  <a:lnTo>
                    <a:pt x="1207" y="0"/>
                  </a:lnTo>
                  <a:lnTo>
                    <a:pt x="1210" y="0"/>
                  </a:lnTo>
                  <a:lnTo>
                    <a:pt x="1212" y="0"/>
                  </a:lnTo>
                  <a:lnTo>
                    <a:pt x="1352" y="0"/>
                  </a:lnTo>
                  <a:lnTo>
                    <a:pt x="1356" y="0"/>
                  </a:lnTo>
                  <a:lnTo>
                    <a:pt x="1357" y="0"/>
                  </a:lnTo>
                  <a:lnTo>
                    <a:pt x="1361" y="3"/>
                  </a:lnTo>
                  <a:lnTo>
                    <a:pt x="1362" y="6"/>
                  </a:lnTo>
                  <a:lnTo>
                    <a:pt x="1364" y="7"/>
                  </a:lnTo>
                  <a:lnTo>
                    <a:pt x="1364" y="9"/>
                  </a:lnTo>
                  <a:lnTo>
                    <a:pt x="1364" y="28"/>
                  </a:lnTo>
                  <a:lnTo>
                    <a:pt x="1364" y="29"/>
                  </a:lnTo>
                  <a:lnTo>
                    <a:pt x="1362" y="32"/>
                  </a:lnTo>
                  <a:lnTo>
                    <a:pt x="1361" y="35"/>
                  </a:lnTo>
                  <a:lnTo>
                    <a:pt x="1357" y="37"/>
                  </a:lnTo>
                  <a:lnTo>
                    <a:pt x="1356" y="38"/>
                  </a:lnTo>
                  <a:lnTo>
                    <a:pt x="1352" y="38"/>
                  </a:lnTo>
                  <a:lnTo>
                    <a:pt x="1350" y="38"/>
                  </a:lnTo>
                  <a:lnTo>
                    <a:pt x="1349" y="37"/>
                  </a:lnTo>
                  <a:lnTo>
                    <a:pt x="1344" y="35"/>
                  </a:lnTo>
                  <a:lnTo>
                    <a:pt x="1342" y="32"/>
                  </a:lnTo>
                  <a:lnTo>
                    <a:pt x="1342" y="29"/>
                  </a:lnTo>
                  <a:lnTo>
                    <a:pt x="1340" y="28"/>
                  </a:lnTo>
                  <a:lnTo>
                    <a:pt x="1340" y="28"/>
                  </a:lnTo>
                  <a:close/>
                  <a:moveTo>
                    <a:pt x="1096" y="19"/>
                  </a:moveTo>
                  <a:lnTo>
                    <a:pt x="933" y="19"/>
                  </a:lnTo>
                  <a:lnTo>
                    <a:pt x="932" y="19"/>
                  </a:lnTo>
                  <a:lnTo>
                    <a:pt x="930" y="19"/>
                  </a:lnTo>
                  <a:lnTo>
                    <a:pt x="926" y="16"/>
                  </a:lnTo>
                  <a:lnTo>
                    <a:pt x="923" y="13"/>
                  </a:lnTo>
                  <a:lnTo>
                    <a:pt x="923" y="12"/>
                  </a:lnTo>
                  <a:lnTo>
                    <a:pt x="923" y="9"/>
                  </a:lnTo>
                  <a:lnTo>
                    <a:pt x="923" y="7"/>
                  </a:lnTo>
                  <a:lnTo>
                    <a:pt x="923" y="6"/>
                  </a:lnTo>
                  <a:lnTo>
                    <a:pt x="926" y="3"/>
                  </a:lnTo>
                  <a:lnTo>
                    <a:pt x="930" y="0"/>
                  </a:lnTo>
                  <a:lnTo>
                    <a:pt x="932" y="0"/>
                  </a:lnTo>
                  <a:lnTo>
                    <a:pt x="933" y="0"/>
                  </a:lnTo>
                  <a:lnTo>
                    <a:pt x="1096" y="0"/>
                  </a:lnTo>
                  <a:lnTo>
                    <a:pt x="1099" y="0"/>
                  </a:lnTo>
                  <a:lnTo>
                    <a:pt x="1101" y="0"/>
                  </a:lnTo>
                  <a:lnTo>
                    <a:pt x="1104" y="3"/>
                  </a:lnTo>
                  <a:lnTo>
                    <a:pt x="1106" y="6"/>
                  </a:lnTo>
                  <a:lnTo>
                    <a:pt x="1108" y="7"/>
                  </a:lnTo>
                  <a:lnTo>
                    <a:pt x="1108" y="9"/>
                  </a:lnTo>
                  <a:lnTo>
                    <a:pt x="1108" y="12"/>
                  </a:lnTo>
                  <a:lnTo>
                    <a:pt x="1106" y="13"/>
                  </a:lnTo>
                  <a:lnTo>
                    <a:pt x="1104" y="16"/>
                  </a:lnTo>
                  <a:lnTo>
                    <a:pt x="1101" y="19"/>
                  </a:lnTo>
                  <a:lnTo>
                    <a:pt x="1099" y="19"/>
                  </a:lnTo>
                  <a:lnTo>
                    <a:pt x="1096" y="19"/>
                  </a:lnTo>
                  <a:lnTo>
                    <a:pt x="1096" y="19"/>
                  </a:lnTo>
                  <a:close/>
                  <a:moveTo>
                    <a:pt x="819" y="19"/>
                  </a:moveTo>
                  <a:lnTo>
                    <a:pt x="656" y="19"/>
                  </a:lnTo>
                  <a:lnTo>
                    <a:pt x="655" y="19"/>
                  </a:lnTo>
                  <a:lnTo>
                    <a:pt x="651" y="19"/>
                  </a:lnTo>
                  <a:lnTo>
                    <a:pt x="648" y="16"/>
                  </a:lnTo>
                  <a:lnTo>
                    <a:pt x="646" y="13"/>
                  </a:lnTo>
                  <a:lnTo>
                    <a:pt x="644" y="12"/>
                  </a:lnTo>
                  <a:lnTo>
                    <a:pt x="644" y="9"/>
                  </a:lnTo>
                  <a:lnTo>
                    <a:pt x="644" y="7"/>
                  </a:lnTo>
                  <a:lnTo>
                    <a:pt x="646" y="6"/>
                  </a:lnTo>
                  <a:lnTo>
                    <a:pt x="648" y="3"/>
                  </a:lnTo>
                  <a:lnTo>
                    <a:pt x="651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7" y="3"/>
                  </a:lnTo>
                  <a:lnTo>
                    <a:pt x="829" y="6"/>
                  </a:lnTo>
                  <a:lnTo>
                    <a:pt x="829" y="7"/>
                  </a:lnTo>
                  <a:lnTo>
                    <a:pt x="831" y="9"/>
                  </a:lnTo>
                  <a:lnTo>
                    <a:pt x="829" y="12"/>
                  </a:lnTo>
                  <a:lnTo>
                    <a:pt x="829" y="13"/>
                  </a:lnTo>
                  <a:lnTo>
                    <a:pt x="827" y="16"/>
                  </a:lnTo>
                  <a:lnTo>
                    <a:pt x="822" y="19"/>
                  </a:lnTo>
                  <a:lnTo>
                    <a:pt x="820" y="19"/>
                  </a:lnTo>
                  <a:lnTo>
                    <a:pt x="819" y="19"/>
                  </a:lnTo>
                  <a:lnTo>
                    <a:pt x="819" y="19"/>
                  </a:lnTo>
                  <a:close/>
                  <a:moveTo>
                    <a:pt x="540" y="19"/>
                  </a:moveTo>
                  <a:lnTo>
                    <a:pt x="378" y="19"/>
                  </a:lnTo>
                  <a:lnTo>
                    <a:pt x="376" y="19"/>
                  </a:lnTo>
                  <a:lnTo>
                    <a:pt x="374" y="19"/>
                  </a:lnTo>
                  <a:lnTo>
                    <a:pt x="371" y="16"/>
                  </a:lnTo>
                  <a:lnTo>
                    <a:pt x="367" y="13"/>
                  </a:lnTo>
                  <a:lnTo>
                    <a:pt x="367" y="12"/>
                  </a:lnTo>
                  <a:lnTo>
                    <a:pt x="367" y="9"/>
                  </a:lnTo>
                  <a:lnTo>
                    <a:pt x="367" y="7"/>
                  </a:lnTo>
                  <a:lnTo>
                    <a:pt x="367" y="6"/>
                  </a:lnTo>
                  <a:lnTo>
                    <a:pt x="371" y="3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8" y="0"/>
                  </a:lnTo>
                  <a:lnTo>
                    <a:pt x="540" y="0"/>
                  </a:lnTo>
                  <a:lnTo>
                    <a:pt x="543" y="0"/>
                  </a:lnTo>
                  <a:lnTo>
                    <a:pt x="545" y="0"/>
                  </a:lnTo>
                  <a:lnTo>
                    <a:pt x="548" y="3"/>
                  </a:lnTo>
                  <a:lnTo>
                    <a:pt x="550" y="6"/>
                  </a:lnTo>
                  <a:lnTo>
                    <a:pt x="552" y="7"/>
                  </a:lnTo>
                  <a:lnTo>
                    <a:pt x="552" y="9"/>
                  </a:lnTo>
                  <a:lnTo>
                    <a:pt x="552" y="12"/>
                  </a:lnTo>
                  <a:lnTo>
                    <a:pt x="550" y="13"/>
                  </a:lnTo>
                  <a:lnTo>
                    <a:pt x="548" y="16"/>
                  </a:lnTo>
                  <a:lnTo>
                    <a:pt x="545" y="19"/>
                  </a:lnTo>
                  <a:lnTo>
                    <a:pt x="543" y="19"/>
                  </a:lnTo>
                  <a:lnTo>
                    <a:pt x="540" y="19"/>
                  </a:lnTo>
                  <a:lnTo>
                    <a:pt x="540" y="19"/>
                  </a:lnTo>
                  <a:close/>
                  <a:moveTo>
                    <a:pt x="263" y="19"/>
                  </a:moveTo>
                  <a:lnTo>
                    <a:pt x="100" y="19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2" y="16"/>
                  </a:lnTo>
                  <a:lnTo>
                    <a:pt x="90" y="13"/>
                  </a:lnTo>
                  <a:lnTo>
                    <a:pt x="89" y="12"/>
                  </a:lnTo>
                  <a:lnTo>
                    <a:pt x="89" y="9"/>
                  </a:lnTo>
                  <a:lnTo>
                    <a:pt x="89" y="7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263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70" y="3"/>
                  </a:lnTo>
                  <a:lnTo>
                    <a:pt x="273" y="6"/>
                  </a:lnTo>
                  <a:lnTo>
                    <a:pt x="273" y="7"/>
                  </a:lnTo>
                  <a:lnTo>
                    <a:pt x="273" y="9"/>
                  </a:lnTo>
                  <a:lnTo>
                    <a:pt x="273" y="12"/>
                  </a:lnTo>
                  <a:lnTo>
                    <a:pt x="273" y="13"/>
                  </a:lnTo>
                  <a:lnTo>
                    <a:pt x="270" y="16"/>
                  </a:lnTo>
                  <a:lnTo>
                    <a:pt x="266" y="19"/>
                  </a:lnTo>
                  <a:lnTo>
                    <a:pt x="265" y="19"/>
                  </a:lnTo>
                  <a:lnTo>
                    <a:pt x="263" y="19"/>
                  </a:lnTo>
                  <a:lnTo>
                    <a:pt x="263" y="19"/>
                  </a:lnTo>
                  <a:close/>
                  <a:moveTo>
                    <a:pt x="22" y="32"/>
                  </a:moveTo>
                  <a:lnTo>
                    <a:pt x="22" y="171"/>
                  </a:lnTo>
                  <a:lnTo>
                    <a:pt x="22" y="173"/>
                  </a:lnTo>
                  <a:lnTo>
                    <a:pt x="22" y="174"/>
                  </a:lnTo>
                  <a:lnTo>
                    <a:pt x="18" y="177"/>
                  </a:lnTo>
                  <a:lnTo>
                    <a:pt x="15" y="180"/>
                  </a:lnTo>
                  <a:lnTo>
                    <a:pt x="13" y="180"/>
                  </a:lnTo>
                  <a:lnTo>
                    <a:pt x="10" y="180"/>
                  </a:lnTo>
                  <a:lnTo>
                    <a:pt x="8" y="180"/>
                  </a:lnTo>
                  <a:lnTo>
                    <a:pt x="6" y="180"/>
                  </a:lnTo>
                  <a:lnTo>
                    <a:pt x="3" y="177"/>
                  </a:lnTo>
                  <a:lnTo>
                    <a:pt x="0" y="174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3" y="25"/>
                  </a:lnTo>
                  <a:lnTo>
                    <a:pt x="6" y="23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8" y="25"/>
                  </a:lnTo>
                  <a:lnTo>
                    <a:pt x="22" y="28"/>
                  </a:lnTo>
                  <a:lnTo>
                    <a:pt x="22" y="29"/>
                  </a:lnTo>
                  <a:lnTo>
                    <a:pt x="22" y="32"/>
                  </a:lnTo>
                  <a:lnTo>
                    <a:pt x="22" y="32"/>
                  </a:lnTo>
                  <a:close/>
                  <a:moveTo>
                    <a:pt x="22" y="269"/>
                  </a:moveTo>
                  <a:lnTo>
                    <a:pt x="22" y="408"/>
                  </a:lnTo>
                  <a:lnTo>
                    <a:pt x="22" y="411"/>
                  </a:lnTo>
                  <a:lnTo>
                    <a:pt x="22" y="412"/>
                  </a:lnTo>
                  <a:lnTo>
                    <a:pt x="18" y="415"/>
                  </a:lnTo>
                  <a:lnTo>
                    <a:pt x="15" y="417"/>
                  </a:lnTo>
                  <a:lnTo>
                    <a:pt x="13" y="418"/>
                  </a:lnTo>
                  <a:lnTo>
                    <a:pt x="10" y="418"/>
                  </a:lnTo>
                  <a:lnTo>
                    <a:pt x="8" y="418"/>
                  </a:lnTo>
                  <a:lnTo>
                    <a:pt x="6" y="417"/>
                  </a:lnTo>
                  <a:lnTo>
                    <a:pt x="3" y="415"/>
                  </a:lnTo>
                  <a:lnTo>
                    <a:pt x="0" y="412"/>
                  </a:lnTo>
                  <a:lnTo>
                    <a:pt x="0" y="411"/>
                  </a:lnTo>
                  <a:lnTo>
                    <a:pt x="0" y="408"/>
                  </a:lnTo>
                  <a:lnTo>
                    <a:pt x="0" y="269"/>
                  </a:lnTo>
                  <a:lnTo>
                    <a:pt x="0" y="268"/>
                  </a:lnTo>
                  <a:lnTo>
                    <a:pt x="0" y="266"/>
                  </a:lnTo>
                  <a:lnTo>
                    <a:pt x="3" y="263"/>
                  </a:lnTo>
                  <a:lnTo>
                    <a:pt x="6" y="260"/>
                  </a:lnTo>
                  <a:lnTo>
                    <a:pt x="8" y="260"/>
                  </a:lnTo>
                  <a:lnTo>
                    <a:pt x="10" y="260"/>
                  </a:lnTo>
                  <a:lnTo>
                    <a:pt x="13" y="260"/>
                  </a:lnTo>
                  <a:lnTo>
                    <a:pt x="15" y="260"/>
                  </a:lnTo>
                  <a:lnTo>
                    <a:pt x="18" y="263"/>
                  </a:lnTo>
                  <a:lnTo>
                    <a:pt x="22" y="266"/>
                  </a:lnTo>
                  <a:lnTo>
                    <a:pt x="22" y="268"/>
                  </a:lnTo>
                  <a:lnTo>
                    <a:pt x="22" y="269"/>
                  </a:lnTo>
                  <a:lnTo>
                    <a:pt x="22" y="269"/>
                  </a:lnTo>
                  <a:close/>
                  <a:moveTo>
                    <a:pt x="22" y="508"/>
                  </a:moveTo>
                  <a:lnTo>
                    <a:pt x="22" y="646"/>
                  </a:lnTo>
                  <a:lnTo>
                    <a:pt x="22" y="648"/>
                  </a:lnTo>
                  <a:lnTo>
                    <a:pt x="22" y="649"/>
                  </a:lnTo>
                  <a:lnTo>
                    <a:pt x="18" y="654"/>
                  </a:lnTo>
                  <a:lnTo>
                    <a:pt x="15" y="655"/>
                  </a:lnTo>
                  <a:lnTo>
                    <a:pt x="13" y="655"/>
                  </a:lnTo>
                  <a:lnTo>
                    <a:pt x="10" y="657"/>
                  </a:lnTo>
                  <a:lnTo>
                    <a:pt x="8" y="655"/>
                  </a:lnTo>
                  <a:lnTo>
                    <a:pt x="6" y="655"/>
                  </a:lnTo>
                  <a:lnTo>
                    <a:pt x="3" y="654"/>
                  </a:lnTo>
                  <a:lnTo>
                    <a:pt x="0" y="649"/>
                  </a:lnTo>
                  <a:lnTo>
                    <a:pt x="0" y="648"/>
                  </a:lnTo>
                  <a:lnTo>
                    <a:pt x="0" y="646"/>
                  </a:lnTo>
                  <a:lnTo>
                    <a:pt x="0" y="508"/>
                  </a:lnTo>
                  <a:lnTo>
                    <a:pt x="0" y="506"/>
                  </a:lnTo>
                  <a:lnTo>
                    <a:pt x="0" y="503"/>
                  </a:lnTo>
                  <a:lnTo>
                    <a:pt x="3" y="500"/>
                  </a:lnTo>
                  <a:lnTo>
                    <a:pt x="6" y="499"/>
                  </a:lnTo>
                  <a:lnTo>
                    <a:pt x="8" y="497"/>
                  </a:lnTo>
                  <a:lnTo>
                    <a:pt x="10" y="497"/>
                  </a:lnTo>
                  <a:lnTo>
                    <a:pt x="13" y="497"/>
                  </a:lnTo>
                  <a:lnTo>
                    <a:pt x="15" y="499"/>
                  </a:lnTo>
                  <a:lnTo>
                    <a:pt x="18" y="500"/>
                  </a:lnTo>
                  <a:lnTo>
                    <a:pt x="22" y="503"/>
                  </a:lnTo>
                  <a:lnTo>
                    <a:pt x="22" y="506"/>
                  </a:lnTo>
                  <a:lnTo>
                    <a:pt x="22" y="508"/>
                  </a:lnTo>
                  <a:lnTo>
                    <a:pt x="22" y="508"/>
                  </a:lnTo>
                  <a:close/>
                  <a:moveTo>
                    <a:pt x="22" y="744"/>
                  </a:moveTo>
                  <a:lnTo>
                    <a:pt x="22" y="883"/>
                  </a:lnTo>
                  <a:lnTo>
                    <a:pt x="22" y="886"/>
                  </a:lnTo>
                  <a:lnTo>
                    <a:pt x="22" y="888"/>
                  </a:lnTo>
                  <a:lnTo>
                    <a:pt x="18" y="891"/>
                  </a:lnTo>
                  <a:lnTo>
                    <a:pt x="15" y="892"/>
                  </a:lnTo>
                  <a:lnTo>
                    <a:pt x="13" y="894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6" y="892"/>
                  </a:lnTo>
                  <a:lnTo>
                    <a:pt x="3" y="891"/>
                  </a:lnTo>
                  <a:lnTo>
                    <a:pt x="0" y="888"/>
                  </a:lnTo>
                  <a:lnTo>
                    <a:pt x="0" y="886"/>
                  </a:lnTo>
                  <a:lnTo>
                    <a:pt x="0" y="883"/>
                  </a:lnTo>
                  <a:lnTo>
                    <a:pt x="0" y="744"/>
                  </a:lnTo>
                  <a:lnTo>
                    <a:pt x="0" y="743"/>
                  </a:lnTo>
                  <a:lnTo>
                    <a:pt x="0" y="742"/>
                  </a:lnTo>
                  <a:lnTo>
                    <a:pt x="3" y="739"/>
                  </a:lnTo>
                  <a:lnTo>
                    <a:pt x="6" y="736"/>
                  </a:lnTo>
                  <a:lnTo>
                    <a:pt x="8" y="736"/>
                  </a:lnTo>
                  <a:lnTo>
                    <a:pt x="10" y="736"/>
                  </a:lnTo>
                  <a:lnTo>
                    <a:pt x="13" y="736"/>
                  </a:lnTo>
                  <a:lnTo>
                    <a:pt x="15" y="736"/>
                  </a:lnTo>
                  <a:lnTo>
                    <a:pt x="18" y="739"/>
                  </a:lnTo>
                  <a:lnTo>
                    <a:pt x="22" y="742"/>
                  </a:lnTo>
                  <a:lnTo>
                    <a:pt x="22" y="743"/>
                  </a:lnTo>
                  <a:lnTo>
                    <a:pt x="22" y="744"/>
                  </a:lnTo>
                  <a:lnTo>
                    <a:pt x="22" y="744"/>
                  </a:lnTo>
                  <a:close/>
                  <a:moveTo>
                    <a:pt x="22" y="983"/>
                  </a:moveTo>
                  <a:lnTo>
                    <a:pt x="22" y="1122"/>
                  </a:lnTo>
                  <a:lnTo>
                    <a:pt x="22" y="1123"/>
                  </a:lnTo>
                  <a:lnTo>
                    <a:pt x="22" y="1125"/>
                  </a:lnTo>
                  <a:lnTo>
                    <a:pt x="18" y="1129"/>
                  </a:lnTo>
                  <a:lnTo>
                    <a:pt x="15" y="1131"/>
                  </a:lnTo>
                  <a:lnTo>
                    <a:pt x="13" y="1132"/>
                  </a:lnTo>
                  <a:lnTo>
                    <a:pt x="10" y="1132"/>
                  </a:lnTo>
                  <a:lnTo>
                    <a:pt x="8" y="1132"/>
                  </a:lnTo>
                  <a:lnTo>
                    <a:pt x="6" y="1131"/>
                  </a:lnTo>
                  <a:lnTo>
                    <a:pt x="3" y="1129"/>
                  </a:lnTo>
                  <a:lnTo>
                    <a:pt x="0" y="1125"/>
                  </a:lnTo>
                  <a:lnTo>
                    <a:pt x="0" y="1123"/>
                  </a:lnTo>
                  <a:lnTo>
                    <a:pt x="0" y="1122"/>
                  </a:lnTo>
                  <a:lnTo>
                    <a:pt x="0" y="983"/>
                  </a:lnTo>
                  <a:lnTo>
                    <a:pt x="0" y="981"/>
                  </a:lnTo>
                  <a:lnTo>
                    <a:pt x="0" y="978"/>
                  </a:lnTo>
                  <a:lnTo>
                    <a:pt x="3" y="976"/>
                  </a:lnTo>
                  <a:lnTo>
                    <a:pt x="6" y="974"/>
                  </a:lnTo>
                  <a:lnTo>
                    <a:pt x="8" y="973"/>
                  </a:lnTo>
                  <a:lnTo>
                    <a:pt x="10" y="973"/>
                  </a:lnTo>
                  <a:lnTo>
                    <a:pt x="13" y="973"/>
                  </a:lnTo>
                  <a:lnTo>
                    <a:pt x="15" y="974"/>
                  </a:lnTo>
                  <a:lnTo>
                    <a:pt x="18" y="976"/>
                  </a:lnTo>
                  <a:lnTo>
                    <a:pt x="22" y="978"/>
                  </a:lnTo>
                  <a:lnTo>
                    <a:pt x="22" y="981"/>
                  </a:lnTo>
                  <a:lnTo>
                    <a:pt x="22" y="983"/>
                  </a:lnTo>
                  <a:lnTo>
                    <a:pt x="22" y="983"/>
                  </a:lnTo>
                  <a:close/>
                  <a:moveTo>
                    <a:pt x="22" y="1221"/>
                  </a:moveTo>
                  <a:lnTo>
                    <a:pt x="22" y="1359"/>
                  </a:lnTo>
                  <a:lnTo>
                    <a:pt x="22" y="1362"/>
                  </a:lnTo>
                  <a:lnTo>
                    <a:pt x="22" y="1363"/>
                  </a:lnTo>
                  <a:lnTo>
                    <a:pt x="18" y="1366"/>
                  </a:lnTo>
                  <a:lnTo>
                    <a:pt x="15" y="1369"/>
                  </a:lnTo>
                  <a:lnTo>
                    <a:pt x="13" y="1369"/>
                  </a:lnTo>
                  <a:lnTo>
                    <a:pt x="10" y="1369"/>
                  </a:lnTo>
                  <a:lnTo>
                    <a:pt x="8" y="1369"/>
                  </a:lnTo>
                  <a:lnTo>
                    <a:pt x="6" y="1369"/>
                  </a:lnTo>
                  <a:lnTo>
                    <a:pt x="3" y="1366"/>
                  </a:lnTo>
                  <a:lnTo>
                    <a:pt x="0" y="1363"/>
                  </a:lnTo>
                  <a:lnTo>
                    <a:pt x="0" y="1362"/>
                  </a:lnTo>
                  <a:lnTo>
                    <a:pt x="0" y="1359"/>
                  </a:lnTo>
                  <a:lnTo>
                    <a:pt x="0" y="1221"/>
                  </a:lnTo>
                  <a:lnTo>
                    <a:pt x="0" y="1218"/>
                  </a:lnTo>
                  <a:lnTo>
                    <a:pt x="0" y="1217"/>
                  </a:lnTo>
                  <a:lnTo>
                    <a:pt x="3" y="1214"/>
                  </a:lnTo>
                  <a:lnTo>
                    <a:pt x="6" y="1211"/>
                  </a:lnTo>
                  <a:lnTo>
                    <a:pt x="8" y="1211"/>
                  </a:lnTo>
                  <a:lnTo>
                    <a:pt x="10" y="1211"/>
                  </a:lnTo>
                  <a:lnTo>
                    <a:pt x="13" y="1211"/>
                  </a:lnTo>
                  <a:lnTo>
                    <a:pt x="15" y="1211"/>
                  </a:lnTo>
                  <a:lnTo>
                    <a:pt x="18" y="1214"/>
                  </a:lnTo>
                  <a:lnTo>
                    <a:pt x="22" y="1217"/>
                  </a:lnTo>
                  <a:lnTo>
                    <a:pt x="22" y="1218"/>
                  </a:lnTo>
                  <a:lnTo>
                    <a:pt x="22" y="1221"/>
                  </a:lnTo>
                  <a:lnTo>
                    <a:pt x="22" y="1221"/>
                  </a:lnTo>
                  <a:close/>
                  <a:moveTo>
                    <a:pt x="22" y="1458"/>
                  </a:moveTo>
                  <a:lnTo>
                    <a:pt x="22" y="1597"/>
                  </a:lnTo>
                  <a:lnTo>
                    <a:pt x="22" y="1599"/>
                  </a:lnTo>
                  <a:lnTo>
                    <a:pt x="22" y="1601"/>
                  </a:lnTo>
                  <a:lnTo>
                    <a:pt x="18" y="1604"/>
                  </a:lnTo>
                  <a:lnTo>
                    <a:pt x="15" y="1606"/>
                  </a:lnTo>
                  <a:lnTo>
                    <a:pt x="13" y="1607"/>
                  </a:lnTo>
                  <a:lnTo>
                    <a:pt x="10" y="1607"/>
                  </a:lnTo>
                  <a:lnTo>
                    <a:pt x="8" y="1607"/>
                  </a:lnTo>
                  <a:lnTo>
                    <a:pt x="6" y="1606"/>
                  </a:lnTo>
                  <a:lnTo>
                    <a:pt x="3" y="1604"/>
                  </a:lnTo>
                  <a:lnTo>
                    <a:pt x="0" y="1601"/>
                  </a:lnTo>
                  <a:lnTo>
                    <a:pt x="0" y="1599"/>
                  </a:lnTo>
                  <a:lnTo>
                    <a:pt x="0" y="1597"/>
                  </a:lnTo>
                  <a:lnTo>
                    <a:pt x="0" y="1458"/>
                  </a:lnTo>
                  <a:lnTo>
                    <a:pt x="0" y="1457"/>
                  </a:lnTo>
                  <a:lnTo>
                    <a:pt x="0" y="1455"/>
                  </a:lnTo>
                  <a:lnTo>
                    <a:pt x="3" y="1451"/>
                  </a:lnTo>
                  <a:lnTo>
                    <a:pt x="6" y="1449"/>
                  </a:lnTo>
                  <a:lnTo>
                    <a:pt x="8" y="1449"/>
                  </a:lnTo>
                  <a:lnTo>
                    <a:pt x="10" y="1448"/>
                  </a:lnTo>
                  <a:lnTo>
                    <a:pt x="13" y="1449"/>
                  </a:lnTo>
                  <a:lnTo>
                    <a:pt x="15" y="1449"/>
                  </a:lnTo>
                  <a:lnTo>
                    <a:pt x="18" y="1451"/>
                  </a:lnTo>
                  <a:lnTo>
                    <a:pt x="22" y="1455"/>
                  </a:lnTo>
                  <a:lnTo>
                    <a:pt x="22" y="1457"/>
                  </a:lnTo>
                  <a:lnTo>
                    <a:pt x="22" y="1458"/>
                  </a:lnTo>
                  <a:lnTo>
                    <a:pt x="22" y="1458"/>
                  </a:lnTo>
                  <a:close/>
                  <a:moveTo>
                    <a:pt x="22" y="1697"/>
                  </a:moveTo>
                  <a:lnTo>
                    <a:pt x="22" y="1835"/>
                  </a:lnTo>
                  <a:lnTo>
                    <a:pt x="22" y="1837"/>
                  </a:lnTo>
                  <a:lnTo>
                    <a:pt x="22" y="1838"/>
                  </a:lnTo>
                  <a:lnTo>
                    <a:pt x="18" y="1841"/>
                  </a:lnTo>
                  <a:lnTo>
                    <a:pt x="15" y="1844"/>
                  </a:lnTo>
                  <a:lnTo>
                    <a:pt x="13" y="1844"/>
                  </a:lnTo>
                  <a:lnTo>
                    <a:pt x="10" y="1844"/>
                  </a:lnTo>
                  <a:lnTo>
                    <a:pt x="8" y="1844"/>
                  </a:lnTo>
                  <a:lnTo>
                    <a:pt x="6" y="1844"/>
                  </a:lnTo>
                  <a:lnTo>
                    <a:pt x="3" y="1841"/>
                  </a:lnTo>
                  <a:lnTo>
                    <a:pt x="0" y="1838"/>
                  </a:lnTo>
                  <a:lnTo>
                    <a:pt x="0" y="1837"/>
                  </a:lnTo>
                  <a:lnTo>
                    <a:pt x="0" y="1835"/>
                  </a:lnTo>
                  <a:lnTo>
                    <a:pt x="0" y="1697"/>
                  </a:lnTo>
                  <a:lnTo>
                    <a:pt x="0" y="1694"/>
                  </a:lnTo>
                  <a:lnTo>
                    <a:pt x="0" y="1692"/>
                  </a:lnTo>
                  <a:lnTo>
                    <a:pt x="3" y="1689"/>
                  </a:lnTo>
                  <a:lnTo>
                    <a:pt x="6" y="1686"/>
                  </a:lnTo>
                  <a:lnTo>
                    <a:pt x="8" y="1686"/>
                  </a:lnTo>
                  <a:lnTo>
                    <a:pt x="10" y="1686"/>
                  </a:lnTo>
                  <a:lnTo>
                    <a:pt x="13" y="1686"/>
                  </a:lnTo>
                  <a:lnTo>
                    <a:pt x="15" y="1686"/>
                  </a:lnTo>
                  <a:lnTo>
                    <a:pt x="18" y="1689"/>
                  </a:lnTo>
                  <a:lnTo>
                    <a:pt x="22" y="1692"/>
                  </a:lnTo>
                  <a:lnTo>
                    <a:pt x="22" y="1694"/>
                  </a:lnTo>
                  <a:lnTo>
                    <a:pt x="22" y="1697"/>
                  </a:lnTo>
                  <a:lnTo>
                    <a:pt x="22" y="1697"/>
                  </a:lnTo>
                  <a:close/>
                  <a:moveTo>
                    <a:pt x="22" y="1933"/>
                  </a:moveTo>
                  <a:lnTo>
                    <a:pt x="22" y="2072"/>
                  </a:lnTo>
                  <a:lnTo>
                    <a:pt x="22" y="2074"/>
                  </a:lnTo>
                  <a:lnTo>
                    <a:pt x="22" y="2077"/>
                  </a:lnTo>
                  <a:lnTo>
                    <a:pt x="18" y="2080"/>
                  </a:lnTo>
                  <a:lnTo>
                    <a:pt x="15" y="2081"/>
                  </a:lnTo>
                  <a:lnTo>
                    <a:pt x="13" y="2083"/>
                  </a:lnTo>
                  <a:lnTo>
                    <a:pt x="10" y="2083"/>
                  </a:lnTo>
                  <a:lnTo>
                    <a:pt x="8" y="2083"/>
                  </a:lnTo>
                  <a:lnTo>
                    <a:pt x="6" y="2081"/>
                  </a:lnTo>
                  <a:lnTo>
                    <a:pt x="3" y="2080"/>
                  </a:lnTo>
                  <a:lnTo>
                    <a:pt x="0" y="2077"/>
                  </a:lnTo>
                  <a:lnTo>
                    <a:pt x="0" y="2074"/>
                  </a:lnTo>
                  <a:lnTo>
                    <a:pt x="0" y="2072"/>
                  </a:lnTo>
                  <a:lnTo>
                    <a:pt x="0" y="1933"/>
                  </a:lnTo>
                  <a:lnTo>
                    <a:pt x="0" y="1932"/>
                  </a:lnTo>
                  <a:lnTo>
                    <a:pt x="0" y="1931"/>
                  </a:lnTo>
                  <a:lnTo>
                    <a:pt x="3" y="1926"/>
                  </a:lnTo>
                  <a:lnTo>
                    <a:pt x="6" y="1925"/>
                  </a:lnTo>
                  <a:lnTo>
                    <a:pt x="8" y="1925"/>
                  </a:lnTo>
                  <a:lnTo>
                    <a:pt x="10" y="1925"/>
                  </a:lnTo>
                  <a:lnTo>
                    <a:pt x="13" y="1925"/>
                  </a:lnTo>
                  <a:lnTo>
                    <a:pt x="15" y="1925"/>
                  </a:lnTo>
                  <a:lnTo>
                    <a:pt x="18" y="1926"/>
                  </a:lnTo>
                  <a:lnTo>
                    <a:pt x="22" y="1931"/>
                  </a:lnTo>
                  <a:lnTo>
                    <a:pt x="22" y="1932"/>
                  </a:lnTo>
                  <a:lnTo>
                    <a:pt x="22" y="1933"/>
                  </a:lnTo>
                  <a:lnTo>
                    <a:pt x="22" y="1933"/>
                  </a:lnTo>
                  <a:close/>
                  <a:moveTo>
                    <a:pt x="22" y="2172"/>
                  </a:moveTo>
                  <a:lnTo>
                    <a:pt x="22" y="2311"/>
                  </a:lnTo>
                  <a:lnTo>
                    <a:pt x="22" y="2312"/>
                  </a:lnTo>
                  <a:lnTo>
                    <a:pt x="22" y="2314"/>
                  </a:lnTo>
                  <a:lnTo>
                    <a:pt x="18" y="2317"/>
                  </a:lnTo>
                  <a:lnTo>
                    <a:pt x="15" y="2320"/>
                  </a:lnTo>
                  <a:lnTo>
                    <a:pt x="13" y="2320"/>
                  </a:lnTo>
                  <a:lnTo>
                    <a:pt x="10" y="2320"/>
                  </a:lnTo>
                  <a:lnTo>
                    <a:pt x="8" y="2320"/>
                  </a:lnTo>
                  <a:lnTo>
                    <a:pt x="6" y="2320"/>
                  </a:lnTo>
                  <a:lnTo>
                    <a:pt x="3" y="2317"/>
                  </a:lnTo>
                  <a:lnTo>
                    <a:pt x="0" y="2314"/>
                  </a:lnTo>
                  <a:lnTo>
                    <a:pt x="0" y="2312"/>
                  </a:lnTo>
                  <a:lnTo>
                    <a:pt x="0" y="2311"/>
                  </a:lnTo>
                  <a:lnTo>
                    <a:pt x="0" y="2172"/>
                  </a:lnTo>
                  <a:lnTo>
                    <a:pt x="0" y="2169"/>
                  </a:lnTo>
                  <a:lnTo>
                    <a:pt x="0" y="2167"/>
                  </a:lnTo>
                  <a:lnTo>
                    <a:pt x="3" y="2165"/>
                  </a:lnTo>
                  <a:lnTo>
                    <a:pt x="6" y="2163"/>
                  </a:lnTo>
                  <a:lnTo>
                    <a:pt x="8" y="2162"/>
                  </a:lnTo>
                  <a:lnTo>
                    <a:pt x="10" y="2162"/>
                  </a:lnTo>
                  <a:lnTo>
                    <a:pt x="13" y="2162"/>
                  </a:lnTo>
                  <a:lnTo>
                    <a:pt x="15" y="2163"/>
                  </a:lnTo>
                  <a:lnTo>
                    <a:pt x="18" y="2165"/>
                  </a:lnTo>
                  <a:lnTo>
                    <a:pt x="22" y="2167"/>
                  </a:lnTo>
                  <a:lnTo>
                    <a:pt x="22" y="2169"/>
                  </a:lnTo>
                  <a:lnTo>
                    <a:pt x="22" y="2172"/>
                  </a:lnTo>
                  <a:lnTo>
                    <a:pt x="22" y="2172"/>
                  </a:lnTo>
                  <a:close/>
                  <a:moveTo>
                    <a:pt x="22" y="2409"/>
                  </a:moveTo>
                  <a:lnTo>
                    <a:pt x="22" y="2548"/>
                  </a:lnTo>
                  <a:lnTo>
                    <a:pt x="22" y="2551"/>
                  </a:lnTo>
                  <a:lnTo>
                    <a:pt x="22" y="2552"/>
                  </a:lnTo>
                  <a:lnTo>
                    <a:pt x="18" y="2555"/>
                  </a:lnTo>
                  <a:lnTo>
                    <a:pt x="15" y="2556"/>
                  </a:lnTo>
                  <a:lnTo>
                    <a:pt x="13" y="2558"/>
                  </a:lnTo>
                  <a:lnTo>
                    <a:pt x="10" y="2558"/>
                  </a:lnTo>
                  <a:lnTo>
                    <a:pt x="8" y="2558"/>
                  </a:lnTo>
                  <a:lnTo>
                    <a:pt x="6" y="2556"/>
                  </a:lnTo>
                  <a:lnTo>
                    <a:pt x="3" y="2555"/>
                  </a:lnTo>
                  <a:lnTo>
                    <a:pt x="0" y="2552"/>
                  </a:lnTo>
                  <a:lnTo>
                    <a:pt x="0" y="2551"/>
                  </a:lnTo>
                  <a:lnTo>
                    <a:pt x="0" y="2548"/>
                  </a:lnTo>
                  <a:lnTo>
                    <a:pt x="0" y="2409"/>
                  </a:lnTo>
                  <a:lnTo>
                    <a:pt x="0" y="2407"/>
                  </a:lnTo>
                  <a:lnTo>
                    <a:pt x="0" y="2406"/>
                  </a:lnTo>
                  <a:lnTo>
                    <a:pt x="3" y="2403"/>
                  </a:lnTo>
                  <a:lnTo>
                    <a:pt x="6" y="2400"/>
                  </a:lnTo>
                  <a:lnTo>
                    <a:pt x="8" y="2400"/>
                  </a:lnTo>
                  <a:lnTo>
                    <a:pt x="10" y="2400"/>
                  </a:lnTo>
                  <a:lnTo>
                    <a:pt x="13" y="2400"/>
                  </a:lnTo>
                  <a:lnTo>
                    <a:pt x="15" y="2400"/>
                  </a:lnTo>
                  <a:lnTo>
                    <a:pt x="18" y="2403"/>
                  </a:lnTo>
                  <a:lnTo>
                    <a:pt x="22" y="2406"/>
                  </a:lnTo>
                  <a:lnTo>
                    <a:pt x="22" y="2407"/>
                  </a:lnTo>
                  <a:lnTo>
                    <a:pt x="22" y="2409"/>
                  </a:lnTo>
                  <a:lnTo>
                    <a:pt x="22" y="2409"/>
                  </a:lnTo>
                  <a:close/>
                  <a:moveTo>
                    <a:pt x="22" y="2647"/>
                  </a:moveTo>
                  <a:lnTo>
                    <a:pt x="22" y="2684"/>
                  </a:lnTo>
                  <a:lnTo>
                    <a:pt x="22" y="2687"/>
                  </a:lnTo>
                  <a:lnTo>
                    <a:pt x="22" y="2688"/>
                  </a:lnTo>
                  <a:lnTo>
                    <a:pt x="18" y="2691"/>
                  </a:lnTo>
                  <a:lnTo>
                    <a:pt x="15" y="2693"/>
                  </a:lnTo>
                  <a:lnTo>
                    <a:pt x="13" y="2694"/>
                  </a:lnTo>
                  <a:lnTo>
                    <a:pt x="10" y="2694"/>
                  </a:lnTo>
                  <a:lnTo>
                    <a:pt x="8" y="2694"/>
                  </a:lnTo>
                  <a:lnTo>
                    <a:pt x="6" y="2693"/>
                  </a:lnTo>
                  <a:lnTo>
                    <a:pt x="3" y="2691"/>
                  </a:lnTo>
                  <a:lnTo>
                    <a:pt x="0" y="2688"/>
                  </a:lnTo>
                  <a:lnTo>
                    <a:pt x="0" y="2687"/>
                  </a:lnTo>
                  <a:lnTo>
                    <a:pt x="0" y="2684"/>
                  </a:lnTo>
                  <a:lnTo>
                    <a:pt x="0" y="2647"/>
                  </a:lnTo>
                  <a:lnTo>
                    <a:pt x="0" y="2646"/>
                  </a:lnTo>
                  <a:lnTo>
                    <a:pt x="0" y="2643"/>
                  </a:lnTo>
                  <a:lnTo>
                    <a:pt x="3" y="2640"/>
                  </a:lnTo>
                  <a:lnTo>
                    <a:pt x="6" y="2638"/>
                  </a:lnTo>
                  <a:lnTo>
                    <a:pt x="8" y="2637"/>
                  </a:lnTo>
                  <a:lnTo>
                    <a:pt x="10" y="2637"/>
                  </a:lnTo>
                  <a:lnTo>
                    <a:pt x="13" y="2637"/>
                  </a:lnTo>
                  <a:lnTo>
                    <a:pt x="15" y="2638"/>
                  </a:lnTo>
                  <a:lnTo>
                    <a:pt x="18" y="2640"/>
                  </a:lnTo>
                  <a:lnTo>
                    <a:pt x="22" y="2643"/>
                  </a:lnTo>
                  <a:lnTo>
                    <a:pt x="22" y="2646"/>
                  </a:lnTo>
                  <a:lnTo>
                    <a:pt x="22" y="2647"/>
                  </a:lnTo>
                  <a:lnTo>
                    <a:pt x="22" y="264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51240" y="32558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94880" y="335448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1o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37200" y="34448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79040" y="354348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2o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62400" y="40100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4600" y="4108320"/>
              <a:ext cx="17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jo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49800" y="48290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91280" y="49258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no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09600" y="2681280"/>
              <a:ext cx="91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0000"/>
                  </a:solidFill>
                  <a:latin typeface="Times New Roman"/>
                </a:rPr>
                <a:t>Optimalni pl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17600" y="2840040"/>
              <a:ext cx="72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0000"/>
                  </a:solidFill>
                  <a:latin typeface="Times New Roman"/>
                </a:rPr>
                <a:t>proizvodn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842080" y="4089240"/>
            <a:ext cx="533160" cy="96840"/>
            <a:chOff x="5842080" y="4089240"/>
            <a:chExt cx="533160" cy="96840"/>
          </a:xfrm>
        </p:grpSpPr>
        <p:sp>
          <p:nvSpPr>
            <p:cNvPr id="155" name=""/>
            <p:cNvSpPr/>
            <p:nvPr/>
          </p:nvSpPr>
          <p:spPr>
            <a:xfrm>
              <a:off x="5842080" y="4138560"/>
              <a:ext cx="37440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03880" y="4089240"/>
              <a:ext cx="171360" cy="96840"/>
            </a:xfrm>
            <a:custGeom>
              <a:avLst/>
              <a:gdLst/>
              <a:ahLst/>
              <a:rect l="l" t="t" r="r" b="b"/>
              <a:pathLst>
                <a:path w="215" h="122">
                  <a:moveTo>
                    <a:pt x="0" y="0"/>
                  </a:moveTo>
                  <a:lnTo>
                    <a:pt x="215" y="61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365880" y="2125800"/>
            <a:ext cx="19080" cy="4024080"/>
          </a:xfrm>
          <a:custGeom>
            <a:avLst/>
            <a:gdLst/>
            <a:ahLst/>
            <a:rect l="l" t="t" r="r" b="b"/>
            <a:pathLst>
              <a:path w="24" h="5072">
                <a:moveTo>
                  <a:pt x="24" y="10"/>
                </a:moveTo>
                <a:lnTo>
                  <a:pt x="24" y="307"/>
                </a:lnTo>
                <a:lnTo>
                  <a:pt x="22" y="309"/>
                </a:lnTo>
                <a:lnTo>
                  <a:pt x="22" y="310"/>
                </a:lnTo>
                <a:lnTo>
                  <a:pt x="21" y="314"/>
                </a:lnTo>
                <a:lnTo>
                  <a:pt x="16" y="316"/>
                </a:lnTo>
                <a:lnTo>
                  <a:pt x="14" y="316"/>
                </a:lnTo>
                <a:lnTo>
                  <a:pt x="12" y="317"/>
                </a:lnTo>
                <a:lnTo>
                  <a:pt x="9" y="316"/>
                </a:lnTo>
                <a:lnTo>
                  <a:pt x="7" y="316"/>
                </a:lnTo>
                <a:lnTo>
                  <a:pt x="4" y="314"/>
                </a:lnTo>
                <a:lnTo>
                  <a:pt x="0" y="310"/>
                </a:lnTo>
                <a:lnTo>
                  <a:pt x="0" y="309"/>
                </a:lnTo>
                <a:lnTo>
                  <a:pt x="0" y="307"/>
                </a:lnTo>
                <a:lnTo>
                  <a:pt x="0" y="10"/>
                </a:lnTo>
                <a:lnTo>
                  <a:pt x="0" y="7"/>
                </a:lnTo>
                <a:lnTo>
                  <a:pt x="0" y="6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21" y="3"/>
                </a:lnTo>
                <a:lnTo>
                  <a:pt x="22" y="6"/>
                </a:lnTo>
                <a:lnTo>
                  <a:pt x="22" y="7"/>
                </a:lnTo>
                <a:lnTo>
                  <a:pt x="24" y="10"/>
                </a:lnTo>
                <a:lnTo>
                  <a:pt x="24" y="10"/>
                </a:lnTo>
                <a:close/>
                <a:moveTo>
                  <a:pt x="24" y="486"/>
                </a:moveTo>
                <a:lnTo>
                  <a:pt x="24" y="782"/>
                </a:lnTo>
                <a:lnTo>
                  <a:pt x="22" y="784"/>
                </a:lnTo>
                <a:lnTo>
                  <a:pt x="22" y="787"/>
                </a:lnTo>
                <a:lnTo>
                  <a:pt x="21" y="790"/>
                </a:lnTo>
                <a:lnTo>
                  <a:pt x="16" y="791"/>
                </a:lnTo>
                <a:lnTo>
                  <a:pt x="14" y="793"/>
                </a:lnTo>
                <a:lnTo>
                  <a:pt x="12" y="793"/>
                </a:lnTo>
                <a:lnTo>
                  <a:pt x="9" y="793"/>
                </a:lnTo>
                <a:lnTo>
                  <a:pt x="7" y="791"/>
                </a:lnTo>
                <a:lnTo>
                  <a:pt x="4" y="790"/>
                </a:lnTo>
                <a:lnTo>
                  <a:pt x="0" y="787"/>
                </a:lnTo>
                <a:lnTo>
                  <a:pt x="0" y="784"/>
                </a:lnTo>
                <a:lnTo>
                  <a:pt x="0" y="782"/>
                </a:lnTo>
                <a:lnTo>
                  <a:pt x="0" y="486"/>
                </a:lnTo>
                <a:lnTo>
                  <a:pt x="0" y="483"/>
                </a:lnTo>
                <a:lnTo>
                  <a:pt x="0" y="481"/>
                </a:lnTo>
                <a:lnTo>
                  <a:pt x="4" y="478"/>
                </a:lnTo>
                <a:lnTo>
                  <a:pt x="7" y="477"/>
                </a:lnTo>
                <a:lnTo>
                  <a:pt x="9" y="475"/>
                </a:lnTo>
                <a:lnTo>
                  <a:pt x="12" y="475"/>
                </a:lnTo>
                <a:lnTo>
                  <a:pt x="14" y="475"/>
                </a:lnTo>
                <a:lnTo>
                  <a:pt x="16" y="477"/>
                </a:lnTo>
                <a:lnTo>
                  <a:pt x="21" y="478"/>
                </a:lnTo>
                <a:lnTo>
                  <a:pt x="22" y="481"/>
                </a:lnTo>
                <a:lnTo>
                  <a:pt x="22" y="483"/>
                </a:lnTo>
                <a:lnTo>
                  <a:pt x="24" y="486"/>
                </a:lnTo>
                <a:lnTo>
                  <a:pt x="24" y="486"/>
                </a:lnTo>
                <a:close/>
                <a:moveTo>
                  <a:pt x="24" y="961"/>
                </a:moveTo>
                <a:lnTo>
                  <a:pt x="24" y="1258"/>
                </a:lnTo>
                <a:lnTo>
                  <a:pt x="22" y="1259"/>
                </a:lnTo>
                <a:lnTo>
                  <a:pt x="22" y="1262"/>
                </a:lnTo>
                <a:lnTo>
                  <a:pt x="21" y="1265"/>
                </a:lnTo>
                <a:lnTo>
                  <a:pt x="16" y="1267"/>
                </a:lnTo>
                <a:lnTo>
                  <a:pt x="14" y="1268"/>
                </a:lnTo>
                <a:lnTo>
                  <a:pt x="12" y="1268"/>
                </a:lnTo>
                <a:lnTo>
                  <a:pt x="9" y="1268"/>
                </a:lnTo>
                <a:lnTo>
                  <a:pt x="7" y="1267"/>
                </a:lnTo>
                <a:lnTo>
                  <a:pt x="4" y="1265"/>
                </a:lnTo>
                <a:lnTo>
                  <a:pt x="0" y="1262"/>
                </a:lnTo>
                <a:lnTo>
                  <a:pt x="0" y="1259"/>
                </a:lnTo>
                <a:lnTo>
                  <a:pt x="0" y="1258"/>
                </a:lnTo>
                <a:lnTo>
                  <a:pt x="0" y="961"/>
                </a:lnTo>
                <a:lnTo>
                  <a:pt x="0" y="958"/>
                </a:lnTo>
                <a:lnTo>
                  <a:pt x="0" y="956"/>
                </a:lnTo>
                <a:lnTo>
                  <a:pt x="4" y="954"/>
                </a:lnTo>
                <a:lnTo>
                  <a:pt x="7" y="952"/>
                </a:lnTo>
                <a:lnTo>
                  <a:pt x="9" y="951"/>
                </a:lnTo>
                <a:lnTo>
                  <a:pt x="12" y="951"/>
                </a:lnTo>
                <a:lnTo>
                  <a:pt x="14" y="951"/>
                </a:lnTo>
                <a:lnTo>
                  <a:pt x="16" y="952"/>
                </a:lnTo>
                <a:lnTo>
                  <a:pt x="21" y="954"/>
                </a:lnTo>
                <a:lnTo>
                  <a:pt x="22" y="956"/>
                </a:lnTo>
                <a:lnTo>
                  <a:pt x="22" y="958"/>
                </a:lnTo>
                <a:lnTo>
                  <a:pt x="24" y="961"/>
                </a:lnTo>
                <a:lnTo>
                  <a:pt x="24" y="961"/>
                </a:lnTo>
                <a:close/>
                <a:moveTo>
                  <a:pt x="24" y="1436"/>
                </a:moveTo>
                <a:lnTo>
                  <a:pt x="24" y="1733"/>
                </a:lnTo>
                <a:lnTo>
                  <a:pt x="22" y="1736"/>
                </a:lnTo>
                <a:lnTo>
                  <a:pt x="22" y="1737"/>
                </a:lnTo>
                <a:lnTo>
                  <a:pt x="21" y="1740"/>
                </a:lnTo>
                <a:lnTo>
                  <a:pt x="16" y="1742"/>
                </a:lnTo>
                <a:lnTo>
                  <a:pt x="14" y="1743"/>
                </a:lnTo>
                <a:lnTo>
                  <a:pt x="12" y="1743"/>
                </a:lnTo>
                <a:lnTo>
                  <a:pt x="9" y="1743"/>
                </a:lnTo>
                <a:lnTo>
                  <a:pt x="7" y="1742"/>
                </a:lnTo>
                <a:lnTo>
                  <a:pt x="4" y="1740"/>
                </a:lnTo>
                <a:lnTo>
                  <a:pt x="0" y="1737"/>
                </a:lnTo>
                <a:lnTo>
                  <a:pt x="0" y="1736"/>
                </a:lnTo>
                <a:lnTo>
                  <a:pt x="0" y="1733"/>
                </a:lnTo>
                <a:lnTo>
                  <a:pt x="0" y="1436"/>
                </a:lnTo>
                <a:lnTo>
                  <a:pt x="0" y="1435"/>
                </a:lnTo>
                <a:lnTo>
                  <a:pt x="0" y="1432"/>
                </a:lnTo>
                <a:lnTo>
                  <a:pt x="4" y="1429"/>
                </a:lnTo>
                <a:lnTo>
                  <a:pt x="7" y="1427"/>
                </a:lnTo>
                <a:lnTo>
                  <a:pt x="9" y="1426"/>
                </a:lnTo>
                <a:lnTo>
                  <a:pt x="12" y="1426"/>
                </a:lnTo>
                <a:lnTo>
                  <a:pt x="14" y="1426"/>
                </a:lnTo>
                <a:lnTo>
                  <a:pt x="16" y="1427"/>
                </a:lnTo>
                <a:lnTo>
                  <a:pt x="21" y="1429"/>
                </a:lnTo>
                <a:lnTo>
                  <a:pt x="22" y="1432"/>
                </a:lnTo>
                <a:lnTo>
                  <a:pt x="22" y="1435"/>
                </a:lnTo>
                <a:lnTo>
                  <a:pt x="24" y="1436"/>
                </a:lnTo>
                <a:lnTo>
                  <a:pt x="24" y="1436"/>
                </a:lnTo>
                <a:close/>
                <a:moveTo>
                  <a:pt x="24" y="1912"/>
                </a:moveTo>
                <a:lnTo>
                  <a:pt x="24" y="2208"/>
                </a:lnTo>
                <a:lnTo>
                  <a:pt x="22" y="2211"/>
                </a:lnTo>
                <a:lnTo>
                  <a:pt x="22" y="2213"/>
                </a:lnTo>
                <a:lnTo>
                  <a:pt x="21" y="2216"/>
                </a:lnTo>
                <a:lnTo>
                  <a:pt x="16" y="2217"/>
                </a:lnTo>
                <a:lnTo>
                  <a:pt x="14" y="2219"/>
                </a:lnTo>
                <a:lnTo>
                  <a:pt x="12" y="2219"/>
                </a:lnTo>
                <a:lnTo>
                  <a:pt x="9" y="2219"/>
                </a:lnTo>
                <a:lnTo>
                  <a:pt x="7" y="2217"/>
                </a:lnTo>
                <a:lnTo>
                  <a:pt x="4" y="2216"/>
                </a:lnTo>
                <a:lnTo>
                  <a:pt x="0" y="2213"/>
                </a:lnTo>
                <a:lnTo>
                  <a:pt x="0" y="2211"/>
                </a:lnTo>
                <a:lnTo>
                  <a:pt x="0" y="2208"/>
                </a:lnTo>
                <a:lnTo>
                  <a:pt x="0" y="1912"/>
                </a:lnTo>
                <a:lnTo>
                  <a:pt x="0" y="1910"/>
                </a:lnTo>
                <a:lnTo>
                  <a:pt x="0" y="1907"/>
                </a:lnTo>
                <a:lnTo>
                  <a:pt x="4" y="1904"/>
                </a:lnTo>
                <a:lnTo>
                  <a:pt x="7" y="1903"/>
                </a:lnTo>
                <a:lnTo>
                  <a:pt x="9" y="1901"/>
                </a:lnTo>
                <a:lnTo>
                  <a:pt x="12" y="1901"/>
                </a:lnTo>
                <a:lnTo>
                  <a:pt x="14" y="1901"/>
                </a:lnTo>
                <a:lnTo>
                  <a:pt x="16" y="1903"/>
                </a:lnTo>
                <a:lnTo>
                  <a:pt x="21" y="1904"/>
                </a:lnTo>
                <a:lnTo>
                  <a:pt x="22" y="1907"/>
                </a:lnTo>
                <a:lnTo>
                  <a:pt x="22" y="1910"/>
                </a:lnTo>
                <a:lnTo>
                  <a:pt x="24" y="1912"/>
                </a:lnTo>
                <a:lnTo>
                  <a:pt x="24" y="1912"/>
                </a:lnTo>
                <a:close/>
                <a:moveTo>
                  <a:pt x="24" y="2387"/>
                </a:moveTo>
                <a:lnTo>
                  <a:pt x="24" y="2685"/>
                </a:lnTo>
                <a:lnTo>
                  <a:pt x="22" y="2687"/>
                </a:lnTo>
                <a:lnTo>
                  <a:pt x="22" y="2688"/>
                </a:lnTo>
                <a:lnTo>
                  <a:pt x="21" y="2691"/>
                </a:lnTo>
                <a:lnTo>
                  <a:pt x="16" y="2694"/>
                </a:lnTo>
                <a:lnTo>
                  <a:pt x="14" y="2694"/>
                </a:lnTo>
                <a:lnTo>
                  <a:pt x="12" y="2694"/>
                </a:lnTo>
                <a:lnTo>
                  <a:pt x="9" y="2694"/>
                </a:lnTo>
                <a:lnTo>
                  <a:pt x="7" y="2694"/>
                </a:lnTo>
                <a:lnTo>
                  <a:pt x="4" y="2691"/>
                </a:lnTo>
                <a:lnTo>
                  <a:pt x="0" y="2688"/>
                </a:lnTo>
                <a:lnTo>
                  <a:pt x="0" y="2687"/>
                </a:lnTo>
                <a:lnTo>
                  <a:pt x="0" y="2685"/>
                </a:lnTo>
                <a:lnTo>
                  <a:pt x="0" y="2387"/>
                </a:lnTo>
                <a:lnTo>
                  <a:pt x="0" y="2385"/>
                </a:lnTo>
                <a:lnTo>
                  <a:pt x="0" y="2384"/>
                </a:lnTo>
                <a:lnTo>
                  <a:pt x="4" y="2380"/>
                </a:lnTo>
                <a:lnTo>
                  <a:pt x="7" y="2378"/>
                </a:lnTo>
                <a:lnTo>
                  <a:pt x="9" y="2378"/>
                </a:lnTo>
                <a:lnTo>
                  <a:pt x="12" y="2378"/>
                </a:lnTo>
                <a:lnTo>
                  <a:pt x="14" y="2378"/>
                </a:lnTo>
                <a:lnTo>
                  <a:pt x="16" y="2378"/>
                </a:lnTo>
                <a:lnTo>
                  <a:pt x="21" y="2380"/>
                </a:lnTo>
                <a:lnTo>
                  <a:pt x="22" y="2384"/>
                </a:lnTo>
                <a:lnTo>
                  <a:pt x="22" y="2385"/>
                </a:lnTo>
                <a:lnTo>
                  <a:pt x="24" y="2387"/>
                </a:lnTo>
                <a:lnTo>
                  <a:pt x="24" y="2387"/>
                </a:lnTo>
                <a:close/>
                <a:moveTo>
                  <a:pt x="24" y="2862"/>
                </a:moveTo>
                <a:lnTo>
                  <a:pt x="24" y="3160"/>
                </a:lnTo>
                <a:lnTo>
                  <a:pt x="22" y="3162"/>
                </a:lnTo>
                <a:lnTo>
                  <a:pt x="22" y="3163"/>
                </a:lnTo>
                <a:lnTo>
                  <a:pt x="21" y="3166"/>
                </a:lnTo>
                <a:lnTo>
                  <a:pt x="16" y="3169"/>
                </a:lnTo>
                <a:lnTo>
                  <a:pt x="14" y="3169"/>
                </a:lnTo>
                <a:lnTo>
                  <a:pt x="12" y="3169"/>
                </a:lnTo>
                <a:lnTo>
                  <a:pt x="9" y="3169"/>
                </a:lnTo>
                <a:lnTo>
                  <a:pt x="7" y="3169"/>
                </a:lnTo>
                <a:lnTo>
                  <a:pt x="4" y="3166"/>
                </a:lnTo>
                <a:lnTo>
                  <a:pt x="0" y="3163"/>
                </a:lnTo>
                <a:lnTo>
                  <a:pt x="0" y="3162"/>
                </a:lnTo>
                <a:lnTo>
                  <a:pt x="0" y="3160"/>
                </a:lnTo>
                <a:lnTo>
                  <a:pt x="0" y="2862"/>
                </a:lnTo>
                <a:lnTo>
                  <a:pt x="0" y="2861"/>
                </a:lnTo>
                <a:lnTo>
                  <a:pt x="0" y="2859"/>
                </a:lnTo>
                <a:lnTo>
                  <a:pt x="4" y="2855"/>
                </a:lnTo>
                <a:lnTo>
                  <a:pt x="7" y="2853"/>
                </a:lnTo>
                <a:lnTo>
                  <a:pt x="9" y="2853"/>
                </a:lnTo>
                <a:lnTo>
                  <a:pt x="12" y="2853"/>
                </a:lnTo>
                <a:lnTo>
                  <a:pt x="14" y="2853"/>
                </a:lnTo>
                <a:lnTo>
                  <a:pt x="16" y="2853"/>
                </a:lnTo>
                <a:lnTo>
                  <a:pt x="21" y="2855"/>
                </a:lnTo>
                <a:lnTo>
                  <a:pt x="22" y="2859"/>
                </a:lnTo>
                <a:lnTo>
                  <a:pt x="22" y="2861"/>
                </a:lnTo>
                <a:lnTo>
                  <a:pt x="24" y="2862"/>
                </a:lnTo>
                <a:lnTo>
                  <a:pt x="24" y="2862"/>
                </a:lnTo>
                <a:close/>
                <a:moveTo>
                  <a:pt x="24" y="3339"/>
                </a:moveTo>
                <a:lnTo>
                  <a:pt x="24" y="3636"/>
                </a:lnTo>
                <a:lnTo>
                  <a:pt x="22" y="3637"/>
                </a:lnTo>
                <a:lnTo>
                  <a:pt x="22" y="3639"/>
                </a:lnTo>
                <a:lnTo>
                  <a:pt x="21" y="3642"/>
                </a:lnTo>
                <a:lnTo>
                  <a:pt x="16" y="3645"/>
                </a:lnTo>
                <a:lnTo>
                  <a:pt x="14" y="3645"/>
                </a:lnTo>
                <a:lnTo>
                  <a:pt x="12" y="3646"/>
                </a:lnTo>
                <a:lnTo>
                  <a:pt x="9" y="3645"/>
                </a:lnTo>
                <a:lnTo>
                  <a:pt x="7" y="3645"/>
                </a:lnTo>
                <a:lnTo>
                  <a:pt x="4" y="3642"/>
                </a:lnTo>
                <a:lnTo>
                  <a:pt x="0" y="3639"/>
                </a:lnTo>
                <a:lnTo>
                  <a:pt x="0" y="3637"/>
                </a:lnTo>
                <a:lnTo>
                  <a:pt x="0" y="3636"/>
                </a:lnTo>
                <a:lnTo>
                  <a:pt x="0" y="3339"/>
                </a:lnTo>
                <a:lnTo>
                  <a:pt x="0" y="3336"/>
                </a:lnTo>
                <a:lnTo>
                  <a:pt x="0" y="3335"/>
                </a:lnTo>
                <a:lnTo>
                  <a:pt x="4" y="3332"/>
                </a:lnTo>
                <a:lnTo>
                  <a:pt x="7" y="3329"/>
                </a:lnTo>
                <a:lnTo>
                  <a:pt x="9" y="3329"/>
                </a:lnTo>
                <a:lnTo>
                  <a:pt x="12" y="3329"/>
                </a:lnTo>
                <a:lnTo>
                  <a:pt x="14" y="3329"/>
                </a:lnTo>
                <a:lnTo>
                  <a:pt x="16" y="3329"/>
                </a:lnTo>
                <a:lnTo>
                  <a:pt x="21" y="3332"/>
                </a:lnTo>
                <a:lnTo>
                  <a:pt x="22" y="3335"/>
                </a:lnTo>
                <a:lnTo>
                  <a:pt x="22" y="3336"/>
                </a:lnTo>
                <a:lnTo>
                  <a:pt x="24" y="3339"/>
                </a:lnTo>
                <a:lnTo>
                  <a:pt x="24" y="3339"/>
                </a:lnTo>
                <a:close/>
                <a:moveTo>
                  <a:pt x="24" y="3814"/>
                </a:moveTo>
                <a:lnTo>
                  <a:pt x="24" y="4111"/>
                </a:lnTo>
                <a:lnTo>
                  <a:pt x="22" y="4113"/>
                </a:lnTo>
                <a:lnTo>
                  <a:pt x="22" y="4114"/>
                </a:lnTo>
                <a:lnTo>
                  <a:pt x="21" y="4118"/>
                </a:lnTo>
                <a:lnTo>
                  <a:pt x="16" y="4120"/>
                </a:lnTo>
                <a:lnTo>
                  <a:pt x="14" y="4120"/>
                </a:lnTo>
                <a:lnTo>
                  <a:pt x="12" y="4121"/>
                </a:lnTo>
                <a:lnTo>
                  <a:pt x="9" y="4120"/>
                </a:lnTo>
                <a:lnTo>
                  <a:pt x="7" y="4120"/>
                </a:lnTo>
                <a:lnTo>
                  <a:pt x="4" y="4118"/>
                </a:lnTo>
                <a:lnTo>
                  <a:pt x="0" y="4114"/>
                </a:lnTo>
                <a:lnTo>
                  <a:pt x="0" y="4113"/>
                </a:lnTo>
                <a:lnTo>
                  <a:pt x="0" y="4111"/>
                </a:lnTo>
                <a:lnTo>
                  <a:pt x="0" y="3814"/>
                </a:lnTo>
                <a:lnTo>
                  <a:pt x="0" y="3811"/>
                </a:lnTo>
                <a:lnTo>
                  <a:pt x="0" y="3810"/>
                </a:lnTo>
                <a:lnTo>
                  <a:pt x="4" y="3807"/>
                </a:lnTo>
                <a:lnTo>
                  <a:pt x="7" y="3804"/>
                </a:lnTo>
                <a:lnTo>
                  <a:pt x="9" y="3804"/>
                </a:lnTo>
                <a:lnTo>
                  <a:pt x="12" y="3804"/>
                </a:lnTo>
                <a:lnTo>
                  <a:pt x="14" y="3804"/>
                </a:lnTo>
                <a:lnTo>
                  <a:pt x="16" y="3804"/>
                </a:lnTo>
                <a:lnTo>
                  <a:pt x="21" y="3807"/>
                </a:lnTo>
                <a:lnTo>
                  <a:pt x="22" y="3810"/>
                </a:lnTo>
                <a:lnTo>
                  <a:pt x="22" y="3811"/>
                </a:lnTo>
                <a:lnTo>
                  <a:pt x="24" y="3814"/>
                </a:lnTo>
                <a:lnTo>
                  <a:pt x="24" y="3814"/>
                </a:lnTo>
                <a:close/>
                <a:moveTo>
                  <a:pt x="24" y="4290"/>
                </a:moveTo>
                <a:lnTo>
                  <a:pt x="24" y="4586"/>
                </a:lnTo>
                <a:lnTo>
                  <a:pt x="22" y="4588"/>
                </a:lnTo>
                <a:lnTo>
                  <a:pt x="22" y="4589"/>
                </a:lnTo>
                <a:lnTo>
                  <a:pt x="21" y="4594"/>
                </a:lnTo>
                <a:lnTo>
                  <a:pt x="16" y="4595"/>
                </a:lnTo>
                <a:lnTo>
                  <a:pt x="14" y="4597"/>
                </a:lnTo>
                <a:lnTo>
                  <a:pt x="12" y="4597"/>
                </a:lnTo>
                <a:lnTo>
                  <a:pt x="9" y="4597"/>
                </a:lnTo>
                <a:lnTo>
                  <a:pt x="7" y="4595"/>
                </a:lnTo>
                <a:lnTo>
                  <a:pt x="4" y="4594"/>
                </a:lnTo>
                <a:lnTo>
                  <a:pt x="0" y="4589"/>
                </a:lnTo>
                <a:lnTo>
                  <a:pt x="0" y="4588"/>
                </a:lnTo>
                <a:lnTo>
                  <a:pt x="0" y="4586"/>
                </a:lnTo>
                <a:lnTo>
                  <a:pt x="0" y="4290"/>
                </a:lnTo>
                <a:lnTo>
                  <a:pt x="0" y="4287"/>
                </a:lnTo>
                <a:lnTo>
                  <a:pt x="0" y="4285"/>
                </a:lnTo>
                <a:lnTo>
                  <a:pt x="4" y="4282"/>
                </a:lnTo>
                <a:lnTo>
                  <a:pt x="7" y="4281"/>
                </a:lnTo>
                <a:lnTo>
                  <a:pt x="9" y="4279"/>
                </a:lnTo>
                <a:lnTo>
                  <a:pt x="12" y="4279"/>
                </a:lnTo>
                <a:lnTo>
                  <a:pt x="14" y="4279"/>
                </a:lnTo>
                <a:lnTo>
                  <a:pt x="16" y="4281"/>
                </a:lnTo>
                <a:lnTo>
                  <a:pt x="21" y="4282"/>
                </a:lnTo>
                <a:lnTo>
                  <a:pt x="22" y="4285"/>
                </a:lnTo>
                <a:lnTo>
                  <a:pt x="22" y="4287"/>
                </a:lnTo>
                <a:lnTo>
                  <a:pt x="24" y="4290"/>
                </a:lnTo>
                <a:lnTo>
                  <a:pt x="24" y="4290"/>
                </a:lnTo>
                <a:close/>
                <a:moveTo>
                  <a:pt x="24" y="4765"/>
                </a:moveTo>
                <a:lnTo>
                  <a:pt x="24" y="5062"/>
                </a:lnTo>
                <a:lnTo>
                  <a:pt x="22" y="5063"/>
                </a:lnTo>
                <a:lnTo>
                  <a:pt x="22" y="5066"/>
                </a:lnTo>
                <a:lnTo>
                  <a:pt x="21" y="5069"/>
                </a:lnTo>
                <a:lnTo>
                  <a:pt x="16" y="5071"/>
                </a:lnTo>
                <a:lnTo>
                  <a:pt x="14" y="5072"/>
                </a:lnTo>
                <a:lnTo>
                  <a:pt x="12" y="5072"/>
                </a:lnTo>
                <a:lnTo>
                  <a:pt x="9" y="5072"/>
                </a:lnTo>
                <a:lnTo>
                  <a:pt x="7" y="5071"/>
                </a:lnTo>
                <a:lnTo>
                  <a:pt x="4" y="5069"/>
                </a:lnTo>
                <a:lnTo>
                  <a:pt x="0" y="5066"/>
                </a:lnTo>
                <a:lnTo>
                  <a:pt x="0" y="5063"/>
                </a:lnTo>
                <a:lnTo>
                  <a:pt x="0" y="5062"/>
                </a:lnTo>
                <a:lnTo>
                  <a:pt x="0" y="4765"/>
                </a:lnTo>
                <a:lnTo>
                  <a:pt x="0" y="4762"/>
                </a:lnTo>
                <a:lnTo>
                  <a:pt x="0" y="4760"/>
                </a:lnTo>
                <a:lnTo>
                  <a:pt x="4" y="4758"/>
                </a:lnTo>
                <a:lnTo>
                  <a:pt x="7" y="4756"/>
                </a:lnTo>
                <a:lnTo>
                  <a:pt x="9" y="4755"/>
                </a:lnTo>
                <a:lnTo>
                  <a:pt x="12" y="4755"/>
                </a:lnTo>
                <a:lnTo>
                  <a:pt x="14" y="4755"/>
                </a:lnTo>
                <a:lnTo>
                  <a:pt x="16" y="4756"/>
                </a:lnTo>
                <a:lnTo>
                  <a:pt x="21" y="4758"/>
                </a:lnTo>
                <a:lnTo>
                  <a:pt x="22" y="4760"/>
                </a:lnTo>
                <a:lnTo>
                  <a:pt x="22" y="4762"/>
                </a:lnTo>
                <a:lnTo>
                  <a:pt x="24" y="4765"/>
                </a:lnTo>
                <a:lnTo>
                  <a:pt x="24" y="476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1360" y="5614920"/>
            <a:ext cx="346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333399"/>
                </a:solidFill>
                <a:latin typeface="Times New Roman"/>
              </a:rPr>
              <a:t>Program i optimalni plan proizvod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110680" y="3743280"/>
            <a:ext cx="802440" cy="442800"/>
            <a:chOff x="2110680" y="3743280"/>
            <a:chExt cx="802440" cy="442800"/>
          </a:xfrm>
        </p:grpSpPr>
        <p:sp>
          <p:nvSpPr>
            <p:cNvPr id="160" name=""/>
            <p:cNvSpPr/>
            <p:nvPr/>
          </p:nvSpPr>
          <p:spPr>
            <a:xfrm>
              <a:off x="2112840" y="4138560"/>
              <a:ext cx="64296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41760" y="4089240"/>
              <a:ext cx="171360" cy="96840"/>
            </a:xfrm>
            <a:custGeom>
              <a:avLst/>
              <a:gdLst/>
              <a:ahLst/>
              <a:rect l="l" t="t" r="r" b="b"/>
              <a:pathLst>
                <a:path w="215" h="122">
                  <a:moveTo>
                    <a:pt x="0" y="0"/>
                  </a:moveTo>
                  <a:lnTo>
                    <a:pt x="215" y="61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81240" y="3743280"/>
              <a:ext cx="63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0000"/>
                  </a:solidFill>
                  <a:latin typeface="Times New Roman"/>
                </a:rPr>
                <a:t>Selekcija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10680" y="3900600"/>
              <a:ext cx="75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0000"/>
                  </a:solidFill>
                  <a:latin typeface="Times New Roman"/>
                </a:rPr>
                <a:t>optimizac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978360" y="3911760"/>
            <a:ext cx="796680" cy="274320"/>
            <a:chOff x="3978360" y="3911760"/>
            <a:chExt cx="796680" cy="274320"/>
          </a:xfrm>
        </p:grpSpPr>
        <p:sp>
          <p:nvSpPr>
            <p:cNvPr id="165" name=""/>
            <p:cNvSpPr/>
            <p:nvPr/>
          </p:nvSpPr>
          <p:spPr>
            <a:xfrm>
              <a:off x="3978360" y="4138560"/>
              <a:ext cx="64116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06920" y="4089240"/>
              <a:ext cx="168120" cy="96840"/>
            </a:xfrm>
            <a:custGeom>
              <a:avLst/>
              <a:gdLst/>
              <a:ahLst/>
              <a:rect l="l" t="t" r="r" b="b"/>
              <a:pathLst>
                <a:path w="214" h="122">
                  <a:moveTo>
                    <a:pt x="0" y="0"/>
                  </a:moveTo>
                  <a:lnTo>
                    <a:pt x="214" y="61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33440" y="3911760"/>
              <a:ext cx="61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0000"/>
                  </a:solidFill>
                  <a:latin typeface="Times New Roman"/>
                </a:rPr>
                <a:t>Planiran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496560" y="5504040"/>
            <a:ext cx="1781280" cy="597960"/>
            <a:chOff x="6496560" y="5504040"/>
            <a:chExt cx="1781280" cy="597960"/>
          </a:xfrm>
        </p:grpSpPr>
        <p:sp>
          <p:nvSpPr>
            <p:cNvPr id="169" name=""/>
            <p:cNvSpPr/>
            <p:nvPr/>
          </p:nvSpPr>
          <p:spPr>
            <a:xfrm>
              <a:off x="6683040" y="55040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09120" y="5504040"/>
              <a:ext cx="6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9400" y="5504040"/>
              <a:ext cx="94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in proizvodn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96560" y="5692680"/>
              <a:ext cx="91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lanirane ko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96360" y="5692680"/>
              <a:ext cx="6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77000" y="5692680"/>
              <a:ext cx="35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ine 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01800" y="5791320"/>
              <a:ext cx="17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jo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25800" y="5881680"/>
              <a:ext cx="69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roizvod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58120" y="58816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70440" y="5979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58280" y="5881680"/>
              <a:ext cx="43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(j=1,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033560" y="2311560"/>
            <a:ext cx="11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Times New Roman"/>
              </a:rPr>
              <a:t>POLAZI SE 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82640" y="2133720"/>
            <a:ext cx="7765920" cy="4010040"/>
            <a:chOff x="782640" y="2133720"/>
            <a:chExt cx="7765920" cy="4010040"/>
          </a:xfrm>
        </p:grpSpPr>
        <p:sp>
          <p:nvSpPr>
            <p:cNvPr id="182" name=""/>
            <p:cNvSpPr/>
            <p:nvPr/>
          </p:nvSpPr>
          <p:spPr>
            <a:xfrm>
              <a:off x="782640" y="5435640"/>
              <a:ext cx="772164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82640" y="2133720"/>
              <a:ext cx="7765920" cy="4010040"/>
              <a:chOff x="782640" y="2133720"/>
              <a:chExt cx="7765920" cy="4010040"/>
            </a:xfrm>
          </p:grpSpPr>
          <p:sp>
            <p:nvSpPr>
              <p:cNvPr id="184" name=""/>
              <p:cNvSpPr/>
              <p:nvPr/>
            </p:nvSpPr>
            <p:spPr>
              <a:xfrm>
                <a:off x="826920" y="2637000"/>
                <a:ext cx="7721640" cy="144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504280" y="2133720"/>
                <a:ext cx="1440" cy="400824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2640" y="2604960"/>
                <a:ext cx="1440" cy="28288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82640" y="2133720"/>
                <a:ext cx="7721640" cy="471240"/>
              </a:xfrm>
              <a:custGeom>
                <a:avLst/>
                <a:gdLst/>
                <a:ahLst/>
                <a:rect l="l" t="t" r="r" b="b"/>
                <a:pathLst>
                  <a:path w="9728" h="594">
                    <a:moveTo>
                      <a:pt x="9728" y="0"/>
                    </a:moveTo>
                    <a:lnTo>
                      <a:pt x="0" y="0"/>
                    </a:lnTo>
                    <a:lnTo>
                      <a:pt x="0" y="594"/>
                    </a:lnTo>
                  </a:path>
                </a:pathLst>
              </a:custGeom>
              <a:noFill/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2640" y="5435640"/>
                <a:ext cx="5592600" cy="706320"/>
              </a:xfrm>
              <a:custGeom>
                <a:avLst/>
                <a:gdLst/>
                <a:ahLst/>
                <a:rect l="l" t="t" r="r" b="b"/>
                <a:pathLst>
                  <a:path w="7045" h="891">
                    <a:moveTo>
                      <a:pt x="0" y="0"/>
                    </a:moveTo>
                    <a:lnTo>
                      <a:pt x="0" y="891"/>
                    </a:lnTo>
                    <a:lnTo>
                      <a:pt x="7045" y="891"/>
                    </a:lnTo>
                  </a:path>
                </a:pathLst>
              </a:custGeom>
              <a:noFill/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375240" y="6141960"/>
                <a:ext cx="2129040" cy="18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6528600" y="2271600"/>
            <a:ext cx="133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Times New Roman"/>
              </a:rPr>
              <a:t>TREBA ODRED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507000" y="3333600"/>
            <a:ext cx="1863720" cy="1953000"/>
            <a:chOff x="6507000" y="3333600"/>
            <a:chExt cx="1863720" cy="1953000"/>
          </a:xfrm>
        </p:grpSpPr>
        <p:sp>
          <p:nvSpPr>
            <p:cNvPr id="192" name=""/>
            <p:cNvSpPr/>
            <p:nvPr/>
          </p:nvSpPr>
          <p:spPr>
            <a:xfrm>
              <a:off x="6640560" y="3681360"/>
              <a:ext cx="1440" cy="15177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3320" y="3548160"/>
              <a:ext cx="114480" cy="145800"/>
            </a:xfrm>
            <a:custGeom>
              <a:avLst/>
              <a:gdLst/>
              <a:ahLst/>
              <a:rect l="l" t="t" r="r" b="b"/>
              <a:pathLst>
                <a:path w="143" h="184">
                  <a:moveTo>
                    <a:pt x="0" y="184"/>
                  </a:moveTo>
                  <a:lnTo>
                    <a:pt x="71" y="0"/>
                  </a:lnTo>
                  <a:lnTo>
                    <a:pt x="143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07000" y="5081760"/>
              <a:ext cx="170820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01160" y="5032440"/>
              <a:ext cx="169560" cy="98280"/>
            </a:xfrm>
            <a:custGeom>
              <a:avLst/>
              <a:gdLst/>
              <a:ahLst/>
              <a:rect l="l" t="t" r="r" b="b"/>
              <a:pathLst>
                <a:path w="216" h="122">
                  <a:moveTo>
                    <a:pt x="0" y="0"/>
                  </a:moveTo>
                  <a:lnTo>
                    <a:pt x="216" y="61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40560" y="4492800"/>
              <a:ext cx="665280" cy="590400"/>
            </a:xfrm>
            <a:custGeom>
              <a:avLst/>
              <a:gdLst/>
              <a:ahLst/>
              <a:rect l="l" t="t" r="r" b="b"/>
              <a:pathLst>
                <a:path w="838" h="746">
                  <a:moveTo>
                    <a:pt x="838" y="0"/>
                  </a:moveTo>
                  <a:lnTo>
                    <a:pt x="782" y="81"/>
                  </a:lnTo>
                  <a:lnTo>
                    <a:pt x="725" y="158"/>
                  </a:lnTo>
                  <a:lnTo>
                    <a:pt x="671" y="230"/>
                  </a:lnTo>
                  <a:lnTo>
                    <a:pt x="616" y="297"/>
                  </a:lnTo>
                  <a:lnTo>
                    <a:pt x="565" y="360"/>
                  </a:lnTo>
                  <a:lnTo>
                    <a:pt x="515" y="418"/>
                  </a:lnTo>
                  <a:lnTo>
                    <a:pt x="465" y="471"/>
                  </a:lnTo>
                  <a:lnTo>
                    <a:pt x="419" y="519"/>
                  </a:lnTo>
                  <a:lnTo>
                    <a:pt x="373" y="563"/>
                  </a:lnTo>
                  <a:lnTo>
                    <a:pt x="329" y="603"/>
                  </a:lnTo>
                  <a:lnTo>
                    <a:pt x="286" y="636"/>
                  </a:lnTo>
                  <a:lnTo>
                    <a:pt x="245" y="667"/>
                  </a:lnTo>
                  <a:lnTo>
                    <a:pt x="206" y="692"/>
                  </a:lnTo>
                  <a:lnTo>
                    <a:pt x="168" y="712"/>
                  </a:lnTo>
                  <a:lnTo>
                    <a:pt x="130" y="727"/>
                  </a:lnTo>
                  <a:lnTo>
                    <a:pt x="96" y="739"/>
                  </a:lnTo>
                  <a:lnTo>
                    <a:pt x="62" y="744"/>
                  </a:lnTo>
                  <a:lnTo>
                    <a:pt x="31" y="746"/>
                  </a:lnTo>
                  <a:lnTo>
                    <a:pt x="0" y="743"/>
                  </a:ln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05840" y="4019400"/>
              <a:ext cx="799920" cy="473400"/>
            </a:xfrm>
            <a:custGeom>
              <a:avLst/>
              <a:gdLst/>
              <a:ahLst/>
              <a:rect l="l" t="t" r="r" b="b"/>
              <a:pathLst>
                <a:path w="1007" h="595">
                  <a:moveTo>
                    <a:pt x="1007" y="0"/>
                  </a:moveTo>
                  <a:lnTo>
                    <a:pt x="905" y="25"/>
                  </a:lnTo>
                  <a:lnTo>
                    <a:pt x="807" y="54"/>
                  </a:lnTo>
                  <a:lnTo>
                    <a:pt x="713" y="85"/>
                  </a:lnTo>
                  <a:lnTo>
                    <a:pt x="623" y="121"/>
                  </a:lnTo>
                  <a:lnTo>
                    <a:pt x="537" y="159"/>
                  </a:lnTo>
                  <a:lnTo>
                    <a:pt x="455" y="202"/>
                  </a:lnTo>
                  <a:lnTo>
                    <a:pt x="378" y="247"/>
                  </a:lnTo>
                  <a:lnTo>
                    <a:pt x="305" y="297"/>
                  </a:lnTo>
                  <a:lnTo>
                    <a:pt x="236" y="349"/>
                  </a:lnTo>
                  <a:lnTo>
                    <a:pt x="171" y="405"/>
                  </a:lnTo>
                  <a:lnTo>
                    <a:pt x="110" y="465"/>
                  </a:lnTo>
                  <a:lnTo>
                    <a:pt x="53" y="528"/>
                  </a:lnTo>
                  <a:lnTo>
                    <a:pt x="0" y="595"/>
                  </a:ln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96400" y="4013280"/>
              <a:ext cx="19080" cy="1068480"/>
            </a:xfrm>
            <a:custGeom>
              <a:avLst/>
              <a:gdLst/>
              <a:ahLst/>
              <a:rect l="l" t="t" r="r" b="b"/>
              <a:pathLst>
                <a:path w="24" h="1347">
                  <a:moveTo>
                    <a:pt x="24" y="9"/>
                  </a:moveTo>
                  <a:lnTo>
                    <a:pt x="24" y="148"/>
                  </a:lnTo>
                  <a:lnTo>
                    <a:pt x="24" y="149"/>
                  </a:lnTo>
                  <a:lnTo>
                    <a:pt x="23" y="152"/>
                  </a:lnTo>
                  <a:lnTo>
                    <a:pt x="21" y="155"/>
                  </a:lnTo>
                  <a:lnTo>
                    <a:pt x="17" y="157"/>
                  </a:lnTo>
                  <a:lnTo>
                    <a:pt x="14" y="158"/>
                  </a:lnTo>
                  <a:lnTo>
                    <a:pt x="12" y="158"/>
                  </a:lnTo>
                  <a:lnTo>
                    <a:pt x="11" y="158"/>
                  </a:lnTo>
                  <a:lnTo>
                    <a:pt x="7" y="157"/>
                  </a:lnTo>
                  <a:lnTo>
                    <a:pt x="4" y="155"/>
                  </a:lnTo>
                  <a:lnTo>
                    <a:pt x="2" y="152"/>
                  </a:lnTo>
                  <a:lnTo>
                    <a:pt x="0" y="149"/>
                  </a:lnTo>
                  <a:lnTo>
                    <a:pt x="0" y="148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4" y="9"/>
                  </a:lnTo>
                  <a:close/>
                  <a:moveTo>
                    <a:pt x="24" y="247"/>
                  </a:moveTo>
                  <a:lnTo>
                    <a:pt x="24" y="386"/>
                  </a:lnTo>
                  <a:lnTo>
                    <a:pt x="24" y="388"/>
                  </a:lnTo>
                  <a:lnTo>
                    <a:pt x="23" y="389"/>
                  </a:lnTo>
                  <a:lnTo>
                    <a:pt x="21" y="392"/>
                  </a:lnTo>
                  <a:lnTo>
                    <a:pt x="17" y="395"/>
                  </a:lnTo>
                  <a:lnTo>
                    <a:pt x="14" y="395"/>
                  </a:lnTo>
                  <a:lnTo>
                    <a:pt x="12" y="395"/>
                  </a:lnTo>
                  <a:lnTo>
                    <a:pt x="11" y="395"/>
                  </a:lnTo>
                  <a:lnTo>
                    <a:pt x="7" y="395"/>
                  </a:lnTo>
                  <a:lnTo>
                    <a:pt x="4" y="392"/>
                  </a:lnTo>
                  <a:lnTo>
                    <a:pt x="2" y="389"/>
                  </a:lnTo>
                  <a:lnTo>
                    <a:pt x="0" y="388"/>
                  </a:lnTo>
                  <a:lnTo>
                    <a:pt x="0" y="386"/>
                  </a:lnTo>
                  <a:lnTo>
                    <a:pt x="0" y="247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0"/>
                  </a:lnTo>
                  <a:lnTo>
                    <a:pt x="7" y="238"/>
                  </a:lnTo>
                  <a:lnTo>
                    <a:pt x="11" y="237"/>
                  </a:lnTo>
                  <a:lnTo>
                    <a:pt x="12" y="237"/>
                  </a:lnTo>
                  <a:lnTo>
                    <a:pt x="14" y="237"/>
                  </a:lnTo>
                  <a:lnTo>
                    <a:pt x="17" y="238"/>
                  </a:lnTo>
                  <a:lnTo>
                    <a:pt x="21" y="240"/>
                  </a:lnTo>
                  <a:lnTo>
                    <a:pt x="23" y="243"/>
                  </a:lnTo>
                  <a:lnTo>
                    <a:pt x="24" y="244"/>
                  </a:lnTo>
                  <a:lnTo>
                    <a:pt x="24" y="247"/>
                  </a:lnTo>
                  <a:lnTo>
                    <a:pt x="24" y="247"/>
                  </a:lnTo>
                  <a:close/>
                  <a:moveTo>
                    <a:pt x="24" y="484"/>
                  </a:moveTo>
                  <a:lnTo>
                    <a:pt x="24" y="623"/>
                  </a:lnTo>
                  <a:lnTo>
                    <a:pt x="24" y="626"/>
                  </a:lnTo>
                  <a:lnTo>
                    <a:pt x="23" y="627"/>
                  </a:lnTo>
                  <a:lnTo>
                    <a:pt x="21" y="630"/>
                  </a:lnTo>
                  <a:lnTo>
                    <a:pt x="17" y="632"/>
                  </a:lnTo>
                  <a:lnTo>
                    <a:pt x="14" y="633"/>
                  </a:lnTo>
                  <a:lnTo>
                    <a:pt x="12" y="633"/>
                  </a:lnTo>
                  <a:lnTo>
                    <a:pt x="11" y="633"/>
                  </a:lnTo>
                  <a:lnTo>
                    <a:pt x="7" y="632"/>
                  </a:lnTo>
                  <a:lnTo>
                    <a:pt x="4" y="630"/>
                  </a:lnTo>
                  <a:lnTo>
                    <a:pt x="2" y="627"/>
                  </a:lnTo>
                  <a:lnTo>
                    <a:pt x="0" y="626"/>
                  </a:lnTo>
                  <a:lnTo>
                    <a:pt x="0" y="623"/>
                  </a:lnTo>
                  <a:lnTo>
                    <a:pt x="0" y="484"/>
                  </a:lnTo>
                  <a:lnTo>
                    <a:pt x="0" y="483"/>
                  </a:lnTo>
                  <a:lnTo>
                    <a:pt x="2" y="481"/>
                  </a:lnTo>
                  <a:lnTo>
                    <a:pt x="4" y="477"/>
                  </a:lnTo>
                  <a:lnTo>
                    <a:pt x="7" y="475"/>
                  </a:lnTo>
                  <a:lnTo>
                    <a:pt x="11" y="475"/>
                  </a:lnTo>
                  <a:lnTo>
                    <a:pt x="12" y="475"/>
                  </a:lnTo>
                  <a:lnTo>
                    <a:pt x="14" y="475"/>
                  </a:lnTo>
                  <a:lnTo>
                    <a:pt x="17" y="475"/>
                  </a:lnTo>
                  <a:lnTo>
                    <a:pt x="21" y="477"/>
                  </a:lnTo>
                  <a:lnTo>
                    <a:pt x="23" y="481"/>
                  </a:lnTo>
                  <a:lnTo>
                    <a:pt x="24" y="483"/>
                  </a:lnTo>
                  <a:lnTo>
                    <a:pt x="24" y="484"/>
                  </a:lnTo>
                  <a:lnTo>
                    <a:pt x="24" y="484"/>
                  </a:lnTo>
                  <a:close/>
                  <a:moveTo>
                    <a:pt x="24" y="723"/>
                  </a:moveTo>
                  <a:lnTo>
                    <a:pt x="24" y="861"/>
                  </a:lnTo>
                  <a:lnTo>
                    <a:pt x="24" y="863"/>
                  </a:lnTo>
                  <a:lnTo>
                    <a:pt x="23" y="864"/>
                  </a:lnTo>
                  <a:lnTo>
                    <a:pt x="21" y="869"/>
                  </a:lnTo>
                  <a:lnTo>
                    <a:pt x="17" y="870"/>
                  </a:lnTo>
                  <a:lnTo>
                    <a:pt x="14" y="870"/>
                  </a:lnTo>
                  <a:lnTo>
                    <a:pt x="12" y="872"/>
                  </a:lnTo>
                  <a:lnTo>
                    <a:pt x="11" y="870"/>
                  </a:lnTo>
                  <a:lnTo>
                    <a:pt x="7" y="870"/>
                  </a:lnTo>
                  <a:lnTo>
                    <a:pt x="4" y="869"/>
                  </a:lnTo>
                  <a:lnTo>
                    <a:pt x="2" y="864"/>
                  </a:lnTo>
                  <a:lnTo>
                    <a:pt x="0" y="863"/>
                  </a:lnTo>
                  <a:lnTo>
                    <a:pt x="0" y="861"/>
                  </a:lnTo>
                  <a:lnTo>
                    <a:pt x="0" y="723"/>
                  </a:lnTo>
                  <a:lnTo>
                    <a:pt x="0" y="720"/>
                  </a:lnTo>
                  <a:lnTo>
                    <a:pt x="2" y="718"/>
                  </a:lnTo>
                  <a:lnTo>
                    <a:pt x="4" y="715"/>
                  </a:lnTo>
                  <a:lnTo>
                    <a:pt x="7" y="714"/>
                  </a:lnTo>
                  <a:lnTo>
                    <a:pt x="11" y="712"/>
                  </a:lnTo>
                  <a:lnTo>
                    <a:pt x="12" y="712"/>
                  </a:lnTo>
                  <a:lnTo>
                    <a:pt x="14" y="712"/>
                  </a:lnTo>
                  <a:lnTo>
                    <a:pt x="17" y="714"/>
                  </a:lnTo>
                  <a:lnTo>
                    <a:pt x="21" y="715"/>
                  </a:lnTo>
                  <a:lnTo>
                    <a:pt x="23" y="718"/>
                  </a:lnTo>
                  <a:lnTo>
                    <a:pt x="24" y="720"/>
                  </a:lnTo>
                  <a:lnTo>
                    <a:pt x="24" y="723"/>
                  </a:lnTo>
                  <a:lnTo>
                    <a:pt x="24" y="723"/>
                  </a:lnTo>
                  <a:close/>
                  <a:moveTo>
                    <a:pt x="24" y="961"/>
                  </a:moveTo>
                  <a:lnTo>
                    <a:pt x="24" y="1098"/>
                  </a:lnTo>
                  <a:lnTo>
                    <a:pt x="24" y="1101"/>
                  </a:lnTo>
                  <a:lnTo>
                    <a:pt x="23" y="1103"/>
                  </a:lnTo>
                  <a:lnTo>
                    <a:pt x="21" y="1106"/>
                  </a:lnTo>
                  <a:lnTo>
                    <a:pt x="17" y="1107"/>
                  </a:lnTo>
                  <a:lnTo>
                    <a:pt x="14" y="1109"/>
                  </a:lnTo>
                  <a:lnTo>
                    <a:pt x="12" y="1109"/>
                  </a:lnTo>
                  <a:lnTo>
                    <a:pt x="11" y="1109"/>
                  </a:lnTo>
                  <a:lnTo>
                    <a:pt x="7" y="1107"/>
                  </a:lnTo>
                  <a:lnTo>
                    <a:pt x="4" y="1106"/>
                  </a:lnTo>
                  <a:lnTo>
                    <a:pt x="2" y="1103"/>
                  </a:lnTo>
                  <a:lnTo>
                    <a:pt x="0" y="1101"/>
                  </a:lnTo>
                  <a:lnTo>
                    <a:pt x="0" y="1098"/>
                  </a:lnTo>
                  <a:lnTo>
                    <a:pt x="0" y="961"/>
                  </a:lnTo>
                  <a:lnTo>
                    <a:pt x="0" y="958"/>
                  </a:lnTo>
                  <a:lnTo>
                    <a:pt x="2" y="957"/>
                  </a:lnTo>
                  <a:lnTo>
                    <a:pt x="4" y="954"/>
                  </a:lnTo>
                  <a:lnTo>
                    <a:pt x="7" y="951"/>
                  </a:lnTo>
                  <a:lnTo>
                    <a:pt x="11" y="951"/>
                  </a:lnTo>
                  <a:lnTo>
                    <a:pt x="12" y="951"/>
                  </a:lnTo>
                  <a:lnTo>
                    <a:pt x="14" y="951"/>
                  </a:lnTo>
                  <a:lnTo>
                    <a:pt x="17" y="951"/>
                  </a:lnTo>
                  <a:lnTo>
                    <a:pt x="21" y="954"/>
                  </a:lnTo>
                  <a:lnTo>
                    <a:pt x="23" y="957"/>
                  </a:lnTo>
                  <a:lnTo>
                    <a:pt x="24" y="958"/>
                  </a:lnTo>
                  <a:lnTo>
                    <a:pt x="24" y="961"/>
                  </a:lnTo>
                  <a:lnTo>
                    <a:pt x="24" y="961"/>
                  </a:lnTo>
                  <a:close/>
                  <a:moveTo>
                    <a:pt x="24" y="1198"/>
                  </a:moveTo>
                  <a:lnTo>
                    <a:pt x="24" y="1337"/>
                  </a:lnTo>
                  <a:lnTo>
                    <a:pt x="24" y="1338"/>
                  </a:lnTo>
                  <a:lnTo>
                    <a:pt x="23" y="1340"/>
                  </a:lnTo>
                  <a:lnTo>
                    <a:pt x="21" y="1344"/>
                  </a:lnTo>
                  <a:lnTo>
                    <a:pt x="17" y="1346"/>
                  </a:lnTo>
                  <a:lnTo>
                    <a:pt x="14" y="1346"/>
                  </a:lnTo>
                  <a:lnTo>
                    <a:pt x="12" y="1347"/>
                  </a:lnTo>
                  <a:lnTo>
                    <a:pt x="11" y="1346"/>
                  </a:lnTo>
                  <a:lnTo>
                    <a:pt x="7" y="1346"/>
                  </a:lnTo>
                  <a:lnTo>
                    <a:pt x="4" y="1344"/>
                  </a:lnTo>
                  <a:lnTo>
                    <a:pt x="2" y="1340"/>
                  </a:lnTo>
                  <a:lnTo>
                    <a:pt x="0" y="1338"/>
                  </a:lnTo>
                  <a:lnTo>
                    <a:pt x="0" y="1337"/>
                  </a:lnTo>
                  <a:lnTo>
                    <a:pt x="0" y="1198"/>
                  </a:lnTo>
                  <a:lnTo>
                    <a:pt x="0" y="1196"/>
                  </a:lnTo>
                  <a:lnTo>
                    <a:pt x="2" y="1193"/>
                  </a:lnTo>
                  <a:lnTo>
                    <a:pt x="4" y="1191"/>
                  </a:lnTo>
                  <a:lnTo>
                    <a:pt x="7" y="1189"/>
                  </a:lnTo>
                  <a:lnTo>
                    <a:pt x="11" y="1188"/>
                  </a:lnTo>
                  <a:lnTo>
                    <a:pt x="12" y="1188"/>
                  </a:lnTo>
                  <a:lnTo>
                    <a:pt x="14" y="1188"/>
                  </a:lnTo>
                  <a:lnTo>
                    <a:pt x="17" y="1189"/>
                  </a:lnTo>
                  <a:lnTo>
                    <a:pt x="21" y="1191"/>
                  </a:lnTo>
                  <a:lnTo>
                    <a:pt x="23" y="1193"/>
                  </a:lnTo>
                  <a:lnTo>
                    <a:pt x="24" y="1196"/>
                  </a:lnTo>
                  <a:lnTo>
                    <a:pt x="24" y="1198"/>
                  </a:lnTo>
                  <a:lnTo>
                    <a:pt x="24" y="119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43800" y="4013280"/>
              <a:ext cx="1471680" cy="14040"/>
            </a:xfrm>
            <a:custGeom>
              <a:avLst/>
              <a:gdLst/>
              <a:ahLst/>
              <a:rect l="l" t="t" r="r" b="b"/>
              <a:pathLst>
                <a:path w="1853" h="19">
                  <a:moveTo>
                    <a:pt x="1841" y="19"/>
                  </a:moveTo>
                  <a:lnTo>
                    <a:pt x="1679" y="19"/>
                  </a:lnTo>
                  <a:lnTo>
                    <a:pt x="1677" y="19"/>
                  </a:lnTo>
                  <a:lnTo>
                    <a:pt x="1674" y="18"/>
                  </a:lnTo>
                  <a:lnTo>
                    <a:pt x="1670" y="16"/>
                  </a:lnTo>
                  <a:lnTo>
                    <a:pt x="1669" y="13"/>
                  </a:lnTo>
                  <a:lnTo>
                    <a:pt x="1667" y="12"/>
                  </a:lnTo>
                  <a:lnTo>
                    <a:pt x="1667" y="9"/>
                  </a:lnTo>
                  <a:lnTo>
                    <a:pt x="1667" y="7"/>
                  </a:lnTo>
                  <a:lnTo>
                    <a:pt x="1669" y="6"/>
                  </a:lnTo>
                  <a:lnTo>
                    <a:pt x="1670" y="2"/>
                  </a:lnTo>
                  <a:lnTo>
                    <a:pt x="1674" y="0"/>
                  </a:lnTo>
                  <a:lnTo>
                    <a:pt x="1677" y="0"/>
                  </a:lnTo>
                  <a:lnTo>
                    <a:pt x="1679" y="0"/>
                  </a:lnTo>
                  <a:lnTo>
                    <a:pt x="1841" y="0"/>
                  </a:lnTo>
                  <a:lnTo>
                    <a:pt x="1843" y="0"/>
                  </a:lnTo>
                  <a:lnTo>
                    <a:pt x="1846" y="0"/>
                  </a:lnTo>
                  <a:lnTo>
                    <a:pt x="1850" y="2"/>
                  </a:lnTo>
                  <a:lnTo>
                    <a:pt x="1852" y="6"/>
                  </a:lnTo>
                  <a:lnTo>
                    <a:pt x="1853" y="7"/>
                  </a:lnTo>
                  <a:lnTo>
                    <a:pt x="1853" y="9"/>
                  </a:lnTo>
                  <a:lnTo>
                    <a:pt x="1853" y="12"/>
                  </a:lnTo>
                  <a:lnTo>
                    <a:pt x="1852" y="13"/>
                  </a:lnTo>
                  <a:lnTo>
                    <a:pt x="1850" y="16"/>
                  </a:lnTo>
                  <a:lnTo>
                    <a:pt x="1846" y="18"/>
                  </a:lnTo>
                  <a:lnTo>
                    <a:pt x="1843" y="19"/>
                  </a:lnTo>
                  <a:lnTo>
                    <a:pt x="1841" y="19"/>
                  </a:lnTo>
                  <a:lnTo>
                    <a:pt x="1841" y="19"/>
                  </a:lnTo>
                  <a:close/>
                  <a:moveTo>
                    <a:pt x="1563" y="19"/>
                  </a:moveTo>
                  <a:lnTo>
                    <a:pt x="1402" y="19"/>
                  </a:lnTo>
                  <a:lnTo>
                    <a:pt x="1398" y="19"/>
                  </a:lnTo>
                  <a:lnTo>
                    <a:pt x="1397" y="18"/>
                  </a:lnTo>
                  <a:lnTo>
                    <a:pt x="1393" y="16"/>
                  </a:lnTo>
                  <a:lnTo>
                    <a:pt x="1390" y="13"/>
                  </a:lnTo>
                  <a:lnTo>
                    <a:pt x="1390" y="12"/>
                  </a:lnTo>
                  <a:lnTo>
                    <a:pt x="1390" y="9"/>
                  </a:lnTo>
                  <a:lnTo>
                    <a:pt x="1390" y="7"/>
                  </a:lnTo>
                  <a:lnTo>
                    <a:pt x="1390" y="6"/>
                  </a:lnTo>
                  <a:lnTo>
                    <a:pt x="1393" y="2"/>
                  </a:lnTo>
                  <a:lnTo>
                    <a:pt x="1397" y="0"/>
                  </a:lnTo>
                  <a:lnTo>
                    <a:pt x="1398" y="0"/>
                  </a:lnTo>
                  <a:lnTo>
                    <a:pt x="1402" y="0"/>
                  </a:lnTo>
                  <a:lnTo>
                    <a:pt x="1563" y="0"/>
                  </a:lnTo>
                  <a:lnTo>
                    <a:pt x="1566" y="0"/>
                  </a:lnTo>
                  <a:lnTo>
                    <a:pt x="1568" y="0"/>
                  </a:lnTo>
                  <a:lnTo>
                    <a:pt x="1571" y="2"/>
                  </a:lnTo>
                  <a:lnTo>
                    <a:pt x="1573" y="6"/>
                  </a:lnTo>
                  <a:lnTo>
                    <a:pt x="1575" y="7"/>
                  </a:lnTo>
                  <a:lnTo>
                    <a:pt x="1575" y="9"/>
                  </a:lnTo>
                  <a:lnTo>
                    <a:pt x="1575" y="12"/>
                  </a:lnTo>
                  <a:lnTo>
                    <a:pt x="1573" y="13"/>
                  </a:lnTo>
                  <a:lnTo>
                    <a:pt x="1571" y="16"/>
                  </a:lnTo>
                  <a:lnTo>
                    <a:pt x="1568" y="18"/>
                  </a:lnTo>
                  <a:lnTo>
                    <a:pt x="1566" y="19"/>
                  </a:lnTo>
                  <a:lnTo>
                    <a:pt x="1563" y="19"/>
                  </a:lnTo>
                  <a:lnTo>
                    <a:pt x="1563" y="19"/>
                  </a:lnTo>
                  <a:close/>
                  <a:moveTo>
                    <a:pt x="1286" y="19"/>
                  </a:moveTo>
                  <a:lnTo>
                    <a:pt x="1123" y="19"/>
                  </a:lnTo>
                  <a:lnTo>
                    <a:pt x="1121" y="19"/>
                  </a:lnTo>
                  <a:lnTo>
                    <a:pt x="1118" y="18"/>
                  </a:lnTo>
                  <a:lnTo>
                    <a:pt x="1115" y="16"/>
                  </a:lnTo>
                  <a:lnTo>
                    <a:pt x="1113" y="13"/>
                  </a:lnTo>
                  <a:lnTo>
                    <a:pt x="1111" y="12"/>
                  </a:lnTo>
                  <a:lnTo>
                    <a:pt x="1111" y="9"/>
                  </a:lnTo>
                  <a:lnTo>
                    <a:pt x="1111" y="7"/>
                  </a:lnTo>
                  <a:lnTo>
                    <a:pt x="1113" y="6"/>
                  </a:lnTo>
                  <a:lnTo>
                    <a:pt x="1115" y="2"/>
                  </a:lnTo>
                  <a:lnTo>
                    <a:pt x="1118" y="0"/>
                  </a:lnTo>
                  <a:lnTo>
                    <a:pt x="1121" y="0"/>
                  </a:lnTo>
                  <a:lnTo>
                    <a:pt x="1123" y="0"/>
                  </a:lnTo>
                  <a:lnTo>
                    <a:pt x="1286" y="0"/>
                  </a:lnTo>
                  <a:lnTo>
                    <a:pt x="1287" y="0"/>
                  </a:lnTo>
                  <a:lnTo>
                    <a:pt x="1289" y="0"/>
                  </a:lnTo>
                  <a:lnTo>
                    <a:pt x="1294" y="2"/>
                  </a:lnTo>
                  <a:lnTo>
                    <a:pt x="1296" y="6"/>
                  </a:lnTo>
                  <a:lnTo>
                    <a:pt x="1296" y="7"/>
                  </a:lnTo>
                  <a:lnTo>
                    <a:pt x="1298" y="9"/>
                  </a:lnTo>
                  <a:lnTo>
                    <a:pt x="1296" y="12"/>
                  </a:lnTo>
                  <a:lnTo>
                    <a:pt x="1296" y="13"/>
                  </a:lnTo>
                  <a:lnTo>
                    <a:pt x="1294" y="16"/>
                  </a:lnTo>
                  <a:lnTo>
                    <a:pt x="1289" y="18"/>
                  </a:lnTo>
                  <a:lnTo>
                    <a:pt x="1287" y="19"/>
                  </a:lnTo>
                  <a:lnTo>
                    <a:pt x="1286" y="19"/>
                  </a:lnTo>
                  <a:lnTo>
                    <a:pt x="1286" y="19"/>
                  </a:lnTo>
                  <a:close/>
                  <a:moveTo>
                    <a:pt x="1007" y="19"/>
                  </a:moveTo>
                  <a:lnTo>
                    <a:pt x="846" y="19"/>
                  </a:lnTo>
                  <a:lnTo>
                    <a:pt x="843" y="19"/>
                  </a:lnTo>
                  <a:lnTo>
                    <a:pt x="841" y="18"/>
                  </a:lnTo>
                  <a:lnTo>
                    <a:pt x="838" y="16"/>
                  </a:lnTo>
                  <a:lnTo>
                    <a:pt x="834" y="13"/>
                  </a:lnTo>
                  <a:lnTo>
                    <a:pt x="834" y="12"/>
                  </a:lnTo>
                  <a:lnTo>
                    <a:pt x="834" y="9"/>
                  </a:lnTo>
                  <a:lnTo>
                    <a:pt x="834" y="7"/>
                  </a:lnTo>
                  <a:lnTo>
                    <a:pt x="834" y="6"/>
                  </a:lnTo>
                  <a:lnTo>
                    <a:pt x="838" y="2"/>
                  </a:lnTo>
                  <a:lnTo>
                    <a:pt x="841" y="0"/>
                  </a:lnTo>
                  <a:lnTo>
                    <a:pt x="843" y="0"/>
                  </a:lnTo>
                  <a:lnTo>
                    <a:pt x="846" y="0"/>
                  </a:lnTo>
                  <a:lnTo>
                    <a:pt x="1007" y="0"/>
                  </a:lnTo>
                  <a:lnTo>
                    <a:pt x="1010" y="0"/>
                  </a:lnTo>
                  <a:lnTo>
                    <a:pt x="1012" y="0"/>
                  </a:lnTo>
                  <a:lnTo>
                    <a:pt x="1015" y="2"/>
                  </a:lnTo>
                  <a:lnTo>
                    <a:pt x="1017" y="6"/>
                  </a:lnTo>
                  <a:lnTo>
                    <a:pt x="1019" y="7"/>
                  </a:lnTo>
                  <a:lnTo>
                    <a:pt x="1019" y="9"/>
                  </a:lnTo>
                  <a:lnTo>
                    <a:pt x="1019" y="12"/>
                  </a:lnTo>
                  <a:lnTo>
                    <a:pt x="1017" y="13"/>
                  </a:lnTo>
                  <a:lnTo>
                    <a:pt x="1015" y="16"/>
                  </a:lnTo>
                  <a:lnTo>
                    <a:pt x="1012" y="18"/>
                  </a:lnTo>
                  <a:lnTo>
                    <a:pt x="1010" y="19"/>
                  </a:lnTo>
                  <a:lnTo>
                    <a:pt x="1007" y="19"/>
                  </a:lnTo>
                  <a:lnTo>
                    <a:pt x="1007" y="19"/>
                  </a:lnTo>
                  <a:close/>
                  <a:moveTo>
                    <a:pt x="730" y="19"/>
                  </a:moveTo>
                  <a:lnTo>
                    <a:pt x="567" y="19"/>
                  </a:lnTo>
                  <a:lnTo>
                    <a:pt x="564" y="19"/>
                  </a:lnTo>
                  <a:lnTo>
                    <a:pt x="562" y="18"/>
                  </a:lnTo>
                  <a:lnTo>
                    <a:pt x="559" y="16"/>
                  </a:lnTo>
                  <a:lnTo>
                    <a:pt x="557" y="13"/>
                  </a:lnTo>
                  <a:lnTo>
                    <a:pt x="555" y="12"/>
                  </a:lnTo>
                  <a:lnTo>
                    <a:pt x="555" y="9"/>
                  </a:lnTo>
                  <a:lnTo>
                    <a:pt x="555" y="7"/>
                  </a:lnTo>
                  <a:lnTo>
                    <a:pt x="557" y="6"/>
                  </a:lnTo>
                  <a:lnTo>
                    <a:pt x="559" y="2"/>
                  </a:lnTo>
                  <a:lnTo>
                    <a:pt x="562" y="0"/>
                  </a:lnTo>
                  <a:lnTo>
                    <a:pt x="564" y="0"/>
                  </a:lnTo>
                  <a:lnTo>
                    <a:pt x="567" y="0"/>
                  </a:lnTo>
                  <a:lnTo>
                    <a:pt x="730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8" y="2"/>
                  </a:lnTo>
                  <a:lnTo>
                    <a:pt x="740" y="6"/>
                  </a:lnTo>
                  <a:lnTo>
                    <a:pt x="740" y="7"/>
                  </a:lnTo>
                  <a:lnTo>
                    <a:pt x="742" y="9"/>
                  </a:lnTo>
                  <a:lnTo>
                    <a:pt x="740" y="12"/>
                  </a:lnTo>
                  <a:lnTo>
                    <a:pt x="740" y="13"/>
                  </a:lnTo>
                  <a:lnTo>
                    <a:pt x="738" y="16"/>
                  </a:lnTo>
                  <a:lnTo>
                    <a:pt x="733" y="18"/>
                  </a:lnTo>
                  <a:lnTo>
                    <a:pt x="732" y="19"/>
                  </a:lnTo>
                  <a:lnTo>
                    <a:pt x="730" y="19"/>
                  </a:lnTo>
                  <a:lnTo>
                    <a:pt x="730" y="19"/>
                  </a:lnTo>
                  <a:close/>
                  <a:moveTo>
                    <a:pt x="451" y="19"/>
                  </a:moveTo>
                  <a:lnTo>
                    <a:pt x="289" y="19"/>
                  </a:lnTo>
                  <a:lnTo>
                    <a:pt x="287" y="19"/>
                  </a:lnTo>
                  <a:lnTo>
                    <a:pt x="285" y="18"/>
                  </a:lnTo>
                  <a:lnTo>
                    <a:pt x="280" y="16"/>
                  </a:lnTo>
                  <a:lnTo>
                    <a:pt x="278" y="13"/>
                  </a:lnTo>
                  <a:lnTo>
                    <a:pt x="278" y="12"/>
                  </a:lnTo>
                  <a:lnTo>
                    <a:pt x="278" y="9"/>
                  </a:lnTo>
                  <a:lnTo>
                    <a:pt x="278" y="7"/>
                  </a:lnTo>
                  <a:lnTo>
                    <a:pt x="278" y="6"/>
                  </a:lnTo>
                  <a:lnTo>
                    <a:pt x="280" y="2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89" y="0"/>
                  </a:lnTo>
                  <a:lnTo>
                    <a:pt x="451" y="0"/>
                  </a:lnTo>
                  <a:lnTo>
                    <a:pt x="453" y="0"/>
                  </a:lnTo>
                  <a:lnTo>
                    <a:pt x="456" y="0"/>
                  </a:lnTo>
                  <a:lnTo>
                    <a:pt x="460" y="2"/>
                  </a:lnTo>
                  <a:lnTo>
                    <a:pt x="461" y="6"/>
                  </a:lnTo>
                  <a:lnTo>
                    <a:pt x="463" y="7"/>
                  </a:lnTo>
                  <a:lnTo>
                    <a:pt x="463" y="9"/>
                  </a:lnTo>
                  <a:lnTo>
                    <a:pt x="463" y="12"/>
                  </a:lnTo>
                  <a:lnTo>
                    <a:pt x="461" y="13"/>
                  </a:lnTo>
                  <a:lnTo>
                    <a:pt x="460" y="16"/>
                  </a:lnTo>
                  <a:lnTo>
                    <a:pt x="456" y="18"/>
                  </a:lnTo>
                  <a:lnTo>
                    <a:pt x="453" y="19"/>
                  </a:lnTo>
                  <a:lnTo>
                    <a:pt x="451" y="19"/>
                  </a:lnTo>
                  <a:lnTo>
                    <a:pt x="451" y="19"/>
                  </a:lnTo>
                  <a:close/>
                  <a:moveTo>
                    <a:pt x="174" y="19"/>
                  </a:moveTo>
                  <a:lnTo>
                    <a:pt x="12" y="19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3" y="16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8" y="0"/>
                  </a:lnTo>
                  <a:lnTo>
                    <a:pt x="181" y="2"/>
                  </a:lnTo>
                  <a:lnTo>
                    <a:pt x="184" y="6"/>
                  </a:lnTo>
                  <a:lnTo>
                    <a:pt x="184" y="7"/>
                  </a:lnTo>
                  <a:lnTo>
                    <a:pt x="184" y="9"/>
                  </a:lnTo>
                  <a:lnTo>
                    <a:pt x="184" y="12"/>
                  </a:lnTo>
                  <a:lnTo>
                    <a:pt x="184" y="13"/>
                  </a:lnTo>
                  <a:lnTo>
                    <a:pt x="181" y="16"/>
                  </a:lnTo>
                  <a:lnTo>
                    <a:pt x="178" y="18"/>
                  </a:lnTo>
                  <a:lnTo>
                    <a:pt x="176" y="19"/>
                  </a:lnTo>
                  <a:lnTo>
                    <a:pt x="174" y="19"/>
                  </a:lnTo>
                  <a:lnTo>
                    <a:pt x="174" y="1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30840" y="33336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75200" y="3432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29400" y="38052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71600" y="3903840"/>
              <a:ext cx="17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3399"/>
                  </a:solidFill>
                  <a:latin typeface="Times New Roman"/>
                </a:rPr>
                <a:t>jo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43240" y="5103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6720" y="5103720"/>
              <a:ext cx="386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dan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13680" y="4670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56240" y="47689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97640" y="4670280"/>
              <a:ext cx="206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=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44960" y="47689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84920" y="467028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333399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37440" y="4565520"/>
              <a:ext cx="71280" cy="115920"/>
            </a:xfrm>
            <a:custGeom>
              <a:avLst/>
              <a:gdLst/>
              <a:ahLst/>
              <a:rect l="l" t="t" r="r" b="b"/>
              <a:pathLst>
                <a:path w="89" h="146">
                  <a:moveTo>
                    <a:pt x="22" y="6"/>
                  </a:moveTo>
                  <a:lnTo>
                    <a:pt x="87" y="133"/>
                  </a:lnTo>
                  <a:lnTo>
                    <a:pt x="89" y="135"/>
                  </a:lnTo>
                  <a:lnTo>
                    <a:pt x="89" y="136"/>
                  </a:lnTo>
                  <a:lnTo>
                    <a:pt x="87" y="141"/>
                  </a:lnTo>
                  <a:lnTo>
                    <a:pt x="85" y="144"/>
                  </a:lnTo>
                  <a:lnTo>
                    <a:pt x="82" y="146"/>
                  </a:lnTo>
                  <a:lnTo>
                    <a:pt x="78" y="146"/>
                  </a:lnTo>
                  <a:lnTo>
                    <a:pt x="77" y="146"/>
                  </a:lnTo>
                  <a:lnTo>
                    <a:pt x="75" y="146"/>
                  </a:lnTo>
                  <a:lnTo>
                    <a:pt x="72" y="146"/>
                  </a:lnTo>
                  <a:lnTo>
                    <a:pt x="68" y="144"/>
                  </a:lnTo>
                  <a:lnTo>
                    <a:pt x="66" y="141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3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ODREĐIVANJE OPTIMALNE VELIČINE I BROJA SERIJA U PROCESU PROIZVODNJ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Serijska proizvodnj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svi proizvodi u seriji su isti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proizvodnja serije je neprekidna, kad se završi jedna serija na istim sredstvima za rad počinje proizvodnja nekog drugog proizvod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proizvedena količina se skladišti i postepeno troši, a kada se potroši ili nešto ranije, počinje izrada druge seri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63440" y="-360"/>
            <a:ext cx="62802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DREĐIVANJE OPTIMALNE VELIČINE I BROJA SERIJA U PROCESU PROIZVODNJ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26920" y="2205000"/>
            <a:ext cx="7632720" cy="3889440"/>
            <a:chOff x="826920" y="2205000"/>
            <a:chExt cx="7632720" cy="3889440"/>
          </a:xfrm>
        </p:grpSpPr>
        <p:sp>
          <p:nvSpPr>
            <p:cNvPr id="216" name=""/>
            <p:cNvSpPr/>
            <p:nvPr/>
          </p:nvSpPr>
          <p:spPr>
            <a:xfrm>
              <a:off x="826920" y="2478240"/>
              <a:ext cx="2232000" cy="14997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333399"/>
                  </a:solidFill>
                  <a:latin typeface="Tahoma"/>
                </a:rPr>
                <a:t>Prodajna mogućnost proizvođač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6920" y="4319640"/>
              <a:ext cx="2232000" cy="14994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333399"/>
                  </a:solidFill>
                  <a:latin typeface="Tahoma"/>
                </a:rPr>
                <a:t>Vrsta sredstava za rad (način proizvodnje, troškov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06920" y="3364200"/>
              <a:ext cx="1873080" cy="165024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333399"/>
                  </a:solidFill>
                  <a:latin typeface="Tahoma"/>
                </a:rPr>
                <a:t>VELIČINA SERI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333399"/>
                  </a:solidFill>
                  <a:latin typeface="Tahoma"/>
                </a:rPr>
                <a:t>BROJ SERI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7640" y="4319640"/>
              <a:ext cx="2232000" cy="150084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333399"/>
                  </a:solidFill>
                  <a:latin typeface="Tahoma"/>
                </a:rPr>
                <a:t>Vrsta proizvo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27640" y="2478240"/>
              <a:ext cx="2232000" cy="14997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333399"/>
                  </a:solidFill>
                  <a:latin typeface="Tahoma"/>
                </a:rPr>
                <a:t>Način skladištenja (troškovi skladištenj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80360" y="2205000"/>
              <a:ext cx="0" cy="272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34920" y="2205000"/>
              <a:ext cx="0" cy="272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34920" y="2205000"/>
              <a:ext cx="55454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34920" y="3979440"/>
              <a:ext cx="0" cy="339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80360" y="3979440"/>
              <a:ext cx="0" cy="339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4920" y="5820840"/>
              <a:ext cx="0" cy="2732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80360" y="5820840"/>
              <a:ext cx="0" cy="272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34920" y="6094440"/>
              <a:ext cx="55454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58920" y="3638160"/>
              <a:ext cx="64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80000" y="3638160"/>
              <a:ext cx="647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80000" y="4730040"/>
              <a:ext cx="647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58920" y="4660920"/>
              <a:ext cx="64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332000" y="126828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Činioci koji određuju veličinu i broj se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39640" y="2017440"/>
            <a:ext cx="84153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Troškovi pripreme serija –TR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izrada konstrukcione i tehnološke dokumentacij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izrada ili priprema alata i pribor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priprema sredstava za rad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priprema radnika, 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Troškovi skladištenja proizvoda – TR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amata na obrtna sredstva angažovana u zalihama gotovih proizvod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var i lom na zaliham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troškovi osiguranja proizvoda na zaliham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troškovi manipulacije sa proizvodom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troškovi skladištenja i održavanja proizvoda na skladištu 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042720" y="0"/>
            <a:ext cx="6100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DREĐIVANJE OPTIMALNE VELIČINE I BROJA SERIJA U PROCESU PROIZVODNJ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1474560" y="1197000"/>
            <a:ext cx="67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TROŠKOVI SERIJSKE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ODREĐIVANJE OPTIMALNE VELIČINE I BROJA SERIJA U PROCESU PROIZVODNJ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T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dan]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- veličina vremenskog intervala, najčešće jedna godin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7120" indent="-35712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Q [kom]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- optimalni program proizvodnje proizvoda P za posmatrani interval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7120" indent="-35712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n [1]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- broj serija koje će se proizvoditi u vremenskom intervalu 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7120" indent="-35712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t [dan]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- vreme proizvodnje jedne serij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7120" indent="-35712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q [kom]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- veličina serij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7120" indent="-35712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trs [nj/kom.dan]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-  troškovi skladištenja jedinice proizvoda u jednom danu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7120" indent="-35712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trp [nj]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-  troškovi pripreme jedne serij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24000" y="4292640"/>
            <a:ext cx="6291000" cy="2277720"/>
            <a:chOff x="324000" y="4292640"/>
            <a:chExt cx="6291000" cy="2277720"/>
          </a:xfrm>
        </p:grpSpPr>
        <p:sp>
          <p:nvSpPr>
            <p:cNvPr id="240" name=""/>
            <p:cNvSpPr/>
            <p:nvPr/>
          </p:nvSpPr>
          <p:spPr>
            <a:xfrm rot="16200000">
              <a:off x="1053720" y="5722920"/>
              <a:ext cx="33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24000" y="4292640"/>
              <a:ext cx="6291000" cy="2277720"/>
              <a:chOff x="324000" y="4292640"/>
              <a:chExt cx="6291000" cy="2277720"/>
            </a:xfrm>
          </p:grpSpPr>
          <p:sp>
            <p:nvSpPr>
              <p:cNvPr id="242" name=""/>
              <p:cNvSpPr/>
              <p:nvPr/>
            </p:nvSpPr>
            <p:spPr>
              <a:xfrm flipV="1">
                <a:off x="584640" y="4454280"/>
                <a:ext cx="1080" cy="181044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2160" y="4315320"/>
                <a:ext cx="86040" cy="150120"/>
              </a:xfrm>
              <a:custGeom>
                <a:avLst/>
                <a:gdLst/>
                <a:ahLst/>
                <a:rect l="l" t="t" r="r" b="b"/>
                <a:pathLst>
                  <a:path w="115" h="159">
                    <a:moveTo>
                      <a:pt x="0" y="159"/>
                    </a:moveTo>
                    <a:lnTo>
                      <a:pt x="58" y="0"/>
                    </a:lnTo>
                    <a:lnTo>
                      <a:pt x="115" y="15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84640" y="6265440"/>
                <a:ext cx="5721120" cy="216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296760" y="6215760"/>
                <a:ext cx="128160" cy="100800"/>
              </a:xfrm>
              <a:custGeom>
                <a:avLst/>
                <a:gdLst/>
                <a:ahLst/>
                <a:rect l="l" t="t" r="r" b="b"/>
                <a:pathLst>
                  <a:path w="172" h="106">
                    <a:moveTo>
                      <a:pt x="0" y="0"/>
                    </a:moveTo>
                    <a:lnTo>
                      <a:pt x="172" y="53"/>
                    </a:lnTo>
                    <a:lnTo>
                      <a:pt x="0" y="1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78520" y="5281920"/>
                <a:ext cx="5436360" cy="16560"/>
              </a:xfrm>
              <a:custGeom>
                <a:avLst/>
                <a:gdLst/>
                <a:ahLst/>
                <a:rect l="l" t="t" r="r" b="b"/>
                <a:pathLst>
                  <a:path w="7213" h="18">
                    <a:moveTo>
                      <a:pt x="8" y="0"/>
                    </a:moveTo>
                    <a:lnTo>
                      <a:pt x="137" y="0"/>
                    </a:lnTo>
                    <a:lnTo>
                      <a:pt x="138" y="0"/>
                    </a:lnTo>
                    <a:lnTo>
                      <a:pt x="141" y="2"/>
                    </a:lnTo>
                    <a:lnTo>
                      <a:pt x="144" y="3"/>
                    </a:lnTo>
                    <a:lnTo>
                      <a:pt x="145" y="7"/>
                    </a:lnTo>
                    <a:lnTo>
                      <a:pt x="147" y="8"/>
                    </a:lnTo>
                    <a:lnTo>
                      <a:pt x="147" y="9"/>
                    </a:lnTo>
                    <a:lnTo>
                      <a:pt x="147" y="12"/>
                    </a:lnTo>
                    <a:lnTo>
                      <a:pt x="145" y="13"/>
                    </a:lnTo>
                    <a:lnTo>
                      <a:pt x="144" y="16"/>
                    </a:lnTo>
                    <a:lnTo>
                      <a:pt x="141" y="17"/>
                    </a:lnTo>
                    <a:lnTo>
                      <a:pt x="138" y="18"/>
                    </a:lnTo>
                    <a:lnTo>
                      <a:pt x="137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  <a:moveTo>
                      <a:pt x="230" y="0"/>
                    </a:moveTo>
                    <a:lnTo>
                      <a:pt x="359" y="0"/>
                    </a:lnTo>
                    <a:lnTo>
                      <a:pt x="360" y="0"/>
                    </a:lnTo>
                    <a:lnTo>
                      <a:pt x="362" y="2"/>
                    </a:lnTo>
                    <a:lnTo>
                      <a:pt x="365" y="3"/>
                    </a:lnTo>
                    <a:lnTo>
                      <a:pt x="367" y="7"/>
                    </a:lnTo>
                    <a:lnTo>
                      <a:pt x="367" y="8"/>
                    </a:lnTo>
                    <a:lnTo>
                      <a:pt x="369" y="9"/>
                    </a:lnTo>
                    <a:lnTo>
                      <a:pt x="367" y="12"/>
                    </a:lnTo>
                    <a:lnTo>
                      <a:pt x="367" y="13"/>
                    </a:lnTo>
                    <a:lnTo>
                      <a:pt x="365" y="16"/>
                    </a:lnTo>
                    <a:lnTo>
                      <a:pt x="362" y="17"/>
                    </a:lnTo>
                    <a:lnTo>
                      <a:pt x="360" y="18"/>
                    </a:lnTo>
                    <a:lnTo>
                      <a:pt x="359" y="18"/>
                    </a:lnTo>
                    <a:lnTo>
                      <a:pt x="230" y="18"/>
                    </a:lnTo>
                    <a:lnTo>
                      <a:pt x="227" y="18"/>
                    </a:lnTo>
                    <a:lnTo>
                      <a:pt x="226" y="17"/>
                    </a:lnTo>
                    <a:lnTo>
                      <a:pt x="223" y="16"/>
                    </a:lnTo>
                    <a:lnTo>
                      <a:pt x="222" y="13"/>
                    </a:lnTo>
                    <a:lnTo>
                      <a:pt x="220" y="12"/>
                    </a:lnTo>
                    <a:lnTo>
                      <a:pt x="220" y="9"/>
                    </a:lnTo>
                    <a:lnTo>
                      <a:pt x="220" y="8"/>
                    </a:lnTo>
                    <a:lnTo>
                      <a:pt x="222" y="7"/>
                    </a:lnTo>
                    <a:lnTo>
                      <a:pt x="223" y="3"/>
                    </a:lnTo>
                    <a:lnTo>
                      <a:pt x="226" y="2"/>
                    </a:lnTo>
                    <a:lnTo>
                      <a:pt x="227" y="0"/>
                    </a:lnTo>
                    <a:lnTo>
                      <a:pt x="230" y="0"/>
                    </a:lnTo>
                    <a:lnTo>
                      <a:pt x="230" y="0"/>
                    </a:lnTo>
                    <a:close/>
                    <a:moveTo>
                      <a:pt x="450" y="0"/>
                    </a:moveTo>
                    <a:lnTo>
                      <a:pt x="580" y="0"/>
                    </a:lnTo>
                    <a:lnTo>
                      <a:pt x="582" y="0"/>
                    </a:lnTo>
                    <a:lnTo>
                      <a:pt x="584" y="2"/>
                    </a:lnTo>
                    <a:lnTo>
                      <a:pt x="587" y="3"/>
                    </a:lnTo>
                    <a:lnTo>
                      <a:pt x="588" y="7"/>
                    </a:lnTo>
                    <a:lnTo>
                      <a:pt x="589" y="8"/>
                    </a:lnTo>
                    <a:lnTo>
                      <a:pt x="589" y="9"/>
                    </a:lnTo>
                    <a:lnTo>
                      <a:pt x="589" y="12"/>
                    </a:lnTo>
                    <a:lnTo>
                      <a:pt x="588" y="13"/>
                    </a:lnTo>
                    <a:lnTo>
                      <a:pt x="587" y="16"/>
                    </a:lnTo>
                    <a:lnTo>
                      <a:pt x="584" y="17"/>
                    </a:lnTo>
                    <a:lnTo>
                      <a:pt x="582" y="18"/>
                    </a:lnTo>
                    <a:lnTo>
                      <a:pt x="580" y="18"/>
                    </a:lnTo>
                    <a:lnTo>
                      <a:pt x="450" y="18"/>
                    </a:lnTo>
                    <a:lnTo>
                      <a:pt x="449" y="18"/>
                    </a:lnTo>
                    <a:lnTo>
                      <a:pt x="448" y="17"/>
                    </a:lnTo>
                    <a:lnTo>
                      <a:pt x="444" y="16"/>
                    </a:lnTo>
                    <a:lnTo>
                      <a:pt x="442" y="13"/>
                    </a:lnTo>
                    <a:lnTo>
                      <a:pt x="442" y="12"/>
                    </a:lnTo>
                    <a:lnTo>
                      <a:pt x="442" y="9"/>
                    </a:lnTo>
                    <a:lnTo>
                      <a:pt x="442" y="8"/>
                    </a:lnTo>
                    <a:lnTo>
                      <a:pt x="442" y="7"/>
                    </a:lnTo>
                    <a:lnTo>
                      <a:pt x="444" y="3"/>
                    </a:lnTo>
                    <a:lnTo>
                      <a:pt x="448" y="2"/>
                    </a:lnTo>
                    <a:lnTo>
                      <a:pt x="449" y="0"/>
                    </a:lnTo>
                    <a:lnTo>
                      <a:pt x="450" y="0"/>
                    </a:lnTo>
                    <a:lnTo>
                      <a:pt x="450" y="0"/>
                    </a:lnTo>
                    <a:close/>
                    <a:moveTo>
                      <a:pt x="672" y="0"/>
                    </a:moveTo>
                    <a:lnTo>
                      <a:pt x="802" y="0"/>
                    </a:lnTo>
                    <a:lnTo>
                      <a:pt x="803" y="0"/>
                    </a:lnTo>
                    <a:lnTo>
                      <a:pt x="805" y="2"/>
                    </a:lnTo>
                    <a:lnTo>
                      <a:pt x="809" y="3"/>
                    </a:lnTo>
                    <a:lnTo>
                      <a:pt x="810" y="7"/>
                    </a:lnTo>
                    <a:lnTo>
                      <a:pt x="810" y="8"/>
                    </a:lnTo>
                    <a:lnTo>
                      <a:pt x="811" y="9"/>
                    </a:lnTo>
                    <a:lnTo>
                      <a:pt x="810" y="12"/>
                    </a:lnTo>
                    <a:lnTo>
                      <a:pt x="810" y="13"/>
                    </a:lnTo>
                    <a:lnTo>
                      <a:pt x="809" y="16"/>
                    </a:lnTo>
                    <a:lnTo>
                      <a:pt x="805" y="17"/>
                    </a:lnTo>
                    <a:lnTo>
                      <a:pt x="803" y="18"/>
                    </a:lnTo>
                    <a:lnTo>
                      <a:pt x="802" y="18"/>
                    </a:lnTo>
                    <a:lnTo>
                      <a:pt x="672" y="18"/>
                    </a:lnTo>
                    <a:lnTo>
                      <a:pt x="671" y="18"/>
                    </a:lnTo>
                    <a:lnTo>
                      <a:pt x="668" y="17"/>
                    </a:lnTo>
                    <a:lnTo>
                      <a:pt x="666" y="16"/>
                    </a:lnTo>
                    <a:lnTo>
                      <a:pt x="664" y="13"/>
                    </a:lnTo>
                    <a:lnTo>
                      <a:pt x="663" y="12"/>
                    </a:lnTo>
                    <a:lnTo>
                      <a:pt x="663" y="9"/>
                    </a:lnTo>
                    <a:lnTo>
                      <a:pt x="663" y="8"/>
                    </a:lnTo>
                    <a:lnTo>
                      <a:pt x="664" y="7"/>
                    </a:lnTo>
                    <a:lnTo>
                      <a:pt x="666" y="3"/>
                    </a:lnTo>
                    <a:lnTo>
                      <a:pt x="668" y="2"/>
                    </a:lnTo>
                    <a:lnTo>
                      <a:pt x="671" y="0"/>
                    </a:lnTo>
                    <a:lnTo>
                      <a:pt x="672" y="0"/>
                    </a:lnTo>
                    <a:lnTo>
                      <a:pt x="672" y="0"/>
                    </a:lnTo>
                    <a:close/>
                    <a:moveTo>
                      <a:pt x="894" y="0"/>
                    </a:moveTo>
                    <a:lnTo>
                      <a:pt x="1022" y="0"/>
                    </a:lnTo>
                    <a:lnTo>
                      <a:pt x="1025" y="0"/>
                    </a:lnTo>
                    <a:lnTo>
                      <a:pt x="1027" y="2"/>
                    </a:lnTo>
                    <a:lnTo>
                      <a:pt x="1029" y="3"/>
                    </a:lnTo>
                    <a:lnTo>
                      <a:pt x="1031" y="7"/>
                    </a:lnTo>
                    <a:lnTo>
                      <a:pt x="1032" y="8"/>
                    </a:lnTo>
                    <a:lnTo>
                      <a:pt x="1032" y="9"/>
                    </a:lnTo>
                    <a:lnTo>
                      <a:pt x="1032" y="12"/>
                    </a:lnTo>
                    <a:lnTo>
                      <a:pt x="1031" y="13"/>
                    </a:lnTo>
                    <a:lnTo>
                      <a:pt x="1029" y="16"/>
                    </a:lnTo>
                    <a:lnTo>
                      <a:pt x="1027" y="17"/>
                    </a:lnTo>
                    <a:lnTo>
                      <a:pt x="1025" y="18"/>
                    </a:lnTo>
                    <a:lnTo>
                      <a:pt x="1022" y="18"/>
                    </a:lnTo>
                    <a:lnTo>
                      <a:pt x="894" y="18"/>
                    </a:lnTo>
                    <a:lnTo>
                      <a:pt x="892" y="18"/>
                    </a:lnTo>
                    <a:lnTo>
                      <a:pt x="890" y="17"/>
                    </a:lnTo>
                    <a:lnTo>
                      <a:pt x="888" y="16"/>
                    </a:lnTo>
                    <a:lnTo>
                      <a:pt x="885" y="13"/>
                    </a:lnTo>
                    <a:lnTo>
                      <a:pt x="885" y="12"/>
                    </a:lnTo>
                    <a:lnTo>
                      <a:pt x="885" y="9"/>
                    </a:lnTo>
                    <a:lnTo>
                      <a:pt x="885" y="8"/>
                    </a:lnTo>
                    <a:lnTo>
                      <a:pt x="885" y="7"/>
                    </a:lnTo>
                    <a:lnTo>
                      <a:pt x="888" y="3"/>
                    </a:lnTo>
                    <a:lnTo>
                      <a:pt x="890" y="2"/>
                    </a:lnTo>
                    <a:lnTo>
                      <a:pt x="892" y="0"/>
                    </a:lnTo>
                    <a:lnTo>
                      <a:pt x="894" y="0"/>
                    </a:lnTo>
                    <a:lnTo>
                      <a:pt x="894" y="0"/>
                    </a:lnTo>
                    <a:close/>
                    <a:moveTo>
                      <a:pt x="1115" y="0"/>
                    </a:moveTo>
                    <a:lnTo>
                      <a:pt x="1244" y="0"/>
                    </a:lnTo>
                    <a:lnTo>
                      <a:pt x="1246" y="0"/>
                    </a:lnTo>
                    <a:lnTo>
                      <a:pt x="1247" y="2"/>
                    </a:lnTo>
                    <a:lnTo>
                      <a:pt x="1251" y="3"/>
                    </a:lnTo>
                    <a:lnTo>
                      <a:pt x="1253" y="7"/>
                    </a:lnTo>
                    <a:lnTo>
                      <a:pt x="1253" y="8"/>
                    </a:lnTo>
                    <a:lnTo>
                      <a:pt x="1254" y="9"/>
                    </a:lnTo>
                    <a:lnTo>
                      <a:pt x="1253" y="12"/>
                    </a:lnTo>
                    <a:lnTo>
                      <a:pt x="1253" y="13"/>
                    </a:lnTo>
                    <a:lnTo>
                      <a:pt x="1251" y="16"/>
                    </a:lnTo>
                    <a:lnTo>
                      <a:pt x="1247" y="17"/>
                    </a:lnTo>
                    <a:lnTo>
                      <a:pt x="1246" y="18"/>
                    </a:lnTo>
                    <a:lnTo>
                      <a:pt x="1244" y="18"/>
                    </a:lnTo>
                    <a:lnTo>
                      <a:pt x="1115" y="18"/>
                    </a:lnTo>
                    <a:lnTo>
                      <a:pt x="1114" y="18"/>
                    </a:lnTo>
                    <a:lnTo>
                      <a:pt x="1111" y="17"/>
                    </a:lnTo>
                    <a:lnTo>
                      <a:pt x="1108" y="16"/>
                    </a:lnTo>
                    <a:lnTo>
                      <a:pt x="1107" y="13"/>
                    </a:lnTo>
                    <a:lnTo>
                      <a:pt x="1106" y="12"/>
                    </a:lnTo>
                    <a:lnTo>
                      <a:pt x="1106" y="9"/>
                    </a:lnTo>
                    <a:lnTo>
                      <a:pt x="1106" y="8"/>
                    </a:lnTo>
                    <a:lnTo>
                      <a:pt x="1107" y="7"/>
                    </a:lnTo>
                    <a:lnTo>
                      <a:pt x="1108" y="3"/>
                    </a:lnTo>
                    <a:lnTo>
                      <a:pt x="1111" y="2"/>
                    </a:lnTo>
                    <a:lnTo>
                      <a:pt x="1114" y="0"/>
                    </a:lnTo>
                    <a:lnTo>
                      <a:pt x="1115" y="0"/>
                    </a:lnTo>
                    <a:lnTo>
                      <a:pt x="1115" y="0"/>
                    </a:lnTo>
                    <a:close/>
                    <a:moveTo>
                      <a:pt x="1337" y="0"/>
                    </a:moveTo>
                    <a:lnTo>
                      <a:pt x="1466" y="0"/>
                    </a:lnTo>
                    <a:lnTo>
                      <a:pt x="1468" y="0"/>
                    </a:lnTo>
                    <a:lnTo>
                      <a:pt x="1469" y="2"/>
                    </a:lnTo>
                    <a:lnTo>
                      <a:pt x="1472" y="3"/>
                    </a:lnTo>
                    <a:lnTo>
                      <a:pt x="1475" y="7"/>
                    </a:lnTo>
                    <a:lnTo>
                      <a:pt x="1475" y="8"/>
                    </a:lnTo>
                    <a:lnTo>
                      <a:pt x="1475" y="9"/>
                    </a:lnTo>
                    <a:lnTo>
                      <a:pt x="1475" y="12"/>
                    </a:lnTo>
                    <a:lnTo>
                      <a:pt x="1475" y="13"/>
                    </a:lnTo>
                    <a:lnTo>
                      <a:pt x="1472" y="16"/>
                    </a:lnTo>
                    <a:lnTo>
                      <a:pt x="1469" y="17"/>
                    </a:lnTo>
                    <a:lnTo>
                      <a:pt x="1468" y="18"/>
                    </a:lnTo>
                    <a:lnTo>
                      <a:pt x="1466" y="18"/>
                    </a:lnTo>
                    <a:lnTo>
                      <a:pt x="1337" y="18"/>
                    </a:lnTo>
                    <a:lnTo>
                      <a:pt x="1334" y="18"/>
                    </a:lnTo>
                    <a:lnTo>
                      <a:pt x="1333" y="17"/>
                    </a:lnTo>
                    <a:lnTo>
                      <a:pt x="1330" y="16"/>
                    </a:lnTo>
                    <a:lnTo>
                      <a:pt x="1328" y="13"/>
                    </a:lnTo>
                    <a:lnTo>
                      <a:pt x="1328" y="12"/>
                    </a:lnTo>
                    <a:lnTo>
                      <a:pt x="1328" y="9"/>
                    </a:lnTo>
                    <a:lnTo>
                      <a:pt x="1328" y="8"/>
                    </a:lnTo>
                    <a:lnTo>
                      <a:pt x="1328" y="7"/>
                    </a:lnTo>
                    <a:lnTo>
                      <a:pt x="1330" y="3"/>
                    </a:lnTo>
                    <a:lnTo>
                      <a:pt x="1333" y="2"/>
                    </a:lnTo>
                    <a:lnTo>
                      <a:pt x="1334" y="0"/>
                    </a:lnTo>
                    <a:lnTo>
                      <a:pt x="1337" y="0"/>
                    </a:lnTo>
                    <a:lnTo>
                      <a:pt x="1337" y="0"/>
                    </a:lnTo>
                    <a:close/>
                    <a:moveTo>
                      <a:pt x="1558" y="0"/>
                    </a:moveTo>
                    <a:lnTo>
                      <a:pt x="1687" y="0"/>
                    </a:lnTo>
                    <a:lnTo>
                      <a:pt x="1688" y="0"/>
                    </a:lnTo>
                    <a:lnTo>
                      <a:pt x="1691" y="2"/>
                    </a:lnTo>
                    <a:lnTo>
                      <a:pt x="1694" y="3"/>
                    </a:lnTo>
                    <a:lnTo>
                      <a:pt x="1695" y="7"/>
                    </a:lnTo>
                    <a:lnTo>
                      <a:pt x="1697" y="8"/>
                    </a:lnTo>
                    <a:lnTo>
                      <a:pt x="1697" y="9"/>
                    </a:lnTo>
                    <a:lnTo>
                      <a:pt x="1697" y="12"/>
                    </a:lnTo>
                    <a:lnTo>
                      <a:pt x="1695" y="13"/>
                    </a:lnTo>
                    <a:lnTo>
                      <a:pt x="1694" y="16"/>
                    </a:lnTo>
                    <a:lnTo>
                      <a:pt x="1691" y="17"/>
                    </a:lnTo>
                    <a:lnTo>
                      <a:pt x="1688" y="18"/>
                    </a:lnTo>
                    <a:lnTo>
                      <a:pt x="1687" y="18"/>
                    </a:lnTo>
                    <a:lnTo>
                      <a:pt x="1558" y="18"/>
                    </a:lnTo>
                    <a:lnTo>
                      <a:pt x="1556" y="18"/>
                    </a:lnTo>
                    <a:lnTo>
                      <a:pt x="1555" y="17"/>
                    </a:lnTo>
                    <a:lnTo>
                      <a:pt x="1551" y="16"/>
                    </a:lnTo>
                    <a:lnTo>
                      <a:pt x="1550" y="13"/>
                    </a:lnTo>
                    <a:lnTo>
                      <a:pt x="1548" y="12"/>
                    </a:lnTo>
                    <a:lnTo>
                      <a:pt x="1548" y="9"/>
                    </a:lnTo>
                    <a:lnTo>
                      <a:pt x="1548" y="8"/>
                    </a:lnTo>
                    <a:lnTo>
                      <a:pt x="1550" y="7"/>
                    </a:lnTo>
                    <a:lnTo>
                      <a:pt x="1551" y="3"/>
                    </a:lnTo>
                    <a:lnTo>
                      <a:pt x="1555" y="2"/>
                    </a:lnTo>
                    <a:lnTo>
                      <a:pt x="1556" y="0"/>
                    </a:lnTo>
                    <a:lnTo>
                      <a:pt x="1558" y="0"/>
                    </a:lnTo>
                    <a:lnTo>
                      <a:pt x="1558" y="0"/>
                    </a:lnTo>
                    <a:close/>
                    <a:moveTo>
                      <a:pt x="1780" y="0"/>
                    </a:moveTo>
                    <a:lnTo>
                      <a:pt x="1909" y="0"/>
                    </a:lnTo>
                    <a:lnTo>
                      <a:pt x="1911" y="0"/>
                    </a:lnTo>
                    <a:lnTo>
                      <a:pt x="1912" y="2"/>
                    </a:lnTo>
                    <a:lnTo>
                      <a:pt x="1915" y="3"/>
                    </a:lnTo>
                    <a:lnTo>
                      <a:pt x="1917" y="7"/>
                    </a:lnTo>
                    <a:lnTo>
                      <a:pt x="1917" y="8"/>
                    </a:lnTo>
                    <a:lnTo>
                      <a:pt x="1917" y="9"/>
                    </a:lnTo>
                    <a:lnTo>
                      <a:pt x="1917" y="12"/>
                    </a:lnTo>
                    <a:lnTo>
                      <a:pt x="1917" y="13"/>
                    </a:lnTo>
                    <a:lnTo>
                      <a:pt x="1915" y="16"/>
                    </a:lnTo>
                    <a:lnTo>
                      <a:pt x="1912" y="17"/>
                    </a:lnTo>
                    <a:lnTo>
                      <a:pt x="1911" y="18"/>
                    </a:lnTo>
                    <a:lnTo>
                      <a:pt x="1909" y="18"/>
                    </a:lnTo>
                    <a:lnTo>
                      <a:pt x="1780" y="18"/>
                    </a:lnTo>
                    <a:lnTo>
                      <a:pt x="1777" y="18"/>
                    </a:lnTo>
                    <a:lnTo>
                      <a:pt x="1776" y="17"/>
                    </a:lnTo>
                    <a:lnTo>
                      <a:pt x="1773" y="16"/>
                    </a:lnTo>
                    <a:lnTo>
                      <a:pt x="1772" y="13"/>
                    </a:lnTo>
                    <a:lnTo>
                      <a:pt x="1770" y="12"/>
                    </a:lnTo>
                    <a:lnTo>
                      <a:pt x="1770" y="9"/>
                    </a:lnTo>
                    <a:lnTo>
                      <a:pt x="1770" y="8"/>
                    </a:lnTo>
                    <a:lnTo>
                      <a:pt x="1772" y="7"/>
                    </a:lnTo>
                    <a:lnTo>
                      <a:pt x="1773" y="3"/>
                    </a:lnTo>
                    <a:lnTo>
                      <a:pt x="1776" y="2"/>
                    </a:lnTo>
                    <a:lnTo>
                      <a:pt x="1777" y="0"/>
                    </a:lnTo>
                    <a:lnTo>
                      <a:pt x="1780" y="0"/>
                    </a:lnTo>
                    <a:lnTo>
                      <a:pt x="1780" y="0"/>
                    </a:lnTo>
                    <a:close/>
                    <a:moveTo>
                      <a:pt x="2000" y="0"/>
                    </a:moveTo>
                    <a:lnTo>
                      <a:pt x="2130" y="0"/>
                    </a:lnTo>
                    <a:lnTo>
                      <a:pt x="2131" y="0"/>
                    </a:lnTo>
                    <a:lnTo>
                      <a:pt x="2134" y="2"/>
                    </a:lnTo>
                    <a:lnTo>
                      <a:pt x="2137" y="3"/>
                    </a:lnTo>
                    <a:lnTo>
                      <a:pt x="2138" y="7"/>
                    </a:lnTo>
                    <a:lnTo>
                      <a:pt x="2139" y="8"/>
                    </a:lnTo>
                    <a:lnTo>
                      <a:pt x="2139" y="9"/>
                    </a:lnTo>
                    <a:lnTo>
                      <a:pt x="2139" y="12"/>
                    </a:lnTo>
                    <a:lnTo>
                      <a:pt x="2138" y="13"/>
                    </a:lnTo>
                    <a:lnTo>
                      <a:pt x="2137" y="16"/>
                    </a:lnTo>
                    <a:lnTo>
                      <a:pt x="2134" y="17"/>
                    </a:lnTo>
                    <a:lnTo>
                      <a:pt x="2131" y="18"/>
                    </a:lnTo>
                    <a:lnTo>
                      <a:pt x="2130" y="18"/>
                    </a:lnTo>
                    <a:lnTo>
                      <a:pt x="2000" y="18"/>
                    </a:lnTo>
                    <a:lnTo>
                      <a:pt x="1999" y="18"/>
                    </a:lnTo>
                    <a:lnTo>
                      <a:pt x="1998" y="17"/>
                    </a:lnTo>
                    <a:lnTo>
                      <a:pt x="1994" y="16"/>
                    </a:lnTo>
                    <a:lnTo>
                      <a:pt x="1992" y="13"/>
                    </a:lnTo>
                    <a:lnTo>
                      <a:pt x="1992" y="12"/>
                    </a:lnTo>
                    <a:lnTo>
                      <a:pt x="1992" y="9"/>
                    </a:lnTo>
                    <a:lnTo>
                      <a:pt x="1992" y="8"/>
                    </a:lnTo>
                    <a:lnTo>
                      <a:pt x="1992" y="7"/>
                    </a:lnTo>
                    <a:lnTo>
                      <a:pt x="1994" y="3"/>
                    </a:lnTo>
                    <a:lnTo>
                      <a:pt x="1998" y="2"/>
                    </a:lnTo>
                    <a:lnTo>
                      <a:pt x="1999" y="0"/>
                    </a:lnTo>
                    <a:lnTo>
                      <a:pt x="2000" y="0"/>
                    </a:lnTo>
                    <a:lnTo>
                      <a:pt x="2000" y="0"/>
                    </a:lnTo>
                    <a:close/>
                    <a:moveTo>
                      <a:pt x="2222" y="0"/>
                    </a:moveTo>
                    <a:lnTo>
                      <a:pt x="2352" y="0"/>
                    </a:lnTo>
                    <a:lnTo>
                      <a:pt x="2353" y="0"/>
                    </a:lnTo>
                    <a:lnTo>
                      <a:pt x="2355" y="2"/>
                    </a:lnTo>
                    <a:lnTo>
                      <a:pt x="2359" y="3"/>
                    </a:lnTo>
                    <a:lnTo>
                      <a:pt x="2360" y="7"/>
                    </a:lnTo>
                    <a:lnTo>
                      <a:pt x="2360" y="8"/>
                    </a:lnTo>
                    <a:lnTo>
                      <a:pt x="2361" y="9"/>
                    </a:lnTo>
                    <a:lnTo>
                      <a:pt x="2360" y="12"/>
                    </a:lnTo>
                    <a:lnTo>
                      <a:pt x="2360" y="13"/>
                    </a:lnTo>
                    <a:lnTo>
                      <a:pt x="2359" y="16"/>
                    </a:lnTo>
                    <a:lnTo>
                      <a:pt x="2355" y="17"/>
                    </a:lnTo>
                    <a:lnTo>
                      <a:pt x="2353" y="18"/>
                    </a:lnTo>
                    <a:lnTo>
                      <a:pt x="2352" y="18"/>
                    </a:lnTo>
                    <a:lnTo>
                      <a:pt x="2222" y="18"/>
                    </a:lnTo>
                    <a:lnTo>
                      <a:pt x="2220" y="18"/>
                    </a:lnTo>
                    <a:lnTo>
                      <a:pt x="2218" y="17"/>
                    </a:lnTo>
                    <a:lnTo>
                      <a:pt x="2216" y="16"/>
                    </a:lnTo>
                    <a:lnTo>
                      <a:pt x="2214" y="13"/>
                    </a:lnTo>
                    <a:lnTo>
                      <a:pt x="2213" y="12"/>
                    </a:lnTo>
                    <a:lnTo>
                      <a:pt x="2213" y="9"/>
                    </a:lnTo>
                    <a:lnTo>
                      <a:pt x="2213" y="8"/>
                    </a:lnTo>
                    <a:lnTo>
                      <a:pt x="2214" y="7"/>
                    </a:lnTo>
                    <a:lnTo>
                      <a:pt x="2216" y="3"/>
                    </a:lnTo>
                    <a:lnTo>
                      <a:pt x="2218" y="2"/>
                    </a:lnTo>
                    <a:lnTo>
                      <a:pt x="2220" y="0"/>
                    </a:lnTo>
                    <a:lnTo>
                      <a:pt x="2222" y="0"/>
                    </a:lnTo>
                    <a:lnTo>
                      <a:pt x="2222" y="0"/>
                    </a:lnTo>
                    <a:close/>
                    <a:moveTo>
                      <a:pt x="2444" y="0"/>
                    </a:moveTo>
                    <a:lnTo>
                      <a:pt x="2572" y="0"/>
                    </a:lnTo>
                    <a:lnTo>
                      <a:pt x="2575" y="0"/>
                    </a:lnTo>
                    <a:lnTo>
                      <a:pt x="2577" y="2"/>
                    </a:lnTo>
                    <a:lnTo>
                      <a:pt x="2579" y="3"/>
                    </a:lnTo>
                    <a:lnTo>
                      <a:pt x="2581" y="7"/>
                    </a:lnTo>
                    <a:lnTo>
                      <a:pt x="2582" y="8"/>
                    </a:lnTo>
                    <a:lnTo>
                      <a:pt x="2582" y="9"/>
                    </a:lnTo>
                    <a:lnTo>
                      <a:pt x="2582" y="12"/>
                    </a:lnTo>
                    <a:lnTo>
                      <a:pt x="2581" y="13"/>
                    </a:lnTo>
                    <a:lnTo>
                      <a:pt x="2579" y="16"/>
                    </a:lnTo>
                    <a:lnTo>
                      <a:pt x="2577" y="17"/>
                    </a:lnTo>
                    <a:lnTo>
                      <a:pt x="2575" y="18"/>
                    </a:lnTo>
                    <a:lnTo>
                      <a:pt x="2572" y="18"/>
                    </a:lnTo>
                    <a:lnTo>
                      <a:pt x="2444" y="18"/>
                    </a:lnTo>
                    <a:lnTo>
                      <a:pt x="2442" y="18"/>
                    </a:lnTo>
                    <a:lnTo>
                      <a:pt x="2440" y="17"/>
                    </a:lnTo>
                    <a:lnTo>
                      <a:pt x="2438" y="16"/>
                    </a:lnTo>
                    <a:lnTo>
                      <a:pt x="2435" y="13"/>
                    </a:lnTo>
                    <a:lnTo>
                      <a:pt x="2435" y="12"/>
                    </a:lnTo>
                    <a:lnTo>
                      <a:pt x="2435" y="9"/>
                    </a:lnTo>
                    <a:lnTo>
                      <a:pt x="2435" y="8"/>
                    </a:lnTo>
                    <a:lnTo>
                      <a:pt x="2435" y="7"/>
                    </a:lnTo>
                    <a:lnTo>
                      <a:pt x="2438" y="3"/>
                    </a:lnTo>
                    <a:lnTo>
                      <a:pt x="2440" y="2"/>
                    </a:lnTo>
                    <a:lnTo>
                      <a:pt x="2442" y="0"/>
                    </a:lnTo>
                    <a:lnTo>
                      <a:pt x="2444" y="0"/>
                    </a:lnTo>
                    <a:lnTo>
                      <a:pt x="2444" y="0"/>
                    </a:lnTo>
                    <a:close/>
                    <a:moveTo>
                      <a:pt x="2665" y="0"/>
                    </a:moveTo>
                    <a:lnTo>
                      <a:pt x="2794" y="0"/>
                    </a:lnTo>
                    <a:lnTo>
                      <a:pt x="2796" y="0"/>
                    </a:lnTo>
                    <a:lnTo>
                      <a:pt x="2797" y="2"/>
                    </a:lnTo>
                    <a:lnTo>
                      <a:pt x="2801" y="3"/>
                    </a:lnTo>
                    <a:lnTo>
                      <a:pt x="2803" y="7"/>
                    </a:lnTo>
                    <a:lnTo>
                      <a:pt x="2803" y="8"/>
                    </a:lnTo>
                    <a:lnTo>
                      <a:pt x="2804" y="9"/>
                    </a:lnTo>
                    <a:lnTo>
                      <a:pt x="2803" y="12"/>
                    </a:lnTo>
                    <a:lnTo>
                      <a:pt x="2803" y="13"/>
                    </a:lnTo>
                    <a:lnTo>
                      <a:pt x="2801" y="16"/>
                    </a:lnTo>
                    <a:lnTo>
                      <a:pt x="2797" y="17"/>
                    </a:lnTo>
                    <a:lnTo>
                      <a:pt x="2796" y="18"/>
                    </a:lnTo>
                    <a:lnTo>
                      <a:pt x="2794" y="18"/>
                    </a:lnTo>
                    <a:lnTo>
                      <a:pt x="2665" y="18"/>
                    </a:lnTo>
                    <a:lnTo>
                      <a:pt x="2664" y="18"/>
                    </a:lnTo>
                    <a:lnTo>
                      <a:pt x="2661" y="17"/>
                    </a:lnTo>
                    <a:lnTo>
                      <a:pt x="2658" y="16"/>
                    </a:lnTo>
                    <a:lnTo>
                      <a:pt x="2657" y="13"/>
                    </a:lnTo>
                    <a:lnTo>
                      <a:pt x="2656" y="12"/>
                    </a:lnTo>
                    <a:lnTo>
                      <a:pt x="2656" y="9"/>
                    </a:lnTo>
                    <a:lnTo>
                      <a:pt x="2656" y="8"/>
                    </a:lnTo>
                    <a:lnTo>
                      <a:pt x="2657" y="7"/>
                    </a:lnTo>
                    <a:lnTo>
                      <a:pt x="2658" y="3"/>
                    </a:lnTo>
                    <a:lnTo>
                      <a:pt x="2661" y="2"/>
                    </a:lnTo>
                    <a:lnTo>
                      <a:pt x="2664" y="0"/>
                    </a:lnTo>
                    <a:lnTo>
                      <a:pt x="2665" y="0"/>
                    </a:lnTo>
                    <a:lnTo>
                      <a:pt x="2665" y="0"/>
                    </a:lnTo>
                    <a:close/>
                    <a:moveTo>
                      <a:pt x="2887" y="0"/>
                    </a:moveTo>
                    <a:lnTo>
                      <a:pt x="3015" y="0"/>
                    </a:lnTo>
                    <a:lnTo>
                      <a:pt x="3018" y="0"/>
                    </a:lnTo>
                    <a:lnTo>
                      <a:pt x="3019" y="2"/>
                    </a:lnTo>
                    <a:lnTo>
                      <a:pt x="3022" y="3"/>
                    </a:lnTo>
                    <a:lnTo>
                      <a:pt x="3023" y="7"/>
                    </a:lnTo>
                    <a:lnTo>
                      <a:pt x="3025" y="8"/>
                    </a:lnTo>
                    <a:lnTo>
                      <a:pt x="3025" y="9"/>
                    </a:lnTo>
                    <a:lnTo>
                      <a:pt x="3025" y="12"/>
                    </a:lnTo>
                    <a:lnTo>
                      <a:pt x="3023" y="13"/>
                    </a:lnTo>
                    <a:lnTo>
                      <a:pt x="3022" y="16"/>
                    </a:lnTo>
                    <a:lnTo>
                      <a:pt x="3019" y="17"/>
                    </a:lnTo>
                    <a:lnTo>
                      <a:pt x="3018" y="18"/>
                    </a:lnTo>
                    <a:lnTo>
                      <a:pt x="3015" y="18"/>
                    </a:lnTo>
                    <a:lnTo>
                      <a:pt x="2887" y="18"/>
                    </a:lnTo>
                    <a:lnTo>
                      <a:pt x="2884" y="18"/>
                    </a:lnTo>
                    <a:lnTo>
                      <a:pt x="2883" y="17"/>
                    </a:lnTo>
                    <a:lnTo>
                      <a:pt x="2880" y="16"/>
                    </a:lnTo>
                    <a:lnTo>
                      <a:pt x="2878" y="13"/>
                    </a:lnTo>
                    <a:lnTo>
                      <a:pt x="2878" y="12"/>
                    </a:lnTo>
                    <a:lnTo>
                      <a:pt x="2878" y="9"/>
                    </a:lnTo>
                    <a:lnTo>
                      <a:pt x="2878" y="8"/>
                    </a:lnTo>
                    <a:lnTo>
                      <a:pt x="2878" y="7"/>
                    </a:lnTo>
                    <a:lnTo>
                      <a:pt x="2880" y="3"/>
                    </a:lnTo>
                    <a:lnTo>
                      <a:pt x="2883" y="2"/>
                    </a:lnTo>
                    <a:lnTo>
                      <a:pt x="2884" y="0"/>
                    </a:lnTo>
                    <a:lnTo>
                      <a:pt x="2887" y="0"/>
                    </a:lnTo>
                    <a:lnTo>
                      <a:pt x="2887" y="0"/>
                    </a:lnTo>
                    <a:close/>
                    <a:moveTo>
                      <a:pt x="3108" y="0"/>
                    </a:moveTo>
                    <a:lnTo>
                      <a:pt x="3237" y="0"/>
                    </a:lnTo>
                    <a:lnTo>
                      <a:pt x="3239" y="0"/>
                    </a:lnTo>
                    <a:lnTo>
                      <a:pt x="3241" y="2"/>
                    </a:lnTo>
                    <a:lnTo>
                      <a:pt x="3244" y="3"/>
                    </a:lnTo>
                    <a:lnTo>
                      <a:pt x="3245" y="7"/>
                    </a:lnTo>
                    <a:lnTo>
                      <a:pt x="3247" y="8"/>
                    </a:lnTo>
                    <a:lnTo>
                      <a:pt x="3247" y="9"/>
                    </a:lnTo>
                    <a:lnTo>
                      <a:pt x="3247" y="12"/>
                    </a:lnTo>
                    <a:lnTo>
                      <a:pt x="3245" y="13"/>
                    </a:lnTo>
                    <a:lnTo>
                      <a:pt x="3244" y="16"/>
                    </a:lnTo>
                    <a:lnTo>
                      <a:pt x="3241" y="17"/>
                    </a:lnTo>
                    <a:lnTo>
                      <a:pt x="3239" y="18"/>
                    </a:lnTo>
                    <a:lnTo>
                      <a:pt x="3237" y="18"/>
                    </a:lnTo>
                    <a:lnTo>
                      <a:pt x="3108" y="18"/>
                    </a:lnTo>
                    <a:lnTo>
                      <a:pt x="3106" y="18"/>
                    </a:lnTo>
                    <a:lnTo>
                      <a:pt x="3104" y="17"/>
                    </a:lnTo>
                    <a:lnTo>
                      <a:pt x="3101" y="16"/>
                    </a:lnTo>
                    <a:lnTo>
                      <a:pt x="3100" y="13"/>
                    </a:lnTo>
                    <a:lnTo>
                      <a:pt x="3098" y="12"/>
                    </a:lnTo>
                    <a:lnTo>
                      <a:pt x="3098" y="9"/>
                    </a:lnTo>
                    <a:lnTo>
                      <a:pt x="3098" y="8"/>
                    </a:lnTo>
                    <a:lnTo>
                      <a:pt x="3100" y="7"/>
                    </a:lnTo>
                    <a:lnTo>
                      <a:pt x="3101" y="3"/>
                    </a:lnTo>
                    <a:lnTo>
                      <a:pt x="3104" y="2"/>
                    </a:lnTo>
                    <a:lnTo>
                      <a:pt x="3106" y="0"/>
                    </a:lnTo>
                    <a:lnTo>
                      <a:pt x="3108" y="0"/>
                    </a:lnTo>
                    <a:lnTo>
                      <a:pt x="3108" y="0"/>
                    </a:lnTo>
                    <a:close/>
                    <a:moveTo>
                      <a:pt x="3330" y="0"/>
                    </a:moveTo>
                    <a:lnTo>
                      <a:pt x="3459" y="0"/>
                    </a:lnTo>
                    <a:lnTo>
                      <a:pt x="3461" y="0"/>
                    </a:lnTo>
                    <a:lnTo>
                      <a:pt x="3462" y="2"/>
                    </a:lnTo>
                    <a:lnTo>
                      <a:pt x="3465" y="3"/>
                    </a:lnTo>
                    <a:lnTo>
                      <a:pt x="3467" y="7"/>
                    </a:lnTo>
                    <a:lnTo>
                      <a:pt x="3467" y="8"/>
                    </a:lnTo>
                    <a:lnTo>
                      <a:pt x="3467" y="9"/>
                    </a:lnTo>
                    <a:lnTo>
                      <a:pt x="3467" y="12"/>
                    </a:lnTo>
                    <a:lnTo>
                      <a:pt x="3467" y="13"/>
                    </a:lnTo>
                    <a:lnTo>
                      <a:pt x="3465" y="16"/>
                    </a:lnTo>
                    <a:lnTo>
                      <a:pt x="3462" y="17"/>
                    </a:lnTo>
                    <a:lnTo>
                      <a:pt x="3461" y="18"/>
                    </a:lnTo>
                    <a:lnTo>
                      <a:pt x="3459" y="18"/>
                    </a:lnTo>
                    <a:lnTo>
                      <a:pt x="3330" y="18"/>
                    </a:lnTo>
                    <a:lnTo>
                      <a:pt x="3327" y="18"/>
                    </a:lnTo>
                    <a:lnTo>
                      <a:pt x="3326" y="17"/>
                    </a:lnTo>
                    <a:lnTo>
                      <a:pt x="3323" y="16"/>
                    </a:lnTo>
                    <a:lnTo>
                      <a:pt x="3320" y="13"/>
                    </a:lnTo>
                    <a:lnTo>
                      <a:pt x="3320" y="12"/>
                    </a:lnTo>
                    <a:lnTo>
                      <a:pt x="3320" y="9"/>
                    </a:lnTo>
                    <a:lnTo>
                      <a:pt x="3320" y="8"/>
                    </a:lnTo>
                    <a:lnTo>
                      <a:pt x="3320" y="7"/>
                    </a:lnTo>
                    <a:lnTo>
                      <a:pt x="3323" y="3"/>
                    </a:lnTo>
                    <a:lnTo>
                      <a:pt x="3326" y="2"/>
                    </a:lnTo>
                    <a:lnTo>
                      <a:pt x="3327" y="0"/>
                    </a:lnTo>
                    <a:lnTo>
                      <a:pt x="3330" y="0"/>
                    </a:lnTo>
                    <a:lnTo>
                      <a:pt x="3330" y="0"/>
                    </a:lnTo>
                    <a:close/>
                    <a:moveTo>
                      <a:pt x="3550" y="0"/>
                    </a:moveTo>
                    <a:lnTo>
                      <a:pt x="3680" y="0"/>
                    </a:lnTo>
                    <a:lnTo>
                      <a:pt x="3681" y="0"/>
                    </a:lnTo>
                    <a:lnTo>
                      <a:pt x="3684" y="2"/>
                    </a:lnTo>
                    <a:lnTo>
                      <a:pt x="3687" y="3"/>
                    </a:lnTo>
                    <a:lnTo>
                      <a:pt x="3688" y="7"/>
                    </a:lnTo>
                    <a:lnTo>
                      <a:pt x="3689" y="8"/>
                    </a:lnTo>
                    <a:lnTo>
                      <a:pt x="3689" y="9"/>
                    </a:lnTo>
                    <a:lnTo>
                      <a:pt x="3689" y="12"/>
                    </a:lnTo>
                    <a:lnTo>
                      <a:pt x="3688" y="13"/>
                    </a:lnTo>
                    <a:lnTo>
                      <a:pt x="3687" y="16"/>
                    </a:lnTo>
                    <a:lnTo>
                      <a:pt x="3684" y="17"/>
                    </a:lnTo>
                    <a:lnTo>
                      <a:pt x="3681" y="18"/>
                    </a:lnTo>
                    <a:lnTo>
                      <a:pt x="3680" y="18"/>
                    </a:lnTo>
                    <a:lnTo>
                      <a:pt x="3550" y="18"/>
                    </a:lnTo>
                    <a:lnTo>
                      <a:pt x="3549" y="18"/>
                    </a:lnTo>
                    <a:lnTo>
                      <a:pt x="3548" y="17"/>
                    </a:lnTo>
                    <a:lnTo>
                      <a:pt x="3544" y="16"/>
                    </a:lnTo>
                    <a:lnTo>
                      <a:pt x="3542" y="13"/>
                    </a:lnTo>
                    <a:lnTo>
                      <a:pt x="3542" y="12"/>
                    </a:lnTo>
                    <a:lnTo>
                      <a:pt x="3542" y="9"/>
                    </a:lnTo>
                    <a:lnTo>
                      <a:pt x="3542" y="8"/>
                    </a:lnTo>
                    <a:lnTo>
                      <a:pt x="3542" y="7"/>
                    </a:lnTo>
                    <a:lnTo>
                      <a:pt x="3544" y="3"/>
                    </a:lnTo>
                    <a:lnTo>
                      <a:pt x="3548" y="2"/>
                    </a:lnTo>
                    <a:lnTo>
                      <a:pt x="3549" y="0"/>
                    </a:lnTo>
                    <a:lnTo>
                      <a:pt x="3550" y="0"/>
                    </a:lnTo>
                    <a:lnTo>
                      <a:pt x="3550" y="0"/>
                    </a:lnTo>
                    <a:close/>
                    <a:moveTo>
                      <a:pt x="3772" y="0"/>
                    </a:moveTo>
                    <a:lnTo>
                      <a:pt x="3902" y="0"/>
                    </a:lnTo>
                    <a:lnTo>
                      <a:pt x="3903" y="0"/>
                    </a:lnTo>
                    <a:lnTo>
                      <a:pt x="3905" y="2"/>
                    </a:lnTo>
                    <a:lnTo>
                      <a:pt x="3907" y="3"/>
                    </a:lnTo>
                    <a:lnTo>
                      <a:pt x="3910" y="7"/>
                    </a:lnTo>
                    <a:lnTo>
                      <a:pt x="3910" y="8"/>
                    </a:lnTo>
                    <a:lnTo>
                      <a:pt x="3910" y="9"/>
                    </a:lnTo>
                    <a:lnTo>
                      <a:pt x="3910" y="12"/>
                    </a:lnTo>
                    <a:lnTo>
                      <a:pt x="3910" y="13"/>
                    </a:lnTo>
                    <a:lnTo>
                      <a:pt x="3907" y="16"/>
                    </a:lnTo>
                    <a:lnTo>
                      <a:pt x="3905" y="17"/>
                    </a:lnTo>
                    <a:lnTo>
                      <a:pt x="3903" y="18"/>
                    </a:lnTo>
                    <a:lnTo>
                      <a:pt x="3902" y="18"/>
                    </a:lnTo>
                    <a:lnTo>
                      <a:pt x="3772" y="18"/>
                    </a:lnTo>
                    <a:lnTo>
                      <a:pt x="3770" y="18"/>
                    </a:lnTo>
                    <a:lnTo>
                      <a:pt x="3768" y="17"/>
                    </a:lnTo>
                    <a:lnTo>
                      <a:pt x="3766" y="16"/>
                    </a:lnTo>
                    <a:lnTo>
                      <a:pt x="3764" y="13"/>
                    </a:lnTo>
                    <a:lnTo>
                      <a:pt x="3763" y="12"/>
                    </a:lnTo>
                    <a:lnTo>
                      <a:pt x="3763" y="9"/>
                    </a:lnTo>
                    <a:lnTo>
                      <a:pt x="3763" y="8"/>
                    </a:lnTo>
                    <a:lnTo>
                      <a:pt x="3764" y="7"/>
                    </a:lnTo>
                    <a:lnTo>
                      <a:pt x="3766" y="3"/>
                    </a:lnTo>
                    <a:lnTo>
                      <a:pt x="3768" y="2"/>
                    </a:lnTo>
                    <a:lnTo>
                      <a:pt x="3770" y="0"/>
                    </a:lnTo>
                    <a:lnTo>
                      <a:pt x="3772" y="0"/>
                    </a:lnTo>
                    <a:lnTo>
                      <a:pt x="3772" y="0"/>
                    </a:lnTo>
                    <a:close/>
                    <a:moveTo>
                      <a:pt x="3993" y="0"/>
                    </a:moveTo>
                    <a:lnTo>
                      <a:pt x="4123" y="0"/>
                    </a:lnTo>
                    <a:lnTo>
                      <a:pt x="4124" y="0"/>
                    </a:lnTo>
                    <a:lnTo>
                      <a:pt x="4127" y="2"/>
                    </a:lnTo>
                    <a:lnTo>
                      <a:pt x="4129" y="3"/>
                    </a:lnTo>
                    <a:lnTo>
                      <a:pt x="4131" y="7"/>
                    </a:lnTo>
                    <a:lnTo>
                      <a:pt x="4132" y="8"/>
                    </a:lnTo>
                    <a:lnTo>
                      <a:pt x="4132" y="9"/>
                    </a:lnTo>
                    <a:lnTo>
                      <a:pt x="4132" y="12"/>
                    </a:lnTo>
                    <a:lnTo>
                      <a:pt x="4131" y="13"/>
                    </a:lnTo>
                    <a:lnTo>
                      <a:pt x="4129" y="16"/>
                    </a:lnTo>
                    <a:lnTo>
                      <a:pt x="4127" y="17"/>
                    </a:lnTo>
                    <a:lnTo>
                      <a:pt x="4124" y="18"/>
                    </a:lnTo>
                    <a:lnTo>
                      <a:pt x="4123" y="18"/>
                    </a:lnTo>
                    <a:lnTo>
                      <a:pt x="3993" y="18"/>
                    </a:lnTo>
                    <a:lnTo>
                      <a:pt x="3992" y="18"/>
                    </a:lnTo>
                    <a:lnTo>
                      <a:pt x="3990" y="17"/>
                    </a:lnTo>
                    <a:lnTo>
                      <a:pt x="3986" y="16"/>
                    </a:lnTo>
                    <a:lnTo>
                      <a:pt x="3985" y="13"/>
                    </a:lnTo>
                    <a:lnTo>
                      <a:pt x="3985" y="12"/>
                    </a:lnTo>
                    <a:lnTo>
                      <a:pt x="3985" y="9"/>
                    </a:lnTo>
                    <a:lnTo>
                      <a:pt x="3985" y="8"/>
                    </a:lnTo>
                    <a:lnTo>
                      <a:pt x="3985" y="7"/>
                    </a:lnTo>
                    <a:lnTo>
                      <a:pt x="3986" y="3"/>
                    </a:lnTo>
                    <a:lnTo>
                      <a:pt x="3990" y="2"/>
                    </a:lnTo>
                    <a:lnTo>
                      <a:pt x="3992" y="0"/>
                    </a:lnTo>
                    <a:lnTo>
                      <a:pt x="3993" y="0"/>
                    </a:lnTo>
                    <a:lnTo>
                      <a:pt x="3993" y="0"/>
                    </a:lnTo>
                    <a:close/>
                    <a:moveTo>
                      <a:pt x="4215" y="0"/>
                    </a:moveTo>
                    <a:lnTo>
                      <a:pt x="4345" y="0"/>
                    </a:lnTo>
                    <a:lnTo>
                      <a:pt x="4346" y="0"/>
                    </a:lnTo>
                    <a:lnTo>
                      <a:pt x="4347" y="2"/>
                    </a:lnTo>
                    <a:lnTo>
                      <a:pt x="4351" y="3"/>
                    </a:lnTo>
                    <a:lnTo>
                      <a:pt x="4353" y="7"/>
                    </a:lnTo>
                    <a:lnTo>
                      <a:pt x="4353" y="8"/>
                    </a:lnTo>
                    <a:lnTo>
                      <a:pt x="4354" y="9"/>
                    </a:lnTo>
                    <a:lnTo>
                      <a:pt x="4353" y="12"/>
                    </a:lnTo>
                    <a:lnTo>
                      <a:pt x="4353" y="13"/>
                    </a:lnTo>
                    <a:lnTo>
                      <a:pt x="4351" y="16"/>
                    </a:lnTo>
                    <a:lnTo>
                      <a:pt x="4347" y="17"/>
                    </a:lnTo>
                    <a:lnTo>
                      <a:pt x="4346" y="18"/>
                    </a:lnTo>
                    <a:lnTo>
                      <a:pt x="4345" y="18"/>
                    </a:lnTo>
                    <a:lnTo>
                      <a:pt x="4215" y="18"/>
                    </a:lnTo>
                    <a:lnTo>
                      <a:pt x="4212" y="18"/>
                    </a:lnTo>
                    <a:lnTo>
                      <a:pt x="4211" y="17"/>
                    </a:lnTo>
                    <a:lnTo>
                      <a:pt x="4208" y="16"/>
                    </a:lnTo>
                    <a:lnTo>
                      <a:pt x="4207" y="13"/>
                    </a:lnTo>
                    <a:lnTo>
                      <a:pt x="4206" y="12"/>
                    </a:lnTo>
                    <a:lnTo>
                      <a:pt x="4206" y="9"/>
                    </a:lnTo>
                    <a:lnTo>
                      <a:pt x="4206" y="8"/>
                    </a:lnTo>
                    <a:lnTo>
                      <a:pt x="4207" y="7"/>
                    </a:lnTo>
                    <a:lnTo>
                      <a:pt x="4208" y="3"/>
                    </a:lnTo>
                    <a:lnTo>
                      <a:pt x="4211" y="2"/>
                    </a:lnTo>
                    <a:lnTo>
                      <a:pt x="4212" y="0"/>
                    </a:lnTo>
                    <a:lnTo>
                      <a:pt x="4215" y="0"/>
                    </a:lnTo>
                    <a:lnTo>
                      <a:pt x="4215" y="0"/>
                    </a:lnTo>
                    <a:close/>
                    <a:moveTo>
                      <a:pt x="4437" y="0"/>
                    </a:moveTo>
                    <a:lnTo>
                      <a:pt x="4565" y="0"/>
                    </a:lnTo>
                    <a:lnTo>
                      <a:pt x="4568" y="0"/>
                    </a:lnTo>
                    <a:lnTo>
                      <a:pt x="4569" y="2"/>
                    </a:lnTo>
                    <a:lnTo>
                      <a:pt x="4572" y="3"/>
                    </a:lnTo>
                    <a:lnTo>
                      <a:pt x="4573" y="7"/>
                    </a:lnTo>
                    <a:lnTo>
                      <a:pt x="4575" y="8"/>
                    </a:lnTo>
                    <a:lnTo>
                      <a:pt x="4575" y="9"/>
                    </a:lnTo>
                    <a:lnTo>
                      <a:pt x="4575" y="12"/>
                    </a:lnTo>
                    <a:lnTo>
                      <a:pt x="4573" y="13"/>
                    </a:lnTo>
                    <a:lnTo>
                      <a:pt x="4572" y="16"/>
                    </a:lnTo>
                    <a:lnTo>
                      <a:pt x="4569" y="17"/>
                    </a:lnTo>
                    <a:lnTo>
                      <a:pt x="4568" y="18"/>
                    </a:lnTo>
                    <a:lnTo>
                      <a:pt x="4565" y="18"/>
                    </a:lnTo>
                    <a:lnTo>
                      <a:pt x="4437" y="18"/>
                    </a:lnTo>
                    <a:lnTo>
                      <a:pt x="4434" y="18"/>
                    </a:lnTo>
                    <a:lnTo>
                      <a:pt x="4433" y="17"/>
                    </a:lnTo>
                    <a:lnTo>
                      <a:pt x="4430" y="16"/>
                    </a:lnTo>
                    <a:lnTo>
                      <a:pt x="4428" y="13"/>
                    </a:lnTo>
                    <a:lnTo>
                      <a:pt x="4428" y="12"/>
                    </a:lnTo>
                    <a:lnTo>
                      <a:pt x="4428" y="9"/>
                    </a:lnTo>
                    <a:lnTo>
                      <a:pt x="4428" y="8"/>
                    </a:lnTo>
                    <a:lnTo>
                      <a:pt x="4428" y="7"/>
                    </a:lnTo>
                    <a:lnTo>
                      <a:pt x="4430" y="3"/>
                    </a:lnTo>
                    <a:lnTo>
                      <a:pt x="4433" y="2"/>
                    </a:lnTo>
                    <a:lnTo>
                      <a:pt x="4434" y="0"/>
                    </a:lnTo>
                    <a:lnTo>
                      <a:pt x="4437" y="0"/>
                    </a:lnTo>
                    <a:lnTo>
                      <a:pt x="4437" y="0"/>
                    </a:lnTo>
                    <a:close/>
                    <a:moveTo>
                      <a:pt x="4658" y="0"/>
                    </a:moveTo>
                    <a:lnTo>
                      <a:pt x="4787" y="0"/>
                    </a:lnTo>
                    <a:lnTo>
                      <a:pt x="4789" y="0"/>
                    </a:lnTo>
                    <a:lnTo>
                      <a:pt x="4790" y="2"/>
                    </a:lnTo>
                    <a:lnTo>
                      <a:pt x="4794" y="3"/>
                    </a:lnTo>
                    <a:lnTo>
                      <a:pt x="4795" y="7"/>
                    </a:lnTo>
                    <a:lnTo>
                      <a:pt x="4795" y="8"/>
                    </a:lnTo>
                    <a:lnTo>
                      <a:pt x="4797" y="9"/>
                    </a:lnTo>
                    <a:lnTo>
                      <a:pt x="4795" y="12"/>
                    </a:lnTo>
                    <a:lnTo>
                      <a:pt x="4795" y="13"/>
                    </a:lnTo>
                    <a:lnTo>
                      <a:pt x="4794" y="16"/>
                    </a:lnTo>
                    <a:lnTo>
                      <a:pt x="4790" y="17"/>
                    </a:lnTo>
                    <a:lnTo>
                      <a:pt x="4789" y="18"/>
                    </a:lnTo>
                    <a:lnTo>
                      <a:pt x="4787" y="18"/>
                    </a:lnTo>
                    <a:lnTo>
                      <a:pt x="4658" y="18"/>
                    </a:lnTo>
                    <a:lnTo>
                      <a:pt x="4656" y="18"/>
                    </a:lnTo>
                    <a:lnTo>
                      <a:pt x="4654" y="17"/>
                    </a:lnTo>
                    <a:lnTo>
                      <a:pt x="4651" y="16"/>
                    </a:lnTo>
                    <a:lnTo>
                      <a:pt x="4650" y="13"/>
                    </a:lnTo>
                    <a:lnTo>
                      <a:pt x="4648" y="12"/>
                    </a:lnTo>
                    <a:lnTo>
                      <a:pt x="4648" y="9"/>
                    </a:lnTo>
                    <a:lnTo>
                      <a:pt x="4648" y="8"/>
                    </a:lnTo>
                    <a:lnTo>
                      <a:pt x="4650" y="7"/>
                    </a:lnTo>
                    <a:lnTo>
                      <a:pt x="4651" y="3"/>
                    </a:lnTo>
                    <a:lnTo>
                      <a:pt x="4654" y="2"/>
                    </a:lnTo>
                    <a:lnTo>
                      <a:pt x="4656" y="0"/>
                    </a:lnTo>
                    <a:lnTo>
                      <a:pt x="4658" y="0"/>
                    </a:lnTo>
                    <a:lnTo>
                      <a:pt x="4658" y="0"/>
                    </a:lnTo>
                    <a:close/>
                    <a:moveTo>
                      <a:pt x="4880" y="0"/>
                    </a:moveTo>
                    <a:lnTo>
                      <a:pt x="5008" y="0"/>
                    </a:lnTo>
                    <a:lnTo>
                      <a:pt x="5011" y="0"/>
                    </a:lnTo>
                    <a:lnTo>
                      <a:pt x="5012" y="2"/>
                    </a:lnTo>
                    <a:lnTo>
                      <a:pt x="5015" y="3"/>
                    </a:lnTo>
                    <a:lnTo>
                      <a:pt x="5017" y="7"/>
                    </a:lnTo>
                    <a:lnTo>
                      <a:pt x="5017" y="8"/>
                    </a:lnTo>
                    <a:lnTo>
                      <a:pt x="5017" y="9"/>
                    </a:lnTo>
                    <a:lnTo>
                      <a:pt x="5017" y="12"/>
                    </a:lnTo>
                    <a:lnTo>
                      <a:pt x="5017" y="13"/>
                    </a:lnTo>
                    <a:lnTo>
                      <a:pt x="5015" y="16"/>
                    </a:lnTo>
                    <a:lnTo>
                      <a:pt x="5012" y="17"/>
                    </a:lnTo>
                    <a:lnTo>
                      <a:pt x="5011" y="18"/>
                    </a:lnTo>
                    <a:lnTo>
                      <a:pt x="5008" y="18"/>
                    </a:lnTo>
                    <a:lnTo>
                      <a:pt x="4880" y="18"/>
                    </a:lnTo>
                    <a:lnTo>
                      <a:pt x="4877" y="18"/>
                    </a:lnTo>
                    <a:lnTo>
                      <a:pt x="4876" y="17"/>
                    </a:lnTo>
                    <a:lnTo>
                      <a:pt x="4873" y="16"/>
                    </a:lnTo>
                    <a:lnTo>
                      <a:pt x="4870" y="13"/>
                    </a:lnTo>
                    <a:lnTo>
                      <a:pt x="4870" y="12"/>
                    </a:lnTo>
                    <a:lnTo>
                      <a:pt x="4870" y="9"/>
                    </a:lnTo>
                    <a:lnTo>
                      <a:pt x="4870" y="8"/>
                    </a:lnTo>
                    <a:lnTo>
                      <a:pt x="4870" y="7"/>
                    </a:lnTo>
                    <a:lnTo>
                      <a:pt x="4873" y="3"/>
                    </a:lnTo>
                    <a:lnTo>
                      <a:pt x="4876" y="2"/>
                    </a:lnTo>
                    <a:lnTo>
                      <a:pt x="4877" y="0"/>
                    </a:lnTo>
                    <a:lnTo>
                      <a:pt x="4880" y="0"/>
                    </a:lnTo>
                    <a:lnTo>
                      <a:pt x="4880" y="0"/>
                    </a:lnTo>
                    <a:close/>
                    <a:moveTo>
                      <a:pt x="5100" y="0"/>
                    </a:moveTo>
                    <a:lnTo>
                      <a:pt x="5230" y="0"/>
                    </a:lnTo>
                    <a:lnTo>
                      <a:pt x="5231" y="0"/>
                    </a:lnTo>
                    <a:lnTo>
                      <a:pt x="5234" y="2"/>
                    </a:lnTo>
                    <a:lnTo>
                      <a:pt x="5237" y="3"/>
                    </a:lnTo>
                    <a:lnTo>
                      <a:pt x="5238" y="7"/>
                    </a:lnTo>
                    <a:lnTo>
                      <a:pt x="5239" y="8"/>
                    </a:lnTo>
                    <a:lnTo>
                      <a:pt x="5239" y="9"/>
                    </a:lnTo>
                    <a:lnTo>
                      <a:pt x="5239" y="12"/>
                    </a:lnTo>
                    <a:lnTo>
                      <a:pt x="5238" y="13"/>
                    </a:lnTo>
                    <a:lnTo>
                      <a:pt x="5237" y="16"/>
                    </a:lnTo>
                    <a:lnTo>
                      <a:pt x="5234" y="17"/>
                    </a:lnTo>
                    <a:lnTo>
                      <a:pt x="5231" y="18"/>
                    </a:lnTo>
                    <a:lnTo>
                      <a:pt x="5230" y="18"/>
                    </a:lnTo>
                    <a:lnTo>
                      <a:pt x="5100" y="18"/>
                    </a:lnTo>
                    <a:lnTo>
                      <a:pt x="5099" y="18"/>
                    </a:lnTo>
                    <a:lnTo>
                      <a:pt x="5096" y="17"/>
                    </a:lnTo>
                    <a:lnTo>
                      <a:pt x="5094" y="16"/>
                    </a:lnTo>
                    <a:lnTo>
                      <a:pt x="5092" y="13"/>
                    </a:lnTo>
                    <a:lnTo>
                      <a:pt x="5091" y="12"/>
                    </a:lnTo>
                    <a:lnTo>
                      <a:pt x="5091" y="9"/>
                    </a:lnTo>
                    <a:lnTo>
                      <a:pt x="5091" y="8"/>
                    </a:lnTo>
                    <a:lnTo>
                      <a:pt x="5092" y="7"/>
                    </a:lnTo>
                    <a:lnTo>
                      <a:pt x="5094" y="3"/>
                    </a:lnTo>
                    <a:lnTo>
                      <a:pt x="5096" y="2"/>
                    </a:lnTo>
                    <a:lnTo>
                      <a:pt x="5099" y="0"/>
                    </a:lnTo>
                    <a:lnTo>
                      <a:pt x="5100" y="0"/>
                    </a:lnTo>
                    <a:lnTo>
                      <a:pt x="5100" y="0"/>
                    </a:lnTo>
                    <a:close/>
                    <a:moveTo>
                      <a:pt x="5322" y="0"/>
                    </a:moveTo>
                    <a:lnTo>
                      <a:pt x="5452" y="0"/>
                    </a:lnTo>
                    <a:lnTo>
                      <a:pt x="5453" y="0"/>
                    </a:lnTo>
                    <a:lnTo>
                      <a:pt x="5455" y="2"/>
                    </a:lnTo>
                    <a:lnTo>
                      <a:pt x="5457" y="3"/>
                    </a:lnTo>
                    <a:lnTo>
                      <a:pt x="5460" y="7"/>
                    </a:lnTo>
                    <a:lnTo>
                      <a:pt x="5460" y="8"/>
                    </a:lnTo>
                    <a:lnTo>
                      <a:pt x="5460" y="9"/>
                    </a:lnTo>
                    <a:lnTo>
                      <a:pt x="5460" y="12"/>
                    </a:lnTo>
                    <a:lnTo>
                      <a:pt x="5460" y="13"/>
                    </a:lnTo>
                    <a:lnTo>
                      <a:pt x="5457" y="16"/>
                    </a:lnTo>
                    <a:lnTo>
                      <a:pt x="5455" y="17"/>
                    </a:lnTo>
                    <a:lnTo>
                      <a:pt x="5453" y="18"/>
                    </a:lnTo>
                    <a:lnTo>
                      <a:pt x="5452" y="18"/>
                    </a:lnTo>
                    <a:lnTo>
                      <a:pt x="5322" y="18"/>
                    </a:lnTo>
                    <a:lnTo>
                      <a:pt x="5320" y="18"/>
                    </a:lnTo>
                    <a:lnTo>
                      <a:pt x="5318" y="17"/>
                    </a:lnTo>
                    <a:lnTo>
                      <a:pt x="5316" y="16"/>
                    </a:lnTo>
                    <a:lnTo>
                      <a:pt x="5314" y="13"/>
                    </a:lnTo>
                    <a:lnTo>
                      <a:pt x="5313" y="12"/>
                    </a:lnTo>
                    <a:lnTo>
                      <a:pt x="5313" y="9"/>
                    </a:lnTo>
                    <a:lnTo>
                      <a:pt x="5313" y="8"/>
                    </a:lnTo>
                    <a:lnTo>
                      <a:pt x="5314" y="7"/>
                    </a:lnTo>
                    <a:lnTo>
                      <a:pt x="5316" y="3"/>
                    </a:lnTo>
                    <a:lnTo>
                      <a:pt x="5318" y="2"/>
                    </a:lnTo>
                    <a:lnTo>
                      <a:pt x="5320" y="0"/>
                    </a:lnTo>
                    <a:lnTo>
                      <a:pt x="5322" y="0"/>
                    </a:lnTo>
                    <a:lnTo>
                      <a:pt x="5322" y="0"/>
                    </a:lnTo>
                    <a:close/>
                    <a:moveTo>
                      <a:pt x="5543" y="0"/>
                    </a:moveTo>
                    <a:lnTo>
                      <a:pt x="5673" y="0"/>
                    </a:lnTo>
                    <a:lnTo>
                      <a:pt x="5674" y="0"/>
                    </a:lnTo>
                    <a:lnTo>
                      <a:pt x="5677" y="2"/>
                    </a:lnTo>
                    <a:lnTo>
                      <a:pt x="5679" y="3"/>
                    </a:lnTo>
                    <a:lnTo>
                      <a:pt x="5681" y="7"/>
                    </a:lnTo>
                    <a:lnTo>
                      <a:pt x="5682" y="8"/>
                    </a:lnTo>
                    <a:lnTo>
                      <a:pt x="5682" y="9"/>
                    </a:lnTo>
                    <a:lnTo>
                      <a:pt x="5682" y="12"/>
                    </a:lnTo>
                    <a:lnTo>
                      <a:pt x="5681" y="13"/>
                    </a:lnTo>
                    <a:lnTo>
                      <a:pt x="5679" y="16"/>
                    </a:lnTo>
                    <a:lnTo>
                      <a:pt x="5677" y="17"/>
                    </a:lnTo>
                    <a:lnTo>
                      <a:pt x="5674" y="18"/>
                    </a:lnTo>
                    <a:lnTo>
                      <a:pt x="5673" y="18"/>
                    </a:lnTo>
                    <a:lnTo>
                      <a:pt x="5543" y="18"/>
                    </a:lnTo>
                    <a:lnTo>
                      <a:pt x="5542" y="18"/>
                    </a:lnTo>
                    <a:lnTo>
                      <a:pt x="5540" y="17"/>
                    </a:lnTo>
                    <a:lnTo>
                      <a:pt x="5536" y="16"/>
                    </a:lnTo>
                    <a:lnTo>
                      <a:pt x="5535" y="13"/>
                    </a:lnTo>
                    <a:lnTo>
                      <a:pt x="5535" y="12"/>
                    </a:lnTo>
                    <a:lnTo>
                      <a:pt x="5535" y="9"/>
                    </a:lnTo>
                    <a:lnTo>
                      <a:pt x="5535" y="8"/>
                    </a:lnTo>
                    <a:lnTo>
                      <a:pt x="5535" y="7"/>
                    </a:lnTo>
                    <a:lnTo>
                      <a:pt x="5536" y="3"/>
                    </a:lnTo>
                    <a:lnTo>
                      <a:pt x="5540" y="2"/>
                    </a:lnTo>
                    <a:lnTo>
                      <a:pt x="5542" y="0"/>
                    </a:lnTo>
                    <a:lnTo>
                      <a:pt x="5543" y="0"/>
                    </a:lnTo>
                    <a:lnTo>
                      <a:pt x="5543" y="0"/>
                    </a:lnTo>
                    <a:close/>
                    <a:moveTo>
                      <a:pt x="5765" y="0"/>
                    </a:moveTo>
                    <a:lnTo>
                      <a:pt x="5895" y="0"/>
                    </a:lnTo>
                    <a:lnTo>
                      <a:pt x="5896" y="0"/>
                    </a:lnTo>
                    <a:lnTo>
                      <a:pt x="5897" y="2"/>
                    </a:lnTo>
                    <a:lnTo>
                      <a:pt x="5900" y="3"/>
                    </a:lnTo>
                    <a:lnTo>
                      <a:pt x="5903" y="7"/>
                    </a:lnTo>
                    <a:lnTo>
                      <a:pt x="5903" y="8"/>
                    </a:lnTo>
                    <a:lnTo>
                      <a:pt x="5904" y="9"/>
                    </a:lnTo>
                    <a:lnTo>
                      <a:pt x="5903" y="12"/>
                    </a:lnTo>
                    <a:lnTo>
                      <a:pt x="5903" y="13"/>
                    </a:lnTo>
                    <a:lnTo>
                      <a:pt x="5900" y="16"/>
                    </a:lnTo>
                    <a:lnTo>
                      <a:pt x="5897" y="17"/>
                    </a:lnTo>
                    <a:lnTo>
                      <a:pt x="5896" y="18"/>
                    </a:lnTo>
                    <a:lnTo>
                      <a:pt x="5895" y="18"/>
                    </a:lnTo>
                    <a:lnTo>
                      <a:pt x="5765" y="18"/>
                    </a:lnTo>
                    <a:lnTo>
                      <a:pt x="5762" y="18"/>
                    </a:lnTo>
                    <a:lnTo>
                      <a:pt x="5761" y="17"/>
                    </a:lnTo>
                    <a:lnTo>
                      <a:pt x="5758" y="16"/>
                    </a:lnTo>
                    <a:lnTo>
                      <a:pt x="5757" y="13"/>
                    </a:lnTo>
                    <a:lnTo>
                      <a:pt x="5756" y="12"/>
                    </a:lnTo>
                    <a:lnTo>
                      <a:pt x="5756" y="9"/>
                    </a:lnTo>
                    <a:lnTo>
                      <a:pt x="5756" y="8"/>
                    </a:lnTo>
                    <a:lnTo>
                      <a:pt x="5757" y="7"/>
                    </a:lnTo>
                    <a:lnTo>
                      <a:pt x="5758" y="3"/>
                    </a:lnTo>
                    <a:lnTo>
                      <a:pt x="5761" y="2"/>
                    </a:lnTo>
                    <a:lnTo>
                      <a:pt x="5762" y="0"/>
                    </a:lnTo>
                    <a:lnTo>
                      <a:pt x="5765" y="0"/>
                    </a:lnTo>
                    <a:lnTo>
                      <a:pt x="5765" y="0"/>
                    </a:lnTo>
                    <a:close/>
                    <a:moveTo>
                      <a:pt x="5986" y="0"/>
                    </a:moveTo>
                    <a:lnTo>
                      <a:pt x="6115" y="0"/>
                    </a:lnTo>
                    <a:lnTo>
                      <a:pt x="6118" y="0"/>
                    </a:lnTo>
                    <a:lnTo>
                      <a:pt x="6119" y="2"/>
                    </a:lnTo>
                    <a:lnTo>
                      <a:pt x="6122" y="3"/>
                    </a:lnTo>
                    <a:lnTo>
                      <a:pt x="6123" y="7"/>
                    </a:lnTo>
                    <a:lnTo>
                      <a:pt x="6125" y="8"/>
                    </a:lnTo>
                    <a:lnTo>
                      <a:pt x="6125" y="9"/>
                    </a:lnTo>
                    <a:lnTo>
                      <a:pt x="6125" y="12"/>
                    </a:lnTo>
                    <a:lnTo>
                      <a:pt x="6123" y="13"/>
                    </a:lnTo>
                    <a:lnTo>
                      <a:pt x="6122" y="16"/>
                    </a:lnTo>
                    <a:lnTo>
                      <a:pt x="6119" y="17"/>
                    </a:lnTo>
                    <a:lnTo>
                      <a:pt x="6118" y="18"/>
                    </a:lnTo>
                    <a:lnTo>
                      <a:pt x="6115" y="18"/>
                    </a:lnTo>
                    <a:lnTo>
                      <a:pt x="5986" y="18"/>
                    </a:lnTo>
                    <a:lnTo>
                      <a:pt x="5984" y="18"/>
                    </a:lnTo>
                    <a:lnTo>
                      <a:pt x="5983" y="17"/>
                    </a:lnTo>
                    <a:lnTo>
                      <a:pt x="5979" y="16"/>
                    </a:lnTo>
                    <a:lnTo>
                      <a:pt x="5978" y="13"/>
                    </a:lnTo>
                    <a:lnTo>
                      <a:pt x="5978" y="12"/>
                    </a:lnTo>
                    <a:lnTo>
                      <a:pt x="5978" y="9"/>
                    </a:lnTo>
                    <a:lnTo>
                      <a:pt x="5978" y="8"/>
                    </a:lnTo>
                    <a:lnTo>
                      <a:pt x="5978" y="7"/>
                    </a:lnTo>
                    <a:lnTo>
                      <a:pt x="5979" y="3"/>
                    </a:lnTo>
                    <a:lnTo>
                      <a:pt x="5983" y="2"/>
                    </a:lnTo>
                    <a:lnTo>
                      <a:pt x="5984" y="0"/>
                    </a:lnTo>
                    <a:lnTo>
                      <a:pt x="5986" y="0"/>
                    </a:lnTo>
                    <a:lnTo>
                      <a:pt x="5986" y="0"/>
                    </a:lnTo>
                    <a:close/>
                    <a:moveTo>
                      <a:pt x="6208" y="0"/>
                    </a:moveTo>
                    <a:lnTo>
                      <a:pt x="6337" y="0"/>
                    </a:lnTo>
                    <a:lnTo>
                      <a:pt x="6339" y="0"/>
                    </a:lnTo>
                    <a:lnTo>
                      <a:pt x="6340" y="2"/>
                    </a:lnTo>
                    <a:lnTo>
                      <a:pt x="6344" y="3"/>
                    </a:lnTo>
                    <a:lnTo>
                      <a:pt x="6345" y="7"/>
                    </a:lnTo>
                    <a:lnTo>
                      <a:pt x="6345" y="8"/>
                    </a:lnTo>
                    <a:lnTo>
                      <a:pt x="6347" y="9"/>
                    </a:lnTo>
                    <a:lnTo>
                      <a:pt x="6345" y="12"/>
                    </a:lnTo>
                    <a:lnTo>
                      <a:pt x="6345" y="13"/>
                    </a:lnTo>
                    <a:lnTo>
                      <a:pt x="6344" y="16"/>
                    </a:lnTo>
                    <a:lnTo>
                      <a:pt x="6340" y="17"/>
                    </a:lnTo>
                    <a:lnTo>
                      <a:pt x="6339" y="18"/>
                    </a:lnTo>
                    <a:lnTo>
                      <a:pt x="6337" y="18"/>
                    </a:lnTo>
                    <a:lnTo>
                      <a:pt x="6208" y="18"/>
                    </a:lnTo>
                    <a:lnTo>
                      <a:pt x="6206" y="18"/>
                    </a:lnTo>
                    <a:lnTo>
                      <a:pt x="6204" y="17"/>
                    </a:lnTo>
                    <a:lnTo>
                      <a:pt x="6201" y="16"/>
                    </a:lnTo>
                    <a:lnTo>
                      <a:pt x="6200" y="13"/>
                    </a:lnTo>
                    <a:lnTo>
                      <a:pt x="6198" y="12"/>
                    </a:lnTo>
                    <a:lnTo>
                      <a:pt x="6198" y="9"/>
                    </a:lnTo>
                    <a:lnTo>
                      <a:pt x="6198" y="8"/>
                    </a:lnTo>
                    <a:lnTo>
                      <a:pt x="6200" y="7"/>
                    </a:lnTo>
                    <a:lnTo>
                      <a:pt x="6201" y="3"/>
                    </a:lnTo>
                    <a:lnTo>
                      <a:pt x="6204" y="2"/>
                    </a:lnTo>
                    <a:lnTo>
                      <a:pt x="6206" y="0"/>
                    </a:lnTo>
                    <a:lnTo>
                      <a:pt x="6208" y="0"/>
                    </a:lnTo>
                    <a:lnTo>
                      <a:pt x="6208" y="0"/>
                    </a:lnTo>
                    <a:close/>
                    <a:moveTo>
                      <a:pt x="6430" y="0"/>
                    </a:moveTo>
                    <a:lnTo>
                      <a:pt x="6558" y="0"/>
                    </a:lnTo>
                    <a:lnTo>
                      <a:pt x="6561" y="0"/>
                    </a:lnTo>
                    <a:lnTo>
                      <a:pt x="6562" y="2"/>
                    </a:lnTo>
                    <a:lnTo>
                      <a:pt x="6565" y="3"/>
                    </a:lnTo>
                    <a:lnTo>
                      <a:pt x="6566" y="7"/>
                    </a:lnTo>
                    <a:lnTo>
                      <a:pt x="6567" y="8"/>
                    </a:lnTo>
                    <a:lnTo>
                      <a:pt x="6567" y="9"/>
                    </a:lnTo>
                    <a:lnTo>
                      <a:pt x="6567" y="12"/>
                    </a:lnTo>
                    <a:lnTo>
                      <a:pt x="6566" y="13"/>
                    </a:lnTo>
                    <a:lnTo>
                      <a:pt x="6565" y="16"/>
                    </a:lnTo>
                    <a:lnTo>
                      <a:pt x="6562" y="17"/>
                    </a:lnTo>
                    <a:lnTo>
                      <a:pt x="6561" y="18"/>
                    </a:lnTo>
                    <a:lnTo>
                      <a:pt x="6558" y="18"/>
                    </a:lnTo>
                    <a:lnTo>
                      <a:pt x="6430" y="18"/>
                    </a:lnTo>
                    <a:lnTo>
                      <a:pt x="6427" y="18"/>
                    </a:lnTo>
                    <a:lnTo>
                      <a:pt x="6426" y="17"/>
                    </a:lnTo>
                    <a:lnTo>
                      <a:pt x="6423" y="16"/>
                    </a:lnTo>
                    <a:lnTo>
                      <a:pt x="6420" y="13"/>
                    </a:lnTo>
                    <a:lnTo>
                      <a:pt x="6420" y="12"/>
                    </a:lnTo>
                    <a:lnTo>
                      <a:pt x="6420" y="9"/>
                    </a:lnTo>
                    <a:lnTo>
                      <a:pt x="6420" y="8"/>
                    </a:lnTo>
                    <a:lnTo>
                      <a:pt x="6420" y="7"/>
                    </a:lnTo>
                    <a:lnTo>
                      <a:pt x="6423" y="3"/>
                    </a:lnTo>
                    <a:lnTo>
                      <a:pt x="6426" y="2"/>
                    </a:lnTo>
                    <a:lnTo>
                      <a:pt x="6427" y="0"/>
                    </a:lnTo>
                    <a:lnTo>
                      <a:pt x="6430" y="0"/>
                    </a:lnTo>
                    <a:lnTo>
                      <a:pt x="6430" y="0"/>
                    </a:lnTo>
                    <a:close/>
                    <a:moveTo>
                      <a:pt x="6651" y="0"/>
                    </a:moveTo>
                    <a:lnTo>
                      <a:pt x="6780" y="0"/>
                    </a:lnTo>
                    <a:lnTo>
                      <a:pt x="6781" y="0"/>
                    </a:lnTo>
                    <a:lnTo>
                      <a:pt x="6783" y="2"/>
                    </a:lnTo>
                    <a:lnTo>
                      <a:pt x="6787" y="3"/>
                    </a:lnTo>
                    <a:lnTo>
                      <a:pt x="6788" y="7"/>
                    </a:lnTo>
                    <a:lnTo>
                      <a:pt x="6788" y="8"/>
                    </a:lnTo>
                    <a:lnTo>
                      <a:pt x="6789" y="9"/>
                    </a:lnTo>
                    <a:lnTo>
                      <a:pt x="6788" y="12"/>
                    </a:lnTo>
                    <a:lnTo>
                      <a:pt x="6788" y="13"/>
                    </a:lnTo>
                    <a:lnTo>
                      <a:pt x="6787" y="16"/>
                    </a:lnTo>
                    <a:lnTo>
                      <a:pt x="6783" y="17"/>
                    </a:lnTo>
                    <a:lnTo>
                      <a:pt x="6781" y="18"/>
                    </a:lnTo>
                    <a:lnTo>
                      <a:pt x="6780" y="18"/>
                    </a:lnTo>
                    <a:lnTo>
                      <a:pt x="6651" y="18"/>
                    </a:lnTo>
                    <a:lnTo>
                      <a:pt x="6649" y="18"/>
                    </a:lnTo>
                    <a:lnTo>
                      <a:pt x="6646" y="17"/>
                    </a:lnTo>
                    <a:lnTo>
                      <a:pt x="6644" y="16"/>
                    </a:lnTo>
                    <a:lnTo>
                      <a:pt x="6642" y="13"/>
                    </a:lnTo>
                    <a:lnTo>
                      <a:pt x="6641" y="12"/>
                    </a:lnTo>
                    <a:lnTo>
                      <a:pt x="6641" y="9"/>
                    </a:lnTo>
                    <a:lnTo>
                      <a:pt x="6641" y="8"/>
                    </a:lnTo>
                    <a:lnTo>
                      <a:pt x="6642" y="7"/>
                    </a:lnTo>
                    <a:lnTo>
                      <a:pt x="6644" y="3"/>
                    </a:lnTo>
                    <a:lnTo>
                      <a:pt x="6646" y="2"/>
                    </a:lnTo>
                    <a:lnTo>
                      <a:pt x="6649" y="0"/>
                    </a:lnTo>
                    <a:lnTo>
                      <a:pt x="6651" y="0"/>
                    </a:lnTo>
                    <a:lnTo>
                      <a:pt x="6651" y="0"/>
                    </a:lnTo>
                    <a:close/>
                    <a:moveTo>
                      <a:pt x="6873" y="0"/>
                    </a:moveTo>
                    <a:lnTo>
                      <a:pt x="7002" y="0"/>
                    </a:lnTo>
                    <a:lnTo>
                      <a:pt x="7003" y="0"/>
                    </a:lnTo>
                    <a:lnTo>
                      <a:pt x="7005" y="2"/>
                    </a:lnTo>
                    <a:lnTo>
                      <a:pt x="7007" y="3"/>
                    </a:lnTo>
                    <a:lnTo>
                      <a:pt x="7010" y="7"/>
                    </a:lnTo>
                    <a:lnTo>
                      <a:pt x="7010" y="8"/>
                    </a:lnTo>
                    <a:lnTo>
                      <a:pt x="7010" y="9"/>
                    </a:lnTo>
                    <a:lnTo>
                      <a:pt x="7010" y="12"/>
                    </a:lnTo>
                    <a:lnTo>
                      <a:pt x="7010" y="13"/>
                    </a:lnTo>
                    <a:lnTo>
                      <a:pt x="7007" y="16"/>
                    </a:lnTo>
                    <a:lnTo>
                      <a:pt x="7005" y="17"/>
                    </a:lnTo>
                    <a:lnTo>
                      <a:pt x="7003" y="18"/>
                    </a:lnTo>
                    <a:lnTo>
                      <a:pt x="7002" y="18"/>
                    </a:lnTo>
                    <a:lnTo>
                      <a:pt x="6873" y="18"/>
                    </a:lnTo>
                    <a:lnTo>
                      <a:pt x="6870" y="18"/>
                    </a:lnTo>
                    <a:lnTo>
                      <a:pt x="6868" y="17"/>
                    </a:lnTo>
                    <a:lnTo>
                      <a:pt x="6866" y="16"/>
                    </a:lnTo>
                    <a:lnTo>
                      <a:pt x="6863" y="13"/>
                    </a:lnTo>
                    <a:lnTo>
                      <a:pt x="6863" y="12"/>
                    </a:lnTo>
                    <a:lnTo>
                      <a:pt x="6863" y="9"/>
                    </a:lnTo>
                    <a:lnTo>
                      <a:pt x="6863" y="8"/>
                    </a:lnTo>
                    <a:lnTo>
                      <a:pt x="6863" y="7"/>
                    </a:lnTo>
                    <a:lnTo>
                      <a:pt x="6866" y="3"/>
                    </a:lnTo>
                    <a:lnTo>
                      <a:pt x="6868" y="2"/>
                    </a:lnTo>
                    <a:lnTo>
                      <a:pt x="6870" y="0"/>
                    </a:lnTo>
                    <a:lnTo>
                      <a:pt x="6873" y="0"/>
                    </a:lnTo>
                    <a:lnTo>
                      <a:pt x="6873" y="0"/>
                    </a:lnTo>
                    <a:close/>
                    <a:moveTo>
                      <a:pt x="7093" y="0"/>
                    </a:moveTo>
                    <a:lnTo>
                      <a:pt x="7205" y="0"/>
                    </a:lnTo>
                    <a:lnTo>
                      <a:pt x="7206" y="0"/>
                    </a:lnTo>
                    <a:lnTo>
                      <a:pt x="7208" y="2"/>
                    </a:lnTo>
                    <a:lnTo>
                      <a:pt x="7210" y="3"/>
                    </a:lnTo>
                    <a:lnTo>
                      <a:pt x="7213" y="7"/>
                    </a:lnTo>
                    <a:lnTo>
                      <a:pt x="7213" y="8"/>
                    </a:lnTo>
                    <a:lnTo>
                      <a:pt x="7213" y="9"/>
                    </a:lnTo>
                    <a:lnTo>
                      <a:pt x="7213" y="12"/>
                    </a:lnTo>
                    <a:lnTo>
                      <a:pt x="7213" y="13"/>
                    </a:lnTo>
                    <a:lnTo>
                      <a:pt x="7210" y="16"/>
                    </a:lnTo>
                    <a:lnTo>
                      <a:pt x="7208" y="17"/>
                    </a:lnTo>
                    <a:lnTo>
                      <a:pt x="7206" y="18"/>
                    </a:lnTo>
                    <a:lnTo>
                      <a:pt x="7205" y="18"/>
                    </a:lnTo>
                    <a:lnTo>
                      <a:pt x="7093" y="18"/>
                    </a:lnTo>
                    <a:lnTo>
                      <a:pt x="7092" y="18"/>
                    </a:lnTo>
                    <a:lnTo>
                      <a:pt x="7090" y="17"/>
                    </a:lnTo>
                    <a:lnTo>
                      <a:pt x="7086" y="16"/>
                    </a:lnTo>
                    <a:lnTo>
                      <a:pt x="7085" y="13"/>
                    </a:lnTo>
                    <a:lnTo>
                      <a:pt x="7084" y="12"/>
                    </a:lnTo>
                    <a:lnTo>
                      <a:pt x="7084" y="9"/>
                    </a:lnTo>
                    <a:lnTo>
                      <a:pt x="7084" y="8"/>
                    </a:lnTo>
                    <a:lnTo>
                      <a:pt x="7085" y="7"/>
                    </a:lnTo>
                    <a:lnTo>
                      <a:pt x="7086" y="3"/>
                    </a:lnTo>
                    <a:lnTo>
                      <a:pt x="7090" y="2"/>
                    </a:lnTo>
                    <a:lnTo>
                      <a:pt x="7092" y="0"/>
                    </a:lnTo>
                    <a:lnTo>
                      <a:pt x="7093" y="0"/>
                    </a:lnTo>
                    <a:lnTo>
                      <a:pt x="70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584640" y="5290920"/>
                <a:ext cx="834840" cy="97380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419480" y="5291280"/>
                <a:ext cx="1080" cy="97380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1419480" y="5290920"/>
                <a:ext cx="834840" cy="97380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254680" y="5291280"/>
                <a:ext cx="1080" cy="97380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2254680" y="5779080"/>
                <a:ext cx="415800" cy="48564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09120" y="4986360"/>
                <a:ext cx="1080" cy="127872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5173920" y="5291280"/>
                <a:ext cx="834840" cy="97380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74280" y="5291280"/>
                <a:ext cx="1080" cy="97380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4756320" y="5291280"/>
                <a:ext cx="417600" cy="48780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06960" y="5701320"/>
                <a:ext cx="220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700" spc="-1" strike="noStrike">
                    <a:solidFill>
                      <a:srgbClr val="000000"/>
                    </a:solidFill>
                    <a:latin typeface="Arial"/>
                  </a:rPr>
                  <a:t>.   .   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4000" y="5291280"/>
                <a:ext cx="280080" cy="144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24000" y="6265440"/>
                <a:ext cx="260640" cy="216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371880" y="5430600"/>
                <a:ext cx="2880" cy="69516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3000" y="5291280"/>
                <a:ext cx="85680" cy="150120"/>
              </a:xfrm>
              <a:custGeom>
                <a:avLst/>
                <a:gdLst/>
                <a:ahLst/>
                <a:rect l="l" t="t" r="r" b="b"/>
                <a:pathLst>
                  <a:path w="114" h="159">
                    <a:moveTo>
                      <a:pt x="0" y="159"/>
                    </a:moveTo>
                    <a:lnTo>
                      <a:pt x="58" y="0"/>
                    </a:lnTo>
                    <a:lnTo>
                      <a:pt x="114" y="15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8320" y="6114960"/>
                <a:ext cx="86040" cy="150120"/>
              </a:xfrm>
              <a:custGeom>
                <a:avLst/>
                <a:gdLst/>
                <a:ahLst/>
                <a:rect l="l" t="t" r="r" b="b"/>
                <a:pathLst>
                  <a:path w="115" h="159">
                    <a:moveTo>
                      <a:pt x="115" y="0"/>
                    </a:moveTo>
                    <a:lnTo>
                      <a:pt x="56" y="159"/>
                    </a:lnTo>
                    <a:lnTo>
                      <a:pt x="0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4640" y="6265440"/>
                <a:ext cx="1080" cy="30492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19480" y="6265440"/>
                <a:ext cx="1080" cy="30492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3440" y="6509520"/>
                <a:ext cx="596880" cy="144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84640" y="6459840"/>
                <a:ext cx="129240" cy="100800"/>
              </a:xfrm>
              <a:custGeom>
                <a:avLst/>
                <a:gdLst/>
                <a:ahLst/>
                <a:rect l="l" t="t" r="r" b="b"/>
                <a:pathLst>
                  <a:path w="171" h="105">
                    <a:moveTo>
                      <a:pt x="171" y="105"/>
                    </a:moveTo>
                    <a:lnTo>
                      <a:pt x="0" y="53"/>
                    </a:lnTo>
                    <a:lnTo>
                      <a:pt x="171" y="0"/>
                    </a:lnTo>
                    <a:lnTo>
                      <a:pt x="171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289880" y="6459840"/>
                <a:ext cx="129240" cy="100800"/>
              </a:xfrm>
              <a:custGeom>
                <a:avLst/>
                <a:gdLst/>
                <a:ahLst/>
                <a:rect l="l" t="t" r="r" b="b"/>
                <a:pathLst>
                  <a:path w="172" h="105">
                    <a:moveTo>
                      <a:pt x="0" y="0"/>
                    </a:moveTo>
                    <a:lnTo>
                      <a:pt x="172" y="53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703440" y="5047200"/>
                <a:ext cx="5186160" cy="2160"/>
              </a:xfrm>
              <a:prstGeom prst="line">
                <a:avLst/>
              </a:prstGeom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79160" y="4995720"/>
                <a:ext cx="129600" cy="100800"/>
              </a:xfrm>
              <a:custGeom>
                <a:avLst/>
                <a:gdLst/>
                <a:ahLst/>
                <a:rect l="l" t="t" r="r" b="b"/>
                <a:pathLst>
                  <a:path w="172" h="105">
                    <a:moveTo>
                      <a:pt x="0" y="0"/>
                    </a:moveTo>
                    <a:lnTo>
                      <a:pt x="172" y="53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4640" y="4995720"/>
                <a:ext cx="129240" cy="100800"/>
              </a:xfrm>
              <a:custGeom>
                <a:avLst/>
                <a:gdLst/>
                <a:ahLst/>
                <a:rect l="l" t="t" r="r" b="b"/>
                <a:pathLst>
                  <a:path w="171" h="105">
                    <a:moveTo>
                      <a:pt x="171" y="105"/>
                    </a:moveTo>
                    <a:lnTo>
                      <a:pt x="0" y="53"/>
                    </a:lnTo>
                    <a:lnTo>
                      <a:pt x="171" y="0"/>
                    </a:lnTo>
                    <a:lnTo>
                      <a:pt x="171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2720" y="4292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250800" y="477864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100" spc="-1" strike="noStrike">
                    <a:solidFill>
                      <a:srgbClr val="333399"/>
                    </a:solidFill>
                    <a:latin typeface="Times New Roman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25920" y="62730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333399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94560" y="6289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100" spc="-1" strike="noStrike">
                    <a:solidFill>
                      <a:srgbClr val="333399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247840" y="6303240"/>
                <a:ext cx="15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333399"/>
                    </a:solidFill>
                    <a:latin typeface="Times New Roman"/>
                  </a:rPr>
                  <a:t>2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58360" y="6248160"/>
                <a:ext cx="427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333399"/>
                    </a:solidFill>
                    <a:latin typeface="Times New Roman"/>
                  </a:rPr>
                  <a:t>(n-1)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93200" y="624816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333399"/>
                    </a:solidFill>
                    <a:latin typeface="Times New Roman"/>
                  </a:rPr>
                  <a:t>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088680" y="6312960"/>
                <a:ext cx="526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333399"/>
                    </a:solidFill>
                    <a:latin typeface="Times New Roman"/>
                  </a:rPr>
                  <a:t>T[dan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6156360" y="4653000"/>
            <a:ext cx="2987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</a:rPr>
              <a:t>MERILO OPTIMALNOSTI</a:t>
            </a:r>
            <a:r>
              <a:rPr b="0" lang="sl-SI" sz="1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</a:rPr>
              <a:t>UKUPNI TROŠK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</a:rPr>
              <a:t>TR = TR1+T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7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7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ODREĐIVANJE OPTIMALNE VELIČINE I BROJA SERIJA U PROCESU PROIZVODN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5616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Ukupni troškovi pripreme serij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736560" y="2346480"/>
                <a:ext cx="375120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p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p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83" name=""/>
          <p:cNvGrpSpPr/>
          <p:nvPr/>
        </p:nvGrpSpPr>
        <p:grpSpPr>
          <a:xfrm>
            <a:off x="5219640" y="2421000"/>
            <a:ext cx="949320" cy="834840"/>
            <a:chOff x="5219640" y="2421000"/>
            <a:chExt cx="949320" cy="834840"/>
          </a:xfrm>
        </p:grpSpPr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276880" y="2421000"/>
                  <a:ext cx="892080" cy="83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5219640" y="2573280"/>
              <a:ext cx="936720" cy="57564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24000" y="328464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Ukupni troškovi skladištenja proizvoda 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684360" y="4365720"/>
                <a:ext cx="25826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s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8" name=""/>
          <p:cNvGrpSpPr/>
          <p:nvPr/>
        </p:nvGrpSpPr>
        <p:grpSpPr>
          <a:xfrm>
            <a:off x="5364000" y="4365720"/>
            <a:ext cx="936720" cy="806400"/>
            <a:chOff x="5364000" y="4365720"/>
            <a:chExt cx="936720" cy="806400"/>
          </a:xfrm>
        </p:grpSpPr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5435280" y="4365720"/>
                  <a:ext cx="86220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5364000" y="4503960"/>
              <a:ext cx="936720" cy="5760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" y="5300640"/>
            <a:ext cx="525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Tahoma"/>
              </a:rPr>
              <a:t>Ukupni troškovi ser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971640" y="5846760"/>
                <a:ext cx="61927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p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s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5" name=""/>
          <p:cNvGrpSpPr/>
          <p:nvPr/>
        </p:nvGrpSpPr>
        <p:grpSpPr>
          <a:xfrm>
            <a:off x="468360" y="3573360"/>
            <a:ext cx="6121440" cy="897120"/>
            <a:chOff x="468360" y="3573360"/>
            <a:chExt cx="6121440" cy="897120"/>
          </a:xfrm>
        </p:grpSpPr>
        <p:sp>
          <p:nvSpPr>
            <p:cNvPr id="296" name=""/>
            <p:cNvSpPr/>
            <p:nvPr/>
          </p:nvSpPr>
          <p:spPr>
            <a:xfrm>
              <a:off x="468360" y="3789360"/>
              <a:ext cx="4824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333399"/>
                  </a:solidFill>
                  <a:latin typeface="Tahoma"/>
                </a:rPr>
                <a:t>troškovi skladištenja jedne serij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5283360" y="3645000"/>
                  <a:ext cx="12049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rs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q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468360" y="3573360"/>
              <a:ext cx="6121440" cy="79236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348000" y="4365720"/>
                <a:ext cx="1584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s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7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7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7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7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70" fill="hold"/>
                                        <p:tgtEl>
                                          <p:spTgt spid="2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7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6624720" cy="16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ODREĐIVANJE OPTIMALNE VELIČINE I BROJA SERIJA U PROCESU PROIZVODN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1844640"/>
                <a:ext cx="30196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p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s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284720" y="2205000"/>
            <a:ext cx="36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99320" y="191628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R = TR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2637000"/>
            <a:ext cx="8156520" cy="875880"/>
          </a:xfrm>
          <a:prstGeom prst="rect">
            <a:avLst/>
          </a:prstGeom>
          <a:solidFill>
            <a:srgbClr val="fff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Treba da se odredi takva veličina proizvodne serije q</a:t>
            </a:r>
            <a:r>
              <a:rPr b="0" lang="sr-Latn-CS" sz="2400" spc="-1" strike="noStrike" baseline="-25000">
                <a:solidFill>
                  <a:srgbClr val="ff0000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za koju će funkcija TR(q) imati najmanju vred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0200" y="4167360"/>
            <a:ext cx="63360" cy="2242440"/>
            <a:chOff x="700200" y="4167360"/>
            <a:chExt cx="63360" cy="2242440"/>
          </a:xfrm>
        </p:grpSpPr>
        <p:sp>
          <p:nvSpPr>
            <p:cNvPr id="306" name=""/>
            <p:cNvSpPr/>
            <p:nvPr/>
          </p:nvSpPr>
          <p:spPr>
            <a:xfrm>
              <a:off x="731520" y="4255560"/>
              <a:ext cx="720" cy="21542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0200" y="4167360"/>
              <a:ext cx="63360" cy="97200"/>
            </a:xfrm>
            <a:custGeom>
              <a:avLst/>
              <a:gdLst/>
              <a:ahLst/>
              <a:rect l="l" t="t" r="r" b="b"/>
              <a:pathLst>
                <a:path w="132" h="197">
                  <a:moveTo>
                    <a:pt x="0" y="197"/>
                  </a:moveTo>
                  <a:lnTo>
                    <a:pt x="67" y="0"/>
                  </a:lnTo>
                  <a:lnTo>
                    <a:pt x="132" y="19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84360" y="6310440"/>
            <a:ext cx="3654360" cy="64800"/>
            <a:chOff x="684360" y="6310440"/>
            <a:chExt cx="3654360" cy="64800"/>
          </a:xfrm>
        </p:grpSpPr>
        <p:sp>
          <p:nvSpPr>
            <p:cNvPr id="309" name=""/>
            <p:cNvSpPr/>
            <p:nvPr/>
          </p:nvSpPr>
          <p:spPr>
            <a:xfrm>
              <a:off x="684360" y="6341760"/>
              <a:ext cx="3566880" cy="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43320" y="6310440"/>
              <a:ext cx="95400" cy="64800"/>
            </a:xfrm>
            <a:custGeom>
              <a:avLst/>
              <a:gdLst/>
              <a:ahLst/>
              <a:rect l="l" t="t" r="r" b="b"/>
              <a:pathLst>
                <a:path w="197" h="132">
                  <a:moveTo>
                    <a:pt x="0" y="0"/>
                  </a:moveTo>
                  <a:lnTo>
                    <a:pt x="197" y="65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197080" y="5618160"/>
            <a:ext cx="6480" cy="727200"/>
            <a:chOff x="2197080" y="5618160"/>
            <a:chExt cx="6480" cy="727200"/>
          </a:xfrm>
        </p:grpSpPr>
        <p:sp>
          <p:nvSpPr>
            <p:cNvPr id="312" name=""/>
            <p:cNvSpPr/>
            <p:nvPr/>
          </p:nvSpPr>
          <p:spPr>
            <a:xfrm>
              <a:off x="2197080" y="5618160"/>
              <a:ext cx="6480" cy="727200"/>
            </a:xfrm>
            <a:custGeom>
              <a:avLst/>
              <a:gdLst/>
              <a:ahLst/>
              <a:rect l="l" t="t" r="r" b="b"/>
              <a:pathLst>
                <a:path w="14" h="1479">
                  <a:moveTo>
                    <a:pt x="14" y="8"/>
                  </a:moveTo>
                  <a:lnTo>
                    <a:pt x="14" y="110"/>
                  </a:lnTo>
                  <a:lnTo>
                    <a:pt x="13" y="114"/>
                  </a:lnTo>
                  <a:lnTo>
                    <a:pt x="11" y="116"/>
                  </a:lnTo>
                  <a:lnTo>
                    <a:pt x="9" y="116"/>
                  </a:lnTo>
                  <a:lnTo>
                    <a:pt x="5" y="118"/>
                  </a:lnTo>
                  <a:lnTo>
                    <a:pt x="3" y="116"/>
                  </a:lnTo>
                  <a:lnTo>
                    <a:pt x="2" y="116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14" y="185"/>
                  </a:moveTo>
                  <a:lnTo>
                    <a:pt x="14" y="286"/>
                  </a:lnTo>
                  <a:lnTo>
                    <a:pt x="13" y="289"/>
                  </a:lnTo>
                  <a:lnTo>
                    <a:pt x="11" y="291"/>
                  </a:lnTo>
                  <a:lnTo>
                    <a:pt x="9" y="293"/>
                  </a:lnTo>
                  <a:lnTo>
                    <a:pt x="5" y="293"/>
                  </a:lnTo>
                  <a:lnTo>
                    <a:pt x="3" y="293"/>
                  </a:lnTo>
                  <a:lnTo>
                    <a:pt x="2" y="291"/>
                  </a:lnTo>
                  <a:lnTo>
                    <a:pt x="0" y="289"/>
                  </a:lnTo>
                  <a:lnTo>
                    <a:pt x="0" y="286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2" y="177"/>
                  </a:lnTo>
                  <a:lnTo>
                    <a:pt x="3" y="175"/>
                  </a:lnTo>
                  <a:lnTo>
                    <a:pt x="5" y="175"/>
                  </a:lnTo>
                  <a:lnTo>
                    <a:pt x="9" y="175"/>
                  </a:lnTo>
                  <a:lnTo>
                    <a:pt x="11" y="177"/>
                  </a:lnTo>
                  <a:lnTo>
                    <a:pt x="13" y="181"/>
                  </a:lnTo>
                  <a:lnTo>
                    <a:pt x="14" y="185"/>
                  </a:lnTo>
                  <a:lnTo>
                    <a:pt x="14" y="185"/>
                  </a:lnTo>
                  <a:lnTo>
                    <a:pt x="14" y="185"/>
                  </a:lnTo>
                  <a:close/>
                  <a:moveTo>
                    <a:pt x="14" y="362"/>
                  </a:moveTo>
                  <a:lnTo>
                    <a:pt x="14" y="463"/>
                  </a:lnTo>
                  <a:lnTo>
                    <a:pt x="13" y="466"/>
                  </a:lnTo>
                  <a:lnTo>
                    <a:pt x="11" y="468"/>
                  </a:lnTo>
                  <a:lnTo>
                    <a:pt x="9" y="470"/>
                  </a:lnTo>
                  <a:lnTo>
                    <a:pt x="5" y="470"/>
                  </a:lnTo>
                  <a:lnTo>
                    <a:pt x="3" y="470"/>
                  </a:lnTo>
                  <a:lnTo>
                    <a:pt x="2" y="468"/>
                  </a:lnTo>
                  <a:lnTo>
                    <a:pt x="0" y="466"/>
                  </a:lnTo>
                  <a:lnTo>
                    <a:pt x="0" y="463"/>
                  </a:lnTo>
                  <a:lnTo>
                    <a:pt x="0" y="362"/>
                  </a:lnTo>
                  <a:lnTo>
                    <a:pt x="0" y="358"/>
                  </a:lnTo>
                  <a:lnTo>
                    <a:pt x="2" y="354"/>
                  </a:lnTo>
                  <a:lnTo>
                    <a:pt x="3" y="352"/>
                  </a:lnTo>
                  <a:lnTo>
                    <a:pt x="5" y="352"/>
                  </a:lnTo>
                  <a:lnTo>
                    <a:pt x="9" y="352"/>
                  </a:lnTo>
                  <a:lnTo>
                    <a:pt x="11" y="354"/>
                  </a:lnTo>
                  <a:lnTo>
                    <a:pt x="13" y="358"/>
                  </a:lnTo>
                  <a:lnTo>
                    <a:pt x="14" y="362"/>
                  </a:lnTo>
                  <a:lnTo>
                    <a:pt x="14" y="362"/>
                  </a:lnTo>
                  <a:lnTo>
                    <a:pt x="14" y="362"/>
                  </a:lnTo>
                  <a:close/>
                  <a:moveTo>
                    <a:pt x="14" y="537"/>
                  </a:moveTo>
                  <a:lnTo>
                    <a:pt x="14" y="640"/>
                  </a:lnTo>
                  <a:lnTo>
                    <a:pt x="13" y="641"/>
                  </a:lnTo>
                  <a:lnTo>
                    <a:pt x="11" y="643"/>
                  </a:lnTo>
                  <a:lnTo>
                    <a:pt x="9" y="645"/>
                  </a:lnTo>
                  <a:lnTo>
                    <a:pt x="5" y="647"/>
                  </a:lnTo>
                  <a:lnTo>
                    <a:pt x="3" y="645"/>
                  </a:lnTo>
                  <a:lnTo>
                    <a:pt x="2" y="643"/>
                  </a:lnTo>
                  <a:lnTo>
                    <a:pt x="0" y="641"/>
                  </a:lnTo>
                  <a:lnTo>
                    <a:pt x="0" y="640"/>
                  </a:lnTo>
                  <a:lnTo>
                    <a:pt x="0" y="537"/>
                  </a:lnTo>
                  <a:lnTo>
                    <a:pt x="0" y="533"/>
                  </a:lnTo>
                  <a:lnTo>
                    <a:pt x="2" y="529"/>
                  </a:lnTo>
                  <a:lnTo>
                    <a:pt x="3" y="528"/>
                  </a:lnTo>
                  <a:lnTo>
                    <a:pt x="5" y="528"/>
                  </a:lnTo>
                  <a:lnTo>
                    <a:pt x="5" y="528"/>
                  </a:lnTo>
                  <a:lnTo>
                    <a:pt x="7" y="528"/>
                  </a:lnTo>
                  <a:lnTo>
                    <a:pt x="9" y="528"/>
                  </a:lnTo>
                  <a:lnTo>
                    <a:pt x="11" y="529"/>
                  </a:lnTo>
                  <a:lnTo>
                    <a:pt x="13" y="533"/>
                  </a:lnTo>
                  <a:lnTo>
                    <a:pt x="14" y="537"/>
                  </a:lnTo>
                  <a:lnTo>
                    <a:pt x="14" y="537"/>
                  </a:lnTo>
                  <a:lnTo>
                    <a:pt x="14" y="537"/>
                  </a:lnTo>
                  <a:close/>
                  <a:moveTo>
                    <a:pt x="14" y="714"/>
                  </a:moveTo>
                  <a:lnTo>
                    <a:pt x="14" y="815"/>
                  </a:lnTo>
                  <a:lnTo>
                    <a:pt x="13" y="818"/>
                  </a:lnTo>
                  <a:lnTo>
                    <a:pt x="11" y="820"/>
                  </a:lnTo>
                  <a:lnTo>
                    <a:pt x="9" y="822"/>
                  </a:lnTo>
                  <a:lnTo>
                    <a:pt x="5" y="822"/>
                  </a:lnTo>
                  <a:lnTo>
                    <a:pt x="3" y="822"/>
                  </a:lnTo>
                  <a:lnTo>
                    <a:pt x="2" y="820"/>
                  </a:lnTo>
                  <a:lnTo>
                    <a:pt x="0" y="818"/>
                  </a:lnTo>
                  <a:lnTo>
                    <a:pt x="0" y="815"/>
                  </a:lnTo>
                  <a:lnTo>
                    <a:pt x="0" y="714"/>
                  </a:lnTo>
                  <a:lnTo>
                    <a:pt x="0" y="710"/>
                  </a:lnTo>
                  <a:lnTo>
                    <a:pt x="2" y="706"/>
                  </a:lnTo>
                  <a:lnTo>
                    <a:pt x="3" y="705"/>
                  </a:lnTo>
                  <a:lnTo>
                    <a:pt x="5" y="705"/>
                  </a:lnTo>
                  <a:lnTo>
                    <a:pt x="9" y="705"/>
                  </a:lnTo>
                  <a:lnTo>
                    <a:pt x="11" y="706"/>
                  </a:lnTo>
                  <a:lnTo>
                    <a:pt x="13" y="710"/>
                  </a:lnTo>
                  <a:lnTo>
                    <a:pt x="14" y="714"/>
                  </a:lnTo>
                  <a:lnTo>
                    <a:pt x="14" y="714"/>
                  </a:lnTo>
                  <a:lnTo>
                    <a:pt x="14" y="714"/>
                  </a:lnTo>
                  <a:close/>
                  <a:moveTo>
                    <a:pt x="14" y="889"/>
                  </a:moveTo>
                  <a:lnTo>
                    <a:pt x="14" y="992"/>
                  </a:lnTo>
                  <a:lnTo>
                    <a:pt x="13" y="995"/>
                  </a:lnTo>
                  <a:lnTo>
                    <a:pt x="11" y="997"/>
                  </a:lnTo>
                  <a:lnTo>
                    <a:pt x="9" y="999"/>
                  </a:lnTo>
                  <a:lnTo>
                    <a:pt x="5" y="999"/>
                  </a:lnTo>
                  <a:lnTo>
                    <a:pt x="3" y="999"/>
                  </a:lnTo>
                  <a:lnTo>
                    <a:pt x="2" y="997"/>
                  </a:lnTo>
                  <a:lnTo>
                    <a:pt x="0" y="995"/>
                  </a:lnTo>
                  <a:lnTo>
                    <a:pt x="0" y="992"/>
                  </a:lnTo>
                  <a:lnTo>
                    <a:pt x="0" y="889"/>
                  </a:lnTo>
                  <a:lnTo>
                    <a:pt x="0" y="885"/>
                  </a:lnTo>
                  <a:lnTo>
                    <a:pt x="2" y="883"/>
                  </a:lnTo>
                  <a:lnTo>
                    <a:pt x="3" y="882"/>
                  </a:lnTo>
                  <a:lnTo>
                    <a:pt x="5" y="882"/>
                  </a:lnTo>
                  <a:lnTo>
                    <a:pt x="9" y="882"/>
                  </a:lnTo>
                  <a:lnTo>
                    <a:pt x="11" y="883"/>
                  </a:lnTo>
                  <a:lnTo>
                    <a:pt x="13" y="885"/>
                  </a:lnTo>
                  <a:lnTo>
                    <a:pt x="14" y="889"/>
                  </a:lnTo>
                  <a:lnTo>
                    <a:pt x="14" y="889"/>
                  </a:lnTo>
                  <a:lnTo>
                    <a:pt x="14" y="889"/>
                  </a:lnTo>
                  <a:close/>
                  <a:moveTo>
                    <a:pt x="14" y="1066"/>
                  </a:moveTo>
                  <a:lnTo>
                    <a:pt x="14" y="1167"/>
                  </a:lnTo>
                  <a:lnTo>
                    <a:pt x="13" y="1171"/>
                  </a:lnTo>
                  <a:lnTo>
                    <a:pt x="11" y="1172"/>
                  </a:lnTo>
                  <a:lnTo>
                    <a:pt x="9" y="1174"/>
                  </a:lnTo>
                  <a:lnTo>
                    <a:pt x="5" y="1176"/>
                  </a:lnTo>
                  <a:lnTo>
                    <a:pt x="3" y="1174"/>
                  </a:lnTo>
                  <a:lnTo>
                    <a:pt x="2" y="1172"/>
                  </a:lnTo>
                  <a:lnTo>
                    <a:pt x="0" y="1171"/>
                  </a:lnTo>
                  <a:lnTo>
                    <a:pt x="0" y="1167"/>
                  </a:lnTo>
                  <a:lnTo>
                    <a:pt x="0" y="1066"/>
                  </a:lnTo>
                  <a:lnTo>
                    <a:pt x="0" y="1062"/>
                  </a:lnTo>
                  <a:lnTo>
                    <a:pt x="2" y="1059"/>
                  </a:lnTo>
                  <a:lnTo>
                    <a:pt x="3" y="1059"/>
                  </a:lnTo>
                  <a:lnTo>
                    <a:pt x="5" y="1059"/>
                  </a:lnTo>
                  <a:lnTo>
                    <a:pt x="9" y="1059"/>
                  </a:lnTo>
                  <a:lnTo>
                    <a:pt x="11" y="1059"/>
                  </a:lnTo>
                  <a:lnTo>
                    <a:pt x="13" y="1062"/>
                  </a:lnTo>
                  <a:lnTo>
                    <a:pt x="14" y="1066"/>
                  </a:lnTo>
                  <a:lnTo>
                    <a:pt x="14" y="1066"/>
                  </a:lnTo>
                  <a:lnTo>
                    <a:pt x="14" y="1066"/>
                  </a:lnTo>
                  <a:close/>
                  <a:moveTo>
                    <a:pt x="14" y="1243"/>
                  </a:moveTo>
                  <a:lnTo>
                    <a:pt x="14" y="1344"/>
                  </a:lnTo>
                  <a:lnTo>
                    <a:pt x="13" y="1348"/>
                  </a:lnTo>
                  <a:lnTo>
                    <a:pt x="11" y="1349"/>
                  </a:lnTo>
                  <a:lnTo>
                    <a:pt x="9" y="1351"/>
                  </a:lnTo>
                  <a:lnTo>
                    <a:pt x="5" y="1353"/>
                  </a:lnTo>
                  <a:lnTo>
                    <a:pt x="3" y="1351"/>
                  </a:lnTo>
                  <a:lnTo>
                    <a:pt x="2" y="1349"/>
                  </a:lnTo>
                  <a:lnTo>
                    <a:pt x="0" y="1348"/>
                  </a:lnTo>
                  <a:lnTo>
                    <a:pt x="0" y="1344"/>
                  </a:lnTo>
                  <a:lnTo>
                    <a:pt x="0" y="1243"/>
                  </a:lnTo>
                  <a:lnTo>
                    <a:pt x="0" y="1239"/>
                  </a:lnTo>
                  <a:lnTo>
                    <a:pt x="2" y="1236"/>
                  </a:lnTo>
                  <a:lnTo>
                    <a:pt x="3" y="1234"/>
                  </a:lnTo>
                  <a:lnTo>
                    <a:pt x="5" y="1234"/>
                  </a:lnTo>
                  <a:lnTo>
                    <a:pt x="9" y="1234"/>
                  </a:lnTo>
                  <a:lnTo>
                    <a:pt x="11" y="1236"/>
                  </a:lnTo>
                  <a:lnTo>
                    <a:pt x="13" y="1239"/>
                  </a:lnTo>
                  <a:lnTo>
                    <a:pt x="14" y="1243"/>
                  </a:lnTo>
                  <a:lnTo>
                    <a:pt x="14" y="1243"/>
                  </a:lnTo>
                  <a:lnTo>
                    <a:pt x="14" y="1243"/>
                  </a:lnTo>
                  <a:close/>
                  <a:moveTo>
                    <a:pt x="14" y="1418"/>
                  </a:moveTo>
                  <a:lnTo>
                    <a:pt x="14" y="1472"/>
                  </a:lnTo>
                  <a:lnTo>
                    <a:pt x="13" y="1476"/>
                  </a:lnTo>
                  <a:lnTo>
                    <a:pt x="11" y="1478"/>
                  </a:lnTo>
                  <a:lnTo>
                    <a:pt x="9" y="1479"/>
                  </a:lnTo>
                  <a:lnTo>
                    <a:pt x="5" y="1479"/>
                  </a:lnTo>
                  <a:lnTo>
                    <a:pt x="3" y="1479"/>
                  </a:lnTo>
                  <a:lnTo>
                    <a:pt x="2" y="1478"/>
                  </a:lnTo>
                  <a:lnTo>
                    <a:pt x="0" y="1476"/>
                  </a:lnTo>
                  <a:lnTo>
                    <a:pt x="0" y="1472"/>
                  </a:lnTo>
                  <a:lnTo>
                    <a:pt x="0" y="1418"/>
                  </a:lnTo>
                  <a:lnTo>
                    <a:pt x="0" y="1414"/>
                  </a:lnTo>
                  <a:lnTo>
                    <a:pt x="2" y="1411"/>
                  </a:lnTo>
                  <a:lnTo>
                    <a:pt x="3" y="1411"/>
                  </a:lnTo>
                  <a:lnTo>
                    <a:pt x="5" y="1411"/>
                  </a:lnTo>
                  <a:lnTo>
                    <a:pt x="5" y="1411"/>
                  </a:lnTo>
                  <a:lnTo>
                    <a:pt x="7" y="1411"/>
                  </a:lnTo>
                  <a:lnTo>
                    <a:pt x="9" y="1411"/>
                  </a:lnTo>
                  <a:lnTo>
                    <a:pt x="11" y="1411"/>
                  </a:lnTo>
                  <a:lnTo>
                    <a:pt x="13" y="1414"/>
                  </a:lnTo>
                  <a:lnTo>
                    <a:pt x="14" y="1418"/>
                  </a:lnTo>
                  <a:lnTo>
                    <a:pt x="14" y="1418"/>
                  </a:lnTo>
                  <a:lnTo>
                    <a:pt x="14" y="14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197080" y="5704560"/>
              <a:ext cx="6480" cy="578880"/>
              <a:chOff x="2197080" y="5704560"/>
              <a:chExt cx="6480" cy="578880"/>
            </a:xfrm>
          </p:grpSpPr>
          <p:sp>
            <p:nvSpPr>
              <p:cNvPr id="314" name=""/>
              <p:cNvSpPr/>
              <p:nvPr/>
            </p:nvSpPr>
            <p:spPr>
              <a:xfrm>
                <a:off x="2197080" y="5704560"/>
                <a:ext cx="6480" cy="56880"/>
              </a:xfrm>
              <a:custGeom>
                <a:avLst/>
                <a:gdLst/>
                <a:ahLst/>
                <a:rect l="l" t="t" r="r" b="b"/>
                <a:pathLst>
                  <a:path w="14" h="118">
                    <a:moveTo>
                      <a:pt x="14" y="10"/>
                    </a:moveTo>
                    <a:lnTo>
                      <a:pt x="14" y="111"/>
                    </a:lnTo>
                    <a:lnTo>
                      <a:pt x="13" y="114"/>
                    </a:lnTo>
                    <a:lnTo>
                      <a:pt x="11" y="116"/>
                    </a:lnTo>
                    <a:lnTo>
                      <a:pt x="9" y="118"/>
                    </a:lnTo>
                    <a:lnTo>
                      <a:pt x="5" y="118"/>
                    </a:lnTo>
                    <a:lnTo>
                      <a:pt x="3" y="118"/>
                    </a:lnTo>
                    <a:lnTo>
                      <a:pt x="2" y="116"/>
                    </a:lnTo>
                    <a:lnTo>
                      <a:pt x="0" y="114"/>
                    </a:lnTo>
                    <a:lnTo>
                      <a:pt x="0" y="1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3" y="6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97080" y="5790960"/>
                <a:ext cx="6480" cy="57960"/>
              </a:xfrm>
              <a:custGeom>
                <a:avLst/>
                <a:gdLst/>
                <a:ahLst/>
                <a:rect l="l" t="t" r="r" b="b"/>
                <a:pathLst>
                  <a:path w="14" h="118">
                    <a:moveTo>
                      <a:pt x="14" y="10"/>
                    </a:moveTo>
                    <a:lnTo>
                      <a:pt x="14" y="111"/>
                    </a:lnTo>
                    <a:lnTo>
                      <a:pt x="13" y="114"/>
                    </a:lnTo>
                    <a:lnTo>
                      <a:pt x="11" y="116"/>
                    </a:lnTo>
                    <a:lnTo>
                      <a:pt x="9" y="118"/>
                    </a:lnTo>
                    <a:lnTo>
                      <a:pt x="5" y="118"/>
                    </a:lnTo>
                    <a:lnTo>
                      <a:pt x="3" y="118"/>
                    </a:lnTo>
                    <a:lnTo>
                      <a:pt x="2" y="116"/>
                    </a:lnTo>
                    <a:lnTo>
                      <a:pt x="0" y="114"/>
                    </a:lnTo>
                    <a:lnTo>
                      <a:pt x="0" y="1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3" y="6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97080" y="5877360"/>
                <a:ext cx="6480" cy="57960"/>
              </a:xfrm>
              <a:custGeom>
                <a:avLst/>
                <a:gdLst/>
                <a:ahLst/>
                <a:rect l="l" t="t" r="r" b="b"/>
                <a:pathLst>
                  <a:path w="14" h="119">
                    <a:moveTo>
                      <a:pt x="14" y="9"/>
                    </a:moveTo>
                    <a:lnTo>
                      <a:pt x="14" y="112"/>
                    </a:lnTo>
                    <a:lnTo>
                      <a:pt x="13" y="113"/>
                    </a:lnTo>
                    <a:lnTo>
                      <a:pt x="11" y="115"/>
                    </a:lnTo>
                    <a:lnTo>
                      <a:pt x="9" y="117"/>
                    </a:lnTo>
                    <a:lnTo>
                      <a:pt x="5" y="119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97080" y="5964120"/>
                <a:ext cx="6480" cy="57600"/>
              </a:xfrm>
              <a:custGeom>
                <a:avLst/>
                <a:gdLst/>
                <a:ahLst/>
                <a:rect l="l" t="t" r="r" b="b"/>
                <a:pathLst>
                  <a:path w="14" h="117">
                    <a:moveTo>
                      <a:pt x="14" y="9"/>
                    </a:moveTo>
                    <a:lnTo>
                      <a:pt x="14" y="110"/>
                    </a:lnTo>
                    <a:lnTo>
                      <a:pt x="13" y="113"/>
                    </a:lnTo>
                    <a:lnTo>
                      <a:pt x="11" y="115"/>
                    </a:lnTo>
                    <a:lnTo>
                      <a:pt x="9" y="117"/>
                    </a:lnTo>
                    <a:lnTo>
                      <a:pt x="5" y="117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0" y="113"/>
                    </a:lnTo>
                    <a:lnTo>
                      <a:pt x="0" y="1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97080" y="6051240"/>
                <a:ext cx="6480" cy="57600"/>
              </a:xfrm>
              <a:custGeom>
                <a:avLst/>
                <a:gdLst/>
                <a:ahLst/>
                <a:rect l="l" t="t" r="r" b="b"/>
                <a:pathLst>
                  <a:path w="14" h="117">
                    <a:moveTo>
                      <a:pt x="14" y="7"/>
                    </a:moveTo>
                    <a:lnTo>
                      <a:pt x="14" y="110"/>
                    </a:lnTo>
                    <a:lnTo>
                      <a:pt x="13" y="113"/>
                    </a:lnTo>
                    <a:lnTo>
                      <a:pt x="11" y="115"/>
                    </a:lnTo>
                    <a:lnTo>
                      <a:pt x="9" y="117"/>
                    </a:lnTo>
                    <a:lnTo>
                      <a:pt x="5" y="117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0" y="113"/>
                    </a:lnTo>
                    <a:lnTo>
                      <a:pt x="0" y="1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97080" y="6138000"/>
                <a:ext cx="6480" cy="57600"/>
              </a:xfrm>
              <a:custGeom>
                <a:avLst/>
                <a:gdLst/>
                <a:ahLst/>
                <a:rect l="l" t="t" r="r" b="b"/>
                <a:pathLst>
                  <a:path w="14" h="117">
                    <a:moveTo>
                      <a:pt x="14" y="7"/>
                    </a:moveTo>
                    <a:lnTo>
                      <a:pt x="14" y="108"/>
                    </a:lnTo>
                    <a:lnTo>
                      <a:pt x="13" y="112"/>
                    </a:lnTo>
                    <a:lnTo>
                      <a:pt x="11" y="113"/>
                    </a:lnTo>
                    <a:lnTo>
                      <a:pt x="9" y="115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2" y="113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97080" y="6224400"/>
                <a:ext cx="6480" cy="59040"/>
              </a:xfrm>
              <a:custGeom>
                <a:avLst/>
                <a:gdLst/>
                <a:ahLst/>
                <a:rect l="l" t="t" r="r" b="b"/>
                <a:pathLst>
                  <a:path w="14" h="119">
                    <a:moveTo>
                      <a:pt x="14" y="9"/>
                    </a:moveTo>
                    <a:lnTo>
                      <a:pt x="14" y="110"/>
                    </a:lnTo>
                    <a:lnTo>
                      <a:pt x="13" y="114"/>
                    </a:lnTo>
                    <a:lnTo>
                      <a:pt x="11" y="115"/>
                    </a:lnTo>
                    <a:lnTo>
                      <a:pt x="9" y="117"/>
                    </a:lnTo>
                    <a:lnTo>
                      <a:pt x="5" y="119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0" y="114"/>
                    </a:lnTo>
                    <a:lnTo>
                      <a:pt x="0" y="1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3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197080" y="6310800"/>
              <a:ext cx="6480" cy="34200"/>
            </a:xfrm>
            <a:custGeom>
              <a:avLst/>
              <a:gdLst/>
              <a:ahLst/>
              <a:rect l="l" t="t" r="r" b="b"/>
              <a:pathLst>
                <a:path w="14" h="68">
                  <a:moveTo>
                    <a:pt x="14" y="7"/>
                  </a:moveTo>
                  <a:lnTo>
                    <a:pt x="14" y="61"/>
                  </a:lnTo>
                  <a:lnTo>
                    <a:pt x="13" y="65"/>
                  </a:lnTo>
                  <a:lnTo>
                    <a:pt x="11" y="67"/>
                  </a:lnTo>
                  <a:lnTo>
                    <a:pt x="9" y="68"/>
                  </a:lnTo>
                  <a:lnTo>
                    <a:pt x="5" y="68"/>
                  </a:lnTo>
                  <a:lnTo>
                    <a:pt x="3" y="68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773280" y="5616720"/>
            <a:ext cx="1433160" cy="58680"/>
            <a:chOff x="773280" y="5616720"/>
            <a:chExt cx="1433160" cy="58680"/>
          </a:xfrm>
        </p:grpSpPr>
        <p:sp>
          <p:nvSpPr>
            <p:cNvPr id="323" name=""/>
            <p:cNvSpPr/>
            <p:nvPr/>
          </p:nvSpPr>
          <p:spPr>
            <a:xfrm>
              <a:off x="2199960" y="5616720"/>
              <a:ext cx="6480" cy="58680"/>
            </a:xfrm>
            <a:custGeom>
              <a:avLst/>
              <a:gdLst/>
              <a:ahLst/>
              <a:rect l="l" t="t" r="r" b="b"/>
              <a:pathLst>
                <a:path w="14" h="118">
                  <a:moveTo>
                    <a:pt x="14" y="8"/>
                  </a:moveTo>
                  <a:lnTo>
                    <a:pt x="14" y="110"/>
                  </a:lnTo>
                  <a:lnTo>
                    <a:pt x="13" y="114"/>
                  </a:lnTo>
                  <a:lnTo>
                    <a:pt x="11" y="116"/>
                  </a:lnTo>
                  <a:lnTo>
                    <a:pt x="9" y="116"/>
                  </a:lnTo>
                  <a:lnTo>
                    <a:pt x="5" y="118"/>
                  </a:lnTo>
                  <a:lnTo>
                    <a:pt x="3" y="116"/>
                  </a:lnTo>
                  <a:lnTo>
                    <a:pt x="2" y="116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3280" y="5616720"/>
              <a:ext cx="1426680" cy="6840"/>
            </a:xfrm>
            <a:custGeom>
              <a:avLst/>
              <a:gdLst/>
              <a:ahLst/>
              <a:rect l="l" t="t" r="r" b="b"/>
              <a:pathLst>
                <a:path w="2935" h="15">
                  <a:moveTo>
                    <a:pt x="7" y="0"/>
                  </a:moveTo>
                  <a:lnTo>
                    <a:pt x="108" y="0"/>
                  </a:lnTo>
                  <a:lnTo>
                    <a:pt x="112" y="0"/>
                  </a:lnTo>
                  <a:lnTo>
                    <a:pt x="116" y="2"/>
                  </a:lnTo>
                  <a:lnTo>
                    <a:pt x="117" y="4"/>
                  </a:lnTo>
                  <a:lnTo>
                    <a:pt x="117" y="8"/>
                  </a:lnTo>
                  <a:lnTo>
                    <a:pt x="117" y="9"/>
                  </a:lnTo>
                  <a:lnTo>
                    <a:pt x="116" y="11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  <a:moveTo>
                    <a:pt x="182" y="0"/>
                  </a:moveTo>
                  <a:lnTo>
                    <a:pt x="285" y="0"/>
                  </a:lnTo>
                  <a:lnTo>
                    <a:pt x="289" y="0"/>
                  </a:lnTo>
                  <a:lnTo>
                    <a:pt x="293" y="2"/>
                  </a:lnTo>
                  <a:lnTo>
                    <a:pt x="293" y="4"/>
                  </a:lnTo>
                  <a:lnTo>
                    <a:pt x="293" y="8"/>
                  </a:lnTo>
                  <a:lnTo>
                    <a:pt x="293" y="9"/>
                  </a:lnTo>
                  <a:lnTo>
                    <a:pt x="293" y="11"/>
                  </a:lnTo>
                  <a:lnTo>
                    <a:pt x="289" y="13"/>
                  </a:lnTo>
                  <a:lnTo>
                    <a:pt x="285" y="15"/>
                  </a:lnTo>
                  <a:lnTo>
                    <a:pt x="182" y="15"/>
                  </a:lnTo>
                  <a:lnTo>
                    <a:pt x="179" y="13"/>
                  </a:lnTo>
                  <a:lnTo>
                    <a:pt x="177" y="11"/>
                  </a:lnTo>
                  <a:lnTo>
                    <a:pt x="175" y="9"/>
                  </a:lnTo>
                  <a:lnTo>
                    <a:pt x="175" y="8"/>
                  </a:lnTo>
                  <a:lnTo>
                    <a:pt x="175" y="4"/>
                  </a:lnTo>
                  <a:lnTo>
                    <a:pt x="177" y="2"/>
                  </a:lnTo>
                  <a:lnTo>
                    <a:pt x="179" y="0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2" y="0"/>
                  </a:lnTo>
                  <a:close/>
                  <a:moveTo>
                    <a:pt x="359" y="0"/>
                  </a:moveTo>
                  <a:lnTo>
                    <a:pt x="461" y="0"/>
                  </a:lnTo>
                  <a:lnTo>
                    <a:pt x="464" y="0"/>
                  </a:lnTo>
                  <a:lnTo>
                    <a:pt x="466" y="2"/>
                  </a:lnTo>
                  <a:lnTo>
                    <a:pt x="468" y="4"/>
                  </a:lnTo>
                  <a:lnTo>
                    <a:pt x="468" y="8"/>
                  </a:lnTo>
                  <a:lnTo>
                    <a:pt x="468" y="9"/>
                  </a:lnTo>
                  <a:lnTo>
                    <a:pt x="466" y="11"/>
                  </a:lnTo>
                  <a:lnTo>
                    <a:pt x="464" y="13"/>
                  </a:lnTo>
                  <a:lnTo>
                    <a:pt x="461" y="15"/>
                  </a:lnTo>
                  <a:lnTo>
                    <a:pt x="359" y="15"/>
                  </a:lnTo>
                  <a:lnTo>
                    <a:pt x="356" y="13"/>
                  </a:lnTo>
                  <a:lnTo>
                    <a:pt x="352" y="11"/>
                  </a:lnTo>
                  <a:lnTo>
                    <a:pt x="350" y="9"/>
                  </a:lnTo>
                  <a:lnTo>
                    <a:pt x="350" y="8"/>
                  </a:lnTo>
                  <a:lnTo>
                    <a:pt x="350" y="4"/>
                  </a:lnTo>
                  <a:lnTo>
                    <a:pt x="352" y="2"/>
                  </a:lnTo>
                  <a:lnTo>
                    <a:pt x="356" y="0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59" y="0"/>
                  </a:lnTo>
                  <a:close/>
                  <a:moveTo>
                    <a:pt x="536" y="0"/>
                  </a:moveTo>
                  <a:lnTo>
                    <a:pt x="638" y="0"/>
                  </a:lnTo>
                  <a:lnTo>
                    <a:pt x="641" y="0"/>
                  </a:lnTo>
                  <a:lnTo>
                    <a:pt x="643" y="2"/>
                  </a:lnTo>
                  <a:lnTo>
                    <a:pt x="643" y="4"/>
                  </a:lnTo>
                  <a:lnTo>
                    <a:pt x="645" y="8"/>
                  </a:lnTo>
                  <a:lnTo>
                    <a:pt x="643" y="9"/>
                  </a:lnTo>
                  <a:lnTo>
                    <a:pt x="643" y="11"/>
                  </a:lnTo>
                  <a:lnTo>
                    <a:pt x="641" y="13"/>
                  </a:lnTo>
                  <a:lnTo>
                    <a:pt x="638" y="15"/>
                  </a:lnTo>
                  <a:lnTo>
                    <a:pt x="536" y="15"/>
                  </a:lnTo>
                  <a:lnTo>
                    <a:pt x="533" y="13"/>
                  </a:lnTo>
                  <a:lnTo>
                    <a:pt x="529" y="11"/>
                  </a:lnTo>
                  <a:lnTo>
                    <a:pt x="527" y="9"/>
                  </a:lnTo>
                  <a:lnTo>
                    <a:pt x="527" y="8"/>
                  </a:lnTo>
                  <a:lnTo>
                    <a:pt x="527" y="4"/>
                  </a:lnTo>
                  <a:lnTo>
                    <a:pt x="529" y="2"/>
                  </a:lnTo>
                  <a:lnTo>
                    <a:pt x="533" y="0"/>
                  </a:lnTo>
                  <a:lnTo>
                    <a:pt x="536" y="0"/>
                  </a:lnTo>
                  <a:lnTo>
                    <a:pt x="536" y="0"/>
                  </a:lnTo>
                  <a:lnTo>
                    <a:pt x="536" y="0"/>
                  </a:lnTo>
                  <a:close/>
                  <a:moveTo>
                    <a:pt x="712" y="0"/>
                  </a:moveTo>
                  <a:lnTo>
                    <a:pt x="815" y="0"/>
                  </a:lnTo>
                  <a:lnTo>
                    <a:pt x="816" y="0"/>
                  </a:lnTo>
                  <a:lnTo>
                    <a:pt x="818" y="2"/>
                  </a:lnTo>
                  <a:lnTo>
                    <a:pt x="818" y="4"/>
                  </a:lnTo>
                  <a:lnTo>
                    <a:pt x="820" y="8"/>
                  </a:lnTo>
                  <a:lnTo>
                    <a:pt x="818" y="9"/>
                  </a:lnTo>
                  <a:lnTo>
                    <a:pt x="818" y="11"/>
                  </a:lnTo>
                  <a:lnTo>
                    <a:pt x="816" y="13"/>
                  </a:lnTo>
                  <a:lnTo>
                    <a:pt x="815" y="15"/>
                  </a:lnTo>
                  <a:lnTo>
                    <a:pt x="712" y="15"/>
                  </a:lnTo>
                  <a:lnTo>
                    <a:pt x="708" y="13"/>
                  </a:lnTo>
                  <a:lnTo>
                    <a:pt x="706" y="11"/>
                  </a:lnTo>
                  <a:lnTo>
                    <a:pt x="703" y="9"/>
                  </a:lnTo>
                  <a:lnTo>
                    <a:pt x="703" y="9"/>
                  </a:lnTo>
                  <a:lnTo>
                    <a:pt x="703" y="8"/>
                  </a:lnTo>
                  <a:lnTo>
                    <a:pt x="703" y="6"/>
                  </a:lnTo>
                  <a:lnTo>
                    <a:pt x="703" y="4"/>
                  </a:lnTo>
                  <a:lnTo>
                    <a:pt x="706" y="2"/>
                  </a:lnTo>
                  <a:lnTo>
                    <a:pt x="708" y="0"/>
                  </a:lnTo>
                  <a:lnTo>
                    <a:pt x="712" y="0"/>
                  </a:lnTo>
                  <a:lnTo>
                    <a:pt x="712" y="0"/>
                  </a:lnTo>
                  <a:lnTo>
                    <a:pt x="712" y="0"/>
                  </a:lnTo>
                  <a:close/>
                  <a:moveTo>
                    <a:pt x="887" y="0"/>
                  </a:moveTo>
                  <a:lnTo>
                    <a:pt x="990" y="0"/>
                  </a:lnTo>
                  <a:lnTo>
                    <a:pt x="993" y="0"/>
                  </a:lnTo>
                  <a:lnTo>
                    <a:pt x="993" y="2"/>
                  </a:lnTo>
                  <a:lnTo>
                    <a:pt x="995" y="4"/>
                  </a:lnTo>
                  <a:lnTo>
                    <a:pt x="997" y="8"/>
                  </a:lnTo>
                  <a:lnTo>
                    <a:pt x="995" y="9"/>
                  </a:lnTo>
                  <a:lnTo>
                    <a:pt x="993" y="11"/>
                  </a:lnTo>
                  <a:lnTo>
                    <a:pt x="993" y="13"/>
                  </a:lnTo>
                  <a:lnTo>
                    <a:pt x="990" y="15"/>
                  </a:lnTo>
                  <a:lnTo>
                    <a:pt x="887" y="15"/>
                  </a:lnTo>
                  <a:lnTo>
                    <a:pt x="885" y="13"/>
                  </a:lnTo>
                  <a:lnTo>
                    <a:pt x="881" y="11"/>
                  </a:lnTo>
                  <a:lnTo>
                    <a:pt x="880" y="9"/>
                  </a:lnTo>
                  <a:lnTo>
                    <a:pt x="880" y="8"/>
                  </a:lnTo>
                  <a:lnTo>
                    <a:pt x="880" y="4"/>
                  </a:lnTo>
                  <a:lnTo>
                    <a:pt x="881" y="2"/>
                  </a:lnTo>
                  <a:lnTo>
                    <a:pt x="885" y="0"/>
                  </a:lnTo>
                  <a:lnTo>
                    <a:pt x="887" y="0"/>
                  </a:lnTo>
                  <a:lnTo>
                    <a:pt x="887" y="0"/>
                  </a:lnTo>
                  <a:lnTo>
                    <a:pt x="887" y="0"/>
                  </a:lnTo>
                  <a:close/>
                  <a:moveTo>
                    <a:pt x="1062" y="0"/>
                  </a:moveTo>
                  <a:lnTo>
                    <a:pt x="1167" y="0"/>
                  </a:lnTo>
                  <a:lnTo>
                    <a:pt x="1169" y="0"/>
                  </a:lnTo>
                  <a:lnTo>
                    <a:pt x="1170" y="2"/>
                  </a:lnTo>
                  <a:lnTo>
                    <a:pt x="1172" y="4"/>
                  </a:lnTo>
                  <a:lnTo>
                    <a:pt x="1174" y="6"/>
                  </a:lnTo>
                  <a:lnTo>
                    <a:pt x="1174" y="8"/>
                  </a:lnTo>
                  <a:lnTo>
                    <a:pt x="1174" y="9"/>
                  </a:lnTo>
                  <a:lnTo>
                    <a:pt x="1172" y="9"/>
                  </a:lnTo>
                  <a:lnTo>
                    <a:pt x="1170" y="11"/>
                  </a:lnTo>
                  <a:lnTo>
                    <a:pt x="1169" y="13"/>
                  </a:lnTo>
                  <a:lnTo>
                    <a:pt x="1167" y="15"/>
                  </a:lnTo>
                  <a:lnTo>
                    <a:pt x="1062" y="15"/>
                  </a:lnTo>
                  <a:lnTo>
                    <a:pt x="1060" y="13"/>
                  </a:lnTo>
                  <a:lnTo>
                    <a:pt x="1058" y="11"/>
                  </a:lnTo>
                  <a:lnTo>
                    <a:pt x="1057" y="9"/>
                  </a:lnTo>
                  <a:lnTo>
                    <a:pt x="1057" y="8"/>
                  </a:lnTo>
                  <a:lnTo>
                    <a:pt x="1057" y="4"/>
                  </a:lnTo>
                  <a:lnTo>
                    <a:pt x="1058" y="2"/>
                  </a:lnTo>
                  <a:lnTo>
                    <a:pt x="1060" y="0"/>
                  </a:lnTo>
                  <a:lnTo>
                    <a:pt x="1062" y="0"/>
                  </a:lnTo>
                  <a:lnTo>
                    <a:pt x="1062" y="0"/>
                  </a:lnTo>
                  <a:lnTo>
                    <a:pt x="1062" y="0"/>
                  </a:lnTo>
                  <a:close/>
                  <a:moveTo>
                    <a:pt x="1239" y="0"/>
                  </a:moveTo>
                  <a:lnTo>
                    <a:pt x="1342" y="0"/>
                  </a:lnTo>
                  <a:lnTo>
                    <a:pt x="1344" y="0"/>
                  </a:lnTo>
                  <a:lnTo>
                    <a:pt x="1346" y="2"/>
                  </a:lnTo>
                  <a:lnTo>
                    <a:pt x="1347" y="4"/>
                  </a:lnTo>
                  <a:lnTo>
                    <a:pt x="1349" y="8"/>
                  </a:lnTo>
                  <a:lnTo>
                    <a:pt x="1347" y="9"/>
                  </a:lnTo>
                  <a:lnTo>
                    <a:pt x="1346" y="11"/>
                  </a:lnTo>
                  <a:lnTo>
                    <a:pt x="1344" y="13"/>
                  </a:lnTo>
                  <a:lnTo>
                    <a:pt x="1342" y="15"/>
                  </a:lnTo>
                  <a:lnTo>
                    <a:pt x="1239" y="15"/>
                  </a:lnTo>
                  <a:lnTo>
                    <a:pt x="1237" y="13"/>
                  </a:lnTo>
                  <a:lnTo>
                    <a:pt x="1234" y="11"/>
                  </a:lnTo>
                  <a:lnTo>
                    <a:pt x="1232" y="9"/>
                  </a:lnTo>
                  <a:lnTo>
                    <a:pt x="1232" y="8"/>
                  </a:lnTo>
                  <a:lnTo>
                    <a:pt x="1232" y="4"/>
                  </a:lnTo>
                  <a:lnTo>
                    <a:pt x="1234" y="2"/>
                  </a:lnTo>
                  <a:lnTo>
                    <a:pt x="1237" y="0"/>
                  </a:lnTo>
                  <a:lnTo>
                    <a:pt x="1239" y="0"/>
                  </a:lnTo>
                  <a:lnTo>
                    <a:pt x="1239" y="0"/>
                  </a:lnTo>
                  <a:lnTo>
                    <a:pt x="1239" y="0"/>
                  </a:lnTo>
                  <a:close/>
                  <a:moveTo>
                    <a:pt x="1416" y="0"/>
                  </a:moveTo>
                  <a:lnTo>
                    <a:pt x="1519" y="0"/>
                  </a:lnTo>
                  <a:lnTo>
                    <a:pt x="1521" y="0"/>
                  </a:lnTo>
                  <a:lnTo>
                    <a:pt x="1523" y="2"/>
                  </a:lnTo>
                  <a:lnTo>
                    <a:pt x="1524" y="4"/>
                  </a:lnTo>
                  <a:lnTo>
                    <a:pt x="1526" y="8"/>
                  </a:lnTo>
                  <a:lnTo>
                    <a:pt x="1524" y="9"/>
                  </a:lnTo>
                  <a:lnTo>
                    <a:pt x="1523" y="11"/>
                  </a:lnTo>
                  <a:lnTo>
                    <a:pt x="1521" y="13"/>
                  </a:lnTo>
                  <a:lnTo>
                    <a:pt x="1519" y="15"/>
                  </a:lnTo>
                  <a:lnTo>
                    <a:pt x="1416" y="15"/>
                  </a:lnTo>
                  <a:lnTo>
                    <a:pt x="1412" y="13"/>
                  </a:lnTo>
                  <a:lnTo>
                    <a:pt x="1411" y="11"/>
                  </a:lnTo>
                  <a:lnTo>
                    <a:pt x="1409" y="9"/>
                  </a:lnTo>
                  <a:lnTo>
                    <a:pt x="1409" y="8"/>
                  </a:lnTo>
                  <a:lnTo>
                    <a:pt x="1409" y="4"/>
                  </a:lnTo>
                  <a:lnTo>
                    <a:pt x="1411" y="2"/>
                  </a:lnTo>
                  <a:lnTo>
                    <a:pt x="1412" y="0"/>
                  </a:lnTo>
                  <a:lnTo>
                    <a:pt x="1416" y="0"/>
                  </a:lnTo>
                  <a:lnTo>
                    <a:pt x="1416" y="0"/>
                  </a:lnTo>
                  <a:lnTo>
                    <a:pt x="1416" y="0"/>
                  </a:lnTo>
                  <a:close/>
                  <a:moveTo>
                    <a:pt x="1591" y="0"/>
                  </a:moveTo>
                  <a:lnTo>
                    <a:pt x="1694" y="0"/>
                  </a:lnTo>
                  <a:lnTo>
                    <a:pt x="1696" y="0"/>
                  </a:lnTo>
                  <a:lnTo>
                    <a:pt x="1698" y="2"/>
                  </a:lnTo>
                  <a:lnTo>
                    <a:pt x="1700" y="4"/>
                  </a:lnTo>
                  <a:lnTo>
                    <a:pt x="1701" y="8"/>
                  </a:lnTo>
                  <a:lnTo>
                    <a:pt x="1700" y="9"/>
                  </a:lnTo>
                  <a:lnTo>
                    <a:pt x="1698" y="11"/>
                  </a:lnTo>
                  <a:lnTo>
                    <a:pt x="1696" y="13"/>
                  </a:lnTo>
                  <a:lnTo>
                    <a:pt x="1694" y="15"/>
                  </a:lnTo>
                  <a:lnTo>
                    <a:pt x="1591" y="15"/>
                  </a:lnTo>
                  <a:lnTo>
                    <a:pt x="1588" y="13"/>
                  </a:lnTo>
                  <a:lnTo>
                    <a:pt x="1588" y="11"/>
                  </a:lnTo>
                  <a:lnTo>
                    <a:pt x="1584" y="9"/>
                  </a:lnTo>
                  <a:lnTo>
                    <a:pt x="1584" y="9"/>
                  </a:lnTo>
                  <a:lnTo>
                    <a:pt x="1584" y="8"/>
                  </a:lnTo>
                  <a:lnTo>
                    <a:pt x="1584" y="6"/>
                  </a:lnTo>
                  <a:lnTo>
                    <a:pt x="1584" y="4"/>
                  </a:lnTo>
                  <a:lnTo>
                    <a:pt x="1588" y="2"/>
                  </a:lnTo>
                  <a:lnTo>
                    <a:pt x="1588" y="0"/>
                  </a:lnTo>
                  <a:lnTo>
                    <a:pt x="1591" y="0"/>
                  </a:lnTo>
                  <a:lnTo>
                    <a:pt x="1591" y="0"/>
                  </a:lnTo>
                  <a:lnTo>
                    <a:pt x="1591" y="0"/>
                  </a:lnTo>
                  <a:close/>
                  <a:moveTo>
                    <a:pt x="1768" y="0"/>
                  </a:moveTo>
                  <a:lnTo>
                    <a:pt x="1869" y="0"/>
                  </a:lnTo>
                  <a:lnTo>
                    <a:pt x="1873" y="0"/>
                  </a:lnTo>
                  <a:lnTo>
                    <a:pt x="1875" y="2"/>
                  </a:lnTo>
                  <a:lnTo>
                    <a:pt x="1877" y="4"/>
                  </a:lnTo>
                  <a:lnTo>
                    <a:pt x="1878" y="8"/>
                  </a:lnTo>
                  <a:lnTo>
                    <a:pt x="1877" y="9"/>
                  </a:lnTo>
                  <a:lnTo>
                    <a:pt x="1875" y="11"/>
                  </a:lnTo>
                  <a:lnTo>
                    <a:pt x="1873" y="13"/>
                  </a:lnTo>
                  <a:lnTo>
                    <a:pt x="1869" y="15"/>
                  </a:lnTo>
                  <a:lnTo>
                    <a:pt x="1768" y="15"/>
                  </a:lnTo>
                  <a:lnTo>
                    <a:pt x="1765" y="13"/>
                  </a:lnTo>
                  <a:lnTo>
                    <a:pt x="1763" y="11"/>
                  </a:lnTo>
                  <a:lnTo>
                    <a:pt x="1761" y="9"/>
                  </a:lnTo>
                  <a:lnTo>
                    <a:pt x="1761" y="8"/>
                  </a:lnTo>
                  <a:lnTo>
                    <a:pt x="1761" y="4"/>
                  </a:lnTo>
                  <a:lnTo>
                    <a:pt x="1763" y="2"/>
                  </a:lnTo>
                  <a:lnTo>
                    <a:pt x="1765" y="0"/>
                  </a:lnTo>
                  <a:lnTo>
                    <a:pt x="1768" y="0"/>
                  </a:lnTo>
                  <a:lnTo>
                    <a:pt x="1768" y="0"/>
                  </a:lnTo>
                  <a:lnTo>
                    <a:pt x="1768" y="0"/>
                  </a:lnTo>
                  <a:close/>
                  <a:moveTo>
                    <a:pt x="1943" y="0"/>
                  </a:moveTo>
                  <a:lnTo>
                    <a:pt x="2046" y="0"/>
                  </a:lnTo>
                  <a:lnTo>
                    <a:pt x="2048" y="0"/>
                  </a:lnTo>
                  <a:lnTo>
                    <a:pt x="2052" y="2"/>
                  </a:lnTo>
                  <a:lnTo>
                    <a:pt x="2054" y="4"/>
                  </a:lnTo>
                  <a:lnTo>
                    <a:pt x="2055" y="6"/>
                  </a:lnTo>
                  <a:lnTo>
                    <a:pt x="2055" y="8"/>
                  </a:lnTo>
                  <a:lnTo>
                    <a:pt x="2055" y="9"/>
                  </a:lnTo>
                  <a:lnTo>
                    <a:pt x="2054" y="9"/>
                  </a:lnTo>
                  <a:lnTo>
                    <a:pt x="2052" y="11"/>
                  </a:lnTo>
                  <a:lnTo>
                    <a:pt x="2048" y="13"/>
                  </a:lnTo>
                  <a:lnTo>
                    <a:pt x="2046" y="15"/>
                  </a:lnTo>
                  <a:lnTo>
                    <a:pt x="1943" y="15"/>
                  </a:lnTo>
                  <a:lnTo>
                    <a:pt x="1940" y="13"/>
                  </a:lnTo>
                  <a:lnTo>
                    <a:pt x="1938" y="11"/>
                  </a:lnTo>
                  <a:lnTo>
                    <a:pt x="1938" y="9"/>
                  </a:lnTo>
                  <a:lnTo>
                    <a:pt x="1938" y="8"/>
                  </a:lnTo>
                  <a:lnTo>
                    <a:pt x="1938" y="4"/>
                  </a:lnTo>
                  <a:lnTo>
                    <a:pt x="1938" y="2"/>
                  </a:lnTo>
                  <a:lnTo>
                    <a:pt x="1940" y="0"/>
                  </a:lnTo>
                  <a:lnTo>
                    <a:pt x="1943" y="0"/>
                  </a:lnTo>
                  <a:lnTo>
                    <a:pt x="1943" y="0"/>
                  </a:lnTo>
                  <a:lnTo>
                    <a:pt x="1943" y="0"/>
                  </a:lnTo>
                  <a:close/>
                  <a:moveTo>
                    <a:pt x="2120" y="0"/>
                  </a:moveTo>
                  <a:lnTo>
                    <a:pt x="2221" y="0"/>
                  </a:lnTo>
                  <a:lnTo>
                    <a:pt x="2225" y="0"/>
                  </a:lnTo>
                  <a:lnTo>
                    <a:pt x="2227" y="2"/>
                  </a:lnTo>
                  <a:lnTo>
                    <a:pt x="2229" y="4"/>
                  </a:lnTo>
                  <a:lnTo>
                    <a:pt x="2231" y="8"/>
                  </a:lnTo>
                  <a:lnTo>
                    <a:pt x="2229" y="9"/>
                  </a:lnTo>
                  <a:lnTo>
                    <a:pt x="2227" y="11"/>
                  </a:lnTo>
                  <a:lnTo>
                    <a:pt x="2225" y="13"/>
                  </a:lnTo>
                  <a:lnTo>
                    <a:pt x="2221" y="15"/>
                  </a:lnTo>
                  <a:lnTo>
                    <a:pt x="2120" y="15"/>
                  </a:lnTo>
                  <a:lnTo>
                    <a:pt x="2117" y="13"/>
                  </a:lnTo>
                  <a:lnTo>
                    <a:pt x="2113" y="11"/>
                  </a:lnTo>
                  <a:lnTo>
                    <a:pt x="2113" y="9"/>
                  </a:lnTo>
                  <a:lnTo>
                    <a:pt x="2113" y="8"/>
                  </a:lnTo>
                  <a:lnTo>
                    <a:pt x="2113" y="4"/>
                  </a:lnTo>
                  <a:lnTo>
                    <a:pt x="2113" y="2"/>
                  </a:lnTo>
                  <a:lnTo>
                    <a:pt x="2117" y="0"/>
                  </a:lnTo>
                  <a:lnTo>
                    <a:pt x="2120" y="0"/>
                  </a:lnTo>
                  <a:lnTo>
                    <a:pt x="2120" y="0"/>
                  </a:lnTo>
                  <a:lnTo>
                    <a:pt x="2120" y="0"/>
                  </a:lnTo>
                  <a:close/>
                  <a:moveTo>
                    <a:pt x="2297" y="0"/>
                  </a:moveTo>
                  <a:lnTo>
                    <a:pt x="2398" y="0"/>
                  </a:lnTo>
                  <a:lnTo>
                    <a:pt x="2402" y="0"/>
                  </a:lnTo>
                  <a:lnTo>
                    <a:pt x="2404" y="2"/>
                  </a:lnTo>
                  <a:lnTo>
                    <a:pt x="2406" y="4"/>
                  </a:lnTo>
                  <a:lnTo>
                    <a:pt x="2406" y="8"/>
                  </a:lnTo>
                  <a:lnTo>
                    <a:pt x="2406" y="9"/>
                  </a:lnTo>
                  <a:lnTo>
                    <a:pt x="2404" y="11"/>
                  </a:lnTo>
                  <a:lnTo>
                    <a:pt x="2402" y="13"/>
                  </a:lnTo>
                  <a:lnTo>
                    <a:pt x="2398" y="15"/>
                  </a:lnTo>
                  <a:lnTo>
                    <a:pt x="2297" y="15"/>
                  </a:lnTo>
                  <a:lnTo>
                    <a:pt x="2294" y="13"/>
                  </a:lnTo>
                  <a:lnTo>
                    <a:pt x="2290" y="11"/>
                  </a:lnTo>
                  <a:lnTo>
                    <a:pt x="2288" y="9"/>
                  </a:lnTo>
                  <a:lnTo>
                    <a:pt x="2288" y="8"/>
                  </a:lnTo>
                  <a:lnTo>
                    <a:pt x="2288" y="4"/>
                  </a:lnTo>
                  <a:lnTo>
                    <a:pt x="2290" y="2"/>
                  </a:lnTo>
                  <a:lnTo>
                    <a:pt x="2294" y="0"/>
                  </a:lnTo>
                  <a:lnTo>
                    <a:pt x="2297" y="0"/>
                  </a:lnTo>
                  <a:lnTo>
                    <a:pt x="2297" y="0"/>
                  </a:lnTo>
                  <a:lnTo>
                    <a:pt x="2297" y="0"/>
                  </a:lnTo>
                  <a:close/>
                  <a:moveTo>
                    <a:pt x="2473" y="0"/>
                  </a:moveTo>
                  <a:lnTo>
                    <a:pt x="2575" y="0"/>
                  </a:lnTo>
                  <a:lnTo>
                    <a:pt x="2577" y="0"/>
                  </a:lnTo>
                  <a:lnTo>
                    <a:pt x="2579" y="2"/>
                  </a:lnTo>
                  <a:lnTo>
                    <a:pt x="2581" y="4"/>
                  </a:lnTo>
                  <a:lnTo>
                    <a:pt x="2581" y="8"/>
                  </a:lnTo>
                  <a:lnTo>
                    <a:pt x="2581" y="9"/>
                  </a:lnTo>
                  <a:lnTo>
                    <a:pt x="2579" y="11"/>
                  </a:lnTo>
                  <a:lnTo>
                    <a:pt x="2577" y="13"/>
                  </a:lnTo>
                  <a:lnTo>
                    <a:pt x="2575" y="15"/>
                  </a:lnTo>
                  <a:lnTo>
                    <a:pt x="2473" y="15"/>
                  </a:lnTo>
                  <a:lnTo>
                    <a:pt x="2469" y="13"/>
                  </a:lnTo>
                  <a:lnTo>
                    <a:pt x="2465" y="11"/>
                  </a:lnTo>
                  <a:lnTo>
                    <a:pt x="2463" y="9"/>
                  </a:lnTo>
                  <a:lnTo>
                    <a:pt x="2463" y="9"/>
                  </a:lnTo>
                  <a:lnTo>
                    <a:pt x="2463" y="8"/>
                  </a:lnTo>
                  <a:lnTo>
                    <a:pt x="2463" y="6"/>
                  </a:lnTo>
                  <a:lnTo>
                    <a:pt x="2463" y="4"/>
                  </a:lnTo>
                  <a:lnTo>
                    <a:pt x="2465" y="2"/>
                  </a:lnTo>
                  <a:lnTo>
                    <a:pt x="2469" y="0"/>
                  </a:lnTo>
                  <a:lnTo>
                    <a:pt x="2473" y="0"/>
                  </a:lnTo>
                  <a:lnTo>
                    <a:pt x="2473" y="0"/>
                  </a:lnTo>
                  <a:lnTo>
                    <a:pt x="2473" y="0"/>
                  </a:lnTo>
                  <a:close/>
                  <a:moveTo>
                    <a:pt x="2648" y="0"/>
                  </a:moveTo>
                  <a:lnTo>
                    <a:pt x="2751" y="0"/>
                  </a:lnTo>
                  <a:lnTo>
                    <a:pt x="2754" y="0"/>
                  </a:lnTo>
                  <a:lnTo>
                    <a:pt x="2756" y="2"/>
                  </a:lnTo>
                  <a:lnTo>
                    <a:pt x="2756" y="4"/>
                  </a:lnTo>
                  <a:lnTo>
                    <a:pt x="2758" y="8"/>
                  </a:lnTo>
                  <a:lnTo>
                    <a:pt x="2756" y="9"/>
                  </a:lnTo>
                  <a:lnTo>
                    <a:pt x="2756" y="11"/>
                  </a:lnTo>
                  <a:lnTo>
                    <a:pt x="2754" y="13"/>
                  </a:lnTo>
                  <a:lnTo>
                    <a:pt x="2751" y="15"/>
                  </a:lnTo>
                  <a:lnTo>
                    <a:pt x="2648" y="15"/>
                  </a:lnTo>
                  <a:lnTo>
                    <a:pt x="2646" y="13"/>
                  </a:lnTo>
                  <a:lnTo>
                    <a:pt x="2642" y="11"/>
                  </a:lnTo>
                  <a:lnTo>
                    <a:pt x="2640" y="9"/>
                  </a:lnTo>
                  <a:lnTo>
                    <a:pt x="2640" y="8"/>
                  </a:lnTo>
                  <a:lnTo>
                    <a:pt x="2640" y="4"/>
                  </a:lnTo>
                  <a:lnTo>
                    <a:pt x="2642" y="2"/>
                  </a:lnTo>
                  <a:lnTo>
                    <a:pt x="2646" y="0"/>
                  </a:lnTo>
                  <a:lnTo>
                    <a:pt x="2648" y="0"/>
                  </a:lnTo>
                  <a:lnTo>
                    <a:pt x="2648" y="0"/>
                  </a:lnTo>
                  <a:lnTo>
                    <a:pt x="2648" y="0"/>
                  </a:lnTo>
                  <a:close/>
                  <a:moveTo>
                    <a:pt x="2823" y="0"/>
                  </a:moveTo>
                  <a:lnTo>
                    <a:pt x="2928" y="0"/>
                  </a:lnTo>
                  <a:lnTo>
                    <a:pt x="2929" y="0"/>
                  </a:lnTo>
                  <a:lnTo>
                    <a:pt x="2931" y="2"/>
                  </a:lnTo>
                  <a:lnTo>
                    <a:pt x="2933" y="4"/>
                  </a:lnTo>
                  <a:lnTo>
                    <a:pt x="2935" y="6"/>
                  </a:lnTo>
                  <a:lnTo>
                    <a:pt x="2935" y="8"/>
                  </a:lnTo>
                  <a:lnTo>
                    <a:pt x="2935" y="9"/>
                  </a:lnTo>
                  <a:lnTo>
                    <a:pt x="2933" y="9"/>
                  </a:lnTo>
                  <a:lnTo>
                    <a:pt x="2931" y="11"/>
                  </a:lnTo>
                  <a:lnTo>
                    <a:pt x="2929" y="13"/>
                  </a:lnTo>
                  <a:lnTo>
                    <a:pt x="2928" y="15"/>
                  </a:lnTo>
                  <a:lnTo>
                    <a:pt x="2823" y="15"/>
                  </a:lnTo>
                  <a:lnTo>
                    <a:pt x="2821" y="13"/>
                  </a:lnTo>
                  <a:lnTo>
                    <a:pt x="2819" y="11"/>
                  </a:lnTo>
                  <a:lnTo>
                    <a:pt x="2817" y="9"/>
                  </a:lnTo>
                  <a:lnTo>
                    <a:pt x="2817" y="8"/>
                  </a:lnTo>
                  <a:lnTo>
                    <a:pt x="2817" y="4"/>
                  </a:lnTo>
                  <a:lnTo>
                    <a:pt x="2819" y="2"/>
                  </a:lnTo>
                  <a:lnTo>
                    <a:pt x="2821" y="0"/>
                  </a:lnTo>
                  <a:lnTo>
                    <a:pt x="2823" y="0"/>
                  </a:lnTo>
                  <a:lnTo>
                    <a:pt x="2823" y="0"/>
                  </a:lnTo>
                  <a:lnTo>
                    <a:pt x="28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328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08" y="0"/>
                  </a:lnTo>
                  <a:lnTo>
                    <a:pt x="112" y="0"/>
                  </a:lnTo>
                  <a:lnTo>
                    <a:pt x="116" y="2"/>
                  </a:lnTo>
                  <a:lnTo>
                    <a:pt x="117" y="4"/>
                  </a:lnTo>
                  <a:lnTo>
                    <a:pt x="117" y="8"/>
                  </a:lnTo>
                  <a:lnTo>
                    <a:pt x="117" y="9"/>
                  </a:lnTo>
                  <a:lnTo>
                    <a:pt x="116" y="11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5860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7" y="0"/>
                  </a:moveTo>
                  <a:lnTo>
                    <a:pt x="110" y="0"/>
                  </a:lnTo>
                  <a:lnTo>
                    <a:pt x="114" y="0"/>
                  </a:lnTo>
                  <a:lnTo>
                    <a:pt x="118" y="2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8" y="11"/>
                  </a:lnTo>
                  <a:lnTo>
                    <a:pt x="114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44280" y="5616720"/>
              <a:ext cx="5616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9" y="0"/>
                  </a:moveTo>
                  <a:lnTo>
                    <a:pt x="111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1" y="15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2996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9" y="0"/>
                  </a:moveTo>
                  <a:lnTo>
                    <a:pt x="111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8" y="8"/>
                  </a:lnTo>
                  <a:lnTo>
                    <a:pt x="116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1" y="15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15280" y="5616720"/>
              <a:ext cx="5616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9" y="0"/>
                  </a:moveTo>
                  <a:lnTo>
                    <a:pt x="112" y="0"/>
                  </a:lnTo>
                  <a:lnTo>
                    <a:pt x="113" y="0"/>
                  </a:lnTo>
                  <a:lnTo>
                    <a:pt x="115" y="2"/>
                  </a:lnTo>
                  <a:lnTo>
                    <a:pt x="115" y="4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5" y="11"/>
                  </a:lnTo>
                  <a:lnTo>
                    <a:pt x="113" y="13"/>
                  </a:lnTo>
                  <a:lnTo>
                    <a:pt x="112" y="15"/>
                  </a:lnTo>
                  <a:lnTo>
                    <a:pt x="9" y="15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0096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10" y="0"/>
                  </a:lnTo>
                  <a:lnTo>
                    <a:pt x="113" y="0"/>
                  </a:lnTo>
                  <a:lnTo>
                    <a:pt x="113" y="2"/>
                  </a:lnTo>
                  <a:lnTo>
                    <a:pt x="115" y="4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13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5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87360" y="5616720"/>
              <a:ext cx="5616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5" y="0"/>
                  </a:moveTo>
                  <a:lnTo>
                    <a:pt x="110" y="0"/>
                  </a:lnTo>
                  <a:lnTo>
                    <a:pt x="112" y="0"/>
                  </a:lnTo>
                  <a:lnTo>
                    <a:pt x="113" y="2"/>
                  </a:lnTo>
                  <a:lnTo>
                    <a:pt x="115" y="4"/>
                  </a:lnTo>
                  <a:lnTo>
                    <a:pt x="117" y="6"/>
                  </a:lnTo>
                  <a:lnTo>
                    <a:pt x="117" y="8"/>
                  </a:lnTo>
                  <a:lnTo>
                    <a:pt x="117" y="9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12" y="13"/>
                  </a:lnTo>
                  <a:lnTo>
                    <a:pt x="110" y="15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7196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10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5" y="4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5836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10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5" y="4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4296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10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6" y="4"/>
                  </a:lnTo>
                  <a:lnTo>
                    <a:pt x="117" y="8"/>
                  </a:lnTo>
                  <a:lnTo>
                    <a:pt x="116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2936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08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6" y="4"/>
                  </a:lnTo>
                  <a:lnTo>
                    <a:pt x="117" y="8"/>
                  </a:lnTo>
                  <a:lnTo>
                    <a:pt x="116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0072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7" y="0"/>
                  </a:moveTo>
                  <a:lnTo>
                    <a:pt x="108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6" y="4"/>
                  </a:lnTo>
                  <a:lnTo>
                    <a:pt x="118" y="8"/>
                  </a:lnTo>
                  <a:lnTo>
                    <a:pt x="116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86040" y="5616720"/>
              <a:ext cx="5616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9" y="0"/>
                  </a:moveTo>
                  <a:lnTo>
                    <a:pt x="110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0" y="15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7064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10" y="0"/>
                  </a:moveTo>
                  <a:lnTo>
                    <a:pt x="112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2" y="15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57040" y="5616720"/>
              <a:ext cx="5616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8" y="0"/>
                  </a:moveTo>
                  <a:lnTo>
                    <a:pt x="111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8" y="8"/>
                  </a:lnTo>
                  <a:lnTo>
                    <a:pt x="116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1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42720" y="561672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6" y="0"/>
                  </a:moveTo>
                  <a:lnTo>
                    <a:pt x="111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6" y="4"/>
                  </a:lnTo>
                  <a:lnTo>
                    <a:pt x="118" y="6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6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1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 flipV="1">
            <a:off x="774720" y="5621400"/>
            <a:ext cx="2851200" cy="720720"/>
          </a:xfrm>
          <a:prstGeom prst="line">
            <a:avLst/>
          </a:prstGeom>
          <a:ln w="20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09680" y="5016600"/>
            <a:ext cx="2138400" cy="608040"/>
          </a:xfrm>
          <a:custGeom>
            <a:avLst/>
            <a:gdLst/>
            <a:ahLst/>
            <a:rect l="l" t="t" r="r" b="b"/>
            <a:pathLst>
              <a:path w="4402" h="1237">
                <a:moveTo>
                  <a:pt x="0" y="0"/>
                </a:moveTo>
                <a:lnTo>
                  <a:pt x="52" y="103"/>
                </a:lnTo>
                <a:lnTo>
                  <a:pt x="108" y="200"/>
                </a:lnTo>
                <a:lnTo>
                  <a:pt x="168" y="294"/>
                </a:lnTo>
                <a:lnTo>
                  <a:pt x="229" y="381"/>
                </a:lnTo>
                <a:lnTo>
                  <a:pt x="296" y="466"/>
                </a:lnTo>
                <a:lnTo>
                  <a:pt x="363" y="545"/>
                </a:lnTo>
                <a:lnTo>
                  <a:pt x="437" y="621"/>
                </a:lnTo>
                <a:lnTo>
                  <a:pt x="513" y="692"/>
                </a:lnTo>
                <a:lnTo>
                  <a:pt x="593" y="759"/>
                </a:lnTo>
                <a:lnTo>
                  <a:pt x="676" y="822"/>
                </a:lnTo>
                <a:lnTo>
                  <a:pt x="762" y="880"/>
                </a:lnTo>
                <a:lnTo>
                  <a:pt x="853" y="932"/>
                </a:lnTo>
                <a:lnTo>
                  <a:pt x="947" y="982"/>
                </a:lnTo>
                <a:lnTo>
                  <a:pt x="1044" y="1028"/>
                </a:lnTo>
                <a:lnTo>
                  <a:pt x="1142" y="1067"/>
                </a:lnTo>
                <a:lnTo>
                  <a:pt x="1248" y="1105"/>
                </a:lnTo>
                <a:lnTo>
                  <a:pt x="1355" y="1136"/>
                </a:lnTo>
                <a:lnTo>
                  <a:pt x="1465" y="1165"/>
                </a:lnTo>
                <a:lnTo>
                  <a:pt x="1580" y="1187"/>
                </a:lnTo>
                <a:lnTo>
                  <a:pt x="1698" y="1205"/>
                </a:lnTo>
                <a:lnTo>
                  <a:pt x="1817" y="1221"/>
                </a:lnTo>
                <a:lnTo>
                  <a:pt x="1942" y="1232"/>
                </a:lnTo>
                <a:lnTo>
                  <a:pt x="2070" y="1235"/>
                </a:lnTo>
                <a:lnTo>
                  <a:pt x="2202" y="1237"/>
                </a:lnTo>
                <a:lnTo>
                  <a:pt x="2337" y="1235"/>
                </a:lnTo>
                <a:lnTo>
                  <a:pt x="2474" y="1228"/>
                </a:lnTo>
                <a:lnTo>
                  <a:pt x="2615" y="1215"/>
                </a:lnTo>
                <a:lnTo>
                  <a:pt x="2760" y="1199"/>
                </a:lnTo>
                <a:lnTo>
                  <a:pt x="2908" y="1179"/>
                </a:lnTo>
                <a:lnTo>
                  <a:pt x="3060" y="1156"/>
                </a:lnTo>
                <a:lnTo>
                  <a:pt x="3215" y="1127"/>
                </a:lnTo>
                <a:lnTo>
                  <a:pt x="3376" y="1093"/>
                </a:lnTo>
                <a:lnTo>
                  <a:pt x="3536" y="1055"/>
                </a:lnTo>
                <a:lnTo>
                  <a:pt x="3703" y="1013"/>
                </a:lnTo>
                <a:lnTo>
                  <a:pt x="3872" y="966"/>
                </a:lnTo>
                <a:lnTo>
                  <a:pt x="4046" y="916"/>
                </a:lnTo>
                <a:lnTo>
                  <a:pt x="4221" y="861"/>
                </a:lnTo>
                <a:lnTo>
                  <a:pt x="4402" y="802"/>
                </a:lnTo>
              </a:path>
            </a:pathLst>
          </a:custGeom>
          <a:noFill/>
          <a:ln w="20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41480" y="4992840"/>
            <a:ext cx="2584440" cy="1201680"/>
          </a:xfrm>
          <a:custGeom>
            <a:avLst/>
            <a:gdLst/>
            <a:ahLst/>
            <a:rect l="l" t="t" r="r" b="b"/>
            <a:pathLst>
              <a:path w="5319" h="2447">
                <a:moveTo>
                  <a:pt x="0" y="0"/>
                </a:moveTo>
                <a:lnTo>
                  <a:pt x="119" y="161"/>
                </a:lnTo>
                <a:lnTo>
                  <a:pt x="242" y="314"/>
                </a:lnTo>
                <a:lnTo>
                  <a:pt x="365" y="464"/>
                </a:lnTo>
                <a:lnTo>
                  <a:pt x="490" y="607"/>
                </a:lnTo>
                <a:lnTo>
                  <a:pt x="618" y="746"/>
                </a:lnTo>
                <a:lnTo>
                  <a:pt x="746" y="880"/>
                </a:lnTo>
                <a:lnTo>
                  <a:pt x="876" y="1008"/>
                </a:lnTo>
                <a:lnTo>
                  <a:pt x="1012" y="1129"/>
                </a:lnTo>
                <a:lnTo>
                  <a:pt x="1145" y="1245"/>
                </a:lnTo>
                <a:lnTo>
                  <a:pt x="1283" y="1357"/>
                </a:lnTo>
                <a:lnTo>
                  <a:pt x="1422" y="1463"/>
                </a:lnTo>
                <a:lnTo>
                  <a:pt x="1561" y="1564"/>
                </a:lnTo>
                <a:lnTo>
                  <a:pt x="1703" y="1658"/>
                </a:lnTo>
                <a:lnTo>
                  <a:pt x="1848" y="1748"/>
                </a:lnTo>
                <a:lnTo>
                  <a:pt x="1994" y="1833"/>
                </a:lnTo>
                <a:lnTo>
                  <a:pt x="2140" y="1911"/>
                </a:lnTo>
                <a:lnTo>
                  <a:pt x="2292" y="1985"/>
                </a:lnTo>
                <a:lnTo>
                  <a:pt x="2444" y="2054"/>
                </a:lnTo>
                <a:lnTo>
                  <a:pt x="2599" y="2117"/>
                </a:lnTo>
                <a:lnTo>
                  <a:pt x="2755" y="2173"/>
                </a:lnTo>
                <a:lnTo>
                  <a:pt x="2912" y="2225"/>
                </a:lnTo>
                <a:lnTo>
                  <a:pt x="3071" y="2272"/>
                </a:lnTo>
                <a:lnTo>
                  <a:pt x="3231" y="2314"/>
                </a:lnTo>
                <a:lnTo>
                  <a:pt x="3396" y="2348"/>
                </a:lnTo>
                <a:lnTo>
                  <a:pt x="3560" y="2379"/>
                </a:lnTo>
                <a:lnTo>
                  <a:pt x="3728" y="2402"/>
                </a:lnTo>
                <a:lnTo>
                  <a:pt x="3896" y="2422"/>
                </a:lnTo>
                <a:lnTo>
                  <a:pt x="4069" y="2437"/>
                </a:lnTo>
                <a:lnTo>
                  <a:pt x="4241" y="2444"/>
                </a:lnTo>
                <a:lnTo>
                  <a:pt x="4416" y="2447"/>
                </a:lnTo>
                <a:lnTo>
                  <a:pt x="4593" y="2446"/>
                </a:lnTo>
                <a:lnTo>
                  <a:pt x="4770" y="2438"/>
                </a:lnTo>
                <a:lnTo>
                  <a:pt x="4953" y="2424"/>
                </a:lnTo>
                <a:lnTo>
                  <a:pt x="5135" y="2406"/>
                </a:lnTo>
                <a:lnTo>
                  <a:pt x="5319" y="2382"/>
                </a:lnTo>
              </a:path>
            </a:pathLst>
          </a:custGeom>
          <a:noFill/>
          <a:ln w="20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0440" y="3933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TR(q</a:t>
            </a: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5400" y="54054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0000"/>
                </a:solidFill>
                <a:latin typeface="Tahoma"/>
              </a:rPr>
              <a:t>minTR(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6600" y="635940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02000" y="524340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TR(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749760" y="639612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q[kom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076720" y="4149720"/>
            <a:ext cx="63720" cy="2242800"/>
            <a:chOff x="5076720" y="4149720"/>
            <a:chExt cx="63720" cy="2242800"/>
          </a:xfrm>
        </p:grpSpPr>
        <p:sp>
          <p:nvSpPr>
            <p:cNvPr id="350" name=""/>
            <p:cNvSpPr/>
            <p:nvPr/>
          </p:nvSpPr>
          <p:spPr>
            <a:xfrm>
              <a:off x="5108400" y="4237920"/>
              <a:ext cx="720" cy="21546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6720" y="4149720"/>
              <a:ext cx="63720" cy="97200"/>
            </a:xfrm>
            <a:custGeom>
              <a:avLst/>
              <a:gdLst/>
              <a:ahLst/>
              <a:rect l="l" t="t" r="r" b="b"/>
              <a:pathLst>
                <a:path w="132" h="197">
                  <a:moveTo>
                    <a:pt x="0" y="197"/>
                  </a:moveTo>
                  <a:lnTo>
                    <a:pt x="67" y="0"/>
                  </a:lnTo>
                  <a:lnTo>
                    <a:pt x="132" y="19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018040" y="6278400"/>
            <a:ext cx="3654360" cy="65160"/>
            <a:chOff x="5018040" y="6278400"/>
            <a:chExt cx="3654360" cy="65160"/>
          </a:xfrm>
        </p:grpSpPr>
        <p:sp>
          <p:nvSpPr>
            <p:cNvPr id="353" name=""/>
            <p:cNvSpPr/>
            <p:nvPr/>
          </p:nvSpPr>
          <p:spPr>
            <a:xfrm>
              <a:off x="5018040" y="6309720"/>
              <a:ext cx="3566880" cy="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77000" y="6278400"/>
              <a:ext cx="95400" cy="65160"/>
            </a:xfrm>
            <a:custGeom>
              <a:avLst/>
              <a:gdLst/>
              <a:ahLst/>
              <a:rect l="l" t="t" r="r" b="b"/>
              <a:pathLst>
                <a:path w="197" h="132">
                  <a:moveTo>
                    <a:pt x="0" y="0"/>
                  </a:moveTo>
                  <a:lnTo>
                    <a:pt x="197" y="65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531120" y="5586480"/>
            <a:ext cx="6120" cy="726840"/>
            <a:chOff x="6531120" y="5586480"/>
            <a:chExt cx="6120" cy="726840"/>
          </a:xfrm>
        </p:grpSpPr>
        <p:sp>
          <p:nvSpPr>
            <p:cNvPr id="356" name=""/>
            <p:cNvSpPr/>
            <p:nvPr/>
          </p:nvSpPr>
          <p:spPr>
            <a:xfrm>
              <a:off x="6531120" y="5586480"/>
              <a:ext cx="6120" cy="726840"/>
            </a:xfrm>
            <a:custGeom>
              <a:avLst/>
              <a:gdLst/>
              <a:ahLst/>
              <a:rect l="l" t="t" r="r" b="b"/>
              <a:pathLst>
                <a:path w="14" h="1479">
                  <a:moveTo>
                    <a:pt x="14" y="8"/>
                  </a:moveTo>
                  <a:lnTo>
                    <a:pt x="14" y="110"/>
                  </a:lnTo>
                  <a:lnTo>
                    <a:pt x="13" y="114"/>
                  </a:lnTo>
                  <a:lnTo>
                    <a:pt x="11" y="116"/>
                  </a:lnTo>
                  <a:lnTo>
                    <a:pt x="9" y="116"/>
                  </a:lnTo>
                  <a:lnTo>
                    <a:pt x="5" y="118"/>
                  </a:lnTo>
                  <a:lnTo>
                    <a:pt x="3" y="116"/>
                  </a:lnTo>
                  <a:lnTo>
                    <a:pt x="2" y="116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14" y="185"/>
                  </a:moveTo>
                  <a:lnTo>
                    <a:pt x="14" y="286"/>
                  </a:lnTo>
                  <a:lnTo>
                    <a:pt x="13" y="289"/>
                  </a:lnTo>
                  <a:lnTo>
                    <a:pt x="11" y="291"/>
                  </a:lnTo>
                  <a:lnTo>
                    <a:pt x="9" y="293"/>
                  </a:lnTo>
                  <a:lnTo>
                    <a:pt x="5" y="293"/>
                  </a:lnTo>
                  <a:lnTo>
                    <a:pt x="3" y="293"/>
                  </a:lnTo>
                  <a:lnTo>
                    <a:pt x="2" y="291"/>
                  </a:lnTo>
                  <a:lnTo>
                    <a:pt x="0" y="289"/>
                  </a:lnTo>
                  <a:lnTo>
                    <a:pt x="0" y="286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2" y="177"/>
                  </a:lnTo>
                  <a:lnTo>
                    <a:pt x="3" y="175"/>
                  </a:lnTo>
                  <a:lnTo>
                    <a:pt x="5" y="175"/>
                  </a:lnTo>
                  <a:lnTo>
                    <a:pt x="9" y="175"/>
                  </a:lnTo>
                  <a:lnTo>
                    <a:pt x="11" y="177"/>
                  </a:lnTo>
                  <a:lnTo>
                    <a:pt x="13" y="181"/>
                  </a:lnTo>
                  <a:lnTo>
                    <a:pt x="14" y="185"/>
                  </a:lnTo>
                  <a:lnTo>
                    <a:pt x="14" y="185"/>
                  </a:lnTo>
                  <a:lnTo>
                    <a:pt x="14" y="185"/>
                  </a:lnTo>
                  <a:close/>
                  <a:moveTo>
                    <a:pt x="14" y="362"/>
                  </a:moveTo>
                  <a:lnTo>
                    <a:pt x="14" y="463"/>
                  </a:lnTo>
                  <a:lnTo>
                    <a:pt x="13" y="466"/>
                  </a:lnTo>
                  <a:lnTo>
                    <a:pt x="11" y="468"/>
                  </a:lnTo>
                  <a:lnTo>
                    <a:pt x="9" y="470"/>
                  </a:lnTo>
                  <a:lnTo>
                    <a:pt x="5" y="470"/>
                  </a:lnTo>
                  <a:lnTo>
                    <a:pt x="3" y="470"/>
                  </a:lnTo>
                  <a:lnTo>
                    <a:pt x="2" y="468"/>
                  </a:lnTo>
                  <a:lnTo>
                    <a:pt x="0" y="466"/>
                  </a:lnTo>
                  <a:lnTo>
                    <a:pt x="0" y="463"/>
                  </a:lnTo>
                  <a:lnTo>
                    <a:pt x="0" y="362"/>
                  </a:lnTo>
                  <a:lnTo>
                    <a:pt x="0" y="358"/>
                  </a:lnTo>
                  <a:lnTo>
                    <a:pt x="2" y="354"/>
                  </a:lnTo>
                  <a:lnTo>
                    <a:pt x="3" y="352"/>
                  </a:lnTo>
                  <a:lnTo>
                    <a:pt x="5" y="352"/>
                  </a:lnTo>
                  <a:lnTo>
                    <a:pt x="9" y="352"/>
                  </a:lnTo>
                  <a:lnTo>
                    <a:pt x="11" y="354"/>
                  </a:lnTo>
                  <a:lnTo>
                    <a:pt x="13" y="358"/>
                  </a:lnTo>
                  <a:lnTo>
                    <a:pt x="14" y="362"/>
                  </a:lnTo>
                  <a:lnTo>
                    <a:pt x="14" y="362"/>
                  </a:lnTo>
                  <a:lnTo>
                    <a:pt x="14" y="362"/>
                  </a:lnTo>
                  <a:close/>
                  <a:moveTo>
                    <a:pt x="14" y="537"/>
                  </a:moveTo>
                  <a:lnTo>
                    <a:pt x="14" y="640"/>
                  </a:lnTo>
                  <a:lnTo>
                    <a:pt x="13" y="641"/>
                  </a:lnTo>
                  <a:lnTo>
                    <a:pt x="11" y="643"/>
                  </a:lnTo>
                  <a:lnTo>
                    <a:pt x="9" y="645"/>
                  </a:lnTo>
                  <a:lnTo>
                    <a:pt x="5" y="647"/>
                  </a:lnTo>
                  <a:lnTo>
                    <a:pt x="3" y="645"/>
                  </a:lnTo>
                  <a:lnTo>
                    <a:pt x="2" y="643"/>
                  </a:lnTo>
                  <a:lnTo>
                    <a:pt x="0" y="641"/>
                  </a:lnTo>
                  <a:lnTo>
                    <a:pt x="0" y="640"/>
                  </a:lnTo>
                  <a:lnTo>
                    <a:pt x="0" y="537"/>
                  </a:lnTo>
                  <a:lnTo>
                    <a:pt x="0" y="533"/>
                  </a:lnTo>
                  <a:lnTo>
                    <a:pt x="2" y="529"/>
                  </a:lnTo>
                  <a:lnTo>
                    <a:pt x="3" y="528"/>
                  </a:lnTo>
                  <a:lnTo>
                    <a:pt x="5" y="528"/>
                  </a:lnTo>
                  <a:lnTo>
                    <a:pt x="5" y="528"/>
                  </a:lnTo>
                  <a:lnTo>
                    <a:pt x="7" y="528"/>
                  </a:lnTo>
                  <a:lnTo>
                    <a:pt x="9" y="528"/>
                  </a:lnTo>
                  <a:lnTo>
                    <a:pt x="11" y="529"/>
                  </a:lnTo>
                  <a:lnTo>
                    <a:pt x="13" y="533"/>
                  </a:lnTo>
                  <a:lnTo>
                    <a:pt x="14" y="537"/>
                  </a:lnTo>
                  <a:lnTo>
                    <a:pt x="14" y="537"/>
                  </a:lnTo>
                  <a:lnTo>
                    <a:pt x="14" y="537"/>
                  </a:lnTo>
                  <a:close/>
                  <a:moveTo>
                    <a:pt x="14" y="714"/>
                  </a:moveTo>
                  <a:lnTo>
                    <a:pt x="14" y="815"/>
                  </a:lnTo>
                  <a:lnTo>
                    <a:pt x="13" y="818"/>
                  </a:lnTo>
                  <a:lnTo>
                    <a:pt x="11" y="820"/>
                  </a:lnTo>
                  <a:lnTo>
                    <a:pt x="9" y="822"/>
                  </a:lnTo>
                  <a:lnTo>
                    <a:pt x="5" y="822"/>
                  </a:lnTo>
                  <a:lnTo>
                    <a:pt x="3" y="822"/>
                  </a:lnTo>
                  <a:lnTo>
                    <a:pt x="2" y="820"/>
                  </a:lnTo>
                  <a:lnTo>
                    <a:pt x="0" y="818"/>
                  </a:lnTo>
                  <a:lnTo>
                    <a:pt x="0" y="815"/>
                  </a:lnTo>
                  <a:lnTo>
                    <a:pt x="0" y="714"/>
                  </a:lnTo>
                  <a:lnTo>
                    <a:pt x="0" y="710"/>
                  </a:lnTo>
                  <a:lnTo>
                    <a:pt x="2" y="706"/>
                  </a:lnTo>
                  <a:lnTo>
                    <a:pt x="3" y="705"/>
                  </a:lnTo>
                  <a:lnTo>
                    <a:pt x="5" y="705"/>
                  </a:lnTo>
                  <a:lnTo>
                    <a:pt x="9" y="705"/>
                  </a:lnTo>
                  <a:lnTo>
                    <a:pt x="11" y="706"/>
                  </a:lnTo>
                  <a:lnTo>
                    <a:pt x="13" y="710"/>
                  </a:lnTo>
                  <a:lnTo>
                    <a:pt x="14" y="714"/>
                  </a:lnTo>
                  <a:lnTo>
                    <a:pt x="14" y="714"/>
                  </a:lnTo>
                  <a:lnTo>
                    <a:pt x="14" y="714"/>
                  </a:lnTo>
                  <a:close/>
                  <a:moveTo>
                    <a:pt x="14" y="889"/>
                  </a:moveTo>
                  <a:lnTo>
                    <a:pt x="14" y="992"/>
                  </a:lnTo>
                  <a:lnTo>
                    <a:pt x="13" y="995"/>
                  </a:lnTo>
                  <a:lnTo>
                    <a:pt x="11" y="997"/>
                  </a:lnTo>
                  <a:lnTo>
                    <a:pt x="9" y="999"/>
                  </a:lnTo>
                  <a:lnTo>
                    <a:pt x="5" y="999"/>
                  </a:lnTo>
                  <a:lnTo>
                    <a:pt x="3" y="999"/>
                  </a:lnTo>
                  <a:lnTo>
                    <a:pt x="2" y="997"/>
                  </a:lnTo>
                  <a:lnTo>
                    <a:pt x="0" y="995"/>
                  </a:lnTo>
                  <a:lnTo>
                    <a:pt x="0" y="992"/>
                  </a:lnTo>
                  <a:lnTo>
                    <a:pt x="0" y="889"/>
                  </a:lnTo>
                  <a:lnTo>
                    <a:pt x="0" y="885"/>
                  </a:lnTo>
                  <a:lnTo>
                    <a:pt x="2" y="883"/>
                  </a:lnTo>
                  <a:lnTo>
                    <a:pt x="3" y="882"/>
                  </a:lnTo>
                  <a:lnTo>
                    <a:pt x="5" y="882"/>
                  </a:lnTo>
                  <a:lnTo>
                    <a:pt x="9" y="882"/>
                  </a:lnTo>
                  <a:lnTo>
                    <a:pt x="11" y="883"/>
                  </a:lnTo>
                  <a:lnTo>
                    <a:pt x="13" y="885"/>
                  </a:lnTo>
                  <a:lnTo>
                    <a:pt x="14" y="889"/>
                  </a:lnTo>
                  <a:lnTo>
                    <a:pt x="14" y="889"/>
                  </a:lnTo>
                  <a:lnTo>
                    <a:pt x="14" y="889"/>
                  </a:lnTo>
                  <a:close/>
                  <a:moveTo>
                    <a:pt x="14" y="1066"/>
                  </a:moveTo>
                  <a:lnTo>
                    <a:pt x="14" y="1167"/>
                  </a:lnTo>
                  <a:lnTo>
                    <a:pt x="13" y="1171"/>
                  </a:lnTo>
                  <a:lnTo>
                    <a:pt x="11" y="1172"/>
                  </a:lnTo>
                  <a:lnTo>
                    <a:pt x="9" y="1174"/>
                  </a:lnTo>
                  <a:lnTo>
                    <a:pt x="5" y="1176"/>
                  </a:lnTo>
                  <a:lnTo>
                    <a:pt x="3" y="1174"/>
                  </a:lnTo>
                  <a:lnTo>
                    <a:pt x="2" y="1172"/>
                  </a:lnTo>
                  <a:lnTo>
                    <a:pt x="0" y="1171"/>
                  </a:lnTo>
                  <a:lnTo>
                    <a:pt x="0" y="1167"/>
                  </a:lnTo>
                  <a:lnTo>
                    <a:pt x="0" y="1066"/>
                  </a:lnTo>
                  <a:lnTo>
                    <a:pt x="0" y="1062"/>
                  </a:lnTo>
                  <a:lnTo>
                    <a:pt x="2" y="1059"/>
                  </a:lnTo>
                  <a:lnTo>
                    <a:pt x="3" y="1059"/>
                  </a:lnTo>
                  <a:lnTo>
                    <a:pt x="5" y="1059"/>
                  </a:lnTo>
                  <a:lnTo>
                    <a:pt x="9" y="1059"/>
                  </a:lnTo>
                  <a:lnTo>
                    <a:pt x="11" y="1059"/>
                  </a:lnTo>
                  <a:lnTo>
                    <a:pt x="13" y="1062"/>
                  </a:lnTo>
                  <a:lnTo>
                    <a:pt x="14" y="1066"/>
                  </a:lnTo>
                  <a:lnTo>
                    <a:pt x="14" y="1066"/>
                  </a:lnTo>
                  <a:lnTo>
                    <a:pt x="14" y="1066"/>
                  </a:lnTo>
                  <a:close/>
                  <a:moveTo>
                    <a:pt x="14" y="1243"/>
                  </a:moveTo>
                  <a:lnTo>
                    <a:pt x="14" y="1344"/>
                  </a:lnTo>
                  <a:lnTo>
                    <a:pt x="13" y="1348"/>
                  </a:lnTo>
                  <a:lnTo>
                    <a:pt x="11" y="1349"/>
                  </a:lnTo>
                  <a:lnTo>
                    <a:pt x="9" y="1351"/>
                  </a:lnTo>
                  <a:lnTo>
                    <a:pt x="5" y="1353"/>
                  </a:lnTo>
                  <a:lnTo>
                    <a:pt x="3" y="1351"/>
                  </a:lnTo>
                  <a:lnTo>
                    <a:pt x="2" y="1349"/>
                  </a:lnTo>
                  <a:lnTo>
                    <a:pt x="0" y="1348"/>
                  </a:lnTo>
                  <a:lnTo>
                    <a:pt x="0" y="1344"/>
                  </a:lnTo>
                  <a:lnTo>
                    <a:pt x="0" y="1243"/>
                  </a:lnTo>
                  <a:lnTo>
                    <a:pt x="0" y="1239"/>
                  </a:lnTo>
                  <a:lnTo>
                    <a:pt x="2" y="1236"/>
                  </a:lnTo>
                  <a:lnTo>
                    <a:pt x="3" y="1234"/>
                  </a:lnTo>
                  <a:lnTo>
                    <a:pt x="5" y="1234"/>
                  </a:lnTo>
                  <a:lnTo>
                    <a:pt x="9" y="1234"/>
                  </a:lnTo>
                  <a:lnTo>
                    <a:pt x="11" y="1236"/>
                  </a:lnTo>
                  <a:lnTo>
                    <a:pt x="13" y="1239"/>
                  </a:lnTo>
                  <a:lnTo>
                    <a:pt x="14" y="1243"/>
                  </a:lnTo>
                  <a:lnTo>
                    <a:pt x="14" y="1243"/>
                  </a:lnTo>
                  <a:lnTo>
                    <a:pt x="14" y="1243"/>
                  </a:lnTo>
                  <a:close/>
                  <a:moveTo>
                    <a:pt x="14" y="1418"/>
                  </a:moveTo>
                  <a:lnTo>
                    <a:pt x="14" y="1472"/>
                  </a:lnTo>
                  <a:lnTo>
                    <a:pt x="13" y="1476"/>
                  </a:lnTo>
                  <a:lnTo>
                    <a:pt x="11" y="1478"/>
                  </a:lnTo>
                  <a:lnTo>
                    <a:pt x="9" y="1479"/>
                  </a:lnTo>
                  <a:lnTo>
                    <a:pt x="5" y="1479"/>
                  </a:lnTo>
                  <a:lnTo>
                    <a:pt x="3" y="1479"/>
                  </a:lnTo>
                  <a:lnTo>
                    <a:pt x="2" y="1478"/>
                  </a:lnTo>
                  <a:lnTo>
                    <a:pt x="0" y="1476"/>
                  </a:lnTo>
                  <a:lnTo>
                    <a:pt x="0" y="1472"/>
                  </a:lnTo>
                  <a:lnTo>
                    <a:pt x="0" y="1418"/>
                  </a:lnTo>
                  <a:lnTo>
                    <a:pt x="0" y="1414"/>
                  </a:lnTo>
                  <a:lnTo>
                    <a:pt x="2" y="1411"/>
                  </a:lnTo>
                  <a:lnTo>
                    <a:pt x="3" y="1411"/>
                  </a:lnTo>
                  <a:lnTo>
                    <a:pt x="5" y="1411"/>
                  </a:lnTo>
                  <a:lnTo>
                    <a:pt x="5" y="1411"/>
                  </a:lnTo>
                  <a:lnTo>
                    <a:pt x="7" y="1411"/>
                  </a:lnTo>
                  <a:lnTo>
                    <a:pt x="9" y="1411"/>
                  </a:lnTo>
                  <a:lnTo>
                    <a:pt x="11" y="1411"/>
                  </a:lnTo>
                  <a:lnTo>
                    <a:pt x="13" y="1414"/>
                  </a:lnTo>
                  <a:lnTo>
                    <a:pt x="14" y="1418"/>
                  </a:lnTo>
                  <a:lnTo>
                    <a:pt x="14" y="1418"/>
                  </a:lnTo>
                  <a:lnTo>
                    <a:pt x="14" y="14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6531120" y="5672880"/>
              <a:ext cx="6120" cy="578160"/>
              <a:chOff x="6531120" y="5672880"/>
              <a:chExt cx="6120" cy="578160"/>
            </a:xfrm>
          </p:grpSpPr>
          <p:sp>
            <p:nvSpPr>
              <p:cNvPr id="358" name=""/>
              <p:cNvSpPr/>
              <p:nvPr/>
            </p:nvSpPr>
            <p:spPr>
              <a:xfrm>
                <a:off x="6531120" y="5672880"/>
                <a:ext cx="6120" cy="56880"/>
              </a:xfrm>
              <a:custGeom>
                <a:avLst/>
                <a:gdLst/>
                <a:ahLst/>
                <a:rect l="l" t="t" r="r" b="b"/>
                <a:pathLst>
                  <a:path w="14" h="118">
                    <a:moveTo>
                      <a:pt x="14" y="10"/>
                    </a:moveTo>
                    <a:lnTo>
                      <a:pt x="14" y="111"/>
                    </a:lnTo>
                    <a:lnTo>
                      <a:pt x="13" y="114"/>
                    </a:lnTo>
                    <a:lnTo>
                      <a:pt x="11" y="116"/>
                    </a:lnTo>
                    <a:lnTo>
                      <a:pt x="9" y="118"/>
                    </a:lnTo>
                    <a:lnTo>
                      <a:pt x="5" y="118"/>
                    </a:lnTo>
                    <a:lnTo>
                      <a:pt x="3" y="118"/>
                    </a:lnTo>
                    <a:lnTo>
                      <a:pt x="2" y="116"/>
                    </a:lnTo>
                    <a:lnTo>
                      <a:pt x="0" y="114"/>
                    </a:lnTo>
                    <a:lnTo>
                      <a:pt x="0" y="1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3" y="6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531120" y="5759280"/>
                <a:ext cx="6120" cy="57960"/>
              </a:xfrm>
              <a:custGeom>
                <a:avLst/>
                <a:gdLst/>
                <a:ahLst/>
                <a:rect l="l" t="t" r="r" b="b"/>
                <a:pathLst>
                  <a:path w="14" h="118">
                    <a:moveTo>
                      <a:pt x="14" y="10"/>
                    </a:moveTo>
                    <a:lnTo>
                      <a:pt x="14" y="111"/>
                    </a:lnTo>
                    <a:lnTo>
                      <a:pt x="13" y="114"/>
                    </a:lnTo>
                    <a:lnTo>
                      <a:pt x="11" y="116"/>
                    </a:lnTo>
                    <a:lnTo>
                      <a:pt x="9" y="118"/>
                    </a:lnTo>
                    <a:lnTo>
                      <a:pt x="5" y="118"/>
                    </a:lnTo>
                    <a:lnTo>
                      <a:pt x="3" y="118"/>
                    </a:lnTo>
                    <a:lnTo>
                      <a:pt x="2" y="116"/>
                    </a:lnTo>
                    <a:lnTo>
                      <a:pt x="0" y="114"/>
                    </a:lnTo>
                    <a:lnTo>
                      <a:pt x="0" y="1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3" y="6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31120" y="5845680"/>
                <a:ext cx="6120" cy="57960"/>
              </a:xfrm>
              <a:custGeom>
                <a:avLst/>
                <a:gdLst/>
                <a:ahLst/>
                <a:rect l="l" t="t" r="r" b="b"/>
                <a:pathLst>
                  <a:path w="14" h="119">
                    <a:moveTo>
                      <a:pt x="14" y="9"/>
                    </a:moveTo>
                    <a:lnTo>
                      <a:pt x="14" y="112"/>
                    </a:lnTo>
                    <a:lnTo>
                      <a:pt x="13" y="113"/>
                    </a:lnTo>
                    <a:lnTo>
                      <a:pt x="11" y="115"/>
                    </a:lnTo>
                    <a:lnTo>
                      <a:pt x="9" y="117"/>
                    </a:lnTo>
                    <a:lnTo>
                      <a:pt x="5" y="119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531120" y="5932080"/>
                <a:ext cx="6120" cy="57600"/>
              </a:xfrm>
              <a:custGeom>
                <a:avLst/>
                <a:gdLst/>
                <a:ahLst/>
                <a:rect l="l" t="t" r="r" b="b"/>
                <a:pathLst>
                  <a:path w="14" h="117">
                    <a:moveTo>
                      <a:pt x="14" y="9"/>
                    </a:moveTo>
                    <a:lnTo>
                      <a:pt x="14" y="110"/>
                    </a:lnTo>
                    <a:lnTo>
                      <a:pt x="13" y="113"/>
                    </a:lnTo>
                    <a:lnTo>
                      <a:pt x="11" y="115"/>
                    </a:lnTo>
                    <a:lnTo>
                      <a:pt x="9" y="117"/>
                    </a:lnTo>
                    <a:lnTo>
                      <a:pt x="5" y="117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0" y="113"/>
                    </a:lnTo>
                    <a:lnTo>
                      <a:pt x="0" y="1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531120" y="6019560"/>
                <a:ext cx="6120" cy="57600"/>
              </a:xfrm>
              <a:custGeom>
                <a:avLst/>
                <a:gdLst/>
                <a:ahLst/>
                <a:rect l="l" t="t" r="r" b="b"/>
                <a:pathLst>
                  <a:path w="14" h="117">
                    <a:moveTo>
                      <a:pt x="14" y="7"/>
                    </a:moveTo>
                    <a:lnTo>
                      <a:pt x="14" y="110"/>
                    </a:lnTo>
                    <a:lnTo>
                      <a:pt x="13" y="113"/>
                    </a:lnTo>
                    <a:lnTo>
                      <a:pt x="11" y="115"/>
                    </a:lnTo>
                    <a:lnTo>
                      <a:pt x="9" y="117"/>
                    </a:lnTo>
                    <a:lnTo>
                      <a:pt x="5" y="117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0" y="113"/>
                    </a:lnTo>
                    <a:lnTo>
                      <a:pt x="0" y="1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531120" y="6105960"/>
                <a:ext cx="6120" cy="57600"/>
              </a:xfrm>
              <a:custGeom>
                <a:avLst/>
                <a:gdLst/>
                <a:ahLst/>
                <a:rect l="l" t="t" r="r" b="b"/>
                <a:pathLst>
                  <a:path w="14" h="117">
                    <a:moveTo>
                      <a:pt x="14" y="7"/>
                    </a:moveTo>
                    <a:lnTo>
                      <a:pt x="14" y="108"/>
                    </a:lnTo>
                    <a:lnTo>
                      <a:pt x="13" y="112"/>
                    </a:lnTo>
                    <a:lnTo>
                      <a:pt x="11" y="113"/>
                    </a:lnTo>
                    <a:lnTo>
                      <a:pt x="9" y="115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2" y="113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31120" y="6192360"/>
                <a:ext cx="6120" cy="58680"/>
              </a:xfrm>
              <a:custGeom>
                <a:avLst/>
                <a:gdLst/>
                <a:ahLst/>
                <a:rect l="l" t="t" r="r" b="b"/>
                <a:pathLst>
                  <a:path w="14" h="119">
                    <a:moveTo>
                      <a:pt x="14" y="9"/>
                    </a:moveTo>
                    <a:lnTo>
                      <a:pt x="14" y="110"/>
                    </a:lnTo>
                    <a:lnTo>
                      <a:pt x="13" y="114"/>
                    </a:lnTo>
                    <a:lnTo>
                      <a:pt x="11" y="115"/>
                    </a:lnTo>
                    <a:lnTo>
                      <a:pt x="9" y="117"/>
                    </a:lnTo>
                    <a:lnTo>
                      <a:pt x="5" y="119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0" y="114"/>
                    </a:lnTo>
                    <a:lnTo>
                      <a:pt x="0" y="1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3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531120" y="6278760"/>
              <a:ext cx="6120" cy="34200"/>
            </a:xfrm>
            <a:custGeom>
              <a:avLst/>
              <a:gdLst/>
              <a:ahLst/>
              <a:rect l="l" t="t" r="r" b="b"/>
              <a:pathLst>
                <a:path w="14" h="68">
                  <a:moveTo>
                    <a:pt x="14" y="7"/>
                  </a:moveTo>
                  <a:lnTo>
                    <a:pt x="14" y="61"/>
                  </a:lnTo>
                  <a:lnTo>
                    <a:pt x="13" y="65"/>
                  </a:lnTo>
                  <a:lnTo>
                    <a:pt x="11" y="67"/>
                  </a:lnTo>
                  <a:lnTo>
                    <a:pt x="9" y="68"/>
                  </a:lnTo>
                  <a:lnTo>
                    <a:pt x="5" y="68"/>
                  </a:lnTo>
                  <a:lnTo>
                    <a:pt x="3" y="68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106960" y="5584680"/>
            <a:ext cx="1433160" cy="59040"/>
            <a:chOff x="5106960" y="5584680"/>
            <a:chExt cx="1433160" cy="59040"/>
          </a:xfrm>
        </p:grpSpPr>
        <p:sp>
          <p:nvSpPr>
            <p:cNvPr id="367" name=""/>
            <p:cNvSpPr/>
            <p:nvPr/>
          </p:nvSpPr>
          <p:spPr>
            <a:xfrm>
              <a:off x="6533640" y="5584680"/>
              <a:ext cx="6480" cy="59040"/>
            </a:xfrm>
            <a:custGeom>
              <a:avLst/>
              <a:gdLst/>
              <a:ahLst/>
              <a:rect l="l" t="t" r="r" b="b"/>
              <a:pathLst>
                <a:path w="14" h="118">
                  <a:moveTo>
                    <a:pt x="14" y="8"/>
                  </a:moveTo>
                  <a:lnTo>
                    <a:pt x="14" y="110"/>
                  </a:lnTo>
                  <a:lnTo>
                    <a:pt x="13" y="114"/>
                  </a:lnTo>
                  <a:lnTo>
                    <a:pt x="11" y="116"/>
                  </a:lnTo>
                  <a:lnTo>
                    <a:pt x="9" y="116"/>
                  </a:lnTo>
                  <a:lnTo>
                    <a:pt x="5" y="118"/>
                  </a:lnTo>
                  <a:lnTo>
                    <a:pt x="3" y="116"/>
                  </a:lnTo>
                  <a:lnTo>
                    <a:pt x="2" y="116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06960" y="5584680"/>
              <a:ext cx="1426680" cy="6840"/>
            </a:xfrm>
            <a:custGeom>
              <a:avLst/>
              <a:gdLst/>
              <a:ahLst/>
              <a:rect l="l" t="t" r="r" b="b"/>
              <a:pathLst>
                <a:path w="2935" h="15">
                  <a:moveTo>
                    <a:pt x="7" y="0"/>
                  </a:moveTo>
                  <a:lnTo>
                    <a:pt x="108" y="0"/>
                  </a:lnTo>
                  <a:lnTo>
                    <a:pt x="112" y="0"/>
                  </a:lnTo>
                  <a:lnTo>
                    <a:pt x="116" y="2"/>
                  </a:lnTo>
                  <a:lnTo>
                    <a:pt x="117" y="4"/>
                  </a:lnTo>
                  <a:lnTo>
                    <a:pt x="117" y="8"/>
                  </a:lnTo>
                  <a:lnTo>
                    <a:pt x="117" y="9"/>
                  </a:lnTo>
                  <a:lnTo>
                    <a:pt x="116" y="11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  <a:moveTo>
                    <a:pt x="182" y="0"/>
                  </a:moveTo>
                  <a:lnTo>
                    <a:pt x="285" y="0"/>
                  </a:lnTo>
                  <a:lnTo>
                    <a:pt x="289" y="0"/>
                  </a:lnTo>
                  <a:lnTo>
                    <a:pt x="293" y="2"/>
                  </a:lnTo>
                  <a:lnTo>
                    <a:pt x="293" y="4"/>
                  </a:lnTo>
                  <a:lnTo>
                    <a:pt x="293" y="8"/>
                  </a:lnTo>
                  <a:lnTo>
                    <a:pt x="293" y="9"/>
                  </a:lnTo>
                  <a:lnTo>
                    <a:pt x="293" y="11"/>
                  </a:lnTo>
                  <a:lnTo>
                    <a:pt x="289" y="13"/>
                  </a:lnTo>
                  <a:lnTo>
                    <a:pt x="285" y="15"/>
                  </a:lnTo>
                  <a:lnTo>
                    <a:pt x="182" y="15"/>
                  </a:lnTo>
                  <a:lnTo>
                    <a:pt x="179" y="13"/>
                  </a:lnTo>
                  <a:lnTo>
                    <a:pt x="177" y="11"/>
                  </a:lnTo>
                  <a:lnTo>
                    <a:pt x="175" y="9"/>
                  </a:lnTo>
                  <a:lnTo>
                    <a:pt x="175" y="8"/>
                  </a:lnTo>
                  <a:lnTo>
                    <a:pt x="175" y="4"/>
                  </a:lnTo>
                  <a:lnTo>
                    <a:pt x="177" y="2"/>
                  </a:lnTo>
                  <a:lnTo>
                    <a:pt x="179" y="0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2" y="0"/>
                  </a:lnTo>
                  <a:close/>
                  <a:moveTo>
                    <a:pt x="359" y="0"/>
                  </a:moveTo>
                  <a:lnTo>
                    <a:pt x="461" y="0"/>
                  </a:lnTo>
                  <a:lnTo>
                    <a:pt x="464" y="0"/>
                  </a:lnTo>
                  <a:lnTo>
                    <a:pt x="466" y="2"/>
                  </a:lnTo>
                  <a:lnTo>
                    <a:pt x="468" y="4"/>
                  </a:lnTo>
                  <a:lnTo>
                    <a:pt x="468" y="8"/>
                  </a:lnTo>
                  <a:lnTo>
                    <a:pt x="468" y="9"/>
                  </a:lnTo>
                  <a:lnTo>
                    <a:pt x="466" y="11"/>
                  </a:lnTo>
                  <a:lnTo>
                    <a:pt x="464" y="13"/>
                  </a:lnTo>
                  <a:lnTo>
                    <a:pt x="461" y="15"/>
                  </a:lnTo>
                  <a:lnTo>
                    <a:pt x="359" y="15"/>
                  </a:lnTo>
                  <a:lnTo>
                    <a:pt x="356" y="13"/>
                  </a:lnTo>
                  <a:lnTo>
                    <a:pt x="352" y="11"/>
                  </a:lnTo>
                  <a:lnTo>
                    <a:pt x="350" y="9"/>
                  </a:lnTo>
                  <a:lnTo>
                    <a:pt x="350" y="8"/>
                  </a:lnTo>
                  <a:lnTo>
                    <a:pt x="350" y="4"/>
                  </a:lnTo>
                  <a:lnTo>
                    <a:pt x="352" y="2"/>
                  </a:lnTo>
                  <a:lnTo>
                    <a:pt x="356" y="0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59" y="0"/>
                  </a:lnTo>
                  <a:close/>
                  <a:moveTo>
                    <a:pt x="536" y="0"/>
                  </a:moveTo>
                  <a:lnTo>
                    <a:pt x="638" y="0"/>
                  </a:lnTo>
                  <a:lnTo>
                    <a:pt x="641" y="0"/>
                  </a:lnTo>
                  <a:lnTo>
                    <a:pt x="643" y="2"/>
                  </a:lnTo>
                  <a:lnTo>
                    <a:pt x="643" y="4"/>
                  </a:lnTo>
                  <a:lnTo>
                    <a:pt x="645" y="8"/>
                  </a:lnTo>
                  <a:lnTo>
                    <a:pt x="643" y="9"/>
                  </a:lnTo>
                  <a:lnTo>
                    <a:pt x="643" y="11"/>
                  </a:lnTo>
                  <a:lnTo>
                    <a:pt x="641" y="13"/>
                  </a:lnTo>
                  <a:lnTo>
                    <a:pt x="638" y="15"/>
                  </a:lnTo>
                  <a:lnTo>
                    <a:pt x="536" y="15"/>
                  </a:lnTo>
                  <a:lnTo>
                    <a:pt x="533" y="13"/>
                  </a:lnTo>
                  <a:lnTo>
                    <a:pt x="529" y="11"/>
                  </a:lnTo>
                  <a:lnTo>
                    <a:pt x="527" y="9"/>
                  </a:lnTo>
                  <a:lnTo>
                    <a:pt x="527" y="8"/>
                  </a:lnTo>
                  <a:lnTo>
                    <a:pt x="527" y="4"/>
                  </a:lnTo>
                  <a:lnTo>
                    <a:pt x="529" y="2"/>
                  </a:lnTo>
                  <a:lnTo>
                    <a:pt x="533" y="0"/>
                  </a:lnTo>
                  <a:lnTo>
                    <a:pt x="536" y="0"/>
                  </a:lnTo>
                  <a:lnTo>
                    <a:pt x="536" y="0"/>
                  </a:lnTo>
                  <a:lnTo>
                    <a:pt x="536" y="0"/>
                  </a:lnTo>
                  <a:close/>
                  <a:moveTo>
                    <a:pt x="712" y="0"/>
                  </a:moveTo>
                  <a:lnTo>
                    <a:pt x="815" y="0"/>
                  </a:lnTo>
                  <a:lnTo>
                    <a:pt x="816" y="0"/>
                  </a:lnTo>
                  <a:lnTo>
                    <a:pt x="818" y="2"/>
                  </a:lnTo>
                  <a:lnTo>
                    <a:pt x="818" y="4"/>
                  </a:lnTo>
                  <a:lnTo>
                    <a:pt x="820" y="8"/>
                  </a:lnTo>
                  <a:lnTo>
                    <a:pt x="818" y="9"/>
                  </a:lnTo>
                  <a:lnTo>
                    <a:pt x="818" y="11"/>
                  </a:lnTo>
                  <a:lnTo>
                    <a:pt x="816" y="13"/>
                  </a:lnTo>
                  <a:lnTo>
                    <a:pt x="815" y="15"/>
                  </a:lnTo>
                  <a:lnTo>
                    <a:pt x="712" y="15"/>
                  </a:lnTo>
                  <a:lnTo>
                    <a:pt x="708" y="13"/>
                  </a:lnTo>
                  <a:lnTo>
                    <a:pt x="706" y="11"/>
                  </a:lnTo>
                  <a:lnTo>
                    <a:pt x="703" y="9"/>
                  </a:lnTo>
                  <a:lnTo>
                    <a:pt x="703" y="9"/>
                  </a:lnTo>
                  <a:lnTo>
                    <a:pt x="703" y="8"/>
                  </a:lnTo>
                  <a:lnTo>
                    <a:pt x="703" y="6"/>
                  </a:lnTo>
                  <a:lnTo>
                    <a:pt x="703" y="4"/>
                  </a:lnTo>
                  <a:lnTo>
                    <a:pt x="706" y="2"/>
                  </a:lnTo>
                  <a:lnTo>
                    <a:pt x="708" y="0"/>
                  </a:lnTo>
                  <a:lnTo>
                    <a:pt x="712" y="0"/>
                  </a:lnTo>
                  <a:lnTo>
                    <a:pt x="712" y="0"/>
                  </a:lnTo>
                  <a:lnTo>
                    <a:pt x="712" y="0"/>
                  </a:lnTo>
                  <a:close/>
                  <a:moveTo>
                    <a:pt x="887" y="0"/>
                  </a:moveTo>
                  <a:lnTo>
                    <a:pt x="990" y="0"/>
                  </a:lnTo>
                  <a:lnTo>
                    <a:pt x="993" y="0"/>
                  </a:lnTo>
                  <a:lnTo>
                    <a:pt x="993" y="2"/>
                  </a:lnTo>
                  <a:lnTo>
                    <a:pt x="995" y="4"/>
                  </a:lnTo>
                  <a:lnTo>
                    <a:pt x="997" y="8"/>
                  </a:lnTo>
                  <a:lnTo>
                    <a:pt x="995" y="9"/>
                  </a:lnTo>
                  <a:lnTo>
                    <a:pt x="993" y="11"/>
                  </a:lnTo>
                  <a:lnTo>
                    <a:pt x="993" y="13"/>
                  </a:lnTo>
                  <a:lnTo>
                    <a:pt x="990" y="15"/>
                  </a:lnTo>
                  <a:lnTo>
                    <a:pt x="887" y="15"/>
                  </a:lnTo>
                  <a:lnTo>
                    <a:pt x="885" y="13"/>
                  </a:lnTo>
                  <a:lnTo>
                    <a:pt x="881" y="11"/>
                  </a:lnTo>
                  <a:lnTo>
                    <a:pt x="880" y="9"/>
                  </a:lnTo>
                  <a:lnTo>
                    <a:pt x="880" y="8"/>
                  </a:lnTo>
                  <a:lnTo>
                    <a:pt x="880" y="4"/>
                  </a:lnTo>
                  <a:lnTo>
                    <a:pt x="881" y="2"/>
                  </a:lnTo>
                  <a:lnTo>
                    <a:pt x="885" y="0"/>
                  </a:lnTo>
                  <a:lnTo>
                    <a:pt x="887" y="0"/>
                  </a:lnTo>
                  <a:lnTo>
                    <a:pt x="887" y="0"/>
                  </a:lnTo>
                  <a:lnTo>
                    <a:pt x="887" y="0"/>
                  </a:lnTo>
                  <a:close/>
                  <a:moveTo>
                    <a:pt x="1062" y="0"/>
                  </a:moveTo>
                  <a:lnTo>
                    <a:pt x="1167" y="0"/>
                  </a:lnTo>
                  <a:lnTo>
                    <a:pt x="1169" y="0"/>
                  </a:lnTo>
                  <a:lnTo>
                    <a:pt x="1170" y="2"/>
                  </a:lnTo>
                  <a:lnTo>
                    <a:pt x="1172" y="4"/>
                  </a:lnTo>
                  <a:lnTo>
                    <a:pt x="1174" y="6"/>
                  </a:lnTo>
                  <a:lnTo>
                    <a:pt x="1174" y="8"/>
                  </a:lnTo>
                  <a:lnTo>
                    <a:pt x="1174" y="9"/>
                  </a:lnTo>
                  <a:lnTo>
                    <a:pt x="1172" y="9"/>
                  </a:lnTo>
                  <a:lnTo>
                    <a:pt x="1170" y="11"/>
                  </a:lnTo>
                  <a:lnTo>
                    <a:pt x="1169" y="13"/>
                  </a:lnTo>
                  <a:lnTo>
                    <a:pt x="1167" y="15"/>
                  </a:lnTo>
                  <a:lnTo>
                    <a:pt x="1062" y="15"/>
                  </a:lnTo>
                  <a:lnTo>
                    <a:pt x="1060" y="13"/>
                  </a:lnTo>
                  <a:lnTo>
                    <a:pt x="1058" y="11"/>
                  </a:lnTo>
                  <a:lnTo>
                    <a:pt x="1057" y="9"/>
                  </a:lnTo>
                  <a:lnTo>
                    <a:pt x="1057" y="8"/>
                  </a:lnTo>
                  <a:lnTo>
                    <a:pt x="1057" y="4"/>
                  </a:lnTo>
                  <a:lnTo>
                    <a:pt x="1058" y="2"/>
                  </a:lnTo>
                  <a:lnTo>
                    <a:pt x="1060" y="0"/>
                  </a:lnTo>
                  <a:lnTo>
                    <a:pt x="1062" y="0"/>
                  </a:lnTo>
                  <a:lnTo>
                    <a:pt x="1062" y="0"/>
                  </a:lnTo>
                  <a:lnTo>
                    <a:pt x="1062" y="0"/>
                  </a:lnTo>
                  <a:close/>
                  <a:moveTo>
                    <a:pt x="1239" y="0"/>
                  </a:moveTo>
                  <a:lnTo>
                    <a:pt x="1342" y="0"/>
                  </a:lnTo>
                  <a:lnTo>
                    <a:pt x="1344" y="0"/>
                  </a:lnTo>
                  <a:lnTo>
                    <a:pt x="1346" y="2"/>
                  </a:lnTo>
                  <a:lnTo>
                    <a:pt x="1347" y="4"/>
                  </a:lnTo>
                  <a:lnTo>
                    <a:pt x="1349" y="8"/>
                  </a:lnTo>
                  <a:lnTo>
                    <a:pt x="1347" y="9"/>
                  </a:lnTo>
                  <a:lnTo>
                    <a:pt x="1346" y="11"/>
                  </a:lnTo>
                  <a:lnTo>
                    <a:pt x="1344" y="13"/>
                  </a:lnTo>
                  <a:lnTo>
                    <a:pt x="1342" y="15"/>
                  </a:lnTo>
                  <a:lnTo>
                    <a:pt x="1239" y="15"/>
                  </a:lnTo>
                  <a:lnTo>
                    <a:pt x="1237" y="13"/>
                  </a:lnTo>
                  <a:lnTo>
                    <a:pt x="1234" y="11"/>
                  </a:lnTo>
                  <a:lnTo>
                    <a:pt x="1232" y="9"/>
                  </a:lnTo>
                  <a:lnTo>
                    <a:pt x="1232" y="8"/>
                  </a:lnTo>
                  <a:lnTo>
                    <a:pt x="1232" y="4"/>
                  </a:lnTo>
                  <a:lnTo>
                    <a:pt x="1234" y="2"/>
                  </a:lnTo>
                  <a:lnTo>
                    <a:pt x="1237" y="0"/>
                  </a:lnTo>
                  <a:lnTo>
                    <a:pt x="1239" y="0"/>
                  </a:lnTo>
                  <a:lnTo>
                    <a:pt x="1239" y="0"/>
                  </a:lnTo>
                  <a:lnTo>
                    <a:pt x="1239" y="0"/>
                  </a:lnTo>
                  <a:close/>
                  <a:moveTo>
                    <a:pt x="1416" y="0"/>
                  </a:moveTo>
                  <a:lnTo>
                    <a:pt x="1519" y="0"/>
                  </a:lnTo>
                  <a:lnTo>
                    <a:pt x="1521" y="0"/>
                  </a:lnTo>
                  <a:lnTo>
                    <a:pt x="1523" y="2"/>
                  </a:lnTo>
                  <a:lnTo>
                    <a:pt x="1524" y="4"/>
                  </a:lnTo>
                  <a:lnTo>
                    <a:pt x="1526" y="8"/>
                  </a:lnTo>
                  <a:lnTo>
                    <a:pt x="1524" y="9"/>
                  </a:lnTo>
                  <a:lnTo>
                    <a:pt x="1523" y="11"/>
                  </a:lnTo>
                  <a:lnTo>
                    <a:pt x="1521" y="13"/>
                  </a:lnTo>
                  <a:lnTo>
                    <a:pt x="1519" y="15"/>
                  </a:lnTo>
                  <a:lnTo>
                    <a:pt x="1416" y="15"/>
                  </a:lnTo>
                  <a:lnTo>
                    <a:pt x="1412" y="13"/>
                  </a:lnTo>
                  <a:lnTo>
                    <a:pt x="1411" y="11"/>
                  </a:lnTo>
                  <a:lnTo>
                    <a:pt x="1409" y="9"/>
                  </a:lnTo>
                  <a:lnTo>
                    <a:pt x="1409" y="8"/>
                  </a:lnTo>
                  <a:lnTo>
                    <a:pt x="1409" y="4"/>
                  </a:lnTo>
                  <a:lnTo>
                    <a:pt x="1411" y="2"/>
                  </a:lnTo>
                  <a:lnTo>
                    <a:pt x="1412" y="0"/>
                  </a:lnTo>
                  <a:lnTo>
                    <a:pt x="1416" y="0"/>
                  </a:lnTo>
                  <a:lnTo>
                    <a:pt x="1416" y="0"/>
                  </a:lnTo>
                  <a:lnTo>
                    <a:pt x="1416" y="0"/>
                  </a:lnTo>
                  <a:close/>
                  <a:moveTo>
                    <a:pt x="1591" y="0"/>
                  </a:moveTo>
                  <a:lnTo>
                    <a:pt x="1694" y="0"/>
                  </a:lnTo>
                  <a:lnTo>
                    <a:pt x="1696" y="0"/>
                  </a:lnTo>
                  <a:lnTo>
                    <a:pt x="1698" y="2"/>
                  </a:lnTo>
                  <a:lnTo>
                    <a:pt x="1700" y="4"/>
                  </a:lnTo>
                  <a:lnTo>
                    <a:pt x="1701" y="8"/>
                  </a:lnTo>
                  <a:lnTo>
                    <a:pt x="1700" y="9"/>
                  </a:lnTo>
                  <a:lnTo>
                    <a:pt x="1698" y="11"/>
                  </a:lnTo>
                  <a:lnTo>
                    <a:pt x="1696" y="13"/>
                  </a:lnTo>
                  <a:lnTo>
                    <a:pt x="1694" y="15"/>
                  </a:lnTo>
                  <a:lnTo>
                    <a:pt x="1591" y="15"/>
                  </a:lnTo>
                  <a:lnTo>
                    <a:pt x="1588" y="13"/>
                  </a:lnTo>
                  <a:lnTo>
                    <a:pt x="1588" y="11"/>
                  </a:lnTo>
                  <a:lnTo>
                    <a:pt x="1584" y="9"/>
                  </a:lnTo>
                  <a:lnTo>
                    <a:pt x="1584" y="9"/>
                  </a:lnTo>
                  <a:lnTo>
                    <a:pt x="1584" y="8"/>
                  </a:lnTo>
                  <a:lnTo>
                    <a:pt x="1584" y="6"/>
                  </a:lnTo>
                  <a:lnTo>
                    <a:pt x="1584" y="4"/>
                  </a:lnTo>
                  <a:lnTo>
                    <a:pt x="1588" y="2"/>
                  </a:lnTo>
                  <a:lnTo>
                    <a:pt x="1588" y="0"/>
                  </a:lnTo>
                  <a:lnTo>
                    <a:pt x="1591" y="0"/>
                  </a:lnTo>
                  <a:lnTo>
                    <a:pt x="1591" y="0"/>
                  </a:lnTo>
                  <a:lnTo>
                    <a:pt x="1591" y="0"/>
                  </a:lnTo>
                  <a:close/>
                  <a:moveTo>
                    <a:pt x="1768" y="0"/>
                  </a:moveTo>
                  <a:lnTo>
                    <a:pt x="1869" y="0"/>
                  </a:lnTo>
                  <a:lnTo>
                    <a:pt x="1873" y="0"/>
                  </a:lnTo>
                  <a:lnTo>
                    <a:pt x="1875" y="2"/>
                  </a:lnTo>
                  <a:lnTo>
                    <a:pt x="1877" y="4"/>
                  </a:lnTo>
                  <a:lnTo>
                    <a:pt x="1878" y="8"/>
                  </a:lnTo>
                  <a:lnTo>
                    <a:pt x="1877" y="9"/>
                  </a:lnTo>
                  <a:lnTo>
                    <a:pt x="1875" y="11"/>
                  </a:lnTo>
                  <a:lnTo>
                    <a:pt x="1873" y="13"/>
                  </a:lnTo>
                  <a:lnTo>
                    <a:pt x="1869" y="15"/>
                  </a:lnTo>
                  <a:lnTo>
                    <a:pt x="1768" y="15"/>
                  </a:lnTo>
                  <a:lnTo>
                    <a:pt x="1765" y="13"/>
                  </a:lnTo>
                  <a:lnTo>
                    <a:pt x="1763" y="11"/>
                  </a:lnTo>
                  <a:lnTo>
                    <a:pt x="1761" y="9"/>
                  </a:lnTo>
                  <a:lnTo>
                    <a:pt x="1761" y="8"/>
                  </a:lnTo>
                  <a:lnTo>
                    <a:pt x="1761" y="4"/>
                  </a:lnTo>
                  <a:lnTo>
                    <a:pt x="1763" y="2"/>
                  </a:lnTo>
                  <a:lnTo>
                    <a:pt x="1765" y="0"/>
                  </a:lnTo>
                  <a:lnTo>
                    <a:pt x="1768" y="0"/>
                  </a:lnTo>
                  <a:lnTo>
                    <a:pt x="1768" y="0"/>
                  </a:lnTo>
                  <a:lnTo>
                    <a:pt x="1768" y="0"/>
                  </a:lnTo>
                  <a:close/>
                  <a:moveTo>
                    <a:pt x="1943" y="0"/>
                  </a:moveTo>
                  <a:lnTo>
                    <a:pt x="2046" y="0"/>
                  </a:lnTo>
                  <a:lnTo>
                    <a:pt x="2048" y="0"/>
                  </a:lnTo>
                  <a:lnTo>
                    <a:pt x="2052" y="2"/>
                  </a:lnTo>
                  <a:lnTo>
                    <a:pt x="2054" y="4"/>
                  </a:lnTo>
                  <a:lnTo>
                    <a:pt x="2055" y="6"/>
                  </a:lnTo>
                  <a:lnTo>
                    <a:pt x="2055" y="8"/>
                  </a:lnTo>
                  <a:lnTo>
                    <a:pt x="2055" y="9"/>
                  </a:lnTo>
                  <a:lnTo>
                    <a:pt x="2054" y="9"/>
                  </a:lnTo>
                  <a:lnTo>
                    <a:pt x="2052" y="11"/>
                  </a:lnTo>
                  <a:lnTo>
                    <a:pt x="2048" y="13"/>
                  </a:lnTo>
                  <a:lnTo>
                    <a:pt x="2046" y="15"/>
                  </a:lnTo>
                  <a:lnTo>
                    <a:pt x="1943" y="15"/>
                  </a:lnTo>
                  <a:lnTo>
                    <a:pt x="1940" y="13"/>
                  </a:lnTo>
                  <a:lnTo>
                    <a:pt x="1938" y="11"/>
                  </a:lnTo>
                  <a:lnTo>
                    <a:pt x="1938" y="9"/>
                  </a:lnTo>
                  <a:lnTo>
                    <a:pt x="1938" y="8"/>
                  </a:lnTo>
                  <a:lnTo>
                    <a:pt x="1938" y="4"/>
                  </a:lnTo>
                  <a:lnTo>
                    <a:pt x="1938" y="2"/>
                  </a:lnTo>
                  <a:lnTo>
                    <a:pt x="1940" y="0"/>
                  </a:lnTo>
                  <a:lnTo>
                    <a:pt x="1943" y="0"/>
                  </a:lnTo>
                  <a:lnTo>
                    <a:pt x="1943" y="0"/>
                  </a:lnTo>
                  <a:lnTo>
                    <a:pt x="1943" y="0"/>
                  </a:lnTo>
                  <a:close/>
                  <a:moveTo>
                    <a:pt x="2120" y="0"/>
                  </a:moveTo>
                  <a:lnTo>
                    <a:pt x="2221" y="0"/>
                  </a:lnTo>
                  <a:lnTo>
                    <a:pt x="2225" y="0"/>
                  </a:lnTo>
                  <a:lnTo>
                    <a:pt x="2227" y="2"/>
                  </a:lnTo>
                  <a:lnTo>
                    <a:pt x="2229" y="4"/>
                  </a:lnTo>
                  <a:lnTo>
                    <a:pt x="2231" y="8"/>
                  </a:lnTo>
                  <a:lnTo>
                    <a:pt x="2229" y="9"/>
                  </a:lnTo>
                  <a:lnTo>
                    <a:pt x="2227" y="11"/>
                  </a:lnTo>
                  <a:lnTo>
                    <a:pt x="2225" y="13"/>
                  </a:lnTo>
                  <a:lnTo>
                    <a:pt x="2221" y="15"/>
                  </a:lnTo>
                  <a:lnTo>
                    <a:pt x="2120" y="15"/>
                  </a:lnTo>
                  <a:lnTo>
                    <a:pt x="2117" y="13"/>
                  </a:lnTo>
                  <a:lnTo>
                    <a:pt x="2113" y="11"/>
                  </a:lnTo>
                  <a:lnTo>
                    <a:pt x="2113" y="9"/>
                  </a:lnTo>
                  <a:lnTo>
                    <a:pt x="2113" y="8"/>
                  </a:lnTo>
                  <a:lnTo>
                    <a:pt x="2113" y="4"/>
                  </a:lnTo>
                  <a:lnTo>
                    <a:pt x="2113" y="2"/>
                  </a:lnTo>
                  <a:lnTo>
                    <a:pt x="2117" y="0"/>
                  </a:lnTo>
                  <a:lnTo>
                    <a:pt x="2120" y="0"/>
                  </a:lnTo>
                  <a:lnTo>
                    <a:pt x="2120" y="0"/>
                  </a:lnTo>
                  <a:lnTo>
                    <a:pt x="2120" y="0"/>
                  </a:lnTo>
                  <a:close/>
                  <a:moveTo>
                    <a:pt x="2297" y="0"/>
                  </a:moveTo>
                  <a:lnTo>
                    <a:pt x="2398" y="0"/>
                  </a:lnTo>
                  <a:lnTo>
                    <a:pt x="2402" y="0"/>
                  </a:lnTo>
                  <a:lnTo>
                    <a:pt x="2404" y="2"/>
                  </a:lnTo>
                  <a:lnTo>
                    <a:pt x="2406" y="4"/>
                  </a:lnTo>
                  <a:lnTo>
                    <a:pt x="2406" y="8"/>
                  </a:lnTo>
                  <a:lnTo>
                    <a:pt x="2406" y="9"/>
                  </a:lnTo>
                  <a:lnTo>
                    <a:pt x="2404" y="11"/>
                  </a:lnTo>
                  <a:lnTo>
                    <a:pt x="2402" y="13"/>
                  </a:lnTo>
                  <a:lnTo>
                    <a:pt x="2398" y="15"/>
                  </a:lnTo>
                  <a:lnTo>
                    <a:pt x="2297" y="15"/>
                  </a:lnTo>
                  <a:lnTo>
                    <a:pt x="2294" y="13"/>
                  </a:lnTo>
                  <a:lnTo>
                    <a:pt x="2290" y="11"/>
                  </a:lnTo>
                  <a:lnTo>
                    <a:pt x="2288" y="9"/>
                  </a:lnTo>
                  <a:lnTo>
                    <a:pt x="2288" y="8"/>
                  </a:lnTo>
                  <a:lnTo>
                    <a:pt x="2288" y="4"/>
                  </a:lnTo>
                  <a:lnTo>
                    <a:pt x="2290" y="2"/>
                  </a:lnTo>
                  <a:lnTo>
                    <a:pt x="2294" y="0"/>
                  </a:lnTo>
                  <a:lnTo>
                    <a:pt x="2297" y="0"/>
                  </a:lnTo>
                  <a:lnTo>
                    <a:pt x="2297" y="0"/>
                  </a:lnTo>
                  <a:lnTo>
                    <a:pt x="2297" y="0"/>
                  </a:lnTo>
                  <a:close/>
                  <a:moveTo>
                    <a:pt x="2473" y="0"/>
                  </a:moveTo>
                  <a:lnTo>
                    <a:pt x="2575" y="0"/>
                  </a:lnTo>
                  <a:lnTo>
                    <a:pt x="2577" y="0"/>
                  </a:lnTo>
                  <a:lnTo>
                    <a:pt x="2579" y="2"/>
                  </a:lnTo>
                  <a:lnTo>
                    <a:pt x="2581" y="4"/>
                  </a:lnTo>
                  <a:lnTo>
                    <a:pt x="2581" y="8"/>
                  </a:lnTo>
                  <a:lnTo>
                    <a:pt x="2581" y="9"/>
                  </a:lnTo>
                  <a:lnTo>
                    <a:pt x="2579" y="11"/>
                  </a:lnTo>
                  <a:lnTo>
                    <a:pt x="2577" y="13"/>
                  </a:lnTo>
                  <a:lnTo>
                    <a:pt x="2575" y="15"/>
                  </a:lnTo>
                  <a:lnTo>
                    <a:pt x="2473" y="15"/>
                  </a:lnTo>
                  <a:lnTo>
                    <a:pt x="2469" y="13"/>
                  </a:lnTo>
                  <a:lnTo>
                    <a:pt x="2465" y="11"/>
                  </a:lnTo>
                  <a:lnTo>
                    <a:pt x="2463" y="9"/>
                  </a:lnTo>
                  <a:lnTo>
                    <a:pt x="2463" y="9"/>
                  </a:lnTo>
                  <a:lnTo>
                    <a:pt x="2463" y="8"/>
                  </a:lnTo>
                  <a:lnTo>
                    <a:pt x="2463" y="6"/>
                  </a:lnTo>
                  <a:lnTo>
                    <a:pt x="2463" y="4"/>
                  </a:lnTo>
                  <a:lnTo>
                    <a:pt x="2465" y="2"/>
                  </a:lnTo>
                  <a:lnTo>
                    <a:pt x="2469" y="0"/>
                  </a:lnTo>
                  <a:lnTo>
                    <a:pt x="2473" y="0"/>
                  </a:lnTo>
                  <a:lnTo>
                    <a:pt x="2473" y="0"/>
                  </a:lnTo>
                  <a:lnTo>
                    <a:pt x="2473" y="0"/>
                  </a:lnTo>
                  <a:close/>
                  <a:moveTo>
                    <a:pt x="2648" y="0"/>
                  </a:moveTo>
                  <a:lnTo>
                    <a:pt x="2751" y="0"/>
                  </a:lnTo>
                  <a:lnTo>
                    <a:pt x="2754" y="0"/>
                  </a:lnTo>
                  <a:lnTo>
                    <a:pt x="2756" y="2"/>
                  </a:lnTo>
                  <a:lnTo>
                    <a:pt x="2756" y="4"/>
                  </a:lnTo>
                  <a:lnTo>
                    <a:pt x="2758" y="8"/>
                  </a:lnTo>
                  <a:lnTo>
                    <a:pt x="2756" y="9"/>
                  </a:lnTo>
                  <a:lnTo>
                    <a:pt x="2756" y="11"/>
                  </a:lnTo>
                  <a:lnTo>
                    <a:pt x="2754" y="13"/>
                  </a:lnTo>
                  <a:lnTo>
                    <a:pt x="2751" y="15"/>
                  </a:lnTo>
                  <a:lnTo>
                    <a:pt x="2648" y="15"/>
                  </a:lnTo>
                  <a:lnTo>
                    <a:pt x="2646" y="13"/>
                  </a:lnTo>
                  <a:lnTo>
                    <a:pt x="2642" y="11"/>
                  </a:lnTo>
                  <a:lnTo>
                    <a:pt x="2640" y="9"/>
                  </a:lnTo>
                  <a:lnTo>
                    <a:pt x="2640" y="8"/>
                  </a:lnTo>
                  <a:lnTo>
                    <a:pt x="2640" y="4"/>
                  </a:lnTo>
                  <a:lnTo>
                    <a:pt x="2642" y="2"/>
                  </a:lnTo>
                  <a:lnTo>
                    <a:pt x="2646" y="0"/>
                  </a:lnTo>
                  <a:lnTo>
                    <a:pt x="2648" y="0"/>
                  </a:lnTo>
                  <a:lnTo>
                    <a:pt x="2648" y="0"/>
                  </a:lnTo>
                  <a:lnTo>
                    <a:pt x="2648" y="0"/>
                  </a:lnTo>
                  <a:close/>
                  <a:moveTo>
                    <a:pt x="2823" y="0"/>
                  </a:moveTo>
                  <a:lnTo>
                    <a:pt x="2928" y="0"/>
                  </a:lnTo>
                  <a:lnTo>
                    <a:pt x="2929" y="0"/>
                  </a:lnTo>
                  <a:lnTo>
                    <a:pt x="2931" y="2"/>
                  </a:lnTo>
                  <a:lnTo>
                    <a:pt x="2933" y="4"/>
                  </a:lnTo>
                  <a:lnTo>
                    <a:pt x="2935" y="6"/>
                  </a:lnTo>
                  <a:lnTo>
                    <a:pt x="2935" y="8"/>
                  </a:lnTo>
                  <a:lnTo>
                    <a:pt x="2935" y="9"/>
                  </a:lnTo>
                  <a:lnTo>
                    <a:pt x="2933" y="9"/>
                  </a:lnTo>
                  <a:lnTo>
                    <a:pt x="2931" y="11"/>
                  </a:lnTo>
                  <a:lnTo>
                    <a:pt x="2929" y="13"/>
                  </a:lnTo>
                  <a:lnTo>
                    <a:pt x="2928" y="15"/>
                  </a:lnTo>
                  <a:lnTo>
                    <a:pt x="2823" y="15"/>
                  </a:lnTo>
                  <a:lnTo>
                    <a:pt x="2821" y="13"/>
                  </a:lnTo>
                  <a:lnTo>
                    <a:pt x="2819" y="11"/>
                  </a:lnTo>
                  <a:lnTo>
                    <a:pt x="2817" y="9"/>
                  </a:lnTo>
                  <a:lnTo>
                    <a:pt x="2817" y="8"/>
                  </a:lnTo>
                  <a:lnTo>
                    <a:pt x="2817" y="4"/>
                  </a:lnTo>
                  <a:lnTo>
                    <a:pt x="2819" y="2"/>
                  </a:lnTo>
                  <a:lnTo>
                    <a:pt x="2821" y="0"/>
                  </a:lnTo>
                  <a:lnTo>
                    <a:pt x="2823" y="0"/>
                  </a:lnTo>
                  <a:lnTo>
                    <a:pt x="2823" y="0"/>
                  </a:lnTo>
                  <a:lnTo>
                    <a:pt x="28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0696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08" y="0"/>
                  </a:lnTo>
                  <a:lnTo>
                    <a:pt x="112" y="0"/>
                  </a:lnTo>
                  <a:lnTo>
                    <a:pt x="116" y="2"/>
                  </a:lnTo>
                  <a:lnTo>
                    <a:pt x="117" y="4"/>
                  </a:lnTo>
                  <a:lnTo>
                    <a:pt x="117" y="8"/>
                  </a:lnTo>
                  <a:lnTo>
                    <a:pt x="117" y="9"/>
                  </a:lnTo>
                  <a:lnTo>
                    <a:pt x="116" y="11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9228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7" y="0"/>
                  </a:moveTo>
                  <a:lnTo>
                    <a:pt x="110" y="0"/>
                  </a:lnTo>
                  <a:lnTo>
                    <a:pt x="114" y="0"/>
                  </a:lnTo>
                  <a:lnTo>
                    <a:pt x="118" y="2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8" y="11"/>
                  </a:lnTo>
                  <a:lnTo>
                    <a:pt x="114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77960" y="5584680"/>
              <a:ext cx="5616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9" y="0"/>
                  </a:moveTo>
                  <a:lnTo>
                    <a:pt x="111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1" y="15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6364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9" y="0"/>
                  </a:moveTo>
                  <a:lnTo>
                    <a:pt x="111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8" y="8"/>
                  </a:lnTo>
                  <a:lnTo>
                    <a:pt x="116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1" y="15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48960" y="5584680"/>
              <a:ext cx="5616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9" y="0"/>
                  </a:moveTo>
                  <a:lnTo>
                    <a:pt x="112" y="0"/>
                  </a:lnTo>
                  <a:lnTo>
                    <a:pt x="113" y="0"/>
                  </a:lnTo>
                  <a:lnTo>
                    <a:pt x="115" y="2"/>
                  </a:lnTo>
                  <a:lnTo>
                    <a:pt x="115" y="4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5" y="11"/>
                  </a:lnTo>
                  <a:lnTo>
                    <a:pt x="113" y="13"/>
                  </a:lnTo>
                  <a:lnTo>
                    <a:pt x="112" y="15"/>
                  </a:lnTo>
                  <a:lnTo>
                    <a:pt x="9" y="15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3464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10" y="0"/>
                  </a:lnTo>
                  <a:lnTo>
                    <a:pt x="113" y="0"/>
                  </a:lnTo>
                  <a:lnTo>
                    <a:pt x="113" y="2"/>
                  </a:lnTo>
                  <a:lnTo>
                    <a:pt x="115" y="4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13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5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21040" y="5584680"/>
              <a:ext cx="5616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5" y="0"/>
                  </a:moveTo>
                  <a:lnTo>
                    <a:pt x="110" y="0"/>
                  </a:lnTo>
                  <a:lnTo>
                    <a:pt x="112" y="0"/>
                  </a:lnTo>
                  <a:lnTo>
                    <a:pt x="113" y="2"/>
                  </a:lnTo>
                  <a:lnTo>
                    <a:pt x="115" y="4"/>
                  </a:lnTo>
                  <a:lnTo>
                    <a:pt x="117" y="6"/>
                  </a:lnTo>
                  <a:lnTo>
                    <a:pt x="117" y="8"/>
                  </a:lnTo>
                  <a:lnTo>
                    <a:pt x="117" y="9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12" y="13"/>
                  </a:lnTo>
                  <a:lnTo>
                    <a:pt x="110" y="15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0564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10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5" y="4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9204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10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5" y="4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664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10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6" y="4"/>
                  </a:lnTo>
                  <a:lnTo>
                    <a:pt x="117" y="8"/>
                  </a:lnTo>
                  <a:lnTo>
                    <a:pt x="116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6304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7" h="15">
                  <a:moveTo>
                    <a:pt x="7" y="0"/>
                  </a:moveTo>
                  <a:lnTo>
                    <a:pt x="108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6" y="4"/>
                  </a:lnTo>
                  <a:lnTo>
                    <a:pt x="117" y="8"/>
                  </a:lnTo>
                  <a:lnTo>
                    <a:pt x="116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3440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7" y="0"/>
                  </a:moveTo>
                  <a:lnTo>
                    <a:pt x="108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6" y="4"/>
                  </a:lnTo>
                  <a:lnTo>
                    <a:pt x="118" y="8"/>
                  </a:lnTo>
                  <a:lnTo>
                    <a:pt x="116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19720" y="5584680"/>
              <a:ext cx="5616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9" y="0"/>
                  </a:moveTo>
                  <a:lnTo>
                    <a:pt x="110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0" y="15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0432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10" y="0"/>
                  </a:moveTo>
                  <a:lnTo>
                    <a:pt x="112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2" y="15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90720" y="5584680"/>
              <a:ext cx="5616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8" y="0"/>
                  </a:moveTo>
                  <a:lnTo>
                    <a:pt x="111" y="0"/>
                  </a:lnTo>
                  <a:lnTo>
                    <a:pt x="114" y="0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8" y="8"/>
                  </a:lnTo>
                  <a:lnTo>
                    <a:pt x="116" y="9"/>
                  </a:lnTo>
                  <a:lnTo>
                    <a:pt x="116" y="11"/>
                  </a:lnTo>
                  <a:lnTo>
                    <a:pt x="114" y="13"/>
                  </a:lnTo>
                  <a:lnTo>
                    <a:pt x="111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76400" y="5584680"/>
              <a:ext cx="57240" cy="684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6" y="0"/>
                  </a:moveTo>
                  <a:lnTo>
                    <a:pt x="111" y="0"/>
                  </a:lnTo>
                  <a:lnTo>
                    <a:pt x="112" y="0"/>
                  </a:lnTo>
                  <a:lnTo>
                    <a:pt x="114" y="2"/>
                  </a:lnTo>
                  <a:lnTo>
                    <a:pt x="116" y="4"/>
                  </a:lnTo>
                  <a:lnTo>
                    <a:pt x="118" y="6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6" y="9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1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 flipV="1">
            <a:off x="5108400" y="5589720"/>
            <a:ext cx="2851200" cy="720720"/>
          </a:xfrm>
          <a:prstGeom prst="line">
            <a:avLst/>
          </a:prstGeom>
          <a:ln w="20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643720" y="4984920"/>
            <a:ext cx="2138040" cy="607680"/>
          </a:xfrm>
          <a:custGeom>
            <a:avLst/>
            <a:gdLst/>
            <a:ahLst/>
            <a:rect l="l" t="t" r="r" b="b"/>
            <a:pathLst>
              <a:path w="4402" h="1237">
                <a:moveTo>
                  <a:pt x="0" y="0"/>
                </a:moveTo>
                <a:lnTo>
                  <a:pt x="52" y="103"/>
                </a:lnTo>
                <a:lnTo>
                  <a:pt x="108" y="200"/>
                </a:lnTo>
                <a:lnTo>
                  <a:pt x="168" y="294"/>
                </a:lnTo>
                <a:lnTo>
                  <a:pt x="229" y="381"/>
                </a:lnTo>
                <a:lnTo>
                  <a:pt x="296" y="466"/>
                </a:lnTo>
                <a:lnTo>
                  <a:pt x="363" y="545"/>
                </a:lnTo>
                <a:lnTo>
                  <a:pt x="437" y="621"/>
                </a:lnTo>
                <a:lnTo>
                  <a:pt x="513" y="692"/>
                </a:lnTo>
                <a:lnTo>
                  <a:pt x="593" y="759"/>
                </a:lnTo>
                <a:lnTo>
                  <a:pt x="676" y="822"/>
                </a:lnTo>
                <a:lnTo>
                  <a:pt x="762" y="880"/>
                </a:lnTo>
                <a:lnTo>
                  <a:pt x="853" y="932"/>
                </a:lnTo>
                <a:lnTo>
                  <a:pt x="947" y="982"/>
                </a:lnTo>
                <a:lnTo>
                  <a:pt x="1044" y="1028"/>
                </a:lnTo>
                <a:lnTo>
                  <a:pt x="1142" y="1067"/>
                </a:lnTo>
                <a:lnTo>
                  <a:pt x="1248" y="1105"/>
                </a:lnTo>
                <a:lnTo>
                  <a:pt x="1355" y="1136"/>
                </a:lnTo>
                <a:lnTo>
                  <a:pt x="1465" y="1165"/>
                </a:lnTo>
                <a:lnTo>
                  <a:pt x="1580" y="1187"/>
                </a:lnTo>
                <a:lnTo>
                  <a:pt x="1698" y="1205"/>
                </a:lnTo>
                <a:lnTo>
                  <a:pt x="1817" y="1221"/>
                </a:lnTo>
                <a:lnTo>
                  <a:pt x="1942" y="1232"/>
                </a:lnTo>
                <a:lnTo>
                  <a:pt x="2070" y="1235"/>
                </a:lnTo>
                <a:lnTo>
                  <a:pt x="2202" y="1237"/>
                </a:lnTo>
                <a:lnTo>
                  <a:pt x="2337" y="1235"/>
                </a:lnTo>
                <a:lnTo>
                  <a:pt x="2474" y="1228"/>
                </a:lnTo>
                <a:lnTo>
                  <a:pt x="2615" y="1215"/>
                </a:lnTo>
                <a:lnTo>
                  <a:pt x="2760" y="1199"/>
                </a:lnTo>
                <a:lnTo>
                  <a:pt x="2908" y="1179"/>
                </a:lnTo>
                <a:lnTo>
                  <a:pt x="3060" y="1156"/>
                </a:lnTo>
                <a:lnTo>
                  <a:pt x="3215" y="1127"/>
                </a:lnTo>
                <a:lnTo>
                  <a:pt x="3376" y="1093"/>
                </a:lnTo>
                <a:lnTo>
                  <a:pt x="3536" y="1055"/>
                </a:lnTo>
                <a:lnTo>
                  <a:pt x="3703" y="1013"/>
                </a:lnTo>
                <a:lnTo>
                  <a:pt x="3872" y="966"/>
                </a:lnTo>
                <a:lnTo>
                  <a:pt x="4046" y="916"/>
                </a:lnTo>
                <a:lnTo>
                  <a:pt x="4221" y="861"/>
                </a:lnTo>
                <a:lnTo>
                  <a:pt x="4402" y="802"/>
                </a:lnTo>
              </a:path>
            </a:pathLst>
          </a:custGeom>
          <a:noFill/>
          <a:ln w="20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75160" y="4960800"/>
            <a:ext cx="2584440" cy="1202040"/>
          </a:xfrm>
          <a:custGeom>
            <a:avLst/>
            <a:gdLst/>
            <a:ahLst/>
            <a:rect l="l" t="t" r="r" b="b"/>
            <a:pathLst>
              <a:path w="5319" h="2447">
                <a:moveTo>
                  <a:pt x="0" y="0"/>
                </a:moveTo>
                <a:lnTo>
                  <a:pt x="119" y="161"/>
                </a:lnTo>
                <a:lnTo>
                  <a:pt x="242" y="314"/>
                </a:lnTo>
                <a:lnTo>
                  <a:pt x="365" y="464"/>
                </a:lnTo>
                <a:lnTo>
                  <a:pt x="490" y="607"/>
                </a:lnTo>
                <a:lnTo>
                  <a:pt x="618" y="746"/>
                </a:lnTo>
                <a:lnTo>
                  <a:pt x="746" y="880"/>
                </a:lnTo>
                <a:lnTo>
                  <a:pt x="876" y="1008"/>
                </a:lnTo>
                <a:lnTo>
                  <a:pt x="1012" y="1129"/>
                </a:lnTo>
                <a:lnTo>
                  <a:pt x="1145" y="1245"/>
                </a:lnTo>
                <a:lnTo>
                  <a:pt x="1283" y="1357"/>
                </a:lnTo>
                <a:lnTo>
                  <a:pt x="1422" y="1463"/>
                </a:lnTo>
                <a:lnTo>
                  <a:pt x="1561" y="1564"/>
                </a:lnTo>
                <a:lnTo>
                  <a:pt x="1703" y="1658"/>
                </a:lnTo>
                <a:lnTo>
                  <a:pt x="1848" y="1748"/>
                </a:lnTo>
                <a:lnTo>
                  <a:pt x="1994" y="1833"/>
                </a:lnTo>
                <a:lnTo>
                  <a:pt x="2140" y="1911"/>
                </a:lnTo>
                <a:lnTo>
                  <a:pt x="2292" y="1985"/>
                </a:lnTo>
                <a:lnTo>
                  <a:pt x="2444" y="2054"/>
                </a:lnTo>
                <a:lnTo>
                  <a:pt x="2599" y="2117"/>
                </a:lnTo>
                <a:lnTo>
                  <a:pt x="2755" y="2173"/>
                </a:lnTo>
                <a:lnTo>
                  <a:pt x="2912" y="2225"/>
                </a:lnTo>
                <a:lnTo>
                  <a:pt x="3071" y="2272"/>
                </a:lnTo>
                <a:lnTo>
                  <a:pt x="3231" y="2314"/>
                </a:lnTo>
                <a:lnTo>
                  <a:pt x="3396" y="2348"/>
                </a:lnTo>
                <a:lnTo>
                  <a:pt x="3560" y="2379"/>
                </a:lnTo>
                <a:lnTo>
                  <a:pt x="3728" y="2402"/>
                </a:lnTo>
                <a:lnTo>
                  <a:pt x="3896" y="2422"/>
                </a:lnTo>
                <a:lnTo>
                  <a:pt x="4069" y="2437"/>
                </a:lnTo>
                <a:lnTo>
                  <a:pt x="4241" y="2444"/>
                </a:lnTo>
                <a:lnTo>
                  <a:pt x="4416" y="2447"/>
                </a:lnTo>
                <a:lnTo>
                  <a:pt x="4593" y="2446"/>
                </a:lnTo>
                <a:lnTo>
                  <a:pt x="4770" y="2438"/>
                </a:lnTo>
                <a:lnTo>
                  <a:pt x="4953" y="2424"/>
                </a:lnTo>
                <a:lnTo>
                  <a:pt x="5135" y="2406"/>
                </a:lnTo>
                <a:lnTo>
                  <a:pt x="5319" y="2382"/>
                </a:lnTo>
              </a:path>
            </a:pathLst>
          </a:custGeom>
          <a:noFill/>
          <a:ln w="20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98600" y="3987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TR(n</a:t>
            </a: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50600" y="54468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0000"/>
                </a:solidFill>
                <a:latin typeface="Tahoma"/>
              </a:rPr>
              <a:t>minTR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40640" y="63277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12000" y="5086440"/>
            <a:ext cx="50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TR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390160" y="638172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n[1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53480" y="5500800"/>
            <a:ext cx="5792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0" lang="sr-Latn-CS" sz="1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516720" y="6381720"/>
            <a:ext cx="291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sr-Latn-CS" sz="1400" spc="-1" strike="noStrike" baseline="-25000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028000" y="6022800"/>
            <a:ext cx="579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0" lang="sr-Latn-CS" sz="1400" spc="-1" strike="noStrike" baseline="-25000">
                <a:solidFill>
                  <a:srgbClr val="333399"/>
                </a:solidFill>
                <a:latin typeface="Tahoma"/>
              </a:rPr>
              <a:t>2 </a:t>
            </a: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8360" y="5518080"/>
            <a:ext cx="579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0" lang="sr-Latn-CS" sz="1400" spc="-1" strike="noStrike" baseline="-25000">
                <a:solidFill>
                  <a:srgbClr val="333399"/>
                </a:solidFill>
                <a:latin typeface="Tahoma"/>
              </a:rPr>
              <a:t>2 </a:t>
            </a: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(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80000" y="6022800"/>
            <a:ext cx="5792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TR</a:t>
            </a:r>
            <a:r>
              <a:rPr b="0" lang="sr-Latn-CS" sz="1400" spc="-1" strike="noStrike" baseline="-25000">
                <a:solidFill>
                  <a:srgbClr val="333399"/>
                </a:solidFill>
                <a:latin typeface="Tahoma"/>
              </a:rPr>
              <a:t>1 </a:t>
            </a:r>
            <a:r>
              <a:rPr b="0" lang="sr-Latn-CS" sz="1400" spc="-1" strike="noStrike">
                <a:solidFill>
                  <a:srgbClr val="333399"/>
                </a:solidFill>
                <a:latin typeface="Tahoma"/>
              </a:rPr>
              <a:t>(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050920" y="6423120"/>
            <a:ext cx="292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0" lang="sr-Latn-CS" sz="1400" spc="-1" strike="noStrike" baseline="-25000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627280" y="3573360"/>
            <a:ext cx="2087640" cy="405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TR =TR</a:t>
            </a:r>
            <a:r>
              <a:rPr b="1" lang="sr-Latn-CS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+TR</a:t>
            </a:r>
            <a:r>
              <a:rPr b="1" lang="sr-Latn-CS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ZAVISNOST TROŠKOVA SERIJA OD VELIČINE I BROJA SERIJ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4606920" y="213372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Funkcija TR  imaće svoj minimum ako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148360" y="3213000"/>
                <a:ext cx="11811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7524720" y="3213000"/>
                <a:ext cx="11970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6729840" y="3357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95280" y="4869000"/>
                <a:ext cx="38163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rp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s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500720" y="5084640"/>
                <a:ext cx="502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292720" y="4724280"/>
                <a:ext cx="25844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r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rs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900000" y="5734080"/>
                <a:ext cx="19432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trp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16360" y="5950080"/>
                <a:ext cx="5760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"/>
          <p:cNvGrpSpPr/>
          <p:nvPr/>
        </p:nvGrpSpPr>
        <p:grpSpPr>
          <a:xfrm>
            <a:off x="-5400" y="1989000"/>
            <a:ext cx="4648320" cy="2763720"/>
            <a:chOff x="-5400" y="1989000"/>
            <a:chExt cx="4648320" cy="2763720"/>
          </a:xfrm>
        </p:grpSpPr>
        <p:grpSp>
          <p:nvGrpSpPr>
            <p:cNvPr id="411" name=""/>
            <p:cNvGrpSpPr/>
            <p:nvPr/>
          </p:nvGrpSpPr>
          <p:grpSpPr>
            <a:xfrm>
              <a:off x="550080" y="1989000"/>
              <a:ext cx="4092840" cy="2763720"/>
              <a:chOff x="550080" y="1989000"/>
              <a:chExt cx="4092840" cy="27637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711720" y="2225160"/>
                <a:ext cx="68400" cy="2271600"/>
                <a:chOff x="711720" y="2225160"/>
                <a:chExt cx="68400" cy="227160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45560" y="2314440"/>
                  <a:ext cx="720" cy="2182320"/>
                </a:xfrm>
                <a:prstGeom prst="line">
                  <a:avLst/>
                </a:prstGeom>
                <a:ln w="2052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11720" y="2225160"/>
                  <a:ext cx="68400" cy="98640"/>
                </a:xfrm>
                <a:custGeom>
                  <a:avLst/>
                  <a:gdLst/>
                  <a:ahLst/>
                  <a:rect l="l" t="t" r="r" b="b"/>
                  <a:pathLst>
                    <a:path w="132" h="197">
                      <a:moveTo>
                        <a:pt x="0" y="197"/>
                      </a:moveTo>
                      <a:lnTo>
                        <a:pt x="67" y="0"/>
                      </a:lnTo>
                      <a:lnTo>
                        <a:pt x="132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94440" y="4395960"/>
                <a:ext cx="3925440" cy="65880"/>
                <a:chOff x="694440" y="4395960"/>
                <a:chExt cx="3925440" cy="658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94440" y="4427640"/>
                  <a:ext cx="3831840" cy="720"/>
                </a:xfrm>
                <a:prstGeom prst="line">
                  <a:avLst/>
                </a:prstGeom>
                <a:ln w="2052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517640" y="4395960"/>
                  <a:ext cx="102240" cy="65880"/>
                </a:xfrm>
                <a:custGeom>
                  <a:avLst/>
                  <a:gdLst/>
                  <a:ahLst/>
                  <a:rect l="l" t="t" r="r" b="b"/>
                  <a:pathLst>
                    <a:path w="197" h="132">
                      <a:moveTo>
                        <a:pt x="0" y="0"/>
                      </a:moveTo>
                      <a:lnTo>
                        <a:pt x="197" y="65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2320200" y="3695040"/>
                <a:ext cx="6480" cy="736200"/>
                <a:chOff x="2320200" y="3695040"/>
                <a:chExt cx="6480" cy="7362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320200" y="3695040"/>
                  <a:ext cx="6480" cy="736200"/>
                </a:xfrm>
                <a:custGeom>
                  <a:avLst/>
                  <a:gdLst/>
                  <a:ahLst/>
                  <a:rect l="l" t="t" r="r" b="b"/>
                  <a:pathLst>
                    <a:path w="14" h="1479">
                      <a:moveTo>
                        <a:pt x="14" y="8"/>
                      </a:moveTo>
                      <a:lnTo>
                        <a:pt x="14" y="110"/>
                      </a:lnTo>
                      <a:lnTo>
                        <a:pt x="13" y="114"/>
                      </a:lnTo>
                      <a:lnTo>
                        <a:pt x="11" y="116"/>
                      </a:lnTo>
                      <a:lnTo>
                        <a:pt x="9" y="116"/>
                      </a:lnTo>
                      <a:lnTo>
                        <a:pt x="5" y="118"/>
                      </a:lnTo>
                      <a:lnTo>
                        <a:pt x="3" y="116"/>
                      </a:lnTo>
                      <a:lnTo>
                        <a:pt x="2" y="116"/>
                      </a:lnTo>
                      <a:lnTo>
                        <a:pt x="0" y="114"/>
                      </a:lnTo>
                      <a:lnTo>
                        <a:pt x="0" y="110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1" y="2"/>
                      </a:lnTo>
                      <a:lnTo>
                        <a:pt x="13" y="4"/>
                      </a:lnTo>
                      <a:lnTo>
                        <a:pt x="14" y="8"/>
                      </a:lnTo>
                      <a:lnTo>
                        <a:pt x="14" y="8"/>
                      </a:lnTo>
                      <a:lnTo>
                        <a:pt x="14" y="8"/>
                      </a:lnTo>
                      <a:close/>
                      <a:moveTo>
                        <a:pt x="14" y="185"/>
                      </a:moveTo>
                      <a:lnTo>
                        <a:pt x="14" y="286"/>
                      </a:lnTo>
                      <a:lnTo>
                        <a:pt x="13" y="289"/>
                      </a:lnTo>
                      <a:lnTo>
                        <a:pt x="11" y="291"/>
                      </a:lnTo>
                      <a:lnTo>
                        <a:pt x="9" y="293"/>
                      </a:lnTo>
                      <a:lnTo>
                        <a:pt x="5" y="293"/>
                      </a:lnTo>
                      <a:lnTo>
                        <a:pt x="3" y="293"/>
                      </a:lnTo>
                      <a:lnTo>
                        <a:pt x="2" y="291"/>
                      </a:lnTo>
                      <a:lnTo>
                        <a:pt x="0" y="289"/>
                      </a:lnTo>
                      <a:lnTo>
                        <a:pt x="0" y="286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2" y="177"/>
                      </a:lnTo>
                      <a:lnTo>
                        <a:pt x="3" y="175"/>
                      </a:lnTo>
                      <a:lnTo>
                        <a:pt x="5" y="175"/>
                      </a:lnTo>
                      <a:lnTo>
                        <a:pt x="9" y="175"/>
                      </a:lnTo>
                      <a:lnTo>
                        <a:pt x="11" y="177"/>
                      </a:lnTo>
                      <a:lnTo>
                        <a:pt x="13" y="181"/>
                      </a:lnTo>
                      <a:lnTo>
                        <a:pt x="14" y="185"/>
                      </a:lnTo>
                      <a:lnTo>
                        <a:pt x="14" y="185"/>
                      </a:lnTo>
                      <a:lnTo>
                        <a:pt x="14" y="185"/>
                      </a:lnTo>
                      <a:close/>
                      <a:moveTo>
                        <a:pt x="14" y="362"/>
                      </a:moveTo>
                      <a:lnTo>
                        <a:pt x="14" y="463"/>
                      </a:lnTo>
                      <a:lnTo>
                        <a:pt x="13" y="466"/>
                      </a:lnTo>
                      <a:lnTo>
                        <a:pt x="11" y="468"/>
                      </a:lnTo>
                      <a:lnTo>
                        <a:pt x="9" y="470"/>
                      </a:lnTo>
                      <a:lnTo>
                        <a:pt x="5" y="470"/>
                      </a:lnTo>
                      <a:lnTo>
                        <a:pt x="3" y="470"/>
                      </a:lnTo>
                      <a:lnTo>
                        <a:pt x="2" y="468"/>
                      </a:lnTo>
                      <a:lnTo>
                        <a:pt x="0" y="466"/>
                      </a:lnTo>
                      <a:lnTo>
                        <a:pt x="0" y="463"/>
                      </a:lnTo>
                      <a:lnTo>
                        <a:pt x="0" y="362"/>
                      </a:lnTo>
                      <a:lnTo>
                        <a:pt x="0" y="358"/>
                      </a:lnTo>
                      <a:lnTo>
                        <a:pt x="2" y="354"/>
                      </a:lnTo>
                      <a:lnTo>
                        <a:pt x="3" y="352"/>
                      </a:lnTo>
                      <a:lnTo>
                        <a:pt x="5" y="352"/>
                      </a:lnTo>
                      <a:lnTo>
                        <a:pt x="9" y="352"/>
                      </a:lnTo>
                      <a:lnTo>
                        <a:pt x="11" y="354"/>
                      </a:lnTo>
                      <a:lnTo>
                        <a:pt x="13" y="358"/>
                      </a:lnTo>
                      <a:lnTo>
                        <a:pt x="14" y="362"/>
                      </a:lnTo>
                      <a:lnTo>
                        <a:pt x="14" y="362"/>
                      </a:lnTo>
                      <a:lnTo>
                        <a:pt x="14" y="362"/>
                      </a:lnTo>
                      <a:close/>
                      <a:moveTo>
                        <a:pt x="14" y="537"/>
                      </a:moveTo>
                      <a:lnTo>
                        <a:pt x="14" y="640"/>
                      </a:lnTo>
                      <a:lnTo>
                        <a:pt x="13" y="641"/>
                      </a:lnTo>
                      <a:lnTo>
                        <a:pt x="11" y="643"/>
                      </a:lnTo>
                      <a:lnTo>
                        <a:pt x="9" y="645"/>
                      </a:lnTo>
                      <a:lnTo>
                        <a:pt x="5" y="647"/>
                      </a:lnTo>
                      <a:lnTo>
                        <a:pt x="3" y="645"/>
                      </a:lnTo>
                      <a:lnTo>
                        <a:pt x="2" y="643"/>
                      </a:lnTo>
                      <a:lnTo>
                        <a:pt x="0" y="641"/>
                      </a:lnTo>
                      <a:lnTo>
                        <a:pt x="0" y="640"/>
                      </a:lnTo>
                      <a:lnTo>
                        <a:pt x="0" y="537"/>
                      </a:lnTo>
                      <a:lnTo>
                        <a:pt x="0" y="533"/>
                      </a:lnTo>
                      <a:lnTo>
                        <a:pt x="2" y="529"/>
                      </a:lnTo>
                      <a:lnTo>
                        <a:pt x="3" y="528"/>
                      </a:lnTo>
                      <a:lnTo>
                        <a:pt x="5" y="528"/>
                      </a:lnTo>
                      <a:lnTo>
                        <a:pt x="5" y="528"/>
                      </a:lnTo>
                      <a:lnTo>
                        <a:pt x="7" y="528"/>
                      </a:lnTo>
                      <a:lnTo>
                        <a:pt x="9" y="528"/>
                      </a:lnTo>
                      <a:lnTo>
                        <a:pt x="11" y="529"/>
                      </a:lnTo>
                      <a:lnTo>
                        <a:pt x="13" y="533"/>
                      </a:lnTo>
                      <a:lnTo>
                        <a:pt x="14" y="537"/>
                      </a:lnTo>
                      <a:lnTo>
                        <a:pt x="14" y="537"/>
                      </a:lnTo>
                      <a:lnTo>
                        <a:pt x="14" y="537"/>
                      </a:lnTo>
                      <a:close/>
                      <a:moveTo>
                        <a:pt x="14" y="714"/>
                      </a:moveTo>
                      <a:lnTo>
                        <a:pt x="14" y="815"/>
                      </a:lnTo>
                      <a:lnTo>
                        <a:pt x="13" y="818"/>
                      </a:lnTo>
                      <a:lnTo>
                        <a:pt x="11" y="820"/>
                      </a:lnTo>
                      <a:lnTo>
                        <a:pt x="9" y="822"/>
                      </a:lnTo>
                      <a:lnTo>
                        <a:pt x="5" y="822"/>
                      </a:lnTo>
                      <a:lnTo>
                        <a:pt x="3" y="822"/>
                      </a:lnTo>
                      <a:lnTo>
                        <a:pt x="2" y="820"/>
                      </a:lnTo>
                      <a:lnTo>
                        <a:pt x="0" y="818"/>
                      </a:lnTo>
                      <a:lnTo>
                        <a:pt x="0" y="815"/>
                      </a:lnTo>
                      <a:lnTo>
                        <a:pt x="0" y="714"/>
                      </a:lnTo>
                      <a:lnTo>
                        <a:pt x="0" y="710"/>
                      </a:lnTo>
                      <a:lnTo>
                        <a:pt x="2" y="706"/>
                      </a:lnTo>
                      <a:lnTo>
                        <a:pt x="3" y="705"/>
                      </a:lnTo>
                      <a:lnTo>
                        <a:pt x="5" y="705"/>
                      </a:lnTo>
                      <a:lnTo>
                        <a:pt x="9" y="705"/>
                      </a:lnTo>
                      <a:lnTo>
                        <a:pt x="11" y="706"/>
                      </a:lnTo>
                      <a:lnTo>
                        <a:pt x="13" y="710"/>
                      </a:lnTo>
                      <a:lnTo>
                        <a:pt x="14" y="714"/>
                      </a:lnTo>
                      <a:lnTo>
                        <a:pt x="14" y="714"/>
                      </a:lnTo>
                      <a:lnTo>
                        <a:pt x="14" y="714"/>
                      </a:lnTo>
                      <a:close/>
                      <a:moveTo>
                        <a:pt x="14" y="889"/>
                      </a:moveTo>
                      <a:lnTo>
                        <a:pt x="14" y="992"/>
                      </a:lnTo>
                      <a:lnTo>
                        <a:pt x="13" y="995"/>
                      </a:lnTo>
                      <a:lnTo>
                        <a:pt x="11" y="997"/>
                      </a:lnTo>
                      <a:lnTo>
                        <a:pt x="9" y="999"/>
                      </a:lnTo>
                      <a:lnTo>
                        <a:pt x="5" y="999"/>
                      </a:lnTo>
                      <a:lnTo>
                        <a:pt x="3" y="999"/>
                      </a:lnTo>
                      <a:lnTo>
                        <a:pt x="2" y="997"/>
                      </a:lnTo>
                      <a:lnTo>
                        <a:pt x="0" y="995"/>
                      </a:lnTo>
                      <a:lnTo>
                        <a:pt x="0" y="992"/>
                      </a:lnTo>
                      <a:lnTo>
                        <a:pt x="0" y="889"/>
                      </a:lnTo>
                      <a:lnTo>
                        <a:pt x="0" y="885"/>
                      </a:lnTo>
                      <a:lnTo>
                        <a:pt x="2" y="883"/>
                      </a:lnTo>
                      <a:lnTo>
                        <a:pt x="3" y="882"/>
                      </a:lnTo>
                      <a:lnTo>
                        <a:pt x="5" y="882"/>
                      </a:lnTo>
                      <a:lnTo>
                        <a:pt x="9" y="882"/>
                      </a:lnTo>
                      <a:lnTo>
                        <a:pt x="11" y="883"/>
                      </a:lnTo>
                      <a:lnTo>
                        <a:pt x="13" y="885"/>
                      </a:lnTo>
                      <a:lnTo>
                        <a:pt x="14" y="889"/>
                      </a:lnTo>
                      <a:lnTo>
                        <a:pt x="14" y="889"/>
                      </a:lnTo>
                      <a:lnTo>
                        <a:pt x="14" y="889"/>
                      </a:lnTo>
                      <a:close/>
                      <a:moveTo>
                        <a:pt x="14" y="1066"/>
                      </a:moveTo>
                      <a:lnTo>
                        <a:pt x="14" y="1167"/>
                      </a:lnTo>
                      <a:lnTo>
                        <a:pt x="13" y="1171"/>
                      </a:lnTo>
                      <a:lnTo>
                        <a:pt x="11" y="1172"/>
                      </a:lnTo>
                      <a:lnTo>
                        <a:pt x="9" y="1174"/>
                      </a:lnTo>
                      <a:lnTo>
                        <a:pt x="5" y="1176"/>
                      </a:lnTo>
                      <a:lnTo>
                        <a:pt x="3" y="1174"/>
                      </a:lnTo>
                      <a:lnTo>
                        <a:pt x="2" y="1172"/>
                      </a:lnTo>
                      <a:lnTo>
                        <a:pt x="0" y="1171"/>
                      </a:lnTo>
                      <a:lnTo>
                        <a:pt x="0" y="1167"/>
                      </a:lnTo>
                      <a:lnTo>
                        <a:pt x="0" y="1066"/>
                      </a:lnTo>
                      <a:lnTo>
                        <a:pt x="0" y="1062"/>
                      </a:lnTo>
                      <a:lnTo>
                        <a:pt x="2" y="1059"/>
                      </a:lnTo>
                      <a:lnTo>
                        <a:pt x="3" y="1059"/>
                      </a:lnTo>
                      <a:lnTo>
                        <a:pt x="5" y="1059"/>
                      </a:lnTo>
                      <a:lnTo>
                        <a:pt x="9" y="1059"/>
                      </a:lnTo>
                      <a:lnTo>
                        <a:pt x="11" y="1059"/>
                      </a:lnTo>
                      <a:lnTo>
                        <a:pt x="13" y="1062"/>
                      </a:lnTo>
                      <a:lnTo>
                        <a:pt x="14" y="1066"/>
                      </a:lnTo>
                      <a:lnTo>
                        <a:pt x="14" y="1066"/>
                      </a:lnTo>
                      <a:lnTo>
                        <a:pt x="14" y="1066"/>
                      </a:lnTo>
                      <a:close/>
                      <a:moveTo>
                        <a:pt x="14" y="1243"/>
                      </a:moveTo>
                      <a:lnTo>
                        <a:pt x="14" y="1344"/>
                      </a:lnTo>
                      <a:lnTo>
                        <a:pt x="13" y="1348"/>
                      </a:lnTo>
                      <a:lnTo>
                        <a:pt x="11" y="1349"/>
                      </a:lnTo>
                      <a:lnTo>
                        <a:pt x="9" y="1351"/>
                      </a:lnTo>
                      <a:lnTo>
                        <a:pt x="5" y="1353"/>
                      </a:lnTo>
                      <a:lnTo>
                        <a:pt x="3" y="1351"/>
                      </a:lnTo>
                      <a:lnTo>
                        <a:pt x="2" y="1349"/>
                      </a:lnTo>
                      <a:lnTo>
                        <a:pt x="0" y="1348"/>
                      </a:lnTo>
                      <a:lnTo>
                        <a:pt x="0" y="1344"/>
                      </a:lnTo>
                      <a:lnTo>
                        <a:pt x="0" y="1243"/>
                      </a:lnTo>
                      <a:lnTo>
                        <a:pt x="0" y="1239"/>
                      </a:lnTo>
                      <a:lnTo>
                        <a:pt x="2" y="1236"/>
                      </a:lnTo>
                      <a:lnTo>
                        <a:pt x="3" y="1234"/>
                      </a:lnTo>
                      <a:lnTo>
                        <a:pt x="5" y="1234"/>
                      </a:lnTo>
                      <a:lnTo>
                        <a:pt x="9" y="1234"/>
                      </a:lnTo>
                      <a:lnTo>
                        <a:pt x="11" y="1236"/>
                      </a:lnTo>
                      <a:lnTo>
                        <a:pt x="13" y="1239"/>
                      </a:lnTo>
                      <a:lnTo>
                        <a:pt x="14" y="1243"/>
                      </a:lnTo>
                      <a:lnTo>
                        <a:pt x="14" y="1243"/>
                      </a:lnTo>
                      <a:lnTo>
                        <a:pt x="14" y="1243"/>
                      </a:lnTo>
                      <a:close/>
                      <a:moveTo>
                        <a:pt x="14" y="1418"/>
                      </a:moveTo>
                      <a:lnTo>
                        <a:pt x="14" y="1472"/>
                      </a:lnTo>
                      <a:lnTo>
                        <a:pt x="13" y="1476"/>
                      </a:lnTo>
                      <a:lnTo>
                        <a:pt x="11" y="1478"/>
                      </a:lnTo>
                      <a:lnTo>
                        <a:pt x="9" y="1479"/>
                      </a:lnTo>
                      <a:lnTo>
                        <a:pt x="5" y="1479"/>
                      </a:lnTo>
                      <a:lnTo>
                        <a:pt x="3" y="1479"/>
                      </a:lnTo>
                      <a:lnTo>
                        <a:pt x="2" y="1478"/>
                      </a:lnTo>
                      <a:lnTo>
                        <a:pt x="0" y="1476"/>
                      </a:lnTo>
                      <a:lnTo>
                        <a:pt x="0" y="1472"/>
                      </a:lnTo>
                      <a:lnTo>
                        <a:pt x="0" y="1418"/>
                      </a:lnTo>
                      <a:lnTo>
                        <a:pt x="0" y="1414"/>
                      </a:lnTo>
                      <a:lnTo>
                        <a:pt x="2" y="1411"/>
                      </a:lnTo>
                      <a:lnTo>
                        <a:pt x="3" y="1411"/>
                      </a:lnTo>
                      <a:lnTo>
                        <a:pt x="5" y="1411"/>
                      </a:lnTo>
                      <a:lnTo>
                        <a:pt x="5" y="1411"/>
                      </a:lnTo>
                      <a:lnTo>
                        <a:pt x="7" y="1411"/>
                      </a:lnTo>
                      <a:lnTo>
                        <a:pt x="9" y="1411"/>
                      </a:lnTo>
                      <a:lnTo>
                        <a:pt x="11" y="1411"/>
                      </a:lnTo>
                      <a:lnTo>
                        <a:pt x="13" y="1414"/>
                      </a:lnTo>
                      <a:lnTo>
                        <a:pt x="14" y="1418"/>
                      </a:lnTo>
                      <a:lnTo>
                        <a:pt x="14" y="1418"/>
                      </a:lnTo>
                      <a:lnTo>
                        <a:pt x="14" y="14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2320200" y="3782520"/>
                  <a:ext cx="6480" cy="586080"/>
                  <a:chOff x="2320200" y="3782520"/>
                  <a:chExt cx="6480" cy="5860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2320200" y="3782520"/>
                    <a:ext cx="64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8">
                        <a:moveTo>
                          <a:pt x="14" y="10"/>
                        </a:moveTo>
                        <a:lnTo>
                          <a:pt x="14" y="111"/>
                        </a:lnTo>
                        <a:lnTo>
                          <a:pt x="13" y="114"/>
                        </a:lnTo>
                        <a:lnTo>
                          <a:pt x="11" y="116"/>
                        </a:lnTo>
                        <a:lnTo>
                          <a:pt x="9" y="118"/>
                        </a:lnTo>
                        <a:lnTo>
                          <a:pt x="5" y="118"/>
                        </a:lnTo>
                        <a:lnTo>
                          <a:pt x="3" y="118"/>
                        </a:lnTo>
                        <a:lnTo>
                          <a:pt x="2" y="116"/>
                        </a:lnTo>
                        <a:lnTo>
                          <a:pt x="0" y="114"/>
                        </a:lnTo>
                        <a:lnTo>
                          <a:pt x="0" y="111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2" y="2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1" y="2"/>
                        </a:lnTo>
                        <a:lnTo>
                          <a:pt x="13" y="6"/>
                        </a:lnTo>
                        <a:lnTo>
                          <a:pt x="14" y="10"/>
                        </a:lnTo>
                        <a:lnTo>
                          <a:pt x="14" y="10"/>
                        </a:lnTo>
                        <a:lnTo>
                          <a:pt x="14" y="1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320200" y="3870000"/>
                    <a:ext cx="64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8">
                        <a:moveTo>
                          <a:pt x="14" y="10"/>
                        </a:moveTo>
                        <a:lnTo>
                          <a:pt x="14" y="111"/>
                        </a:lnTo>
                        <a:lnTo>
                          <a:pt x="13" y="114"/>
                        </a:lnTo>
                        <a:lnTo>
                          <a:pt x="11" y="116"/>
                        </a:lnTo>
                        <a:lnTo>
                          <a:pt x="9" y="118"/>
                        </a:lnTo>
                        <a:lnTo>
                          <a:pt x="5" y="118"/>
                        </a:lnTo>
                        <a:lnTo>
                          <a:pt x="3" y="118"/>
                        </a:lnTo>
                        <a:lnTo>
                          <a:pt x="2" y="116"/>
                        </a:lnTo>
                        <a:lnTo>
                          <a:pt x="0" y="114"/>
                        </a:lnTo>
                        <a:lnTo>
                          <a:pt x="0" y="111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2" y="2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1" y="2"/>
                        </a:lnTo>
                        <a:lnTo>
                          <a:pt x="13" y="6"/>
                        </a:lnTo>
                        <a:lnTo>
                          <a:pt x="14" y="10"/>
                        </a:lnTo>
                        <a:lnTo>
                          <a:pt x="14" y="10"/>
                        </a:lnTo>
                        <a:lnTo>
                          <a:pt x="14" y="1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320200" y="3957480"/>
                    <a:ext cx="64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9">
                        <a:moveTo>
                          <a:pt x="14" y="9"/>
                        </a:moveTo>
                        <a:lnTo>
                          <a:pt x="14" y="112"/>
                        </a:lnTo>
                        <a:lnTo>
                          <a:pt x="13" y="113"/>
                        </a:lnTo>
                        <a:lnTo>
                          <a:pt x="11" y="115"/>
                        </a:lnTo>
                        <a:lnTo>
                          <a:pt x="9" y="117"/>
                        </a:lnTo>
                        <a:lnTo>
                          <a:pt x="5" y="119"/>
                        </a:lnTo>
                        <a:lnTo>
                          <a:pt x="3" y="117"/>
                        </a:lnTo>
                        <a:lnTo>
                          <a:pt x="2" y="115"/>
                        </a:lnTo>
                        <a:lnTo>
                          <a:pt x="0" y="113"/>
                        </a:lnTo>
                        <a:lnTo>
                          <a:pt x="0" y="112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3" y="5"/>
                        </a:lnTo>
                        <a:lnTo>
                          <a:pt x="14" y="9"/>
                        </a:lnTo>
                        <a:lnTo>
                          <a:pt x="14" y="9"/>
                        </a:lnTo>
                        <a:lnTo>
                          <a:pt x="14" y="9"/>
                        </a:lnTo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320200" y="4045320"/>
                    <a:ext cx="648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7">
                        <a:moveTo>
                          <a:pt x="14" y="9"/>
                        </a:moveTo>
                        <a:lnTo>
                          <a:pt x="14" y="110"/>
                        </a:lnTo>
                        <a:lnTo>
                          <a:pt x="13" y="113"/>
                        </a:lnTo>
                        <a:lnTo>
                          <a:pt x="11" y="115"/>
                        </a:lnTo>
                        <a:lnTo>
                          <a:pt x="9" y="117"/>
                        </a:lnTo>
                        <a:lnTo>
                          <a:pt x="5" y="117"/>
                        </a:lnTo>
                        <a:lnTo>
                          <a:pt x="3" y="117"/>
                        </a:lnTo>
                        <a:lnTo>
                          <a:pt x="2" y="115"/>
                        </a:lnTo>
                        <a:lnTo>
                          <a:pt x="0" y="113"/>
                        </a:lnTo>
                        <a:lnTo>
                          <a:pt x="0" y="110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3" y="5"/>
                        </a:lnTo>
                        <a:lnTo>
                          <a:pt x="14" y="9"/>
                        </a:lnTo>
                        <a:lnTo>
                          <a:pt x="14" y="9"/>
                        </a:lnTo>
                        <a:lnTo>
                          <a:pt x="14" y="9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320200" y="4133520"/>
                    <a:ext cx="648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7">
                        <a:moveTo>
                          <a:pt x="14" y="7"/>
                        </a:moveTo>
                        <a:lnTo>
                          <a:pt x="14" y="110"/>
                        </a:lnTo>
                        <a:lnTo>
                          <a:pt x="13" y="113"/>
                        </a:lnTo>
                        <a:lnTo>
                          <a:pt x="11" y="115"/>
                        </a:lnTo>
                        <a:lnTo>
                          <a:pt x="9" y="117"/>
                        </a:lnTo>
                        <a:lnTo>
                          <a:pt x="5" y="117"/>
                        </a:lnTo>
                        <a:lnTo>
                          <a:pt x="3" y="117"/>
                        </a:lnTo>
                        <a:lnTo>
                          <a:pt x="2" y="115"/>
                        </a:lnTo>
                        <a:lnTo>
                          <a:pt x="0" y="113"/>
                        </a:lnTo>
                        <a:lnTo>
                          <a:pt x="0" y="110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3" y="3"/>
                        </a:lnTo>
                        <a:lnTo>
                          <a:pt x="14" y="7"/>
                        </a:lnTo>
                        <a:lnTo>
                          <a:pt x="14" y="7"/>
                        </a:lnTo>
                        <a:lnTo>
                          <a:pt x="14" y="7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320200" y="4221360"/>
                    <a:ext cx="648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7">
                        <a:moveTo>
                          <a:pt x="14" y="7"/>
                        </a:moveTo>
                        <a:lnTo>
                          <a:pt x="14" y="108"/>
                        </a:lnTo>
                        <a:lnTo>
                          <a:pt x="13" y="112"/>
                        </a:lnTo>
                        <a:lnTo>
                          <a:pt x="11" y="113"/>
                        </a:lnTo>
                        <a:lnTo>
                          <a:pt x="9" y="115"/>
                        </a:lnTo>
                        <a:lnTo>
                          <a:pt x="5" y="117"/>
                        </a:lnTo>
                        <a:lnTo>
                          <a:pt x="3" y="115"/>
                        </a:lnTo>
                        <a:lnTo>
                          <a:pt x="2" y="113"/>
                        </a:lnTo>
                        <a:lnTo>
                          <a:pt x="0" y="112"/>
                        </a:lnTo>
                        <a:lnTo>
                          <a:pt x="0" y="108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3"/>
                        </a:lnTo>
                        <a:lnTo>
                          <a:pt x="14" y="7"/>
                        </a:lnTo>
                        <a:lnTo>
                          <a:pt x="14" y="7"/>
                        </a:lnTo>
                        <a:lnTo>
                          <a:pt x="14" y="7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320200" y="4308840"/>
                    <a:ext cx="64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9">
                        <a:moveTo>
                          <a:pt x="14" y="9"/>
                        </a:moveTo>
                        <a:lnTo>
                          <a:pt x="14" y="110"/>
                        </a:lnTo>
                        <a:lnTo>
                          <a:pt x="13" y="114"/>
                        </a:lnTo>
                        <a:lnTo>
                          <a:pt x="11" y="115"/>
                        </a:lnTo>
                        <a:lnTo>
                          <a:pt x="9" y="117"/>
                        </a:lnTo>
                        <a:lnTo>
                          <a:pt x="5" y="119"/>
                        </a:lnTo>
                        <a:lnTo>
                          <a:pt x="3" y="117"/>
                        </a:lnTo>
                        <a:lnTo>
                          <a:pt x="2" y="115"/>
                        </a:lnTo>
                        <a:lnTo>
                          <a:pt x="0" y="114"/>
                        </a:lnTo>
                        <a:lnTo>
                          <a:pt x="0" y="110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2" y="2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1" y="2"/>
                        </a:lnTo>
                        <a:lnTo>
                          <a:pt x="13" y="5"/>
                        </a:lnTo>
                        <a:lnTo>
                          <a:pt x="14" y="9"/>
                        </a:lnTo>
                        <a:lnTo>
                          <a:pt x="14" y="9"/>
                        </a:lnTo>
                        <a:lnTo>
                          <a:pt x="14" y="9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8" name=""/>
                <p:cNvSpPr/>
                <p:nvPr/>
              </p:nvSpPr>
              <p:spPr>
                <a:xfrm>
                  <a:off x="2320200" y="4396320"/>
                  <a:ext cx="6480" cy="34920"/>
                </a:xfrm>
                <a:custGeom>
                  <a:avLst/>
                  <a:gdLst/>
                  <a:ahLst/>
                  <a:rect l="l" t="t" r="r" b="b"/>
                  <a:pathLst>
                    <a:path w="14" h="68">
                      <a:moveTo>
                        <a:pt x="14" y="7"/>
                      </a:moveTo>
                      <a:lnTo>
                        <a:pt x="14" y="61"/>
                      </a:lnTo>
                      <a:lnTo>
                        <a:pt x="13" y="65"/>
                      </a:lnTo>
                      <a:lnTo>
                        <a:pt x="11" y="67"/>
                      </a:lnTo>
                      <a:lnTo>
                        <a:pt x="9" y="68"/>
                      </a:lnTo>
                      <a:lnTo>
                        <a:pt x="5" y="68"/>
                      </a:lnTo>
                      <a:lnTo>
                        <a:pt x="3" y="68"/>
                      </a:lnTo>
                      <a:lnTo>
                        <a:pt x="2" y="67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790200" y="3693240"/>
                <a:ext cx="1539720" cy="59400"/>
                <a:chOff x="790200" y="3693240"/>
                <a:chExt cx="1539720" cy="594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322720" y="3693240"/>
                  <a:ext cx="7200" cy="59400"/>
                </a:xfrm>
                <a:custGeom>
                  <a:avLst/>
                  <a:gdLst/>
                  <a:ahLst/>
                  <a:rect l="l" t="t" r="r" b="b"/>
                  <a:pathLst>
                    <a:path w="14" h="118">
                      <a:moveTo>
                        <a:pt x="14" y="8"/>
                      </a:moveTo>
                      <a:lnTo>
                        <a:pt x="14" y="110"/>
                      </a:lnTo>
                      <a:lnTo>
                        <a:pt x="13" y="114"/>
                      </a:lnTo>
                      <a:lnTo>
                        <a:pt x="11" y="116"/>
                      </a:lnTo>
                      <a:lnTo>
                        <a:pt x="9" y="116"/>
                      </a:lnTo>
                      <a:lnTo>
                        <a:pt x="5" y="118"/>
                      </a:lnTo>
                      <a:lnTo>
                        <a:pt x="3" y="116"/>
                      </a:lnTo>
                      <a:lnTo>
                        <a:pt x="2" y="116"/>
                      </a:lnTo>
                      <a:lnTo>
                        <a:pt x="0" y="114"/>
                      </a:lnTo>
                      <a:lnTo>
                        <a:pt x="0" y="110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1" y="2"/>
                      </a:lnTo>
                      <a:lnTo>
                        <a:pt x="13" y="4"/>
                      </a:lnTo>
                      <a:lnTo>
                        <a:pt x="14" y="8"/>
                      </a:lnTo>
                      <a:lnTo>
                        <a:pt x="14" y="8"/>
                      </a:lnTo>
                      <a:lnTo>
                        <a:pt x="14" y="8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90200" y="3693240"/>
                  <a:ext cx="1532520" cy="6840"/>
                </a:xfrm>
                <a:custGeom>
                  <a:avLst/>
                  <a:gdLst/>
                  <a:ahLst/>
                  <a:rect l="l" t="t" r="r" b="b"/>
                  <a:pathLst>
                    <a:path w="2935" h="15">
                      <a:moveTo>
                        <a:pt x="7" y="0"/>
                      </a:moveTo>
                      <a:lnTo>
                        <a:pt x="108" y="0"/>
                      </a:lnTo>
                      <a:lnTo>
                        <a:pt x="112" y="0"/>
                      </a:lnTo>
                      <a:lnTo>
                        <a:pt x="116" y="2"/>
                      </a:lnTo>
                      <a:lnTo>
                        <a:pt x="117" y="4"/>
                      </a:lnTo>
                      <a:lnTo>
                        <a:pt x="117" y="8"/>
                      </a:lnTo>
                      <a:lnTo>
                        <a:pt x="117" y="9"/>
                      </a:lnTo>
                      <a:lnTo>
                        <a:pt x="116" y="11"/>
                      </a:lnTo>
                      <a:lnTo>
                        <a:pt x="112" y="13"/>
                      </a:lnTo>
                      <a:lnTo>
                        <a:pt x="108" y="15"/>
                      </a:lnTo>
                      <a:lnTo>
                        <a:pt x="7" y="15"/>
                      </a:lnTo>
                      <a:lnTo>
                        <a:pt x="4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  <a:moveTo>
                        <a:pt x="182" y="0"/>
                      </a:moveTo>
                      <a:lnTo>
                        <a:pt x="285" y="0"/>
                      </a:lnTo>
                      <a:lnTo>
                        <a:pt x="289" y="0"/>
                      </a:lnTo>
                      <a:lnTo>
                        <a:pt x="293" y="2"/>
                      </a:lnTo>
                      <a:lnTo>
                        <a:pt x="293" y="4"/>
                      </a:lnTo>
                      <a:lnTo>
                        <a:pt x="293" y="8"/>
                      </a:lnTo>
                      <a:lnTo>
                        <a:pt x="293" y="9"/>
                      </a:lnTo>
                      <a:lnTo>
                        <a:pt x="293" y="11"/>
                      </a:lnTo>
                      <a:lnTo>
                        <a:pt x="289" y="13"/>
                      </a:lnTo>
                      <a:lnTo>
                        <a:pt x="285" y="15"/>
                      </a:lnTo>
                      <a:lnTo>
                        <a:pt x="182" y="15"/>
                      </a:lnTo>
                      <a:lnTo>
                        <a:pt x="179" y="13"/>
                      </a:lnTo>
                      <a:lnTo>
                        <a:pt x="177" y="11"/>
                      </a:lnTo>
                      <a:lnTo>
                        <a:pt x="175" y="9"/>
                      </a:lnTo>
                      <a:lnTo>
                        <a:pt x="175" y="8"/>
                      </a:lnTo>
                      <a:lnTo>
                        <a:pt x="175" y="4"/>
                      </a:lnTo>
                      <a:lnTo>
                        <a:pt x="177" y="2"/>
                      </a:lnTo>
                      <a:lnTo>
                        <a:pt x="179" y="0"/>
                      </a:lnTo>
                      <a:lnTo>
                        <a:pt x="182" y="0"/>
                      </a:lnTo>
                      <a:lnTo>
                        <a:pt x="182" y="0"/>
                      </a:lnTo>
                      <a:lnTo>
                        <a:pt x="182" y="0"/>
                      </a:lnTo>
                      <a:close/>
                      <a:moveTo>
                        <a:pt x="359" y="0"/>
                      </a:moveTo>
                      <a:lnTo>
                        <a:pt x="461" y="0"/>
                      </a:lnTo>
                      <a:lnTo>
                        <a:pt x="464" y="0"/>
                      </a:lnTo>
                      <a:lnTo>
                        <a:pt x="466" y="2"/>
                      </a:lnTo>
                      <a:lnTo>
                        <a:pt x="468" y="4"/>
                      </a:lnTo>
                      <a:lnTo>
                        <a:pt x="468" y="8"/>
                      </a:lnTo>
                      <a:lnTo>
                        <a:pt x="468" y="9"/>
                      </a:lnTo>
                      <a:lnTo>
                        <a:pt x="466" y="11"/>
                      </a:lnTo>
                      <a:lnTo>
                        <a:pt x="464" y="13"/>
                      </a:lnTo>
                      <a:lnTo>
                        <a:pt x="461" y="15"/>
                      </a:lnTo>
                      <a:lnTo>
                        <a:pt x="359" y="15"/>
                      </a:lnTo>
                      <a:lnTo>
                        <a:pt x="356" y="13"/>
                      </a:lnTo>
                      <a:lnTo>
                        <a:pt x="352" y="11"/>
                      </a:lnTo>
                      <a:lnTo>
                        <a:pt x="350" y="9"/>
                      </a:lnTo>
                      <a:lnTo>
                        <a:pt x="350" y="8"/>
                      </a:lnTo>
                      <a:lnTo>
                        <a:pt x="350" y="4"/>
                      </a:lnTo>
                      <a:lnTo>
                        <a:pt x="352" y="2"/>
                      </a:lnTo>
                      <a:lnTo>
                        <a:pt x="356" y="0"/>
                      </a:lnTo>
                      <a:lnTo>
                        <a:pt x="359" y="0"/>
                      </a:lnTo>
                      <a:lnTo>
                        <a:pt x="359" y="0"/>
                      </a:lnTo>
                      <a:lnTo>
                        <a:pt x="359" y="0"/>
                      </a:lnTo>
                      <a:close/>
                      <a:moveTo>
                        <a:pt x="536" y="0"/>
                      </a:moveTo>
                      <a:lnTo>
                        <a:pt x="638" y="0"/>
                      </a:lnTo>
                      <a:lnTo>
                        <a:pt x="641" y="0"/>
                      </a:lnTo>
                      <a:lnTo>
                        <a:pt x="643" y="2"/>
                      </a:lnTo>
                      <a:lnTo>
                        <a:pt x="643" y="4"/>
                      </a:lnTo>
                      <a:lnTo>
                        <a:pt x="645" y="8"/>
                      </a:lnTo>
                      <a:lnTo>
                        <a:pt x="643" y="9"/>
                      </a:lnTo>
                      <a:lnTo>
                        <a:pt x="643" y="11"/>
                      </a:lnTo>
                      <a:lnTo>
                        <a:pt x="641" y="13"/>
                      </a:lnTo>
                      <a:lnTo>
                        <a:pt x="638" y="15"/>
                      </a:lnTo>
                      <a:lnTo>
                        <a:pt x="536" y="15"/>
                      </a:lnTo>
                      <a:lnTo>
                        <a:pt x="533" y="13"/>
                      </a:lnTo>
                      <a:lnTo>
                        <a:pt x="529" y="11"/>
                      </a:lnTo>
                      <a:lnTo>
                        <a:pt x="527" y="9"/>
                      </a:lnTo>
                      <a:lnTo>
                        <a:pt x="527" y="8"/>
                      </a:lnTo>
                      <a:lnTo>
                        <a:pt x="527" y="4"/>
                      </a:lnTo>
                      <a:lnTo>
                        <a:pt x="529" y="2"/>
                      </a:lnTo>
                      <a:lnTo>
                        <a:pt x="533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close/>
                      <a:moveTo>
                        <a:pt x="712" y="0"/>
                      </a:moveTo>
                      <a:lnTo>
                        <a:pt x="815" y="0"/>
                      </a:lnTo>
                      <a:lnTo>
                        <a:pt x="816" y="0"/>
                      </a:lnTo>
                      <a:lnTo>
                        <a:pt x="818" y="2"/>
                      </a:lnTo>
                      <a:lnTo>
                        <a:pt x="818" y="4"/>
                      </a:lnTo>
                      <a:lnTo>
                        <a:pt x="820" y="8"/>
                      </a:lnTo>
                      <a:lnTo>
                        <a:pt x="818" y="9"/>
                      </a:lnTo>
                      <a:lnTo>
                        <a:pt x="818" y="11"/>
                      </a:lnTo>
                      <a:lnTo>
                        <a:pt x="816" y="13"/>
                      </a:lnTo>
                      <a:lnTo>
                        <a:pt x="815" y="15"/>
                      </a:lnTo>
                      <a:lnTo>
                        <a:pt x="712" y="15"/>
                      </a:lnTo>
                      <a:lnTo>
                        <a:pt x="708" y="13"/>
                      </a:lnTo>
                      <a:lnTo>
                        <a:pt x="706" y="11"/>
                      </a:lnTo>
                      <a:lnTo>
                        <a:pt x="703" y="9"/>
                      </a:lnTo>
                      <a:lnTo>
                        <a:pt x="703" y="9"/>
                      </a:lnTo>
                      <a:lnTo>
                        <a:pt x="703" y="8"/>
                      </a:lnTo>
                      <a:lnTo>
                        <a:pt x="703" y="6"/>
                      </a:lnTo>
                      <a:lnTo>
                        <a:pt x="703" y="4"/>
                      </a:lnTo>
                      <a:lnTo>
                        <a:pt x="706" y="2"/>
                      </a:lnTo>
                      <a:lnTo>
                        <a:pt x="708" y="0"/>
                      </a:lnTo>
                      <a:lnTo>
                        <a:pt x="712" y="0"/>
                      </a:lnTo>
                      <a:lnTo>
                        <a:pt x="712" y="0"/>
                      </a:lnTo>
                      <a:lnTo>
                        <a:pt x="712" y="0"/>
                      </a:lnTo>
                      <a:close/>
                      <a:moveTo>
                        <a:pt x="887" y="0"/>
                      </a:moveTo>
                      <a:lnTo>
                        <a:pt x="990" y="0"/>
                      </a:lnTo>
                      <a:lnTo>
                        <a:pt x="993" y="0"/>
                      </a:lnTo>
                      <a:lnTo>
                        <a:pt x="993" y="2"/>
                      </a:lnTo>
                      <a:lnTo>
                        <a:pt x="995" y="4"/>
                      </a:lnTo>
                      <a:lnTo>
                        <a:pt x="997" y="8"/>
                      </a:lnTo>
                      <a:lnTo>
                        <a:pt x="995" y="9"/>
                      </a:lnTo>
                      <a:lnTo>
                        <a:pt x="993" y="11"/>
                      </a:lnTo>
                      <a:lnTo>
                        <a:pt x="993" y="13"/>
                      </a:lnTo>
                      <a:lnTo>
                        <a:pt x="990" y="15"/>
                      </a:lnTo>
                      <a:lnTo>
                        <a:pt x="887" y="15"/>
                      </a:lnTo>
                      <a:lnTo>
                        <a:pt x="885" y="13"/>
                      </a:lnTo>
                      <a:lnTo>
                        <a:pt x="881" y="11"/>
                      </a:lnTo>
                      <a:lnTo>
                        <a:pt x="880" y="9"/>
                      </a:lnTo>
                      <a:lnTo>
                        <a:pt x="880" y="8"/>
                      </a:lnTo>
                      <a:lnTo>
                        <a:pt x="880" y="4"/>
                      </a:lnTo>
                      <a:lnTo>
                        <a:pt x="881" y="2"/>
                      </a:lnTo>
                      <a:lnTo>
                        <a:pt x="885" y="0"/>
                      </a:lnTo>
                      <a:lnTo>
                        <a:pt x="887" y="0"/>
                      </a:lnTo>
                      <a:lnTo>
                        <a:pt x="887" y="0"/>
                      </a:lnTo>
                      <a:lnTo>
                        <a:pt x="887" y="0"/>
                      </a:lnTo>
                      <a:close/>
                      <a:moveTo>
                        <a:pt x="1062" y="0"/>
                      </a:moveTo>
                      <a:lnTo>
                        <a:pt x="1167" y="0"/>
                      </a:lnTo>
                      <a:lnTo>
                        <a:pt x="1169" y="0"/>
                      </a:lnTo>
                      <a:lnTo>
                        <a:pt x="1170" y="2"/>
                      </a:lnTo>
                      <a:lnTo>
                        <a:pt x="1172" y="4"/>
                      </a:lnTo>
                      <a:lnTo>
                        <a:pt x="1174" y="6"/>
                      </a:lnTo>
                      <a:lnTo>
                        <a:pt x="1174" y="8"/>
                      </a:lnTo>
                      <a:lnTo>
                        <a:pt x="1174" y="9"/>
                      </a:lnTo>
                      <a:lnTo>
                        <a:pt x="1172" y="9"/>
                      </a:lnTo>
                      <a:lnTo>
                        <a:pt x="1170" y="11"/>
                      </a:lnTo>
                      <a:lnTo>
                        <a:pt x="1169" y="13"/>
                      </a:lnTo>
                      <a:lnTo>
                        <a:pt x="1167" y="15"/>
                      </a:lnTo>
                      <a:lnTo>
                        <a:pt x="1062" y="15"/>
                      </a:lnTo>
                      <a:lnTo>
                        <a:pt x="1060" y="13"/>
                      </a:lnTo>
                      <a:lnTo>
                        <a:pt x="1058" y="11"/>
                      </a:lnTo>
                      <a:lnTo>
                        <a:pt x="1057" y="9"/>
                      </a:lnTo>
                      <a:lnTo>
                        <a:pt x="1057" y="8"/>
                      </a:lnTo>
                      <a:lnTo>
                        <a:pt x="1057" y="4"/>
                      </a:lnTo>
                      <a:lnTo>
                        <a:pt x="1058" y="2"/>
                      </a:lnTo>
                      <a:lnTo>
                        <a:pt x="1060" y="0"/>
                      </a:lnTo>
                      <a:lnTo>
                        <a:pt x="1062" y="0"/>
                      </a:lnTo>
                      <a:lnTo>
                        <a:pt x="1062" y="0"/>
                      </a:lnTo>
                      <a:lnTo>
                        <a:pt x="1062" y="0"/>
                      </a:lnTo>
                      <a:close/>
                      <a:moveTo>
                        <a:pt x="1239" y="0"/>
                      </a:moveTo>
                      <a:lnTo>
                        <a:pt x="1342" y="0"/>
                      </a:lnTo>
                      <a:lnTo>
                        <a:pt x="1344" y="0"/>
                      </a:lnTo>
                      <a:lnTo>
                        <a:pt x="1346" y="2"/>
                      </a:lnTo>
                      <a:lnTo>
                        <a:pt x="1347" y="4"/>
                      </a:lnTo>
                      <a:lnTo>
                        <a:pt x="1349" y="8"/>
                      </a:lnTo>
                      <a:lnTo>
                        <a:pt x="1347" y="9"/>
                      </a:lnTo>
                      <a:lnTo>
                        <a:pt x="1346" y="11"/>
                      </a:lnTo>
                      <a:lnTo>
                        <a:pt x="1344" y="13"/>
                      </a:lnTo>
                      <a:lnTo>
                        <a:pt x="1342" y="15"/>
                      </a:lnTo>
                      <a:lnTo>
                        <a:pt x="1239" y="15"/>
                      </a:lnTo>
                      <a:lnTo>
                        <a:pt x="1237" y="13"/>
                      </a:lnTo>
                      <a:lnTo>
                        <a:pt x="1234" y="11"/>
                      </a:lnTo>
                      <a:lnTo>
                        <a:pt x="1232" y="9"/>
                      </a:lnTo>
                      <a:lnTo>
                        <a:pt x="1232" y="8"/>
                      </a:lnTo>
                      <a:lnTo>
                        <a:pt x="1232" y="4"/>
                      </a:lnTo>
                      <a:lnTo>
                        <a:pt x="1234" y="2"/>
                      </a:lnTo>
                      <a:lnTo>
                        <a:pt x="1237" y="0"/>
                      </a:lnTo>
                      <a:lnTo>
                        <a:pt x="1239" y="0"/>
                      </a:lnTo>
                      <a:lnTo>
                        <a:pt x="1239" y="0"/>
                      </a:lnTo>
                      <a:lnTo>
                        <a:pt x="1239" y="0"/>
                      </a:lnTo>
                      <a:close/>
                      <a:moveTo>
                        <a:pt x="1416" y="0"/>
                      </a:moveTo>
                      <a:lnTo>
                        <a:pt x="1519" y="0"/>
                      </a:lnTo>
                      <a:lnTo>
                        <a:pt x="1521" y="0"/>
                      </a:lnTo>
                      <a:lnTo>
                        <a:pt x="1523" y="2"/>
                      </a:lnTo>
                      <a:lnTo>
                        <a:pt x="1524" y="4"/>
                      </a:lnTo>
                      <a:lnTo>
                        <a:pt x="1526" y="8"/>
                      </a:lnTo>
                      <a:lnTo>
                        <a:pt x="1524" y="9"/>
                      </a:lnTo>
                      <a:lnTo>
                        <a:pt x="1523" y="11"/>
                      </a:lnTo>
                      <a:lnTo>
                        <a:pt x="1521" y="13"/>
                      </a:lnTo>
                      <a:lnTo>
                        <a:pt x="1519" y="15"/>
                      </a:lnTo>
                      <a:lnTo>
                        <a:pt x="1416" y="15"/>
                      </a:lnTo>
                      <a:lnTo>
                        <a:pt x="1412" y="13"/>
                      </a:lnTo>
                      <a:lnTo>
                        <a:pt x="1411" y="11"/>
                      </a:lnTo>
                      <a:lnTo>
                        <a:pt x="1409" y="9"/>
                      </a:lnTo>
                      <a:lnTo>
                        <a:pt x="1409" y="8"/>
                      </a:lnTo>
                      <a:lnTo>
                        <a:pt x="1409" y="4"/>
                      </a:lnTo>
                      <a:lnTo>
                        <a:pt x="1411" y="2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16" y="0"/>
                      </a:lnTo>
                      <a:lnTo>
                        <a:pt x="1416" y="0"/>
                      </a:lnTo>
                      <a:close/>
                      <a:moveTo>
                        <a:pt x="1591" y="0"/>
                      </a:moveTo>
                      <a:lnTo>
                        <a:pt x="1694" y="0"/>
                      </a:lnTo>
                      <a:lnTo>
                        <a:pt x="1696" y="0"/>
                      </a:lnTo>
                      <a:lnTo>
                        <a:pt x="1698" y="2"/>
                      </a:lnTo>
                      <a:lnTo>
                        <a:pt x="1700" y="4"/>
                      </a:lnTo>
                      <a:lnTo>
                        <a:pt x="1701" y="8"/>
                      </a:lnTo>
                      <a:lnTo>
                        <a:pt x="1700" y="9"/>
                      </a:lnTo>
                      <a:lnTo>
                        <a:pt x="1698" y="11"/>
                      </a:lnTo>
                      <a:lnTo>
                        <a:pt x="1696" y="13"/>
                      </a:lnTo>
                      <a:lnTo>
                        <a:pt x="1694" y="15"/>
                      </a:lnTo>
                      <a:lnTo>
                        <a:pt x="1591" y="15"/>
                      </a:lnTo>
                      <a:lnTo>
                        <a:pt x="1588" y="13"/>
                      </a:lnTo>
                      <a:lnTo>
                        <a:pt x="1588" y="11"/>
                      </a:lnTo>
                      <a:lnTo>
                        <a:pt x="1584" y="9"/>
                      </a:lnTo>
                      <a:lnTo>
                        <a:pt x="1584" y="9"/>
                      </a:lnTo>
                      <a:lnTo>
                        <a:pt x="1584" y="8"/>
                      </a:lnTo>
                      <a:lnTo>
                        <a:pt x="1584" y="6"/>
                      </a:lnTo>
                      <a:lnTo>
                        <a:pt x="1584" y="4"/>
                      </a:lnTo>
                      <a:lnTo>
                        <a:pt x="1588" y="2"/>
                      </a:lnTo>
                      <a:lnTo>
                        <a:pt x="1588" y="0"/>
                      </a:lnTo>
                      <a:lnTo>
                        <a:pt x="1591" y="0"/>
                      </a:lnTo>
                      <a:lnTo>
                        <a:pt x="1591" y="0"/>
                      </a:lnTo>
                      <a:lnTo>
                        <a:pt x="1591" y="0"/>
                      </a:lnTo>
                      <a:close/>
                      <a:moveTo>
                        <a:pt x="1768" y="0"/>
                      </a:moveTo>
                      <a:lnTo>
                        <a:pt x="1869" y="0"/>
                      </a:lnTo>
                      <a:lnTo>
                        <a:pt x="1873" y="0"/>
                      </a:lnTo>
                      <a:lnTo>
                        <a:pt x="1875" y="2"/>
                      </a:lnTo>
                      <a:lnTo>
                        <a:pt x="1877" y="4"/>
                      </a:lnTo>
                      <a:lnTo>
                        <a:pt x="1878" y="8"/>
                      </a:lnTo>
                      <a:lnTo>
                        <a:pt x="1877" y="9"/>
                      </a:lnTo>
                      <a:lnTo>
                        <a:pt x="1875" y="11"/>
                      </a:lnTo>
                      <a:lnTo>
                        <a:pt x="1873" y="13"/>
                      </a:lnTo>
                      <a:lnTo>
                        <a:pt x="1869" y="15"/>
                      </a:lnTo>
                      <a:lnTo>
                        <a:pt x="1768" y="15"/>
                      </a:lnTo>
                      <a:lnTo>
                        <a:pt x="1765" y="13"/>
                      </a:lnTo>
                      <a:lnTo>
                        <a:pt x="1763" y="11"/>
                      </a:lnTo>
                      <a:lnTo>
                        <a:pt x="1761" y="9"/>
                      </a:lnTo>
                      <a:lnTo>
                        <a:pt x="1761" y="8"/>
                      </a:lnTo>
                      <a:lnTo>
                        <a:pt x="1761" y="4"/>
                      </a:lnTo>
                      <a:lnTo>
                        <a:pt x="1763" y="2"/>
                      </a:lnTo>
                      <a:lnTo>
                        <a:pt x="1765" y="0"/>
                      </a:lnTo>
                      <a:lnTo>
                        <a:pt x="1768" y="0"/>
                      </a:lnTo>
                      <a:lnTo>
                        <a:pt x="1768" y="0"/>
                      </a:lnTo>
                      <a:lnTo>
                        <a:pt x="1768" y="0"/>
                      </a:lnTo>
                      <a:close/>
                      <a:moveTo>
                        <a:pt x="1943" y="0"/>
                      </a:moveTo>
                      <a:lnTo>
                        <a:pt x="2046" y="0"/>
                      </a:lnTo>
                      <a:lnTo>
                        <a:pt x="2048" y="0"/>
                      </a:lnTo>
                      <a:lnTo>
                        <a:pt x="2052" y="2"/>
                      </a:lnTo>
                      <a:lnTo>
                        <a:pt x="2054" y="4"/>
                      </a:lnTo>
                      <a:lnTo>
                        <a:pt x="2055" y="6"/>
                      </a:lnTo>
                      <a:lnTo>
                        <a:pt x="2055" y="8"/>
                      </a:lnTo>
                      <a:lnTo>
                        <a:pt x="2055" y="9"/>
                      </a:lnTo>
                      <a:lnTo>
                        <a:pt x="2054" y="9"/>
                      </a:lnTo>
                      <a:lnTo>
                        <a:pt x="2052" y="11"/>
                      </a:lnTo>
                      <a:lnTo>
                        <a:pt x="2048" y="13"/>
                      </a:lnTo>
                      <a:lnTo>
                        <a:pt x="2046" y="15"/>
                      </a:lnTo>
                      <a:lnTo>
                        <a:pt x="1943" y="15"/>
                      </a:lnTo>
                      <a:lnTo>
                        <a:pt x="1940" y="13"/>
                      </a:lnTo>
                      <a:lnTo>
                        <a:pt x="1938" y="11"/>
                      </a:lnTo>
                      <a:lnTo>
                        <a:pt x="1938" y="9"/>
                      </a:lnTo>
                      <a:lnTo>
                        <a:pt x="1938" y="8"/>
                      </a:lnTo>
                      <a:lnTo>
                        <a:pt x="1938" y="4"/>
                      </a:lnTo>
                      <a:lnTo>
                        <a:pt x="1938" y="2"/>
                      </a:lnTo>
                      <a:lnTo>
                        <a:pt x="1940" y="0"/>
                      </a:lnTo>
                      <a:lnTo>
                        <a:pt x="1943" y="0"/>
                      </a:lnTo>
                      <a:lnTo>
                        <a:pt x="1943" y="0"/>
                      </a:lnTo>
                      <a:lnTo>
                        <a:pt x="1943" y="0"/>
                      </a:lnTo>
                      <a:close/>
                      <a:moveTo>
                        <a:pt x="2120" y="0"/>
                      </a:moveTo>
                      <a:lnTo>
                        <a:pt x="2221" y="0"/>
                      </a:lnTo>
                      <a:lnTo>
                        <a:pt x="2225" y="0"/>
                      </a:lnTo>
                      <a:lnTo>
                        <a:pt x="2227" y="2"/>
                      </a:lnTo>
                      <a:lnTo>
                        <a:pt x="2229" y="4"/>
                      </a:lnTo>
                      <a:lnTo>
                        <a:pt x="2231" y="8"/>
                      </a:lnTo>
                      <a:lnTo>
                        <a:pt x="2229" y="9"/>
                      </a:lnTo>
                      <a:lnTo>
                        <a:pt x="2227" y="11"/>
                      </a:lnTo>
                      <a:lnTo>
                        <a:pt x="2225" y="13"/>
                      </a:lnTo>
                      <a:lnTo>
                        <a:pt x="2221" y="15"/>
                      </a:lnTo>
                      <a:lnTo>
                        <a:pt x="2120" y="15"/>
                      </a:lnTo>
                      <a:lnTo>
                        <a:pt x="2117" y="13"/>
                      </a:lnTo>
                      <a:lnTo>
                        <a:pt x="2113" y="11"/>
                      </a:lnTo>
                      <a:lnTo>
                        <a:pt x="2113" y="9"/>
                      </a:lnTo>
                      <a:lnTo>
                        <a:pt x="2113" y="8"/>
                      </a:lnTo>
                      <a:lnTo>
                        <a:pt x="2113" y="4"/>
                      </a:lnTo>
                      <a:lnTo>
                        <a:pt x="2113" y="2"/>
                      </a:lnTo>
                      <a:lnTo>
                        <a:pt x="2117" y="0"/>
                      </a:lnTo>
                      <a:lnTo>
                        <a:pt x="2120" y="0"/>
                      </a:lnTo>
                      <a:lnTo>
                        <a:pt x="2120" y="0"/>
                      </a:lnTo>
                      <a:lnTo>
                        <a:pt x="2120" y="0"/>
                      </a:lnTo>
                      <a:close/>
                      <a:moveTo>
                        <a:pt x="2297" y="0"/>
                      </a:moveTo>
                      <a:lnTo>
                        <a:pt x="2398" y="0"/>
                      </a:lnTo>
                      <a:lnTo>
                        <a:pt x="2402" y="0"/>
                      </a:lnTo>
                      <a:lnTo>
                        <a:pt x="2404" y="2"/>
                      </a:lnTo>
                      <a:lnTo>
                        <a:pt x="2406" y="4"/>
                      </a:lnTo>
                      <a:lnTo>
                        <a:pt x="2406" y="8"/>
                      </a:lnTo>
                      <a:lnTo>
                        <a:pt x="2406" y="9"/>
                      </a:lnTo>
                      <a:lnTo>
                        <a:pt x="2404" y="11"/>
                      </a:lnTo>
                      <a:lnTo>
                        <a:pt x="2402" y="13"/>
                      </a:lnTo>
                      <a:lnTo>
                        <a:pt x="2398" y="15"/>
                      </a:lnTo>
                      <a:lnTo>
                        <a:pt x="2297" y="15"/>
                      </a:lnTo>
                      <a:lnTo>
                        <a:pt x="2294" y="13"/>
                      </a:lnTo>
                      <a:lnTo>
                        <a:pt x="2290" y="11"/>
                      </a:lnTo>
                      <a:lnTo>
                        <a:pt x="2288" y="9"/>
                      </a:lnTo>
                      <a:lnTo>
                        <a:pt x="2288" y="8"/>
                      </a:lnTo>
                      <a:lnTo>
                        <a:pt x="2288" y="4"/>
                      </a:lnTo>
                      <a:lnTo>
                        <a:pt x="2290" y="2"/>
                      </a:lnTo>
                      <a:lnTo>
                        <a:pt x="2294" y="0"/>
                      </a:lnTo>
                      <a:lnTo>
                        <a:pt x="2297" y="0"/>
                      </a:lnTo>
                      <a:lnTo>
                        <a:pt x="2297" y="0"/>
                      </a:lnTo>
                      <a:lnTo>
                        <a:pt x="2297" y="0"/>
                      </a:lnTo>
                      <a:close/>
                      <a:moveTo>
                        <a:pt x="2473" y="0"/>
                      </a:moveTo>
                      <a:lnTo>
                        <a:pt x="2575" y="0"/>
                      </a:lnTo>
                      <a:lnTo>
                        <a:pt x="2577" y="0"/>
                      </a:lnTo>
                      <a:lnTo>
                        <a:pt x="2579" y="2"/>
                      </a:lnTo>
                      <a:lnTo>
                        <a:pt x="2581" y="4"/>
                      </a:lnTo>
                      <a:lnTo>
                        <a:pt x="2581" y="8"/>
                      </a:lnTo>
                      <a:lnTo>
                        <a:pt x="2581" y="9"/>
                      </a:lnTo>
                      <a:lnTo>
                        <a:pt x="2579" y="11"/>
                      </a:lnTo>
                      <a:lnTo>
                        <a:pt x="2577" y="13"/>
                      </a:lnTo>
                      <a:lnTo>
                        <a:pt x="2575" y="15"/>
                      </a:lnTo>
                      <a:lnTo>
                        <a:pt x="2473" y="15"/>
                      </a:lnTo>
                      <a:lnTo>
                        <a:pt x="2469" y="13"/>
                      </a:lnTo>
                      <a:lnTo>
                        <a:pt x="2465" y="11"/>
                      </a:lnTo>
                      <a:lnTo>
                        <a:pt x="2463" y="9"/>
                      </a:lnTo>
                      <a:lnTo>
                        <a:pt x="2463" y="9"/>
                      </a:lnTo>
                      <a:lnTo>
                        <a:pt x="2463" y="8"/>
                      </a:lnTo>
                      <a:lnTo>
                        <a:pt x="2463" y="6"/>
                      </a:lnTo>
                      <a:lnTo>
                        <a:pt x="2463" y="4"/>
                      </a:lnTo>
                      <a:lnTo>
                        <a:pt x="2465" y="2"/>
                      </a:lnTo>
                      <a:lnTo>
                        <a:pt x="2469" y="0"/>
                      </a:lnTo>
                      <a:lnTo>
                        <a:pt x="2473" y="0"/>
                      </a:lnTo>
                      <a:lnTo>
                        <a:pt x="2473" y="0"/>
                      </a:lnTo>
                      <a:lnTo>
                        <a:pt x="2473" y="0"/>
                      </a:lnTo>
                      <a:close/>
                      <a:moveTo>
                        <a:pt x="2648" y="0"/>
                      </a:moveTo>
                      <a:lnTo>
                        <a:pt x="2751" y="0"/>
                      </a:lnTo>
                      <a:lnTo>
                        <a:pt x="2754" y="0"/>
                      </a:lnTo>
                      <a:lnTo>
                        <a:pt x="2756" y="2"/>
                      </a:lnTo>
                      <a:lnTo>
                        <a:pt x="2756" y="4"/>
                      </a:lnTo>
                      <a:lnTo>
                        <a:pt x="2758" y="8"/>
                      </a:lnTo>
                      <a:lnTo>
                        <a:pt x="2756" y="9"/>
                      </a:lnTo>
                      <a:lnTo>
                        <a:pt x="2756" y="11"/>
                      </a:lnTo>
                      <a:lnTo>
                        <a:pt x="2754" y="13"/>
                      </a:lnTo>
                      <a:lnTo>
                        <a:pt x="2751" y="15"/>
                      </a:lnTo>
                      <a:lnTo>
                        <a:pt x="2648" y="15"/>
                      </a:lnTo>
                      <a:lnTo>
                        <a:pt x="2646" y="13"/>
                      </a:lnTo>
                      <a:lnTo>
                        <a:pt x="2642" y="11"/>
                      </a:lnTo>
                      <a:lnTo>
                        <a:pt x="2640" y="9"/>
                      </a:lnTo>
                      <a:lnTo>
                        <a:pt x="2640" y="8"/>
                      </a:lnTo>
                      <a:lnTo>
                        <a:pt x="2640" y="4"/>
                      </a:lnTo>
                      <a:lnTo>
                        <a:pt x="2642" y="2"/>
                      </a:lnTo>
                      <a:lnTo>
                        <a:pt x="2646" y="0"/>
                      </a:lnTo>
                      <a:lnTo>
                        <a:pt x="2648" y="0"/>
                      </a:lnTo>
                      <a:lnTo>
                        <a:pt x="2648" y="0"/>
                      </a:lnTo>
                      <a:lnTo>
                        <a:pt x="2648" y="0"/>
                      </a:lnTo>
                      <a:close/>
                      <a:moveTo>
                        <a:pt x="2823" y="0"/>
                      </a:moveTo>
                      <a:lnTo>
                        <a:pt x="2928" y="0"/>
                      </a:lnTo>
                      <a:lnTo>
                        <a:pt x="2929" y="0"/>
                      </a:lnTo>
                      <a:lnTo>
                        <a:pt x="2931" y="2"/>
                      </a:lnTo>
                      <a:lnTo>
                        <a:pt x="2933" y="4"/>
                      </a:lnTo>
                      <a:lnTo>
                        <a:pt x="2935" y="6"/>
                      </a:lnTo>
                      <a:lnTo>
                        <a:pt x="2935" y="8"/>
                      </a:lnTo>
                      <a:lnTo>
                        <a:pt x="2935" y="9"/>
                      </a:lnTo>
                      <a:lnTo>
                        <a:pt x="2933" y="9"/>
                      </a:lnTo>
                      <a:lnTo>
                        <a:pt x="2931" y="11"/>
                      </a:lnTo>
                      <a:lnTo>
                        <a:pt x="2929" y="13"/>
                      </a:lnTo>
                      <a:lnTo>
                        <a:pt x="2928" y="15"/>
                      </a:lnTo>
                      <a:lnTo>
                        <a:pt x="2823" y="15"/>
                      </a:lnTo>
                      <a:lnTo>
                        <a:pt x="2821" y="13"/>
                      </a:lnTo>
                      <a:lnTo>
                        <a:pt x="2819" y="11"/>
                      </a:lnTo>
                      <a:lnTo>
                        <a:pt x="2817" y="9"/>
                      </a:lnTo>
                      <a:lnTo>
                        <a:pt x="2817" y="8"/>
                      </a:lnTo>
                      <a:lnTo>
                        <a:pt x="2817" y="4"/>
                      </a:lnTo>
                      <a:lnTo>
                        <a:pt x="2819" y="2"/>
                      </a:lnTo>
                      <a:lnTo>
                        <a:pt x="2821" y="0"/>
                      </a:lnTo>
                      <a:lnTo>
                        <a:pt x="2823" y="0"/>
                      </a:lnTo>
                      <a:lnTo>
                        <a:pt x="2823" y="0"/>
                      </a:lnTo>
                      <a:lnTo>
                        <a:pt x="28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9020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7" y="0"/>
                      </a:moveTo>
                      <a:lnTo>
                        <a:pt x="108" y="0"/>
                      </a:lnTo>
                      <a:lnTo>
                        <a:pt x="112" y="0"/>
                      </a:lnTo>
                      <a:lnTo>
                        <a:pt x="116" y="2"/>
                      </a:lnTo>
                      <a:lnTo>
                        <a:pt x="117" y="4"/>
                      </a:lnTo>
                      <a:lnTo>
                        <a:pt x="117" y="8"/>
                      </a:lnTo>
                      <a:lnTo>
                        <a:pt x="117" y="9"/>
                      </a:lnTo>
                      <a:lnTo>
                        <a:pt x="116" y="11"/>
                      </a:lnTo>
                      <a:lnTo>
                        <a:pt x="112" y="13"/>
                      </a:lnTo>
                      <a:lnTo>
                        <a:pt x="108" y="15"/>
                      </a:lnTo>
                      <a:lnTo>
                        <a:pt x="7" y="15"/>
                      </a:lnTo>
                      <a:lnTo>
                        <a:pt x="4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8200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8" h="15">
                      <a:moveTo>
                        <a:pt x="7" y="0"/>
                      </a:moveTo>
                      <a:lnTo>
                        <a:pt x="110" y="0"/>
                      </a:lnTo>
                      <a:lnTo>
                        <a:pt x="114" y="0"/>
                      </a:lnTo>
                      <a:lnTo>
                        <a:pt x="118" y="2"/>
                      </a:lnTo>
                      <a:lnTo>
                        <a:pt x="118" y="4"/>
                      </a:lnTo>
                      <a:lnTo>
                        <a:pt x="118" y="8"/>
                      </a:lnTo>
                      <a:lnTo>
                        <a:pt x="118" y="9"/>
                      </a:lnTo>
                      <a:lnTo>
                        <a:pt x="118" y="11"/>
                      </a:lnTo>
                      <a:lnTo>
                        <a:pt x="114" y="13"/>
                      </a:lnTo>
                      <a:lnTo>
                        <a:pt x="110" y="15"/>
                      </a:lnTo>
                      <a:lnTo>
                        <a:pt x="7" y="15"/>
                      </a:lnTo>
                      <a:lnTo>
                        <a:pt x="4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74160" y="3693240"/>
                  <a:ext cx="60120" cy="6840"/>
                </a:xfrm>
                <a:custGeom>
                  <a:avLst/>
                  <a:gdLst/>
                  <a:ahLst/>
                  <a:rect l="l" t="t" r="r" b="b"/>
                  <a:pathLst>
                    <a:path w="118" h="15">
                      <a:moveTo>
                        <a:pt x="9" y="0"/>
                      </a:moveTo>
                      <a:lnTo>
                        <a:pt x="111" y="0"/>
                      </a:lnTo>
                      <a:lnTo>
                        <a:pt x="114" y="0"/>
                      </a:lnTo>
                      <a:lnTo>
                        <a:pt x="116" y="2"/>
                      </a:lnTo>
                      <a:lnTo>
                        <a:pt x="118" y="4"/>
                      </a:lnTo>
                      <a:lnTo>
                        <a:pt x="118" y="8"/>
                      </a:lnTo>
                      <a:lnTo>
                        <a:pt x="118" y="9"/>
                      </a:lnTo>
                      <a:lnTo>
                        <a:pt x="116" y="11"/>
                      </a:lnTo>
                      <a:lnTo>
                        <a:pt x="114" y="13"/>
                      </a:lnTo>
                      <a:lnTo>
                        <a:pt x="111" y="15"/>
                      </a:lnTo>
                      <a:lnTo>
                        <a:pt x="9" y="15"/>
                      </a:lnTo>
                      <a:lnTo>
                        <a:pt x="6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06596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8" h="15">
                      <a:moveTo>
                        <a:pt x="9" y="0"/>
                      </a:moveTo>
                      <a:lnTo>
                        <a:pt x="111" y="0"/>
                      </a:lnTo>
                      <a:lnTo>
                        <a:pt x="114" y="0"/>
                      </a:lnTo>
                      <a:lnTo>
                        <a:pt x="116" y="2"/>
                      </a:lnTo>
                      <a:lnTo>
                        <a:pt x="116" y="4"/>
                      </a:lnTo>
                      <a:lnTo>
                        <a:pt x="118" y="8"/>
                      </a:lnTo>
                      <a:lnTo>
                        <a:pt x="116" y="9"/>
                      </a:lnTo>
                      <a:lnTo>
                        <a:pt x="116" y="11"/>
                      </a:lnTo>
                      <a:lnTo>
                        <a:pt x="114" y="13"/>
                      </a:lnTo>
                      <a:lnTo>
                        <a:pt x="111" y="15"/>
                      </a:lnTo>
                      <a:lnTo>
                        <a:pt x="9" y="15"/>
                      </a:lnTo>
                      <a:lnTo>
                        <a:pt x="6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157760" y="3693240"/>
                  <a:ext cx="60120" cy="68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9" y="0"/>
                      </a:moveTo>
                      <a:lnTo>
                        <a:pt x="112" y="0"/>
                      </a:lnTo>
                      <a:lnTo>
                        <a:pt x="113" y="0"/>
                      </a:lnTo>
                      <a:lnTo>
                        <a:pt x="115" y="2"/>
                      </a:lnTo>
                      <a:lnTo>
                        <a:pt x="115" y="4"/>
                      </a:lnTo>
                      <a:lnTo>
                        <a:pt x="117" y="8"/>
                      </a:lnTo>
                      <a:lnTo>
                        <a:pt x="115" y="9"/>
                      </a:lnTo>
                      <a:lnTo>
                        <a:pt x="115" y="11"/>
                      </a:lnTo>
                      <a:lnTo>
                        <a:pt x="113" y="13"/>
                      </a:lnTo>
                      <a:lnTo>
                        <a:pt x="112" y="15"/>
                      </a:lnTo>
                      <a:lnTo>
                        <a:pt x="9" y="15"/>
                      </a:lnTo>
                      <a:lnTo>
                        <a:pt x="5" y="13"/>
                      </a:lnTo>
                      <a:lnTo>
                        <a:pt x="3" y="11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3" y="2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24956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7" y="0"/>
                      </a:moveTo>
                      <a:lnTo>
                        <a:pt x="110" y="0"/>
                      </a:lnTo>
                      <a:lnTo>
                        <a:pt x="113" y="0"/>
                      </a:lnTo>
                      <a:lnTo>
                        <a:pt x="113" y="2"/>
                      </a:lnTo>
                      <a:lnTo>
                        <a:pt x="115" y="4"/>
                      </a:lnTo>
                      <a:lnTo>
                        <a:pt x="117" y="8"/>
                      </a:lnTo>
                      <a:lnTo>
                        <a:pt x="115" y="9"/>
                      </a:lnTo>
                      <a:lnTo>
                        <a:pt x="113" y="11"/>
                      </a:lnTo>
                      <a:lnTo>
                        <a:pt x="113" y="13"/>
                      </a:lnTo>
                      <a:lnTo>
                        <a:pt x="110" y="15"/>
                      </a:lnTo>
                      <a:lnTo>
                        <a:pt x="7" y="15"/>
                      </a:lnTo>
                      <a:lnTo>
                        <a:pt x="5" y="13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342440" y="3693240"/>
                  <a:ext cx="60480" cy="68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5" y="0"/>
                      </a:moveTo>
                      <a:lnTo>
                        <a:pt x="110" y="0"/>
                      </a:lnTo>
                      <a:lnTo>
                        <a:pt x="112" y="0"/>
                      </a:lnTo>
                      <a:lnTo>
                        <a:pt x="113" y="2"/>
                      </a:lnTo>
                      <a:lnTo>
                        <a:pt x="115" y="4"/>
                      </a:lnTo>
                      <a:lnTo>
                        <a:pt x="117" y="6"/>
                      </a:lnTo>
                      <a:lnTo>
                        <a:pt x="117" y="8"/>
                      </a:lnTo>
                      <a:lnTo>
                        <a:pt x="117" y="9"/>
                      </a:lnTo>
                      <a:lnTo>
                        <a:pt x="115" y="9"/>
                      </a:lnTo>
                      <a:lnTo>
                        <a:pt x="113" y="11"/>
                      </a:lnTo>
                      <a:lnTo>
                        <a:pt x="112" y="13"/>
                      </a:lnTo>
                      <a:lnTo>
                        <a:pt x="110" y="15"/>
                      </a:lnTo>
                      <a:lnTo>
                        <a:pt x="5" y="15"/>
                      </a:lnTo>
                      <a:lnTo>
                        <a:pt x="3" y="13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43316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7" y="0"/>
                      </a:moveTo>
                      <a:lnTo>
                        <a:pt x="110" y="0"/>
                      </a:lnTo>
                      <a:lnTo>
                        <a:pt x="112" y="0"/>
                      </a:lnTo>
                      <a:lnTo>
                        <a:pt x="114" y="2"/>
                      </a:lnTo>
                      <a:lnTo>
                        <a:pt x="115" y="4"/>
                      </a:lnTo>
                      <a:lnTo>
                        <a:pt x="117" y="8"/>
                      </a:lnTo>
                      <a:lnTo>
                        <a:pt x="115" y="9"/>
                      </a:lnTo>
                      <a:lnTo>
                        <a:pt x="114" y="11"/>
                      </a:lnTo>
                      <a:lnTo>
                        <a:pt x="112" y="13"/>
                      </a:lnTo>
                      <a:lnTo>
                        <a:pt x="110" y="15"/>
                      </a:lnTo>
                      <a:lnTo>
                        <a:pt x="7" y="15"/>
                      </a:lnTo>
                      <a:lnTo>
                        <a:pt x="5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52604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7" y="0"/>
                      </a:moveTo>
                      <a:lnTo>
                        <a:pt x="110" y="0"/>
                      </a:lnTo>
                      <a:lnTo>
                        <a:pt x="112" y="0"/>
                      </a:lnTo>
                      <a:lnTo>
                        <a:pt x="114" y="2"/>
                      </a:lnTo>
                      <a:lnTo>
                        <a:pt x="115" y="4"/>
                      </a:lnTo>
                      <a:lnTo>
                        <a:pt x="117" y="8"/>
                      </a:lnTo>
                      <a:lnTo>
                        <a:pt x="115" y="9"/>
                      </a:lnTo>
                      <a:lnTo>
                        <a:pt x="114" y="11"/>
                      </a:lnTo>
                      <a:lnTo>
                        <a:pt x="112" y="13"/>
                      </a:lnTo>
                      <a:lnTo>
                        <a:pt x="110" y="15"/>
                      </a:lnTo>
                      <a:lnTo>
                        <a:pt x="7" y="15"/>
                      </a:lnTo>
                      <a:lnTo>
                        <a:pt x="3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61712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7" y="0"/>
                      </a:moveTo>
                      <a:lnTo>
                        <a:pt x="110" y="0"/>
                      </a:lnTo>
                      <a:lnTo>
                        <a:pt x="112" y="0"/>
                      </a:lnTo>
                      <a:lnTo>
                        <a:pt x="114" y="2"/>
                      </a:lnTo>
                      <a:lnTo>
                        <a:pt x="116" y="4"/>
                      </a:lnTo>
                      <a:lnTo>
                        <a:pt x="117" y="8"/>
                      </a:lnTo>
                      <a:lnTo>
                        <a:pt x="116" y="9"/>
                      </a:lnTo>
                      <a:lnTo>
                        <a:pt x="114" y="11"/>
                      </a:lnTo>
                      <a:lnTo>
                        <a:pt x="112" y="13"/>
                      </a:lnTo>
                      <a:lnTo>
                        <a:pt x="110" y="15"/>
                      </a:lnTo>
                      <a:lnTo>
                        <a:pt x="7" y="15"/>
                      </a:lnTo>
                      <a:lnTo>
                        <a:pt x="4" y="13"/>
                      </a:lnTo>
                      <a:lnTo>
                        <a:pt x="4" y="11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71000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7" y="0"/>
                      </a:moveTo>
                      <a:lnTo>
                        <a:pt x="108" y="0"/>
                      </a:lnTo>
                      <a:lnTo>
                        <a:pt x="112" y="0"/>
                      </a:lnTo>
                      <a:lnTo>
                        <a:pt x="114" y="2"/>
                      </a:lnTo>
                      <a:lnTo>
                        <a:pt x="116" y="4"/>
                      </a:lnTo>
                      <a:lnTo>
                        <a:pt x="117" y="8"/>
                      </a:lnTo>
                      <a:lnTo>
                        <a:pt x="116" y="9"/>
                      </a:lnTo>
                      <a:lnTo>
                        <a:pt x="114" y="11"/>
                      </a:lnTo>
                      <a:lnTo>
                        <a:pt x="112" y="13"/>
                      </a:lnTo>
                      <a:lnTo>
                        <a:pt x="108" y="15"/>
                      </a:lnTo>
                      <a:lnTo>
                        <a:pt x="7" y="15"/>
                      </a:lnTo>
                      <a:lnTo>
                        <a:pt x="4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89396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8" h="15">
                      <a:moveTo>
                        <a:pt x="7" y="0"/>
                      </a:moveTo>
                      <a:lnTo>
                        <a:pt x="108" y="0"/>
                      </a:lnTo>
                      <a:lnTo>
                        <a:pt x="112" y="0"/>
                      </a:lnTo>
                      <a:lnTo>
                        <a:pt x="114" y="2"/>
                      </a:lnTo>
                      <a:lnTo>
                        <a:pt x="116" y="4"/>
                      </a:lnTo>
                      <a:lnTo>
                        <a:pt x="118" y="8"/>
                      </a:lnTo>
                      <a:lnTo>
                        <a:pt x="116" y="9"/>
                      </a:lnTo>
                      <a:lnTo>
                        <a:pt x="114" y="11"/>
                      </a:lnTo>
                      <a:lnTo>
                        <a:pt x="112" y="13"/>
                      </a:lnTo>
                      <a:lnTo>
                        <a:pt x="108" y="15"/>
                      </a:lnTo>
                      <a:lnTo>
                        <a:pt x="7" y="15"/>
                      </a:lnTo>
                      <a:lnTo>
                        <a:pt x="4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985760" y="3693240"/>
                  <a:ext cx="60120" cy="6840"/>
                </a:xfrm>
                <a:custGeom>
                  <a:avLst/>
                  <a:gdLst/>
                  <a:ahLst/>
                  <a:rect l="l" t="t" r="r" b="b"/>
                  <a:pathLst>
                    <a:path w="118" h="15">
                      <a:moveTo>
                        <a:pt x="9" y="0"/>
                      </a:moveTo>
                      <a:lnTo>
                        <a:pt x="110" y="0"/>
                      </a:lnTo>
                      <a:lnTo>
                        <a:pt x="114" y="0"/>
                      </a:lnTo>
                      <a:lnTo>
                        <a:pt x="116" y="2"/>
                      </a:lnTo>
                      <a:lnTo>
                        <a:pt x="118" y="4"/>
                      </a:lnTo>
                      <a:lnTo>
                        <a:pt x="118" y="8"/>
                      </a:lnTo>
                      <a:lnTo>
                        <a:pt x="118" y="9"/>
                      </a:lnTo>
                      <a:lnTo>
                        <a:pt x="116" y="11"/>
                      </a:lnTo>
                      <a:lnTo>
                        <a:pt x="114" y="13"/>
                      </a:lnTo>
                      <a:lnTo>
                        <a:pt x="110" y="15"/>
                      </a:lnTo>
                      <a:lnTo>
                        <a:pt x="9" y="15"/>
                      </a:lnTo>
                      <a:lnTo>
                        <a:pt x="6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07648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8" h="15">
                      <a:moveTo>
                        <a:pt x="10" y="0"/>
                      </a:moveTo>
                      <a:lnTo>
                        <a:pt x="112" y="0"/>
                      </a:lnTo>
                      <a:lnTo>
                        <a:pt x="114" y="0"/>
                      </a:lnTo>
                      <a:lnTo>
                        <a:pt x="116" y="2"/>
                      </a:lnTo>
                      <a:lnTo>
                        <a:pt x="118" y="4"/>
                      </a:lnTo>
                      <a:lnTo>
                        <a:pt x="118" y="8"/>
                      </a:lnTo>
                      <a:lnTo>
                        <a:pt x="118" y="9"/>
                      </a:lnTo>
                      <a:lnTo>
                        <a:pt x="116" y="11"/>
                      </a:lnTo>
                      <a:lnTo>
                        <a:pt x="114" y="13"/>
                      </a:lnTo>
                      <a:lnTo>
                        <a:pt x="112" y="15"/>
                      </a:lnTo>
                      <a:lnTo>
                        <a:pt x="10" y="15"/>
                      </a:lnTo>
                      <a:lnTo>
                        <a:pt x="6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169360" y="3693240"/>
                  <a:ext cx="60120" cy="6840"/>
                </a:xfrm>
                <a:custGeom>
                  <a:avLst/>
                  <a:gdLst/>
                  <a:ahLst/>
                  <a:rect l="l" t="t" r="r" b="b"/>
                  <a:pathLst>
                    <a:path w="118" h="15">
                      <a:moveTo>
                        <a:pt x="8" y="0"/>
                      </a:moveTo>
                      <a:lnTo>
                        <a:pt x="111" y="0"/>
                      </a:lnTo>
                      <a:lnTo>
                        <a:pt x="114" y="0"/>
                      </a:lnTo>
                      <a:lnTo>
                        <a:pt x="116" y="2"/>
                      </a:lnTo>
                      <a:lnTo>
                        <a:pt x="116" y="4"/>
                      </a:lnTo>
                      <a:lnTo>
                        <a:pt x="118" y="8"/>
                      </a:lnTo>
                      <a:lnTo>
                        <a:pt x="116" y="9"/>
                      </a:lnTo>
                      <a:lnTo>
                        <a:pt x="116" y="11"/>
                      </a:lnTo>
                      <a:lnTo>
                        <a:pt x="114" y="13"/>
                      </a:lnTo>
                      <a:lnTo>
                        <a:pt x="111" y="15"/>
                      </a:lnTo>
                      <a:lnTo>
                        <a:pt x="8" y="15"/>
                      </a:lnTo>
                      <a:lnTo>
                        <a:pt x="6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261160" y="3693240"/>
                  <a:ext cx="61560" cy="6840"/>
                </a:xfrm>
                <a:custGeom>
                  <a:avLst/>
                  <a:gdLst/>
                  <a:ahLst/>
                  <a:rect l="l" t="t" r="r" b="b"/>
                  <a:pathLst>
                    <a:path w="118" h="15">
                      <a:moveTo>
                        <a:pt x="6" y="0"/>
                      </a:move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114" y="2"/>
                      </a:lnTo>
                      <a:lnTo>
                        <a:pt x="116" y="4"/>
                      </a:lnTo>
                      <a:lnTo>
                        <a:pt x="118" y="6"/>
                      </a:lnTo>
                      <a:lnTo>
                        <a:pt x="118" y="8"/>
                      </a:lnTo>
                      <a:lnTo>
                        <a:pt x="118" y="9"/>
                      </a:lnTo>
                      <a:lnTo>
                        <a:pt x="116" y="9"/>
                      </a:lnTo>
                      <a:lnTo>
                        <a:pt x="114" y="11"/>
                      </a:lnTo>
                      <a:lnTo>
                        <a:pt x="112" y="13"/>
                      </a:lnTo>
                      <a:lnTo>
                        <a:pt x="111" y="15"/>
                      </a:lnTo>
                      <a:lnTo>
                        <a:pt x="6" y="15"/>
                      </a:lnTo>
                      <a:lnTo>
                        <a:pt x="4" y="13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 flipV="1">
                <a:off x="792000" y="3697920"/>
                <a:ext cx="3062880" cy="729720"/>
              </a:xfrm>
              <a:prstGeom prst="line">
                <a:avLst/>
              </a:prstGeom>
              <a:ln w="205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66920" y="3085200"/>
                <a:ext cx="2297160" cy="615600"/>
              </a:xfrm>
              <a:custGeom>
                <a:avLst/>
                <a:gdLst/>
                <a:ahLst/>
                <a:rect l="l" t="t" r="r" b="b"/>
                <a:pathLst>
                  <a:path w="4402" h="1237">
                    <a:moveTo>
                      <a:pt x="0" y="0"/>
                    </a:moveTo>
                    <a:lnTo>
                      <a:pt x="52" y="103"/>
                    </a:lnTo>
                    <a:lnTo>
                      <a:pt x="108" y="200"/>
                    </a:lnTo>
                    <a:lnTo>
                      <a:pt x="168" y="294"/>
                    </a:lnTo>
                    <a:lnTo>
                      <a:pt x="229" y="381"/>
                    </a:lnTo>
                    <a:lnTo>
                      <a:pt x="296" y="466"/>
                    </a:lnTo>
                    <a:lnTo>
                      <a:pt x="363" y="545"/>
                    </a:lnTo>
                    <a:lnTo>
                      <a:pt x="437" y="621"/>
                    </a:lnTo>
                    <a:lnTo>
                      <a:pt x="513" y="692"/>
                    </a:lnTo>
                    <a:lnTo>
                      <a:pt x="593" y="759"/>
                    </a:lnTo>
                    <a:lnTo>
                      <a:pt x="676" y="822"/>
                    </a:lnTo>
                    <a:lnTo>
                      <a:pt x="762" y="880"/>
                    </a:lnTo>
                    <a:lnTo>
                      <a:pt x="853" y="932"/>
                    </a:lnTo>
                    <a:lnTo>
                      <a:pt x="947" y="982"/>
                    </a:lnTo>
                    <a:lnTo>
                      <a:pt x="1044" y="1028"/>
                    </a:lnTo>
                    <a:lnTo>
                      <a:pt x="1142" y="1067"/>
                    </a:lnTo>
                    <a:lnTo>
                      <a:pt x="1248" y="1105"/>
                    </a:lnTo>
                    <a:lnTo>
                      <a:pt x="1355" y="1136"/>
                    </a:lnTo>
                    <a:lnTo>
                      <a:pt x="1465" y="1165"/>
                    </a:lnTo>
                    <a:lnTo>
                      <a:pt x="1580" y="1187"/>
                    </a:lnTo>
                    <a:lnTo>
                      <a:pt x="1698" y="1205"/>
                    </a:lnTo>
                    <a:lnTo>
                      <a:pt x="1817" y="1221"/>
                    </a:lnTo>
                    <a:lnTo>
                      <a:pt x="1942" y="1232"/>
                    </a:lnTo>
                    <a:lnTo>
                      <a:pt x="2070" y="1235"/>
                    </a:lnTo>
                    <a:lnTo>
                      <a:pt x="2202" y="1237"/>
                    </a:lnTo>
                    <a:lnTo>
                      <a:pt x="2337" y="1235"/>
                    </a:lnTo>
                    <a:lnTo>
                      <a:pt x="2474" y="1228"/>
                    </a:lnTo>
                    <a:lnTo>
                      <a:pt x="2615" y="1215"/>
                    </a:lnTo>
                    <a:lnTo>
                      <a:pt x="2760" y="1199"/>
                    </a:lnTo>
                    <a:lnTo>
                      <a:pt x="2908" y="1179"/>
                    </a:lnTo>
                    <a:lnTo>
                      <a:pt x="3060" y="1156"/>
                    </a:lnTo>
                    <a:lnTo>
                      <a:pt x="3215" y="1127"/>
                    </a:lnTo>
                    <a:lnTo>
                      <a:pt x="3376" y="1093"/>
                    </a:lnTo>
                    <a:lnTo>
                      <a:pt x="3536" y="1055"/>
                    </a:lnTo>
                    <a:lnTo>
                      <a:pt x="3703" y="1013"/>
                    </a:lnTo>
                    <a:lnTo>
                      <a:pt x="3872" y="966"/>
                    </a:lnTo>
                    <a:lnTo>
                      <a:pt x="4046" y="916"/>
                    </a:lnTo>
                    <a:lnTo>
                      <a:pt x="4221" y="861"/>
                    </a:lnTo>
                    <a:lnTo>
                      <a:pt x="4402" y="802"/>
                    </a:lnTo>
                  </a:path>
                </a:pathLst>
              </a:custGeom>
              <a:noFill/>
              <a:ln w="2052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78560" y="3061440"/>
                <a:ext cx="2776320" cy="1217160"/>
              </a:xfrm>
              <a:custGeom>
                <a:avLst/>
                <a:gdLst/>
                <a:ahLst/>
                <a:rect l="l" t="t" r="r" b="b"/>
                <a:pathLst>
                  <a:path w="5319" h="2447">
                    <a:moveTo>
                      <a:pt x="0" y="0"/>
                    </a:moveTo>
                    <a:lnTo>
                      <a:pt x="119" y="161"/>
                    </a:lnTo>
                    <a:lnTo>
                      <a:pt x="242" y="314"/>
                    </a:lnTo>
                    <a:lnTo>
                      <a:pt x="365" y="464"/>
                    </a:lnTo>
                    <a:lnTo>
                      <a:pt x="490" y="607"/>
                    </a:lnTo>
                    <a:lnTo>
                      <a:pt x="618" y="746"/>
                    </a:lnTo>
                    <a:lnTo>
                      <a:pt x="746" y="880"/>
                    </a:lnTo>
                    <a:lnTo>
                      <a:pt x="876" y="1008"/>
                    </a:lnTo>
                    <a:lnTo>
                      <a:pt x="1012" y="1129"/>
                    </a:lnTo>
                    <a:lnTo>
                      <a:pt x="1145" y="1245"/>
                    </a:lnTo>
                    <a:lnTo>
                      <a:pt x="1283" y="1357"/>
                    </a:lnTo>
                    <a:lnTo>
                      <a:pt x="1422" y="1463"/>
                    </a:lnTo>
                    <a:lnTo>
                      <a:pt x="1561" y="1564"/>
                    </a:lnTo>
                    <a:lnTo>
                      <a:pt x="1703" y="1658"/>
                    </a:lnTo>
                    <a:lnTo>
                      <a:pt x="1848" y="1748"/>
                    </a:lnTo>
                    <a:lnTo>
                      <a:pt x="1994" y="1833"/>
                    </a:lnTo>
                    <a:lnTo>
                      <a:pt x="2140" y="1911"/>
                    </a:lnTo>
                    <a:lnTo>
                      <a:pt x="2292" y="1985"/>
                    </a:lnTo>
                    <a:lnTo>
                      <a:pt x="2444" y="2054"/>
                    </a:lnTo>
                    <a:lnTo>
                      <a:pt x="2599" y="2117"/>
                    </a:lnTo>
                    <a:lnTo>
                      <a:pt x="2755" y="2173"/>
                    </a:lnTo>
                    <a:lnTo>
                      <a:pt x="2912" y="2225"/>
                    </a:lnTo>
                    <a:lnTo>
                      <a:pt x="3071" y="2272"/>
                    </a:lnTo>
                    <a:lnTo>
                      <a:pt x="3231" y="2314"/>
                    </a:lnTo>
                    <a:lnTo>
                      <a:pt x="3396" y="2348"/>
                    </a:lnTo>
                    <a:lnTo>
                      <a:pt x="3560" y="2379"/>
                    </a:lnTo>
                    <a:lnTo>
                      <a:pt x="3728" y="2402"/>
                    </a:lnTo>
                    <a:lnTo>
                      <a:pt x="3896" y="2422"/>
                    </a:lnTo>
                    <a:lnTo>
                      <a:pt x="4069" y="2437"/>
                    </a:lnTo>
                    <a:lnTo>
                      <a:pt x="4241" y="2444"/>
                    </a:lnTo>
                    <a:lnTo>
                      <a:pt x="4416" y="2447"/>
                    </a:lnTo>
                    <a:lnTo>
                      <a:pt x="4593" y="2446"/>
                    </a:lnTo>
                    <a:lnTo>
                      <a:pt x="4770" y="2438"/>
                    </a:lnTo>
                    <a:lnTo>
                      <a:pt x="4953" y="2424"/>
                    </a:lnTo>
                    <a:lnTo>
                      <a:pt x="5135" y="2406"/>
                    </a:lnTo>
                    <a:lnTo>
                      <a:pt x="5319" y="2382"/>
                    </a:lnTo>
                  </a:path>
                </a:pathLst>
              </a:custGeom>
              <a:noFill/>
              <a:ln w="2052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0080" y="1989000"/>
                <a:ext cx="427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333399"/>
                    </a:solidFill>
                    <a:latin typeface="Tahoma"/>
                  </a:rPr>
                  <a:t>TR(q</a:t>
                </a:r>
                <a:r>
                  <a:rPr b="0" lang="sr-Latn-CS" sz="1400" spc="-1" strike="noStrike">
                    <a:solidFill>
                      <a:srgbClr val="000000"/>
                    </a:solidFill>
                    <a:latin typeface="Tahoma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11640" y="444600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333399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614760" y="3315600"/>
                <a:ext cx="637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333399"/>
                    </a:solidFill>
                    <a:latin typeface="Tahoma"/>
                  </a:rPr>
                  <a:t>TR(q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89160" y="448272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333399"/>
                    </a:solidFill>
                    <a:latin typeface="Tahoma"/>
                  </a:rPr>
                  <a:t>q[kom</a:t>
                </a: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  <a:ea typeface="Times New Roman"/>
                  </a:rPr>
                  <a:t>]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43800" y="3593520"/>
                <a:ext cx="6220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333399"/>
                    </a:solidFill>
                    <a:latin typeface="Tahoma"/>
                  </a:rPr>
                  <a:t>TR</a:t>
                </a:r>
                <a:r>
                  <a:rPr b="0" lang="sr-Latn-CS" sz="1400" spc="-1" strike="noStrike" baseline="-25000">
                    <a:solidFill>
                      <a:srgbClr val="333399"/>
                    </a:solidFill>
                    <a:latin typeface="Tahoma"/>
                  </a:rPr>
                  <a:t>2 </a:t>
                </a:r>
                <a:r>
                  <a:rPr b="0" lang="sr-Latn-CS" sz="1400" spc="-1" strike="noStrike">
                    <a:solidFill>
                      <a:srgbClr val="333399"/>
                    </a:solidFill>
                    <a:latin typeface="Tahoma"/>
                  </a:rPr>
                  <a:t>(q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020480" y="4105080"/>
                <a:ext cx="62244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333399"/>
                    </a:solidFill>
                    <a:latin typeface="Tahoma"/>
                  </a:rPr>
                  <a:t>TR</a:t>
                </a:r>
                <a:r>
                  <a:rPr b="0" lang="sr-Latn-CS" sz="1400" spc="-1" strike="noStrike" baseline="-25000">
                    <a:solidFill>
                      <a:srgbClr val="333399"/>
                    </a:solidFill>
                    <a:latin typeface="Tahoma"/>
                  </a:rPr>
                  <a:t>1 </a:t>
                </a:r>
                <a:r>
                  <a:rPr b="0" lang="sr-Latn-CS" sz="1400" spc="-1" strike="noStrike">
                    <a:solidFill>
                      <a:srgbClr val="333399"/>
                    </a:solidFill>
                    <a:latin typeface="Tahoma"/>
                  </a:rPr>
                  <a:t>(q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163240" y="4510080"/>
                <a:ext cx="31356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ff0000"/>
                    </a:solidFill>
                    <a:latin typeface="Tahoma"/>
                  </a:rPr>
                  <a:t>q</a:t>
                </a:r>
                <a:r>
                  <a:rPr b="0" lang="sr-Latn-CS" sz="1400" spc="-1" strike="noStrike" baseline="-25000">
                    <a:solidFill>
                      <a:srgbClr val="ff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-5400" y="3573360"/>
              <a:ext cx="74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ff0000"/>
                  </a:solidFill>
                  <a:latin typeface="Tahoma"/>
                </a:rPr>
                <a:t>minTR(q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2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4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6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8:37:02Z</dcterms:created>
  <dc:creator>Barbara</dc:creator>
  <dc:description/>
  <dc:language>en-US</dc:language>
  <cp:lastModifiedBy>Administrator</cp:lastModifiedBy>
  <dcterms:modified xsi:type="dcterms:W3CDTF">2007-02-16T09:44:04Z</dcterms:modified>
  <cp:revision>20</cp:revision>
  <dc:subject/>
  <dc:title>Slide 1</dc:title>
</cp:coreProperties>
</file>