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9ACF-41A0-4C5C-AD2C-1B4D06F4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A60-4F59-4C69-BB60-F49F9A4C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7A01-0C92-41D9-866F-F8008DDF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6050-6F5B-402D-89D5-AA52AD81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29F1-0755-4A17-AD02-0C710E31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E908-86B2-4BB5-9B72-E78600FF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7D1D-45C0-4ADF-9329-D725BA05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527A-7B9F-46F3-9466-A4151B07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5DAE-B26C-49D2-AF5F-8A52DDDA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487D-1DBC-451E-81E6-052F57DB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12E3-775F-40AD-A47F-6A8525B5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F82-9D83-4F5B-92B9-42F0A0FE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CB28-0766-4493-A020-A3949FDE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519A-E761-4A0C-B503-6904FDC6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1AF9-1A5B-451A-B871-6766BA1D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F60C-2F17-402D-B1EB-A52A7E90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2997-7A4F-4530-8FD9-D8B5316C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9C8F-C64B-4BC6-8FD7-51835957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3F3-5D99-423D-BD1A-C5EC750B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4BA4-CFD0-4982-9131-32A590EC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E85-2B94-4AA6-98AB-1137C14A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55EE-96AE-4420-A987-193D81D9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F30-4777-4D80-BDEA-49A1B144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F138-560C-490B-9E16-20E5FFAE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CC1D-7035-4C72-8177-165E0633A4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95DF-C605-4504-BDCC-45D1AB4FE7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302436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roizvodni siste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ODREĐIVANJE POTREBNOG BROJA SREDSTAVA ZA RAD, RADNIKA I RADNIH MES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of. dr Milić Radov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ODREĐIVANJE POTREBNOG BROJA SREDSTAVA ZA RAD, RADNIKA I RADNIH MES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82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ri razmatranju ovog zadatka treba imati u vidu sledeć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otreban broj mašina i radnika određuje se na osnovu </a:t>
            </a:r>
            <a:r>
              <a:rPr b="0" lang="sl-SI" sz="2400" spc="-1" strike="noStrike">
                <a:solidFill>
                  <a:srgbClr val="339966"/>
                </a:solidFill>
                <a:latin typeface="Tahoma"/>
              </a:rPr>
              <a:t>potrebnog (Kp) i raspoloživog kapaciteta (K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Koje vrste radnih mesta postoj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4221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9966"/>
                </a:solidFill>
                <a:latin typeface="Tahoma"/>
              </a:rPr>
              <a:t>Kpm = K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42400" y="472428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42400" y="422100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42400" y="522936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60000" y="4221000"/>
            <a:ext cx="50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1 RM: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jedan radnik i jedna maš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37920" y="4724280"/>
            <a:ext cx="16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9966"/>
                </a:solidFill>
                <a:latin typeface="Tahoma"/>
              </a:rPr>
              <a:t>Kpm 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&gt;</a:t>
            </a:r>
            <a:r>
              <a:rPr b="0" lang="sl-SI" sz="2400" spc="-1" strike="noStrike">
                <a:solidFill>
                  <a:srgbClr val="339966"/>
                </a:solidFill>
                <a:latin typeface="Tahoma"/>
              </a:rPr>
              <a:t> K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70080" y="47242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1 RM: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jedan radnik i više maš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37920" y="5229360"/>
            <a:ext cx="16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9966"/>
                </a:solidFill>
                <a:latin typeface="Tahoma"/>
              </a:rPr>
              <a:t>Kpm 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&lt;</a:t>
            </a:r>
            <a:r>
              <a:rPr b="0" lang="sl-SI" sz="2400" spc="-1" strike="noStrike">
                <a:solidFill>
                  <a:srgbClr val="339966"/>
                </a:solidFill>
                <a:latin typeface="Tahoma"/>
              </a:rPr>
              <a:t> K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65040" y="5229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1 RM: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više radnika i jedna maš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9600" y="422100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Ako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600" y="47242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Ako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9600" y="522936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Ako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8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38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38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8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38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38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38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8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385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38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38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Tahoma"/>
              </a:rPr>
              <a:t>ODREĐIVANJE POTREBNOG BROJA SREDSTAVA ZA RAD, RADNIKA I RADNIH MES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2421000"/>
            <a:ext cx="302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01800"/>
                <a:tab algn="l" pos="152388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sr-Latn-CS" sz="3200" spc="-1" strike="noStrike" baseline="-18000">
                <a:solidFill>
                  <a:srgbClr val="333399"/>
                </a:solidFill>
                <a:latin typeface="Tahoma"/>
              </a:rPr>
              <a:t>1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Q</a:t>
            </a:r>
            <a:r>
              <a:rPr b="0" lang="sr-Latn-CS" sz="3200" spc="-1" strike="noStrike" baseline="-14000">
                <a:solidFill>
                  <a:srgbClr val="333399"/>
                </a:solidFill>
                <a:latin typeface="Tahoma"/>
              </a:rPr>
              <a:t>pl1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n</a:t>
            </a:r>
            <a:r>
              <a:rPr b="0" lang="sr-Latn-CS" sz="3200" spc="-1" strike="noStrike" baseline="-18000">
                <a:solidFill>
                  <a:srgbClr val="333399"/>
                </a:solidFill>
                <a:latin typeface="Tahoma"/>
              </a:rPr>
              <a:t>1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q</a:t>
            </a:r>
            <a:r>
              <a:rPr b="0" lang="sr-Latn-CS" sz="3200" spc="-1" strike="noStrike" baseline="-18000">
                <a:solidFill>
                  <a:srgbClr val="333399"/>
                </a:solidFill>
                <a:latin typeface="Tahoma"/>
              </a:rPr>
              <a:t>1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01800"/>
                <a:tab algn="l" pos="152388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sr-Latn-CS" sz="3200" spc="-1" strike="noStrike" baseline="-18000">
                <a:solidFill>
                  <a:srgbClr val="333399"/>
                </a:solidFill>
                <a:latin typeface="Tahoma"/>
              </a:rPr>
              <a:t>2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Q</a:t>
            </a:r>
            <a:r>
              <a:rPr b="0" lang="sr-Latn-CS" sz="3200" spc="-1" strike="noStrike" baseline="-14000">
                <a:solidFill>
                  <a:srgbClr val="333399"/>
                </a:solidFill>
                <a:latin typeface="Tahoma"/>
              </a:rPr>
              <a:t>p</a:t>
            </a:r>
            <a:r>
              <a:rPr b="0" lang="sr-Latn-CS" sz="3200" spc="-1" strike="noStrike" baseline="-18000">
                <a:solidFill>
                  <a:srgbClr val="333399"/>
                </a:solidFill>
                <a:latin typeface="Tahoma"/>
              </a:rPr>
              <a:t>l2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n</a:t>
            </a:r>
            <a:r>
              <a:rPr b="0" lang="sr-Latn-CS" sz="32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q</a:t>
            </a:r>
            <a:r>
              <a:rPr b="0" lang="sr-Latn-CS" sz="32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01800"/>
                <a:tab algn="l" pos="152388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01800"/>
                <a:tab algn="l" pos="152388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01800"/>
                <a:tab algn="l" pos="152388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01800"/>
                <a:tab algn="l" pos="152388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sr-Latn-CS" sz="3200" spc="-1" strike="noStrike" baseline="-16000">
                <a:solidFill>
                  <a:srgbClr val="333399"/>
                </a:solidFill>
                <a:latin typeface="Tahoma"/>
              </a:rPr>
              <a:t>j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Q</a:t>
            </a:r>
            <a:r>
              <a:rPr b="0" lang="sr-Latn-CS" sz="3200" spc="-1" strike="noStrike" baseline="-16000">
                <a:solidFill>
                  <a:srgbClr val="333399"/>
                </a:solidFill>
                <a:latin typeface="Tahoma"/>
              </a:rPr>
              <a:t>plj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n</a:t>
            </a:r>
            <a:r>
              <a:rPr b="0" lang="sr-Latn-CS" sz="3200" spc="-1" strike="noStrike" baseline="-16000">
                <a:solidFill>
                  <a:srgbClr val="333399"/>
                </a:solidFill>
                <a:latin typeface="Tahoma"/>
              </a:rPr>
              <a:t>j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q</a:t>
            </a:r>
            <a:r>
              <a:rPr b="0" lang="sr-Latn-CS" sz="3200" spc="-1" strike="noStrike" baseline="-16000">
                <a:solidFill>
                  <a:srgbClr val="333399"/>
                </a:solidFill>
                <a:latin typeface="Tahoma"/>
              </a:rPr>
              <a:t>j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01800"/>
                <a:tab algn="l" pos="152388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01800"/>
                <a:tab algn="l" pos="152388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01800"/>
                <a:tab algn="l" pos="152388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01800"/>
                <a:tab algn="l" pos="152388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sr-Latn-CS" sz="3200" spc="-1" strike="noStrike" baseline="-14000">
                <a:solidFill>
                  <a:srgbClr val="333399"/>
                </a:solidFill>
                <a:latin typeface="Tahoma"/>
              </a:rPr>
              <a:t>p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Q</a:t>
            </a:r>
            <a:r>
              <a:rPr b="0" lang="sr-Latn-CS" sz="3200" spc="-1" strike="noStrike" baseline="-14000">
                <a:solidFill>
                  <a:srgbClr val="333399"/>
                </a:solidFill>
                <a:latin typeface="Tahoma"/>
              </a:rPr>
              <a:t>plp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n</a:t>
            </a:r>
            <a:r>
              <a:rPr b="0" lang="sr-Latn-CS" sz="3200" spc="-1" strike="noStrike" baseline="-14000">
                <a:solidFill>
                  <a:srgbClr val="333399"/>
                </a:solidFill>
                <a:latin typeface="Tahoma"/>
              </a:rPr>
              <a:t>p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 q</a:t>
            </a:r>
            <a:r>
              <a:rPr b="0" lang="sr-Latn-CS" sz="3200" spc="-1" strike="noStrike" baseline="-14000">
                <a:solidFill>
                  <a:srgbClr val="333399"/>
                </a:solidFill>
                <a:latin typeface="Tahoma"/>
              </a:rPr>
              <a:t>p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2565360"/>
            <a:ext cx="431640" cy="3672000"/>
          </a:xfrm>
          <a:custGeom>
            <a:avLst/>
            <a:gdLst>
              <a:gd name="textAreaLeft" fmla="*/ 0 w 431640"/>
              <a:gd name="textAreaRight" fmla="*/ 155880 w 4316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3429000"/>
            <a:ext cx="374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Koliki su potrebni osnovni resursi, oprema i ljud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U koliko smena treba radi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84464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ahoma"/>
              </a:rPr>
              <a:t>Od čega se polaz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Tahoma"/>
              </a:rPr>
              <a:t>ODREĐIVANJE POTREBNOG BROJA SREDSTAVA ZA RAD, RADNIKA I RADNIH MES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1280" y="2852640"/>
            <a:ext cx="2087640" cy="18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BROJ MAŠ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(RADNIKA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ISTE VRS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(STRUK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987640" y="2708280"/>
            <a:ext cx="287280" cy="2089080"/>
          </a:xfrm>
          <a:custGeom>
            <a:avLst/>
            <a:gdLst>
              <a:gd name="textAreaLeft" fmla="*/ 0 w 287280"/>
              <a:gd name="textAreaRight" fmla="*/ 103680 w 28728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3"/>
                  <a:pt x="10800" y="1805"/>
                </a:cubicBezTo>
                <a:lnTo>
                  <a:pt x="10800" y="9143"/>
                </a:lnTo>
                <a:cubicBezTo>
                  <a:pt x="10800" y="10046"/>
                  <a:pt x="16200" y="10948"/>
                  <a:pt x="21600" y="10948"/>
                </a:cubicBezTo>
                <a:cubicBezTo>
                  <a:pt x="16200" y="10948"/>
                  <a:pt x="10800" y="11851"/>
                  <a:pt x="10800" y="12753"/>
                </a:cubicBezTo>
                <a:lnTo>
                  <a:pt x="10800" y="19795"/>
                </a:lnTo>
                <a:cubicBezTo>
                  <a:pt x="10800" y="206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48000" y="335772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4360" y="3789360"/>
            <a:ext cx="4824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82320" y="3332160"/>
            <a:ext cx="50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UKUPNO POTREBNO VREME (KAPACIT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67440" y="3763800"/>
            <a:ext cx="28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RASPOLOŽIVO VR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Tahoma"/>
              </a:rPr>
              <a:t>ODREĐIVANJE POTREBNOG BROJA SREDSTAVA ZA RAD, RADNIKA I RADNIH MES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84360" y="2060640"/>
                <a:ext cx="812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re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j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971640" y="2852640"/>
                <a:ext cx="812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re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erij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989000"/>
            <a:ext cx="863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tk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1916280"/>
            <a:ext cx="63723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komadno vreme, odnosno vreme po jedinici j–tog  predmeta rada za i–tu vrstu obrade, za i–tu vrstu mašina, za i–tu vrstu radnika (potrebno vreme rada jednog sredstva i-te vrste za izradu jednog komada j-tog predmeta rada)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82920" y="2205000"/>
            <a:ext cx="1429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924280"/>
            <a:ext cx="11509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tk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ij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*q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3213000"/>
            <a:ext cx="1429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0200" y="2924280"/>
            <a:ext cx="6300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potrebno vreme rada jednog sredstva i-te vrste za izradu jedne cele serije j-tog predmeta rada bez pripremno-završnog vremena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716280"/>
            <a:ext cx="971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Tpz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826920" y="3860640"/>
                <a:ext cx="7495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2484360" y="3933720"/>
            <a:ext cx="1429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0200" y="3716280"/>
            <a:ext cx="6300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ukupno pripremno-završno vreme jedne serije j – tog proizvoda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508640"/>
            <a:ext cx="212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Tpz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j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+ tk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ij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*q</a:t>
            </a:r>
            <a:r>
              <a:rPr b="0" lang="sr-Latn-CS" sz="2400" spc="-1" strike="noStrike" baseline="-16000">
                <a:solidFill>
                  <a:srgbClr val="ff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1429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0200" y="4292640"/>
            <a:ext cx="6300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potrebno vreme rada jednog sredstva i-te vrste za izradu jedne cele serije j-tog predmeta rada sa pripremno-završnim vremenom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229360"/>
            <a:ext cx="2556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*(Tpz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j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+ tk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ij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*q</a:t>
            </a:r>
            <a:r>
              <a:rPr b="0" lang="sr-Latn-CS" sz="2400" spc="-1" strike="noStrike" baseline="-16000">
                <a:solidFill>
                  <a:srgbClr val="ff0000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5516640"/>
            <a:ext cx="1429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0200" y="5229360"/>
            <a:ext cx="6300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potrebno vreme rada jednog sredstva i-te vrste za izradu ukupne planirane količine j-tog predmeta rada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11280" y="2421000"/>
                <a:ext cx="838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re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2421000"/>
            <a:ext cx="647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Kp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40000" y="2565360"/>
            <a:ext cx="63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potrebni kapacitet za i-tu vrstu obrade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92360" y="4581360"/>
                <a:ext cx="5400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p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Rs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0" y="5589720"/>
            <a:ext cx="91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INRst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- standardno izvršenje normi rada, prebačaj ili podbačaj za  i – tu vrstu obr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8000" y="2708280"/>
            <a:ext cx="1429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997360"/>
            <a:ext cx="6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M</a:t>
            </a:r>
            <a:r>
              <a:rPr b="0" lang="sr-Latn-CS" sz="2400" spc="-1" strike="noStrike" baseline="-25000">
                <a:solidFill>
                  <a:srgbClr val="333399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2997360"/>
            <a:ext cx="9349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Kp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i  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19280" y="2997360"/>
            <a:ext cx="3168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n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*(Tpz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1 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+ tk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i1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*q</a:t>
            </a:r>
            <a:r>
              <a:rPr b="0" lang="sr-Latn-CS" sz="2400" spc="-1" strike="noStrike" baseline="-16000">
                <a:solidFill>
                  <a:srgbClr val="333399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)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6720" y="3573360"/>
            <a:ext cx="3527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... + n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p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*(Tpz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p 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+ tk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ip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*q</a:t>
            </a:r>
            <a:r>
              <a:rPr b="0" lang="sr-Latn-CS" sz="2400" spc="-1" strike="noStrike" baseline="-16000">
                <a:solidFill>
                  <a:srgbClr val="333399"/>
                </a:solidFill>
                <a:latin typeface="Tahoma"/>
              </a:rPr>
              <a:t>p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3573360"/>
            <a:ext cx="3635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+...+ n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*(Tpz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j 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+ tk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ij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*q</a:t>
            </a:r>
            <a:r>
              <a:rPr b="0" lang="sr-Latn-CS" sz="2400" spc="-1" strike="noStrike" baseline="-16000">
                <a:solidFill>
                  <a:srgbClr val="333399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)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2997360"/>
            <a:ext cx="3600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n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2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*(Tpz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2 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+ tk</a:t>
            </a:r>
            <a:r>
              <a:rPr b="0" lang="sr-Latn-CS" sz="2400" spc="-1" strike="noStrike" baseline="-18000">
                <a:solidFill>
                  <a:srgbClr val="333399"/>
                </a:solidFill>
                <a:latin typeface="Tahoma"/>
              </a:rPr>
              <a:t>i2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*q</a:t>
            </a:r>
            <a:r>
              <a:rPr b="0" lang="sr-Latn-CS" sz="2400" spc="-1" strike="noStrike" baseline="-16000">
                <a:solidFill>
                  <a:srgbClr val="333399"/>
                </a:solidFill>
                <a:latin typeface="Tahoma"/>
              </a:rPr>
              <a:t>2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)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Tahoma"/>
              </a:rPr>
              <a:t>ODREĐIVANJE POTREBNOG BROJA SREDSTAVA ZA RAD, RADNIKA I RADNIH MES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Tahoma"/>
              </a:rPr>
              <a:t>ODREĐIVANJE POTREBNOG BROJA SREDSTAVA ZA RAD, RADNIKA I RADNIH MES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76000" y="3573000"/>
            <a:ext cx="338292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standardni gubici u vremen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39640" y="2060640"/>
                <a:ext cx="419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a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-11520" y="206064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39640" y="3573360"/>
                <a:ext cx="3492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39640" y="2565360"/>
                <a:ext cx="3970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a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9640" y="3068640"/>
                <a:ext cx="3859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323720" y="2060640"/>
            <a:ext cx="29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broj radnih dana u godin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2276640"/>
            <a:ext cx="1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56536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068640"/>
            <a:ext cx="3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č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12240" y="3573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G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2708280"/>
            <a:ext cx="1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97880" y="2565360"/>
            <a:ext cx="3033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broj radnih smena u dan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3213000"/>
            <a:ext cx="1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29560" y="3068640"/>
            <a:ext cx="2378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broj časova u smen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87280" y="3716280"/>
            <a:ext cx="1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005360"/>
            <a:ext cx="90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Krm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55640" y="4005360"/>
                <a:ext cx="419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258920" y="4221000"/>
            <a:ext cx="14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4076640"/>
            <a:ext cx="4680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raspoloživi kapacitet za i-tu vrstu mašina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655640" y="4437000"/>
                <a:ext cx="37782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r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s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čs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s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5157720"/>
            <a:ext cx="90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Krr</a:t>
            </a:r>
            <a:r>
              <a:rPr b="0" lang="sr-Latn-CS" sz="2400" spc="-1" strike="noStrike" baseline="-18000">
                <a:solidFill>
                  <a:srgbClr val="ff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84360" y="5157720"/>
                <a:ext cx="420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1187280" y="5445000"/>
            <a:ext cx="1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76360" y="5300640"/>
            <a:ext cx="4535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raspoloživi kapacitet za i-tu struku radnika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866960" y="5734080"/>
                <a:ext cx="33242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r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čs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s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531120" y="4508640"/>
                <a:ext cx="17128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r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588000" y="5734080"/>
                <a:ext cx="15494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r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5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105228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Kako se uzima u obzir INRst</a:t>
            </a:r>
            <a:r>
              <a:rPr b="0" lang="sr-Latn-CS" sz="4000" spc="-1" strike="noStrike" baseline="-25000">
                <a:solidFill>
                  <a:srgbClr val="333399"/>
                </a:solidFill>
                <a:latin typeface="Tahoma"/>
              </a:rPr>
              <a:t>i</a:t>
            </a: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518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Neka je za izradu planirane količine Q =3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148360" y="1844640"/>
                <a:ext cx="576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o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4700520" y="260280"/>
            <a:ext cx="44434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Tahoma"/>
              </a:rPr>
              <a:t>ODREĐIVANJE POTREBNOG BROJA SREDSTAVA ZA RAD, RADNIKA I RADNIH M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8388360" y="1773360"/>
                <a:ext cx="576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o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94680" y="227664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Moguća su tri slučaja, tri situa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63700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1. Proizvedena je planirana količ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08360" y="263700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11640" y="2565360"/>
            <a:ext cx="2376360" cy="368280"/>
          </a:xfrm>
          <a:prstGeom prst="rect">
            <a:avLst/>
          </a:prstGeom>
          <a:solidFill>
            <a:srgbClr val="f7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ISPUNJENJE 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68360" y="2997360"/>
                <a:ext cx="863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332000" y="2997360"/>
                <a:ext cx="230328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5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o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3745800" y="3213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11640" y="321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INRst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93372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2. Proizvedeno je Q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‘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  <a:ea typeface="Tahoma"/>
              </a:rPr>
              <a:t> =4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771640" y="3716280"/>
                <a:ext cx="792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o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672720" y="39337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11640" y="4005360"/>
            <a:ext cx="2376360" cy="368280"/>
          </a:xfrm>
          <a:prstGeom prst="rect">
            <a:avLst/>
          </a:prstGeom>
          <a:solidFill>
            <a:srgbClr val="f7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PREBAČAJ 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95280" y="4437000"/>
                <a:ext cx="8874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p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258920" y="4437000"/>
                <a:ext cx="23256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5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o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3672720" y="4653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284720" y="4508640"/>
                <a:ext cx="1125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7440" y="5229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0508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5229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INRst = 0,2 K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067280" y="5084640"/>
                <a:ext cx="6998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825080" y="5229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5805360"/>
            <a:ext cx="180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Kp’ = </a:t>
            </a: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Kp - IN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95640" y="5805360"/>
            <a:ext cx="11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 0,8 K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219640" y="5589720"/>
                <a:ext cx="547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796000" y="5589720"/>
                <a:ext cx="12970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85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7093080" y="5551560"/>
                <a:ext cx="1511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800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37440" y="5734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908000" y="6184800"/>
                <a:ext cx="12081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132000" y="6153120"/>
                <a:ext cx="1901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076720" y="6308640"/>
                <a:ext cx="8715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5724360" y="1844640"/>
            <a:ext cx="288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potrebno   Kp = 8 5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435640" y="4508640"/>
                <a:ext cx="2330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979640" y="5229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 0,2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·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8 500 =1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95640" y="5805360"/>
            <a:ext cx="180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 8 500 – 1 7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4360" y="2060280"/>
            <a:ext cx="1295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Q =3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995640" y="1916280"/>
                <a:ext cx="64944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o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1042920" y="18900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Kako se uzima u obzir INRst</a:t>
            </a:r>
            <a:r>
              <a:rPr b="0" lang="sr-Latn-CS" sz="4400" spc="-1" strike="noStrike" baseline="-25000">
                <a:solidFill>
                  <a:srgbClr val="333399"/>
                </a:solidFill>
                <a:latin typeface="Tahoma"/>
              </a:rPr>
              <a:t>i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00520" y="260280"/>
            <a:ext cx="44434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Tahoma"/>
              </a:rPr>
              <a:t>ODREĐIVANJE POTREBNOG BROJA SREDSTAVA ZA RAD, RADNIKA I RADNIH M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2060640"/>
            <a:ext cx="1584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Kp = 8 5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619280" y="1989000"/>
                <a:ext cx="576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o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0" y="292428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3. Proizvedeno je Q</a:t>
            </a:r>
            <a:r>
              <a:rPr b="0" lang="sr-Latn-CS" sz="2000" spc="-1" strike="noStrike">
                <a:solidFill>
                  <a:srgbClr val="333399"/>
                </a:solidFill>
                <a:latin typeface="Tahoma"/>
                <a:ea typeface="Tahoma"/>
              </a:rPr>
              <a:t>’’=2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059280" y="2781360"/>
                <a:ext cx="64764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o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324320" y="292428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03640" y="2924280"/>
            <a:ext cx="2376720" cy="703800"/>
          </a:xfrm>
          <a:prstGeom prst="rect">
            <a:avLst/>
          </a:prstGeom>
          <a:solidFill>
            <a:srgbClr val="f7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Tahoma"/>
              </a:rPr>
              <a:t>PODBAČAJ N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79280" y="3645000"/>
                <a:ext cx="9176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p</m:t>
                        </m:r>
                      </m:num>
                      <m:den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116000" y="3645000"/>
                <a:ext cx="895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5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050920" y="3645000"/>
                <a:ext cx="16430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o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3819600" y="378936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435640" y="3645000"/>
                <a:ext cx="20462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284720" y="3645000"/>
                <a:ext cx="11779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451640" y="3789360"/>
                <a:ext cx="12398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290520" y="465300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920" y="465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INRst = 0,3076 K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364000" y="4437000"/>
                <a:ext cx="700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290520" y="530064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6920" y="5373720"/>
            <a:ext cx="180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Kp’’ = </a:t>
            </a: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Kp + IN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00720" y="5373720"/>
            <a:ext cx="165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 1,3076 K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08720" y="5373720"/>
            <a:ext cx="115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 11114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12000" y="5373720"/>
            <a:ext cx="165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1,3076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·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  <a:ea typeface="Tahoma"/>
              </a:rPr>
              <a:t>8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8443800" y="5084640"/>
                <a:ext cx="700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819440" y="5908680"/>
                <a:ext cx="13874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132000" y="5877000"/>
                <a:ext cx="19018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003640" y="6021360"/>
                <a:ext cx="11685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4356000" y="465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2614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71640" y="46530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 0,3076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ahoma"/>
              </a:rPr>
              <a:t>·</a:t>
            </a: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8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00360" y="5373720"/>
            <a:ext cx="216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 8 500 + 2614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05:09Z</dcterms:created>
  <dc:creator>Barbara</dc:creator>
  <dc:description/>
  <dc:language>en-US</dc:language>
  <cp:lastModifiedBy>nn</cp:lastModifiedBy>
  <dcterms:modified xsi:type="dcterms:W3CDTF">2005-05-26T12:41:27Z</dcterms:modified>
  <cp:revision>39</cp:revision>
  <dc:subject/>
  <dc:title>Slide 1</dc:title>
</cp:coreProperties>
</file>