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60C-30A2-4183-BB77-A82F83C6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C5C-294C-43C9-B151-5FF27240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A71-B66E-4EA5-8EB6-B0CF666B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6CA-0E61-49EF-A8C3-A05DBADA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8C4E-3B7C-4FE9-A379-E8C6CBE2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C576-0825-4F5C-9020-BD9543C3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5DD4-8489-460C-B672-64EE550F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2CD4-B416-42AF-B762-10BDC693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7D78-A0BC-40E9-A4A6-185C9D89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CCC8-EE8F-4AF8-9CB2-692BA880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A3BA-7AA5-4D97-B0DB-1A5DD07B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E12-812D-469A-ADEF-CE94D6A2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591C-C070-44A1-811C-5B7CD06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CBF6-A293-4F76-B21F-04356613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5121-F440-4D2B-A2A0-E3045721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79AD-6FFA-4C79-BFA6-6160A971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8162-515C-40DD-8234-E6FBE8C4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EE8-7245-4901-AD3B-87BA4CFE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281-903B-4483-9D89-E86B3CA4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E94-C2AD-43D9-AF5C-E17BA1E0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535-39C4-43F4-84A7-5C39C32B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5E3-894D-49EE-B64B-25A5763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7CF-38C7-4647-8930-3AB2FC7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64E-8A81-4D9F-AED3-7BD41649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339A-4CFD-4014-97FC-EE4CBE12DB67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C708-C79A-495A-A8C2-5B7FAE9291B8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3024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i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OSNOVE IN</a:t>
            </a:r>
            <a:r>
              <a:rPr b="1" lang="sl-SI" sz="4800" spc="-1" strike="noStrike">
                <a:solidFill>
                  <a:srgbClr val="333399"/>
                </a:solidFill>
                <a:latin typeface="Tahoma"/>
              </a:rPr>
              <a:t>ŽENJERINGA PROIZVODNIH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SISTEMA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3357720"/>
            <a:ext cx="66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333399"/>
                </a:solidFill>
                <a:latin typeface="Tahoma"/>
              </a:rPr>
              <a:t>OPTIMIZACIJA PROGRAMA PROIZVODNJE I USLUG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ELEKCIJA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GRAMA PROIZVOD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izbo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 osnovnog dela prog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rangiranje svih vrsta proizvoda ili uslu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dređivanje učešća direktnih troškova u ceni proizvoda ili uslug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upravljanje asortimanom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UTVRĐIVANJE AKUMULATIVNOSTI PROIZVO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32320" y="2166840"/>
            <a:ext cx="1790640" cy="685800"/>
            <a:chOff x="3532320" y="2166840"/>
            <a:chExt cx="1790640" cy="685800"/>
          </a:xfrm>
        </p:grpSpPr>
        <p:sp>
          <p:nvSpPr>
            <p:cNvPr id="107" name=""/>
            <p:cNvSpPr/>
            <p:nvPr/>
          </p:nvSpPr>
          <p:spPr>
            <a:xfrm>
              <a:off x="3532320" y="2166840"/>
              <a:ext cx="1790640" cy="68580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750120" y="2276640"/>
              <a:ext cx="1561320" cy="458640"/>
              <a:chOff x="3750120" y="2276640"/>
              <a:chExt cx="1561320" cy="458640"/>
            </a:xfrm>
          </p:grpSpPr>
          <p:sp>
            <p:nvSpPr>
              <p:cNvPr id="109" name=""/>
              <p:cNvSpPr/>
              <p:nvPr/>
            </p:nvSpPr>
            <p:spPr>
              <a:xfrm>
                <a:off x="3750120" y="2276640"/>
                <a:ext cx="1273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500" spc="-1" strike="noStrike">
                    <a:solidFill>
                      <a:srgbClr val="333399"/>
                    </a:solidFill>
                    <a:latin typeface="Tahoma"/>
                  </a:rPr>
                  <a:t>UPRAVLJANJ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59120" y="2506680"/>
                <a:ext cx="1552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500" spc="-1" strike="noStrike">
                    <a:solidFill>
                      <a:srgbClr val="333399"/>
                    </a:solidFill>
                    <a:latin typeface="Tahoma"/>
                  </a:rPr>
                  <a:t>PROIZVODNJOM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146240" y="3537000"/>
            <a:ext cx="1789200" cy="687240"/>
            <a:chOff x="1146240" y="3537000"/>
            <a:chExt cx="1789200" cy="687240"/>
          </a:xfrm>
        </p:grpSpPr>
        <p:sp>
          <p:nvSpPr>
            <p:cNvPr id="112" name=""/>
            <p:cNvSpPr/>
            <p:nvPr/>
          </p:nvSpPr>
          <p:spPr>
            <a:xfrm>
              <a:off x="1146240" y="3537000"/>
              <a:ext cx="178920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6240" y="3537000"/>
              <a:ext cx="1789200" cy="6872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5160" y="3651120"/>
              <a:ext cx="121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UPRAVLJA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84200" y="3878280"/>
              <a:ext cx="149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ASORTIMANO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532320" y="3537000"/>
            <a:ext cx="1790640" cy="687240"/>
            <a:chOff x="3532320" y="3537000"/>
            <a:chExt cx="1790640" cy="687240"/>
          </a:xfrm>
        </p:grpSpPr>
        <p:sp>
          <p:nvSpPr>
            <p:cNvPr id="117" name=""/>
            <p:cNvSpPr/>
            <p:nvPr/>
          </p:nvSpPr>
          <p:spPr>
            <a:xfrm>
              <a:off x="3532320" y="3537000"/>
              <a:ext cx="179064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32320" y="3537000"/>
              <a:ext cx="1790640" cy="6872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66040" y="3651120"/>
              <a:ext cx="127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UPRAVLJANJ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48200" y="3878280"/>
              <a:ext cx="86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OBIMO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921280" y="3538440"/>
            <a:ext cx="1789200" cy="685800"/>
            <a:chOff x="5921280" y="3538440"/>
            <a:chExt cx="1789200" cy="685800"/>
          </a:xfrm>
        </p:grpSpPr>
        <p:sp>
          <p:nvSpPr>
            <p:cNvPr id="122" name=""/>
            <p:cNvSpPr/>
            <p:nvPr/>
          </p:nvSpPr>
          <p:spPr>
            <a:xfrm>
              <a:off x="5921280" y="3538440"/>
              <a:ext cx="1789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21280" y="3538440"/>
              <a:ext cx="1789200" cy="68580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53920" y="3651120"/>
              <a:ext cx="127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UPRAVLJANJ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53560" y="3878280"/>
              <a:ext cx="122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333399"/>
                  </a:solidFill>
                  <a:latin typeface="Tahoma"/>
                </a:rPr>
                <a:t>KVALITETO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442880" y="4908600"/>
            <a:ext cx="2387880" cy="1028520"/>
            <a:chOff x="1442880" y="4908600"/>
            <a:chExt cx="2387880" cy="1028520"/>
          </a:xfrm>
        </p:grpSpPr>
        <p:sp>
          <p:nvSpPr>
            <p:cNvPr id="127" name=""/>
            <p:cNvSpPr/>
            <p:nvPr/>
          </p:nvSpPr>
          <p:spPr>
            <a:xfrm>
              <a:off x="1442880" y="4908600"/>
              <a:ext cx="238788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2880" y="4908600"/>
              <a:ext cx="2387880" cy="102852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3000" y="5078520"/>
              <a:ext cx="50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UTV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05960" y="507852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50680" y="5078520"/>
              <a:ext cx="65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IVANJ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4040" y="5307120"/>
              <a:ext cx="187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AKUMULATIVNOST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8840" y="5535720"/>
              <a:ext cx="113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0000"/>
                  </a:solidFill>
                  <a:latin typeface="Tahoma"/>
                </a:rPr>
                <a:t>PROIZVO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050920" y="2852640"/>
            <a:ext cx="5373720" cy="684360"/>
            <a:chOff x="2050920" y="2852640"/>
            <a:chExt cx="5373720" cy="684360"/>
          </a:xfrm>
        </p:grpSpPr>
        <p:sp>
          <p:nvSpPr>
            <p:cNvPr id="135" name=""/>
            <p:cNvSpPr/>
            <p:nvPr/>
          </p:nvSpPr>
          <p:spPr>
            <a:xfrm>
              <a:off x="4440240" y="2852640"/>
              <a:ext cx="1800" cy="32868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50920" y="3193920"/>
              <a:ext cx="4775400" cy="343080"/>
            </a:xfrm>
            <a:custGeom>
              <a:avLst/>
              <a:gdLst/>
              <a:ahLst/>
              <a:rect l="l" t="t" r="r" b="b"/>
              <a:pathLst>
                <a:path w="6016" h="216">
                  <a:moveTo>
                    <a:pt x="0" y="216"/>
                  </a:moveTo>
                  <a:lnTo>
                    <a:pt x="0" y="0"/>
                  </a:lnTo>
                  <a:lnTo>
                    <a:pt x="6016" y="0"/>
                  </a:lnTo>
                </a:path>
              </a:pathLst>
            </a:custGeom>
            <a:noFill/>
            <a:ln w="205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26320" y="3193920"/>
              <a:ext cx="1440" cy="34308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40240" y="3193920"/>
              <a:ext cx="1800" cy="34308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7760" y="3193920"/>
              <a:ext cx="5968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46240" y="4224240"/>
            <a:ext cx="893520" cy="2055960"/>
            <a:chOff x="1146240" y="4224240"/>
            <a:chExt cx="893520" cy="2055960"/>
          </a:xfrm>
        </p:grpSpPr>
        <p:sp>
          <p:nvSpPr>
            <p:cNvPr id="141" name=""/>
            <p:cNvSpPr/>
            <p:nvPr/>
          </p:nvSpPr>
          <p:spPr>
            <a:xfrm>
              <a:off x="1146240" y="5423040"/>
              <a:ext cx="2966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6240" y="4224240"/>
              <a:ext cx="893520" cy="2055960"/>
            </a:xfrm>
            <a:custGeom>
              <a:avLst/>
              <a:gdLst/>
              <a:ahLst/>
              <a:rect l="l" t="t" r="r" b="b"/>
              <a:pathLst>
                <a:path w="1127" h="1295">
                  <a:moveTo>
                    <a:pt x="1127" y="0"/>
                  </a:moveTo>
                  <a:lnTo>
                    <a:pt x="1127" y="215"/>
                  </a:lnTo>
                  <a:lnTo>
                    <a:pt x="0" y="215"/>
                  </a:lnTo>
                  <a:lnTo>
                    <a:pt x="0" y="1295"/>
                  </a:lnTo>
                </a:path>
              </a:pathLst>
            </a:custGeom>
            <a:noFill/>
            <a:ln w="205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0560" y="0"/>
            <a:ext cx="6913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AKUMULATIVNOST PROIZVO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8640" y="1916280"/>
            <a:ext cx="8955000" cy="12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63440" indent="-1634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Pravovremeni uvid u akumulativnost svake vrste proizvoda i različitih kombinacija više vrsta proizvod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63440" indent="-1634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Formiranje informaciono-dokumentacione osnove z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83120" indent="-2142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evidenciju i praćenje asortimana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83120" indent="-2142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brzo sagledavanje učešća direktnih materijalnih troškova u ceni proizvoda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83120" indent="-2142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sagledavanje učešća ostalih troškova i raznih izdvajanja u ceni proizvoda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83120" indent="-2142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utvrđivanje poslovnog prinosa po jedinici proizvoda, it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63440" indent="-1634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Rangiranje vrsta proizvoda po kriterijumima: poslovni prinos, relativno učešće direktnih troškova u ceni proizvoda,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98100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333399"/>
                </a:solidFill>
                <a:latin typeface="Tahoma"/>
              </a:rPr>
              <a:t>CILJEV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773360"/>
            <a:ext cx="432000" cy="5084640"/>
          </a:xfrm>
          <a:custGeom>
            <a:avLst/>
            <a:gdLst>
              <a:gd name="textAreaLeft" fmla="*/ 0 w 432000"/>
              <a:gd name="textAreaRight" fmla="*/ 155880 w 432000"/>
              <a:gd name="textAreaTop" fmla="*/ 132480 h 5084640"/>
              <a:gd name="textAreaBottom" fmla="*/ 4952160 h 508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7893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Utvrđivanje (kalkulacija) cene koštanja predmeta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060640"/>
            <a:ext cx="47530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Pravovremeni uvid u akumulativnost svake vrste proizvoda i različitih kombinacija više vrsta proizvo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Formiranje informaciono-dokumentacione osnove 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47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evidenciju i praćenje asortima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47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brzo sagledavanje učešća direktnih materijalnih troškova u ceni proiz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47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sagledavanje učešća ostalih troškova i raznih izdvajanja u ceni proiz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47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utvrđivanje poslovnog prinosa po jedinici proizvoda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Rangiranje vrsta proizvoda po kriterijumima: poslovni prinos, relativno učešće direktnih troškova u ceni proizvoda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OSTUPAK I FAZE SELEKCIJE PROGR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1916280"/>
            <a:ext cx="172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OLAZI SE 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2205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205000"/>
            <a:ext cx="172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ASORTI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42100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637000"/>
            <a:ext cx="2232000" cy="1125720"/>
          </a:xfrm>
          <a:prstGeom prst="rect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KONSTRU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TEHNOLOG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RGANIZACIJA IZ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70920" y="2636640"/>
            <a:ext cx="487080" cy="11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ANALIZA VRED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3789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3933720"/>
            <a:ext cx="2303640" cy="1081080"/>
          </a:xfrm>
          <a:prstGeom prst="rect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ORMATIVI MATERIJ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ORMATIVI ENERG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NORMATIVI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5013360"/>
            <a:ext cx="259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STALI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ARAME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5950080"/>
            <a:ext cx="259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GRANI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445000"/>
            <a:ext cx="259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KRITERIJU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566100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5229360"/>
            <a:ext cx="0" cy="215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4797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1916280"/>
            <a:ext cx="360360" cy="4537080"/>
          </a:xfrm>
          <a:custGeom>
            <a:avLst/>
            <a:gdLst>
              <a:gd name="textAreaLeft" fmla="*/ 0 w 360360"/>
              <a:gd name="textAreaRight" fmla="*/ 252720 w 360360"/>
              <a:gd name="textAreaTop" fmla="*/ 189000 h 4537080"/>
              <a:gd name="textAreaBottom" fmla="*/ 434808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3860640"/>
            <a:ext cx="216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1844640"/>
            <a:ext cx="1873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BRADA PODATA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347640" y="2205000"/>
            <a:ext cx="2232360" cy="2074320"/>
            <a:chOff x="3347640" y="2205000"/>
            <a:chExt cx="2232360" cy="2074320"/>
          </a:xfrm>
        </p:grpSpPr>
        <p:sp>
          <p:nvSpPr>
            <p:cNvPr id="169" name=""/>
            <p:cNvSpPr/>
            <p:nvPr/>
          </p:nvSpPr>
          <p:spPr>
            <a:xfrm>
              <a:off x="3922920" y="2205000"/>
              <a:ext cx="1225440" cy="4870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POSLOVNI PRI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2920" y="2708280"/>
              <a:ext cx="1225440" cy="563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td</a:t>
              </a:r>
              <a:r>
                <a:rPr b="0" lang="sl-SI" sz="2000" spc="-1" strike="noStrike" baseline="-25000">
                  <a:solidFill>
                    <a:srgbClr val="333399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22920" y="3213360"/>
              <a:ext cx="1225440" cy="563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td</a:t>
              </a:r>
              <a:r>
                <a:rPr b="0" lang="sl-SI" sz="2000" spc="-1" strike="noStrike" baseline="-25000">
                  <a:solidFill>
                    <a:srgbClr val="333399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22920" y="3716280"/>
              <a:ext cx="1225440" cy="563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td</a:t>
              </a:r>
              <a:r>
                <a:rPr b="0" lang="sl-SI" sz="2000" spc="-1" strike="noStrike" baseline="-25000">
                  <a:solidFill>
                    <a:srgbClr val="333399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48360" y="2205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8360" y="422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7280" y="2205000"/>
              <a:ext cx="0" cy="2016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4000" y="2708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4000" y="3213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4000" y="3716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4000" y="4221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6920" y="2708280"/>
              <a:ext cx="0" cy="505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6920" y="3213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6920" y="3716280"/>
              <a:ext cx="0" cy="505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3347640" y="3715920"/>
              <a:ext cx="243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3347640" y="3213360"/>
              <a:ext cx="2437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E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3347640" y="2707920"/>
              <a:ext cx="243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R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5219640" y="2997360"/>
              <a:ext cx="2437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572000" y="429264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4508640"/>
            <a:ext cx="187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472428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mputr1"/>
          <p:cNvSpPr/>
          <p:nvPr/>
        </p:nvSpPr>
        <p:spPr>
          <a:xfrm>
            <a:off x="3924360" y="4941720"/>
            <a:ext cx="1295280" cy="1224000"/>
          </a:xfrm>
          <a:prstGeom prst="pi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6237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616572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19280" y="6451200"/>
            <a:ext cx="0" cy="25884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6490800"/>
            <a:ext cx="0" cy="25884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1916280"/>
            <a:ext cx="360360" cy="4537080"/>
          </a:xfrm>
          <a:custGeom>
            <a:avLst/>
            <a:gdLst>
              <a:gd name="textAreaLeft" fmla="*/ 0 w 360360"/>
              <a:gd name="textAreaRight" fmla="*/ 252720 w 360360"/>
              <a:gd name="textAreaTop" fmla="*/ 189000 h 4537080"/>
              <a:gd name="textAreaBottom" fmla="*/ 434808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080" y="3860640"/>
            <a:ext cx="21564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1844640"/>
            <a:ext cx="187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IZL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2421000"/>
            <a:ext cx="244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RANGIRANI ASORTI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220500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6000" y="270828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2924280"/>
            <a:ext cx="252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OJEDINAČNA SELE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012000" y="3213000"/>
            <a:ext cx="3132000" cy="1477080"/>
            <a:chOff x="6012000" y="3213000"/>
            <a:chExt cx="3132000" cy="1477080"/>
          </a:xfrm>
        </p:grpSpPr>
        <p:grpSp>
          <p:nvGrpSpPr>
            <p:cNvPr id="204" name=""/>
            <p:cNvGrpSpPr/>
            <p:nvPr/>
          </p:nvGrpSpPr>
          <p:grpSpPr>
            <a:xfrm>
              <a:off x="6300720" y="3213000"/>
              <a:ext cx="2518920" cy="1269360"/>
              <a:chOff x="6300720" y="3213000"/>
              <a:chExt cx="2518920" cy="1269360"/>
            </a:xfrm>
          </p:grpSpPr>
          <p:sp>
            <p:nvSpPr>
              <p:cNvPr id="205" name=""/>
              <p:cNvSpPr/>
              <p:nvPr/>
            </p:nvSpPr>
            <p:spPr>
              <a:xfrm flipV="1">
                <a:off x="6300720" y="3213000"/>
                <a:ext cx="0" cy="1269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00720" y="4480560"/>
                <a:ext cx="25189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00720" y="3412800"/>
                <a:ext cx="251280" cy="10674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552000" y="3479400"/>
                <a:ext cx="252000" cy="10011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4360" y="3545280"/>
                <a:ext cx="252000" cy="93492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56360" y="3679200"/>
                <a:ext cx="252000" cy="8010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08360" y="3879720"/>
                <a:ext cx="251280" cy="6004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65800" y="4080240"/>
                <a:ext cx="252000" cy="40032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317800" y="4246560"/>
                <a:ext cx="252000" cy="2340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28840" y="4348080"/>
                <a:ext cx="1681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372360" y="4482360"/>
              <a:ext cx="2771640" cy="207720"/>
              <a:chOff x="6372360" y="4482360"/>
              <a:chExt cx="2771640" cy="207720"/>
            </a:xfrm>
          </p:grpSpPr>
          <p:sp>
            <p:nvSpPr>
              <p:cNvPr id="216" name=""/>
              <p:cNvSpPr/>
              <p:nvPr/>
            </p:nvSpPr>
            <p:spPr>
              <a:xfrm>
                <a:off x="6372360" y="4482360"/>
                <a:ext cx="2887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88000" y="4482360"/>
                <a:ext cx="2890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2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04000" y="4482360"/>
                <a:ext cx="2890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93080" y="4482360"/>
                <a:ext cx="2887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08720" y="4482360"/>
                <a:ext cx="2890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sl-SI" sz="1200" spc="-1" strike="noStrike" baseline="-25000">
                    <a:solidFill>
                      <a:srgbClr val="333399"/>
                    </a:solidFill>
                    <a:latin typeface="Tahoma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40720" y="45500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91640" y="4482360"/>
                <a:ext cx="1152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200" spc="-1" strike="noStrike">
                    <a:solidFill>
                      <a:srgbClr val="333399"/>
                    </a:solidFill>
                    <a:latin typeface="Tahoma"/>
                  </a:rPr>
                  <a:t>Vrste proizvod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012000" y="327888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P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308720" y="472428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012000" y="4868640"/>
            <a:ext cx="2807640" cy="1551600"/>
            <a:chOff x="6012000" y="4868640"/>
            <a:chExt cx="2807640" cy="1551600"/>
          </a:xfrm>
        </p:grpSpPr>
        <p:sp>
          <p:nvSpPr>
            <p:cNvPr id="226" name=""/>
            <p:cNvSpPr/>
            <p:nvPr/>
          </p:nvSpPr>
          <p:spPr>
            <a:xfrm>
              <a:off x="6298920" y="616428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443640" y="4868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43640" y="5229360"/>
              <a:ext cx="1944360" cy="938160"/>
            </a:xfrm>
            <a:custGeom>
              <a:avLst/>
              <a:gdLst/>
              <a:ahLst/>
              <a:rect l="l" t="t" r="r" b="b"/>
              <a:pathLst>
                <a:path w="2861" h="2713">
                  <a:moveTo>
                    <a:pt x="2861" y="15"/>
                  </a:moveTo>
                  <a:lnTo>
                    <a:pt x="2720" y="7"/>
                  </a:lnTo>
                  <a:lnTo>
                    <a:pt x="2584" y="1"/>
                  </a:lnTo>
                  <a:lnTo>
                    <a:pt x="2451" y="0"/>
                  </a:lnTo>
                  <a:lnTo>
                    <a:pt x="2322" y="1"/>
                  </a:lnTo>
                  <a:lnTo>
                    <a:pt x="2196" y="8"/>
                  </a:lnTo>
                  <a:lnTo>
                    <a:pt x="2073" y="18"/>
                  </a:lnTo>
                  <a:lnTo>
                    <a:pt x="1955" y="32"/>
                  </a:lnTo>
                  <a:lnTo>
                    <a:pt x="1839" y="51"/>
                  </a:lnTo>
                  <a:lnTo>
                    <a:pt x="1727" y="72"/>
                  </a:lnTo>
                  <a:lnTo>
                    <a:pt x="1620" y="99"/>
                  </a:lnTo>
                  <a:lnTo>
                    <a:pt x="1515" y="129"/>
                  </a:lnTo>
                  <a:lnTo>
                    <a:pt x="1413" y="163"/>
                  </a:lnTo>
                  <a:lnTo>
                    <a:pt x="1315" y="200"/>
                  </a:lnTo>
                  <a:lnTo>
                    <a:pt x="1222" y="242"/>
                  </a:lnTo>
                  <a:lnTo>
                    <a:pt x="1129" y="287"/>
                  </a:lnTo>
                  <a:lnTo>
                    <a:pt x="1043" y="337"/>
                  </a:lnTo>
                  <a:lnTo>
                    <a:pt x="959" y="391"/>
                  </a:lnTo>
                  <a:lnTo>
                    <a:pt x="879" y="449"/>
                  </a:lnTo>
                  <a:lnTo>
                    <a:pt x="802" y="510"/>
                  </a:lnTo>
                  <a:lnTo>
                    <a:pt x="729" y="575"/>
                  </a:lnTo>
                  <a:lnTo>
                    <a:pt x="659" y="644"/>
                  </a:lnTo>
                  <a:lnTo>
                    <a:pt x="592" y="718"/>
                  </a:lnTo>
                  <a:lnTo>
                    <a:pt x="530" y="795"/>
                  </a:lnTo>
                  <a:lnTo>
                    <a:pt x="471" y="877"/>
                  </a:lnTo>
                  <a:lnTo>
                    <a:pt x="415" y="962"/>
                  </a:lnTo>
                  <a:lnTo>
                    <a:pt x="363" y="1051"/>
                  </a:lnTo>
                  <a:lnTo>
                    <a:pt x="313" y="1144"/>
                  </a:lnTo>
                  <a:lnTo>
                    <a:pt x="268" y="1241"/>
                  </a:lnTo>
                  <a:lnTo>
                    <a:pt x="227" y="1341"/>
                  </a:lnTo>
                  <a:lnTo>
                    <a:pt x="189" y="1446"/>
                  </a:lnTo>
                  <a:lnTo>
                    <a:pt x="155" y="1555"/>
                  </a:lnTo>
                  <a:lnTo>
                    <a:pt x="124" y="1669"/>
                  </a:lnTo>
                  <a:lnTo>
                    <a:pt x="95" y="1785"/>
                  </a:lnTo>
                  <a:lnTo>
                    <a:pt x="71" y="1905"/>
                  </a:lnTo>
                  <a:lnTo>
                    <a:pt x="50" y="2030"/>
                  </a:lnTo>
                  <a:lnTo>
                    <a:pt x="33" y="2159"/>
                  </a:lnTo>
                  <a:lnTo>
                    <a:pt x="20" y="2292"/>
                  </a:lnTo>
                  <a:lnTo>
                    <a:pt x="10" y="2428"/>
                  </a:lnTo>
                  <a:lnTo>
                    <a:pt x="3" y="2568"/>
                  </a:lnTo>
                  <a:lnTo>
                    <a:pt x="0" y="271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8360" y="5229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443280" y="522936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280" y="53722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443640" y="537228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9280" y="5661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443640" y="566100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67640" y="6237360"/>
              <a:ext cx="115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Vrste proizv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12000" y="5156280"/>
              <a:ext cx="43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3280" y="4940280"/>
              <a:ext cx="28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P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3640" y="5877000"/>
              <a:ext cx="28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30920" y="5805720"/>
              <a:ext cx="28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2920" y="56610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227640" y="4941720"/>
            <a:ext cx="252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KUPNA SELE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6000" y="6237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236000" y="6527520"/>
            <a:ext cx="0" cy="25884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87280" y="1052280"/>
            <a:ext cx="3421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KRITERIJUMI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jveći obim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jveći poslovni prinos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jveći poslovni prinos po normativu rada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jveći profit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0"/>
            <a:ext cx="75963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SELEKCIJA PROGRAM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27640" y="2133720"/>
                <a:ext cx="1582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izvodu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227640" y="2924280"/>
                <a:ext cx="1584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izvodu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987640" y="4365720"/>
                <a:ext cx="7923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ča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00720" y="5013360"/>
                <a:ext cx="1584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izvodu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Administrator</cp:lastModifiedBy>
  <dcterms:modified xsi:type="dcterms:W3CDTF">2007-02-16T09:36:13Z</dcterms:modified>
  <cp:revision>16</cp:revision>
  <dc:subject/>
  <dc:title>Slide 1</dc:title>
</cp:coreProperties>
</file>