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6D36-30F2-4524-A2A5-C2229847F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CBE3-8BBF-4483-8EDE-15E70CAD8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1D82-05F1-410C-B2BB-33F69E95A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2058-6483-440D-AE50-B255BFB70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AB8BFE-AA60-4DB0-90E1-C1D152558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F244CE-0F19-4C7F-93F4-BA8282348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A8E6E3-A630-48F5-839B-C663C46FD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C86BEB-3525-4DD8-AF07-F4239109D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9863C0-BA86-4B5D-9FAA-781442292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C991AA-07ED-4864-ABB5-D7C54B9B9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C6A2CD-3844-4587-8CC3-2297AA85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972D-07AA-4AFF-BB62-26E6494C1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2B827C-70A8-40D8-A6A6-4BFBB05A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AE2DA0-6912-40F9-8010-AAA827E4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A88F72-D229-4083-866F-33885A5C6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C8814E-CCC9-4284-BEFD-17E3B2DCE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296B06-8B97-4CAF-8311-6BC02B5C7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FEA3-9D0C-4BBF-BD85-332D85C31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2B47-C076-4CDE-90F7-BAEBFEC2D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B7AC-97F2-46A1-AC02-D32752CD4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0B16-0F1D-4EB5-B67E-F78779BAD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318C-0F12-447A-9546-3BC9BF48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FB6D-CEE9-4B33-8589-CA8ACFC4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1130-76E5-4093-98FE-F729C953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F156C-9607-4EB8-BF3F-6CCE2F32A81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BFB09-A7D7-4E5B-AD72-E26A215E3F0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Inversion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Inversion in Conditional Claus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YPE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.g.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f you (should) see him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, please give him my regard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hould you see him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, please give him my regar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f you do not wish our agent to call you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…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hould you not wish our agent to call you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…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way, the condition is made more doubtfu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ain clause is usually in the impera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Inversion in Conditional Claus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YPE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.g.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f it weren’t for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your help, I would still be homel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Were it not for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your help, I would still ne homeles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expression explains why something has or hasn’t happe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Inversion after Adverb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rsion of the normal subject-verb order happens after the following adverbs/ adverbial express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never, rarely, seldom, little, on no account, so, such, under no circumstances, only th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.g.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Little does he realize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how important this meeting 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On no account must you accept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any money if he offers 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uch was his strength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that he could bend iron ba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Rewrite the sentences, placing the adverbs or adverbial phrases in italics at the beginning of their sentence or clause and making the necessary inversions.</a:t>
            </a:r>
            <a:br>
              <a:rPr sz="2400"/>
            </a:b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had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no soon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ut down the receiver with a great sigh of relief than the telephone rang aga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hieves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litt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ealized that the police had already thrown a cordon round the bank, and that all means of escape had been cut off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octor told his patient that he should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on n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ccoun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eturn to work until he had made a complete recove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ouldn’t doubt his integrity for one moment.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(‘N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…’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whole truth didn’t become known until many years later.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(‘Not until…’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Rewrite the sentences, placing the adverbs or adverbial phrases in italics at the beginning of their sentence or clause and making the necessary inversions.</a:t>
            </a:r>
            <a:br>
              <a:rPr sz="2400"/>
            </a:b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moke was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o den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at even breathing-apparatus proved ineffective against 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s fear of failing the examination was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u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at he resorted to cheat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hav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are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en such public interest as in being shown in the appeal for funds to save the cathedr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ch a situation should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nev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gain be allowed to ari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lasting peace will be established in the area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only i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oth sides accept the agre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For each of the following sentences, write another sentence as similar as possible in meaning, beginning with the word(s) in brackets.</a:t>
            </a:r>
            <a:br>
              <a:rPr sz="2400"/>
            </a:b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.g. He wouldn’t accept my suggestion until I pointed out the alternativ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nly when I pointed out the alternatives would he accept my suggestio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Remote villages don’t have a regular bus service any more. (no long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It’s unusual for the temperature to fall below freezing in the south of the country. (seldo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It was the first time he had ever been in such a situation. (ne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 You won’t succeed unless you work hard (onl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 It started raining as soon as we stepped outside the door. (no soon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. You don’t care very much about the problems he’s facing. (litt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5T12:55:49Z</dcterms:created>
  <dc:creator>http://eng.fon.rs</dc:creator>
  <dc:description/>
  <dc:language>en-US</dc:language>
  <cp:lastModifiedBy>she</cp:lastModifiedBy>
  <dcterms:modified xsi:type="dcterms:W3CDTF">2009-04-05T13:12:23Z</dcterms:modified>
  <cp:revision>3</cp:revision>
  <dc:subject/>
  <dc:title>Inversion</dc:title>
</cp:coreProperties>
</file>