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826B-D0C3-4518-B0A3-C3502272F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8FD-DF54-45F9-BBE1-F4E8B8682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0E5-9BA3-4E05-AA00-C82F84B1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E49-3018-4A9D-B229-AAC92D16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72B-9E75-458F-BD16-79B9F7BD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40A-5336-4C7D-9C70-997A3BE1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536-7586-472E-A996-CE62B349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53F-4DA9-48C0-AE6C-CC09397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74A-030C-454A-BC38-C65A8CC7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E5B-C4BA-429B-B5F1-B6AB00CA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B3B-E0CC-431F-A037-351FE7D4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055-0E00-4320-BCEA-E5C126B8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906-B635-428F-B501-5142D8B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C59-50D1-407D-B10B-E2AA9D42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D656-9A19-4B85-8D96-36E4E11AAB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CONDITIONAL CL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   Put the verb into correct form  (II and III conditiona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If I (know) the answer, I would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They (visit) you if they had had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 What would you do if someone (call) you a f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Which country you (choose) if you decided to live abro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 Where you (go) if the door had been lock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 If the soup (be) hot, it would be very enjoy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If she had taken the medicine, she (feel) much b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 If you (smell) smoke in the middle of the night, would you telephone the fire briga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If people drove cars which can use lead-free petrol, there (not be) so much pollution in c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If the door had been larger, people (escape) more easi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Supposing you (miss) the train, what would you have done th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 Even if there (be) more police on the streets it wouldn't prevent cr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V Complete each unfinished sentence so that it means the same as the one before i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eather was bad, so the ship was delay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weather hadn’t been bad, the ship would not have been delay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The firm did not receive any compensation because the goods weren’t insu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goods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The company did not send the shipment by rail, so the goods arrived l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oods wouldn’t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The shipment arrived late because the dockers were on strik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docker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These problems arose because we did not use our normal forwarding ag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 For each of the sentences below, write a new sentence as similar as possible in meaning to the original sentence, but using the words given. These words must not be altered in any way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  Perhaps Sophie doesn't like her parents-in-law, but she keeps it to hersel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en if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If you don't request next-day delivery, we will send the goods by normal first-class po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less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Use a power breaker when you mow the lawn as you might cut the electric l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case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 We will only achieve the deadline if you provide all the resources we have reque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  unl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You're welcome to bring Lucinda, but I don't want her to moan about her work all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 long 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 Conditional sentences: All three typ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t the verbs in brackets into the correct ten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I (not buy) things on the installment system If I were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I (bring) you some beer if I had known that you were thirs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If you go to Paris where you (stay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The flight may be cancelled if the fog (get) thi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If the milkman (come) tell him to leave two bott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Someone (sit) on your glasses if you leave them t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You would play better bridge if you (not talk) so mu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If you (read) the instructions carefully you wouldn’t have answered the wrong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 If I had known that you couldn’t eat octopus I (not buy)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If they (hang) that picture lower people would be able to se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Here are some lines from songs. Each line is a conditional. Match the two halves of the conditional sentence to make the complete line. Be careful - one of the conditionals is incorrect. Can you identify which o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If I could read your mind, love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    would you marry me anywa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If I had a hammer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     they probably will, in games without fronti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If I need love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    we're gonna lose 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If I ruled the world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     be sure to wear some flowers in your ha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If I were a carpenter, and you were a lady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    every day would be the first day of spr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If I were a rich man 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     what a tale your thoughts would te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 If looks could kill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     I hold out my hand and I touch lo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 If you’re going to San Francisco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    I'd hammer out rea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 If I can’t have you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     I wouldn't have to work h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. If we don’t try to save the love we got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      I don't want nobody, ba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98989"/>
                </a:solidFill>
                <a:latin typeface="Calibri"/>
              </a:rPr>
              <a:t>     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ZERO CONDITIONAL (always tr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When we want to talk about things that are always and generally tr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98989"/>
                </a:solidFill>
                <a:latin typeface="Calibri"/>
              </a:rPr>
              <a:t>            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If/When + present,  present tense</a:t>
            </a:r>
            <a:r>
              <a:rPr b="1" lang="en-GB" sz="2400" spc="-1" strike="noStrike">
                <a:solidFill>
                  <a:srgbClr val="3333ff"/>
                </a:solidFill>
                <a:latin typeface="Calibri"/>
              </a:rPr>
              <a:t> / can+inf /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 impe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           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             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When you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fly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business class, you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get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much more legro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If interest rates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are rising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, bank loans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become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more expens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When you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’ve finishe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the course,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et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 certific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can use eithe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the meaning is ‘every time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indent="-109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CONDITIONAL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kely future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hen we want to talk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ture events that will happen, or are likely to happe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If + present, 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future tense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 or imperati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   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our order, we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’ll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iv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you a bigger discou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ou’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e meeting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her at three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’ll joi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ou later at about fo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I’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ve mad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ny mistakes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’ll correc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m l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also use other future 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 If you increase your order, you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’re going to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get a bigger discou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anyone from Head Office calls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ay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I am in a meet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CONDITIONAL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aginary futur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hen we want to talk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ture events that are imaginary, unlikely or impossibl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Latn-CS" sz="2200" spc="-1" strike="noStrike">
                <a:solidFill>
                  <a:srgbClr val="3333ff"/>
                </a:solidFill>
                <a:latin typeface="Calibri"/>
              </a:rPr>
              <a:t>If + p</a:t>
            </a:r>
            <a:r>
              <a:rPr b="1" lang="en-US" sz="2200" spc="-1" strike="noStrike">
                <a:solidFill>
                  <a:srgbClr val="3333ff"/>
                </a:solidFill>
                <a:latin typeface="Calibri"/>
              </a:rPr>
              <a:t>ast simple or continuous</a:t>
            </a:r>
            <a:r>
              <a:rPr b="1" lang="sr-Latn-CS" sz="2200" spc="-1" strike="noStrike">
                <a:solidFill>
                  <a:srgbClr val="3333ff"/>
                </a:solidFill>
                <a:latin typeface="Calibri"/>
              </a:rPr>
              <a:t>,  </a:t>
            </a:r>
            <a:r>
              <a:rPr b="1" lang="en-US" sz="2200" spc="-1" strike="noStrike">
                <a:solidFill>
                  <a:srgbClr val="3333ff"/>
                </a:solidFill>
                <a:latin typeface="Calibri"/>
              </a:rPr>
              <a:t>would/could/might + infini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alibri"/>
              </a:rPr>
              <a:t>            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                 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ante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 discount,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ould hav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o order at least 1000 un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er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still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fter an hour, the audienc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oul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probabl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be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o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CONDITIONAL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sible past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hen we want to talk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t events which possibly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if+ past simple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any tense or mod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If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ent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to the meeting yesterday, you probably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ear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the n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isse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the TV programme last night,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n borrow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recording I  m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-55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CONDITIONAL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aginary pas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hen we want to talk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t events that are different to what really happe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ff"/>
                </a:solidFill>
                <a:latin typeface="Calibri"/>
              </a:rPr>
              <a:t>            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If + p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ast perfect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, 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would + have + past parti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        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     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f the economic situatio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ad be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better, w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ouldn’t hav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lost so many  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DITIONALS WITHOUT 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use </a:t>
            </a:r>
            <a:r>
              <a:rPr b="0" i="1" lang="en-US" sz="2400" spc="-1" strike="noStrike">
                <a:solidFill>
                  <a:srgbClr val="ff0066"/>
                </a:solidFill>
                <a:latin typeface="Calibri"/>
              </a:rPr>
              <a:t>provided that, providing, on condition that, as long as, so long 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meaning is 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f and only if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Providing/ provided that  that you clean your desk this evening you can have tomorrow of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use </a:t>
            </a:r>
            <a:r>
              <a:rPr b="0" i="1" lang="en-US" sz="2400" spc="-1" strike="noStrike">
                <a:solidFill>
                  <a:srgbClr val="ff0066"/>
                </a:solidFill>
                <a:latin typeface="Calibri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talk about doing something to avoid a possible problem l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I am going to give you my mobile number in case you need to contact 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Calibri"/>
              </a:rPr>
              <a:t>Unl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ans the same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f ….n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Unless he arrives soon, he will miss the start of the pres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he does not arrive soon, he will miss the start of the pres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ALS WITHOUT IF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66"/>
                </a:solidFill>
                <a:latin typeface="Calibri"/>
              </a:rPr>
              <a:t>Supposing (that)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800" spc="-1" strike="noStrike">
                <a:solidFill>
                  <a:srgbClr val="ff0066"/>
                </a:solidFill>
                <a:latin typeface="Calibri"/>
              </a:rPr>
              <a:t>suppose (that)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rmally introduce 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.g. Suppose/ Supposing (that) we miss the train, wha shall we do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-55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I Answer the questions with conditional senten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.g. What happens if you heat ice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f you heat ice, it me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Note: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In this example, ‘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you’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is equivalent to ‘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one’.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In the reply, therefore, we also use ‘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you’,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(not ‘I’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 What must a motorist do if the traffic lights are at 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  What materials do you need if you want to write a lett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  What do you like to drink if you're very thirst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  What do you expect a teacher to do if you make a mist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 How do people dress in your country if they work in an off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     Put the verb into correct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 If he (come), everything will be all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he comes, everything will be all r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   If I have any trouble with Peter, I (go) straight to the pol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If you ask me out to dinner, I (accept) it with pleas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What I (say) if he rings up while you are ou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  If you open the letter you (see) what's writ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  If she (tell) me the truth, she will have nothing to f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  You (die) if you stay 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   The police will help you if you (ask) th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   If you (move) to London, you won't see your parents so of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   You will be responsible if something (happ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   You'll see many interesting things if you (visit) the Tow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    If I get a job, I (be able) to pay off my deb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  If things (start) going downhill for me, I probably (sell)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   As long as you let me know what you would like to eat, I (do) the c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4   You can go to the party provided you (not come) home d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  If you build it, he (come)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1:28:05Z</dcterms:created>
  <dc:creator>http://eng.fon.rs</dc:creator>
  <dc:description/>
  <dc:language>en-US</dc:language>
  <cp:lastModifiedBy>Jelena Plecas</cp:lastModifiedBy>
  <dcterms:modified xsi:type="dcterms:W3CDTF">2009-04-01T09:53:20Z</dcterms:modified>
  <cp:revision>18</cp:revision>
  <dc:subject/>
  <dc:title>Slide 1</dc:title>
</cp:coreProperties>
</file>