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60A8-312E-407C-8C07-35A31BB037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8973-CDE2-459C-8E86-D1BAD4C8CC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F0B-F438-4EFA-B615-9A58FC64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E70-4F7B-4B5B-B9EB-5DE3F2D7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C686-0AD5-4F09-8C14-1D26EE4A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4933-FCD1-4D79-9F74-A307005B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4DD6-D54C-4034-8C2D-DCA65BFA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52FC-2AFF-48E4-B65E-78E7CB15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7AE7-9632-449B-A962-F81827E8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A08A-B643-425E-8608-23C9CC15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4004-D522-498E-9B6F-1DDA004B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8FA7-C8AA-4ED6-B3C6-8065BF9E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9BBC-771B-40F3-8624-8884C530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F7BA-FA08-4BD6-903C-10538B27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0892-84A5-4AD4-A283-AC8E6D1B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64E8-4D57-48D9-8950-45B3A9D5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C40B-2C7E-488F-98B1-2B03B213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76C6-4FA8-466A-9287-03A3E642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C5CB-C861-45BD-A376-014108BB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1E4AD-5FD4-4262-9539-09106289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18E51-50FF-458C-B17E-D026AF58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6847E-621E-4497-89A1-062314DA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8C9C7-E72E-4EA6-BDC8-C2E2271A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D4C14-0503-4B21-B9E7-B86F025D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C20-74EA-41A1-88B1-06EF0F6B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AD1FD-2BE0-49AF-9EBB-161B0C6A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08E9B-0B87-40F4-8F18-4D09078B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72F49-2869-4AC2-8F5A-85E8CB48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68F4E-FC6B-4145-8BD7-44667502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CB434-B3B2-4628-9A29-20AEDFBA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E8944-A2FA-4E9A-BDC4-9D7C05E7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9BE57-68B4-4145-A022-83CE36B1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7B160-199C-4465-A648-ACF41F22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C9140-090B-47A6-95D3-67F9558C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F4C89-E0C8-4023-A49E-457E9829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4A33-2FD6-4573-BB3E-441704BB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02354-6B3D-4EA1-B8B9-BBED1A48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A64E3-545C-4907-B26E-9FD17035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114D5-8B15-42C7-8876-E3E54BFA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DF0CB-8314-4B16-9E92-2EB2DE2B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2CC61-6BBE-4B30-B7C5-3E5F430E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C7387-F7FB-4E10-BC7B-C7FBBDEC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B5885-2C3B-49D2-BE5B-5420C80C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A58D0-0918-413D-966A-CDEA22B7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CEEBD-6D35-42BD-9AB0-988C55D0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83EC-8F53-483D-BED0-9541E699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1BA3-811B-4A9E-A8F0-3A9B84A0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D4C-F980-46AB-AB5A-A3DCACDE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1BF7-C01E-421D-8682-C1251D61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ABB-BFF7-45EB-8233-C983CAB3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1549-DE8A-495E-B2F5-DFB5B762134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C366-61BF-4713-9EAF-FFAA94A353E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397A-5637-4A9F-9407-E584A75732F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D0DF-1BC6-443A-9264-1D9A198439C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Continued…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-47520"/>
            <a:ext cx="7313760" cy="428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9dd9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3160" y="457200"/>
            <a:ext cx="81500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________ (go) home if they don't finish their daily obligation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8.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 just ______ (be) time to leave! We only just got here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9.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 looks just fine! There ______ (be) anything wrong with him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0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oys on the team _______ (smoke). The coach wouldn't let th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1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________ (you buy) a newspaper for me? I can't go out right n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2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y ______ (you sleep) last night? Did you watch a horror film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3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chaela _________ (leave) the meeting earlier, but she stayed to the e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4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hn must ______ (do) the test if she hopes to get the job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alibri"/>
              </a:rPr>
              <a:t>52 </a:t>
            </a:r>
            <a:r>
              <a:rPr b="1" lang="en-US" sz="2200" spc="-1" strike="noStrike">
                <a:solidFill>
                  <a:srgbClr val="04617b"/>
                </a:solidFill>
                <a:latin typeface="Calibri"/>
              </a:rPr>
              <a:t>.Fill the spaces in the following sentences by using one of these forms:  </a:t>
            </a:r>
            <a:r>
              <a:rPr b="1" lang="en-US" sz="2200" spc="-1" strike="noStrike">
                <a:solidFill>
                  <a:srgbClr val="cc0000"/>
                </a:solidFill>
                <a:latin typeface="Calibri"/>
              </a:rPr>
              <a:t>must, can't and needn't</a:t>
            </a:r>
            <a:r>
              <a:rPr b="1" lang="en-US" sz="2200" spc="-1" strike="noStrike">
                <a:solidFill>
                  <a:srgbClr val="04617b"/>
                </a:solidFill>
                <a:latin typeface="Calibri"/>
              </a:rPr>
              <a:t> with </a:t>
            </a:r>
            <a:r>
              <a:rPr b="1" lang="en-US" sz="2200" spc="-1" strike="noStrike">
                <a:solidFill>
                  <a:srgbClr val="cc0000"/>
                </a:solidFill>
                <a:latin typeface="Calibri"/>
              </a:rPr>
              <a:t>the perfect infinitive</a:t>
            </a:r>
            <a:r>
              <a:rPr b="1" lang="en-US" sz="2200" spc="-1" strike="noStrike">
                <a:solidFill>
                  <a:srgbClr val="04617b"/>
                </a:solidFill>
                <a:latin typeface="Calibri"/>
              </a:rPr>
              <a:t> of the verbs in brackets. </a:t>
            </a:r>
            <a:r>
              <a:rPr b="1" lang="en-US" sz="2200" spc="-1" strike="noStrike">
                <a:solidFill>
                  <a:srgbClr val="cc0000"/>
                </a:solidFill>
                <a:latin typeface="Calibri"/>
              </a:rPr>
              <a:t>(PAGE 153)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1. Did you hear me come in last night? ~ No, I______ (be) aslee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2. I wonder who broke the wineglass; it______ (be) the cat for she was out all da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3. You______ (help) him. (You helped him but he didn't need help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4. He______ (escape) by this window because it is bar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5. I ______ (give) £10. £5 would have been enoug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His wife ______ (be) very pleased about tha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6. A I told him to turn left and he immediately turned right!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 He______ (misunderstand) you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dd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369800" y="1066320"/>
            <a:ext cx="731340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7. A    We went to a restaurant and had a very good dinner for £3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 You______ (have) a very good dinner if you only paid £3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8.  A I saw Ann in the library yesterda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 You______ (see) her; she is still abro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9.  You ______ (lend) him your map. He has one of his ow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10. A I spoke in English, very slowly. 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 You______ (speak) slowly. He speaks English very fluent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11. He was found unconscious at the foot of the cliff. He______ (fall) 200 metr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241920"/>
            <a:ext cx="8229600" cy="5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160" y="457200"/>
            <a:ext cx="81500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nstantia"/>
              </a:rPr>
              <a:t>53.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swer the following questions using </a:t>
            </a:r>
            <a:r>
              <a:rPr b="1" i="1" lang="en-US" sz="2600" spc="-1" strike="noStrike">
                <a:solidFill>
                  <a:srgbClr val="cc0000"/>
                </a:solidFill>
                <a:latin typeface="Constantia"/>
              </a:rPr>
              <a:t>should have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You didn't ask him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4617b"/>
                </a:solidFill>
                <a:latin typeface="Constantia"/>
              </a:rPr>
              <a:t>	</a:t>
            </a:r>
            <a:r>
              <a:rPr b="0" i="1" lang="en-US" sz="2800" spc="-1" strike="noStrike">
                <a:solidFill>
                  <a:srgbClr val="04617b"/>
                </a:solidFill>
                <a:latin typeface="Constantia"/>
              </a:rPr>
              <a:t>No, should I have asked him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You didn't bring i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You didn't try to stop him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You didn't tell h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You didn't invite Mark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. You didn't expect to get sacked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9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48</a:t>
            </a: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 Complete the conversation using the modal verbs in the box.</a:t>
            </a:r>
            <a:br>
              <a:rPr sz="3200"/>
            </a:br>
            <a:r>
              <a:rPr b="1" i="1" lang="en-US" sz="2400" spc="-1" strike="noStrike">
                <a:solidFill>
                  <a:srgbClr val="cc0000"/>
                </a:solidFill>
                <a:latin typeface="Calibri"/>
              </a:rPr>
              <a:t>can’t           can’t            ‘ll              ‘ll              must            might  shouldn’t         wouldn’t           won’t            would have    must have         could have         could have      needn’t hav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2895120"/>
            <a:ext cx="8226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nstanti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van, (1) ___________ Alexis be here by now? It’s gone four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nstanti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Yeah, she (2) __________ got held up somewher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nstanti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ut (3) ___________ she have phoned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nstanti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ell, you (4)  __________ thought s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89280"/>
            <a:ext cx="8229600" cy="5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609120"/>
            <a:ext cx="7997760" cy="53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nstanti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 mean, we’re only having this meeting for her benefit. If she doesn’t come soon, we (5)  ______ bother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nstanti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Quite, though I (6) __________ think what (7) __________ held her up. I (8) __________ring her and see what’s going on. That’s funny, I (9) __________ find her number. I (10) _________ sworn I put it in my diary. It (11) _____________ be in here somewhere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nstanti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ell, If you ask me, she (12) __________ just be coming, anywa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nstanti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ang on. That (13) ________ just be her now. I (14) ___________ go and chec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0000"/>
                </a:solidFill>
                <a:latin typeface="Calibri"/>
              </a:rPr>
              <a:t>Modal Verbs +Perfect Infinitiv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we want to denote the past time we use </a:t>
            </a:r>
            <a:r>
              <a:rPr b="0" i="1" lang="en-US" sz="2400" spc="-1" strike="noStrike">
                <a:solidFill>
                  <a:srgbClr val="04617b"/>
                </a:solidFill>
                <a:latin typeface="Constantia"/>
              </a:rPr>
              <a:t>perfect infinitive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(have + past participle)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fter modals to expres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Constantia"/>
              </a:rPr>
              <a:t>DEDUCTION  (logical conclusio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e.g. He </a:t>
            </a:r>
            <a:r>
              <a:rPr b="0" i="1" lang="en-US" sz="2000" spc="-1" strike="noStrike" u="sng">
                <a:solidFill>
                  <a:srgbClr val="04617b"/>
                </a:solidFill>
                <a:uFillTx/>
                <a:latin typeface="Constantia"/>
              </a:rPr>
              <a:t>must have been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there yesterda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Constantia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They </a:t>
            </a:r>
            <a:r>
              <a:rPr b="0" i="1" lang="en-US" sz="2000" spc="-1" strike="noStrike" u="sng">
                <a:solidFill>
                  <a:srgbClr val="04617b"/>
                </a:solidFill>
                <a:uFillTx/>
                <a:latin typeface="Constantia"/>
              </a:rPr>
              <a:t>can’t/couldn’t have left</a:t>
            </a:r>
            <a:r>
              <a:rPr b="0" i="1" lang="en-US" sz="20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without saying goodbye</a:t>
            </a:r>
            <a:r>
              <a:rPr b="0" i="1" lang="en-US" sz="20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Constantia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That </a:t>
            </a:r>
            <a:r>
              <a:rPr b="0" i="1" lang="en-US" sz="2000" spc="-1" strike="noStrike" u="sng">
                <a:solidFill>
                  <a:srgbClr val="04617b"/>
                </a:solidFill>
                <a:uFillTx/>
                <a:latin typeface="Constantia"/>
              </a:rPr>
              <a:t>will have been</a:t>
            </a:r>
            <a:r>
              <a:rPr b="0" i="1" lang="en-US" sz="20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Jake. He said he’d be here at</a:t>
            </a:r>
            <a:r>
              <a:rPr b="0" i="1" lang="en-US" sz="20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They </a:t>
            </a:r>
            <a:r>
              <a:rPr b="0" i="1" lang="en-US" sz="2000" spc="-1" strike="noStrike" u="sng">
                <a:solidFill>
                  <a:srgbClr val="04617b"/>
                </a:solidFill>
                <a:uFillTx/>
                <a:latin typeface="Constantia"/>
              </a:rPr>
              <a:t>may/ might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have g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i="1" lang="en-US" sz="2000" spc="-1" strike="noStrike">
                <a:solidFill>
                  <a:srgbClr val="cc0000"/>
                </a:solidFill>
                <a:latin typeface="Constantia"/>
              </a:rPr>
              <a:t>) </a:t>
            </a:r>
            <a:r>
              <a:rPr b="1" i="1" lang="en-US" sz="2000" spc="-1" strike="noStrike">
                <a:solidFill>
                  <a:srgbClr val="cc0000"/>
                </a:solidFill>
                <a:latin typeface="Constantia"/>
              </a:rPr>
              <a:t>PAST REGRET</a:t>
            </a:r>
            <a:r>
              <a:rPr b="1" i="1" lang="en-US" sz="20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i="1" lang="en-US" sz="2000" spc="-1" strike="noStrike">
                <a:solidFill>
                  <a:srgbClr val="cc0000"/>
                </a:solidFill>
                <a:latin typeface="Constantia"/>
              </a:rPr>
              <a:t>(Advisability/ necessity in the past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e.g. I </a:t>
            </a:r>
            <a:r>
              <a:rPr b="0" i="1" lang="en-US" sz="2000" spc="-1" strike="noStrike" u="sng">
                <a:solidFill>
                  <a:srgbClr val="04617b"/>
                </a:solidFill>
                <a:uFillTx/>
                <a:latin typeface="Constantia"/>
              </a:rPr>
              <a:t>should have taken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the umbrella with 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You </a:t>
            </a:r>
            <a:r>
              <a:rPr b="0" i="1" lang="en-US" sz="2000" spc="-1" strike="noStrike" u="sng">
                <a:solidFill>
                  <a:srgbClr val="04617b"/>
                </a:solidFill>
                <a:uFillTx/>
                <a:latin typeface="Constantia"/>
              </a:rPr>
              <a:t>ought to have left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by n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c) </a:t>
            </a:r>
            <a:r>
              <a:rPr b="1" i="1" lang="en-US" sz="2000" spc="-1" strike="noStrike">
                <a:solidFill>
                  <a:srgbClr val="cc0000"/>
                </a:solidFill>
                <a:latin typeface="Constantia"/>
              </a:rPr>
              <a:t>LACK OF NECESSITY IN THE PA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You </a:t>
            </a:r>
            <a:r>
              <a:rPr b="0" i="1" lang="en-US" sz="2000" spc="-1" strike="noStrike" u="sng">
                <a:solidFill>
                  <a:srgbClr val="04617b"/>
                </a:solidFill>
                <a:uFillTx/>
                <a:latin typeface="Constantia"/>
              </a:rPr>
              <a:t>needn’t have washed up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-294120"/>
            <a:ext cx="7313400" cy="5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880" y="380520"/>
            <a:ext cx="83822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nstantia"/>
              </a:rPr>
              <a:t>MUST vs HAVE (GOT) TO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nstantia"/>
              </a:rPr>
              <a:t>HAVE T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 u="sng">
                <a:solidFill>
                  <a:srgbClr val="009dd9"/>
                </a:solidFill>
                <a:uFillTx/>
                <a:latin typeface="Constantia"/>
              </a:rPr>
              <a:t>Required by law, regulations, external authorities…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onstantia"/>
              </a:rPr>
              <a:t>e.g. Children </a:t>
            </a:r>
            <a:r>
              <a:rPr b="0" i="1" lang="en-US" sz="2700" spc="-1" strike="noStrike">
                <a:solidFill>
                  <a:srgbClr val="04617b"/>
                </a:solidFill>
                <a:latin typeface="Constantia"/>
              </a:rPr>
              <a:t>have (got) to go</a:t>
            </a:r>
            <a:r>
              <a:rPr b="0" i="1" lang="en-US" sz="2700" spc="-1" strike="noStrike">
                <a:solidFill>
                  <a:srgbClr val="000000"/>
                </a:solidFill>
                <a:latin typeface="Constantia"/>
              </a:rPr>
              <a:t> to school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nstantia"/>
              </a:rPr>
              <a:t>MUST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 u="sng">
                <a:solidFill>
                  <a:srgbClr val="009dd9"/>
                </a:solidFill>
                <a:uFillTx/>
                <a:latin typeface="Constantia"/>
              </a:rPr>
              <a:t>Personal opinion/ authority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onstantia"/>
              </a:rPr>
              <a:t>e.g. I really </a:t>
            </a:r>
            <a:r>
              <a:rPr b="0" i="1" lang="en-US" sz="2700" spc="-1" strike="noStrike">
                <a:solidFill>
                  <a:srgbClr val="04617b"/>
                </a:solidFill>
                <a:latin typeface="Constantia"/>
              </a:rPr>
              <a:t>must</a:t>
            </a:r>
            <a:r>
              <a:rPr b="0" i="1" lang="en-US" sz="2700" spc="-1" strike="noStrike">
                <a:solidFill>
                  <a:srgbClr val="000000"/>
                </a:solidFill>
                <a:latin typeface="Constantia"/>
              </a:rPr>
              <a:t> stop eating sweet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 u="sng">
                <a:solidFill>
                  <a:srgbClr val="009dd9"/>
                </a:solidFill>
                <a:uFillTx/>
                <a:latin typeface="Constantia"/>
              </a:rPr>
              <a:t>Used in public notices or documents expressing command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onstantia"/>
              </a:rPr>
              <a:t>e.g. Cyclist </a:t>
            </a:r>
            <a:r>
              <a:rPr b="0" i="1" lang="en-US" sz="2700" spc="-1" strike="noStrike">
                <a:solidFill>
                  <a:srgbClr val="04617b"/>
                </a:solidFill>
                <a:latin typeface="Constantia"/>
              </a:rPr>
              <a:t>must</a:t>
            </a:r>
            <a:r>
              <a:rPr b="0" i="1" lang="en-US" sz="2700" spc="-1" strike="noStrike">
                <a:solidFill>
                  <a:srgbClr val="000000"/>
                </a:solidFill>
                <a:latin typeface="Constantia"/>
              </a:rPr>
              <a:t> dismount. Candidates </a:t>
            </a:r>
            <a:r>
              <a:rPr b="0" i="1" lang="en-US" sz="2700" spc="-1" strike="noStrike">
                <a:solidFill>
                  <a:srgbClr val="04617b"/>
                </a:solidFill>
                <a:latin typeface="Constantia"/>
              </a:rPr>
              <a:t>must</a:t>
            </a:r>
            <a:r>
              <a:rPr b="0" i="1" lang="en-US" sz="2700" spc="-1" strike="noStrike">
                <a:solidFill>
                  <a:srgbClr val="000000"/>
                </a:solidFill>
                <a:latin typeface="Constantia"/>
              </a:rPr>
              <a:t> choose five question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alibri"/>
              </a:rPr>
              <a:t>HAVE  TO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PRES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We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have to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go.&gt;We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don’t have to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go.&gt;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Do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we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have to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go?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PA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he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had to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stay.&gt;She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didn’t have to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stay.&gt;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Did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she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have to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stay?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4617b"/>
                </a:solidFill>
                <a:latin typeface="Constantia"/>
              </a:rPr>
              <a:t>FUTURE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I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will have to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work.&gt;I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won’t have to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work.&gt;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Will</a:t>
            </a:r>
            <a:r>
              <a:rPr b="0" lang="en-US" sz="27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7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have to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work?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OTHER TENSES…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NEEDN’T HAVE DONE/ DIDN’T NEED TO DO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e.g. I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needn’t have prepared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 lunch. Never mind, we’ll leave it for tomorrow. </a:t>
            </a:r>
            <a:r>
              <a:rPr b="0" i="1" lang="en-US" sz="2800" spc="-1" strike="noStrike">
                <a:solidFill>
                  <a:srgbClr val="009dd9"/>
                </a:solidFill>
                <a:latin typeface="Constantia"/>
              </a:rPr>
              <a:t>( I prepared it, but it wasn’t necessary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They have already eaten at home, so I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idn’t need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to prepare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 lunch.</a:t>
            </a:r>
            <a:r>
              <a:rPr b="0" i="1" lang="en-US" sz="2800" spc="-1" strike="noStrike">
                <a:solidFill>
                  <a:srgbClr val="009dd9"/>
                </a:solidFill>
                <a:latin typeface="Constantia"/>
              </a:rPr>
              <a:t> ( I didn’t prepare it because it wasn’t necessary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-79200"/>
            <a:ext cx="73134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onstantia"/>
              </a:rPr>
              <a:t>could&gt;was/were able to&gt;managed to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04617b"/>
                </a:solidFill>
                <a:uFillTx/>
                <a:latin typeface="Constantia"/>
              </a:rPr>
              <a:t>PAST ABILITY (natural or learned)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nstantia"/>
              </a:rPr>
              <a:t>e.g. Jim </a:t>
            </a:r>
            <a:r>
              <a:rPr b="0" i="1" lang="en-US" sz="2500" spc="-1" strike="noStrike">
                <a:solidFill>
                  <a:srgbClr val="04617b"/>
                </a:solidFill>
                <a:latin typeface="Constantia"/>
              </a:rPr>
              <a:t>could/ was able to</a:t>
            </a:r>
            <a:r>
              <a:rPr b="0" i="1" lang="en-US" sz="2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Constantia"/>
              </a:rPr>
              <a:t>run</a:t>
            </a:r>
            <a:r>
              <a:rPr b="0" i="1" lang="en-US" sz="2500" spc="-1" strike="noStrike">
                <a:solidFill>
                  <a:srgbClr val="000000"/>
                </a:solidFill>
                <a:latin typeface="Constantia"/>
              </a:rPr>
              <a:t> fast when he was a boy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en-US" sz="2500" spc="-1" strike="noStrike" u="sng">
                <a:solidFill>
                  <a:srgbClr val="04617b"/>
                </a:solidFill>
                <a:uFillTx/>
                <a:latin typeface="Constantia"/>
              </a:rPr>
              <a:t>SUCCESSFUL COMPLETION OF A SPECIFIC ACTION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nstantia"/>
              </a:rPr>
              <a:t>e.g. They</a:t>
            </a:r>
            <a:r>
              <a:rPr b="0" i="1" lang="en-US" sz="2500" spc="-1" strike="noStrike">
                <a:solidFill>
                  <a:srgbClr val="04617b"/>
                </a:solidFill>
                <a:latin typeface="Constantia"/>
              </a:rPr>
              <a:t> were able to/ managed to </a:t>
            </a:r>
            <a:r>
              <a:rPr b="0" i="1" lang="en-US" sz="2500" spc="-1" strike="noStrike">
                <a:solidFill>
                  <a:srgbClr val="000000"/>
                </a:solidFill>
                <a:latin typeface="Constantia"/>
              </a:rPr>
              <a:t>save the patient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1" i="1" lang="en-US" sz="2500" spc="-1" strike="noStrike" u="sng">
                <a:solidFill>
                  <a:srgbClr val="000000"/>
                </a:solidFill>
                <a:uFillTx/>
                <a:latin typeface="Constantia"/>
              </a:rPr>
              <a:t>COULDN’T and WASN’T ABLE TO – usually interchangeable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nstantia"/>
              </a:rPr>
              <a:t>e.g. She couldn’t/ wasn’t able to finish the job yesterday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0132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47</a:t>
            </a: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 In each of the sentences below delete the modal verbs that are incorrect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(p.150</a:t>
            </a:r>
            <a:r>
              <a:rPr b="1" lang="en-US" sz="3600" spc="-1" strike="noStrike">
                <a:solidFill>
                  <a:srgbClr val="cc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480" y="1827000"/>
            <a:ext cx="82296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. We ______ now, but we can if we wan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mustn't pay/don't have to pay/haven't got to pay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. I ______my laptop, so I left it at the offi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needn't take/didn't need to take/needn't have taken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. We ______, if we'd known he wasn't coming in today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didn't need to wait/mustn't wait/needn't have waite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4. When I was a student, I ______for hours on end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'd study/would have studied/used to study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5. I ______quite left-wing, but I've become more conservativ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used to be/would be/must have bee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-294480"/>
            <a:ext cx="7313400" cy="5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520" y="380880"/>
            <a:ext cx="8302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6. She ______by now - it's after twelv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(should have left/'ll have left/won't have left)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7. I took my driving test three times before I ______ pass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(could/was able to/managed to)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49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 Use </a:t>
            </a:r>
            <a:r>
              <a:rPr b="1" i="1" lang="en-US" sz="2400" spc="-1" strike="noStrike">
                <a:solidFill>
                  <a:srgbClr val="cc0000"/>
                </a:solidFill>
                <a:latin typeface="Calibri"/>
              </a:rPr>
              <a:t>can, could</a:t>
            </a:r>
            <a:r>
              <a:rPr b="1" i="1" lang="en-US" sz="24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1" i="1" lang="en-US" sz="2400" spc="-1" strike="noStrike">
                <a:solidFill>
                  <a:srgbClr val="cc0000"/>
                </a:solidFill>
                <a:latin typeface="Calibri"/>
              </a:rPr>
              <a:t>to be able to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cc0000"/>
                </a:solidFill>
                <a:latin typeface="Calibri"/>
              </a:rPr>
              <a:t>to be allowed to/to be permitted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to 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ith the verbs in brackets. You may need a negative. Alternatives are possible in some cases</a:t>
            </a:r>
            <a:r>
              <a:rPr b="1" lang="en-US" sz="2400" spc="-1" strike="noStrike">
                <a:solidFill>
                  <a:srgbClr val="009dd9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(PAGE 152)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ter _______ (do) the high jump when he was in schoo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_______ (pass) the exam even though I had practi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________ (I ask) you something? I hate to bother you but I really need help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 may _______ (arrange) a trip. Do you like the idea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employees ________ (go) on a trip next spring if it is not too expensiv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hn ________ (be) very funny when the mood was upon hi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1:48:36Z</dcterms:created>
  <dc:creator>http://eng.fon.rs</dc:creator>
  <dc:description/>
  <dc:language>en-US</dc:language>
  <cp:lastModifiedBy>Jelena Plecas</cp:lastModifiedBy>
  <dcterms:modified xsi:type="dcterms:W3CDTF">2009-03-09T21:42:57Z</dcterms:modified>
  <cp:revision>8</cp:revision>
  <dc:subject/>
  <dc:title>Modal Verbs</dc:title>
</cp:coreProperties>
</file>