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602-9D53-4CEC-AE31-2A05A5E7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361-0A98-43A2-98F3-49D8C2B0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7F3-18A5-472D-B608-F82F436C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6D5-CC1C-4A12-83FA-AD20EDCE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498E-6576-4927-AE30-9EF3E6F3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1936-3D3C-457E-9289-40CBCDD0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ECF0-AE02-48C0-A18E-48E24D29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F9E1-A26C-4077-AFA7-5DCF9E2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F7DB-8FFF-461E-BEC0-51C6F298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8DCE-0615-4AE0-B4DA-78FAC747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EA92-64D3-462B-AAD1-822962D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71B-4130-479B-8CDB-D53015E3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30A9-3BFA-4F03-A49C-55C8187C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FE4B-0A12-4CD5-80AA-9ADD429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186E-B941-4F93-9743-A68ECAC1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A561-41DA-494D-A55A-038BC485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5B4B-2D0F-42EA-BD28-E30F3392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514-4431-4742-AE40-8EF4766A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BB7-74B3-4636-921C-AD684104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F9A-0F5D-43CF-A4B7-81846897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1E4-55ED-4DA0-B44B-B4D38908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A75-EA77-48F6-839A-B5FB35D9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1C1-D763-4463-98DF-D5158556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7CF-737E-4E8C-A957-82C5CBF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1C9B-8465-4C2F-A475-957731BD03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EAEA-EA79-423D-A321-B60A704938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sive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43    Complete the sentences below using the following verbs in the pass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take 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make up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transmit 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make 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    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store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  use 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      display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   operate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chine _________of four basic p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 _________of lightweight pla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chine _________by a small electric mo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_________by pressing this small orange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chine _________for measuring levels of static electri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s _________by a small electronic sens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_________to the machine's inbuilt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_________by the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dings _________on the visual display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readings _________in the computer'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45  The following are extracts from the minutes of a meeting. All the missing verbs should be in the passive form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utes, which ______ prior to the meeting, were duly signed as an accurate record. (circu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______by all present that Bill Wilson take the chair in the absence of the MD. (ag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______that some members of the group were dissatisfied with the format of the reports.  (re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re was an increasing level of complaints about the cleanliness of the staff restaurant, it ______to call the catering manager to the next meeting of the group. (dec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45  The following are extracts from the minutes of a meeting. All the missing verbs should be in the passive form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ystem ______whereby each member of the group took it in turn to chair the meeting.  (prop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 on the future of the RB150 project ______ after a heated debate lasting over an hour.  (r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rumours about a possible hostile takeover of the company, but this ______by headquarters in Zurich. (de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coming to any agreement on Point 8 on the agenda, the meeting ______, when the fire alarm went off unexpectedly. (adjou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46  Rewrite each sentence using the verb given in the pass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ts think that Smiths is one of the UK's leading chains. (reg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ot the information from a reliable inside source. (ob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K'd the budget at our last meeting. (cl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accepted the idea. (agree, unanimous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XT 1 (Computers)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ll in the missing wor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1600200"/>
          <a:ext cx="6782040" cy="4251240"/>
        </p:xfrm>
        <a:graphic>
          <a:graphicData uri="http://schemas.openxmlformats.org/drawingml/2006/table">
            <a:tbl>
              <a:tblPr/>
              <a:tblGrid>
                <a:gridCol w="2049480"/>
                <a:gridCol w="2049480"/>
                <a:gridCol w="268308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v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o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p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mpl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XT 2 (Information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295280"/>
          <a:ext cx="8229600" cy="5504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adje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ad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p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tiv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/ suppl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qu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valu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/Evalu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8ec"/>
                </a:solidFill>
                <a:latin typeface="Arial"/>
              </a:rPr>
              <a:t>Insert the right word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 is only _________ (access) by b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y has undergone a period of rapid ______ (expa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 is an intensely ________ (compete)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previous experience gives her a big _______(advance) over other ______(app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t in interest rates is ______(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sert the right word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This document represents an intensive _________(evaluate) of the health care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formation systems provide ______ (compare) adva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t is impossible to predict the weather _____ (accura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lease meet our ______(supply) – Mr. J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he hospital was well - _______(equi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Passive versus A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4360"/>
            <a:ext cx="80755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active sentence, the emphasis is on the performer of the a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he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6640" y="2666880"/>
          <a:ext cx="7850160" cy="2546640"/>
        </p:xfrm>
        <a:graphic>
          <a:graphicData uri="http://schemas.openxmlformats.org/drawingml/2006/table">
            <a:tbl>
              <a:tblPr/>
              <a:tblGrid>
                <a:gridCol w="2616120"/>
                <a:gridCol w="2617920"/>
                <a:gridCol w="2616120"/>
              </a:tblGrid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Jake 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has sto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n expensive paint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the ag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active fo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the recipi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Passive versus A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passive sentence the emphasis is on the action itself, not on th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nt may be unknown or un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ransitive verbs can form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89120" y="3733920"/>
          <a:ext cx="7778520" cy="2288880"/>
        </p:xfrm>
        <a:graphic>
          <a:graphicData uri="http://schemas.openxmlformats.org/drawingml/2006/table">
            <a:tbl>
              <a:tblPr/>
              <a:tblGrid>
                <a:gridCol w="2592360"/>
                <a:gridCol w="2593800"/>
                <a:gridCol w="2592360"/>
              </a:tblGrid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n expensive pain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has been sto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(by Jake Brown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the recip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passive fo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by +the ag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he form of the Passive V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            +        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the appropriate tense)                     (of the main 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impl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esent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is 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hi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sent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ntinuous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is being 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impl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ast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was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ast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ntinuous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was being 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sent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erfect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has been 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Futur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imple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will be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erfect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nfinitiv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o have b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odal+Present Infinitiv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rniture can be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odal+Perfect Infini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urniture must have been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ransferring Sentences from Active to Passive</a:t>
            </a:r>
            <a:br>
              <a:rPr sz="32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of the active sentence becomes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ject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f the passive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2209680"/>
          <a:ext cx="8229600" cy="4281480"/>
        </p:xfrm>
        <a:graphic>
          <a:graphicData uri="http://schemas.openxmlformats.org/drawingml/2006/table">
            <a:tbl>
              <a:tblPr/>
              <a:tblGrid>
                <a:gridCol w="2743200"/>
                <a:gridCol w="2514600"/>
                <a:gridCol w="2971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ctive vo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sive vo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Simpl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Simple p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esent 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esent 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erfect 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Modal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keeps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s keeping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kept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was keeping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kept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will keep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likes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keep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eems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have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ept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hould kee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are kept (by hi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are being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were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were being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have been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will be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like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be kep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seem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have been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hould be kep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assive Voice of Ditransitive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ransitive verbs can have two objects (an indirect and a direct object) and can have two pass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e.g. Someone gave </a:t>
            </a:r>
            <a:r>
              <a:rPr b="0" i="1" lang="sr-Latn-CS" sz="2800" spc="-1" strike="noStrike">
                <a:solidFill>
                  <a:srgbClr val="a50021"/>
                </a:solidFill>
                <a:latin typeface="Arial"/>
              </a:rPr>
              <a:t>her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9900"/>
                </a:solidFill>
                <a:latin typeface="Arial"/>
              </a:rPr>
              <a:t>a bull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i="1" lang="sr-Latn-CS" sz="2800" spc="-1" strike="noStrike">
                <a:solidFill>
                  <a:srgbClr val="009900"/>
                </a:solidFill>
                <a:latin typeface="Arial"/>
              </a:rPr>
              <a:t>A bulldog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was given to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i="1" lang="sr-Latn-CS" sz="2800" spc="-1" strike="noStrike">
                <a:solidFill>
                  <a:srgbClr val="a50021"/>
                </a:solidFill>
                <a:latin typeface="Arial"/>
              </a:rPr>
              <a:t>She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was given a bull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Use of Passive to Express General Beli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Impersonal subject “IT” + passive reporting verb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t is assumed that the government will stay in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was said that he could speak three languag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recipient + passive reporting verb + to- infinitiv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 is believed to have fled to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ome reporting verbs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ise                                         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ite                                 expla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ist                                  agre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                               promi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ten   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m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is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i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mme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                                              den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mme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                                               accu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gratulate                                 apologiz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n                                               agre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f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42 Change the following questions from active to pass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y speak English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r mistakes sometimes frustrat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d someone invent the whe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nyone cancelled the press con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y inform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hotel provide clean tow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d they fire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paid the rent y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y tell you what had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he general manager sign this lett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n't anyone tell me abou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anyone disturb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43:02Z</dcterms:created>
  <dc:creator>http://eng.fon.rs</dc:creator>
  <dc:description/>
  <dc:language>en-US</dc:language>
  <cp:lastModifiedBy>Jelena Plecas</cp:lastModifiedBy>
  <dcterms:modified xsi:type="dcterms:W3CDTF">2009-03-19T09:07:00Z</dcterms:modified>
  <cp:revision>9</cp:revision>
  <dc:subject/>
  <dc:title>Slide 1</dc:title>
</cp:coreProperties>
</file>