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EDA-D556-493C-8D2E-2F0DF56A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1CB-2B65-4D3F-90D2-BAE81EA9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6B7-D4CF-4635-BB49-ACC9D44E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843-C50D-43E1-80E0-36C6ABE9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58D-990B-41A7-A5E0-93E9A37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5D1-BB7C-48FB-8DCD-5D0E778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ECD-E464-4059-A73B-62B3813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C52-9321-429F-9BDB-161CE4D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4BF-CB39-4F2C-9334-208163B4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E85-A472-4B02-A821-8E5553B3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04D-43FF-48C8-8A1D-EF0AFBA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F68-671D-460C-B7B3-E022156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736-DD64-4ADB-B49A-103BA0BB2A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84836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verbs are 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HAVE, GET, LET and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Jimmy is dead. The mafia boss ________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im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im to be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. Julie will not ________ the boy from across the stree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mar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to mar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mar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. I had the ________ when I was renovating my apartmen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to be knocked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knocked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knock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I ________ her and apologiz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to ca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ca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I have ________ many tim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y heart broke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my heart broke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my heart bro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9. The authorities ________ as soon as they found out she was there illegally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er depor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ve her depor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er to be depor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. I ________ on my lower back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tattoo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a tattoo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a tattoo to be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 are 2 ways of forming the caus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MAKE / LET/ HAVE + person + bar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GET +person + to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e.g. I don't know if my boss wil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let me tak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e day off. (a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Did somebody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make you wear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at ugly hat? (for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Dr. Smith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ad his nurse tak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e patient's temperature. (give responsibility t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Susi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got her son to take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 the medicine even though it tasted terrible. (convince/ trick into tak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HAVE/ GET + thing + past parti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.g. I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ad my car serviced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finall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ot my tooth pull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e’re having our house decorat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’ve had the whole procedure explain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 by the manag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the causative to stress the fact that we are ”causing” someone else to do a service for 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hasis is on the action itself, not on the performer of the action (similar to pa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e Causative </a:t>
            </a:r>
            <a:r>
              <a:rPr b="1" i="1" lang="en-GB" sz="4000" spc="-1" strike="noStrike">
                <a:solidFill>
                  <a:srgbClr val="1f497d"/>
                </a:solidFill>
                <a:latin typeface="Calibri"/>
              </a:rPr>
              <a:t>H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68280"/>
          <a:ext cx="8229600" cy="444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s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have my car serviced every ye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m having my car servic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had my car serviced las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ll have my car serviced nex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ll be having my car servi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ve just had my car servi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ay have my car serviced nex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ay be having my car servic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mpa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a dentis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ull ou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my to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y too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ulled ou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y the dent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usative “ge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” and “get” sometimes used interchangeab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I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t/ had my roof repair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is stronger than “have”, contains a stronger idea of action by the subject and there is a suggestion of difficu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I finall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t my tooth pulled ou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sounds more natural in the imp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et your eyes test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Rewrite the following sentences using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have something d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 windows are cleaned twice a month.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swimming pool will be drained. 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 bookcase was delivered last week.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new computer has been ordered for me. 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n’s sculptures are going to be exhibited tomorrow. 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Answer the questions with have/g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d Helen make her wedding dress he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 Jenny going to cut her hair he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s he upgraded the computer him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es your brother plant the trees him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 you shorten your trousers you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I'm going to have Mike ________ my computer to see what is wro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ook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look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ooked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One of my wisdom teeth really hurt, so I went to the dentist ________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remov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remov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to be remov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Are you going to ________ like this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im to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allow him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im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55:19Z</dcterms:created>
  <dc:creator>http://eng.fon.rs</dc:creator>
  <dc:description/>
  <dc:language>en-US</dc:language>
  <cp:lastModifiedBy>she</cp:lastModifiedBy>
  <dcterms:modified xsi:type="dcterms:W3CDTF">2009-03-29T12:17:42Z</dcterms:modified>
  <cp:revision>13</cp:revision>
  <dc:subject/>
  <dc:title>The Causative</dc:title>
</cp:coreProperties>
</file>