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846C1-ADB9-49B1-80B6-51F47EF6A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D49FA-A9CE-4287-B773-F3B77302F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B1EB3-C806-4AED-8272-232CC7602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048EB-2E81-45EB-A786-C5645736F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B81DA-07AC-4FEC-9EA5-97D0C0953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E73FF-7BB4-47B3-8D1A-7A1238402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2BEC4-E41E-4E2E-9221-0551F7F4C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093ED-DC78-41EE-859D-BBA947201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4B262-7C56-44B1-B10F-838A22F44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2F509-671B-48AD-A786-2DBD85E27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45811-B009-4FC8-A93B-F74ABB66C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1FBF-B450-4FA0-9927-1FB19E4D9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4FCD0-0336-424A-9738-63DBD8F44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AFA72-814D-41FE-AC2A-4F9F9BDEE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B39E8-A1DD-4B33-B5DC-1EFC995AC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2F925-1959-444E-956F-A5788934F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6BF37-3330-49CC-9CE4-9A761C57F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BFB5A7-0885-4831-8D8A-B85128704F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9B960-0A1D-4393-A92C-C84FAD92B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805B5-2994-40F1-AAE6-1D63535B3C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51293-C68A-4BF0-B26D-08D007041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4CCEF-2E46-4B6C-98D1-76ED7F05A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02F31-B603-44CF-9171-8FC067E12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E0046-2096-4BBA-A8AA-F1EEFC6B6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91334-927C-4357-8FFF-A7E40C622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4C3AD-2E2E-47F0-8AEB-0B20A2488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84381-0724-4109-8A4A-D394A378B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0AEA1-D789-4A98-A41D-6E821A7BB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0C8E0-CC17-4DAE-8CB5-6548D542DE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C0196-6BEB-4C0C-A89F-6D2376534B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D4317-38EC-4FF4-8ECE-A02D33BA9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757D2-FF9D-4375-A897-3B9FFA3B9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699FC-D070-4949-B376-C16EB425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7B8AC-56BB-4F46-B0C4-9CCD9CE75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7F9E-9026-45D5-A0B5-95B17378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B88D-F26E-49AC-B795-92FDE8A86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7CEE-114C-4AB4-BD4E-5E2D8C3B9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062F-58C5-4E0E-B426-F740CA9CE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FF78-F99F-4C80-A4A7-1DCB044F8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PS)</a:t>
            </a:r>
            <a:endParaRPr b="0" lang="en-US" sz="3200" spc="-1" strike="noStrike">
              <a:solidFill>
                <a:srgbClr val="ffffff"/>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ansaction processing systems </a:t>
            </a:r>
            <a:r>
              <a:rPr b="1" lang="en-US" sz="3200" spc="-1" strike="noStrike">
                <a:solidFill>
                  <a:srgbClr val="000000"/>
                </a:solidFill>
                <a:latin typeface="Arial"/>
              </a:rPr>
              <a:t>automate the handling of data about business activities or transa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PS)</a:t>
            </a:r>
            <a:endParaRPr b="0" lang="en-US" sz="3200" spc="-1" strike="noStrike">
              <a:solidFill>
                <a:srgbClr val="ffffff"/>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TPS is to improve transaction processing by speeding it up, using fewer people, improving efficiency and accuracy, integrating it with other organizational information systems or providing information not previously availab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IS)</a:t>
            </a:r>
            <a:endParaRPr b="0" lang="en-US" sz="3200" spc="-1" strike="noStrike">
              <a:solidFill>
                <a:srgbClr val="ffffff"/>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nagement information systems </a:t>
            </a:r>
            <a:r>
              <a:rPr b="1" lang="en-US" sz="3200" spc="-1" strike="noStrike">
                <a:solidFill>
                  <a:srgbClr val="000000"/>
                </a:solidFill>
                <a:latin typeface="Arial"/>
              </a:rPr>
              <a:t>are distinct from regular information systems in that they are used to analyze other information systems applied in operational activities in the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IS)</a:t>
            </a:r>
            <a:endParaRPr b="0" lang="en-US" sz="3200" spc="-1" strike="noStrike">
              <a:solidFill>
                <a:srgbClr val="ffffff"/>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are the subset of the overall internal controls of a business covering the application of people, documents, technologies, and procedu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SS)</a:t>
            </a:r>
            <a:endParaRPr b="0" lang="en-US" sz="3200" spc="-1" strike="noStrike">
              <a:solidFill>
                <a:srgbClr val="ffffff"/>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cision Support Systems </a:t>
            </a:r>
            <a:r>
              <a:rPr b="1" lang="en-US" sz="3200" spc="-1" strike="noStrike">
                <a:solidFill>
                  <a:srgbClr val="000000"/>
                </a:solidFill>
                <a:latin typeface="Arial"/>
              </a:rPr>
              <a:t>are a specific class of computerized information systems that supports business and organizational decision-making activ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SS)</a:t>
            </a:r>
            <a:endParaRPr b="0" lang="en-US" sz="3200" spc="-1" strike="noStrike">
              <a:solidFill>
                <a:srgbClr val="ffffff"/>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are interactive software-based systems intended to help decision makers compile useful information from raw data, documents, personal knowledge, and/or business models to identify and solve problems and make decis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 expert system</a:t>
            </a:r>
            <a:endParaRPr b="0" lang="en-US" sz="3200" spc="-1" strike="noStrike">
              <a:solidFill>
                <a:srgbClr val="ffffff"/>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software that attempts to reproduce the performance of one or more human experts, most commonly in a specific problem domain, and is a traditional application and/or subfield of artificial intelligenc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ffice automation</a:t>
            </a:r>
            <a:endParaRPr b="0" lang="en-US" sz="3200" spc="-1" strike="noStrike">
              <a:solidFill>
                <a:srgbClr val="ffffff"/>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s to the varied computer machinery and software used to digitally create, collect, store, manipulate, and relay office information needed for accomplishing basic tasks and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technologies are a very important and flexible resource available to execut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y companies have created a position of Chief Information Officer (CIO) that sits on the executive board, as well as the Chief Information Security Officer (CISO), who focuses on information security within an organiz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graphicFrame>
        <p:nvGraphicFramePr>
          <p:cNvPr id="127" name=""/>
          <p:cNvGraphicFramePr/>
          <p:nvPr/>
        </p:nvGraphicFramePr>
        <p:xfrm>
          <a:off x="380880" y="1600200"/>
          <a:ext cx="8229600" cy="4525920"/>
        </p:xfrm>
        <a:graphic>
          <a:graphicData uri="http://schemas.openxmlformats.org/drawingml/2006/table">
            <a:tbl>
              <a:tblPr/>
              <a:tblGrid>
                <a:gridCol w="943200"/>
                <a:gridCol w="1255680"/>
                <a:gridCol w="3486240"/>
                <a:gridCol w="254448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1. </a:t>
                      </a:r>
                      <a:r>
                        <a:rPr b="1" lang="en-GB" sz="1400" spc="-1" strike="noStrike">
                          <a:solidFill>
                            <a:srgbClr val="000000"/>
                          </a:solidFill>
                          <a:latin typeface="Arial"/>
                        </a:rPr>
                        <a:t>Information Technolog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вођење у основе стручног енглеског језика из области информационих систем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General Introd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бити упознат са садржајем предмета и начином ра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0000"/>
                          </a:solidFill>
                          <a:latin typeface="Arial"/>
                        </a:rPr>
                        <a:t>1.2</a:t>
                      </a:r>
                      <a:r>
                        <a:rPr b="0" lang="en-GB" sz="1400" spc="-1" strike="noStrike">
                          <a:solidFill>
                            <a:srgbClr val="ff0000"/>
                          </a:solidFill>
                          <a:latin typeface="Arial"/>
                        </a:rPr>
                        <a:t>  </a:t>
                      </a:r>
                      <a:r>
                        <a:rPr b="0" lang="en-US" sz="1400" spc="-1" strike="noStrike">
                          <a:solidFill>
                            <a:srgbClr val="ff0000"/>
                          </a:solidFill>
                          <a:latin typeface="Arial"/>
                        </a:rPr>
                        <a:t>Information Syste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основне појмове и термине из области информационих систем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technology departments in larger organizations tend to strongly influence information technology development, use, and application in the organizations, which may be a business or corpor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on questions</a:t>
            </a:r>
            <a:endParaRPr b="0" lang="en-US" sz="3200" spc="-1" strike="noStrike">
              <a:solidFill>
                <a:srgbClr val="ffffff"/>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information system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various types of information system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new categories used for the information system classifi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ach of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0000"/>
                          </a:solidFill>
                          <a:latin typeface="Arial"/>
                        </a:rPr>
                        <a:t>1.2</a:t>
                      </a:r>
                      <a:r>
                        <a:rPr b="0" lang="en-GB" sz="1400" spc="-1" strike="noStrike">
                          <a:solidFill>
                            <a:srgbClr val="ff0000"/>
                          </a:solidFill>
                          <a:latin typeface="Arial"/>
                        </a:rPr>
                        <a:t>  </a:t>
                      </a:r>
                      <a:r>
                        <a:rPr b="0" lang="en-US" sz="1400" spc="-1" strike="noStrike">
                          <a:solidFill>
                            <a:srgbClr val="ff0000"/>
                          </a:solidFill>
                          <a:latin typeface="Arial"/>
                        </a:rPr>
                        <a:t>Information Syste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основне појмове и термине из области информационих система</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Text Box 18"/>
          <p:cNvSpPr/>
          <p:nvPr/>
        </p:nvSpPr>
        <p:spPr>
          <a:xfrm>
            <a:off x="304920" y="3790800"/>
            <a:ext cx="8762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НАСТАВНИ МЕТОД</a:t>
            </a:r>
            <a:r>
              <a:rPr b="1" lang="en-US" sz="1600" spc="-1" strike="noStrike">
                <a:solidFill>
                  <a:srgbClr val="33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Предавање и дискусиј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a general sense,</a:t>
            </a:r>
            <a:endParaRPr b="0" lang="en-US" sz="3200" spc="-1" strike="noStrike">
              <a:solidFill>
                <a:srgbClr val="ffffff"/>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	</a:t>
            </a:r>
            <a:r>
              <a:rPr b="1" lang="en-US" sz="3200" spc="-1" strike="noStrike">
                <a:solidFill>
                  <a:srgbClr val="000000"/>
                </a:solidFill>
                <a:latin typeface="Arial"/>
              </a:rPr>
              <a:t>The term refers to a system of people, data records and activities that process the data and information in an organization</a:t>
            </a:r>
            <a:r>
              <a:rPr b="1" lang="sr-C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	</a:t>
            </a:r>
            <a:r>
              <a:rPr b="1" lang="en-US" sz="3200" spc="-1" strike="noStrike">
                <a:solidFill>
                  <a:srgbClr val="000000"/>
                </a:solidFill>
                <a:latin typeface="Arial"/>
              </a:rPr>
              <a:t>It includes the organization's manual and automated process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the narrow sense,</a:t>
            </a:r>
            <a:endParaRPr b="0" lang="en-US" sz="3200" spc="-1" strike="noStrike">
              <a:solidFill>
                <a:srgbClr val="ffffff"/>
              </a:solidFill>
              <a:latin typeface="Arial"/>
            </a:endParaRPr>
          </a:p>
        </p:txBody>
      </p:sp>
      <p:sp>
        <p:nvSpPr>
          <p:cNvPr id="134" name=""/>
          <p:cNvSpPr txBox="1"/>
          <p:nvPr/>
        </p:nvSpPr>
        <p:spPr>
          <a:xfrm>
            <a:off x="457200" y="914040"/>
            <a:ext cx="8229600" cy="5211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refers to the specific application software that is used to store data records in a computer system and automates some of the information-processing activities of the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r-based information systems are in the field of information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scipline of business process modelling describes the business processes supported by information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Types of information systems:</a:t>
            </a:r>
            <a:br>
              <a:rPr sz="2800"/>
            </a:br>
            <a:endParaRPr b="0" lang="en-US" sz="2800" spc="-1" strike="noStrike">
              <a:solidFill>
                <a:srgbClr val="ffffff"/>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action processing syste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support syste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 management syste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base management syste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e information systems and many oth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tion technologies</a:t>
            </a:r>
            <a:endParaRPr b="0" lang="en-US" sz="3200" spc="-1" strike="noStrike">
              <a:solidFill>
                <a:srgbClr val="ffffff"/>
              </a:solidFill>
              <a:latin typeface="Arial"/>
            </a:endParaRPr>
          </a:p>
        </p:txBody>
      </p:sp>
      <p:sp>
        <p:nvSpPr>
          <p:cNvPr id="140" name=""/>
          <p:cNvSpPr txBox="1"/>
          <p:nvPr/>
        </p:nvSpPr>
        <p:spPr>
          <a:xfrm>
            <a:off x="457200" y="990360"/>
            <a:ext cx="8229600" cy="5135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typically designed to enable humans to perform tasks for which the human brain is not well suited, such 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andling large amounts of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erforming complex calculation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ling many simultaneous pro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categories </a:t>
            </a:r>
            <a:br>
              <a:rPr sz="3200"/>
            </a:br>
            <a:endParaRPr b="0" lang="en-US" sz="3200" spc="-1" strike="noStrike">
              <a:solidFill>
                <a:srgbClr val="ffffff"/>
              </a:solidFill>
              <a:latin typeface="Arial"/>
            </a:endParaRPr>
          </a:p>
        </p:txBody>
      </p:sp>
      <p:sp>
        <p:nvSpPr>
          <p:cNvPr id="142" name=""/>
          <p:cNvSpPr txBox="1"/>
          <p:nvPr/>
        </p:nvSpPr>
        <p:spPr>
          <a:xfrm>
            <a:off x="457200" y="1066680"/>
            <a:ext cx="8229600" cy="505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examples 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action processing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informatio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suppor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r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e automation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0:33:45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