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FA71-DAD8-4C43-BE1C-92A3145D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9973-6B7F-457C-958E-27E9915E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A750-3C1E-424E-AA1F-9414DC9F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9CA2-8787-4EFF-AFC0-358B2185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5470-2BE8-4039-94FE-BEB16F84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4AC6-8005-47A7-B4CF-20A32E96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F174-FF31-4069-811F-6C88853A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80A1-5EF8-42D3-B029-076B9778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2494-E08B-428A-B83E-30968E8A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6105-673B-450A-8683-0A0C813D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39B0-94DA-4BB2-B564-D5D34746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EBD3-98EB-4444-822A-CFBFF78C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2C9D-1E92-40FA-8489-26B39439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BF1E-52B1-4C60-ADD4-F4FE50A8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30F0-3D48-49F5-BEE4-FFA68C2A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4F1C-A267-4CDA-9313-48813B9E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400F-B49E-4FAB-B065-E6AB422F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7E075-25DC-40D2-93A2-C5953955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8CDCA-BEFF-4544-8706-F5B3596C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E4FD2-8C7F-4380-A836-9AB6C3D7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526D1-C3F0-4708-9525-596B737F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154DF-3835-48DE-9F47-5F4807B8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EC7B-5C9B-40B8-9E6E-403CCE36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29133-8B54-4D3C-B762-7462BB8A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BC6D9-A161-4B4C-9F29-8FB1BED4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54A3F-4DDA-4749-99E0-66D97D15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827A6-143C-4767-A34A-92F86635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299F9-9FE6-4984-96D3-7945DEA5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4A1AD-C779-455C-BA58-CC651C35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745EB-F252-4AE1-AF72-1307BD20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ED85-8EBA-4CED-BF49-0090C6FF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0A7D-D104-45E4-94CF-3211F66C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9D66-F7E7-4DC7-A364-E088D57F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025E-A020-4704-AF78-B83B9942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B652-716D-4AF7-BF5A-AE17D9AB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0ADF-8A6F-4146-98F7-0A314401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ABD2-4F1B-4EC1-BD5D-A6B9F9282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052E-524F-4B7E-8443-26F5ED642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01B5-AC70-4562-9577-0B5B08C98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O Standard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1947 and the present day, ISO published m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 13 700 International Stand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's work programme ranges from standard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activities, such as agriculture and construc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mechanical engineering, to medical devices, 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est information technology developments, such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gital coding of audio-visual signals for multi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about ISO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's entire portfolio of standards is listed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alogue (www.iso.ch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an be acc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also provides access to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s Network (WSSN) (www.wssn.net 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twork of publicly accessible Web servers of stand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around the world. It contains link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, regional and national standardization bodi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lso to other international and region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develop standards in their specialized subject are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 to their principal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O Management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l strategic decisions are referred to the IS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mbers, who meet for an annual General Assembl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roposals put to the members are developed b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ISO Council, drawn from the membership as a whole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ich resembles the board of directors of a busines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rganiza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perations are managed by a Secretary-General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ich is a permanent appointm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O Finance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Secretary-General reports to a President who is 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minent figure in standardization or in business, elect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r two yea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's national members pay subscriptions that meet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ost of ISO's Central Secretariat. The subscri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d by each member is in proportion to the country's G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Product and trade fig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source of revenue is the sale of stand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O Development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88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 WHO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 standards are developed by technical committe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rising experts on loan from the industrial, technical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siness sectors. TC work progress can be followed on IS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si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xperts of a technical committee meet to discuss, deba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argue until they reach consensus on a draft agre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 circulated as a Draft International Standard (DIS) to ISO'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ship as a whole for comment and ballo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O Development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O members then take account of any feedb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receive in formulating their position on the dra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voting is in favour, the document, with even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s, is circulated to the ISO members as a 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Fi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Draft International Standard (FD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at vote is positive, the document is then published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ernational Stand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O's partner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 and the IEC cooperate on a joint basis with the I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 has recognized regional standards organization represen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, the Arab countries, the area covered by the Commonwealth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States, Europe, Latin America, the Pacific area,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-East Asia n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alist lia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 also liaises with some 550 international and regional 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ed in aspects of ISO's standardization work.These includ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or so international standards developing bodies outside the ISO/I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SO 9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ISO 14000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ISO 9000 and ISO 14000 families are among ISO'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st widely known standards e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O 9000 has become an intemational reference for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quirements in business to business dealings, and I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4000 looks set to achieve at least as much, if not more,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elping organizations to meet their environme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halle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e standards ISO 9000 and ISO 14000 familie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worldwide are known as "generic management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ndards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SO 9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ISO 14000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"Generic" means that the same standards can be appl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o any organization, large or small, whatever its product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cluding whether its "product" is actually a service - in a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ector of activity, and whether it is a business enteiprise,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ublic administration, or a govemment depart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"Management system" refers to what the organization do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o manage its processes, or activiti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vast majority of ISO standards are highly specific to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articular product, material, or pro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SO 9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ISO 14000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SO 9000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amily is primarily concemed with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"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anagement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is means what the organization does to fulf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e customer's quality requirements,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pplic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gulatory requirements, while aiming 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nhance custom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tisfaction,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chieve continual improvement of 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erformance in pursuit of these objec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Standards Ma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307512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дна недељ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матска це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Ци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ођење у основе стручног енглеског језика из области управљања квалитет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матска једи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y Standards Mat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научити појмове и термине из области стандардизације на енглеском јези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SO 9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ISO 14000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SO 14000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amily is primarily concemed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"environmental management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is means what the organization doe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mize  harmful  effects  on  the  environment  caus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y  its  activities,  and  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chieve continual improvemen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ts environmental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vast majority of ISO standards are highly specific to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articular product, material, or pro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Intemational Standards which ISO develops are v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eful. They are useful to industrial and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rganizations of all types, 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ovemments and 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gulatory bodies, to trade officials, to conform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ssessment professionals, to suppliers and customer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ducts and services in both public and private sector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d, ultimately, to people in general in their roles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onsumers and at the end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O standards contribute to making the developme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nufacturing and supply of products and services m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fficient, safer and clean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y make trade between countries easier and fair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y provide govemments with a technical base for healt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fety and environmental legisl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y aid in transferring technology to developing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O standards also serve to safeguard consumers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ers in general, of products and services - as well a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ke their lives simp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the following questions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I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the members of I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important details regarding ISO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ISO standard princi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us more about ISO 9000 and ISO 14 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Standards Ma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4875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y Standards Mat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научити појмове и термине из области стандардизације на енглеском јези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SO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(International Organization f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tandardization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O (International Organization 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ndardization) i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world's largest developer of stand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lthough ISO's principal activity is the developmen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echnical standards, ISO standards also have impor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conomic and social repercuss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O standards make a positive difference, not just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ngineers and manufacturers for whom they solve bas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blems in production and distribution, but to society a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wh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s ISO 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 is a network of the national standards institute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7 countries, on the basis of one member per countr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 Central Secretariat in Geneva, Switzerland,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s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 occupies a special position between the public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sectors, as: many of its member institutes are p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governmental structure of their countries, or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dated by their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s ISO 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members have their roots uniquely in the priv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or, having been set up by national partnershi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associ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 is able to act as a bridging organization in which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sensus can be reached on solutions that meet both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quirements of business and the broader needs of societ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ch as the needs of stakeholder groups like consu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O History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oneering work in other fields than electricity was carried ou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the International Federation of the National Standardiz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ociations (ISA), which was set up in 192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A's activities came to an end in 194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1946, delegates from 25 countries met in London and decid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create a new international organization, of which the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uld be "to facilitate the international coordination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fication of industrial standards"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ew organization, ISO, officially began op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23 February 194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O Standard Principles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al Foo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ry participating ISO member of the institution has the right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part in the development of any standard which it judges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important to its country's economy. No matter what the siz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 strength of that economy, each participating member in IS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 one vo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luntary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 standards are voluntary. A certain percentage of IS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rds - mainly those concerned with health, safety or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vironment - has been adopted in some countries as part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ir regulatory framework, or is referred to in legislation f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it serves as the technical bas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O Standard Principles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28240" y="990720"/>
            <a:ext cx="8915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arket-drive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 develops only those standards for which there is a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ns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ISO standards are voluntary, the fact that they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in response to market demand, and are based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nsus among the interested parties, ensures widespre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bility of the stand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wi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 standards are technical agreements which provid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work for compatible technology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Korisnik</cp:lastModifiedBy>
  <dcterms:modified xsi:type="dcterms:W3CDTF">2010-05-07T11:38:16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