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CC7-1BC4-4C4F-AE2E-42FB578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6AE-C2DD-41B1-9470-F42A844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374-3D42-437E-9F33-99CDEBE1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CCF-2044-4EDB-A004-3E7641EC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0D0-CC35-4159-B3F3-1C9501E4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742-6DEA-49D2-89D5-04B5AE4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9A30-52EF-4C5B-A9B2-855EC7F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AA45-9815-4416-9FC7-C388C74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AEDD-5530-44FE-B331-CF40FC5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A907-114C-4756-8F47-68A14F4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6131-2EBF-41DD-B1F0-EF85DE8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D7C-A034-42AD-ABBD-1C0962F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9B89-C13A-48B0-8712-93BA1BB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674-F5CD-44C3-B80E-724C79A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E9C-B68C-48A9-A766-C96172A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681-11D5-4B87-A1B6-F966BA3D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D95-6820-46B7-9150-0D48B509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AE57-7D27-41AE-BF93-BE46E397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9BC1-9D75-430B-A352-1FEDA8A2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7F72-60AB-4CD1-83EC-6232C83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7A0C-F663-4B0D-B55B-A7CC207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CD8C-123B-4630-82B5-E9F24AC4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B01-E567-4323-8B0C-089DBDB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16ED-A63B-488B-8574-B4CC45A1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FC2A-E482-478E-9EDA-AB2EEC0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695B-EF0B-485E-BA21-75E1904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40B1-6F15-4B40-B580-622DEA5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A6A2-A07F-4145-A327-8A62620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FF79-B1B0-43E4-AE87-FE3EC667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C6C0-4227-4981-8CD2-37FB9500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BBD-1C07-49E5-B889-075A4A7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915-158D-4213-BE1F-615867C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5C9-3DD4-4CCC-8C53-0A6006B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CEC-6DB3-4F56-925A-52EB725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8B1-D110-4110-A101-97F4DF7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CE3-7945-4608-A035-5D3DCB8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6495-5F1B-4322-9CAE-EC076EAA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202-4B67-4253-A5DF-C24C1A2A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9C4-AD5E-4406-9139-DE3E7A06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85800" y="20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ПРЕДМЕ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нглески јез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2604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УДИЈСКИ ПРОРАМ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формациони системи и 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32907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ВРСТА И НИВО СТУДИЈ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сновн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8120" y="3976560"/>
            <a:ext cx="71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АТУС ПРЕДМЕТА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б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868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НАСТА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546520" y="144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АРАД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80880" y="20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Мр Гордана Јак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038560" y="2057400"/>
            <a:ext cx="31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Јелена Плећ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ИЉ ПРЕДМE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00400" y="2819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ИСХОД ПРЕДМЕТ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00400" y="39628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МЕТОДЕ ИЗВОЂЕЊА НАСТАВЕ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4768920"/>
          <a:ext cx="6078600" cy="1096920"/>
        </p:xfrm>
        <a:graphic>
          <a:graphicData uri="http://schemas.openxmlformats.org/drawingml/2006/table">
            <a:tbl>
              <a:tblPr/>
              <a:tblGrid>
                <a:gridCol w="2060640"/>
                <a:gridCol w="1203120"/>
                <a:gridCol w="2043360"/>
                <a:gridCol w="771480"/>
              </a:tblGrid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испитне обав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ршни исп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оквиј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смени исп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28600" y="15238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атско изграђивање адекватног вокабулара и употпуњавање знања основа граматике уз равномерно увежбавање основних вештина (reading, writing, listening &amp; speaking). Посебан нагласак ставља се на превођење стручних текстова. Оспособљавање студената за превођење стручне ли-тературе са енглеског на српски језик, правилна комуникација у свим основним областима енгле-ског пословног јез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228600" y="304812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уденти ће унапредити знање пословне терминологије на енглеском језику, утврдити и побољшати познавање граматике  и развити језичке вештине, а посебно вештине превођења стручних текстова са енглеског на српски језик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28600" y="42670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авања, дискусије, рад у паровима и група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066680"/>
          <a:ext cx="8534160" cy="477864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знавање са начином рада на вежб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Gram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assive Vo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3"/>
          <p:cNvSpPr/>
          <p:nvPr/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62120" y="1397160"/>
          <a:ext cx="7924680" cy="4238640"/>
        </p:xfrm>
        <a:graphic>
          <a:graphicData uri="http://schemas.openxmlformats.org/drawingml/2006/table">
            <a:tbl>
              <a:tblPr/>
              <a:tblGrid>
                <a:gridCol w="946080"/>
                <a:gridCol w="2257200"/>
                <a:gridCol w="582840"/>
                <a:gridCol w="4138560"/>
              </a:tblGrid>
              <a:tr h="447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Information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Systems  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nternet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through History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Manageme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br>
              <a:rPr sz="3600"/>
            </a:b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80880" y="1447920"/>
          <a:ext cx="8534520" cy="4695840"/>
        </p:xfrm>
        <a:graphic>
          <a:graphicData uri="http://schemas.openxmlformats.org/drawingml/2006/table">
            <a:tbl>
              <a:tblPr/>
              <a:tblGrid>
                <a:gridCol w="990720"/>
                <a:gridCol w="2362320"/>
                <a:gridCol w="609480"/>
                <a:gridCol w="457200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Research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on Management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ock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рђивање претходно утврђених тематских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745720" y="1523880"/>
            <a:ext cx="17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2062440"/>
            <a:ext cx="7696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 Correspondence and Business Terms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ит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Reading Texts, Short English Grammar Book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Ана Ковачев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Business English Practice Test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ФОН, Београд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Oxford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Oxford Dictionary of Busines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Oxford University Pres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рис Хлебец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Граматика Енглеског Језик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Издање аутора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Carter McCarthy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Cambridge Grammar of Englis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Cambridge University Press,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Jelena Plecas</cp:lastModifiedBy>
  <dcterms:modified xsi:type="dcterms:W3CDTF">2010-04-28T23:47:2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