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69D8-E1C6-43EA-BDCD-49BCBD6C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78F7-2ADC-4402-B6DD-0298408B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68C-A469-4B73-8091-D69D39C9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3215-BAA7-4F72-8E53-C30558F2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F197-49D4-484B-9495-A3F607BE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39D9-3CFF-402C-B5D2-E54266B8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8612-EE5E-46E7-8087-3A31034F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715A-7BF6-40B0-80C9-36D3935A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DB03-3188-4D27-86EC-765CCB6F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E009-9280-45CE-A19F-E5B1FA93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D131-EB9D-4118-BBA6-729AD25B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F862-F372-481E-B333-CCD043E9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E303-D260-405D-B2A3-C1CCECE0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A86E-EAEC-415B-9145-A9655BAA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D8D3-62FF-4AC3-9CA6-AC27C668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EF41-EE57-45C6-A66E-184D19E0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4B22-B3AD-4E7D-BCA7-CD50B589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4ABE5-E549-44F4-9B77-2D225FAB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4EB78-0A66-42AB-9697-C4B536C3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C7D5E-D121-4760-8C5F-F036D09D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2F788-1A0F-49D4-8CA7-DB6D754F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C384A-2BF3-43B5-9854-606CC9CD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4F84-F4B5-44DD-86F6-30B2ACAD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10E82-037A-4B81-8ABA-3FD8C9DB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3DECC-406B-4520-8CD9-D196EBAE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46BD1-FF75-4AAF-A1F9-A1C9F813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E256C-368B-4418-941F-5AAAB373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F1681-1440-4B36-ADCC-AA3D8539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5A98F-0576-48DC-9810-CA5AF235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C1C29-3218-4156-801A-A672003A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F46-484B-4668-8EF0-1B58EB85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5B30-5368-4601-BF5D-A81F0EAA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B11-4AB4-4321-B3A1-A60E5C62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5AB-A753-43FF-91C9-0055A8BD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151-A2A1-4E9A-AC35-981D95D5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FCB6-2CC4-4AA5-B86E-30A8BF93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BAAA-3F01-466F-BE9A-58AA7D9DC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BAEC-CA19-40C3-9C41-8C4AEABEB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66F1-D9D7-475C-BB56-595BA9AFE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ff"/>
                </a:solidFill>
                <a:latin typeface="Arial"/>
              </a:rPr>
              <a:t>Programming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r-Latn-CS" sz="3200" spc="-1" strike="noStrike">
                <a:solidFill>
                  <a:srgbClr val="ffffff"/>
                </a:solidFill>
                <a:latin typeface="Arial"/>
              </a:rPr>
              <a:t>oftwar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vides tools that assist a programmer in writing computer programs and software using different programming languages in a convenient 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he tools include text editors, compilers, interpreters, linkers, debuggers, and so on.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bs01181_"/>
          <p:cNvPicPr/>
          <p:nvPr/>
        </p:nvPicPr>
        <p:blipFill>
          <a:blip r:embed="rId1"/>
          <a:stretch/>
        </p:blipFill>
        <p:spPr>
          <a:xfrm>
            <a:off x="7067520" y="4697280"/>
            <a:ext cx="20764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ff"/>
                </a:solidFill>
                <a:latin typeface="Arial"/>
              </a:rPr>
              <a:t>Programming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r-Latn-CS" sz="3600" spc="-1" strike="noStrike">
                <a:solidFill>
                  <a:srgbClr val="ffffff"/>
                </a:solidFill>
                <a:latin typeface="Arial"/>
              </a:rPr>
              <a:t>oftw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llows end users to accomplish one or more specific (non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mputer related) task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d process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erical analysis an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ing of d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ing and graphic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e process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k top publish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 design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ff"/>
                </a:solidFill>
                <a:latin typeface="Arial"/>
              </a:rPr>
              <a:t>Application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ypical applications inclu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dustrial automa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usi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oftwa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ducational softwa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dical softwa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tabas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mputer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usinesses are probably the biggest users of application softw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uter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st application software for business comes in an integrated package such 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soft Offi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tus Smart-Sui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ral Dr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soft Office is the most popular package used in business, it contains the applic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c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s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wer-Poi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ront-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mputer Softw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OfficeXP"/>
          <p:cNvPicPr/>
          <p:nvPr/>
        </p:nvPicPr>
        <p:blipFill>
          <a:blip r:embed="rId1"/>
          <a:stretch/>
        </p:blipFill>
        <p:spPr>
          <a:xfrm>
            <a:off x="380880" y="990720"/>
            <a:ext cx="3200400" cy="3352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integratedsoftware"/>
          <p:cNvPicPr/>
          <p:nvPr/>
        </p:nvPicPr>
        <p:blipFill>
          <a:blip r:embed="rId2"/>
          <a:stretch/>
        </p:blipFill>
        <p:spPr>
          <a:xfrm>
            <a:off x="1600200" y="4672080"/>
            <a:ext cx="2871720" cy="2185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ORELdraw"/>
          <p:cNvPicPr/>
          <p:nvPr/>
        </p:nvPicPr>
        <p:blipFill>
          <a:blip r:embed="rId3"/>
          <a:stretch/>
        </p:blipFill>
        <p:spPr>
          <a:xfrm>
            <a:off x="3657600" y="1066680"/>
            <a:ext cx="2227320" cy="2895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Lotussmrtstem"/>
          <p:cNvPicPr/>
          <p:nvPr/>
        </p:nvPicPr>
        <p:blipFill>
          <a:blip r:embed="rId4"/>
          <a:stretch/>
        </p:blipFill>
        <p:spPr>
          <a:xfrm>
            <a:off x="6172200" y="2971800"/>
            <a:ext cx="282564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mputer Softw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omputer software is loaded into a computer's storage (such as a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hard drive, a memory,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RA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omputer is able to execute the software in the Central Processing Unit (CP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his involves passing instructions from the application software, through the system software, to the hardw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ach instruction causes the computer to carry out an ope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uter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lmost the only limitation on the use of computer software in applications at the moment is the ingenuity of its designers or program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he only area that has so far proved reasonably secure from software simulation is the realm of human art - especially music and lit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hension question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mputer softw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ajor classes of the computer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P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n example how computer software ope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uter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32068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дна недељ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атска це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Ци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ођење у основе стручног енглеског језика из области информационих систем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атска јед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научити појмове и термине из области рачунарског софтвера на енглеском јези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uter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научити појмове и термине из области рачунарског софтвера на енглеском јези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 и дискус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uter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uter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onsists of programs and enables a computer to perform specific tas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uter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oftware is an arranged sequence of instructions designed to change the state of the computer hardware in a particular w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t is usually written in a high-level programming language. High-level languages are compiled or interpreted into machine language object c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mputer Softw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oftware systems can be divided i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yste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oftw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perating sy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rogramm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oftw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plica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oftw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grams we 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bd07030_"/>
          <p:cNvPicPr/>
          <p:nvPr/>
        </p:nvPicPr>
        <p:blipFill>
          <a:blip r:embed="rId1"/>
          <a:stretch/>
        </p:blipFill>
        <p:spPr>
          <a:xfrm>
            <a:off x="6248520" y="4191120"/>
            <a:ext cx="2425680" cy="21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ff"/>
                </a:solidFill>
                <a:latin typeface="Arial"/>
              </a:rPr>
              <a:t>System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r-Latn-CS" sz="3200" spc="-1" strike="noStrike">
                <a:solidFill>
                  <a:srgbClr val="ffffff"/>
                </a:solidFill>
                <a:latin typeface="Arial"/>
              </a:rPr>
              <a:t>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ystems software is the control software that operates the hardware and allows the applications to r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ncludes operating systems, device drivers, diagnostic tools, servers, windowing systems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utilities and 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s purpose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s to insulate the application programmes as much as possible, especially memory and other hardware featur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Operating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ing Systems run in the background without the users being aware of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ontrol the inputs, outputs and storage of files as requested by the applications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XPlogo"/>
          <p:cNvPicPr/>
          <p:nvPr/>
        </p:nvPicPr>
        <p:blipFill>
          <a:blip r:embed="rId1"/>
          <a:stretch/>
        </p:blipFill>
        <p:spPr>
          <a:xfrm>
            <a:off x="6084720" y="4267080"/>
            <a:ext cx="26956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Popular Operating Systems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ndows XP – home an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ndows 2000 – business network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c Operating System – GUI,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S/2 Warp – commercial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X – general purpose, main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ux – alternative to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S – command drive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Korisnik</cp:lastModifiedBy>
  <dcterms:modified xsi:type="dcterms:W3CDTF">2010-05-07T10:40:02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