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B6E4-F1DE-4B28-B246-90CF1BBE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1D8A-4048-4897-A966-BB3CAA26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2733-8524-4302-A356-5C39588D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7E56-2928-4248-AF1D-2FA5FD1A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DE4D-9689-45B0-95E3-A8028CCD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20B5-556E-481A-9690-78E879C1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7ACA-0087-48D8-9CB2-B21C94B8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41BF-91A4-49C7-B240-F41A31DE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9F79-9C9A-4094-9B62-DA29D605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36B7-DFF1-4547-9BDF-9BE62C87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DE1F-AD3F-4DFC-96D2-A61833FE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048-A762-4C19-B853-B562803F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A061-3B02-40B1-AF05-9C2991A2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2788-D8D1-49F4-BC78-8F10E505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C635-F98D-466D-BCC5-0E1C8FDD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15E8-0F6F-4879-9974-1E4167C5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36B4-730A-4EE6-84FD-E62B3E45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B9537-A029-4B8A-B950-215395D6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00858-B98C-466F-BE80-415BE2EC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67F23-C51C-4F55-8E32-3DB6BA84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C5D88-BF89-4083-AE56-5A05956C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F3D5F-03AB-42CE-A09E-4388249A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6C80-F8F1-4CC6-AFF7-9786649C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7F67E-9478-477D-8117-F8FAE1DA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9A6F0-B9BA-47D3-BD79-B1DC7283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8E48F-6311-498F-8146-8D660704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3EACF-A531-4BBA-BA00-19C50F2D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1CE1A-3EB6-4B87-B09F-6C21802D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12B5E-B17D-4EE8-AF60-209ABAC8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B0D05-FD2A-42F6-858B-5CFF6B7B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5F4C-7FBC-48A2-98D9-E7495ABD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9981-44B6-4246-8A6D-597FB3FA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B118-A2C3-43AE-8876-54BBAD2A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D1B0-553A-4E10-8DF6-FD2F10FE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AB85-E901-44BE-B402-B3F97604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DBA5-9DBE-4E93-90BF-420F3511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F8E6-8E51-4039-9EF5-F03E5A975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6188-3040-4E0A-ADC0-4B6F39C7A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0A74-4568-4741-8331-7A212C297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685800" y="20718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ПРЕДМЕТ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нглески језик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85800" y="260496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СТУДИЈСКИ ПРОРАМ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нформациони системи и техноло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5800" y="32907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ВРСТА И НИВО СТУДИЈ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сновне академск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708120" y="3976560"/>
            <a:ext cx="71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СТАТУС ПРЕДМЕТА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збо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7632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глески јези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7632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глески јези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88680" y="14479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НАСТАВНИ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5546520" y="14479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САРАДНИ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380880" y="2071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Мр Гордана Јак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5038560" y="2057400"/>
            <a:ext cx="31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Јелена Плећа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276720" y="11430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ЦИЉ ПРЕДМEТ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200400" y="28198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ИСХОД ПРЕДМЕТА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200400" y="39628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МЕТОДЕ ИЗВОЂЕЊА НАСТАВЕ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371600" y="4768920"/>
          <a:ext cx="6078600" cy="1096920"/>
        </p:xfrm>
        <a:graphic>
          <a:graphicData uri="http://schemas.openxmlformats.org/drawingml/2006/table">
            <a:tbl>
              <a:tblPr/>
              <a:tblGrid>
                <a:gridCol w="2060640"/>
                <a:gridCol w="1203120"/>
                <a:gridCol w="2043360"/>
                <a:gridCol w="771480"/>
              </a:tblGrid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а  знања (максимални број поена 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испитне обаве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ршни испи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оквију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исмени исп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УП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32"/>
          <p:cNvSpPr/>
          <p:nvPr/>
        </p:nvSpPr>
        <p:spPr>
          <a:xfrm>
            <a:off x="228600" y="1523880"/>
            <a:ext cx="8458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стематско изграђивање адекватног вокабулара и употпуњавање знања основа граматике уз ра-вномерно увежбавање основних вештина (reading, writing, listening &amp; speaking). Посебан нагласак ставља се на превођење стручних текстова. Оспособљавање студената за превођење стручне ли-тературе са енглеског на српски језик, правилна комуникација у свим основним областима енгле-ског пословног јез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3"/>
          <p:cNvSpPr/>
          <p:nvPr/>
        </p:nvSpPr>
        <p:spPr>
          <a:xfrm>
            <a:off x="228600" y="3048120"/>
            <a:ext cx="8458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туденти ће унапредити знање пословне терминологије на енглеском језику, утврдити и побољшати познавање граматике  и развити језичке вештине, а посебно вештине превођења стручних текстова са енглеског на српски језик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4"/>
          <p:cNvSpPr/>
          <p:nvPr/>
        </p:nvSpPr>
        <p:spPr>
          <a:xfrm>
            <a:off x="228600" y="426708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авања, дискусије, рад у паровима и група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7632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глески јези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04920" y="1066680"/>
          <a:ext cx="8534160" cy="3949920"/>
        </p:xfrm>
        <a:graphic>
          <a:graphicData uri="http://schemas.openxmlformats.org/drawingml/2006/table">
            <a:tbl>
              <a:tblPr/>
              <a:tblGrid>
                <a:gridCol w="990360"/>
                <a:gridCol w="2362320"/>
                <a:gridCol w="609480"/>
                <a:gridCol w="45720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е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Inter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through His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y Standards Ma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3"/>
          <p:cNvSpPr/>
          <p:nvPr/>
        </p:nvSpPr>
        <p:spPr>
          <a:xfrm>
            <a:off x="7632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глески јези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да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04920" y="1397160"/>
          <a:ext cx="8534160" cy="4630680"/>
        </p:xfrm>
        <a:graphic>
          <a:graphicData uri="http://schemas.openxmlformats.org/drawingml/2006/table">
            <a:tbl>
              <a:tblPr/>
              <a:tblGrid>
                <a:gridCol w="990360"/>
                <a:gridCol w="2362320"/>
                <a:gridCol w="609480"/>
                <a:gridCol w="457200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е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Manageme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Entrepreneurship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Relatio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 Manag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 Manag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Rectangle 3"/>
          <p:cNvSpPr/>
          <p:nvPr/>
        </p:nvSpPr>
        <p:spPr>
          <a:xfrm>
            <a:off x="7632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глески јези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да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04920" y="1397160"/>
          <a:ext cx="8534160" cy="1833480"/>
        </p:xfrm>
        <a:graphic>
          <a:graphicData uri="http://schemas.openxmlformats.org/drawingml/2006/table">
            <a:tbl>
              <a:tblPr/>
              <a:tblGrid>
                <a:gridCol w="990360"/>
                <a:gridCol w="2362320"/>
                <a:gridCol w="609480"/>
                <a:gridCol w="4572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е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 Manag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ovation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Re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ng Business Termi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3"/>
          <p:cNvSpPr/>
          <p:nvPr/>
        </p:nvSpPr>
        <p:spPr>
          <a:xfrm>
            <a:off x="7632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глески јези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да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2745720" y="1523880"/>
            <a:ext cx="179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ЛИТЕРАТУР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04920" y="2062440"/>
            <a:ext cx="76960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ордана Матић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 Correspondence and Business Terms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ОН, Београд,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ордана Митић,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Reading Texts, Short English Grammar Book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ОН, Београд,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ордана Матић, Ана Ковачевић,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Business English Practice Tests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ФОН, Београд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.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Oxford,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Oxford Dictionary of Business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Oxford University Press, 200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.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рис Хлебец,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Граматика Енглеског Језик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Издање аутора, 199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6.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Carter McCarthy,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Cambridge Grammar of English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Cambridge University Press, 200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632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глески јези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fon</cp:lastModifiedBy>
  <dcterms:modified xsi:type="dcterms:W3CDTF">2010-05-11T09:19:51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