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4.jpeg" ContentType="image/jpeg"/>
  <Override PartName="/ppt/media/image8.jpeg" ContentType="image/jpeg"/>
  <Override PartName="/ppt/media/image35.jpeg" ContentType="image/jpeg"/>
  <Override PartName="/ppt/media/image7.jpeg" ContentType="image/jpeg"/>
  <Override PartName="/ppt/media/image28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30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914-D09C-4DDD-926B-548BB626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AD26-AD48-403B-A1FF-B878B92F5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7CB-019E-4A1D-83A3-7F791523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204-6EDA-4390-9D32-53D2D293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7EC-DD79-4F79-AFA0-C0943AB9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CD6-FE71-48EB-8740-CA422655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C99-1A0A-47FA-9DC7-E7A5B6BF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6E71-A50F-4476-824C-F74AC7B0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F8A4-87A2-4E49-97AC-81AFA262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27E5-3882-4363-B10D-59A71EF0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052F-37F3-49C8-95F7-909EE486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130-A5A3-4904-9A46-2973864A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518-E657-4D19-B0CC-B9A78C1D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5264-2C9F-4129-BD7D-C520AB1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28F-46B9-43CD-AEF6-C440554B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D7CD-7E58-4B37-A6B2-380D0C76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ACE-A0D9-4088-AAC0-2DB3DD8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930C-E2ED-4481-B469-240F06B6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EAD-05F7-4B8B-A47F-A79EAEBA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65E-0FAC-4995-84C9-5CD3E164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476D-0832-4CAD-BFFD-2D0694E7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6EC6-19B3-4949-8213-2B43B69F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3FE3-FD0A-492B-A6B7-53105041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D6BB-DF43-4A14-8AB2-C3305BAA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71E8-B54C-49F5-AF08-CA4D5A60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583-2D9E-457D-BE89-24F08E39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86E4-4491-4D72-8D18-9CCE701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1CFD-1DA1-4BCC-8CA2-3A1CA1CE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F350-F60C-41D7-84D6-FBD9774A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7D01-4122-4940-86AE-D71A179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9692-54D7-4134-B215-33673464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22AC-10E6-465B-AB7A-F809A2F4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7609-ADA9-43F8-8756-22B952DD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B50EB-7B32-43F9-904C-FB5BAD3B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AAE3-7FD3-4499-A585-F482EAB4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23CD7-674D-4AD4-8A11-B39538E0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6F7-0D2F-4062-9F9A-A4E0E0D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E4D8-3D13-4DF8-BDBA-0B46B27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B26E-6A46-4F9E-9060-539BDAE5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0544-B21A-461B-83D9-EB8B8AB0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C481-395B-4450-85A2-4DEFF845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1A2F-878F-45EB-950A-AC2A99C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103D-08F8-491A-82A6-666D8A7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1E98-B2A2-4F18-950F-4697AA32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FCB9-AEA5-4500-9EDA-846BE06A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9527-D8A3-4D31-9A9A-877911FE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ADF-ABF8-4E18-B44C-00110597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2DF-DDDC-49B8-9769-F11836F6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C7B-DD8B-4A19-83C4-0D09827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627-92F8-41CB-85F7-51E0872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717-4A60-4A0A-9C2F-F81543E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45E1-8815-43FA-ACAD-85F06F244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2F2-32D4-431A-9135-DE30A0C55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A0D3-40E3-496E-9A34-416C838A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A991-DF3E-485B-8B7F-48B700F7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atatriage.com/blog/wp-content/uploads/2009/10/computer_crime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hormel.com/" TargetMode="Externa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Lottery frau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560" y="4419720"/>
            <a:ext cx="754380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ud asks for information about your bank account in order to pay you money that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on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tt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for which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ever appli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joehachem2_wideweb__470x342,2"/>
          <p:cNvPicPr/>
          <p:nvPr/>
        </p:nvPicPr>
        <p:blipFill>
          <a:blip r:embed="rId1"/>
          <a:stretch/>
        </p:blipFill>
        <p:spPr>
          <a:xfrm>
            <a:off x="1600200" y="1066680"/>
            <a:ext cx="604836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dentity thef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14720" y="914040"/>
            <a:ext cx="369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t comes in form of a private message from one of your friends that has link to another web page identical to facebook loggin page and asks you to type in again your e-mail and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facebook_362931801"/>
          <p:cNvPicPr/>
          <p:nvPr/>
        </p:nvPicPr>
        <p:blipFill>
          <a:blip r:embed="rId1"/>
          <a:stretch/>
        </p:blipFill>
        <p:spPr>
          <a:xfrm>
            <a:off x="971640" y="2060640"/>
            <a:ext cx="388764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Credit card frau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14720" y="1066680"/>
            <a:ext cx="369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app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ing a false web page that is lin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potential victi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asked to enter their credit card number on a false web pag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scam 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if-you-were-a-credit-card"/>
          <p:cNvPicPr/>
          <p:nvPr/>
        </p:nvPicPr>
        <p:blipFill>
          <a:blip r:embed="rId1"/>
          <a:stretch/>
        </p:blipFill>
        <p:spPr>
          <a:xfrm>
            <a:off x="1066680" y="2060640"/>
            <a:ext cx="37926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Telephone bill fraud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37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er downloads a certain application, 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jan horse virus infiltrated in h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 he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ojan horse virus enables the fraud to ab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’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mputer, phone,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00434-computer-telephone"/>
          <p:cNvPicPr/>
          <p:nvPr/>
        </p:nvPicPr>
        <p:blipFill>
          <a:blip r:embed="rId1"/>
          <a:stretch/>
        </p:blipFill>
        <p:spPr>
          <a:xfrm>
            <a:off x="5105520" y="20574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websecg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5029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inancial los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consequence of Internet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acker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 technolo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technologies enable us to do almost  everything we want while sitting at our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so many useful things you can do online, for example: pay bills, services, take part in online auctions, buy goods, et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eople are not aware of the bad side of online ea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minals are using someone’s sensitive information for shopping online, transferring money from stolen accounts and many other things in order to get financial use of the vict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identity-theft-piechart"/>
          <p:cNvPicPr/>
          <p:nvPr/>
        </p:nvPicPr>
        <p:blipFill>
          <a:blip r:embed="rId1"/>
          <a:stretch/>
        </p:blipFill>
        <p:spPr>
          <a:xfrm>
            <a:off x="2819520" y="2209680"/>
            <a:ext cx="3657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mon way of getting information ab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edit car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accounts, and other sensitive information is by using “s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m page is false website or page of internet service tha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minals want to get 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dentity-theft-piechart"/>
          <p:cNvPicPr/>
          <p:nvPr/>
        </p:nvPicPr>
        <p:blipFill>
          <a:blip r:embed="rId1"/>
          <a:stretch/>
        </p:blipFill>
        <p:spPr>
          <a:xfrm>
            <a:off x="3733920" y="259092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www.missingchildren.com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out of 5 children received a sexual offer for money or approach over the Internet in a one-year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hild clipart toy"/>
          <p:cNvPicPr/>
          <p:nvPr/>
        </p:nvPicPr>
        <p:blipFill>
          <a:blip r:embed="rId1"/>
          <a:stretch/>
        </p:blipFill>
        <p:spPr>
          <a:xfrm>
            <a:off x="15238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child clipart girl"/>
          <p:cNvPicPr/>
          <p:nvPr/>
        </p:nvPicPr>
        <p:blipFill>
          <a:blip r:embed="rId2"/>
          <a:stretch/>
        </p:blipFill>
        <p:spPr>
          <a:xfrm>
            <a:off x="7772400" y="1295280"/>
            <a:ext cx="118116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child clipart boy"/>
          <p:cNvPicPr/>
          <p:nvPr/>
        </p:nvPicPr>
        <p:blipFill>
          <a:blip r:embed="rId3"/>
          <a:stretch/>
        </p:blipFill>
        <p:spPr>
          <a:xfrm>
            <a:off x="3429000" y="3962520"/>
            <a:ext cx="1581120" cy="190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child clipart glasses reading"/>
          <p:cNvPicPr/>
          <p:nvPr/>
        </p:nvPicPr>
        <p:blipFill>
          <a:blip r:embed="rId4"/>
          <a:stretch/>
        </p:blipFill>
        <p:spPr>
          <a:xfrm>
            <a:off x="5105520" y="44956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child clipart boy"/>
          <p:cNvPicPr/>
          <p:nvPr/>
        </p:nvPicPr>
        <p:blipFill>
          <a:blip r:embed="rId5"/>
          <a:stretch/>
        </p:blipFill>
        <p:spPr>
          <a:xfrm>
            <a:off x="6477120" y="320040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child clipart birthday"/>
          <p:cNvPicPr/>
          <p:nvPr/>
        </p:nvPicPr>
        <p:blipFill>
          <a:blip r:embed="rId6"/>
          <a:stretch/>
        </p:blipFill>
        <p:spPr>
          <a:xfrm>
            <a:off x="7620120" y="495288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child clipart playing"/>
          <p:cNvPicPr/>
          <p:nvPr/>
        </p:nvPicPr>
        <p:blipFill>
          <a:blip r:embed="rId7"/>
          <a:stretch/>
        </p:blipFill>
        <p:spPr>
          <a:xfrm>
            <a:off x="228600" y="4952880"/>
            <a:ext cx="1571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ђење у основе стручног енглеског језика из области информационих систе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компјутерског криминал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w Wild, Wild Wes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160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yber criminals than cyber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s feel “safe” committing crimes from the privacy of their ow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 west wanted 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1" descr="wildbunchposterlg"/>
          <p:cNvPicPr/>
          <p:nvPr/>
        </p:nvPicPr>
        <p:blipFill>
          <a:blip r:embed="rId1"/>
          <a:stretch/>
        </p:blipFill>
        <p:spPr>
          <a:xfrm>
            <a:off x="5257800" y="1523880"/>
            <a:ext cx="36669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cker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here are three major classes of new criminal activities in today’s cyberspace performed by computer criminals, or so-called hac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computer_crime"/>
          <p:cNvPicPr/>
          <p:nvPr/>
        </p:nvPicPr>
        <p:blipFill>
          <a:blip r:embed="rId1"/>
          <a:stretch/>
        </p:blipFill>
        <p:spPr>
          <a:xfrm>
            <a:off x="3124080" y="3657600"/>
            <a:ext cx="3581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Unauthorized use of a compu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77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ealing a username and a pas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cessing a victim's computer via the Internet through a backdo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Views: 2,665&#10;Downloads: 784&#10;Added: 11.11.05&#10;1280x960 (195.3 KB)"/>
          <p:cNvPicPr/>
          <p:nvPr/>
        </p:nvPicPr>
        <p:blipFill>
          <a:blip r:embed="rId1"/>
          <a:stretch/>
        </p:blipFill>
        <p:spPr>
          <a:xfrm>
            <a:off x="5638680" y="16002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nauthorized use of a compu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reating or releasing of a malicious computer program (e.g. a computer virus, a worm, a Trojan horse et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civil-unions"/>
          <p:cNvPicPr/>
          <p:nvPr/>
        </p:nvPicPr>
        <p:blipFill>
          <a:blip r:embed="rId1"/>
          <a:stretch/>
        </p:blipFill>
        <p:spPr>
          <a:xfrm>
            <a:off x="5105520" y="16002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4757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ime is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t different from the ones commited without the use of compu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mputer is only a tool that a criminal uses to commit a cr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3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523880"/>
            <a:ext cx="33530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computer, a scann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raphics software an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igh-quality color la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o forge and counterfe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badge"/>
          <p:cNvPicPr/>
          <p:nvPr/>
        </p:nvPicPr>
        <p:blipFill>
          <a:blip r:embed="rId1"/>
          <a:stretch/>
        </p:blipFill>
        <p:spPr>
          <a:xfrm>
            <a:off x="5257800" y="152388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crimescenetape"/>
          <p:cNvPicPr/>
          <p:nvPr/>
        </p:nvPicPr>
        <p:blipFill>
          <a:blip r:embed="rId2"/>
          <a:stretch/>
        </p:blipFill>
        <p:spPr>
          <a:xfrm>
            <a:off x="5029200" y="175248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 as a target of a cr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rimescenecomputer"/>
          <p:cNvPicPr/>
          <p:nvPr/>
        </p:nvPicPr>
        <p:blipFill>
          <a:blip r:embed="rId1"/>
          <a:stretch/>
        </p:blipFill>
        <p:spPr>
          <a:xfrm>
            <a:off x="5410080" y="1828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77320" y="2819160"/>
            <a:ext cx="317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0880" y="1981080"/>
            <a:ext cx="449604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/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iracy and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-Fi High Ja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 accounts for 9 out of every 10 emails in the United States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do not object to the use of this slang term to describe UCE (unsolicited commercial email), although we do object to the use of the word “spam” as a trademark and the use of our product image in association with that term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rme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GoodGone3_animation"/>
          <p:cNvPicPr/>
          <p:nvPr/>
        </p:nvPicPr>
        <p:blipFill>
          <a:blip r:embed="rId2"/>
          <a:stretch/>
        </p:blipFill>
        <p:spPr>
          <a:xfrm>
            <a:off x="5987880" y="2548080"/>
            <a:ext cx="2459160" cy="30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m is Hosti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ay for Spam, not Sp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costs are paid by email recip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 can be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click on the opt-out li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ake you to hostile web site where mouse-over downloads an 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spammers they found a workin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on’t take you off the list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should you do?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it out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filters up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it, just delete the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j0309272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1752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6510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компјутерског криминал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18"/>
          <p:cNvSpPr/>
          <p:nvPr/>
        </p:nvSpPr>
        <p:spPr>
          <a:xfrm>
            <a:off x="304920" y="3790800"/>
            <a:ext cx="87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 и дискус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388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hat piggybacks on other software and runs when you run something 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in Excel,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through sharing programs on bulletin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ng around di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e.com file in you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virus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5181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m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510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hat 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networks to f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holes to get in 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in Microsoft OS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4066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ckers are Every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5235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l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Espio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ing data for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bored 16 year olds late at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hackers"/>
          <p:cNvPicPr/>
          <p:nvPr/>
        </p:nvPicPr>
        <p:blipFill>
          <a:blip r:embed="rId1"/>
          <a:stretch/>
        </p:blipFill>
        <p:spPr>
          <a:xfrm>
            <a:off x="556272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93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computers into zomb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it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dow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p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ass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/white hat hackers exist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break into networks to prevent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RE1Zombie"/>
          <p:cNvPicPr/>
          <p:nvPr/>
        </p:nvPicPr>
        <p:blipFill>
          <a:blip r:embed="rId1"/>
          <a:stretch/>
        </p:blipFill>
        <p:spPr>
          <a:xfrm>
            <a:off x="5410080" y="14479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do? (1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ti-virus software and firewalls - keep them up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r operating system up to date with critical security updates and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open emails or attachments from unknown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do? (2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ard-to-guess passwords. Don’t use words found in a dictionary.  Remember that password cracking tool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up your computer data on disks or CDs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o do? (3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share access to your computers with stran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a wi-fi network, password protec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do? (4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 from the Internet when not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valuate your security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employees and family members know this info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swer the following question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computer/ cyber c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riminal activities can be performed while using a 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are hac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sp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the difference between computer viruses and w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ypes of Internet fraud do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we protect ourselves from cyber crimin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448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cri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comm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d in order to gain personal profit or making material or immaterial damage to anoth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net, as the global 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f communication, enables thieve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tte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mit a frau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ore 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1000 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a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130"/>
          <p:cNvPicPr/>
          <p:nvPr/>
        </p:nvPicPr>
        <p:blipFill>
          <a:blip r:embed="rId1"/>
          <a:stretch/>
        </p:blipFill>
        <p:spPr>
          <a:xfrm>
            <a:off x="2666880" y="3581280"/>
            <a:ext cx="3959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arassment in cyberspa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eln-badge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7"/>
          <p:cNvSpPr/>
          <p:nvPr/>
        </p:nvSpPr>
        <p:spPr>
          <a:xfrm>
            <a:off x="4591080" y="5867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ypes of internet fraud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437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hain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yramid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ney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ttery fra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card fra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bill fra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2" descr="internet-prevare-300"/>
          <p:cNvPicPr/>
          <p:nvPr/>
        </p:nvPicPr>
        <p:blipFill>
          <a:blip r:embed="rId1"/>
          <a:stretch/>
        </p:blipFill>
        <p:spPr>
          <a:xfrm>
            <a:off x="5334120" y="2133720"/>
            <a:ext cx="28573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in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that contains encrypted information which enables the sender to abuse your personal data and the data of all those who had read tha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322"/>
          <p:cNvPicPr/>
          <p:nvPr/>
        </p:nvPicPr>
        <p:blipFill>
          <a:blip r:embed="rId1"/>
          <a:stretch/>
        </p:blipFill>
        <p:spPr>
          <a:xfrm>
            <a:off x="5151600" y="1981080"/>
            <a:ext cx="3220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yramid sche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419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ctim” is promised a certain payment depending on a number of people that he manages to involve in the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pyramid_chain"/>
          <p:cNvPicPr/>
          <p:nvPr/>
        </p:nvPicPr>
        <p:blipFill>
          <a:blip r:embed="rId1"/>
          <a:stretch/>
        </p:blipFill>
        <p:spPr>
          <a:xfrm>
            <a:off x="5076720" y="2133720"/>
            <a:ext cx="3743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Money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ney transfer for charit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aud asks confidential information about your bank account for money transfer to bank account of some charity organization for com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raud when buying a ca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raud asks for advance when buying a car from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entine” frau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xploitation of lonely peopl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ud asks for money in order to come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ctim’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1:10:0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