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2467-793A-4BF7-B55A-712FC222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0C7-1CA6-4031-8A0D-F456908A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78E-2F08-4A21-A25D-3FAC8109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027-5250-4EE1-AA64-2658AB1B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0A87-0D85-4800-A33A-F7B99361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C763-96ED-4500-B6CE-F93CA434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3AF5-E1FC-42B6-BDCE-2DC2C48E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7317-0B89-4B40-B9D1-AF79A0AF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C6A5-A849-49BA-8E3B-DD089D38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7812-774E-4539-A71B-0F5A3EE3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4C03-853C-49AB-B916-042556F6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D62-CFEE-4FC4-AAD0-03846E4B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8B68-3A43-4228-832F-0175A9B9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A7D4-7121-43F7-80F3-9084B835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2297-7F17-459D-BB9E-4B3F2EFF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9930-BBCE-41ED-9060-FF4454D1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D468-922B-45A7-8769-6AC83200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0B5E5-2378-429C-A992-861EA878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3276E-F332-427E-BAAE-06EB3D14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BFB19-99E3-4BDD-A960-0E231FD7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181E1-DA1E-4B8D-B922-DFF44DD0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5E969-BB26-40F5-BB3E-025CAD71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7B8-D986-46F0-9896-A0290818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49F7E-45B1-4828-A6F3-3D0B493F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E595B-A6FA-4F02-A253-B2D2C26B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2C5EA-DDC5-49B3-BD17-B1703614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E1CE8-1131-4E42-B211-7B04DA64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7E124-8B61-498F-A414-47CCE295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F47CA-5BF7-427E-89A0-6FFA8B0A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763DA-AC53-4107-AC94-767C1C25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2B80-257A-4B28-9B3A-409D9FAB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E80-96EE-442A-8E5F-54A43A5D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2DA-B957-42CF-913C-8FEE6089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987-D77B-4CD3-B27E-8E25286F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C3AA-ACB5-44C1-B58B-EAEBA0C8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560-EA78-45ED-A962-00CA88E0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36C0-86F3-4B84-8E74-DF5A4A96C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E741-1B62-408E-941F-453019358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BC97-CA6C-4F25-89AB-36B206006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ba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24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l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i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nk generates a profit from the differential between the level of interest it pays for deposits and other sources of funds, and the level of interest it charges in its lending activ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ifference is referred to as the spread between the cost of funds and the loan interest r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rbian din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ar is the currency of Serb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O 4217 code for the dinar is RSD, the thre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identifier is 941, currency symbol is the s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SD or РСД), while the unofficial lo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oquialism din or дин is still in informal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eval din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"Serbian dinar" is mentioned the first back to the reign of Stefan the First-Crowned of the Nemanjić dynasty in 12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the fall of Despot Stefan Lazarević in 1459, most Serbian rulers minted silver dinar coins, except during the Serbian Empire when it was replaced by the stronger pap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in was an important symbol of Serbian statehood in the Middle 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 dinar 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modern dinar: 1868-19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modern dinar: 1941-19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modern dinar: 200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 dinar paper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943600" y="4038480"/>
            <a:ext cx="1692360" cy="1768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2057400" cy="1768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324480" y="1447920"/>
            <a:ext cx="2057400" cy="1692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1219320" y="4038480"/>
            <a:ext cx="2073240" cy="1844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3657600" y="4343400"/>
            <a:ext cx="1920960" cy="17683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 dinar co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ational Bank of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ational Bank of Serbia is the central bank of the Serbia and its main responsibilities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tection of price stability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enance of financial stabil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ational Bank of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functions of the National Bank of Serbia inclu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rmine and implement the monetary polic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rmine and implement the dinar exchange rate polic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nage the foreign currency reser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ssue banknotes and coins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intain efficient payment and financial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earn money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3075120"/>
        </p:xfrm>
        <a:graphic>
          <a:graphicData uri="http://schemas.openxmlformats.org/drawingml/2006/table">
            <a:tbl>
              <a:tblPr/>
              <a:tblGrid>
                <a:gridCol w="942840"/>
                <a:gridCol w="1114560"/>
                <a:gridCol w="2438280"/>
                <a:gridCol w="3733920"/>
              </a:tblGrid>
              <a:tr h="81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дна недељ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атска ц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Ци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ирење знања стручног енглеског језика из области менаџмент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атска ј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научити појмове и термине на тему новца на енглеском јези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es money grow on trees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191120" y="990720"/>
            <a:ext cx="4476600" cy="5562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441972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495680" cy="4464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743200" y="3048120"/>
            <a:ext cx="6248520" cy="2590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 rot="19621800">
            <a:off x="4149720" y="95040"/>
            <a:ext cx="4322880" cy="25383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ork for mone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’s up to you to decid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the following questions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“mone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urr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banks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unctions of the National Bank of Serb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exchange 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научити појмове и термине на тему новца на енглеском јези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davanje I diskus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uses of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change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bian d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tional Bank of Ser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earn mone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4000"/>
          </a:bodyPr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 is anything that is generally 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ayment for goods and servic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yment of deb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uses of money are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5160" indent="-155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dium of ex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5160" indent="-155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nit of account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5160" indent="-155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ore of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story of money spans thousands of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money was a form of receipting grain stored in temple granaries in ancient Egypt and Mesopotam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657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rency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cy is the prevalent money accepted for exchange of goods in an econo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exchange rates, which are the prices at which currencies (and the goods and services of individual currency zones) can be exchanged against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change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change rates between two currencies specifies how much one currency is worth in terms of the other. It is the value of a foreign nation’s currency in terms of the home nation’s curr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nk is licensed by a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primary activity is to lend mone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ther financial activities were allowed 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risnik</cp:lastModifiedBy>
  <dcterms:modified xsi:type="dcterms:W3CDTF">2010-05-07T12:44:47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