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F07FB-214C-4C9C-8941-5CD27BB21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E734B-48F6-4D9E-AE2D-A88434175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6A188-A106-463A-A65B-4E757E46E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929FE-6C85-4017-8FF1-B83ADB7D9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BCAD5B-BF93-4A40-A4F3-C9922F93F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D57F6-E3C7-4FBC-A0E6-5666CD8A2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0CB51-90B3-4242-BBD6-EE18488DA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CF5B5-607B-48F8-BA1B-A94D7C9FD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B5CCD-D8A3-4196-B16A-8FCFEC0D7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C8A0B-4A34-4F38-92E5-72C28142B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DC310-0ADF-41E9-8098-034772F9B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288D5-B00A-4063-8308-0F986E2E7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7DBA3-CD50-44D5-9469-12AC6FC8D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1DEC2-9AF4-4863-A884-7EDC9E161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22EEB-3016-4AC9-83C4-E093B5E30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72800-CFE0-4672-BCA6-310FE4340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40BFA-A1FA-4715-A2E0-CCE8D70F6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A656DD-5D66-44E8-974F-503F87A788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289BE-F2FC-49CE-A2A5-3E9D9D6CF1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40F459-78D3-43FE-8A3A-D273646961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FF642-5858-4411-9AF8-630CC442A2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936B2F-F227-41F2-BD95-F9F3DAEF1C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0D488-DE47-4CAB-A328-48AA689BA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6C80A0-11D4-4F65-8CF4-D8B0670F6C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4394A-0700-4E82-AEF5-557B2744B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895CF-94E9-47F3-BAF0-B43A7BA634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C5079-16E7-4923-B111-AC9B04221A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D76209-7DA3-47C1-B398-639C5E8C9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96C8A9-54A0-41E9-A614-6C136971CC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0D76BE-263C-4D31-A7A6-1BAE049AB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7FFAB-B10D-45CC-B591-8296588FA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FF602-A8F8-4FDC-AC34-5EE91325A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ACCF6-7AB5-46E5-B4AF-0C01AB5DD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900B0-27C5-46D1-AF39-6E9FF7792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6A374-DB74-41BD-9E2E-A23D6DEE0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83355-C9A4-4DB8-B776-35C5C55DF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A924-00ED-473F-83A6-56137BADB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2E2C-9012-4524-AE2C-0977A7A088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B2F8-E318-4217-84B2-40DA50604F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sp>
        <p:nvSpPr>
          <p:cNvPr id="143" name=""/>
          <p:cNvSpPr txBox="1"/>
          <p:nvPr/>
        </p:nvSpPr>
        <p:spPr>
          <a:xfrm>
            <a:off x="457200" y="1600200"/>
            <a:ext cx="4038480" cy="4525920"/>
          </a:xfrm>
          <a:prstGeom prst="rect">
            <a:avLst/>
          </a:prstGeom>
          <a:noFill/>
          <a:ln w="0">
            <a:noFill/>
          </a:ln>
        </p:spPr>
        <p:txBody>
          <a:bodyPr anchor="t">
            <a:normAutofit/>
          </a:bodyPr>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oftware</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jan horse program</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Management </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tising</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txBox="1"/>
          <p:nvPr/>
        </p:nvSpPr>
        <p:spPr>
          <a:xfrm>
            <a:off x="4648320" y="1600200"/>
            <a:ext cx="4038480" cy="4525920"/>
          </a:xfrm>
          <a:prstGeom prst="rect">
            <a:avLst/>
          </a:prstGeom>
          <a:noFill/>
          <a:ln w="0">
            <a:noFill/>
          </a:ln>
        </p:spPr>
        <p:txBody>
          <a:bodyPr anchor="t">
            <a:normAutofit/>
          </a:bodyPr>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preneurship</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cy</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lations</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Management</a:t>
            </a:r>
            <a:endParaRPr b="0" lang="en-US" sz="2400" spc="-1" strike="noStrike">
              <a:solidFill>
                <a:srgbClr val="000000"/>
              </a:solidFill>
              <a:latin typeface="Arial"/>
            </a:endParaRPr>
          </a:p>
          <a:p>
            <a:pPr marL="5144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Research </a:t>
            </a:r>
            <a:endParaRPr b="0" lang="en-US" sz="2400" spc="-1" strike="noStrike">
              <a:solidFill>
                <a:srgbClr val="000000"/>
              </a:solidFill>
              <a:latin typeface="Arial"/>
            </a:endParaRPr>
          </a:p>
          <a:p>
            <a:pPr marL="514440" indent="-514440">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on Managem</a:t>
            </a:r>
            <a:r>
              <a:rPr b="0" lang="en-US" sz="2800" spc="-1" strike="noStrike">
                <a:solidFill>
                  <a:srgbClr val="000000"/>
                </a:solidFill>
                <a:latin typeface="Arial"/>
              </a:rPr>
              <a:t>ent</a:t>
            </a: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graphicFrame>
        <p:nvGraphicFramePr>
          <p:cNvPr id="127"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 Revis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Обнављање претходно обрађених тематских целина и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r>
                        <a:rPr b="0" lang="sr-CS" sz="1400" spc="-1" strike="noStrike">
                          <a:solidFill>
                            <a:srgbClr val="000000"/>
                          </a:solidFill>
                          <a:latin typeface="Arial"/>
                        </a:rPr>
                        <a:t>.</a:t>
                      </a:r>
                      <a:r>
                        <a:rPr b="0" lang="en-GB" sz="1400" spc="-1" strike="noStrike">
                          <a:solidFill>
                            <a:srgbClr val="000000"/>
                          </a:solidFill>
                          <a:latin typeface="Arial"/>
                        </a:rPr>
                        <a:t>1</a:t>
                      </a:r>
                      <a:r>
                        <a:rPr b="0" lang="sr-CS" sz="1400" spc="-1" strike="noStrike">
                          <a:solidFill>
                            <a:srgbClr val="000000"/>
                          </a:solidFill>
                          <a:latin typeface="Arial"/>
                        </a:rPr>
                        <a:t>  </a:t>
                      </a:r>
                      <a:r>
                        <a:rPr b="0" lang="en-US" sz="1400" spc="-1" strike="noStrike">
                          <a:solidFill>
                            <a:srgbClr val="000000"/>
                          </a:solidFill>
                          <a:latin typeface="Arial"/>
                        </a:rPr>
                        <a:t>Revising Business Terminolog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Студент ће обновити знање претходно усвојене терминологије на пословном енглеском јези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r>
                        <a:rPr b="0" lang="sr-CS" sz="1400" spc="-1" strike="noStrike">
                          <a:solidFill>
                            <a:srgbClr val="000000"/>
                          </a:solidFill>
                          <a:latin typeface="Arial"/>
                        </a:rPr>
                        <a:t>.</a:t>
                      </a:r>
                      <a:r>
                        <a:rPr b="0" lang="en-GB" sz="1400" spc="-1" strike="noStrike">
                          <a:solidFill>
                            <a:srgbClr val="000000"/>
                          </a:solidFill>
                          <a:latin typeface="Arial"/>
                        </a:rPr>
                        <a:t>1</a:t>
                      </a:r>
                      <a:r>
                        <a:rPr b="0" lang="sr-CS" sz="1400" spc="-1" strike="noStrike">
                          <a:solidFill>
                            <a:srgbClr val="000000"/>
                          </a:solidFill>
                          <a:latin typeface="Arial"/>
                        </a:rPr>
                        <a:t>  </a:t>
                      </a:r>
                      <a:r>
                        <a:rPr b="0" lang="en-US" sz="1400" spc="-1" strike="noStrike">
                          <a:solidFill>
                            <a:srgbClr val="000000"/>
                          </a:solidFill>
                          <a:latin typeface="Arial"/>
                        </a:rPr>
                        <a:t>Revising Business Terminolog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Студент ће обновити знање претходно усвојене терминологије на пословном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ranslate the following paragrap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0" i="1" lang="sr-Latn-CS" sz="2400" spc="-1" strike="noStrike">
                <a:solidFill>
                  <a:srgbClr val="000000"/>
                </a:solidFill>
                <a:latin typeface="Arial"/>
              </a:rPr>
              <a:t>Computer software is loaded into a computer's storage (such as a hard drive, a memory, or RAM). Once the software is loaded, the computer is able to execute the software in the Central Processing Unit (CPU). This involves passing instructions from the application software, through the system software, to the hardware which ultimately receives the instruction as a machine code. Each instruction causes the computer to carry out an operation – to move data, carry out a computation, or alter the control flow of instruction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sp>
        <p:nvSpPr>
          <p:cNvPr id="135" name="PlaceHolder 2"/>
          <p:cNvSpPr>
            <a:spLocks noGrp="1"/>
          </p:cNvSpPr>
          <p:nvPr>
            <p:ph/>
          </p:nvPr>
        </p:nvSpPr>
        <p:spPr>
          <a:xfrm>
            <a:off x="457200" y="1219320"/>
            <a:ext cx="8229600" cy="4906800"/>
          </a:xfrm>
          <a:prstGeom prst="rect">
            <a:avLst/>
          </a:prstGeom>
          <a:noFill/>
          <a:ln w="0">
            <a:noFill/>
          </a:ln>
        </p:spPr>
        <p:txBody>
          <a:bodyPr anchor="t">
            <a:normAutofit fontScale="94000"/>
          </a:bodyPr>
          <a:p>
            <a:pPr marL="322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a:t>
            </a:r>
            <a:r>
              <a:rPr b="0" i="1" lang="sr-Latn-CS" sz="2400" spc="-1" strike="noStrike">
                <a:solidFill>
                  <a:srgbClr val="000000"/>
                </a:solidFill>
                <a:latin typeface="Arial"/>
              </a:rPr>
              <a:t>ISO standards contribute to making the development, manufacturing and supply of products and services more efficient, safer and cleaner. They make trade between countries easier and fairer. They provide govemments with a technical base for health, safety and environmental legislation. They aid in transferring technology to developing countries. ISO standards also serve to safeguard consumers, and users in general, of products and services - as well as to make their lives simpler.</a:t>
            </a:r>
            <a:r>
              <a:rPr b="0" i="1" lang="en-GB" sz="2400" spc="-1" strike="noStrike">
                <a:solidFill>
                  <a:srgbClr val="000000"/>
                </a:solidFill>
                <a:latin typeface="Arial"/>
              </a:rPr>
              <a:t>  </a:t>
            </a:r>
            <a:r>
              <a:rPr b="0" i="1" lang="sr-Latn-CS" sz="2400" spc="-1" strike="noStrike">
                <a:solidFill>
                  <a:srgbClr val="000000"/>
                </a:solidFill>
                <a:latin typeface="Arial"/>
              </a:rPr>
              <a:t>When things go well - for example, when systems, machinery and devices work well and safely - then it is because they conform to standards. And the organization responsible for many thousands of the standards which benefit society world wide is ISO.</a:t>
            </a:r>
            <a:endParaRPr b="0" lang="en-US" sz="2400" spc="-1" strike="noStrike">
              <a:solidFill>
                <a:srgbClr val="000000"/>
              </a:solidFill>
              <a:latin typeface="Arial"/>
            </a:endParaRPr>
          </a:p>
          <a:p>
            <a:pPr marL="322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sp>
        <p:nvSpPr>
          <p:cNvPr id="137" name="PlaceHolder 2"/>
          <p:cNvSpPr>
            <a:spLocks noGrp="1"/>
          </p:cNvSpPr>
          <p:nvPr>
            <p:ph/>
          </p:nvPr>
        </p:nvSpPr>
        <p:spPr>
          <a:xfrm>
            <a:off x="457200" y="1143000"/>
            <a:ext cx="8229600" cy="4983120"/>
          </a:xfrm>
          <a:prstGeom prst="rect">
            <a:avLst/>
          </a:prstGeom>
          <a:noFill/>
          <a:ln w="0">
            <a:noFill/>
          </a:ln>
        </p:spPr>
        <p:txBody>
          <a:bodyPr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c)    </a:t>
            </a:r>
            <a:r>
              <a:rPr b="0" i="1" lang="en-US" sz="2400" spc="-1" strike="noStrike">
                <a:solidFill>
                  <a:srgbClr val="000000"/>
                </a:solidFill>
                <a:latin typeface="Arial"/>
              </a:rPr>
              <a:t>This managerial function is concerned with anticipating the future and determining the best course of action to achieve organizational objectives. Planning lays the groundwork for all the other functions of management. It is a continual process that answers the questions of what should be done, by whom, where, when and how. Planning achieves its ends by identifying both the resources and the number and type of personnel the organization will need, as well as by determining the standard against which the progress toward the objectives can be measured. Finally, planning can be classified into three separate categories, namely strategic planning, tactical planning and operational planning. </a:t>
            </a: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ng Business Terminology</a:t>
            </a:r>
            <a:endParaRPr b="0" lang="en-US" sz="3200" spc="-1" strike="noStrike">
              <a:solidFill>
                <a:srgbClr val="ffffff"/>
              </a:solidFill>
              <a:latin typeface="Arial"/>
            </a:endParaRPr>
          </a:p>
        </p:txBody>
      </p:sp>
      <p:sp>
        <p:nvSpPr>
          <p:cNvPr id="139"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a:t>
            </a:r>
            <a:r>
              <a:rPr b="0" i="1" lang="en-GB" sz="2400" spc="-1" strike="noStrike">
                <a:solidFill>
                  <a:srgbClr val="000000"/>
                </a:solidFill>
                <a:latin typeface="Arial"/>
              </a:rPr>
              <a:t>Operations management is an area of business concerned with the production of goods and services, and involves the responsibility of ensuring that business operations are efficient in terms of using as little resource as needed, and effective in terms of meeting customer requirements. It is concerned with managing the process that converts inputs (in the forms of materials, labour and energy) into outputs (in the form of goods and services). Operations traditionally refers to the production of goods and services separately, although the distinction between these two main types of operations is increasingly difficult to make as manufacturers tend to merge product and service offerings</a:t>
            </a:r>
            <a:r>
              <a:rPr b="0" i="1"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Define the following terms in your own word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Jelena Plecas</cp:lastModifiedBy>
  <dcterms:modified xsi:type="dcterms:W3CDTF">2010-05-09T23:16:13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