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6F248-B7A4-41D9-8B34-AD3714133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729B1-94CA-423B-BB00-FCCCDE38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61BAB-33B6-45E0-B33B-2759F85B3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37858-5740-4593-9530-5842ACD20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2B0F2-1312-47DE-89B2-01B988718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AE300-AEDB-4429-9152-2E205E9AC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B4B0E-4420-4FCE-B960-A57E56DF5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5D8E3-B686-4549-A6F7-95C206B2D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F0F89-3466-4F64-B3C4-567ADF06E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F6A25-1FCC-4711-A5DF-472D179D9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737D0-D3C5-4C57-84F2-F8DA85639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5D9C-2AEC-4119-83DB-155AC636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975A-DC81-4AC5-BF51-F0E2E4EBC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D2BD-35D6-4D27-A6F5-BC1FAA439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48956-1A2E-4B3B-81F1-0901740C1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D0B3C-A95A-4672-8776-0B87A8811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3CF65-071A-4E43-AEC1-7B334116C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D28BC-4C29-4442-BB63-560EE4DD6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89EC8-4616-41D8-9E09-639AA2728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8E176-B194-4ECD-BD55-60DCA19CE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6E2A8-26B7-476F-B0EE-86DC12F53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517FD-2A47-477E-BBB6-3039EE3CB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6DC48-2B4F-4DB5-B5E2-CDBF3B50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2844A-85A7-42AC-972A-558E84CE5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3B3FC-8D26-4B13-AFE7-FC0473ADB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340B5-FADA-4A95-93B9-0899C8A8E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10B39-E0C6-4560-98BA-6592C1DA3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38E52-180B-4BB0-B355-CA437C3FD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87305D-D8C8-455C-A9FD-BD4FEE24B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5F1363-539F-4A02-89AB-82BA0E6DE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F7749-88C5-4AE5-9F42-B623F5CCD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42EDD-DA1A-405B-B8C5-0A5590CFE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9E275-1472-4645-B5EC-CA1EC10B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EA4BE-8439-4BF0-A638-D552D075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0C5B-A0B4-4A8C-B5FB-6EB668A8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0D564-D15A-4411-9BE7-540A6BF41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3FA6-6468-48E7-8476-20DE2FFA4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0F78-6BF5-40EE-8BD8-62DD50A43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7D94-885F-4517-9DF8-292EF4A48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nd computer science</a:t>
            </a:r>
            <a:endParaRPr b="0" lang="en-US" sz="32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computational nature of these fields, OR also has ties to computer science, and operations researchers use custom-written and off-the-shelf softw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research is distinguished by its frequent use to examine an entire management information system, rather than concentrating only on specific elements (though this is often done as we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s researcher</a:t>
            </a:r>
            <a:endParaRPr b="0" lang="en-US" sz="32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ions researcher faced with a new problem is expected to determine which techniques are most appropriate given the nature of the system, the goals for improvement, and constraints on time and computing pow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is and other reasons, the human element of OR is vital. Like any other tools, OR techniques cannot solve problems by themsel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OR applications</a:t>
            </a:r>
            <a:endParaRPr b="0" lang="en-US" sz="32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itical path analysis or project plan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those processes in a complex project which affect the overall duration of the proj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ing the layout of a factory for efficient flow of mate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pplications</a:t>
            </a:r>
            <a:endParaRPr b="0" lang="en-US" sz="3200" spc="-1" strike="noStrike">
              <a:solidFill>
                <a:srgbClr val="ffffff"/>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ng a telecommunication network at low cost while still guaranteeing qos (quality of service) or qoe (quality of experience) if particular connections become very busy or get damaged road traffic management and 'one way' street allocations i.E. Allocation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the routes of school buses (or city buses) so that as few buses are needed as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pplications</a:t>
            </a:r>
            <a:endParaRPr b="0" lang="en-US" sz="3200" spc="-1" strike="noStrike">
              <a:solidFill>
                <a:srgbClr val="ffffff"/>
              </a:solidFill>
              <a:latin typeface="Arial"/>
            </a:endParaRPr>
          </a:p>
        </p:txBody>
      </p:sp>
      <p:sp>
        <p:nvSpPr>
          <p:cNvPr id="153"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the layout of a computer chip to reduce manufacturing time (therefore reducing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ing of raw materials in oil refin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he flow of raw materials and products in a supply chain based on uncertain demand for the finished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pplications</a:t>
            </a:r>
            <a:endParaRPr b="0" lang="en-US" sz="3200" spc="-1" strike="noStrike">
              <a:solidFill>
                <a:srgbClr val="ffffff"/>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essaging and customer response tac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oticizing or automating human-driven operations 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ing operations processes in order to take advantage of cheaper materials, labor, land or other productivity inpu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ther OR Applications</a:t>
            </a:r>
            <a:endParaRPr b="0" lang="en-US" sz="3200" spc="-1" strike="noStrike">
              <a:solidFill>
                <a:srgbClr val="ffffff"/>
              </a:solidFill>
              <a:latin typeface="Arial"/>
            </a:endParaRPr>
          </a:p>
        </p:txBody>
      </p:sp>
      <p:sp>
        <p:nvSpPr>
          <p:cNvPr id="157" name="PlaceHolder 2"/>
          <p:cNvSpPr>
            <a:spLocks noGrp="1"/>
          </p:cNvSpPr>
          <p:nvPr>
            <p:ph/>
          </p:nvPr>
        </p:nvSpPr>
        <p:spPr>
          <a:xfrm>
            <a:off x="609480" y="10666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ther areas where OR techniques have been proven to be useful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ventory cont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rehouse design, storage and retrieval, order pi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ehicle rou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livery transport mode se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pacity and manpower plan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tion schedul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2400" spc="-1" strike="noStrike">
                <a:solidFill>
                  <a:srgbClr val="000000"/>
                </a:solidFill>
                <a:latin typeface="Arial"/>
              </a:rPr>
              <a:t>and other resource usage and allocation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ther OR Applications</a:t>
            </a:r>
            <a:endParaRPr b="0" lang="en-US" sz="2800" spc="-1" strike="noStrike">
              <a:solidFill>
                <a:srgbClr val="ffffff"/>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ellogg’s</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argest cereal producer in the world.</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P-based operational planning (production, inventory, distribution) system saved $4.5 million in 1995.</a:t>
            </a:r>
            <a:endParaRPr b="0" lang="en-US" sz="20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cter and Gamble</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large worldwide consumer goods company.</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tilised integer programming and network optimization worked in concert with Geographical Information System (GIS) to re-engineering product sourcing and distribution system for North America.</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aved over $200 million in cost per year.</a:t>
            </a:r>
            <a:endParaRPr b="0" lang="en-US" sz="2000" spc="-1" strike="noStrike">
              <a:solidFill>
                <a:srgbClr val="000000"/>
              </a:solidFill>
              <a:latin typeface="Arial"/>
            </a:endParaRPr>
          </a:p>
          <a:p>
            <a:pPr marL="281160" indent="-281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ewlett-Packard</a:t>
            </a:r>
            <a:endParaRPr b="0" lang="en-US" sz="24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obust supply chain design based on advanced inventory optimization techniques.</a:t>
            </a:r>
            <a:endParaRPr b="0" lang="en-US" sz="2000" spc="-1" strike="noStrike">
              <a:solidFill>
                <a:srgbClr val="000000"/>
              </a:solidFill>
              <a:latin typeface="Arial"/>
            </a:endParaRPr>
          </a:p>
          <a:p>
            <a:pPr lvl="1" marL="609120" indent="-234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lized savings of over $130 million in 2004</a:t>
            </a:r>
            <a:endParaRPr b="0" lang="en-US" sz="20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urce: Interfaces</a:t>
            </a:r>
            <a:endParaRPr b="0" lang="en-US" sz="2400" spc="-1" strike="noStrike">
              <a:solidFill>
                <a:srgbClr val="000000"/>
              </a:solidFill>
              <a:latin typeface="Arial"/>
            </a:endParaRPr>
          </a:p>
        </p:txBody>
      </p:sp>
      <p:pic>
        <p:nvPicPr>
          <p:cNvPr id="160" name="Picture 1029" descr="Kelloggs_logo"/>
          <p:cNvPicPr/>
          <p:nvPr/>
        </p:nvPicPr>
        <p:blipFill>
          <a:blip r:embed="rId1"/>
          <a:stretch/>
        </p:blipFill>
        <p:spPr>
          <a:xfrm>
            <a:off x="6804000" y="1341360"/>
            <a:ext cx="2000160" cy="525600"/>
          </a:xfrm>
          <a:prstGeom prst="rect">
            <a:avLst/>
          </a:prstGeom>
          <a:ln w="0">
            <a:noFill/>
          </a:ln>
        </p:spPr>
      </p:pic>
      <p:pic>
        <p:nvPicPr>
          <p:cNvPr id="161" name="Picture 1031" descr="pgcom_logo"/>
          <p:cNvPicPr/>
          <p:nvPr/>
        </p:nvPicPr>
        <p:blipFill>
          <a:blip r:embed="rId2"/>
          <a:stretch/>
        </p:blipFill>
        <p:spPr>
          <a:xfrm>
            <a:off x="7989840" y="4076640"/>
            <a:ext cx="903240" cy="446040"/>
          </a:xfrm>
          <a:prstGeom prst="rect">
            <a:avLst/>
          </a:prstGeom>
          <a:ln w="0">
            <a:noFill/>
          </a:ln>
        </p:spPr>
      </p:pic>
      <p:pic>
        <p:nvPicPr>
          <p:cNvPr id="162" name="Picture 1032" descr="HP_Logo"/>
          <p:cNvPicPr/>
          <p:nvPr/>
        </p:nvPicPr>
        <p:blipFill>
          <a:blip r:embed="rId3"/>
          <a:stretch/>
        </p:blipFill>
        <p:spPr>
          <a:xfrm>
            <a:off x="6156360" y="5384880"/>
            <a:ext cx="2663640" cy="121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Answer the following questions:</a:t>
            </a:r>
            <a:br>
              <a:rPr sz="2800"/>
            </a:br>
            <a:endParaRPr b="0" lang="en-US" sz="2800" spc="-1" strike="noStrike">
              <a:solidFill>
                <a:srgbClr val="ffffff"/>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distinctions between OR and management science, computer science, and industrial engineering.</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OR tool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characteristics of a good operations research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examples of OR application and expl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s Research</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r>
                        <a:rPr b="1" lang="sr-CS" sz="1400" spc="-1" strike="noStrike">
                          <a:solidFill>
                            <a:srgbClr val="000000"/>
                          </a:solidFill>
                          <a:latin typeface="Arial"/>
                        </a:rPr>
                        <a:t>. </a:t>
                      </a:r>
                      <a:r>
                        <a:rPr b="1"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операционог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a:t>
                      </a:r>
                      <a:r>
                        <a:rPr b="0" lang="en-GB" sz="1400" spc="-1" strike="noStrike">
                          <a:solidFill>
                            <a:srgbClr val="000000"/>
                          </a:solidFill>
                          <a:latin typeface="Arial"/>
                        </a:rPr>
                        <a:t>2</a:t>
                      </a:r>
                      <a:r>
                        <a:rPr b="0" lang="sr-CS" sz="1400" spc="-1" strike="noStrike">
                          <a:solidFill>
                            <a:srgbClr val="000000"/>
                          </a:solidFill>
                          <a:latin typeface="Arial"/>
                        </a:rPr>
                        <a:t>  </a:t>
                      </a:r>
                      <a:r>
                        <a:rPr b="0" lang="en-US" sz="1400" spc="-1" strike="noStrike">
                          <a:solidFill>
                            <a:srgbClr val="000000"/>
                          </a:solidFill>
                          <a:latin typeface="Arial"/>
                        </a:rPr>
                        <a:t>Operations Resear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s Research</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a:t>
                      </a:r>
                      <a:r>
                        <a:rPr b="0" lang="en-GB" sz="1400" spc="-1" strike="noStrike">
                          <a:solidFill>
                            <a:srgbClr val="000000"/>
                          </a:solidFill>
                          <a:latin typeface="Arial"/>
                        </a:rPr>
                        <a:t>2</a:t>
                      </a:r>
                      <a:r>
                        <a:rPr b="0" lang="sr-CS" sz="1400" spc="-1" strike="noStrike">
                          <a:solidFill>
                            <a:srgbClr val="000000"/>
                          </a:solidFill>
                          <a:latin typeface="Arial"/>
                        </a:rPr>
                        <a:t>  </a:t>
                      </a:r>
                      <a:r>
                        <a:rPr b="0" lang="en-US" sz="1400" spc="-1" strike="noStrike">
                          <a:solidFill>
                            <a:srgbClr val="000000"/>
                          </a:solidFill>
                          <a:latin typeface="Arial"/>
                        </a:rPr>
                        <a:t>Operations Resear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ffffff"/>
                </a:solidFill>
                <a:latin typeface="Arial"/>
              </a:rPr>
              <a:t>Operations Research:</a:t>
            </a:r>
            <a:br>
              <a:rPr sz="3600"/>
            </a:br>
            <a:endParaRPr b="0" lang="en-US" sz="3600" spc="-1" strike="noStrike">
              <a:solidFill>
                <a:srgbClr val="ffffff"/>
              </a:solidFill>
              <a:latin typeface="Arial"/>
            </a:endParaRPr>
          </a:p>
        </p:txBody>
      </p:sp>
      <p:sp>
        <p:nvSpPr>
          <p:cNvPr id="131" name="PlaceHolder 2"/>
          <p:cNvSpPr>
            <a:spLocks noGrp="1"/>
          </p:cNvSpPr>
          <p:nvPr>
            <p:ph/>
          </p:nvPr>
        </p:nvSpPr>
        <p:spPr>
          <a:xfrm>
            <a:off x="457200" y="1600200"/>
            <a:ext cx="4044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6" descr="nurse"/>
          <p:cNvPicPr/>
          <p:nvPr/>
        </p:nvPicPr>
        <p:blipFill>
          <a:blip r:embed="rId1"/>
          <a:srcRect l="0" t="0" r="55129" b="0"/>
          <a:stretch/>
        </p:blipFill>
        <p:spPr>
          <a:xfrm>
            <a:off x="522360" y="1600200"/>
            <a:ext cx="3995640" cy="4465800"/>
          </a:xfrm>
          <a:prstGeom prst="rect">
            <a:avLst/>
          </a:prstGeom>
          <a:ln w="0">
            <a:noFill/>
          </a:ln>
        </p:spPr>
      </p:pic>
      <p:pic>
        <p:nvPicPr>
          <p:cNvPr id="133" name="Picture 8" descr="childcare"/>
          <p:cNvPicPr/>
          <p:nvPr/>
        </p:nvPicPr>
        <p:blipFill>
          <a:blip r:embed="rId2"/>
          <a:stretch/>
        </p:blipFill>
        <p:spPr>
          <a:xfrm>
            <a:off x="4641840" y="1658880"/>
            <a:ext cx="4044960" cy="440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s Research</a:t>
            </a:r>
            <a:r>
              <a:rPr b="0" lang="en-US" sz="3200" spc="-1" strike="noStrike">
                <a:solidFill>
                  <a:srgbClr val="000000"/>
                </a:solidFill>
                <a:latin typeface="Arial"/>
              </a:rPr>
              <a:t> (in North America, South Africa and Australia),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al Research</a:t>
            </a:r>
            <a:r>
              <a:rPr b="0" lang="en-US" sz="3200" spc="-1" strike="noStrike">
                <a:solidFill>
                  <a:srgbClr val="000000"/>
                </a:solidFill>
                <a:latin typeface="Arial"/>
              </a:rPr>
              <a:t> (in Europ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erdisciplinary branch of applied mathematics and formal science that uses methods such as mathematical modelling, statistics and algorhithms to arrive at optimal or near optimal solutions to complex probl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p:txBody>
      </p:sp>
      <p:sp>
        <p:nvSpPr>
          <p:cNvPr id="137"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t is typically concerned with optim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xima (profit, assembly line performance, crop yield, bandwidth, et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 (loss, risk, etc.) of some objective fun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erations research helps management achieve its goals using the scientific process. It is also used extensively in government where evidence - based policy is u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vs. MS</a:t>
            </a:r>
            <a:endParaRPr b="0" lang="en-US" sz="32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rms operations research and management science are often used synonymous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 distinction is drawn, management science generally implies a closer relationship to the problems of business manag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vs. IE</a:t>
            </a: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rations research also closely relates to Industrial enginee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ustrial engineering takes more of an engineering point of view, and industrial engineers typically consider Operations Research (OR) techniques to be a major part of their tools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s</a:t>
            </a:r>
            <a:endParaRPr b="0" lang="en-US" sz="32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of the primary tools used by operations researchers ar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s,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ation,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ing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theory,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analysis, </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3:30:22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