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D2C-2789-418B-A95C-87285AF4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FAE-38CD-4154-821C-4F05EEE7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2B5-AB3E-4735-A404-4CC986C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9CE-2D13-4E20-A0DC-347E52F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C00E-7DF5-4B48-8F39-29259670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E880-6F8C-4B08-A43A-B76AA72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B18-90FC-408E-903A-2A247DE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C6A-DBE6-4377-B9CD-F33CFDD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5E95-1350-4A7C-B4A4-3CEFC6AC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1CE-B0EC-4DF7-B0A3-5F2EC36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68E-F316-4B6F-87A2-3C9488A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57A-1889-4682-AF09-66014793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7C35-928E-4D99-910D-BB96FA3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8B9-6863-4C79-8C43-B079993E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A461-340F-41C2-93E6-51335E72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CB3-FB7E-47D6-8EE9-0ED010BB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9CB-221F-4346-927C-5A2A4163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E042-89DF-46B9-AA0F-3A91FA8E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D883-208D-4AEE-B625-05E8878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9AB5-C01E-429B-AD33-2A2CA71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0418-AAA7-44A1-A205-C13B4834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DCEB-4EBF-4DD4-90B9-3E398A7D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06F-5F0A-49BD-9265-F226CFA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EFC7-13D8-4BBB-A18E-B1B42EE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59C7-5241-455D-B9AE-7AC0A71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1CFD2-7EAC-43BB-800C-39FBCBC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961F-998C-470D-AC95-B51675B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5CD6-5E23-47B1-A288-EAA5277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1645-8A85-4FEA-8FB0-26E6DF1C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60F8-3A08-46E0-8CAE-7B59418B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87B-90CE-4D41-BE86-AF7EA1E0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859-E830-4131-ABC1-E282E7B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FCB-6616-4823-B54A-FC897E0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A23-2534-41F8-9F79-327AB88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5FA-2D8D-4566-A121-7B831D1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B36-2F90-4A09-972E-D37D705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B42-4023-4FB6-AB5A-D160171F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8609-297D-42F3-8AE3-670EF142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B643-32F4-400A-AD07-356181F3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fluence of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52040" y="1315440"/>
            <a:ext cx="7944120" cy="4914360"/>
            <a:chOff x="752040" y="1315440"/>
            <a:chExt cx="7944120" cy="4914360"/>
          </a:xfrm>
        </p:grpSpPr>
        <p:sp>
          <p:nvSpPr>
            <p:cNvPr id="147" name="_s77829"/>
            <p:cNvSpPr/>
            <p:nvPr/>
          </p:nvSpPr>
          <p:spPr>
            <a:xfrm flipH="1">
              <a:off x="2738160" y="3772440"/>
              <a:ext cx="992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7830"/>
            <p:cNvSpPr/>
            <p:nvPr/>
          </p:nvSpPr>
          <p:spPr>
            <a:xfrm>
              <a:off x="752040" y="3158280"/>
              <a:ext cx="1985760" cy="1228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7831"/>
            <p:cNvSpPr/>
            <p:nvPr/>
          </p:nvSpPr>
          <p:spPr>
            <a:xfrm>
              <a:off x="4723920" y="4386600"/>
              <a:ext cx="0" cy="61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77832"/>
            <p:cNvSpPr/>
            <p:nvPr/>
          </p:nvSpPr>
          <p:spPr>
            <a:xfrm>
              <a:off x="3731040" y="5001480"/>
              <a:ext cx="1985760" cy="1228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7833"/>
            <p:cNvSpPr/>
            <p:nvPr/>
          </p:nvSpPr>
          <p:spPr>
            <a:xfrm>
              <a:off x="5716800" y="3772440"/>
              <a:ext cx="992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77834"/>
            <p:cNvSpPr/>
            <p:nvPr/>
          </p:nvSpPr>
          <p:spPr>
            <a:xfrm>
              <a:off x="6709680" y="3158280"/>
              <a:ext cx="1986480" cy="1228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7835"/>
            <p:cNvSpPr/>
            <p:nvPr/>
          </p:nvSpPr>
          <p:spPr>
            <a:xfrm flipV="1">
              <a:off x="4723920" y="2544120"/>
              <a:ext cx="0" cy="614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7836"/>
            <p:cNvSpPr/>
            <p:nvPr/>
          </p:nvSpPr>
          <p:spPr>
            <a:xfrm>
              <a:off x="3731040" y="1315440"/>
              <a:ext cx="1985760" cy="1228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77837"/>
            <p:cNvSpPr/>
            <p:nvPr/>
          </p:nvSpPr>
          <p:spPr>
            <a:xfrm>
              <a:off x="3731040" y="3158280"/>
              <a:ext cx="1985760" cy="1228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port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 of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ship can be looked at in wider cultural context. The following forms of entrepreneurship can be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 business management and ownership, the interplay between individual and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oriented entrepreneurship, an individual’s self-oriented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sational entre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s collect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preneur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terplay between organisational and individual entrepreneurshi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s of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entrepreneu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ntrepreneur is a person who sees profitable opportunities as a challen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s someone who combines resources and ideas in one project in the aim to produce salable goods or serv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ntrepreneur is both an innovative and a risk-taking person with ideas and visions of how to make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ster’s: “Someone who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usiness at his or her 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ris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ntrepreneur is a person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takes the creation of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or business that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nce of profit (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businessman holding laptop"/>
          <p:cNvPicPr/>
          <p:nvPr/>
        </p:nvPicPr>
        <p:blipFill>
          <a:blip r:embed="rId1"/>
          <a:stretch/>
        </p:blipFill>
        <p:spPr>
          <a:xfrm>
            <a:off x="5181480" y="1600200"/>
            <a:ext cx="2033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our American progress has been the product of the individual who had an idea; pursued it; fashioned it; tenaciously clung to it against all odds; and then produced it, sold it and profited from it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, 19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woman sitting on a chair with a laptop 5"/>
          <p:cNvPicPr/>
          <p:nvPr/>
        </p:nvPicPr>
        <p:blipFill>
          <a:blip r:embed="rId1"/>
          <a:stretch/>
        </p:blipFill>
        <p:spPr>
          <a:xfrm>
            <a:off x="304920" y="990720"/>
            <a:ext cx="2209680" cy="464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man writing in a book 11"/>
          <p:cNvPicPr/>
          <p:nvPr/>
        </p:nvPicPr>
        <p:blipFill>
          <a:blip r:embed="rId2"/>
          <a:stretch/>
        </p:blipFill>
        <p:spPr>
          <a:xfrm>
            <a:off x="2971800" y="1219320"/>
            <a:ext cx="2062080" cy="4190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woman professional writing in book 3"/>
          <p:cNvPicPr/>
          <p:nvPr/>
        </p:nvPicPr>
        <p:blipFill>
          <a:blip r:embed="rId3"/>
          <a:stretch/>
        </p:blipFill>
        <p:spPr>
          <a:xfrm>
            <a:off x="1828800" y="2743200"/>
            <a:ext cx="21002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preneurs who create new businesses primarily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globe 15"/>
          <p:cNvPicPr/>
          <p:nvPr/>
        </p:nvPicPr>
        <p:blipFill>
          <a:blip r:embed="rId1"/>
          <a:stretch/>
        </p:blipFill>
        <p:spPr>
          <a:xfrm>
            <a:off x="6705720" y="990720"/>
            <a:ext cx="208584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hat is Entrepreneurship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30751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дна неде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ц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и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ирење знања стручног енглеског језика из области менаџмен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матска ј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 предузетништв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some success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ten in Chinese the w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osed of two characters. One represents danger and the other represents opport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F. Kennedy, 19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647960" y="1600200"/>
            <a:ext cx="3678120" cy="4005000"/>
            <a:chOff x="4647960" y="1600200"/>
            <a:chExt cx="3678120" cy="4005000"/>
          </a:xfrm>
        </p:grpSpPr>
        <p:sp>
          <p:nvSpPr>
            <p:cNvPr id="186" name="_s83974"/>
            <p:cNvSpPr/>
            <p:nvPr/>
          </p:nvSpPr>
          <p:spPr>
            <a:xfrm>
              <a:off x="6629040" y="1600200"/>
              <a:ext cx="1697040" cy="16970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83975"/>
            <p:cNvSpPr/>
            <p:nvPr/>
          </p:nvSpPr>
          <p:spPr>
            <a:xfrm>
              <a:off x="6324480" y="4190760"/>
              <a:ext cx="16966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Individua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83976"/>
            <p:cNvSpPr/>
            <p:nvPr/>
          </p:nvSpPr>
          <p:spPr>
            <a:xfrm>
              <a:off x="4647960" y="2361960"/>
              <a:ext cx="1697040" cy="16970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83977"/>
            <p:cNvSpPr/>
            <p:nvPr/>
          </p:nvSpPr>
          <p:spPr>
            <a:xfrm>
              <a:off x="4724280" y="5181480"/>
              <a:ext cx="16966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Opportunit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erson, Right Place, 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ess to crucial information -information helpful in recognizing opportunities or formulating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ble to utilize information - to combine it or interpret in ways that reveal the opportunities overlook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individuals use existing knowledge they have gained (and retained) from their experience to generate something new - thoughts they did not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ci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man holding paper 2"/>
          <p:cNvPicPr/>
          <p:nvPr/>
        </p:nvPicPr>
        <p:blipFill>
          <a:blip r:embed="rId1"/>
          <a:stretch/>
        </p:blipFill>
        <p:spPr>
          <a:xfrm>
            <a:off x="838080" y="1447920"/>
            <a:ext cx="19861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523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regulation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ing or developing this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a new business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ntique key 16"/>
          <p:cNvPicPr/>
          <p:nvPr/>
        </p:nvPicPr>
        <p:blipFill>
          <a:blip r:embed="rId1"/>
          <a:stretch/>
        </p:blipFill>
        <p:spPr>
          <a:xfrm>
            <a:off x="1905120" y="4343400"/>
            <a:ext cx="34671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ies of an entrepreneu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handle many tasks simultaneous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esses well-developed problem solving ski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liency in the face of set-ba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to work hard and not expec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deal with a series of tough issu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create solutions and work to perfect th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learn and acquire the necessary skill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sks at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uccessful entrepreneur brings about benefits not only for himself, but for the municipality, region or country as a wh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person sees profit opportunities where others do not: in new products, design, software, services, organization structur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identifies an opportunity, pursues that opportunity beyond his current resources and believes that the opportunity can be achiev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n Entrepren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come a successful entrepreneur, an individual needs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ositive thinker and a decisio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istent and determin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le to take prudent risks and initial responsibility if he wants his vision to become a suc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only some of the benefits that can be derived from entrepreneurial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ormous personal financial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f-employment, offering more job satisfaction and flexibility of the work fo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ment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of more industries, especially in rural areas or regions disadvantaged by economic changes, for example due to globalization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hat is Entrepreneurship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Entrepreneurship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научити појмове и термине из области  предузетништва на енглеском јези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the processing of local materials into finished goods for domestic consumption as well as for ex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generation and increased economic grow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competition thus encourages higher quality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oods and services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new mar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ion of the use of modem technology in small-scale manufacturing to enhance higher produ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ouragement of more researches and development of modem machines and equipment for domestic consum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 of entrepreneurial qualities and attitudes among potential entrepreneurs to bring about significant changes in the rural ar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dom from the dependency on the jobs offered b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 of the informal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following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ntrepreneu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illars of entrepreneu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alities is a good entrepreneur supposed to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nd explain each of the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ting into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entrepreneurial can happen on a spectrum of points in a company's lifecy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preneurship can sometimes mean to start from scratch and create your own things, build out your team, try to recruit the right peop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mean joining an early-revenue start-up or a developing start-up that has an existing te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ting into 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ain domain expertise and build out your network, a late stage start-up could be the right path for you, and even in an IPO-ed company you could find roles in which your day-to-day responsibilities are entrepreneu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your personality type, tolerance to ambiguity, and team and process skills, different stages of entrepreneurship will appeal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 and 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 perspective - focuses on the behavior and thoughts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perspective - focuses primarily on environment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key in understanding the entrepreneuri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eye glasses 4"/>
          <p:cNvPicPr/>
          <p:nvPr/>
        </p:nvPicPr>
        <p:blipFill>
          <a:blip r:embed="rId1"/>
          <a:stretch/>
        </p:blipFill>
        <p:spPr>
          <a:xfrm>
            <a:off x="914400" y="4876920"/>
            <a:ext cx="3467160" cy="16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repreneurshi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 a sort of duty to be rich, that it may be in one’s power to do goo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y Mary Mont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and holding money coins"/>
          <p:cNvPicPr/>
          <p:nvPr/>
        </p:nvPicPr>
        <p:blipFill>
          <a:blip r:embed="rId1"/>
          <a:stretch/>
        </p:blipFill>
        <p:spPr>
          <a:xfrm>
            <a:off x="0" y="31240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of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ing to proceed and assembling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ing a new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vesting the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orisnik</cp:lastModifiedBy>
  <dcterms:modified xsi:type="dcterms:W3CDTF">2010-05-07T12:42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