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AA3-16B7-4087-B53C-9D75D8F0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F75-6B92-4017-9D8A-7B01A569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68C-D3AE-46BA-ADF6-9161E03A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C93-943B-448A-99CB-C215B9EA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51B1-965F-4A4C-8F6D-7FC6B33F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9C1C-7DB7-4428-97CB-D8DD3038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F5FA-3912-4EB2-ACE2-FCFA2AE4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266F-03CF-44B5-9394-6CC4F867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6DDF-68B1-4174-9866-4D8B0694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8791-7294-469F-94F5-91B6D35F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EC7A-AB7C-4365-BA16-63FF7EEB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C03-8A37-42B6-8BA0-F27C81F8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A0C4-256A-4A4A-9636-13C69622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C7CA-4660-42E2-A025-2CA33590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3312-D569-41DB-A341-1318C614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AF32-A41F-4F3A-AD6B-844E2DFE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A8D4-CAA0-4EAC-8E42-31883B49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B78-F160-481A-96C2-25E2D8DB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CCD-8A05-4215-AC24-AA8CC50A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2E8-BB39-4E3A-8D64-656EFCEA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493-652A-49A8-BE3A-9690C157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D38-DCE6-421D-B793-0127D6C8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135-7C72-40AF-88C4-CBC389FB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76D-D050-4EB6-8637-2A4262D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74D1-ED9E-4284-85D3-4AB2F87710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0156-9B5C-40D1-86DB-5CCEB80A04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he Cover Letter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The primary purpose of the cover letter is to acquaint the prospective employer with your unique talents and skills, and to arrange an interview to discuss employment possibilit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ion State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statement should somehow ensure action beyond simply reading the let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should urge the employer to tak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avorable action on your employ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didacy or that your intentions are to cal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e.g. I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will plan to call you next week to determine if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ou are interested in discussing this matter      further and, if appropriate, to arrange for 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meeting with yo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ement of Appreci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ce most employers are busy you should express your appreci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.g. Thank you for your consider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.g. I hope that you will give the enclosed resume favorable consideration. Thank yo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lements of Bad Cover Let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or overall appea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or grammar, punctuation, and misspelled word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mbling – lack of foc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lf-focused versus employer focus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land, boring tex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ss exaggeration – bragg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ggressive, pushy to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lf-depreci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ample Cover Let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ity, State, Zip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000) 237-0000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garet W. Willi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recto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ach Tree Day Care Cen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7120 Greenwood Av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eltsville, MD 2100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ar Dr. Willi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aving worked in three day care centers as a volunteer and student intern, I wa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quite excited to learn from Professor Jan Jenkins that you have an opening for 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acher at Peach Tree Day Care Center. I would very much like to be considere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r that position and feel qualified for several reason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ccording to Dr. Jenkins, you are interested in incorporating educational objectiv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nto play programs. I am not only committed to such an approach but, a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y enclosed resume illustrates, I have had the opportunity to design and impl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uch programs at two different day care facilities. Children, teachers a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rents were all enthusiastic about how educational yet captivating these sess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urned out to be, and I thoroughly enjoyed both planning them and working wit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e childre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 was also informed that Peach Tree Day Care Center is heavily used by African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erican and Hispanic families and that you strive to meet their unique needs. I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ddition to studying the culture of urban minorities, for the past two summers 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ave also been a ‘‘Big Sister’’ for two African-American children, ages 4 and 6,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ving in Philadelphia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 would appreciate the opportunity to discuss these and other experiences wit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you and to find out more about Peach Tree. Spring break lasts from March x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rough the x. Would it be possible to meet with you some time then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 look forward to hearing from you soo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ncerely,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hele Nit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ings to rememb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tterhead is obligatory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lling should be impeccable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body of the letter should be divided into paragraph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y attention to the lay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milies and similar symbols are not allow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on Mistak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r Mr.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cerely yours, man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lines to rememb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duplicate what is said on your resu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 cover letter should highlight your resume by identifying how you are qualified for the position and reasons why it will be to the employers advantage to hire yo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ver letter should be brief – limit it to one p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etter should not be addressed to sir, madam, or director of personnel…find out who is responsible for hirin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lines to rememb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3137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n your letter before you write i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apt the letter carefully to conditions of the job opportun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n with the idea that captures the attention of the prospective employer so that the letter and resume are considered worth read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 your letter with a request for an int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2091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jarg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good quality stationery and have the letter typed in a professional manner- never use form lett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l attention should be given to grammar, spelling and neatness. The cover letter should represent your very best efforts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mportant Elements of a Cover Let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6928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n introductory paragrap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a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interest get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s or implies employment inter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I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 value-selling paragrap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a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nstrates your ability to be value ad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lights your key strengths and abil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II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 background summary paragrap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a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iefly summarizes your relevant education and experie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V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ction stat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tatement that either “compels or ensures follow up action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 statement of appreci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ory Paragrap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are three effective techniques f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ing a personal, customized touch in th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roductory paragraph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 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Use of personal conta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e.g.   During recent discussions with Steve Temple, you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Manager of Accounting, I became aware of you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concern about the need to automate the accou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payable function. Perhaps I can be of help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-975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I   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Use of specific company knowled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.g.   I read the article concerning Champion Corporation’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use of modern organization development techniques       in the August 2 issue of Business Week. As a seaso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O.D. Professional, I found this article unusual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nteresting, and it has prompted my decision to app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for employment with your compan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II  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Use of a compli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 colleague of mine has told me of your excell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reputation as an executive search firm that specializ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n the recruitment of financial executiv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alue Selling Paragrap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7691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paragraph describes the value that  you can bring to the hiring organizatio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IS NOT simply a listing of you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engths. Instead, it lists specific resul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hieved and contributions mad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provides a key opportunity to marke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rself to prospective employer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ckground Summa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provides a brief synopsis of your relev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 and experi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ncludes the academic degree held, major field 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, number of years of experience and a sh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ption of job-relevant experi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urpose is to convey that you have 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priate training, experience and seasoning 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the position for which you are apply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it brief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0:50:11Z</dcterms:created>
  <dc:creator>she</dc:creator>
  <dc:description/>
  <dc:language>en-US</dc:language>
  <cp:lastModifiedBy>Sandra Jednak</cp:lastModifiedBy>
  <dcterms:modified xsi:type="dcterms:W3CDTF">2008-11-27T07:30:10Z</dcterms:modified>
  <cp:revision>5</cp:revision>
  <dc:subject/>
  <dc:title>The Cover Letter</dc:title>
</cp:coreProperties>
</file>