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E50-9164-4275-ABCB-C76F9938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4B6-7133-4E3A-A133-0895326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D09-B226-420E-9701-7A5A8EB4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897-5117-4086-BD4E-3177649A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4DEE-B2CB-490D-93BB-C9B06002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475B-1288-43D2-BA29-C488D5D9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F88-7FA8-4925-B3C0-44945A1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F51-463D-475A-A6DA-0879C98C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5F9-0DC5-4144-B5C1-5FCBDB2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E16C-8573-454C-87DF-8531964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0011-1001-4FB0-A8E7-2753897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CD6-0487-4B81-9A2C-75A2F55D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E208-D1BA-4F39-9E33-4483846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CC58-608E-4DDD-937E-4B8D81B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70B-B573-4726-8DFE-14BA188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1A50-1407-46F9-BE24-A8DF407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E4A4-F8CA-4943-9DB4-069676F3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7572-E026-420D-BF21-7787A8FA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E18D-ECC4-4C4A-B71F-BCBB15B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ED60-0D92-43A6-AFAD-B28CA647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821B-9512-4AA5-91FD-B50523C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0EDC-4CF4-4091-B727-7CBA2744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23B-1E97-4426-8489-3607397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654D-E16A-4CC3-96BA-9DA86F2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527B-BCBF-4F4B-8E42-1A6CEBC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AF744-9ED0-42CE-845D-771CE20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9198-A9E3-4FC7-8922-950B80F7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7955-B39F-4614-8D96-4C03522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EE2E-C3AD-4AD2-8B00-0571D13E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9916-4296-4EB5-A81E-9853ADF4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24FF-2CC8-4EA6-9061-DD7DF18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BCC7-20F6-4A8A-AFDE-6487F3E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1FB2-5746-4A39-A21C-A3BACF25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A6F-A630-4E9F-ABCB-AC9D850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39EC-AE7E-4A8C-946B-287AB649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2378-65F0-46A5-B7B4-E27EC43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EFA8-763C-4937-A2CE-CAFFBEA4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D3B7-F2B3-4E11-A908-2AEE8BB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05A5-1086-4039-986B-BFB9876D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C29B-A950-4017-9EE0-74989B7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A7DB-F665-4A88-AA1C-71A29BC2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150C-5A54-47FC-8779-394100D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3A92-A869-4183-B38F-7BC63911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D85-762D-48A7-94C5-DE083EE3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E54-9C7A-4303-8A9C-D1C18CDB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4D5-703B-4F98-8390-F5FD273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2D1-65B4-41C7-9ED2-819D8BE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B15-C11A-4F1C-9ABF-B7AC718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A31-3EF6-4072-9F35-4F8957F5F0D1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94D-0BDA-45D1-847F-C418354E12AE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4D6E-B23C-4538-9CE6-46798FD5E501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216C-8078-4F82-90D5-9EDA81827117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6137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  <a:ea typeface="宋体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Semicolon (;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the clauses of a compound sentence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(except the ones with and, or, but, no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Some firms went bankrupt; others have survive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When one or both clauses have internal comm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19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The issues that top security analysts favour include Bristol Myers, NYSE, $42, among drug companies; McDonald's, NYSE, $72, in restaurants; and Lockheed, NYSE, $115, in aerospa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clauses of a compound sentence joined by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nonetheless, however,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 or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for example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We will produce the product; however, it will cost $15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words, phrases, or clauses that explain, amplify, or summarize what has preced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re are several courses you can take: anthropology, psychology, or sociology. The verdict is in: accept the propos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a li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 the session we will also discu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consumption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s proj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parate hour and minute in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3:45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llowing a salutation in a business lett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Ladies and Gentlem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Apostrophe (‘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case of singular and plural nou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Sam's final re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y friends'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lurals of figures, letters, or word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1900'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n omission of figures in d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class of '8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Hyphen (-)</a:t>
            </a:r>
            <a:r>
              <a:rPr b="0" lang="en-US" sz="3600" spc="-1" strike="noStrike">
                <a:solidFill>
                  <a:srgbClr val="696464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join the elements of some compoun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Cost- effectiveness      self- employed        cost-of-living ind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ubstitute for the word to between figures or wor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3-5 mont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aterial that is not an essential part of th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Pittsburgh television (KDKA) director John Down is highly respec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igures following and confirming written-out numb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We placed twelve (12) telephone calls to Euro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iod - Full stop (.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complete a declarativ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He completed the work on tim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bbrevi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Inc. Etc. Lt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1" i="1" lang="en-US" sz="3600" spc="-1" strike="noStrike">
                <a:solidFill>
                  <a:srgbClr val="9b2d1f"/>
                </a:solidFill>
                <a:latin typeface="Comic Sans MS"/>
              </a:rPr>
              <a:t> (italics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titles of books, plays, long poems, magazines, newspapers, TV se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Saturday Review        When Harry Met Sal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names of paintings and sculpt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Mona Li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Quotation Mark (“   ”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enclose direct quotation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“We couldn't complete the work.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t off the titles of articles, essays, short stories, short poems, TV and radio programs, short musical piec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Linguistics: “An Introducti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SPELLING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form a possessive of a singular noun add an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’s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to the noun.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June's advice                    judge's verdict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Arkansas's economy        boss’s request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 plural noun that ends in s, add only an apostrophe: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witnesses' testimo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42217"/>
                </a:solidFill>
                <a:latin typeface="Comic Sans MS"/>
              </a:rPr>
              <a:t>BASIC RULES OF LETTER WRITING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mpeccable use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pit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nct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umer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form is used in many common expressions that refer to time and measur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an hour's time               this morning's mee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Possessives in holidays are usually sin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Father's Day                      New Year's Ev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96464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NUMERAL US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pell out numbers from zero to ten and use figures for numbers 11 and abov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  seven applicants               13 candida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a sentence begins with a number, spell it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( calendar years are the exception)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Fifteen thousand feet of wire was los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write decimals in fig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00.23 m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Numbers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two or more numbers appear in one sentence, use figures if one is below 10 and the other above 10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About 15 orders were delivered on 2 tru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abbreviations and symbol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#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6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If a number forms part of a corporate name or a set phrase, use the exact style on the letter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wentieth Century-Fox Film Cor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oney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Use figures to express amounts of money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18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oney in even amounts of a million or more may be expressed partially in words or in abbreviati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8.5 billion or $8.5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pell out indefinite amounts of mone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several thousands of doll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6705720" y="4352760"/>
            <a:ext cx="2438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centages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Express percentages in figures and spell out the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word percent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.g. The interest is 5 percent a y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lock Tim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.m. or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3:50 p.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easurement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easurements are expressed in fig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A higher rate is charged on packages over 3.5 kil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Roman Numer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Roman numerals are used for proper names,  divisions of literary and legislative material and in dates on public building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King Edward VII              Part VI           Chapter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Calibri"/>
              </a:rPr>
              <a:t>Correct the mistakes in this letter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rs. Clara Wint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2187 s. Polo dr. 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airfax, VA 2203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6.5.200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Tiny Tots Toy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fteen 456 pyramid Wa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llege park, FL 3313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ear “customer  service Representative”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recently purchased 1 of your Tiny Tents (Model #four seven four) for my daugh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nfortunately  after viewing the components that came with the product I discovered that 3 of the parts were miss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am writing to request replacements; for the missing part If reasonable arrangements are not made within 7 business days: I will return the tent to the store I purchased it from and expect a full refund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sincerely hope this is a one time incident - and that; any future Purchases I make will live up to the standard, we have  come to expect from your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ncerely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lara winte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mr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Win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2187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lo d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airfax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 2203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6.5.2002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ny Tots Toy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ifte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456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yrami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llege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par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FL 3313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“customer  service Representativ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recently purchased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your Tiny Tents (Model #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our seven fou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for my daugh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Unfortunately afte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ewing the components that came with the product I discovered that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parts were miss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 writing to request replacement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or the missing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art If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sonable arrangements are not made within 7 business day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will return the tent to the store I purchased it from and expect a full refund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sincerely hope this is a one time inciden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tha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 future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 make will live up to the standard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, w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ave  come to expect from you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incerely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winter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742217"/>
                </a:solidFill>
                <a:latin typeface="Constantia"/>
              </a:rPr>
              <a:t>Thank you for your attention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b2d1f"/>
                </a:solidFill>
                <a:uFillTx/>
                <a:latin typeface="Comic Sans MS"/>
              </a:rPr>
              <a:t>The first word of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very sente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ry is paying interest on troubles that may never come tru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A direct quo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"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shook hands with the minister" he sai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The salutation and complimentary close of a lett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ar Mr. Adam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ry truly you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ach item displayed in a list or outl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 1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gs to rememb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lear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onfident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articula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b2d1f"/>
                </a:solidFill>
                <a:uFillTx/>
                <a:latin typeface="Comic Sans MS"/>
              </a:rPr>
              <a:t>Proper nou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eople, corporations, organizations, historical periods and event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izabe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vironmenta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tectio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gency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laces and reg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reet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w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k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a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th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okly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rivers, lakes, mountains, seas, and oceans</a:t>
            </a:r>
            <a:r>
              <a:rPr b="0" i="1" lang="en-US" sz="20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lantic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e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ssissippi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k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ctoria, 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p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nationalities and languag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rican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b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elic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eop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ie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stice William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ident Alexand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neral Patton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pe John Paul I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ister Jord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een Elizabe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ublications and artistic works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reet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n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hington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Days, Months, and Holidays</a:t>
            </a:r>
            <a:r>
              <a:rPr b="1" lang="en-US" sz="1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d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moria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ristm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prem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 o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pe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Abbreviations and Acrony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e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r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J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IB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t. Gov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Sincl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eaties, laws, pacts and  amend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fth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ndment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ghts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t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saw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ademarks and Service Ma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ox    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eenex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nd-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Scientific Na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dl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lky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PUNCTUATION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use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emi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;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postrophe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‘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Exclamation Point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!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Hyphe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-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Period - Full stop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es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?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ota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“   ”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6172200" y="1066680"/>
            <a:ext cx="2362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Words, phrases, or clauses loosely added on to the end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 I am happy about the results</a:t>
            </a:r>
            <a:r>
              <a:rPr b="0" i="1" lang="en-US" sz="2000" spc="-1" strike="noStrike">
                <a:solidFill>
                  <a:srgbClr val="cc99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ally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Nonessential expressi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There is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o doubt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n explanation for the change in pla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A nonrestrictive clause or phrase</a:t>
            </a:r>
            <a:r>
              <a:rPr b="0" lang="en-US" sz="2400" spc="-1" strike="noStrike">
                <a:solidFill>
                  <a:srgbClr val="9b2d1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re is a fine line between editing and formatting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which is covered in the following sections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(,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ords used in direct address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r. Stone, please submit your repor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ome titles and degrees from surnames and from</a:t>
            </a: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rest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ohn P. Jamison, Jr., wrote………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usan H. Greenfield, Ph.D., presented………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eries of four or more figures into thousands, millions, and so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. 5,000                        15,000                     5,00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Year from the month and day in full dates</a:t>
            </a:r>
            <a:r>
              <a:rPr b="1" lang="en-US" sz="2800" spc="-1" strike="noStrike">
                <a:solidFill>
                  <a:srgbClr val="9b2d1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meeting was held on February 6, 1991, in Chic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35:19Z</dcterms:created>
  <dc:creator>she</dc:creator>
  <dc:description/>
  <dc:language>en-US</dc:language>
  <cp:lastModifiedBy>seser</cp:lastModifiedBy>
  <dcterms:modified xsi:type="dcterms:W3CDTF">2009-10-21T08:26:55Z</dcterms:modified>
  <cp:revision>17</cp:revision>
  <dc:subject/>
  <dc:title>BASIC RULES OF LETTER WRITING</dc:title>
</cp:coreProperties>
</file>