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80B-09F4-4F20-8E61-11DFE7DD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7CA-A2D1-4978-9C2D-0EA94F46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720-38D9-4A17-8D4D-6C7C3520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6C3-BD6E-4C9E-9495-CE49E842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7C77-43B2-4CBB-B626-D3D6DE34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85D7-9146-4F70-BC46-6BAD4A50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F327-81DE-4042-99D1-47DAF43B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72A9-C3C8-4476-A774-5B77E06E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30C4-8565-40AB-BC44-EBC21506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37EC-B28F-4D2C-A2F7-4C72F277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CA4D-AD66-400D-8FA1-F2486F33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DC7-4583-4707-B7FB-70F58F6B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1F25-1CEC-4ED1-BB17-CAA80526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C4FC-6199-485E-A9C3-622A2224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CD99-CF6E-4CE6-AA28-61D4EAB0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F3A6-A12C-4C73-8789-76BE0C31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CCC3-8B7D-4450-BDAD-DC315383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6709-E9BF-47BA-839D-0FFEB92B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F36-A710-4EE2-A273-5C4F136A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E76-D116-460C-9B85-07C5E073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86C-4A6D-4C5E-BD8F-B81AAF7F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3D8-46C6-4EF6-9C2E-241B26FB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4E79-D9A0-408F-8BED-243DB5D1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F542-8D62-440C-B5EA-97319CBD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47CB-5AD3-4C7B-A771-C509EC217F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F42E-52D2-4887-8D67-05CCA8624A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TTERS REGARDING 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Occasion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s for a job, proposals, suggestions, letter of application, CV and résumé writing, complaints, announcements, company policies change, interviews, references, recommendations, meetings, raises, promotions, requests, resignations, retirement, et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What to sa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 letter should be brief, descriptive and dynami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your interest in the company or the jo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ase you are turning down an applicant, state clearly the reasons you are not able to accept him for the position he is applying f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positive comments on the person’s credentia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thee reasons why you think you are suited for the job and what you can do for the comp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be as clear in your intentions as pos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 letter should be brief and to the poi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What not to say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t let negative emotions appear in letters between employer and employe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be ru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simply what your intentions are; do not make it too 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Some useful phrases and sentenc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am proud to be part of such a creative and enthusiastic team – I hope you are, to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hear of any openings of the company, I would certainly appreciate knowing about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carefully considered your letter of application … and have been most favourably impre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with regret that we accept your resignation, effective April 2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be glad to provide a good ref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363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ill keep your application in file in case we should have any openings in the near fu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would like to offer my services to the compan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you are aware, we continue to be highly interested in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ank you for applying for the position of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solve this problem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ease accept my resignation, effectiv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have time to discuss this in the next couple of days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ying for a Jo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Application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Curriculum Vita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Cover Letters for CV and Résum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0:35:30Z</dcterms:created>
  <dc:creator>she</dc:creator>
  <dc:description/>
  <dc:language>en-US</dc:language>
  <cp:lastModifiedBy>she</cp:lastModifiedBy>
  <dcterms:modified xsi:type="dcterms:W3CDTF">2008-11-24T11:00:21Z</dcterms:modified>
  <cp:revision>2</cp:revision>
  <dc:subject/>
  <dc:title>LETTERS REGARDING EMPLOYMENT</dc:title>
</cp:coreProperties>
</file>