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C2C-EBDA-4BA2-B391-A107381F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BCB-D45A-4127-8A8B-0235B092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5B3-1570-4514-9483-5FBB423D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98C-CDBF-48B8-847C-94F42316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574F-3B7E-40F0-915B-39069B1B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62E6-4CE7-45D7-BC38-3F5862F9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B805-3E02-4D1D-B9CC-C6BEBD7D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BAE8-4464-407C-9A20-D1DF93D5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BAEA-8A81-41D9-8AFE-A5D84A46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E60A-518C-4A19-9AB9-7DCDDA7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53F2-4640-4157-AE4B-052C2B6B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488-A2DC-468D-86FE-AD449206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AFD3-0A51-4847-982B-31666D40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DF85-1C6F-496B-B23C-7B3DE80E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C3FA-B4F1-462E-91C1-6DBC935C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C086-C071-4E62-892D-44BB496C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1A64-8EBB-4C64-AF77-27AD68F1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196-807F-4DFA-89FD-2EA53182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FF3-7502-4557-8BF0-5204CDB7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49B-C5A0-489A-872B-38E4E705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2FB-1FEF-4EB2-8476-B11CA64C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950-C825-4539-A7EC-AEFEA27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427-39C8-491E-99A9-88FBEA61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303-D8E0-4DBA-9125-F1A0000B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8674-524F-468E-8FED-792DF217F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0B2D-C0B3-4032-AB8A-1828560C7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b.olin.edu/mechanics/Backup/FALL04/images/mechanics.gif&amp;imgrefurl=http://wb.olin.edu/mechanics/Backup/FALL04/&amp;usg=__ivnPOfn-lbBBqPkqn0EpE4IX0TI=&amp;h=306&amp;w=450&amp;sz=36&amp;hl=sr&amp;start=1&amp;tbnid=0uAvZbco7FKn_M:&amp;tbnh=86&amp;tbnw=127&amp;prev=/images%3Fq%3Dmechanics%26gbv%3D2%26ndsp%3D18%26hl%3Dsr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a26d18"/>
                </a:solidFill>
                <a:latin typeface="Comic Sans MS"/>
              </a:rPr>
              <a:t>Business </a:t>
            </a:r>
            <a:br>
              <a:rPr sz="4800"/>
            </a:br>
            <a:r>
              <a:rPr b="0" i="1" lang="en-US" sz="4800" spc="-1" strike="noStrike">
                <a:solidFill>
                  <a:srgbClr val="a26d18"/>
                </a:solidFill>
                <a:latin typeface="Comic Sans MS"/>
              </a:rPr>
              <a:t>Letter Writing </a:t>
            </a:r>
            <a:br>
              <a:rPr sz="4800"/>
            </a:b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MECHAN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4292640"/>
            <a:ext cx="25192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Envelopes</a:t>
            </a:r>
            <a:r>
              <a:rPr b="1" lang="en-US" sz="4400" spc="-1" strike="noStrike">
                <a:solidFill>
                  <a:srgbClr val="a26d18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velopes should match the stationary in colour, weight, general style and letterhe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turn address should be imprinted in the upper left corner of the front of the envel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51325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Envelop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ling direc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(airmail, third class, special deliver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uld be under the area where the postage will 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the phras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“Private and Confidenti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y be written on the envelope. Other variations ar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nfidential, Strictly confidential, and Classifi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or print all address information in capital let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3672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est preference is a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ptical-character-reader (OCR) format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for your envelop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07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26d18"/>
                </a:solidFill>
                <a:latin typeface="Comic Sans MS"/>
              </a:rPr>
              <a:t>OCR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Points to remember *1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 business letter is always pri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lack ink is always prefer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ccuracy is important. Pay special attention to titles, names and addresses, prices and specifications, enclos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k yourself if the letter represents your organization in a correct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k yourself if the recipient will understand your letter quick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clude just the right amount of information in your letter (better include too much than too litt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ke sure your signature tells your reader what he/she needs to know about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Points to remember *2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lan your letter before you start writing to make sure it says everything you want to say and says it in a logic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 layout and presentation of your letter is important as they give the reader the first impression of the firm’s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Use a simple but polite style of language. Beware of idi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th a very few exceptions, business correspondence is being word processed in most places of busines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Your letter should be clear. Take care with abbreviations and figur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be continued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Business stationer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76440" y="1523880"/>
            <a:ext cx="5991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Letterhea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55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Letterhea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datory elem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m nam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 (including zip code and area co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ephone numb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x number (if it is use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ptional eleme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log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xecutive’s name and tit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list of board directors or other governing bodie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good letterhead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able, informative and attractive 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too attention occup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Letterhea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Second sheets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be the same quality of the letterhead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have the printed logo of the company, but the print is smaller and the address is not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Enclosures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all enclosures (checks, folded flyers, business cards) are placed inside the folds of the l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afeguard against overlooking them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n enclosure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r enclosures are bulkier, use an appropriately sized manila envel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Folding and insert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d the paper in horizontal third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t the paper with the back of the top third facing the fla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recipient pulls out the letter and flips up the top third, he is ready to begin read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using window envelope, the letters are to be folded so that the name and address appear in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Folding and insert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69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08:48:19Z</dcterms:created>
  <dc:creator>FON</dc:creator>
  <dc:description/>
  <dc:language>en-US</dc:language>
  <cp:lastModifiedBy>FON</cp:lastModifiedBy>
  <dcterms:modified xsi:type="dcterms:W3CDTF">2000-01-16T10:34:27Z</dcterms:modified>
  <cp:revision>3</cp:revision>
  <dc:subject/>
  <dc:title>Business  Letter Writing  </dc:title>
</cp:coreProperties>
</file>