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AEF-F5D8-4BAB-8030-AAD681E2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861-D855-42F5-913C-6600AA6C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C22-183A-4185-9EE4-DB9EBFBC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073-9587-4057-88AF-993E3B74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8F8D-433B-4626-8EA0-7E669E6A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2928-D18C-45AD-85E3-C3D96102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E2C7-3968-4579-A53D-B5E1E180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B80F-7521-46A9-8D57-0BEDAB77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2153-B8D1-4BA4-A6E2-70D5B0EA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FF34-B455-4148-BE98-63CEC24F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19C8-22BF-4079-AB11-891F26EB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8A3-A549-4141-B96B-24BD4B0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4A1D-8BAF-421D-A039-F65BE6FB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F348-B249-403E-B441-0B31047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B65F-8FEC-4803-90AB-17350F82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62A3-301F-4DC5-8BEA-CF4D8628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BEA2-F628-4828-97E5-B219C6E3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885-D0D4-4452-A731-F4AE5D8C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DC4-F0F3-4658-96AC-1AB75C5D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CFE-7C47-44C7-9B7B-2E83D16F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913-4E3E-4562-8C53-59EE53FD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EC6-1E68-4A64-9FE4-8907118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490-603E-414D-86C4-721CA3E7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452-7FA0-41D5-BC92-0A4A6B7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C05A-F193-4234-BC48-D1262061B7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999D-752E-41B3-9876-54B5E1C9F8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openclipart.org/people/barretr/barretr_Pencil.pn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Business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Letter Writing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Прикажи слику у пуној величин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2471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ide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dress of the recipi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oundsonic Lt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arwick House, Warwick Stree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orrest Hi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ondon SE23 1J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ITED KINGD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on the left and single spac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ipient’s name (if stated) is followed by the company’s name, the department or division, the street address, city postal code and cou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the lines is very long, put half of it on the next line, indenting two or three spac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p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cipient’s name (if stated) and the title are separated by a com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itle can be underneath the name or omit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re writing to more than one person, make a list of the names in alphabetical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tention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ttn: Sales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used when you do not know the name of the person you are writing 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line can also be printed before the address of the compan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jec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BJECT: Quadraphonic sou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bject tit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further referenc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introducing the subject in the first paragraph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ediately draws attention to the topic of the let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the writer to refer to it throughout the let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ly identifies the purpose of the let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less than one line/ one or two word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f No: 99887/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indicate what the letter refers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Your Ref.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correspondence to refer to when replying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Our Ref.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ferring to an order number or to a reference number used by you or your recipient, make sure you quote all references accuratel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laced instead of the subject tit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l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S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Si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Madam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Sir or Mad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Mr. J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written below the address and with a space of one or two lines before the body of the lett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ollowed by a comma (,) or a colon (:), which is opt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of the let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s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giv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letter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sort o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u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make a letter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ear, informative and accu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possib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ength depends 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bject of the let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yle and the language us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ight length includes the right amount of inform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que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 necessary points should be made in a logical sequ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iece of information linking with the previous one in a pattern that can be follow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put the ideas and information in logical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slang, jargon, buzz words, and elitis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the passive vo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ull rather than abbreviated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active voice and active verb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brief. Give short but clear explanations, instructions, reas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pecific. State the fac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pleasant, positive, lively, and encourag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word “you” in the opening sentence, but avoid using too many “you”-s in your lett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”-s should be used when you are speaking about yoursel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”-s should be used when speaking on behalf of your company or a group of associ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unbiased language and avoid gender-biased languag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39640" y="1341360"/>
          <a:ext cx="8229600" cy="596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bi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person, business executive,  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irperson, moderator, chair, group l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ed African-Ameri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e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esperson, sales agent, sales represent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ld man/wo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lder p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k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factured, hand-built, hand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 business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terhead or return addres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or confidential notatio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 addres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tion lin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tatio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or reference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or tex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mentary clo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tur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d title line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scrip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losure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ies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scri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irst paragrap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the main idea in the first or second sentence of your lett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sentences should catch the reader’s eye and get him to react to your lette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rst paragraph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nk your correspondent for his letter (if replying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yourself and your company if necessar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the subject of the letter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ut the purpose of the let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cond paragrap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in part of the le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concerned with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s that need to be mad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s you want to give 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 you want to as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nal paragrap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losing the letter …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 the person for writing, if you re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further enquiries and correspondenc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tion that you look forward to be hearing from the person so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issues from the previous paragraphs may be rest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imentary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ours sincerel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ours faithfull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ours trul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ruly your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letter begin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ear Sir, Dear Sirs, Dear Madam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Dear Sir or Mada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close with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ours faithfull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letter begin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personal name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ear Mr Ja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it will close with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ours sincer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a after the complementary close is opt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e one line between the body of the letter and the complimentary clo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a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type your name after your handwritten signature and your position in the firm. That is known as the signature bloc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andwritten signature should be between the complimentary close and the typed name and tit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 and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or more spaces should be left below the complimentary close for your name and tit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urtesy title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r, Mrs, Miss, 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ay be includ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mit the name and title if they appear on the letterhea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r pr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ometimes used in signatures and mean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or and on behalf of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closur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Enc. or Encl.: Bill of loading (5 copies)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losures may include leaflets, prospectuses, CV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mentioned at the bottom of the letter aft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c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a number of documents, these are lis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pies line - c.c. (carbon copi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.c. Mr. J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.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is written when copies are sent to people other than the named recipi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.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and list the individuals receiving the copies of the letter by full name and tit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.c.c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blind carbon copi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written on the copies themselves (not on the top copy) if you do not want the named recipient to know that other people have received cop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scrip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.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ote for additional attention is usually put on the left, two or three lines below the last l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27320" y="138960"/>
            <a:ext cx="443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Letter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27320" y="404640"/>
          <a:ext cx="4691160" cy="6556320"/>
        </p:xfrm>
        <a:graphic>
          <a:graphicData uri="http://schemas.openxmlformats.org/drawingml/2006/table">
            <a:tbl>
              <a:tblPr/>
              <a:tblGrid>
                <a:gridCol w="904680"/>
                <a:gridCol w="378648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der’s address/Business Letter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dgade 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K 12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enhagen K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NMA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mber 27, 2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ide   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ndsonic Lt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wick House, Warwick Street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rest Hil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don SE23 1J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KINGD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enti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the attention of the Sales Mana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ject tit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draphonic sound syst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r Sir or Madam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let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ease would you send me details of your quadraphonic sound systems which were advertised in the April edition of Sound Monthl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am particularly interested in the Omega range of  equipment that you specialize i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imentary cl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rs faithfully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Kaasen (M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 (p.p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Mana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ll of loading (5 cop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ll of exchange (1 cop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i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.c. Messrs. Poole &amp; Jackson Ltd. Solici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4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ments of a letter should be neither too widespread nor too dens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letter is brief, use larger fonts. It will look bett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mat should convey information clearly and logically, reflecting your organization’s sty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tterhead Sta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company is not us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urn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company is not using letterhead stationary, it has to include its address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wo lines immediately preceding the date line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UK, in contrast to the practice in some countries, it is not usual to write the sender’s name before the sender’s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e is written bellow the sender’s address, sometimes separated from it by a spa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n the right-hand side of the pag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most common form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vember 27, 2009 (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 November, 2009 (B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nth is never abbreviated, the day is never spelled out, and endings for numbers (27th) are not usually us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hortened date can also be us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/27/2009 (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/11/2009  (B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idential or personal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rivate &amp; confiden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ow the date but above the address of the person you are writing to (recipie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the date line and the inside addres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ame notation should be put on the envelo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08:49:16Z</dcterms:created>
  <dc:creator>FON</dc:creator>
  <dc:description/>
  <dc:language>en-US</dc:language>
  <cp:lastModifiedBy>FON</cp:lastModifiedBy>
  <dcterms:modified xsi:type="dcterms:W3CDTF">2000-01-18T11:16:16Z</dcterms:modified>
  <cp:revision>5</cp:revision>
  <dc:subject/>
  <dc:title>Slide 1</dc:title>
</cp:coreProperties>
</file>