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7A33-308B-4F0D-8F7F-D2E026D67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E4A8-8211-4288-9162-0B4E0E6DE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E414-63E9-49DC-8E29-71FAFA1A6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9C88-76AD-415D-BE2C-F39255211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29E17-F4D9-428E-A439-8F51B0EC1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D4D07-E45B-4001-94B9-39FBFFF21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0DC7A-A9A5-43AC-9AAF-8AA706DAA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53752-8709-48F5-B2C8-7F500CD7F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42BA4-ACE5-46E7-9B0D-A888707FD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D18E7-D08B-4728-B948-A79E81946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99367-C8C4-40C0-9B01-56325BC7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1454-9788-412F-B962-03C7E3B47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CF760-7C6C-4075-97F0-83C34C0A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4461A-3D8E-45C3-8DFD-6B54635D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B01E1-BE34-4006-A908-9A508F230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D87DC-213A-4308-8C7D-DDC2F3C3F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09FC5-38B0-4E11-8484-5E5833E52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4FAFF-6526-4DFC-AD28-799F10945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BE065-974D-461B-86D9-6B8FBABD6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1332B-4FCF-436A-90A4-0C631AC8F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C9E78-090A-40AB-9168-007B9A7CE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5645D-8AC2-4484-9314-49B7E26D4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5920-56B7-4E3C-A2D7-88D9B0A41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92A78-A387-48DD-9A1A-9A29874E8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D616F-E2F6-4F4B-A248-D2F7E2AA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03537-4C31-410E-91D4-0F936F14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F751A-5E06-443C-A61E-B0C7072C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F1F79-AB42-413C-B466-359E182A9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D7586-9DC6-4C29-B0F5-2EB058E6A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5507A-3DD1-4BA9-8321-218065D35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E7137-F4C8-4131-8753-1A1B64E85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4EC46-DEED-4273-995D-14BC0BDD2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16275-FD12-4D35-AE04-590FD9A6E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0AE6-FD83-439B-A765-5B12F0467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9D4B2-B70D-4076-9208-9757CB2E5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ADEC9-DBE8-43C7-B423-0BFD12AA7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24FEC-DFCE-48A3-BF48-614B3253F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A0D91-28C2-4E1E-8024-5CA0E50D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1384F-903F-4D39-A46C-FFA32D06E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CAC57-AE84-4A14-A647-8A241002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91CE5-F92F-4E6C-B03A-FAEAD6494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A5AF3-848C-4599-A676-F74318E66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38D5D-E872-478B-A610-1B82C8D80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6A0F9-CB80-467C-8226-2100DF50F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4A36-63A8-4B03-97FE-8F59518AF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78152-39BB-4F61-AEDE-27B3C96F0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C2688-A23A-4CF0-AA78-61A012819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1E1FE4-7456-4B7B-ACA5-B5DB2B8A2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703CC-13D9-4415-A83D-3C1BC4B40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ABBF0-A6C1-4DB2-804A-FC77A91EF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ED4124-AD90-46BB-95A1-7A65F0F7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5A49B-B232-4EBF-9F07-57AD5253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9F621-D030-4953-A7C1-C40F35F1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03E7B-B4F3-4AE1-AF6F-64EC968BF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5630C-AD2A-4276-8ED8-D197889AC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49CA-1050-412C-AB58-BBA5ED892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6842B-3D1D-4C6A-93D7-38655047B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4B00-D36B-483F-BECC-03F9D9D4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18DF-6D86-49AB-B9EB-49E5FBE3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72D6-6C3B-4992-9A37-29BDC161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e400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ffaec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c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c007f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66"/>
                </a:solidFill>
                <a:latin typeface="Perpet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D78ED-D862-4378-A1A7-C9D52A9CA960}" type="slidenum">
              <a:rPr b="0" lang="en-GB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ffae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005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e400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ffaec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c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c007f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66"/>
                </a:solidFill>
                <a:latin typeface="Perpet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44F78-C76B-4EC7-B030-67B20B45C479}" type="slidenum">
              <a:rPr b="0" lang="en-GB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ffae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005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e400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ffaec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c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c007f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66"/>
                </a:solidFill>
                <a:latin typeface="Perpet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DD886-D3C4-4704-957E-D78B58859863}" type="slidenum">
              <a:rPr b="0" lang="en-GB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e400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ffaec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c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c007f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66"/>
                </a:solidFill>
                <a:latin typeface="Perpet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DD805-5C0C-40E7-AE01-F06292CE4305}" type="slidenum">
              <a:rPr b="0" lang="en-GB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ffae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005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e400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ffaec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c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c007f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66"/>
                </a:solidFill>
                <a:latin typeface="Perpet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84A3A-D8B3-4A27-8363-0A94B37CB5E3}" type="slidenum">
              <a:rPr b="0" lang="en-GB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666666"/>
                </a:solidFill>
                <a:latin typeface="Franklin Gothic Book"/>
              </a:rPr>
              <a:t>Kolokvijum</a:t>
            </a: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Perpetua"/>
              </a:rPr>
              <a:t>U obzir dolaze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Perpetua"/>
              </a:rPr>
              <a:t>Congratulation letters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Perpetua"/>
              </a:rPr>
              <a:t>Thank you letters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Perpetua"/>
              </a:rPr>
              <a:t>Employment letters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1" lang="en-GB" sz="2600" spc="-1" strike="noStrike">
                <a:solidFill>
                  <a:srgbClr val="000000"/>
                </a:solidFill>
                <a:latin typeface="Perpetua"/>
              </a:rPr>
              <a:t>a) Cover letter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1" lang="en-GB" sz="2600" spc="-1" strike="noStrike">
                <a:solidFill>
                  <a:srgbClr val="000000"/>
                </a:solidFill>
                <a:latin typeface="Perpetua"/>
              </a:rPr>
              <a:t>b) Resu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1" lang="en-GB" sz="2600" spc="-1" strike="noStrike">
                <a:solidFill>
                  <a:srgbClr val="000000"/>
                </a:solidFill>
                <a:latin typeface="Perpetua"/>
              </a:rPr>
              <a:t>c) Recommendation lett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1" lang="en-GB" sz="2600" spc="-1" strike="noStrike">
                <a:solidFill>
                  <a:srgbClr val="000000"/>
                </a:solidFill>
                <a:latin typeface="Perpetua"/>
              </a:rPr>
              <a:t>d) Meetings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1" lang="en-GB" sz="2600" spc="-1" strike="noStrike">
                <a:solidFill>
                  <a:srgbClr val="000000"/>
                </a:solidFill>
                <a:latin typeface="Perpetua"/>
              </a:rPr>
              <a:t>e) Company profil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666666"/>
                </a:solidFill>
                <a:latin typeface="Franklin Gothic Book"/>
              </a:rPr>
              <a:t>Company Profile </a:t>
            </a:r>
            <a:endParaRPr b="0" lang="en-US" sz="54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2714760"/>
            <a:ext cx="8229600" cy="34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A company profile briefly outlines the company’s products or services, its mission, employees, and a few unique aspect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Franklin Gothic Book"/>
              </a:rPr>
              <a:t>Purpose of a company profile </a:t>
            </a: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14400" y="1856880"/>
            <a:ext cx="7772400" cy="41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To engage and attract the right customers or supporters for busines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To acquire financing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For media attention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To attract the best candidates when posting job applicat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Franklin Gothic Book"/>
              </a:rPr>
              <a:t>How to start?</a:t>
            </a: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14400" y="1643040"/>
            <a:ext cx="7772400" cy="437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Perpetua"/>
              </a:rPr>
              <a:t>e.g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Perpetua"/>
              </a:rPr>
              <a:t>Dear Mr. Hunt,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Perpetua"/>
              </a:rPr>
              <a:t>Please find attached the information requested by your client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Perpetua"/>
              </a:rPr>
              <a:t>e.g.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1" i="1" lang="en-US" sz="2600" spc="-1" strike="noStrike">
                <a:solidFill>
                  <a:srgbClr val="000000"/>
                </a:solidFill>
                <a:latin typeface="Perpetua"/>
              </a:rPr>
              <a:t>We are pleased to present the basic information on ZZ Company  covering legal status, location, the company profile outline and development and investment prospect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Franklin Gothic Book"/>
              </a:rPr>
              <a:t>What to include (1)…</a:t>
            </a: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Company name and legal status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Company loc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Company contac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Key Executiv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Branch Locat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Company descrip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Perpetua"/>
              </a:rPr>
              <a:t>Provide a short history of your company including the number of years in business, a description of your company’s activities, and a tangible sense of what you do.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Franklin Gothic Book"/>
              </a:rPr>
              <a:t>What to include (2)…</a:t>
            </a: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Descriptions of the company’s main services or products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Number of employee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Mission and philosophy of the company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Community involvement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1" i="1" lang="en-US" sz="2600" spc="-1" strike="noStrike">
                <a:solidFill>
                  <a:srgbClr val="000000"/>
                </a:solidFill>
                <a:latin typeface="Perpetua"/>
              </a:rPr>
              <a:t>(welfare activities, donations, volunteering and community support, teams, cultural institutions, and events that your company sponsors. This ads human personality to a profile.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Franklin Gothic Book"/>
              </a:rPr>
              <a:t>It’s important to…</a:t>
            </a: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14400" y="1856880"/>
            <a:ext cx="7772400" cy="41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Convey important fact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Be precise, while including all the details about the company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Be honest and interesting to the reader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Use short descriptive sentences with lots of action verb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Claim the company’s unique asset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66666"/>
                </a:solidFill>
                <a:latin typeface="Franklin Gothic Book"/>
              </a:rPr>
              <a:t>Correspondence regarding meetings</a:t>
            </a:r>
            <a:endParaRPr b="0" lang="en-US" sz="36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57140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09040" indent="-509040">
              <a:spcBef>
                <a:spcPts val="575"/>
              </a:spcBef>
              <a:buClr>
                <a:srgbClr val="ff388c"/>
              </a:buClr>
              <a:buSzPct val="85000"/>
              <a:buFont typeface="Perpet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Perpetua"/>
              </a:rPr>
              <a:t>inviting somebody to a meeting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509040" indent="-509040">
              <a:spcBef>
                <a:spcPts val="575"/>
              </a:spcBef>
              <a:buClr>
                <a:srgbClr val="ff388c"/>
              </a:buClr>
              <a:buSzPct val="85000"/>
              <a:buFont typeface="Perpet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Perpetua"/>
              </a:rPr>
              <a:t>announcing a meeting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509040" indent="-509040">
              <a:spcBef>
                <a:spcPts val="575"/>
              </a:spcBef>
              <a:buClr>
                <a:srgbClr val="ff388c"/>
              </a:buClr>
              <a:buSzPct val="85000"/>
              <a:buFont typeface="Perpet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Perpetua"/>
              </a:rPr>
              <a:t>confirming your presence at a meeting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509040" indent="-509040">
              <a:spcBef>
                <a:spcPts val="575"/>
              </a:spcBef>
              <a:buClr>
                <a:srgbClr val="ff388c"/>
              </a:buClr>
              <a:buSzPct val="85000"/>
              <a:buFont typeface="Perpet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Perpetua"/>
              </a:rPr>
              <a:t>cancelling a meeting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509040" indent="-50904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Perpetua"/>
              </a:rPr>
              <a:t>Always mention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509040" indent="-50904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Perpetua"/>
              </a:rPr>
              <a:t>The date, time and the venue of the meeting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509040" indent="-50904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Perpetua"/>
              </a:rPr>
              <a:t>The agenda (topics and main issues to be discussed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509040" indent="-50904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Perpetua"/>
              </a:rPr>
              <a:t>The names of delegation/committee/ board members  who are to be present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509040" indent="-50904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666666"/>
                </a:solidFill>
                <a:latin typeface="Franklin Gothic Book"/>
              </a:rPr>
              <a:t>Official Documents</a:t>
            </a: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914400" y="1856880"/>
            <a:ext cx="7772400" cy="41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Perpetua"/>
              </a:rPr>
              <a:t>Contract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Perpetua"/>
              </a:rPr>
              <a:t>Authorization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Perpetua"/>
              </a:rPr>
              <a:t>Engagement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Perpetua"/>
              </a:rPr>
              <a:t>Invoice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Perpetua"/>
              </a:rPr>
              <a:t>Certificate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Perpetua"/>
              </a:rPr>
              <a:t>Receipt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Perpetua"/>
              </a:rPr>
              <a:t>Etc</a:t>
            </a:r>
            <a:r>
              <a:rPr b="1" lang="en-GB" sz="26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21:32:07Z</dcterms:created>
  <dc:creator>Jelena Plecas</dc:creator>
  <dc:description/>
  <dc:language>en-US</dc:language>
  <cp:lastModifiedBy>Jelena Plecas</cp:lastModifiedBy>
  <dcterms:modified xsi:type="dcterms:W3CDTF">2009-12-22T22:17:53Z</dcterms:modified>
  <cp:revision>6</cp:revision>
  <dc:subject/>
  <dc:title>Slide 1</dc:title>
</cp:coreProperties>
</file>