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7AE2-3763-46FA-B656-B80C377E8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20E2-A2E5-4DE4-8101-F354BC9D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1418-79D8-4FD7-8BDD-C66B86B17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32DA-F7AD-4EA7-BA55-81A1E89F0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F5BF-E20D-477D-907B-7DB65BA4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E890-21E3-41D6-B394-3D97FC5F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24C0-D719-4668-AB6E-2E44B474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1A4A-E3D1-4B74-92CE-76D47283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97CB-2770-4714-9D3A-9E09EC64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12B0-2051-4830-B24A-928A4FFE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30B5-15FA-47BA-8E30-A548AEE8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B45A-48E3-4C16-8677-6A6DD353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04C9-B6D5-4540-A543-DBC9613CF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cc0000"/>
                </a:solidFill>
                <a:latin typeface="Arial"/>
              </a:rPr>
              <a:t>PREPOS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y, beside, close to, near (to), next (to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ll mean 'not far away'. We can often use either near (to) or clos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The plant often grows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close to / near (to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the banks of riv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beside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b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next 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say that one thing or person is at the side of another: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lin sat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beside / by / next to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her with his legs cros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At as a preposition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points of time or periods of time that we think of as points. We use a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ith exact points of 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idday       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a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midnight       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a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3 o'clock       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a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8.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ith short holiday periods, such as Christmas, Easter, the weekend, et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  I'll see you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a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Easter.                 We often go walking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a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the week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ith mealtimes, such as breakfast, lunch, dinner, et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That morning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a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breakfast, my brother told us he was getting marr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ith night when we mean 'when it is night' or 'each nigh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People can't go out on the streets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a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night any more, it's so dangero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Note 1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 we talk about a particular night we us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night: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       I felt very restless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i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the night and had to take a sleeping tabl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Note 2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he phrase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at the mo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= now); but notice that we say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in a mo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= in a short period of time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John's in Korea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ment.      • I'll be with you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mo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5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5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In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s a preposition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names of seasons, months and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rch     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978  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parts of the d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. 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morning/ afternoon/ ev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On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s a preposition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days of the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uly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istmas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istmas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During, fo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through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during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 to talk about something that happens within a particular period of ti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The population of the city has actually fallen </a:t>
            </a: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durin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the last dec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also use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througho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express a similar mean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We had enough firewood to keep us warm </a:t>
            </a: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durin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the whole of) the winter, (or...warm </a:t>
            </a: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throughou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winter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a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w lo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hing continues, and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dur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a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hing takes pla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You can only come in</a:t>
            </a: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 fo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 few minutes, (not ...during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felt ill </a:t>
            </a: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 couple of days, but was fine after that, (not ...during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By, unt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n we say that something will happen or be achieved either before a particular time or at that time at the la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She learned German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age of 16. (She could speak it fluently when she reached that age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ti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e say that something will continue up to a particular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She learned German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unti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age of 16. (Then she stopped learning i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egative sentences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ti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ans 'nor before'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You mustn't open your presents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unti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birthday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informal English we can us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i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stead of unt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2871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04920" y="2895480"/>
            <a:ext cx="2257200" cy="30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2514600" y="2819520"/>
          <a:ext cx="6553080" cy="3886200"/>
        </p:xfrm>
        <a:graphic>
          <a:graphicData uri="http://schemas.openxmlformats.org/drawingml/2006/table">
            <a:tbl>
              <a:tblPr/>
              <a:tblGrid>
                <a:gridCol w="6553080"/>
              </a:tblGrid>
              <a:tr h="388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   A man with a scarf </a:t>
                      </a:r>
                      <a:r>
                        <a:rPr b="1" i="1" lang="sr-Latn-CS" sz="1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___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 neck is </a:t>
                      </a:r>
                      <a:r>
                        <a:rPr b="1" i="1" lang="sr-Latn-CS" sz="1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___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lift. He is leaning </a:t>
                      </a:r>
                      <a:r>
                        <a:rPr b="1" i="1" lang="sr-Latn-CS" sz="1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____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wall of the lift. The lift is coming up from the street </a:t>
                      </a:r>
                      <a:r>
                        <a:rPr b="1" i="1" lang="sr-Latn-CS" sz="1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_____</a:t>
                      </a:r>
                      <a:r>
                        <a:rPr b="1" i="1" lang="en-US" sz="1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a moment the man will walk </a:t>
                      </a:r>
                      <a:r>
                        <a:rPr b="1" i="1" lang="sr-Latn-CS" sz="1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____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lift doors and </a:t>
                      </a:r>
                      <a:r>
                        <a:rPr b="1" i="1" lang="sr-Latn-CS" sz="1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____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office. He will put his jacket </a:t>
                      </a:r>
                      <a:r>
                        <a:rPr b="1" lang="sr-Latn-CS" sz="1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___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coat stand which is </a:t>
                      </a:r>
                      <a:r>
                        <a:rPr b="1" i="1" lang="sr-Latn-CS" sz="1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____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lif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   There is a man waiting for the lift. He has pressed the button to go</a:t>
                      </a:r>
                      <a:r>
                        <a:rPr b="1" lang="sr-Latn-CS" sz="1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___</a:t>
                      </a:r>
                      <a:r>
                        <a:rPr b="1" i="1" lang="en-US" sz="1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   On the other side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the lift doors is Jane. She is walking </a:t>
                      </a:r>
                      <a:r>
                        <a:rPr b="1" i="1" lang="sr-Latn-CS" sz="1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____ ____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lift </a:t>
                      </a:r>
                      <a:r>
                        <a:rPr b="1" lang="en-US" sz="1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_____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room </a:t>
                      </a:r>
                      <a:r>
                        <a:rPr b="1" i="1" lang="sr-Latn-CS" sz="1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_____</a:t>
                      </a:r>
                      <a:r>
                        <a:rPr b="1" i="1" lang="en-US" sz="1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hotocopier </a:t>
                      </a:r>
                      <a:r>
                        <a:rPr b="1" i="1" lang="sr-Latn-CS" sz="1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______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eting roo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   Jack is </a:t>
                      </a:r>
                      <a:r>
                        <a:rPr b="1" i="1" lang="sr-Latn-CS" sz="1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_______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photocopier. </a:t>
                      </a:r>
                      <a:r>
                        <a:rPr b="1" i="1" lang="sr-Latn-CS" sz="1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_______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hotocopier is a shelf. He is moving the boxes of paper </a:t>
                      </a:r>
                      <a:r>
                        <a:rPr b="1" i="1" lang="sr-Latn-CS" sz="1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______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shelf </a:t>
                      </a:r>
                      <a:r>
                        <a:rPr b="1" i="1" lang="sr-Latn-CS" sz="1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______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floo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   Sue and Mark are sitting at their desks </a:t>
                      </a:r>
                      <a:r>
                        <a:rPr b="1" i="1" lang="sr-Latn-CS" sz="1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_______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ch other. Their computers are </a:t>
                      </a:r>
                      <a:r>
                        <a:rPr b="1" i="1" lang="sr-Latn-CS" sz="1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________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m on their desks. </a:t>
                      </a:r>
                      <a:r>
                        <a:rPr b="1" i="1" lang="sr-Latn-CS" sz="1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________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 is a waste-paper bin and the photocopier is </a:t>
                      </a:r>
                      <a:r>
                        <a:rPr b="1" i="1" lang="sr-Latn-CS" sz="1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________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AutoNum type="arabicPlain" startAt="7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s put his coat </a:t>
                      </a:r>
                      <a:r>
                        <a:rPr b="1" i="1" lang="sr-Latn-CS" sz="1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_______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back of his chair. Sue's bag is </a:t>
                      </a:r>
                      <a:r>
                        <a:rPr b="1" i="1" lang="sr-Latn-CS" sz="1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______</a:t>
                      </a:r>
                      <a:r>
                        <a:rPr b="1" i="1" lang="en-US" sz="1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r chair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AutoNum type="arabicPlain" startAt="7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e is putting a letter </a:t>
                      </a:r>
                      <a:r>
                        <a:rPr b="1" i="1" lang="sr-Latn-CS" sz="1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______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 envelope and Mark is taking something </a:t>
                      </a:r>
                      <a:r>
                        <a:rPr b="1" i="1" lang="sr-Latn-CS" sz="1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_____ _____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his draw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pply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ncentrate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sist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fer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pprove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nsist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now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ly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elieve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operate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ead 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pecialise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elong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cide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isten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ffer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enefit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pend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bject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ympathise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mpete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cus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ay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ake care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mply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ope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qualify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ait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14800" y="225360"/>
            <a:ext cx="27432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raid 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d up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ud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azed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d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isfied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ed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ested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ous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appointed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n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cked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tful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rvous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prised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husiastic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stic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picious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ited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simistic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red 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cinated _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d _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ried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derl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correct w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   Look in the Appendix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t/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nd of the re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  When I go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/o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lane someone was sitting in my se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  What a fantastic view! The sk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bove/ove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 se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low/un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  Next week I'll b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t/i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ngary for a few d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  Turn into Western Avenue and you'll see our offic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n/a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lef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  You can't miss it. The restaurant is exactl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y/opposit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in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   I often work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/a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 in the eve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  I bought this ti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/a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dison Aven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9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'll be here in a few minutes - she's jus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t/o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hone at the mo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  The power socket is over there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o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    This graph isn't labelled properly. Write the unit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y/nex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X ax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   I went to visit my so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pital yester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    Put a shee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bove/ove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chine to stop it getting dus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   Siena is quit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ear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r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    I'll see you tomorrow at ten thirty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/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 off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  It's a large block. Our offices ar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fteenth flo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    I saw Simo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t/i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ation while I was waiting for a tr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   I must have been standing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queue for half an ho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9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'll see our offices - they'r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y/nea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urniture store, (the next blo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   You'll see our offices - they'r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y/nea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rniture store, (the next build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 the sentences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, a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   I live .......... Manor Road, ........ number 29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   You shouldn't really park............the pav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   I had a lovely meal............the pla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   I'd like to live............the country when I ret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   Go to the end of the road, and you'll see the bank............the r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   I'll be arriving............your offices............Barcelona at thr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   Lisbon is............the middle of Portugal,............the coa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  I'll meet you............the front of the building in ten minu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   I wonder what's............television this eve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  The size of the text............the screen is very small. Couldn't it be bigg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    I live............a small village............the road to Do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   ............the beginning of my career I worked in marke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    It was a very well-run meeting. Erika was............the cha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   I wasn't looking............the mirror and I nearly had an acci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    She works............Seville,............the Univers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  The sales figures? Yes, I have them right here...............my h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    I waited patiently............the back of the que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    I think I left my briefcase............the chair............the restaur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    I'm off sick at the moment, but I should be back............work next we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   The last Finance Minister is still...............pri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correct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   I think we should ask them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r /about /with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  Can you supply u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r/about/with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ough parts for 5,000 vehicl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  You remind m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bout/of/fo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someo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kn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  If I forget, remind m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bout/of/fo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again at the end of the mee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  The management blamed the unio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gainst/from/f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sing the stri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  I'm writing to inform you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r/about/o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new range of produ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  We might have to split the orde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r/in/into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separate ship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  Can you thank Mr Mateu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bout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/f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r/with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his hel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  I'd like to congratulate Patrici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n/for/abou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ning Employee of the Mon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  This safety feature prevents the operativ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gainst/from/with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ffering any inju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    This year we'll be investing more than £4m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n/in/to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t and new machin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  This year we'll be spending more than £4m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n/in/to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t and new machin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52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cc0000"/>
                </a:solidFill>
                <a:latin typeface="Arial"/>
              </a:rPr>
              <a:t>At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sr-Latn-CS" sz="3600" spc="-1" strike="noStrike">
                <a:solidFill>
                  <a:srgbClr val="cc0000"/>
                </a:solidFill>
                <a:latin typeface="Arial"/>
              </a:rPr>
              <a:t>as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sr-Latn-CS" sz="3600" spc="-1" strike="noStrike">
                <a:solidFill>
                  <a:srgbClr val="cc0000"/>
                </a:solidFill>
                <a:latin typeface="Arial"/>
              </a:rPr>
              <a:t> preposition of 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0000"/>
                </a:solidFill>
                <a:latin typeface="Arial"/>
              </a:rPr>
              <a:t>At</a:t>
            </a:r>
            <a:r>
              <a:rPr b="0" lang="sr-Latn-C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– to talk about a place we think of as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a point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rather than an area, and about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an event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where there is a group of peopl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 show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 general lo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e.g. I arrived </a:t>
            </a:r>
            <a:r>
              <a:rPr b="0" i="1" lang="sr-Latn-CS" sz="2800" spc="-1" strike="noStrike">
                <a:solidFill>
                  <a:srgbClr val="cc0000"/>
                </a:solidFill>
                <a:latin typeface="Arial"/>
              </a:rPr>
              <a:t>at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 New Street Station at 5.3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There were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ew people 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a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John’s par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fore an address and 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i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fore the name of a ro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.g. They’ve opened an office 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a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28 Lees Ro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church is 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in/o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Park Ro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corner of a str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corner of the 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derl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correct w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   I'm really angr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bout/with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m for not letting us know soon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   I've spoken to Robert and I'm reasonably happ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ith/fo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e arrang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   I'm really happ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ith/f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ggie, she deserved to get prom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  I'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 annoye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bout/with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is confusion with the wrong invo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   I'm a bit annoye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bout/with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m for sending the wrong invo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   I'm sorr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bout/fo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happened yester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   I'm sorr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bout/fo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riving so late - I got delayed in traff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   I feel very sorr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bout/fo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nces. She didn't deserve to be treated like th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   Low inflation is goo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t/for/with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sector of the econom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  She'd be excellent in Human Resources, she's really goo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t/for/with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    Richard, can you help us with this translation? You're goo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t/for/wit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n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   If you need to refer the decision upwards, who are you responsib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/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    As head of department, how many staff are you responsib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/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   Who is responsib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/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Scandinavian mark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In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 as a preposition of 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the place or area to show that someone or something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si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She’s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hird room on the le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t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I had a hard day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h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’ll be back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he office at th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Arial"/>
              </a:rPr>
              <a:t>On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  <a:ea typeface="Arial"/>
              </a:rPr>
              <a:t> as a preposition of 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o show that someone or something is on a flat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.g. His name is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he do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now fell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he hi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  <a:ea typeface="Arial"/>
              </a:rPr>
              <a:t>Expression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at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the front/back,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at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the top/bottom,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at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the seaside,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at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the station/airport,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at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home/work/school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in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the picture/photo,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in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a queue/line,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in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hospital/prison,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in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the mirror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on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the left/right,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on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the first floor,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on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the map,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on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the Sava,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on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the phone/the computer,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on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television/the radi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Across/o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 position on the other side of, or getting to the other side of a bridge, road, border, river, etc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.g. The truck came towards them 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across/ove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the brid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te 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over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her th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ro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n we talk about reaching the other side of something that is high, or higher than it is wi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.g. He hurt his leg as he jumped 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ove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the w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te 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use 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acros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her th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v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 we talk  about something we think of as a flat surface, or an area such as a country or sea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.g. He suddenly saw Sue 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acros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the 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Alo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e talk about following a line of some kind (a path, a road, a river, a beach, a canal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I'd seen them walking </a:t>
            </a: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alon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the road past my window several times bef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roug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mphasise that we are talking about movement in a three dimensional space, with things all around, rather than a two dimensional space, a flat surface or ar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He pushed his way </a:t>
            </a: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throug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crowd of people to get to 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e enjoyed the peace and quiet as he walked </a:t>
            </a: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through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the for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Over/ under/ below/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four words can be used for positions in a management hierarch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US" sz="3200" spc="-1" strike="noStrike">
                <a:solidFill>
                  <a:srgbClr val="cc0000"/>
                </a:solidFill>
                <a:latin typeface="Arial"/>
              </a:rPr>
              <a:t>Above m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is the Sales Director. </a:t>
            </a:r>
            <a:r>
              <a:rPr b="0" i="1" lang="en-US" sz="3200" spc="-1" strike="noStrike">
                <a:solidFill>
                  <a:srgbClr val="cc0000"/>
                </a:solidFill>
                <a:latin typeface="Arial"/>
              </a:rPr>
              <a:t>Under m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there are four sales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0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Above/be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'higher/lower than'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used without an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The floor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above/below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s is occupied by an insurance company. From    the mountain I could see the lake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Over/u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'directly above/below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need an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We flew right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ove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Windsor Castle on our way into Heathrow.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re's still a lot of oil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und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s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also be used for movement. In this case it is like 'across'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We have to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 over/acros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 the other side of the stree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can also mean 'covering'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They've put a plastic sheet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ov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ho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roo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wo or more people or things that we see as individual or separ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She held the diamond </a:t>
            </a: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betwee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her thumb and forefin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e talk about comparisons and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difference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betwee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a connection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betwee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.., a friendship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betwee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What are the differences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betwee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rugby league, rugby union and American footbal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They are wrong to claim that there is a connection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betwee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unemployment and cr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m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use among when we see the people or things as part of a group or mas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He stood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among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ll his friends in the room and felt very happ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ou can't say that you are among two people or things and when you talk about comparisons and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2T19:01:33Z</dcterms:created>
  <dc:creator>SAŠA</dc:creator>
  <dc:description/>
  <dc:language>en-US</dc:language>
  <cp:lastModifiedBy>she</cp:lastModifiedBy>
  <dcterms:modified xsi:type="dcterms:W3CDTF">2008-11-17T12:12:59Z</dcterms:modified>
  <cp:revision>9</cp:revision>
  <dc:subject/>
  <dc:title>Slide 1</dc:title>
</cp:coreProperties>
</file>