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DC7-4AAE-4EF9-9BEA-99327895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0E5-F8A3-4530-AB36-A8955C3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124-0913-4D59-8D42-52ACA83E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947-4CBA-4A4D-91EA-7078B7C8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0E36-8226-4639-9247-D8563FA6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A1C-06BC-4AF6-96AD-AD95EC4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765-87C6-4F4A-A4F7-32BE240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9A6F-2149-4EC7-9638-92B294E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3135-FDEC-4AA7-88D4-065D288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1AA-BAD0-47C4-B72A-0CA601E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FF0B-E068-4028-9A99-B02B11F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DFE-BB87-42E3-AC29-FAD7A2F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7206-5A16-4406-A929-2A01DE5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97F-DA15-4ED2-ADBC-2FBB263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B528-40BF-4F8D-A8E7-F8DBD31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1A2D-3A82-4192-9BAA-865E2DD1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FA1-CA7E-40CD-8349-B10D81A4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5E9-2913-4057-BB51-E469581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ECF-339D-4916-898A-5CA3987D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03C-385B-45A5-80DD-A4BCD7F0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F73-DD83-45A5-9B21-02ABCDB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95E-712B-482A-AF2C-534E78E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B23-BE54-48F0-B740-292EDBF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81F-62AC-491B-B4FC-077CE94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787C-BED4-403B-9277-1E85DF8D7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D09-8DE8-4047-B7E6-8E3B366A6E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NOUNS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s denote the names of a person, animal, object or a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Foreign Plura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oreign words always take the English plu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   areas, encyclopedias, arenas, eras,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Uncountable Nou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only one form – sin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usually concrete mass nouns or abstract nouns that we do not normally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-384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219320"/>
          <a:ext cx="8229600" cy="540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g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uble Nouns</a:t>
            </a:r>
            <a:br>
              <a:rPr sz="3500"/>
            </a:b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Can be both countable and uncountable:</a:t>
            </a:r>
            <a:br>
              <a:rPr sz="3500"/>
            </a:br>
            <a:br>
              <a:rPr sz="26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38480"/>
            <a:ext cx="403848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( in gen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( in gen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ffee ( the subst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tball ( the g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( the subst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 ( 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( the mate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 ( in genera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 ( general conce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alysis ( a particula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siness (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ffee ( a cup of coff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otball ( a b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ron ( for ir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od ( group of t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ience ( a particula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( a mal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ific U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ouns are followed by either a singular verb or a plural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army, audience, board, committee, company, family,government, group, media, press, public, staff, team,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hink of the group as a whole we use singular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hink of its individual members, we use a plural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The company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is/ ar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oing very well at the mo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ific U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llowing nouns ending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–ic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ways take a singular verb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athematics, physics, athletics, gymnastics, lingu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Mathematics deals with space and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nouns ending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–ic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ake a singular verb when they refer to the science, academic subject or art, but take a plural noun when the reference is specific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e.g. Acoustics is the scientific study of sou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acoustics in this room are not very go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nouns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conomics, ceramics, acoustics, electronics, politics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essive 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55680"/>
            <a:ext cx="403848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countant’s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man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Jones’s invoice or Mr Jones’ in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3055680"/>
            <a:ext cx="403848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countants’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men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44792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itive form of noun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how possession with respect to living be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ssessive 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ime phra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six hours’ 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note dista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ten miles’ dr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For goodness’ sa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specific pla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We’ll see you at John’s (place) / at the hairdresser’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ps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Whose car is this? Mike’s ( c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fiers used with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3733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ntabl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/an ( in singul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w / a f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/ a lo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countabl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ttle / lit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t of / plenty o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rcise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n’t _______ about this budget i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man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much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much in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many inform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’t work long hours. I have 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chilr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chi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on’t want to hear such stupid ______. I want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tor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t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_________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any lug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any lug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any lug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ny lug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re are five kinds of nouns in English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mon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person        bank          cli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per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Douglas Brown    London    Hung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bstract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information   advice   dem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llectiv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team        group        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ss ( material)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oil           petrol          sug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always need fresh _______ about the things concern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in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inform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 inform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files were missing. The _______ already t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police w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police w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 polices w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polices w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There are no _____ in this work, you have to be a part of th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er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her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not _________ in the manufacturing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any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an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muc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much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better to be ______ than 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olfs, she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wolves, she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wolfs,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wolves,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lways get some good ________ from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adv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d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adv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buy _______ for our new off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me furni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any furni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many furni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many furni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d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lish nouns are classified according to the gender in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eminine nou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woman, girl, female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sculine nou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man, boy, male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uter nou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inanimate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institution, scissors, sh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mon nou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nouns of either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baby,  parent, student, pat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untability of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ouns can be classified i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untable nou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ave both singular and plural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Can be use with the indefinite article (when in   singular) or with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 a bank     one bank       two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countable nou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ave only one form - 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lural of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ural of almost all countable nouns is formed by add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pronounced 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s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f the preceding sound is voiceless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preceding sound is vo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boy – boys       book –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ns ending in 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,–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ch,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their plural by add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ero – heroes    dish – dishes   fox – f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used nouns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their plural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omato – tomatoes   hero – heroes   potato – 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uns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either ge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buffalo – buffalos / buffaloes      cargo – cargos / cargoes    volcano – volcanos / volcan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183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word end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uble 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wel +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ets 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kangaroos, videos, radios, studios, z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ns ending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ing a consonant form their plural by dropping the y and add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ie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baby – babies       fly – flies        country -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nouns form their plural by changing the roo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 – men        woman – women        tooth – tee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ot – feet            goose – geese        mouse – mic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uns have the same form in singular and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sheep        fish        d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85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 nouns ending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 the endings and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ife, wolf, calf, shelf, leaf, loaf, thief, sheaf, half, wife, life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ife – wives    life –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un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ve two ways of making pl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of – hoofs / hooves     scarf – scarfs / sca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uns are used only in pl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scissors, spectacles, breeches, mumps, measles, je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 nouns are plural in form but singular in mean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news, physics, mathematics, stat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re Examples of Irregular Plur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n –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oman – wo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ild –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x – ox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Foreign Plur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s which retain their original Greek or Latin forms make their plurals according to the rules of Greek and Lat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in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xis – axes, medium – media, bacterium – bacteria, radius – rad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ek: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analysis – analyses, basis – bases, crisis – crises, thesis- theses, phenomenon – phenome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ouns have both English and foreign plur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formula – formulas, formula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rriculum- curriculums, curricu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natorium – sanatoriums, sanato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ximum – maximums, maxi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9:59Z</dcterms:created>
  <dc:creator>she</dc:creator>
  <dc:description/>
  <dc:language>en-US</dc:language>
  <cp:lastModifiedBy>she</cp:lastModifiedBy>
  <dcterms:modified xsi:type="dcterms:W3CDTF">2008-12-03T09:22:40Z</dcterms:modified>
  <cp:revision>8</cp:revision>
  <dc:subject/>
  <dc:title>NOUNS</dc:title>
</cp:coreProperties>
</file>