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F5A-5859-4012-9CAA-A2B84127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111-AC66-4CE2-A24A-CAA4BE99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8C7-8886-4175-B428-E303D20A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939-D66C-4CED-999F-FF5CCD4C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B00C-CCC8-4D66-8A0D-2E39B631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9100-BB84-4CB4-A9F1-1108E8B2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0841-2A97-4A4C-B50A-E1BD9D14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6F07-3059-4152-9CC3-D0F50272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2504-9E3C-4ABD-9971-0869B05C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CD55-FF01-4946-A55D-342B81FD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083B-C2F7-4CEA-8966-3EE1B144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2C2-8CD9-4F96-8C91-50757619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84CC-A553-4F69-B92E-A0B3297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3487-5F17-4C9F-B528-74A8DF45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BEE9-6613-4573-9D05-656BC846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FB13-639F-4E15-8975-AE797C62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D780-9F38-4551-AFB7-E512C611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D8A-ABBE-41E6-8BE1-80B6FF6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086-77CC-42C3-86B9-877E96D7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6F6-7DDD-49F6-945E-F7B07602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406-A849-4C3C-B33D-CF39079A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ED3-1D5D-44CF-A958-A95FA87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57C-5DD0-4F5B-8CB5-E0C4051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B0B-21F7-4F22-A4AA-A16C23F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613D-A022-4385-927C-ECE2712C6F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3DAA-13F4-4744-BC3A-519ABD129E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handouts/esl/eslart.html#definite" TargetMode="External"/><Relationship Id="rId2" Type="http://schemas.openxmlformats.org/officeDocument/2006/relationships/hyperlink" Target="http://owl.english.purdue.edu/handouts/esl/eslart.html#indefinite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712880"/>
            <a:ext cx="76230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cc0000"/>
                </a:solidFill>
                <a:latin typeface="Garamond"/>
              </a:rPr>
              <a:t>ARTICLES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7720" y="266652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has two types of articles: </a:t>
            </a: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defini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ndefini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these articles depends mainly on whether you are referring to any member of a group, or to a specific member of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uperla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is is the worst play I’ve ever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usical instrument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om plays the flu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omparatives in fixed phr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sooner the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“sa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We are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decades, or groups of ye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She grew up in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the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seve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mountain ranges and groups of isla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Alps   The Canary 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oceans, seas and riv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Pacific   the River Nile    the Caspian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some geographical ar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Balkans   The Middle East    The Nor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unions, and associ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UK, The USA, The A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some countr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Netherlands    The Philli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asic Uses of Zero Arti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ive general stat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 Money makes the world go r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Life is short; art i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Watches have become very accu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fer to a class as a who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Cats do not like cold wea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names of people and their tit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lizabeth Brown    Pope Joh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Madam Miss Jackson      Major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Not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Wilson was elected President of the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Wilson became ( the ) President of the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days, months, holiday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June    Christmas    Mon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e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Breakfast is served.   Michael’s at lu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cademic subjec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Physics is the most difficult su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ranspo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by bus, by air, by boat, by coach, on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nouns like school, hospital, prison, church, university, college, court etc. when we refer to their “primary purpose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He was sent to prison for four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Children went to school early in the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fter “what” and “such” when a plural or an uncountable noun follow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What fools they are!                                                                       We has such problems during the holi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fixed phr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at night, face to face, keep in mind, go on holiday, make friends, make fun of, arm in arm  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names of lakes, towns, islands, mountains and most countr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Serbia   Lake Geneva   New Yor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anguages and nationa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She is French.     I don’t speak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'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essive ca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</a:t>
            </a:r>
            <a:r>
              <a:rPr b="0" lang="en-US" sz="2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His brother's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car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. 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Peter's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house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sert the right article – a / an / the / or zer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 am from Winchester, Hampshire. Winchester is ______ city in _____ United Kingdom.  I live in _____ town called ______ Taunton which is on ______River Tone. I live in _____ house in _____ quiet street in the countryside._____ street is called "Hudson Street" and _____ house is old - more than 100 years old! I am _____English lecturer at ______college near ______ centre of _______ town. I like  ______ books, music and taking ______photographs. I usually have ______lunch at college. I usually go ______ home by ______car. We have all kinds of food in ______England. I like _______Polish food very much. Sometimes, I go to _______ Polish restaurant in Bath.______ restaurant is called "Magda's". ______Polish food is delicious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61520"/>
            <a:ext cx="815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Indefinite Article: </a:t>
            </a:r>
            <a:r>
              <a:rPr b="1" i="1" lang="en-US" sz="4200" spc="-1" strike="noStrike">
                <a:solidFill>
                  <a:srgbClr val="cc0000"/>
                </a:solidFill>
                <a:latin typeface="Garamond"/>
              </a:rPr>
              <a:t>a</a:t>
            </a: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 and </a:t>
            </a:r>
            <a:r>
              <a:rPr b="1" i="1" lang="en-US" sz="4200" spc="-1" strike="noStrike">
                <a:solidFill>
                  <a:srgbClr val="cc0000"/>
                </a:solidFill>
                <a:latin typeface="Garamond"/>
              </a:rPr>
              <a:t>an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ignal that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he noun modified is indefini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referring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ember of a group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d with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untable nouns in singula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hen the noun is gene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singular noun beginning with a consonant: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singular noun beginning with a vowel: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eph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singular noun beginning with a consonant sound: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singular noun beginning with a vowel sound: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f the noun is modified by an adjective, the choice between a and an depends on the initial sound of the adjective that immedately follows the artic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oken eg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usual proble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Eur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pean countr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Basic Uses of Indefinite Arti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use indefinite article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if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mething/ someo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y means of general stat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An architect is someone who designs buildings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 form of defini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A cat is a domestic animal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y means of descriptive labe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Origins:        He’s a French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Occupation: She’s a do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Religion:      He’s a Catho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Politics:       She’s a Republi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something is mentioned for the first ti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I looked up and saw a plane. ( The plane flew low over the tree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references of quantity ( in sense of “one”, “only one”, “ any one”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I’d like an apple.   I need a screwdriver to do the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reference to measurem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wice a/ per day        80p a/ per kilo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40 km an/ per hour          30 miles a/per ga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“what” and “such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What a surprise!     My boss is such an idio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reference to illnesses/ condi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e.g. a cold, a headache, a sore throat, a weak heart, a broken le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No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with some conditions, a/ an is op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( backache, stomach-ache, toothache) or is not used at all ( flu, hepatiti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finite Article: Th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inite article is us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 sin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u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s as well as befo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un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the noun is particular or specific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als that the noun is definite, that it refers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 of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 pronounced /  / before consonant  sounds:  the day,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 pronounced /  / vowel soun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, th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Basic Uses of Definite Arti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refer to the whole class (similar to a/a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cobra is danger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fer to the group as a who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” + nationality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British and the Americans have been allies for a long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” + plur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Liberals want electorial reform.  The Browns are not at home</a:t>
            </a:r>
            <a:r>
              <a:rPr b="0" i="1" lang="en-US" sz="17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” + collective nouns to make general statements about specified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police    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thing that has been mentioned before is referred to ag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Singleton is a quiet village. The village has a population of a few hundred people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phrases noun + “of” + no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life of Napoleon         The freedom of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pecify a person, t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Smith you are looking for no longer lives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letters on the shelf are for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texts which are limited enough for the listener or reader to identify who or what is refer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Pass me the salt, pleas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Who’s at the door? It’s the post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locations which are “one of a kind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earth, the sky, the moon, the solar system, the galaxy, the un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parts of a whole”, assuming the listener/ reader knows what we are talking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uman being: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body, the brain, the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room: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ceiling, the walls, the flo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ime express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beginning, the end, the past, the present. The middle, the morning, the evening, the aftern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fixed phr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</a:t>
            </a:r>
            <a:r>
              <a:rPr b="0" i="1" lang="en-US" sz="2600" spc="-1" strike="noStrike">
                <a:solidFill>
                  <a:srgbClr val="5f5f5f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Have  a  good time    have  a  rest   have a sh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8:44:54Z</dcterms:created>
  <dc:creator>she</dc:creator>
  <dc:description/>
  <dc:language>en-US</dc:language>
  <cp:lastModifiedBy>she</cp:lastModifiedBy>
  <dcterms:modified xsi:type="dcterms:W3CDTF">2008-11-25T12:00:48Z</dcterms:modified>
  <cp:revision>10</cp:revision>
  <dc:subject/>
  <dc:title>ARTICLES</dc:title>
</cp:coreProperties>
</file>