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7B2-1486-4C58-8A3E-6E300EE1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F51-A1F0-4283-8F47-930062B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792-AB5F-4981-982E-C846500A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B7B-AC4F-4B50-A93F-FCFAC90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2B9-2BF6-4033-9403-B3260F0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171-2DF6-4F42-8A57-C47FCF3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08C-1730-4D6F-AE75-4BEF08C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15D-3B30-4708-AFEC-9663954F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E95-2951-4583-B90B-A1C3B95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C45-47A9-4C9B-829F-6E6289E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E76-642B-44B4-BCCF-C5A2197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84D-770D-47A2-98C3-65C4FDE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4A2-8309-49EF-B299-B80ADBC5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PRESEN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m: present tense of TO HAVE +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1905120"/>
          <a:ext cx="8153280" cy="3641760"/>
        </p:xfrm>
        <a:graphic>
          <a:graphicData uri="http://schemas.openxmlformats.org/drawingml/2006/table">
            <a:tbl>
              <a:tblPr/>
              <a:tblGrid>
                <a:gridCol w="990360"/>
                <a:gridCol w="2286000"/>
                <a:gridCol w="2362320"/>
                <a:gridCol w="251460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I’ve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He’s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s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it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We’ve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they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completed in the past having results in th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valanc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s devasta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skiing industry in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u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d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nice cup of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Tim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’ll ask him as soon as 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s finish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en we do not have definite time in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 Brown has arrived. She’s in the staff room and is ready to see you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 Brown arrived half an hour ago. She’s waiting in the staff 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Action that has been repeated a number of times up to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y have been to China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tions occurring in an incomplete period of time (i.e. today, this morning/afternoo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I haven’t seen him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962520"/>
          <a:ext cx="8305920" cy="8935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this morning ends at 1 p.m. 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fternoon at 5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ime mar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, yet, not yet, just, ever, never, since, lately, recently, once, twice, several times, often, for, up till now,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– From a point in the past to the time of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She has been here since 6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– Period of time , not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We have lived in London fo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819520"/>
          <a:ext cx="8077320" cy="3502080"/>
        </p:xfrm>
        <a:graphic>
          <a:graphicData uri="http://schemas.openxmlformats.org/drawingml/2006/table">
            <a:tbl>
              <a:tblPr/>
              <a:tblGrid>
                <a:gridCol w="981000"/>
                <a:gridCol w="2263680"/>
                <a:gridCol w="2341800"/>
                <a:gridCol w="24908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I’ve been wor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He’s been wor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sh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it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We’ve been work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0880" y="457200"/>
            <a:ext cx="8305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PRESENT PERFEC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INUOUS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rm: present tense of TO HAVE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participle of TO BE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nt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an action or situation in progress from the past, up to the present and still continu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de between Japan and USA has been increasing steadily since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mphasizes the length of time f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’ve been trying to contact her all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ut the verbs in brackets into the present perfect or the present perfect continuous t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(walk) ten kilo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(walk) three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boy (eat) seven ice-c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   A: What you (d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We (pick) ap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How many you (pick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We (pick) ten basketfu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 (sleep) on every bed in this house and I don’t like any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sleep) since ten o’clock. It’s time he woke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only (hear) from him twice since he wen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work) for him for ten years and he never once (say) ‘Good morning’ to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teach) in this school for fiv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teach) hundreds of students but I never (meet) such a hopeless class as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pump) up three tires. Would you like to do the fou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hope) for a rise in salary for six months but he (not dare) to ask for it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look) for mushrooms but I (not find) 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3:25:42Z</dcterms:created>
  <dc:creator>SAŠA</dc:creator>
  <dc:description/>
  <dc:language>en-US</dc:language>
  <cp:lastModifiedBy>FON</cp:lastModifiedBy>
  <dcterms:modified xsi:type="dcterms:W3CDTF">2007-11-15T11:01:34Z</dcterms:modified>
  <cp:revision>10</cp:revision>
  <dc:subject/>
  <dc:title>Slide 1</dc:title>
</cp:coreProperties>
</file>