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7BC-DF79-4A1F-8748-9EF7812F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6CC-1BAF-4F77-B2B4-9FAF8CC5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ADC-6C0A-48B8-85FD-E99D8D3A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334-86F1-47F5-98FA-EDD1B12B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EC4E-3A37-41EF-9EA7-99E5F29E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000C-7055-49C7-AF3D-057C111B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56A-F695-42BC-B959-EC9A9AD0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5ED-3CA9-4FC8-83B1-192EDED1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E97-3910-4822-B4CC-FD311ECA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293-7FA2-406B-8E2C-B3DC5960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F1D-8A21-4D96-A6C0-3C1C26EE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7EDC-E2FA-4D96-9F2A-4FC1DDA0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E929-72ED-47F5-BDB4-3B986D358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XPRESSING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he Simple Present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nouncements, timetables, schedules, organized events. Commonly used verbs – begin, depart, arrive, open, cl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.g. The school starts on Mo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he train leaves at f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he Present Continuous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hen we want to express the future using this tense, time must be mentioned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we could confuse present and fu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e arran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Bob and Bill are meeting to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With verbs of movement (arrive, come, drive, travel, leave, go…), position (stay, remain…) and have, do it can express a decision or plan without definite arrang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What are you doing on Satur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GOING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: Present continuous of the verb TO GO + full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I’m going to buy a bi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 in the near future (less formal than w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Look at the clouds. It’s going to 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+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s and instructions (impersonal way of giving instru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You are to stay here, 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y here, 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Conveying a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She is to be married next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OUT +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ediat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They are about to st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SIMPLE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/shall + bare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 ta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Let’s go. Shall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Shall we take a tax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for orders &amp;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What shall I do with your ma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888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ng the speaker’s opinions, assumptions, speculations about the fu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by verbs such as: believe, expect, hope, know, suppose or adverbs: perhaps, possibly, probabl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g. Perhaps he will come 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He will build a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He is going to build a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Future habitua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Spring will come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rds will build n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the verbs not normally used in the continuous forms (senses, thinking, possession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They will know to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WON’T may express a negative intention. I/we will can express an intention if we emphasis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He won’t go there, whatever you s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will do that, no matter what you s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CONTINUOUS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: Future Simple of to be + present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point of time, expressing an action that starts before that time and probably continues after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This time tomorrow she will be sitting at the same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Future without in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I will be helping Mary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Polite enqui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Will you be staying in this ev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TURE PERFECT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/shall + perfect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ly used with time expressions beginning with 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n, by that time, by the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By the end of next month we will have been here for five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the action which at a given future time will be in the past, or will just have finis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s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£50 a month and I started in January. So by the end of the year I will/shall have saved £6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TURE PERFECT 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/shall have been + present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with time expressions beginning with 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use it instead of the future perfect tens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By the end of this month I will have been living/working here for ten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the end of this month I will have been climbing mountains for 6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the end of this month I will have climbed 70 mount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22:50:20Z</dcterms:created>
  <dc:creator>http://eng.fon.rs</dc:creator>
  <dc:description/>
  <dc:language>en-US</dc:language>
  <cp:lastModifiedBy>she</cp:lastModifiedBy>
  <dcterms:modified xsi:type="dcterms:W3CDTF">2008-11-03T12:56:59Z</dcterms:modified>
  <cp:revision>3</cp:revision>
  <dc:subject/>
  <dc:title>Slide 1</dc:title>
</cp:coreProperties>
</file>