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3CE-12A0-4796-96DA-EA380A5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F1D-D73C-49DC-A6B5-1AB94635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F52-D49B-481E-AA06-75169C3F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8CA-6E8C-405A-814A-40F95667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C2B-F2DA-45B0-B56E-BCAA5C7F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0B0-0C61-4C47-AB17-2C450671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2C6-809A-413C-AD9C-5189008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E55-B5CD-4D4D-A33B-C285E92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9DE-120F-46B8-931C-0C6A204B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77E-D518-449B-8F46-DA259AF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FAC-4685-43AE-862F-EE0189F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69F-978F-4FDD-A2DC-4BE3DD36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24A9-07A2-43F9-9F39-168BC54A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HE PAS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:  Past tense of TO HAVE (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h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+ pa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209680"/>
          <a:ext cx="8153280" cy="3641760"/>
        </p:xfrm>
        <a:graphic>
          <a:graphicData uri="http://schemas.openxmlformats.org/drawingml/2006/table">
            <a:tbl>
              <a:tblPr/>
              <a:tblGrid>
                <a:gridCol w="990360"/>
                <a:gridCol w="2286000"/>
                <a:gridCol w="2362320"/>
                <a:gridCol w="251460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rm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s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t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they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op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an on his knees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clearl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ist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ur conversation and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wond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uch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ar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m wha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o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a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50p piece outside the door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oo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t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sign of the money, bu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notebook and pencil which he probabl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doo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op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denly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ak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es of our conversation!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ot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in a foreign language, so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ur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ranger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m to translat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pul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hat over my eyes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u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 down the corridor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time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ecov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shock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isappea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the corner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riously enough, 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mo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foo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ta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50p piec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haps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el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uth after a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which began in the past before the time of speaking in the past 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still continuing 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ill was in uniform when I met him. He had been a soldier since he was 17, and planned to stay in the army till he was thi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) Stopped at that time or just befo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Peter, who had waited for an hour, was very angry when his sister finally appe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) Stopped some time before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had served in the army for 10 years. Then he retired and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which began in the past before some other past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On the New York Stock Exchange the Nasaq inde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ope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igher, b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ll b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1,578 in morning tr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/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police caught the thiev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f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had left the h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thieves had tied the old lad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hey left the h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past perfect is often used with verbs of thinking (know, realise, remember, be sure,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David knew he’d seen her somewhere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 got to the office I realised I’d left all my papers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2 pm.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er office at 2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ue’s office, s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d 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CONTINUOUS TENS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een + present participl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286000"/>
          <a:ext cx="8229600" cy="3641760"/>
        </p:xfrm>
        <a:graphic>
          <a:graphicData uri="http://schemas.openxmlformats.org/drawingml/2006/table">
            <a:tbl>
              <a:tblPr/>
              <a:tblGrid>
                <a:gridCol w="1000080"/>
                <a:gridCol w="1971720"/>
                <a:gridCol w="2514600"/>
                <a:gridCol w="274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rm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sh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h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t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they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tuation that was in progress up to a certain point in the past. It often emphasises the duration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 he left IB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lattan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been putting togeth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software package for the UK-based chemical company 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back from a point of time in the past. The past perfect continuous looks back at a situation in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 economic situation was quite healthy. The central ban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lowe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terest rates because inf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been fall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teadily for several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ine the correct words. This exercise includes exampl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st perfect. used to, the past simple and past continu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ke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/was loo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y keys, I suddenly remembered 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ft/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d 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m at h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In those days the unio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/had used 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on strike whenever t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/was be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After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re buying/had bough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any,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rted/were start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lot of people redund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Jack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have/was hav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, but then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change/chang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Pc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about my package in reception, but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id/were say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sti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n't arrived/wasn't arriv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sure that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lock/had lock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 to my office last night, but 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/h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n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orning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m sure that the winter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be/had b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er when I was a child. I remember that w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walk/were walk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chool in the snow every winte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 gone/went bac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taurant to look for my umbrella, bu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und/was find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omeon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o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 tak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Geor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w/was see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ne at the seminar,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ew/was know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/had m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omewhere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/was hav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ked/was look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financial pages to see the share prices.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w/was see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my original invest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w/had grow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over 4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rriv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ngland in the middle of July.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ld that England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rouded in fog all year round, so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te surprised to find that it was merely raining. 2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passenger, an Englishman, about the fog and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sa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not 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since the previous February. 3 If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wa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g, he said,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com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quite the wrong time. 4 However,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tel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that I could buy tinned fog at a shop in Shaftsbury Avenue. 5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dmi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he never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u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g there himself but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ssur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that they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sel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quality fog and that it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not 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nsive. I suppose he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(jok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hen the old lad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etur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r flat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once that burglar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rea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during her absence, because the front doo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and everything in the fla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side down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urglars themselv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longer there, but they probably only jus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e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a cigarette was still burning on an ornamental tabl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ly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a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ift coming up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u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the fire escap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l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selves to her whisky too but ther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ittle left, so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pou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rself out a drink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wond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r jewellery and rathe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op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had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jeweller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her by her husband, who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i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 years befor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his death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h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 to wear it, yet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lik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l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02:37Z</dcterms:created>
  <dc:creator>http://eng.fon.rs</dc:creator>
  <dc:description/>
  <dc:language>en-US</dc:language>
  <cp:lastModifiedBy>she</cp:lastModifiedBy>
  <dcterms:modified xsi:type="dcterms:W3CDTF">2008-11-03T12:57:18Z</dcterms:modified>
  <cp:revision>5</cp:revision>
  <dc:subject/>
  <dc:title>Slide 1</dc:title>
</cp:coreProperties>
</file>