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151-DC9E-4119-A3B9-8C5F3787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18B-5814-4655-B61F-D90E8B6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083-7491-42BE-81A8-1B891D3F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66F-B697-42CD-BD3F-D7F485CF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28B5-AEAA-40C1-9B77-737FF41B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070-5800-4B9A-A889-4EB2634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7E4A-7518-4CF2-8706-B84E4684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8AAE-E9ED-40BE-A8CA-49CEB12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520-BC59-4393-AE50-C7B72D87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BA20-8AA8-4931-A169-CFB0BE5D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011A-D27C-43CD-8481-9BD6811F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092-413F-4915-BAF5-33BF90B1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25A0-7087-4294-9038-1C3A4D5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0CC8-2840-4967-ADBF-F331F41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3A01-A828-4EDB-BE45-13D3609D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08E-437D-44AA-A0FC-EE987CAE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9322-0E03-426C-BADA-D324D702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B479-4FE3-44CE-AA6B-D12582D7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78F5-CF17-40B3-93F4-57ABE43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F841-7A2F-4166-A1AA-676EE474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30A3-A384-4BF6-82FD-367A719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321A-0D1C-4F04-B213-B4630FF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DF9-39D9-4F82-B2A9-DA4308A1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CB18F-6028-4914-85D4-E4944568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FB07-AD74-44E1-91A0-CAFE11D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637E-C74D-49B3-ADB0-CFC2100F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0CCD-8610-438E-A854-D321A823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C317-E9D0-4822-AC7F-BBB975A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1743-1A6D-4BA1-B52F-6FA58AFD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7A13-A833-4320-B647-1DF7503D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DF7-856C-433F-BC11-1DE7B1D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046-C69B-410A-AB21-78C1CBDF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482-4202-422A-ABE4-85AEC11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618-F63A-4344-80FA-6F4AE52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899-132E-4EA1-BC90-5FB40C8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07F-FA83-4184-B0EC-567BE6E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809D-3ABF-44B1-AEC8-90035D37E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F909-04E0-491F-B4B9-A19D7EDEF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A82C-BD0A-4EB0-BF76-63A37151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retRek(int [] A, int k, int dg, int g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gg &lt; d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nije nad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dg+ ((gg - dg) /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[s] &gt;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retRek(A, k, dg, s-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(A[s] &lt;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inPretRek(A, value, s+1, g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nad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retIter(int [] A, int k, 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dg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gg = N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gg &lt; d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dg+ ((gg - dg) / 2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[s] &gt; 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 = s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A[s] &lt;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g= s+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nad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nije nad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goritam u svakoj iteraciji deli niz na dva jednaka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astopno delenje je log fun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kasnost binarnog pret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jgori slučaj O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ečni  O(log(N)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претраживања и основни терм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2982960"/>
                <a:gridCol w="304812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Претраживање линеарн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претражив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. Проблем претраживањ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O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новн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 упознати са проблемом претраживања и научити основне алгоритме за претраживање линераних структура: секвенцијално и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редни 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удент ће научити неке напредне алгоритме за претраживање линераних структура: интерполационо и индекс-секвенцијал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претраживања и основни терм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блем претраживањ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O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новн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се упознати са проблемом претраживања и научити основне алгоритме за претраживање линераних структура: секвенцијално и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претражи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наћи елемент у некој структури података на основу његовог кљу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елементи обично имају неки атрибут чија је вредност јединствена. Овај атрибут се назива кључ или идентифи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ло чест проблем у пра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већини случајева је то најчешћа опе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горитам претраживања доста зависи од начина организације елемената унутар стру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 често се одређена структура података и бира због погодности претражи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avan algor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ede se elementi redom počev od početka pa do kraja struk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ljiv i u slučaju realizacije preko niza i l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slučaju niza se prelazi na sledeći element povećavanjem inde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slučaju liste, prelazak se ostvaruje preko pokazivača na sledeći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kvencijalno pretraživanje n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(int [] A, int k, 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 (int i=0; 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N; i++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[i] == k) return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nije nad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ikasnost 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kvencijaln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pretraživanj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nost pre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jbol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ada je element n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jg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a je element n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ra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ečn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n+1)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n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vat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u iste, tj. jednake 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n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n+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boljšanja algori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ređivanje niza prema verovatnoći pretraži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nte algorit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 transpozi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bacivanje na početak elementa koji je pretra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 za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mena elementa koji je pretražen sa prethodnikom, tj. pomeranje za 1 mesto unap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 transpozicije daje bolje 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i u slučaju niza zahteva pomeranje svih elemenata niza – O(n) efikas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ljiv samo u slučaju sortiranih niz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eja algorit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pitati element koji se nalazi na sredini i na osnovu toga odrediti deo niza koji treba dalje pretraž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lje pretraživanje polovine niza se pretražuje na isti način rekurziv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20:28:48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