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578-E90E-490D-BCAA-EABB7AFA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30E-B99E-4682-8191-64B400B6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E30-BF53-4D4A-84A4-3349852E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C89-A7FA-43C4-9BBF-910B8054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A5C1-2479-4D28-82E3-295256C5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4BBE-2A37-4EF4-A276-365D3BBB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C8AE-1806-4D25-AB8F-E8C54C5C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0C3A-35F5-4C55-82AC-05A50535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8450-7757-484E-96F9-526404E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FA4A-5B61-4181-BBF1-E2C07643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21BA-3FF4-4A31-BD7A-8259117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797-FF67-42D3-BBA2-93E118E0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84EA-BCE7-46B5-B5A9-DB9F455C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ECED-6F69-4A6F-AB26-A31D667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8EBA-AF8E-4215-ADA4-05149FC5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0C8E-9EDF-46F4-9170-BDDB4C06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F1E6-F92A-4209-AB72-2BB341D3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0CE1-5C46-488F-91A9-56ADA4CB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EF57-CB06-435B-9BE9-7576CEF7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78DE-8943-4200-9BA9-F6CFA5D8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0E3D-1421-4707-A3CF-775B972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4A0F-CC1E-4195-AB63-4BE7BAE7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FDA-6FDF-46CE-88BD-2C4FC7CD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A3E2-D2FF-466A-AAC8-952166AD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9673-AFB1-4343-9A6C-77B5D3AD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9523-21AE-4122-996A-86731F3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00E5-3399-4B11-B474-FDAE92C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8F017-9769-4E7F-86FA-E420EDFB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B0D9E-053C-44BA-B7E4-3E05375F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88FF-70E5-4C7B-9D6B-0D7CC17A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486-0E9E-4F17-83AB-3137D89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FFE-878F-44FE-A00A-59062134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605-5082-4DA0-8CB8-1F94DE08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523-5FD9-4B3C-8151-3326E44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2D6-F19D-4AAE-A3A9-E5D3284A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334-D708-4F85-B1E5-5388B35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10B4-9D71-4270-822E-421312E00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DCB8-4E26-4687-A783-92057D4A4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A5CD-81EF-4B54-AC6B-8BC294DC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ја структуре података на рачуна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2228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Појам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Апстрактни типови података (АТП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 апстрактног тип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3.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еализација структуре података на рачун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е реализације структура података на рачун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ја структуре података на рачуна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3. Реализација структуре података на рачун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е реализације структура података на рачун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ја структуре података на рачуна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ште опер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ре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њe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јaлз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j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нструкtori (nе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збацивaњ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упљaч сме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бa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е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ж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aњ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илaзa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ја структуре података на рачуна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шти начини реа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тичка реал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з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ност: једноста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достатак: нерационално коришћење мем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намичка реал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регну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ност: рационално коришћење мем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достатак: слож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е су основне опште операције које се могу дефинисати над структурама подата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је предност статичке реализације у односу на динамич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је предност динамичке реализације у односу на статич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1:09:1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