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97A-FBB2-4A7E-BE4F-36C5F26E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247-A2D5-4917-880A-38CA039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3DE-0466-4C56-BBC2-C11DC91A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2CC-81FD-4FBD-A6F8-E483CF73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D51A-9D94-4A62-9B82-26CCED69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7877-BD50-4022-BE68-26ADAF44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62A-F249-47C4-8ECF-431B4A56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EF16-C3A5-44AC-8779-9EA3ADEF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790D-1BCB-4075-9574-991CD2C2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82AD-8968-4921-A8AD-CD1540D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ADA3-8011-4D78-9A71-2B2B625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2FC-CB14-44A2-B2AE-451A7EC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F47-900A-4AEF-8D16-768761F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88E-5E90-4411-8DD8-2881A0C3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0145-B447-4AD4-9490-C24C6F47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1F49-2292-4D65-BC91-EC400551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6DED-1264-494C-ADC3-E68BBEB0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FC8E-F2F3-4548-B8CE-88E19888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2D1D-EF42-4FFC-B769-A8BE3DFC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4412-C600-45EF-A13F-031D6FE3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49A1-910C-467D-A8C9-036D8E54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A5C5-3447-4E6B-8C59-E32E3410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1EA-91B7-4C88-A36D-0D7E04BF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EC06-C297-48F9-99B8-DECAB1DF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D47C-080F-4E8E-B4B1-61035F9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B3FA-AE4C-4114-AB36-3ADFEF4B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9225-2D7E-4CBC-B81B-4FA2C5D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0934-AF35-4735-8D00-D545DFB4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AFFC-0D54-40C2-AEC3-74F67ED0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392F-D3C6-4DF4-B84D-F17E6DE5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74C-3ED5-4DF0-8633-9535C816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9DD-A38F-4D33-9774-EF4BB1DF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DA8-A385-46BB-9EDF-F11634BC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1C9-5890-49F5-B4E7-CC1A7A5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D93-465C-45E1-84ED-93E4D86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193-1F57-486B-AE84-211A5A4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A0C3-D3D0-4009-96B9-7ED843C46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C7B2-6A43-483E-A0F8-E9309ED2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F226-BA2D-4822-862C-A607A8679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пецификација је о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ис апстр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мплементација неке апстракције је њена конкретизација на неком имплементационом средст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формалне и формалне специф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пецификације је формална ако је дата на језику чија је синтакса и семантика формално дефинис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цедуралне 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ширење скупа наредби датог програмског је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воде се због великог семантичког јаза између проблема кољи се решава и нивоа наредби програмског је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екомпозицијом (топ доwн) се своде на једноставније (на 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 нивоу апстракције) процедуралне апстракције све док се не додје д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итивних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перација имплементационог средст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p-dоwn steпwiсе rеfинеmент поступак развој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та је примитивни ниво зависи од имлементационог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пр. sin(x) је примитивна операције у вишим програмским језицима, а сложена (апстрактна) у машинском 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цедуралне апстракциј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– Прим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PlatuRadnika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to =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BrutoPrimanja(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bici =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OdbitkeRadnika(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a = bruto - odbi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BrutoPrimanja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to = brojBodova * vrednostBo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OdbitkeRadnika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bici = sindikaln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arina(r) + rataKredita(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се сложеност проблема може савлада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значи апстрактније, а шта конкретн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је поступак постепене конкретиз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је разлика између спецификација и имплемент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је нека спецификација формал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се престаје са поступком постепене конкретизације у случају процедуралних апстракциј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  <a:ea typeface="Calibri"/>
              </a:rPr>
              <a:t>Апстракције у програмирањ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135600"/>
                <a:gridCol w="289548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Апстракције у програмирањ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авладавање проблема апстраховања и овладавање основним врстама апстракциј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.1. Апстракције. Процедуралне апстрак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ховања и апстракција у програмирању. Разумевање и употреб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дуралн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х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стракциј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у програмирањ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. Апстракције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кција података, типова података и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  <a:ea typeface="Calibri"/>
              </a:rPr>
              <a:t>Апстракције у програмирањ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1. Процедуралне апстрак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ховања и апстракција у програмирању. Разумевање и употреб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дуралн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х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стракциј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у програмирањ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сновни проблем у програмирању је 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ост пробл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се це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бле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матрати и 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ти одјед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ост се 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апстракцијама, контролисаним у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м детаљ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етаљи се занемарују на неком нивоу апстракције како би се број концепата са којима се пројектант су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свео на разумну 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имер апстраховања је план 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крива небитно и приказује само битне дета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пстракције представља опис неког феномена за неке потребе у коме су свесно уклоњени детаљи непотребни са аспекта датих потр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17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ће је креирати различите апстракције за дати феномен, од којих свака уклања, односно оставља различите детаље за различите потр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р: мапа градског превоза, мапа ноћног прев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личити погледи или асп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3703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кре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протно од асптракције, добија се поступком конкретизације (детаљис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пстракција/конкретизаија су рела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но што је на једном нивоу конкретизација, на следећем се може посматрати као апстр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јерархијина апстр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застопном применом поступка апстраховања/конкретиз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00000" y="5157720"/>
          <a:ext cx="7667640" cy="9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157720"/>
                    <a:ext cx="766764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У ПРОГРАМИР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9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авремени приступи развоју софтвера базирају софтверски систем на моделу реалног света у оквиру кога он треба да се изврш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тупак апстракције/конкретизације се користи како би се од корисничких захтева стигло до извршног кода софтверског система који задовољава дате захте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Rectangle 3"/>
          <p:cNvGraphicFramePr/>
          <p:nvPr/>
        </p:nvGraphicFramePr>
        <p:xfrm>
          <a:off x="1763640" y="4030560"/>
          <a:ext cx="57801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030560"/>
                    <a:ext cx="57801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У ПРОГРАМИР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врху хијерархије су кориснички захтеви као крајња апстракција софтверског система, а на дну је извршна верзија система као крајња конкретизацију датог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24000" y="3860640"/>
          <a:ext cx="460872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860640"/>
                    <a:ext cx="46087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2T19:32:05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