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89DB-B465-4BD0-BDD2-39829154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4735-0EF2-48B8-80A7-8470D57E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E059-FDB9-470C-8211-5E83ABF8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572C-1161-4F83-AF8D-0BD978D1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C609-B2B8-4F8D-8D43-56729041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5609-5760-4757-B564-F2B9FAAD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ED86-38F4-4375-A17E-CE08A14B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B71B-3102-42C4-BA72-5A1D4E7A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6CE1-CBC3-4012-BB73-AB684E79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E3BD-5F89-4761-BDFA-248F7B06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6E50-C076-47D5-A333-C42F1E4A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4883-0FBA-4BD9-89A4-F9C2E0BE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55B5-C337-4B6D-BF08-0BF3DC3B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AA0C-7B94-4B12-A99F-B6E87BA5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C1A5-9375-4E41-8111-46AF01F2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CC59-35FF-4B30-9870-808C1C33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E080-744E-4F78-9B18-E16A8729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5F4F6-8321-491E-B5AC-FAD0BB48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5045F-5868-462A-A68F-E6C0ACA5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05D69-D117-47C5-A8BE-264FE48A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E3216-8005-4F6C-BB6D-731D5E26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64EFD-04DD-4224-8CC8-922CEC3C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5B65-75B7-4D5A-9C62-2478F9B5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346D4-CC5C-4C18-842A-4386D1FD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411D6-13DD-434C-9E47-A51455E0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1B226-4B48-4C63-9BC7-A607A834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0CF5F-50AB-43E4-9AB3-29EA7D9A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5201C-2197-4934-B5E9-9F5D6511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1D4FD-0E5F-4DBE-8229-2453A49A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2AD49-9C13-42E9-9582-6DFE0A57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CC63-8879-4195-80F6-44B7CA87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43A1-990A-43B3-8829-2605F57B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3208-A663-4A84-AB43-7337E48E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C80C-4BA9-4255-84ED-B86D75F1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2F54-2F55-4F1E-8B5B-84D4160F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CCE-C8AF-49BC-8D36-64AF1528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337B-6A12-4940-9C95-9AF39D65B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B746-4161-4121-BD50-A7D7E213E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D7C3-813D-4DB6-8110-B88908C04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ubble s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ev od kraja niza 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ređuje susedne elemente i zamenjuje ih ukoliko nisu u odgovarajućem 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led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jm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vrednosti “isplivava na površinu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dseća na izranjanje mehurića iz v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k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s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ev od početka niza 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ređuje susedne elemente i zamenjuje ih ukoliko nisu u odgovarajućem 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led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jveć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vrednosti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on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k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s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2209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27432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32767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14600" y="43434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14600" y="38098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14600" y="48769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7432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ahoma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32767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2209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43434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38098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48769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38098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43434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2209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00600" y="32767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ahoma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27432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48769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43600" y="43434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ahoma"/>
                <a:ea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48769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2209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943600" y="32767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43600" y="27432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38098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0092 L -0.02118 0.01991 C -0.02604 0.02431 -0.02865 0.03125 -0.02865 0.03796 C -0.02865 0.04583 -0.02604 0.05232 -0.02118 0.05695 L 0.00052 0.07847 E">
                                      <p:cBhvr>
                                        <p:cTn id="247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1.11111E-006 L 0.02205 -0.02107 C 0.02691 -0.02546 0.02969 -0.03195 0.02969 -0.03889 C 0.02969 -0.04653 0.02691 -0.05278 0.02205 -0.05718 L 0.00052 -0.07778 E">
                                      <p:cBhvr>
                                        <p:cTn id="249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0093 L -0.02118 0.01991 C -0.02604 0.0243 -0.02865 0.03125 -0.02865 0.03796 C -0.02865 0.04583 -0.02604 0.05231 -0.02118 0.05694 L 0.00052 0.07847 E">
                                      <p:cBhvr>
                                        <p:cTn id="27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092 L 0.02205 -0.02014 C 0.02691 -0.02454 0.02969 -0.03102 0.02969 -0.03797 C 0.02969 -0.04561 0.02691 -0.05186 0.02205 -0.05625 L 0.00052 -0.07686 E">
                                      <p:cBhvr>
                                        <p:cTn id="27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0092 L -0.02118 0.01991 C -0.02604 0.02431 -0.02865 0.03125 -0.02865 0.03797 C -0.02865 0.04584 -0.02604 0.05232 -0.02118 0.05695 L 0.00052 0.07848 E">
                                      <p:cBhvr>
                                        <p:cTn id="312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093 L 0.02205 -0.02014 C 0.02691 -0.02453 0.02969 -0.03102 0.02969 -0.03796 C 0.02969 -0.0456 0.02691 -0.05185 0.02205 -0.05625 L 0.00052 -0.07685 E">
                                      <p:cBhvr>
                                        <p:cTn id="314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0092 L -0.02118 0.01991 C -0.02604 0.02431 -0.02865 0.03125 -0.02865 0.03797 C -0.02865 0.04584 -0.02604 0.05232 -0.02118 0.05695 L 0.00052 0.07848 E">
                                      <p:cBhvr>
                                        <p:cTn id="341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093 L 0.02205 -0.02014 C 0.02691 -0.02453 0.02969 -0.03102 0.02969 -0.03796 C 0.02969 -0.0456 0.02691 -0.05185 0.02205 -0.05625 L 0.00052 -0.07685 E">
                                      <p:cBhvr>
                                        <p:cTn id="343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14400" y="1371600"/>
            <a:ext cx="7391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ink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Sort(int[] a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int i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Arial"/>
              </a:rPr>
              <a:t>, 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j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Arial"/>
              </a:rPr>
              <a:t>, 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for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(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i = 0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; i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&lt;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Array.length -1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;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i++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for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( j =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; j &lt;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aArray.length -2 - i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; j++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if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( a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rray[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j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] &gt; a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rray[j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+1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]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temp = a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rray[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j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rray[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j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] = a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rray[j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+1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rray[j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+1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] = 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k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s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Приказ и анализа ефикасности различитих алгоритама за сортира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513252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начинима сортирања линеарних структу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6.1. Приказ и анализа ефикасности различитих алгоритама за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репродукује начине анализе ефикасности алгоритама за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2. Алгоритми за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користи следеће алгоритме за сортирање: метода селекције, метода сортирања убацивањем, мехурасти сорт, брзи сорт, сортирање спајањ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Приказ и анализа ефикасности различитих алгоритама за сортира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51920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6.1. Приказ и анализа ефикасности различитих алгоритама за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репродукује начине анализе ефикасности алгоритама за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Calibri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облем сортира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ортирање је операција која уређује све еле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те низа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растућем или опадајућем редосл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[i] &lt;= a[i+1] za svako i=1,n –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стућ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[i] =&gt; a[i+1] za svako i=1,n –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падајућ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многим ситуацијама су потребни сортирани низ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ер алгоритам за бинарно претражив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goritmi za sortir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тода избора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тода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amen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(Sink) 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тода уметања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ion 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Шелова метода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ll 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тода гомиле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p s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тода спајања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ge 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за метода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election s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ortiranje element po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lazak kroz nesortiran deo i pronalaženje najmanjeg/najvećeg elem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dnostavan za implementa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fikasan na malom broju po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ikasnost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2 poređenja i n zame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ustracija Selection s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19051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9051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038480" y="1905120"/>
            <a:ext cx="2133720" cy="533160"/>
            <a:chOff x="4038480" y="1905120"/>
            <a:chExt cx="2133720" cy="533160"/>
          </a:xfrm>
        </p:grpSpPr>
        <p:sp>
          <p:nvSpPr>
            <p:cNvPr id="141" name=""/>
            <p:cNvSpPr/>
            <p:nvPr/>
          </p:nvSpPr>
          <p:spPr>
            <a:xfrm>
              <a:off x="4038480" y="1905120"/>
              <a:ext cx="5335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1905120"/>
              <a:ext cx="5335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05520" y="1905120"/>
              <a:ext cx="53316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38680" y="1905120"/>
              <a:ext cx="5335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971800" y="26668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00"/>
                </a:solidFill>
                <a:latin typeface="Tahom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26668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26668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572000" y="2666880"/>
            <a:ext cx="1600200" cy="533160"/>
            <a:chOff x="4572000" y="2666880"/>
            <a:chExt cx="1600200" cy="533160"/>
          </a:xfrm>
        </p:grpSpPr>
        <p:sp>
          <p:nvSpPr>
            <p:cNvPr id="149" name=""/>
            <p:cNvSpPr/>
            <p:nvPr/>
          </p:nvSpPr>
          <p:spPr>
            <a:xfrm>
              <a:off x="4572000" y="2666880"/>
              <a:ext cx="5335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5520" y="2666880"/>
              <a:ext cx="53316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38680" y="2666880"/>
              <a:ext cx="5335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038480" y="3429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3429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971800" y="3429000"/>
            <a:ext cx="3200400" cy="533160"/>
            <a:chOff x="2971800" y="3429000"/>
            <a:chExt cx="3200400" cy="533160"/>
          </a:xfrm>
        </p:grpSpPr>
        <p:grpSp>
          <p:nvGrpSpPr>
            <p:cNvPr id="155" name=""/>
            <p:cNvGrpSpPr/>
            <p:nvPr/>
          </p:nvGrpSpPr>
          <p:grpSpPr>
            <a:xfrm>
              <a:off x="2971800" y="3429000"/>
              <a:ext cx="1066680" cy="533160"/>
              <a:chOff x="2971800" y="3429000"/>
              <a:chExt cx="1066680" cy="533160"/>
            </a:xfrm>
          </p:grpSpPr>
          <p:sp>
            <p:nvSpPr>
              <p:cNvPr id="156" name=""/>
              <p:cNvSpPr/>
              <p:nvPr/>
            </p:nvSpPr>
            <p:spPr>
              <a:xfrm>
                <a:off x="2971800" y="3429000"/>
                <a:ext cx="533520" cy="533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003300"/>
                    </a:solidFill>
                    <a:latin typeface="Tahoma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505320" y="3429000"/>
                <a:ext cx="533160" cy="533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003300"/>
                    </a:solidFill>
                    <a:latin typeface="Tahoma"/>
                    <a:ea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572000" y="3429000"/>
              <a:ext cx="1600200" cy="533160"/>
              <a:chOff x="4572000" y="3429000"/>
              <a:chExt cx="1600200" cy="533160"/>
            </a:xfrm>
          </p:grpSpPr>
          <p:sp>
            <p:nvSpPr>
              <p:cNvPr id="159" name=""/>
              <p:cNvSpPr/>
              <p:nvPr/>
            </p:nvSpPr>
            <p:spPr>
              <a:xfrm>
                <a:off x="4572000" y="3429000"/>
                <a:ext cx="533520" cy="533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638680" y="3429000"/>
                <a:ext cx="533520" cy="533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2971800" y="4191120"/>
            <a:ext cx="1600200" cy="533160"/>
            <a:chOff x="2971800" y="4191120"/>
            <a:chExt cx="1600200" cy="533160"/>
          </a:xfrm>
        </p:grpSpPr>
        <p:sp>
          <p:nvSpPr>
            <p:cNvPr id="162" name=""/>
            <p:cNvSpPr/>
            <p:nvPr/>
          </p:nvSpPr>
          <p:spPr>
            <a:xfrm>
              <a:off x="2971800" y="4191120"/>
              <a:ext cx="5335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3300"/>
                  </a:solidFill>
                  <a:latin typeface="Tahoma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05320" y="4191120"/>
              <a:ext cx="53316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3300"/>
                  </a:solidFill>
                  <a:latin typeface="Tahoma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38480" y="4191120"/>
              <a:ext cx="5335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3300"/>
                  </a:solidFill>
                  <a:latin typeface="Tahoma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4572000" y="41911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41911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38680" y="41911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71800" y="49528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00"/>
                </a:solidFill>
                <a:latin typeface="Tahom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49528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00"/>
                </a:solidFill>
                <a:latin typeface="Tahoma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38480" y="49528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00"/>
                </a:solidFill>
                <a:latin typeface="Tahoma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49528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00"/>
                </a:solidFill>
                <a:latin typeface="Tahoma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49528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49528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069 L -0.01493 0.02893 C -0.01823 0.03541 -0.02292 0.03958 -0.02778 0.03958 C -0.03368 0.03958 -0.03819 0.03541 -0.04149 0.02893 L -0.05625 0.00069 E">
                                      <p:cBhvr>
                                        <p:cTn id="95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007 L 0.01684 -0.02847 C 0.02014 -0.03518 0.02517 -0.03865 0.03003 -0.03865 C 0.03593 -0.03865 0.04045 -0.03518 0.04392 -0.02847 L 0.06007 0.0007 E">
                                      <p:cBhvr>
                                        <p:cTn id="97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116 L -0.01614 0.02986 C -0.01961 0.03635 -0.02448 0.04005 -0.02951 0.04005 C -0.03541 0.04005 -0.0401 0.03635 -0.04357 0.02986 L -0.0592 0.00116 E">
                                      <p:cBhvr>
                                        <p:cTn id="123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0069 L 0.01372 -0.02824 C 0.01701 -0.03472 0.02222 -0.0382 0.02726 -0.0382 C 0.03299 -0.0382 0.03785 -0.03472 0.04115 -0.02824 L 0.05747 0.00069 E">
                                      <p:cBhvr>
                                        <p:cTn id="125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069 L -0.03142 0.04583 C -0.03785 0.05602 -0.04774 0.0618 -0.05799 0.0618 C -0.06962 0.0618 -0.07899 0.05602 -0.08542 0.04583 L -0.11667 0.00069 E">
                                      <p:cBhvr>
                                        <p:cTn id="147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.0007 L 0.03177 -0.04467 C 0.03837 -0.05486 0.04792 -0.06041 0.05834 -0.06041 C 0.06997 -0.06041 0.07917 -0.05486 0.08577 -0.04467 L 0.11754 0.0007 E">
                                      <p:cBhvr>
                                        <p:cTn id="149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069 L -0.03142 0.04583 C -0.03784 0.05602 -0.04757 0.06181 -0.05764 0.06181 C -0.06944 0.06181 -0.07864 0.05602 -0.08507 0.04583 L -0.11562 0.00069 E">
                                      <p:cBhvr>
                                        <p:cTn id="174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1.11022E-016 L 0.03316 -0.04537 C 0.03958 -0.05556 0.04896 -0.06111 0.05885 -0.06111 C 0.07014 -0.06111 0.07899 -0.05556 0.08541 -0.04537 L 0.11562 1.11022E-016 E">
                                      <p:cBhvr>
                                        <p:cTn id="17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137160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public void SelectionSort(int[] a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int i, 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int min, 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for (i = 0; i &lt; a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rray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.l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ength - 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min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for (j = i + 1; j &lt; a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rray.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l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ength; j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if (a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rray[j] &lt; a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rray[min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   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min = 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temp = a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rray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rray[i] = a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rray[min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rray[min] = 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goritam Selection s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toda zam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poređuje susedne elemente i zamenjuje ih ukoliko nisu u odgovarajućem red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toje dve verzije algorit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bble 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nk 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2 por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enja 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2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mena u proseku i u najgorem sluča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jsporiji od svih O(n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 algorit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6T08:34:56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