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79D-07FA-4637-ABBE-6069BD42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988-0E67-4F9D-8955-D222BE1C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1E4-6596-4E70-A712-5E36FFA2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B8D-9F78-4EEB-99AC-EFCB0C48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087-0503-44FD-929B-8C5BEC4E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1FC-93DF-4066-8088-3A9E623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D5C-08E5-44BF-9A8B-4C24086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2C0-A70A-43C2-B9FF-3E1DA140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25F-E450-40A4-80C5-5BAFEC6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2BCC-DB23-4D60-AFAB-2E622BB2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72A3-F3D2-424D-849E-B4144BFF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EF0-1D26-44DB-B8E8-A87836E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EEC5-FB25-414F-A551-B9D3E17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5AB2-205F-4D3B-B66F-879A8826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CC6-7E0F-4D4D-AF70-84575A3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B98C-4C89-444E-9ED7-C7360609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3DE8-0798-4BD4-A3C7-F6092FCB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663B-E282-47CF-96DC-0548AB4D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7AD6-C294-4A7A-9337-12F7F5A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1BCE-5D2A-4323-9FEE-A4BF6618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40D2-8EA7-4A15-A14F-367743CA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FE35-65C7-408A-95B3-F6B29D14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B9D-4D5E-44E6-9435-2DF034C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364B-14D5-4C35-B5C3-B071B6B1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9C75-0972-462B-BB3B-7F336E4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02A9-A355-4259-A9F2-F1D2E23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808E-4A46-432A-9909-624176F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D88E-58DC-4B81-87F4-3968C685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930B-BF9D-4617-ACB9-9C8F7190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4C2E-BEF2-48AA-936D-7C47C1AB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BE5-8864-4352-83B6-0C4820B5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EF4-E54F-4B07-8BFE-CF0DB358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BA1-D63B-401D-B33F-47FD662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473-C4B9-483C-AC35-CD41381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7C9-128A-4766-A9B9-2BEEFAF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053-5333-43F1-AD85-1F95BC9F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F95E-2C70-4020-8F57-81481C29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088-03B3-4A67-B98E-8B41D2E8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95E5-F3CE-4058-B7A9-C1F94860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vostruk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Rectangle 3"/>
          <p:cNvGraphicFramePr/>
          <p:nvPr/>
        </p:nvGraphicFramePr>
        <p:xfrm>
          <a:off x="2971800" y="1600200"/>
          <a:ext cx="334152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00200"/>
                    <a:ext cx="334152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a kra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baci n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ak (prep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 sa kraja (delete l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sa početka (delete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Pr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Za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list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rana struktura bez ograničenja na mesto ubacivanja ili iz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isanje svih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 čemu se međusobno razlikuju različite vrste linearnih struk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će biti izbačen element koji je prvi ubačen u st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razlika između reda i dvostruk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к, Ред и л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Стак, Ред и 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Дефинициј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начине дефинисања основних линеарних структур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к, Ред и л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Стак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Ред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инеарн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линерано уређени, тј. однос елемената у структури је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претходи тачно један елемент, осим једном посебном елементу који се назива пр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следи тачно један елемент, осим једном посебном елементу који се назива последњ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1219320" y="2743200"/>
          <a:ext cx="655308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6553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линеарн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кују се по месту (локацији) где се врши убацивање и избацивање еле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к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st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и избаци са истог кр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на једном, избаци са другог кр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оструки ре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double queue - De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избаци само на краје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ста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/избаци било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FO struktura (Last In First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Držač za Pez bom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05040"/>
            <a:ext cx="1831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(Pu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vrh (P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zan st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 st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FO struktura (First In First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Red u prod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3050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(En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(De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zan r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20:05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