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BDA-CD62-4A6B-AD75-A9A5E483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173-4EEA-4A68-9527-51C4F3A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DCA-D8DA-40EB-BFD2-FD969E73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0EB-CF20-4AC6-8D82-A63D518A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CE28-3543-4688-9E98-51AA97B4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0B8A-0B93-4F86-82D2-FD21AF7F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9BF3-0C10-4548-B603-884405C3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FF4A-B69C-4E74-866A-F067062F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F5A8-9E90-41C4-8E15-C3E8FB18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FF61-33DD-4C64-B9C4-CFE446E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5C0C-640D-44E5-AF32-FFC4492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7EF-C980-412B-B8F3-9762487E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5074-4FE9-43AF-A32E-1CFC810C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AEFB-D70A-4FAE-872F-CBE4B969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88A5-9448-4D76-8B60-4CA0D25F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F142-99B5-4D33-A047-B0D9D178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E198-5600-4EF1-9680-ACD325F4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0103-A4C3-4577-9DC0-80342F9E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215C-4FD5-482C-82E1-94BAED2F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9108-4398-4566-AA31-43627C1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2553-76D2-430B-B3B3-817B194C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8C3D-983A-4D20-B901-8A441B1F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307-F6AF-483B-85B4-AA135CB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6C79-6267-4B5C-914A-65D492F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0D13-6A1A-4550-9F80-4A274F9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430C-309A-40BA-8098-A55649F3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A6C6-F1B5-4632-BE40-28F861D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BF04-06F2-4465-BEEE-6E094E7E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0EB6-2E72-4232-B644-698F74F6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4208-599F-4143-B4FF-104CF0F9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0F0-596D-495A-88A0-005E44B9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F0D-CE6C-4A8A-AD8E-64D41532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8E0-FF80-4325-813E-9D1D408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4B6-A49D-4E59-8D98-740737D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7D1-38B2-44BA-BB87-F67C81B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CAA-4F59-4637-8439-1753AFC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8FFE-5346-4825-96D3-8C00F410D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244A-DB60-49FD-9A8C-F9E128940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AB9-F930-4F58-AE27-BEC503D5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динамичких стру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Имплементација преко н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ни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Имплементација преко динамичк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других динамичк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динамичких стру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Имплементација преко динамичк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других динамичк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namička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2666880"/>
            <a:ext cx="977760" cy="533520"/>
            <a:chOff x="2286000" y="2666880"/>
            <a:chExt cx="977760" cy="533520"/>
          </a:xfrm>
        </p:grpSpPr>
        <p:sp>
          <p:nvSpPr>
            <p:cNvPr id="134" name=""/>
            <p:cNvSpPr/>
            <p:nvPr/>
          </p:nvSpPr>
          <p:spPr>
            <a:xfrm>
              <a:off x="2286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6536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76720" y="2666880"/>
            <a:ext cx="1523880" cy="533520"/>
            <a:chOff x="3276720" y="2666880"/>
            <a:chExt cx="1523880" cy="533520"/>
          </a:xfrm>
        </p:grpSpPr>
        <p:grpSp>
          <p:nvGrpSpPr>
            <p:cNvPr id="137" name=""/>
            <p:cNvGrpSpPr/>
            <p:nvPr/>
          </p:nvGrpSpPr>
          <p:grpSpPr>
            <a:xfrm>
              <a:off x="3276720" y="2666880"/>
              <a:ext cx="1066680" cy="533520"/>
              <a:chOff x="3276720" y="2666880"/>
              <a:chExt cx="1066680" cy="533520"/>
            </a:xfrm>
          </p:grpSpPr>
          <p:sp>
            <p:nvSpPr>
              <p:cNvPr id="138" name=""/>
              <p:cNvSpPr/>
              <p:nvPr/>
            </p:nvSpPr>
            <p:spPr>
              <a:xfrm>
                <a:off x="3276720" y="26668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9880" y="26668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10220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00600" y="2666880"/>
            <a:ext cx="1523880" cy="533520"/>
            <a:chOff x="4800600" y="2666880"/>
            <a:chExt cx="1523880" cy="533520"/>
          </a:xfrm>
        </p:grpSpPr>
        <p:grpSp>
          <p:nvGrpSpPr>
            <p:cNvPr id="142" name=""/>
            <p:cNvGrpSpPr/>
            <p:nvPr/>
          </p:nvGrpSpPr>
          <p:grpSpPr>
            <a:xfrm>
              <a:off x="4800600" y="2666880"/>
              <a:ext cx="1066680" cy="533520"/>
              <a:chOff x="4800600" y="2666880"/>
              <a:chExt cx="1066680" cy="533520"/>
            </a:xfrm>
          </p:grpSpPr>
          <p:sp>
            <p:nvSpPr>
              <p:cNvPr id="143" name=""/>
              <p:cNvSpPr/>
              <p:nvPr/>
            </p:nvSpPr>
            <p:spPr>
              <a:xfrm>
                <a:off x="4800600" y="26668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4120" y="26668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62608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324480" y="2666880"/>
            <a:ext cx="1447920" cy="933480"/>
            <a:chOff x="6324480" y="2666880"/>
            <a:chExt cx="1447920" cy="933480"/>
          </a:xfrm>
        </p:grpSpPr>
        <p:sp>
          <p:nvSpPr>
            <p:cNvPr id="147" name=""/>
            <p:cNvSpPr/>
            <p:nvPr/>
          </p:nvSpPr>
          <p:spPr>
            <a:xfrm>
              <a:off x="63244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124760" y="2933640"/>
              <a:ext cx="466560" cy="533520"/>
              <a:chOff x="7124760" y="2933640"/>
              <a:chExt cx="466560" cy="533520"/>
            </a:xfrm>
          </p:grpSpPr>
          <p:sp>
            <p:nvSpPr>
              <p:cNvPr id="150" name=""/>
              <p:cNvSpPr/>
              <p:nvPr/>
            </p:nvSpPr>
            <p:spPr>
              <a:xfrm>
                <a:off x="7124760" y="293364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91320" y="29336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391520" y="3505320"/>
              <a:ext cx="380880" cy="95040"/>
              <a:chOff x="7391520" y="3505320"/>
              <a:chExt cx="380880" cy="95040"/>
            </a:xfrm>
          </p:grpSpPr>
          <p:sp>
            <p:nvSpPr>
              <p:cNvPr id="153" name=""/>
              <p:cNvSpPr/>
              <p:nvPr/>
            </p:nvSpPr>
            <p:spPr>
              <a:xfrm>
                <a:off x="7467480" y="3552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43800" y="36003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1520" y="3505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22840" y="2666880"/>
            <a:ext cx="3949560" cy="857160"/>
            <a:chOff x="3822840" y="2666880"/>
            <a:chExt cx="3949560" cy="857160"/>
          </a:xfrm>
        </p:grpSpPr>
        <p:grpSp>
          <p:nvGrpSpPr>
            <p:cNvPr id="159" name=""/>
            <p:cNvGrpSpPr/>
            <p:nvPr/>
          </p:nvGrpSpPr>
          <p:grpSpPr>
            <a:xfrm>
              <a:off x="3822840" y="2666880"/>
              <a:ext cx="977760" cy="533520"/>
              <a:chOff x="3822840" y="2666880"/>
              <a:chExt cx="977760" cy="533520"/>
            </a:xfrm>
          </p:grpSpPr>
          <p:sp>
            <p:nvSpPr>
              <p:cNvPr id="160" name=""/>
              <p:cNvSpPr/>
              <p:nvPr/>
            </p:nvSpPr>
            <p:spPr>
              <a:xfrm>
                <a:off x="3822840" y="26668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02200" y="293364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800600" y="2666880"/>
              <a:ext cx="1523880" cy="533520"/>
              <a:chOff x="4800600" y="2666880"/>
              <a:chExt cx="1523880" cy="5335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4800600" y="2666880"/>
                <a:ext cx="1066680" cy="533520"/>
                <a:chOff x="4800600" y="2666880"/>
                <a:chExt cx="1066680" cy="5335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800600" y="266688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34120" y="266688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5626080" y="293364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2666880"/>
              <a:ext cx="1447920" cy="857160"/>
              <a:chOff x="6324480" y="2666880"/>
              <a:chExt cx="1447920" cy="85716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7124760" y="2933640"/>
                <a:ext cx="647640" cy="590400"/>
                <a:chOff x="7124760" y="2933640"/>
                <a:chExt cx="647640" cy="5904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7124760" y="2933640"/>
                  <a:ext cx="466560" cy="419040"/>
                  <a:chOff x="7124760" y="2933640"/>
                  <a:chExt cx="466560" cy="419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7124760" y="293364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591320" y="2933640"/>
                    <a:ext cx="0" cy="419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391520" y="3429000"/>
                  <a:ext cx="380880" cy="95040"/>
                  <a:chOff x="7391520" y="3429000"/>
                  <a:chExt cx="380880" cy="950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4674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543800" y="352404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391520" y="3429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6324480" y="2666880"/>
                <a:ext cx="1067040" cy="533520"/>
                <a:chOff x="6324480" y="2666880"/>
                <a:chExt cx="1067040" cy="5335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858000" y="266688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24480" y="266688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"/>
          <p:cNvGrpSpPr/>
          <p:nvPr/>
        </p:nvGrpSpPr>
        <p:grpSpPr>
          <a:xfrm>
            <a:off x="2362320" y="4548240"/>
            <a:ext cx="5486400" cy="856440"/>
            <a:chOff x="2362320" y="4548240"/>
            <a:chExt cx="5486400" cy="856440"/>
          </a:xfrm>
        </p:grpSpPr>
        <p:grpSp>
          <p:nvGrpSpPr>
            <p:cNvPr id="180" name=""/>
            <p:cNvGrpSpPr/>
            <p:nvPr/>
          </p:nvGrpSpPr>
          <p:grpSpPr>
            <a:xfrm>
              <a:off x="2362320" y="4552920"/>
              <a:ext cx="977760" cy="533520"/>
              <a:chOff x="2362320" y="4552920"/>
              <a:chExt cx="977760" cy="533520"/>
            </a:xfrm>
          </p:grpSpPr>
          <p:sp>
            <p:nvSpPr>
              <p:cNvPr id="181" name=""/>
              <p:cNvSpPr/>
              <p:nvPr/>
            </p:nvSpPr>
            <p:spPr>
              <a:xfrm>
                <a:off x="2362320" y="455292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41680" y="481968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352680" y="4552920"/>
              <a:ext cx="1523880" cy="533520"/>
              <a:chOff x="3352680" y="4552920"/>
              <a:chExt cx="1523880" cy="5335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3352680" y="4552920"/>
                <a:ext cx="1066680" cy="533520"/>
                <a:chOff x="3352680" y="4552920"/>
                <a:chExt cx="1066680" cy="533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352680" y="455292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85840" y="455292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4178160" y="481968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876920" y="4552920"/>
              <a:ext cx="1523880" cy="533520"/>
              <a:chOff x="4876920" y="4552920"/>
              <a:chExt cx="1523880" cy="5335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876920" y="4552920"/>
                <a:ext cx="1066680" cy="533520"/>
                <a:chOff x="4876920" y="4552920"/>
                <a:chExt cx="1066680" cy="533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76920" y="455292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410440" y="455292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5702400" y="481968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400800" y="4548240"/>
              <a:ext cx="1447920" cy="856440"/>
              <a:chOff x="6400800" y="4548240"/>
              <a:chExt cx="1447920" cy="8564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7201080" y="4814640"/>
                <a:ext cx="647640" cy="590040"/>
                <a:chOff x="7201080" y="4814640"/>
                <a:chExt cx="647640" cy="59004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7201080" y="4814640"/>
                  <a:ext cx="466560" cy="418680"/>
                  <a:chOff x="7201080" y="4814640"/>
                  <a:chExt cx="466560" cy="4186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7201080" y="481464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667640" y="4814640"/>
                    <a:ext cx="0" cy="418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467840" y="5309640"/>
                  <a:ext cx="380880" cy="95040"/>
                  <a:chOff x="7467840" y="5309640"/>
                  <a:chExt cx="380880" cy="950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7543800" y="5357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620120" y="540468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467840" y="53096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6400800" y="4548240"/>
                <a:ext cx="1067040" cy="533160"/>
                <a:chOff x="6400800" y="4548240"/>
                <a:chExt cx="1067040" cy="533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934320" y="454824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400800" y="454824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5" name=""/>
          <p:cNvGrpSpPr/>
          <p:nvPr/>
        </p:nvGrpSpPr>
        <p:grpSpPr>
          <a:xfrm>
            <a:off x="3733920" y="3200040"/>
            <a:ext cx="1143000" cy="914760"/>
            <a:chOff x="3733920" y="3200040"/>
            <a:chExt cx="1143000" cy="91476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3581280"/>
              <a:ext cx="1066680" cy="533520"/>
              <a:chOff x="3733920" y="3581280"/>
              <a:chExt cx="1066680" cy="5335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35812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cc0000"/>
                    </a:solidFill>
                    <a:latin typeface="Tahoma"/>
                    <a:ea typeface="Arial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67080" y="35812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V="1">
              <a:off x="4559400" y="3200040"/>
              <a:ext cx="317520" cy="647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3965400" y="2933640"/>
            <a:ext cx="13824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371840" y="2790720"/>
            <a:ext cx="304560" cy="304560"/>
            <a:chOff x="4371840" y="2790720"/>
            <a:chExt cx="304560" cy="304560"/>
          </a:xfrm>
        </p:grpSpPr>
        <p:sp>
          <p:nvSpPr>
            <p:cNvPr id="212" name=""/>
            <p:cNvSpPr/>
            <p:nvPr/>
          </p:nvSpPr>
          <p:spPr>
            <a:xfrm>
              <a:off x="4371840" y="27907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371840" y="27907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467160" y="2681280"/>
            <a:ext cx="837360" cy="837360"/>
            <a:chOff x="3467160" y="2681280"/>
            <a:chExt cx="837360" cy="837360"/>
          </a:xfrm>
        </p:grpSpPr>
        <p:sp>
          <p:nvSpPr>
            <p:cNvPr id="217" name=""/>
            <p:cNvSpPr/>
            <p:nvPr/>
          </p:nvSpPr>
          <p:spPr>
            <a:xfrm>
              <a:off x="3467160" y="2681280"/>
              <a:ext cx="837360" cy="837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467160" y="2681280"/>
              <a:ext cx="837360" cy="837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362320" y="2819520"/>
            <a:ext cx="5486400" cy="856440"/>
            <a:chOff x="2362320" y="2819520"/>
            <a:chExt cx="5486400" cy="856440"/>
          </a:xfrm>
        </p:grpSpPr>
        <p:grpSp>
          <p:nvGrpSpPr>
            <p:cNvPr id="220" name=""/>
            <p:cNvGrpSpPr/>
            <p:nvPr/>
          </p:nvGrpSpPr>
          <p:grpSpPr>
            <a:xfrm>
              <a:off x="2362320" y="2824200"/>
              <a:ext cx="977760" cy="533520"/>
              <a:chOff x="2362320" y="2824200"/>
              <a:chExt cx="977760" cy="533520"/>
            </a:xfrm>
          </p:grpSpPr>
          <p:sp>
            <p:nvSpPr>
              <p:cNvPr id="221" name=""/>
              <p:cNvSpPr/>
              <p:nvPr/>
            </p:nvSpPr>
            <p:spPr>
              <a:xfrm>
                <a:off x="2362320" y="282420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41680" y="309096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352680" y="2824200"/>
              <a:ext cx="1523880" cy="533520"/>
              <a:chOff x="3352680" y="2824200"/>
              <a:chExt cx="1523880" cy="5335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352680" y="2824200"/>
                <a:ext cx="1066680" cy="533520"/>
                <a:chOff x="3352680" y="2824200"/>
                <a:chExt cx="1066680" cy="533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352680" y="282420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85840" y="282420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4178160" y="309096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876920" y="2824200"/>
              <a:ext cx="1523880" cy="533520"/>
              <a:chOff x="4876920" y="2824200"/>
              <a:chExt cx="1523880" cy="53352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4876920" y="2824200"/>
                <a:ext cx="1066680" cy="533520"/>
                <a:chOff x="4876920" y="2824200"/>
                <a:chExt cx="1066680" cy="5335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876920" y="282420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10440" y="282420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702400" y="309096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400800" y="2819520"/>
              <a:ext cx="1447920" cy="856440"/>
              <a:chOff x="6400800" y="2819520"/>
              <a:chExt cx="1447920" cy="8564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201080" y="3085920"/>
                <a:ext cx="647640" cy="590040"/>
                <a:chOff x="7201080" y="3085920"/>
                <a:chExt cx="647640" cy="59004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7201080" y="3085920"/>
                  <a:ext cx="466560" cy="418680"/>
                  <a:chOff x="7201080" y="3085920"/>
                  <a:chExt cx="466560" cy="4186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201080" y="308592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667640" y="3085920"/>
                    <a:ext cx="0" cy="418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467840" y="3580920"/>
                  <a:ext cx="380880" cy="95040"/>
                  <a:chOff x="7467840" y="3580920"/>
                  <a:chExt cx="380880" cy="950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543800" y="36284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0120" y="367596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467840" y="3580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6400800" y="2819520"/>
                <a:ext cx="1067040" cy="533160"/>
                <a:chOff x="6400800" y="2819520"/>
                <a:chExt cx="1067040" cy="533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934320" y="28195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400800" y="28195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2957400" y="2938320"/>
            <a:ext cx="304560" cy="304560"/>
            <a:chOff x="2957400" y="2938320"/>
            <a:chExt cx="304560" cy="304560"/>
          </a:xfrm>
        </p:grpSpPr>
        <p:sp>
          <p:nvSpPr>
            <p:cNvPr id="246" name=""/>
            <p:cNvSpPr/>
            <p:nvPr/>
          </p:nvSpPr>
          <p:spPr>
            <a:xfrm>
              <a:off x="2957400" y="29383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957400" y="29383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643120" y="3090960"/>
            <a:ext cx="2224080" cy="533160"/>
          </a:xfrm>
          <a:custGeom>
            <a:avLst/>
            <a:gdLst/>
            <a:ahLst/>
            <a:rect l="l" t="t" r="r" b="b"/>
            <a:pathLst>
              <a:path w="1392" h="336">
                <a:moveTo>
                  <a:pt x="0" y="0"/>
                </a:moveTo>
                <a:cubicBezTo>
                  <a:pt x="268" y="168"/>
                  <a:pt x="536" y="336"/>
                  <a:pt x="768" y="336"/>
                </a:cubicBezTo>
                <a:cubicBezTo>
                  <a:pt x="1000" y="336"/>
                  <a:pt x="1288" y="40"/>
                  <a:pt x="1392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98800" y="4552920"/>
            <a:ext cx="3949560" cy="856440"/>
            <a:chOff x="3898800" y="4552920"/>
            <a:chExt cx="3949560" cy="856440"/>
          </a:xfrm>
        </p:grpSpPr>
        <p:grpSp>
          <p:nvGrpSpPr>
            <p:cNvPr id="250" name=""/>
            <p:cNvGrpSpPr/>
            <p:nvPr/>
          </p:nvGrpSpPr>
          <p:grpSpPr>
            <a:xfrm>
              <a:off x="3898800" y="4552920"/>
              <a:ext cx="977760" cy="533160"/>
              <a:chOff x="3898800" y="4552920"/>
              <a:chExt cx="977760" cy="533160"/>
            </a:xfrm>
          </p:grpSpPr>
          <p:sp>
            <p:nvSpPr>
              <p:cNvPr id="251" name=""/>
              <p:cNvSpPr/>
              <p:nvPr/>
            </p:nvSpPr>
            <p:spPr>
              <a:xfrm>
                <a:off x="3898800" y="4552920"/>
                <a:ext cx="53352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78160" y="481932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876560" y="4552920"/>
              <a:ext cx="1523880" cy="533160"/>
              <a:chOff x="4876560" y="4552920"/>
              <a:chExt cx="1523880" cy="5331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4876560" y="4552920"/>
                <a:ext cx="1066680" cy="533160"/>
                <a:chOff x="4876560" y="4552920"/>
                <a:chExt cx="1066680" cy="5331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876560" y="45529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410080" y="4552920"/>
                  <a:ext cx="5331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5702040" y="481932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400440" y="4552920"/>
              <a:ext cx="1447920" cy="856440"/>
              <a:chOff x="6400440" y="4552920"/>
              <a:chExt cx="1447920" cy="8564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7200720" y="4819320"/>
                <a:ext cx="647640" cy="590040"/>
                <a:chOff x="7200720" y="4819320"/>
                <a:chExt cx="647640" cy="59004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7200720" y="4819320"/>
                  <a:ext cx="466560" cy="418680"/>
                  <a:chOff x="7200720" y="4819320"/>
                  <a:chExt cx="466560" cy="41868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7200720" y="481932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667280" y="4819320"/>
                    <a:ext cx="0" cy="418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467480" y="5314320"/>
                  <a:ext cx="380880" cy="95040"/>
                  <a:chOff x="7467480" y="5314320"/>
                  <a:chExt cx="380880" cy="950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7543440" y="53618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619760" y="540936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467480" y="53143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400440" y="4552920"/>
                <a:ext cx="1067040" cy="533160"/>
                <a:chOff x="6400440" y="4552920"/>
                <a:chExt cx="1067040" cy="533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933960" y="45529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00440" y="45529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ruko spregnuta lista (singly-link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vostruko spregnuta lista (doubly-link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410440" cy="61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rcRect l="0" t="0" r="5174" b="0"/>
          <a:stretch/>
        </p:blipFill>
        <p:spPr>
          <a:xfrm>
            <a:off x="380880" y="4525920"/>
            <a:ext cx="83822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klična lista (Circularly-linked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66760" y="2666880"/>
            <a:ext cx="6618600" cy="1285920"/>
            <a:chOff x="1166760" y="2666880"/>
            <a:chExt cx="6618600" cy="1285920"/>
          </a:xfrm>
        </p:grpSpPr>
        <p:sp>
          <p:nvSpPr>
            <p:cNvPr id="277" name=""/>
            <p:cNvSpPr/>
            <p:nvPr/>
          </p:nvSpPr>
          <p:spPr>
            <a:xfrm>
              <a:off x="17524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76720" y="266688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98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06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4120" y="266688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44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8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536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0220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2608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"/>
            <p:cNvCxnSpPr>
              <a:stCxn id="284" idx="3"/>
              <a:endCxn id="277" idx="1"/>
            </p:cNvCxnSpPr>
            <p:nvPr/>
          </p:nvCxnSpPr>
          <p:spPr>
            <a:xfrm flipH="1">
              <a:off x="1752120" y="2933280"/>
              <a:ext cx="5639760" cy="2520"/>
            </a:xfrm>
            <a:prstGeom prst="curvedConnector5">
              <a:avLst>
                <a:gd name="adj1" fmla="val -6983"/>
                <a:gd name="adj2" fmla="val 23600000"/>
                <a:gd name="adj3" fmla="val -6983"/>
              </a:avLst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89" name=""/>
            <p:cNvSpPr/>
            <p:nvPr/>
          </p:nvSpPr>
          <p:spPr>
            <a:xfrm flipH="1">
              <a:off x="7143840" y="292428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7160" y="4134600"/>
            <a:ext cx="6621840" cy="1904400"/>
            <a:chOff x="1217160" y="4134600"/>
            <a:chExt cx="6621840" cy="1904400"/>
          </a:xfrm>
        </p:grpSpPr>
        <p:sp>
          <p:nvSpPr>
            <p:cNvPr id="291" name=""/>
            <p:cNvSpPr/>
            <p:nvPr/>
          </p:nvSpPr>
          <p:spPr>
            <a:xfrm>
              <a:off x="2222640" y="461016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5580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708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2448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35160" y="480060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92560" y="480060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143840" y="479124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0" name=""/>
            <p:cNvCxnSpPr/>
            <p:nvPr/>
          </p:nvCxnSpPr>
          <p:spPr>
            <a:xfrm flipH="1">
              <a:off x="1685160" y="4800600"/>
              <a:ext cx="5639400" cy="2160"/>
            </a:xfrm>
            <a:prstGeom prst="curvedConnector5">
              <a:avLst>
                <a:gd name="adj1" fmla="val -7935"/>
                <a:gd name="adj2" fmla="val -18500000"/>
                <a:gd name="adj3" fmla="val -7935"/>
              </a:avLst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301" name=""/>
            <p:cNvSpPr/>
            <p:nvPr/>
          </p:nvSpPr>
          <p:spPr>
            <a:xfrm>
              <a:off x="168912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1320" y="461016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3920" y="461016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4" name=""/>
            <p:cNvCxnSpPr/>
            <p:nvPr/>
          </p:nvCxnSpPr>
          <p:spPr>
            <a:xfrm flipH="1">
              <a:off x="1752120" y="4952520"/>
              <a:ext cx="5639760" cy="2520"/>
            </a:xfrm>
            <a:prstGeom prst="curvedConnector5">
              <a:avLst>
                <a:gd name="adj1" fmla="val -7934"/>
                <a:gd name="adj2" fmla="val 25150000"/>
                <a:gd name="adj3" fmla="val -7934"/>
              </a:avLst>
            </a:prstGeom>
            <a:ln w="9360">
              <a:solidFill>
                <a:srgbClr val="800000"/>
              </a:solidFill>
              <a:miter/>
              <a:headEnd len="lg" type="stealth" w="lg"/>
            </a:ln>
          </p:spPr>
        </p:cxnSp>
        <p:sp>
          <p:nvSpPr>
            <p:cNvPr id="305" name=""/>
            <p:cNvSpPr/>
            <p:nvPr/>
          </p:nvSpPr>
          <p:spPr>
            <a:xfrm flipH="1">
              <a:off x="1676520" y="4952880"/>
              <a:ext cx="24768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276360" y="4952880"/>
              <a:ext cx="68580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333760" y="4952880"/>
              <a:ext cx="68580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2:45:26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