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6818-2FD2-48C0-A02D-14E82799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DF35-8165-40DE-922A-0A5A5423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D17B-10CC-4D68-8B1B-2AE22E92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45AC-E9A1-4997-A957-CD52C23F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9DA0-CC3C-4F77-9C49-6016AD3B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CD70-0A93-4C82-BBC3-B7241252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A4BC-A15A-4D40-B0A3-8B013CCF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5457-4E78-4588-9833-B412B045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3E0A-DE89-4486-9349-C854531A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560B-3D82-4038-B8BD-968E721C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FF0B-4823-4454-9751-C34911BB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EA12-D8E0-4638-8089-6370A313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1A2C-4E49-4B93-A20E-9E824581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8D7C-E2FB-4434-ADF0-D0D8BE62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EC79-C076-4B30-ABA3-4DC2EDF0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6141-D8C9-43E4-9B2C-0C887862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91E1-79FF-4435-884E-AD16D36B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E4499-3CE0-4E87-8FA5-F6843341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947B2-0019-4581-8FE8-CF6C90A2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D8D28-5DCF-47F3-8BDF-6A8FA99C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3CEDB-D364-4427-A44D-87C64749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86C62-8483-46FE-BC57-BFDD6A0E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B05-E6F2-4DAA-BB70-CA5F3C2E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31788-145A-41FC-B533-FD52A66D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28FDE-0F29-46EE-B7CA-CE23F6C3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EF861-D856-4430-AA73-69DB5FA7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02123-F6FA-473B-8FC8-863649D2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7C73E-6560-497D-862A-22B66FB4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2167E-7F2E-49A1-B24C-55AC751F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AAE7E-C800-4AAB-BF25-18D75B96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8BDE-AB36-490E-B66B-AAA5E24A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682-32D3-4BAF-97B6-67E7E308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D667-071F-41D8-B4E2-09E06DFF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48A-3ED7-4FF0-876A-1F61FA1F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7703-476C-4218-8EA2-C7A1E939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17A0-CD49-4FBE-8777-5F36367F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61D7-4D5C-402A-9333-97A059102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E463-A058-4B76-99D6-DBDA4AB66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9817-DA90-49E7-A747-F5BD45E0E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Алгоритми за сортира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513252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начинима сортирања линеарних структу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1. Приказ и анализа ефикасности различитих алгоритама за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репродукује начине анализе ефикасности алгоритама за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6.2. Алгоритми за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користи следеће алгоритме за сортирање: метода селекције, метода сортирања убацивањем, мехурасти сорт, брзи сорт, сортирање спајањ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Алгоритми за сортира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76364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6.</a:t>
                      </a:r>
                      <a:r>
                        <a:rPr b="0" lang="sr-Latn-C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. 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Поређење а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лгорит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за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ти да пореди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ледеће алгоритме за сортирање: метода селекције, метода сортирања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тањем,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тода замене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 сортирање спајањем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рзи с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Calibri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re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đenje 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gorit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za sortir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 algorit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election so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ubble s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sertion sor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hell 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(n log n) algorit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erge 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eap 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qick 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re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đenje 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gorit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za sortir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 algorit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295280" y="2819520"/>
          <a:ext cx="6774120" cy="1996920"/>
        </p:xfrm>
        <a:graphic>
          <a:graphicData uri="http://schemas.openxmlformats.org/drawingml/2006/table">
            <a:tbl>
              <a:tblPr/>
              <a:tblGrid>
                <a:gridCol w="2514600"/>
                <a:gridCol w="2127240"/>
                <a:gridCol w="213228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s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jgori sluča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tion 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bble so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ertion 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ell 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fikasnost algorit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re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đenje 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gorit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za sortir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(n log n) algorit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(n Log n) je teoretski najbolja moguća prosečna efikasnost algoritma za sortir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66680" y="2438280"/>
          <a:ext cx="6774120" cy="1570320"/>
        </p:xfrm>
        <a:graphic>
          <a:graphicData uri="http://schemas.openxmlformats.org/drawingml/2006/table">
            <a:tbl>
              <a:tblPr/>
              <a:tblGrid>
                <a:gridCol w="2514600"/>
                <a:gridCol w="2127240"/>
                <a:gridCol w="213228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s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jgori sluča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rge 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log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log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p so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log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log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ck 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log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480" y="1193760"/>
            <a:ext cx="830736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da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ja metoda sortiranja u jednom prolazu može da detektuje da je niz sortir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ji kvadratni algoritam sortiranja ima duplo bolju efikasnost u odnosu na najgori mogući slučaj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ji O(n log n) algoritam može u najgorem slučaju da ima kvadratnu efikasn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 kojoj situaciji algoritam iz prethodnog pitanja ima kvadratnu efikasnost i zaš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8T00:06:13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