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F925-0D56-4478-8D8E-38B3B957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6B75-F324-49E9-A88D-8E2969ED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AD9C-337C-493F-B163-CBFB228B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3854-537F-49C8-AFBF-927EF1D6E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8B43-1481-4522-A769-10D8E95B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8552-7AF0-4ADA-8B1A-D0EE8DBF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83AD-0979-4160-BEBD-3D578C44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20CE-F6E1-4C29-ADDF-AA678DE2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E0CE-7715-4CEF-896D-229BE656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37AB-C3A7-4D6D-A83F-8FC1A5C9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F45C-3BFA-4E9C-80E2-D3B9F2BE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15F1-CA90-47BB-9B7B-679B3DA1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38A1-EA1F-4829-98E8-4E7C9905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7CFA-9007-4043-BE8A-27CE94CB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773C-3033-4E09-8A9A-326B74CF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629D-08AC-4513-8480-79958331E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F043-0459-4142-9B35-7BB34FDA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3E292-12DF-45A4-BBEB-F54D6653E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5AF71-A150-49EB-BB75-9DFEB6F3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B8A4B-CCEE-4566-8077-D6606981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A7D72-B489-463C-A69F-34B9BBE3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8A892-F662-45A2-AB04-A6BBB1F9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ACA6-9E71-4DE1-ADB8-256FF3EA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4D981-CB11-4F51-9A29-8F64FF5F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9D27C-9513-4D62-AD5B-9BE2E623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8C597-EB10-4C33-9265-34646A9E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6EE5A-F840-4661-A91E-567FE613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608EE-EE4E-462E-AEE6-B03E2B05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F59C7-57C3-45B5-B85A-9B5FB8880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F8B62-9871-4126-A808-352DBD138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C0CC-EFB1-4A5B-9796-630540B6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4C3D-AC6F-4D3C-8752-EDE175B0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9A69-C78A-4F37-8C42-159F3091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30A4-1EF4-400C-9E7C-4DC457D4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D08F-FBCC-43DD-A603-0657EEE9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87BA-77E1-4E90-AB8C-B4871A25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D8A1-88AA-4427-A30D-E7DC6DEB5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DEEF-C91F-4123-B9E8-FD354DF82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84A6-3D6C-419B-8824-BBE3C9FAC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ограмирање засновано на АТП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ступ програмирању заснован на апстрактним типовима и апстракцијама података се  је суштина објектно-оријентисаног програмир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ласично програмирање и језици не подржавају АТП и не подржавају све апстракције (нпр. генерализацију, тј. наслеђивање тип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ограмирање засновано на АТП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азвој програма преко АТП се одвија у следећим фаз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финише (тј. специфицира) се скуп АТП који су погодни за проблем који се реш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пликација (главни програм) се развија помоћу операција дефинисаних АТ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финисани АТП се имплементирају преко других постојећих типова података (укључујући друге претходно развијене АТП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ограмирање засновано на АТП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дности коришћења АТП с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ТП се може формално третирати као алге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војем програма преко АТП се остварује принцип сакривања информ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иже се модуларност што за последицу има олакшано организацију развоја и одржавање прог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могућава се поновно коришћење код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eng. reuse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програмима који користе исте АТ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Задац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Шта је код АТП видљиво а шта ниј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 шта се користи концепт интерфејса, а за шта концепт клас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а ли интерфејс у потпуности дефинише семантику АТП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ји су основно корици у програмирању заснованом на АТП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је су основне предности коришћења АТП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пстрактни типови подата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522288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 Појам структура подат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владавање основним концептима структура подат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Врсте структура подат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 и репродукује основне врсте структура подат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2. Апстрактни типови података (АТП)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 и репродукује концепт апстрактног типа подат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ализација структуре података на рачунар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 и репродукује концепте реализације структура података на рачун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пстрактни типови подата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48752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.2. Апстрактни типови података (АТП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 и репродукује концепт апстрактног типа подат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јам апстрактних тип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пстрактни типови података (АТП) су кориснички типови података код којих је сакривен начин имплемент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финисани су од стране програмера и представљају проширење скупа типова датог програмског је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дљива је само спецификација АТ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двајање спецификације од имплемент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чин реализације интерне структуре података за представљање и памћење вредности датог АТП и алгоритама за специфициране операције АТП-а је сакрив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гуће су различите реализације истог АТП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јам апстрактних тип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модерним ОО језицима (нпр. Јава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#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пецификација се АТП даје преко концепта интерфеј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терфејс дефинише скуп операција које се могу позивати над вредностима датог 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перације се могу односити на особине (атрибуте) или представљати неко понашање објеката из реалног с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јам апстрактних тип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ер спецификације АТП преко Јава интерфеј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olas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Consolas"/>
              </a:rPr>
              <a:t>nterface BankovniRacun </a:t>
            </a:r>
            <a:r>
              <a:rPr b="0" lang="en-GB" sz="28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olas"/>
              </a:rPr>
              <a:t>double Stanj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olas"/>
              </a:rPr>
              <a:t>void UloziNovac(double izno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olas"/>
              </a:rPr>
              <a:t>void PodigniNovac(double izno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нтерфеј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нтерфејс дефинише само синтаксу тј. начин коришћења (позивања) опер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емантика (значење) није обухваћена интерфејс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ава потпуна спецификација обухвата и синтаксу и семант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ецификација семантике је посебан проб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лас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модерним ОО језицима (Јава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#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е АТП реализује преко концепта кла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ласа дефинише скуп метода којима се имплементирају операције датог 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бухвата и дефинисање приватних чланова којима се памте вредности датог 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една класа може имплементирати више типова (тј. интерфејс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лас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мер реализације АТП преко Јава кла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class BK implements </a:t>
            </a:r>
            <a:r>
              <a:rPr b="0" lang="sr-Latn-CS" sz="2000" spc="-1" strike="noStrike">
                <a:solidFill>
                  <a:srgbClr val="000000"/>
                </a:solidFill>
                <a:latin typeface="Consolas"/>
              </a:rPr>
              <a:t>BankovniRacun </a:t>
            </a: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private double _stanj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double Stanje() {return _stanje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void UloziNovac(double izno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_stanje += izn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void PodigniNovac(double iznos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_stanje -= izn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3T00:23:47Z</dcterms:modified>
  <cp:revision>9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