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DC1-80CC-4B69-B0FB-09063591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455-3BB8-461F-B498-F5F6BB90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6FB-6587-478F-B88B-0F65FAA4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800-D9D4-4D51-B36B-94C686E0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B83E-A432-4724-BE80-A42C31F9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9067-4FEF-4E34-A338-54BC2FB5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6365-2EB9-40E0-B84A-5E1541F8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1B52-6B29-4D64-81E3-01747D35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0ABF-61EB-4505-85A3-CE2FAB6E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E05D-568F-4B51-93DA-C5CCC4F6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38B2-55A3-451D-806A-FB043B02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FB8-082B-4384-B9C1-D0F36398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FC57-AC27-4E24-9936-0D60BACA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1B8A-BC35-448F-9F0D-2C8F9E07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4001-5451-4BD1-8929-36FD3B9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E91B-63CD-41E0-9C8A-7B63CFD8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4E2D-A67C-4A96-9F94-E0466A7B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584BB-6E0F-4DDF-9B56-AC691125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7612-D570-4D1A-9153-B34B427B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32934-89A0-49B7-AAB4-6BF23AC7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5E9B0-1B53-460D-8A56-85E160C2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34EC-C0FF-4E2F-B6AD-0BCEF1A9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A94-7814-4CD6-93CC-678CADBE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E392-B5E4-4AD5-82F2-B0DF7322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108D-C91A-4AEE-B319-07F043FC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016B-D578-4E97-8D8F-57B731C9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A4B7-4A74-4313-A1BF-C541E80D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24831-4C80-43E4-B15A-651E7E55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6E1A-4ECE-497E-BBEC-D8DA7629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3AC8-016A-4C9D-BA3E-32A68AFD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B87-FB6F-4523-8CB8-008DD54B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6DB-7F2A-49F2-A856-25A2D1AD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776-E6FC-48BD-803C-CA10C332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337-CA4C-412C-BE37-9CAF7BB7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D53-41B9-4D5C-95A6-94A0D04E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6BE-4068-48F8-B71F-AC3FBCF6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BB45-4753-454D-B239-9ECE4ECD9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1BCD-FACB-4AFA-9934-93A603F2D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9ECD-AD42-44C8-A1B5-2B05A6455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Асимптотска комплекс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537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Анализа ефикасности алгорит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појмовима везаним за анализирање ефикасности алготир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јам комплексности алгоритма. Анализа алгорит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јмом комплексности алгоритма и начинима како се она утврђу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симптотска комплексност и О(n) нот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концептом асимптотске комплексноти и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(n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т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imptotska kompleks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симптотска комплексност 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(n) нот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концептом асимптотске комплексноти и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(n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т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imptotska kompleks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05500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(n) je asimptotski veće od q(n), ak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m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→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že se i da je q(n) je asimptotski manje od p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že se da su asimptotski jednaki ako ni p(n) niti q)n) je asimptot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će od onog drug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imptotska kompleks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05500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 1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7) i (3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m (1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7)/ (3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6) = (1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7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/(3 + 2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/n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6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= 0/3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→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6) je asimptotski veće od (10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7), tj. (10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7) je asimptotski manje od (3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 + 2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6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 2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7) i (2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m (1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7)/(2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6) =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∞/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→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7) i (2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6) su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imptotski jedn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imptotska kompleks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liko O notacija (Big O no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tacija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) (čita se “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je veliko o od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”) znači da je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asimptotski manje ili jednako od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asimptotskom smislu, g(n) je gornja granica za 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0n + 6 = O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6n2 + 3n + 12 = O(n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imptotska kompleks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3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zima se u obzir najveći član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simptotska uređen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 &lt; n &lt; n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&lt; 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&lt; 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&lt;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24400" y="1600200"/>
          <a:ext cx="3362400" cy="3689280"/>
        </p:xfrm>
        <a:graphic>
          <a:graphicData uri="http://schemas.openxmlformats.org/drawingml/2006/table">
            <a:tbl>
              <a:tblPr/>
              <a:tblGrid>
                <a:gridCol w="1069920"/>
                <a:gridCol w="22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z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sta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aritma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r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vadrat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b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ksponencij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ktorij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asimptotska kompleksn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znači O(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ređaj po redosledu asimpotske kompleksnost sledeće izra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6*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 + 15*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; 6*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; log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13:43:56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