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545-23AF-494E-A8B9-F8E13D97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6AE-4A8A-4787-A1A3-976CAB8F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B8D-7667-46C9-B3C9-AE96ADD9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74A-510D-42AD-897E-655BB522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BBE1-2701-4708-B1FD-96B49026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6B9B-C175-4BE0-85A7-894B9D0E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360B-7CEC-4035-93A2-FD15E5A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A22-C413-4372-8E34-F4F289F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434A-D13D-4A05-BC79-DD9C4B3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BE43-05BB-403D-9A70-F72B7DEF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1FF-A27C-43EB-98B6-41AD3AF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D0F-ADEA-4FF8-8144-C2E40540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F9CA-C92E-4238-A1B1-C4F8BA3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6B54-E170-4BE4-919A-551C8682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899E-54AF-4243-8640-83AC9A7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6F51-C0B8-4DDE-AF75-8EE39846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292D-D0A5-4382-80B9-DF14681C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3710-507A-4C47-8C3E-FE304E13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7192-E7EC-43F3-B5BD-46A915B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9850-80B1-492C-A163-FB913B11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8B7A-63FB-41C0-BDE4-A8042CDB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84B3-208C-4CDF-B658-23879298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F3B-C19F-4C90-9A80-A00342D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8458-C010-4A8E-B433-18FE51CD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ECC8-F5EA-413E-8F16-FC2D14F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757B-9617-43FC-9435-8D107DA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F7B0-C845-4354-9A8A-110A217A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35D8-745F-4BFE-8086-640FE1CF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37AC-06A1-4EF7-B11B-A2AE20E3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5000-9E03-4EDA-A5C8-79A45070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062-D1CD-4EE6-8877-D3D26B31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46F-AA6E-493B-98CF-B6FC1F9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634-0A77-4AC9-90A4-3AE6FF7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2A7-110B-493D-8393-B5269BCA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6C5-C077-42C3-8F0D-D6A64E8E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C64-B0D8-447A-A54B-1FB3134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C5E-2A1E-4902-9805-D646F8F58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485-CF17-432E-B659-363DD459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33A-3D8D-460B-9BCC-109153B8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1143000"/>
          <a:ext cx="37404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37404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438280" y="3962520"/>
          <a:ext cx="3740400" cy="15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962520"/>
                    <a:ext cx="37404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66880" y="1676520"/>
          <a:ext cx="3738600" cy="15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7386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743200" y="3962520"/>
          <a:ext cx="3738600" cy="15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962520"/>
                    <a:ext cx="37386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1371600"/>
          <a:ext cx="374040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371600"/>
                    <a:ext cx="374040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90920" y="4343400"/>
          <a:ext cx="3706560" cy="14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343400"/>
                    <a:ext cx="370656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143000"/>
            <a:ext cx="876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void quicksort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] a, int l, int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r &lt;= l) retur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 = partition(a, l, 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sort(a, l, i-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sort(a, i+1, 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int partition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[], int l, int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int i = l-1, j = r;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 = a[r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;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a[++i]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v &lt; a[--j]) if (j == l) br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 &gt;= j) br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eni(a, i, j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eni(a, i, 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Приказ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лгоритама за сортирање методом спајања и брзом мето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разуме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користи следеће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горитме за сортирање: метода сортир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ајањем и брз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rge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“podeli pa vladaj” (Divide-and-Conqu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eli niz na pola u dva podn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nizovi se sortiraju na isti nač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kuz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oj podnizove u sortiran n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leks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 log 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224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ublic static void MergeSort(int[] a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Sort(aArray, 0, aArray.length -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rivate static void mergeSort(int[] aArray, int aLeft, int a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f (aRight &gt; a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t middle = (aRight + aLeft) /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Sort(aArray, aLeft, mid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Sort(aArray, middle + 1, aR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(aArray, aLeft, middle + 1, aR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990720"/>
            <a:ext cx="8991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rivate static void merge(int[] aArray, int aLeft, int aMiddle, int a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nt i, left_end, num_elements, tmp_p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num_elements = aRight - aLeft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nt[] temp_array = new int[aArray.length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left_end = aMiddle -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mp_pos = aLe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while ((aLeft &lt;= left_end) &amp;&amp; (aMiddle &lt;= aRigh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f (aArray[aLeft] &lt;= aArray[aMiddle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Lef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Lef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Middl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Middle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mp_po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2733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hile (aLeft &lt;= left_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Left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mp_po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Lef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hile (aMiddle &lt;= a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Middl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mp_po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Middl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for (i = 0; i &lt; num_elements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Array[aRight] = temp_array[aRight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ight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eli pa vladaj” strategija sa sortiranjem u m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eli niza na dva del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i 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 “pivot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kurzivno sortirati podnizove L i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66720" y="3556080"/>
          <a:ext cx="468180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3556080"/>
                    <a:ext cx="4681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2666880" y="1447920"/>
          <a:ext cx="37576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47920"/>
                    <a:ext cx="3757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666880" y="3886200"/>
          <a:ext cx="3740400" cy="15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374040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7T23:42:57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