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FE3-2B76-49F4-BF10-7A736F1B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7FB-7684-4FE4-A2BF-D9B14FBC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BAE-FD8E-47BA-8BDF-EB88BD9F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49C-6329-412A-8FA5-2682F0BA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9DB7-4D1D-4E36-964C-1865FEBC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8626-EDA7-4C83-9C9B-CB875816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3470-D9F9-44C9-9CDC-1B9440F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2EB-1A19-4256-9745-3A55FD5E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301A-07DF-466F-8259-233B4975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5A32-7C87-4FD5-A684-28A2A536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7AAB-491B-42FB-9142-76358E7F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4F4-4AD8-49B3-ADE2-BCB7A7C2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5F9E-5E7F-470F-AFD9-EBE5A30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C8EC-D2E0-44FF-AC25-FA1B7E1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DAD2-4198-46D4-8137-831E73A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EC90-ABDE-458F-9E21-B8473BD3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007D-B3A2-497E-9A24-920A9880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52D6-687B-4ABF-8E8F-40081206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A264-80E8-4AC1-8BB5-4B1B6395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D2EE-625F-4151-84AE-4F94DF0F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F366-6187-46E7-99E2-C1A75B25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67C12-DB68-4724-B91B-6D4B94AB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BF3-EBAF-4794-9E6F-3C79BAC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5AB1-5EB8-4249-B7DE-A988A2B0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F75D-CC31-4092-9683-F0292D7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065C-DCEF-4EF5-A6D0-4BF7A15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3EE1-83ED-477D-9C4B-D9A7FDC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DDA4-8A5F-445B-8299-E26C2405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15894-9C61-49DA-A53A-E602D1D8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DB67-2E64-428D-8509-1F75B3AA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9F2-5F8E-4B6E-B075-D3DB9D86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BA2-F4A8-4321-8FD0-31791F2D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F3C-AEE7-4683-805F-20C1ADFE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651-C8B6-4E47-8E4F-804BA32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24B-5981-47BC-ABEF-62E7D8DB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232-E4D5-4433-B569-6DB414F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2DE-26C1-4351-A0A8-3CD828C9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7CD7-B6D0-4700-85D3-F2DD91AD3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18E-76B5-4A3A-B6DC-08031F53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ефиниција преко АТ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251000"/>
          <a:ext cx="8686800" cy="4311720"/>
        </p:xfrm>
        <a:graphic>
          <a:graphicData uri="http://schemas.openxmlformats.org/drawingml/2006/table">
            <a:tbl>
              <a:tblPr/>
              <a:tblGrid>
                <a:gridCol w="995400"/>
                <a:gridCol w="1325520"/>
                <a:gridCol w="331776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Линеарне стру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теоријским концептима линеарних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Стак, Ред и ли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линеарних структура и структуре стак, ред и 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Дефиниција преко АТ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начине дефинисања основних линеарних структура преко А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ефиниција преко АТ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Дефиниција преко АТ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линеарних структура и структуре стак, ред и 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 prek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public interf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p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ush(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ee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 prek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public interf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p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ee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a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list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prek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public interfa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Linked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sertBefore(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sertAfter(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emov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9999"/>
                </a:solidFill>
                <a:latin typeface="Courier New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Previou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To(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de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1:21:3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