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9028-013B-447B-A3FD-49D1BB484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redstavlja se pomoću statičke strukture – n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8DB5-2782-4FC1-B823-71543A81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094B-EB46-45C3-A41C-B6C97205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211C-D7B4-489D-926F-4423E4AD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6DD2-C0A4-47B6-9F01-1043E0EF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BA6A-96D3-47E0-A8AB-3539F777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CE7B-2F88-42C9-91EB-910858B2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96A2-1C5B-4956-B98E-E641FB66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6432-55E3-42EA-A730-72938630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9B48-64D5-4DFE-9185-59E68C1F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679B-3E77-4BFA-8512-A072BE74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C920-AAD9-4E02-8780-9E211673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121D-BEB4-4EFF-A6C0-EC1E16E3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71B6-1426-4581-A0A0-15E54639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8B27-D954-414C-B37D-3A8CCD2A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E696-E3DE-40AE-9CC6-7F7A8224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0823-27B6-411C-B6A5-F9FE5267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B5F6-FC16-43D9-B4EF-1B950BD9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DA8D6-84F0-43B5-8FFC-DEF7892D2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02516-5506-46E3-AB9D-351E748F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8E028-1EA5-4E8D-82C0-DB418115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E4CBE-CEAD-4483-AD72-ABC80B59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4D06A-F144-4F8C-B530-34DA49FF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F208-19B1-4DE4-B843-4B67B4A1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20084-DA25-4EC5-9A22-59F56C69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F7A91-0F2F-49AC-B405-CF2BED08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6FC3D-683A-4EE3-8981-18C288B9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99F90-27AA-4FF5-B50C-BDB7B5BE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38408-837D-45FA-992F-7103AD64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53E68-7926-4CB5-85B7-ADBC5EAF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DEA7B-C2BE-4EC5-93B9-B5F73DA5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3153-640D-4F2F-BE3F-CDD46739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A60E-B878-4302-9BA5-E3830F08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6D73-60EF-4F6C-8F04-BF4699A7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8F90-F162-43A7-B52E-EB654F7C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30F3-AA5D-4163-8CB4-2D4D7FB0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C488-EA94-4191-B05B-A41FA32A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F18D-CFD7-4983-B265-1A2736EEC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8784-D86F-484A-B9A6-66C9744DC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9BE3-08C8-4886-BB08-FF264387E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85720" y="2386080"/>
            <a:ext cx="797400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892080" y="2328840"/>
            <a:ext cx="73612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мплементација преко ни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8600" y="1251000"/>
          <a:ext cx="8686800" cy="4311720"/>
        </p:xfrm>
        <a:graphic>
          <a:graphicData uri="http://schemas.openxmlformats.org/drawingml/2006/table">
            <a:tbl>
              <a:tblPr/>
              <a:tblGrid>
                <a:gridCol w="995400"/>
                <a:gridCol w="1325520"/>
                <a:gridCol w="3317760"/>
                <a:gridCol w="304812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Линеарне структу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основним теоријским концептима линеарних структура подата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. Имплементација преко ни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користи имплементације линеарних структура преко низ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Имплементација преко динамичких струк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користи имплементације линеарних структура преко других динамичких структу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мплементација преко ни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04920" y="1676520"/>
          <a:ext cx="8534160" cy="14875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3. Имплементација преко ни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користи имплементације линеарних структура преко низ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tak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stack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o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atička struk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666880" y="2895480"/>
            <a:ext cx="3200400" cy="1206720"/>
            <a:chOff x="2666880" y="2895480"/>
            <a:chExt cx="3200400" cy="1206720"/>
          </a:xfrm>
        </p:grpSpPr>
        <p:grpSp>
          <p:nvGrpSpPr>
            <p:cNvPr id="141" name=""/>
            <p:cNvGrpSpPr/>
            <p:nvPr/>
          </p:nvGrpSpPr>
          <p:grpSpPr>
            <a:xfrm>
              <a:off x="2666880" y="2895480"/>
              <a:ext cx="3200400" cy="533520"/>
              <a:chOff x="2666880" y="2895480"/>
              <a:chExt cx="3200400" cy="533520"/>
            </a:xfrm>
          </p:grpSpPr>
          <p:sp>
            <p:nvSpPr>
              <p:cNvPr id="142" name=""/>
              <p:cNvSpPr/>
              <p:nvPr/>
            </p:nvSpPr>
            <p:spPr>
              <a:xfrm>
                <a:off x="2666880" y="2895480"/>
                <a:ext cx="53352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733920" y="2895480"/>
                <a:ext cx="53316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4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267080" y="2895480"/>
                <a:ext cx="53352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800600" y="2895480"/>
                <a:ext cx="53352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2895480"/>
                <a:ext cx="53352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3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334120" y="2895480"/>
                <a:ext cx="53316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292640" y="3505320"/>
              <a:ext cx="609480" cy="596880"/>
              <a:chOff x="4292640" y="3505320"/>
              <a:chExt cx="609480" cy="596880"/>
            </a:xfrm>
          </p:grpSpPr>
          <p:sp>
            <p:nvSpPr>
              <p:cNvPr id="149" name=""/>
              <p:cNvSpPr/>
              <p:nvPr/>
            </p:nvSpPr>
            <p:spPr>
              <a:xfrm flipV="1">
                <a:off x="4533840" y="35053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292640" y="373392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to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tak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stack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baci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k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895480" y="2819520"/>
            <a:ext cx="3200400" cy="533160"/>
            <a:chOff x="2895480" y="2819520"/>
            <a:chExt cx="3200400" cy="533160"/>
          </a:xfrm>
        </p:grpSpPr>
        <p:sp>
          <p:nvSpPr>
            <p:cNvPr id="154" name=""/>
            <p:cNvSpPr/>
            <p:nvPr/>
          </p:nvSpPr>
          <p:spPr>
            <a:xfrm>
              <a:off x="2895480" y="2819520"/>
              <a:ext cx="53352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62520" y="2819520"/>
              <a:ext cx="53316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95680" y="2819520"/>
              <a:ext cx="53352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29200" y="2819520"/>
              <a:ext cx="53352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9000" y="2819520"/>
              <a:ext cx="53352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62720" y="2819520"/>
              <a:ext cx="53316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521240" y="3428640"/>
            <a:ext cx="609480" cy="597240"/>
            <a:chOff x="4521240" y="3428640"/>
            <a:chExt cx="609480" cy="597240"/>
          </a:xfrm>
        </p:grpSpPr>
        <p:sp>
          <p:nvSpPr>
            <p:cNvPr id="161" name=""/>
            <p:cNvSpPr/>
            <p:nvPr/>
          </p:nvSpPr>
          <p:spPr>
            <a:xfrm flipV="1">
              <a:off x="4762440" y="34286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21240" y="3657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t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895480" y="4572000"/>
            <a:ext cx="3200400" cy="533520"/>
            <a:chOff x="2895480" y="4572000"/>
            <a:chExt cx="3200400" cy="533520"/>
          </a:xfrm>
        </p:grpSpPr>
        <p:sp>
          <p:nvSpPr>
            <p:cNvPr id="164" name=""/>
            <p:cNvSpPr/>
            <p:nvPr/>
          </p:nvSpPr>
          <p:spPr>
            <a:xfrm>
              <a:off x="2895480" y="457200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62520" y="4572000"/>
              <a:ext cx="5331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95680" y="457200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29200" y="457200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cc0000"/>
                  </a:solidFill>
                  <a:latin typeface="Tahoma"/>
                  <a:ea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29000" y="457200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2720" y="4572000"/>
              <a:ext cx="5331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029200" y="5181120"/>
            <a:ext cx="609480" cy="597240"/>
            <a:chOff x="5029200" y="5181120"/>
            <a:chExt cx="609480" cy="597240"/>
          </a:xfrm>
        </p:grpSpPr>
        <p:sp>
          <p:nvSpPr>
            <p:cNvPr id="171" name=""/>
            <p:cNvSpPr/>
            <p:nvPr/>
          </p:nvSpPr>
          <p:spPr>
            <a:xfrm flipV="1">
              <a:off x="5270400" y="51811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29200" y="54100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t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tak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stack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zbaci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k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895480" y="2819520"/>
            <a:ext cx="3200400" cy="533160"/>
            <a:chOff x="2895480" y="2819520"/>
            <a:chExt cx="3200400" cy="533160"/>
          </a:xfrm>
        </p:grpSpPr>
        <p:sp>
          <p:nvSpPr>
            <p:cNvPr id="176" name=""/>
            <p:cNvSpPr/>
            <p:nvPr/>
          </p:nvSpPr>
          <p:spPr>
            <a:xfrm>
              <a:off x="2895480" y="2819520"/>
              <a:ext cx="53352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62520" y="2819520"/>
              <a:ext cx="53316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95680" y="2819520"/>
              <a:ext cx="53352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29200" y="2819520"/>
              <a:ext cx="53352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29000" y="2819520"/>
              <a:ext cx="53352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62720" y="2819520"/>
              <a:ext cx="53316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521240" y="3428640"/>
            <a:ext cx="609480" cy="597240"/>
            <a:chOff x="4521240" y="3428640"/>
            <a:chExt cx="609480" cy="597240"/>
          </a:xfrm>
        </p:grpSpPr>
        <p:sp>
          <p:nvSpPr>
            <p:cNvPr id="183" name=""/>
            <p:cNvSpPr/>
            <p:nvPr/>
          </p:nvSpPr>
          <p:spPr>
            <a:xfrm flipV="1">
              <a:off x="4762440" y="34286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21240" y="3657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t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895480" y="4572000"/>
            <a:ext cx="3200400" cy="533520"/>
            <a:chOff x="2895480" y="4572000"/>
            <a:chExt cx="3200400" cy="533520"/>
          </a:xfrm>
        </p:grpSpPr>
        <p:sp>
          <p:nvSpPr>
            <p:cNvPr id="186" name=""/>
            <p:cNvSpPr/>
            <p:nvPr/>
          </p:nvSpPr>
          <p:spPr>
            <a:xfrm>
              <a:off x="2895480" y="457200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62520" y="4572000"/>
              <a:ext cx="5331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95680" y="457200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29200" y="457200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29000" y="457200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4572000"/>
              <a:ext cx="5331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038480" y="5181120"/>
            <a:ext cx="609480" cy="597240"/>
            <a:chOff x="4038480" y="5181120"/>
            <a:chExt cx="609480" cy="597240"/>
          </a:xfrm>
        </p:grpSpPr>
        <p:sp>
          <p:nvSpPr>
            <p:cNvPr id="193" name=""/>
            <p:cNvSpPr/>
            <p:nvPr/>
          </p:nvSpPr>
          <p:spPr>
            <a:xfrm flipV="1">
              <a:off x="4279680" y="51811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38480" y="54100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t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622760" y="2933640"/>
            <a:ext cx="304560" cy="304560"/>
            <a:chOff x="4622760" y="2933640"/>
            <a:chExt cx="304560" cy="304560"/>
          </a:xfrm>
        </p:grpSpPr>
        <p:sp>
          <p:nvSpPr>
            <p:cNvPr id="196" name=""/>
            <p:cNvSpPr/>
            <p:nvPr/>
          </p:nvSpPr>
          <p:spPr>
            <a:xfrm>
              <a:off x="4622760" y="2933640"/>
              <a:ext cx="304560" cy="3045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622760" y="2933640"/>
              <a:ext cx="304560" cy="3045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4266720" y="3657600"/>
            <a:ext cx="381240" cy="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tak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stack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1776240"/>
            <a:ext cx="761976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ArrayStack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implemen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ISt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{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[] da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to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ArrayStack(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data =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[capacity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top = 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boolea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IsEmpty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top == 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649116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  <a:ea typeface="Arial"/>
              </a:rPr>
              <a:t>nastavak na sledećoj str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38080" y="1216080"/>
            <a:ext cx="769644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Push(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ob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(top &lt; data.length -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data[++top] = ob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Pop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(IsEmpty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Integer.MIN_I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Obj = data[top--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Ob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Peek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(IsEmpty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Integer.MIN_I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data[top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320" y="763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  <a:ea typeface="Arial"/>
              </a:rPr>
              <a:t>nastavak sa prethodne st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828800" y="2805120"/>
            <a:ext cx="54864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3T02:25:31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