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81F9-084D-422D-AF45-0F315ACD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7E1F-03CA-4DF2-83D1-CBB4244E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BFC1-24BD-4A46-8822-9E83B5C8C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6B83-4165-450B-AA30-A7529E06A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DB86-4AAE-4C87-A96B-0242F63A0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6B50-9BF4-4E54-B9F1-2AB51140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89F3-E73D-4E8B-88F3-B486AAA5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CB67-DEA8-4BCF-8C65-A9F1B777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F4A7-912B-4B1D-9F99-45061EDF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8C8D-626E-4A06-83CA-701A7BA5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383D-DB40-40D6-B339-B52F6B00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74E5-E30E-49AB-9663-A7300262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FDB9-A83C-480F-B5A8-E21D1F41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62D2-0AA9-4033-A25F-8B6055FC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C772-8BEB-44E5-A2C8-84B26F9F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9C8D-7E1F-4AC1-89D6-0B2DE4B97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ECA1-10CB-4226-878F-69AB7BB5E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F5621-CFE3-4B4D-82AB-DC0F1813A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F4E12-A95A-4A75-917E-BE1794D7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BB389-9472-4372-B208-FBBE972E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E646B-BD44-4EC1-80C1-7F934FDC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F0995-962B-450B-8603-46BE5D7A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2EA0-9F4D-4E39-9C31-D5DEF18E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56FB8-B1BC-4A59-BE3C-5C324702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C25C7-3313-424C-A8E2-1ED4BBD3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750F9-B35A-4531-AC35-D42F4D59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88511-54D0-4817-B6C9-E3A38C52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FA776-FAE5-4FDA-9D11-19B1AFF3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4FDBC-6478-4D2F-8CB1-506C92526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4104F-C0F8-41C7-8293-89A9764B1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7DDF-49EB-4022-94C5-AB9D5154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F4C0-842E-4AD3-ADEB-C44F0CA4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5E0E-913A-4DFA-868F-247CACB3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98AD-9ABE-4215-BC74-2B2FD82D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51ED-1D22-4233-AFC7-0047E4D8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332C-AC67-4D11-872D-B5D5756D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1D2F-CDD4-477F-A166-A5D7207B7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5C43-0D13-4975-AE8E-9B3F9167C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8E17-2CC4-4D3B-ABE7-1658D4321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Агрегац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Добија се агрегирањем в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е типова у један апстрактнији сл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ени ти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бјекти у структури не морају бити истог ти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пр. низ знакова (стринг) и цео број у претходном приме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В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ина клас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их програмских језика подр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ава агрега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Генерализација и специјализац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вањем зајед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их особина и операција типови се апстрахују у генер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и апстрактнији ти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Обрнут поступак је специјализ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застопном применом генерализације и специјализације се добија хирерархија тип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Операције и особине се насл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ју од надт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дтип може имати додатне операције и особ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Генерализација и специјализац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со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е, Презиме, Датум рођ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Радник – подтип од Осо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рганизација, Стаж, 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тудент – подтип од Осо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Факултет, година студија, прос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тудент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ван буџе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– подтип од Студ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знос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колар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Rectangle 3"/>
          <p:cNvGraphicFramePr/>
          <p:nvPr/>
        </p:nvGraphicFramePr>
        <p:xfrm>
          <a:off x="6324480" y="1828800"/>
          <a:ext cx="2590920" cy="203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1828800"/>
                    <a:ext cx="2590920" cy="20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Задац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та је разлика између податка и информациј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е су основне врсте апстраховања подата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та су типови подата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 ли типови података могу бити без операциј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кви могу бити типови према начину имплементациј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кви могу бити типови према сложе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Задац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Шта је разлика између агрегације и генерализациј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а ли вредности у неком сложеном типу морају бити истог тип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ко настаје хијерархија типова подата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а ли подтип може имати додатне опрерације у односу на свој надтип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пстракције подата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4781520"/>
        </p:xfrm>
        <a:graphic>
          <a:graphicData uri="http://schemas.openxmlformats.org/drawingml/2006/table">
            <a:tbl>
              <a:tblPr/>
              <a:tblGrid>
                <a:gridCol w="942840"/>
                <a:gridCol w="1114560"/>
                <a:gridCol w="3048120"/>
                <a:gridCol w="31240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 Апстракције у програмирањ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умевање појма апстракција,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владавање основним врстама апстракција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схватање појма типа података и структура података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. Апстракције. Процедуралне апстрак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хватање појма и значаја апстраховања и апстракција у програмирању. Разумевање и употреба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цедуралн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х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апстракциј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 у програмирањ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32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1.2. Апстракције подат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хватање појма и значаја апстракција података, типова података и структура подата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пстракције подата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48752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2. Апстракције подат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хватање појма и значаја апстракција података, типова података и структура подата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Апстракције подата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одатак је носилац информације. Информација је проту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ни подата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Конкретна вредност податка се м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третирати као представа неког објекта из реалног систе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 - представља температу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е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Перић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3/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2009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п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редставља студ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рсте апстракција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дата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стоји три н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ин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ко се подаци могу апстраховат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ласификациј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грегација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енерализ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ви начине дефинишу три основне врсте апстракција подат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Класификациј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Сви објекти истих особина се класификују у један ти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пр.  Цео број (integer), Студ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место да се посматрају појединачне инстанце, довољно је посматрати тип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ко се број концепата који се разматра значајно редукује, тј. умањује сложе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ип представља општи, генерички опис особина које свака инстанца 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Класификациј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Тип податка се дефини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ш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е се као скуп објеката (вредности) и операција  над њи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Инт : З, {+, -, *, }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удент: С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{уписиСемстар, полозиИспит, …}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ажно је уочити да дефиниција обавезно укључује и опер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ипови података без операција немају много см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Типов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е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могу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осматрати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рема 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ину имплемент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рема сл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Класификациј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Типови према 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ну имплемента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Физ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ки типов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типови под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ни од стране 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нара (хардвер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пр:  инт, цх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Јез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ки (виртуелни) типов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типови података који су под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ни од стране имплементационог јез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пр:  запис, 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пстрактни типови података (АТП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р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ирење скупа типова имплементационог средств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пр: студент, рад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Класификациј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Типови према сл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рости (примитивни) тип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Вредност простог типа је недељ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пр: инт -&gt;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Сл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ни (структурни) тип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Добијају се агрегирањем в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 других тип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Вредност је сл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на, састоји се од других вред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пр: запис  -&gt;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е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Перић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3/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2009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Структурни типови се називају и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С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труктуре подат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2T23:12:07Z</dcterms:modified>
  <cp:revision>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