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EF8-7B79-4BD0-BE21-9FAD3E3C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668-547F-4A8D-8F2D-B08DBCEC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8E1-A8F4-45F6-9CC2-DBA1EC2E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F80-6FAC-454F-9CEB-E74B2229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1888-ACB5-45FE-A064-A23B0A74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E38C-6B98-428B-A59E-511BCDE5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24F3-0D40-4AC6-A27C-4521D218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876A-1634-4863-A417-F7C27AB4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A3FB-2AFD-4CE9-B06E-3A124A37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548F-14D2-43CE-9D69-040EBA41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04FE-CDCE-43EA-A8AF-C146191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A5D-1CE0-4026-A876-DA743E21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396A-E686-44D3-980D-51ACC71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8213-79B0-4D3F-B299-43B97073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1FFF-B992-4D60-A4E6-CBB0F90D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E6A0-7657-44D8-8F4E-FFF6A7B5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FDF2-189D-40B0-ABAE-4FCBB63D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5E01-4574-468A-9C0D-FE55DE8E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AFE6-91F9-428B-9F9A-C672DC5C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DF96-4942-4E23-A686-4B63827A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A6FB-6C86-4A2E-A33D-A2DA9DED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F20E-F383-461E-8557-D5036DEF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160-E325-4BB4-A3D2-4F393973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4BE35-1792-4F20-8CC6-95AE522A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5804D-7365-4807-B5D2-E9A97E1D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96ED-56E7-4A2C-905F-EE4502B7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3CCE-7FF2-49C9-8AEF-54124042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3F2B-C178-48AF-A986-1F3D8541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5C19-23B7-42B5-9E40-4C7EC67A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F7CCF-A0CC-4C57-B163-22CE9D23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D30-2EAF-4C52-BC6B-1516A646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DCD-15AF-43D3-A18B-670F779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3E3-CE4F-4BEA-9C34-31C27EB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125-F4CD-4D65-834F-D13E33D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C11-456A-4137-8546-22D92FF8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6E0-C847-40C8-8339-3C63FB62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BCF2-B20C-44E1-ABB4-D0429A379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87B8-D0B8-43AE-A09D-CBFA7AA60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E893-FC1B-4253-816A-329B08E2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абла -хијерархијске струк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су хијерархијски уређени, тј. кардиналност релације р је 1: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им једном посебном елементу који се назива корен, сваком елементу претходи тачно један е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може следити више е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2514600" y="2286000"/>
          <a:ext cx="403848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403848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Графови или мр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су уређени без ограничења, тј. кардиналност релације р је М: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може претходити више еле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може следити више е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Rectangle 3"/>
          <p:cNvGraphicFramePr/>
          <p:nvPr/>
        </p:nvGraphicFramePr>
        <p:xfrm>
          <a:off x="2970360" y="2519280"/>
          <a:ext cx="312732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360" y="2519280"/>
                    <a:ext cx="312732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кључ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ведене опште структуре података покривају све могуће случаје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а конкретна структура података у пракси се своди на неку од навед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 тога је за решавање проблема у програмирању довољно познавати како се свака од наведених општих имплемент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је управо предмет изучавања овог кур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ведите која ја најважнија особина релације која дефинише уређење елемената у структури подат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чему је разлика између скупа и колекциј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чему је разлика између линераних структура, стабала и граф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 чему је посебан први елемент у линераној структури, а по чему последњ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а је корен стаб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2228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Појам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.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Апстрактни типови података (АТП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 апстрактног тип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зација структуре података на рачун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е реализације структура података на рачун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1.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руктуре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е података су сложени типови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у применом апстракције агрегације, тј. обједињавањем више једноставнијих типова под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а конкретна вредност структуре података је једна инстанца одговарајуће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пр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е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ерић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3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009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једна инстанца структуре података којом се представљају студ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а конкретна вредност структуре података се састоји од једноставнијих делова, који представљају њене елем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менти могу бити прости или сложени, тј. структуре података за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тај начин се могу градити структуре произвољно сложене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пр. запис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е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ерић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3/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009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е састоји од три поља е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е - низ знакова (сложен ти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 индекса-  низ знакова (сложен ти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дина студија – цео број (прост ти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менти у структури података могу бити у неком међусобном односу (релациј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га се структура података може формално дефинисати као  уређен па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 =(E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 је скуп еле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 је бинарна релација дефинисана над Е којом је уређен скуп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едине врсте структура података се изводе на основу тога какав је њихов међусобни однос, тј. какве су особине релације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важнија особина релације р је кардиналност, тј. колико елемената одговара једном елементу у датој структури и обрну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основу кардиналности релације р могу се дефинисати следеће врсте струк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:0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е постоји у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- колекци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ску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:1 (линеарно у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) - линеар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структу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:М - стаб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:М - графови и м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лекције и скуп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немају међусобни однос, тј. кардиналност релације р је 0: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 се може знати да ли је неки елемент у структури или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лиске су појму скупа из математике, па се тако и назива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уп нема дупликате (један исти елемент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не мо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ити два пута члан ску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лекција може имати дупликате (један исти елемент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о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ити два пута члан ску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2514600" y="2438280"/>
          <a:ext cx="28954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28954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инеарне струк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су линерано уређени, , тј. кардиналност релације р је 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им једном посебном елементу који се назива први, сваком елементу претходи тачно један е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им једном посебном елементу који се назива последњи, сваком елементу следи тачно један е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1219320" y="2743200"/>
          <a:ext cx="655308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6553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2T23:52:47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