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5FF-FD80-425E-9937-1D62D9E0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EC1-894E-4E97-9EB2-8EACD25E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097-3F97-49D5-A8AE-3C310146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1DD-5007-4156-A9A8-A1283588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C1F-E864-4749-B0A9-C490DC81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BDB6-A57C-4B86-B10D-B1E3154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E361-3992-4778-958B-80EA5F91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1BC8-BC1A-45E6-913C-A84A99AA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0328-84C8-4972-8BD0-B3FBC2D0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094-2F61-448A-A13B-26B8108B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70C1-5D18-4395-A5EC-A2FC882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163-94DE-443C-904F-299298DC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A44-6DE8-4B08-8B73-A8F9C85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ACF0-4A71-4CDC-BA6E-6ED1FA2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700-F8EC-413E-82FE-9262F60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C66-EEC1-468D-AE3C-7EF5FE78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8CAA-C7CC-4BB0-9864-3D47A899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6423-09C3-42F1-A37E-3012406D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151B4-D857-4D14-9D9B-F30C3E2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2384-E0BB-437D-BC1A-47A6D4CB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84F7-22D4-447A-A20F-D93384C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FA6E-AE54-4697-968E-C22F55A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E6F-7933-4090-B100-94943B0E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FCCE-0AB9-4A60-B7BC-E58C8457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0FD4-6169-4330-A131-A092FC5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A5CE-323B-4F05-8E5B-A072C64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D533-7BE5-4B63-9E6A-5300E03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A272-D02A-4995-9F05-8298B97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A1EB-8D5C-44B0-B828-9AF37C14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2A06-D9A2-4BFC-8925-A3F73359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F42-F3AE-486A-9450-5E431BD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DB-DFDA-47C9-8091-B5B0324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B20-8A99-46E1-9DCC-B7B1ABC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D7F-F775-4D13-B686-5B126637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BCC-B7AF-4816-8FEF-1EAFF52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7A9-CA5F-4527-863F-2B2576F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2D76-EACF-468E-AB54-721239DB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82D-9FD2-4E2A-8152-1FF6DEC9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128D-3903-41C4-A6E7-DE07433B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ic void shell(int[] a, int l, int 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in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1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lt;= (r-l)/9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3*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1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 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gt; 0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/=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int i = l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i &lt;= r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int j = i;  int v = a[i]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hile (j &gt;= l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amp;&amp; 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[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a[j] = a[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; j -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[j] = v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Приказ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лгоритама за сортирање методом уметањем и Шелов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азум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користи следе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горитме за сортирање: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ањем и Ш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snovan na tehnici koja se koristi u igrama sa kar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lazak kroz nesortiran deo i ubacivanje sledećeg elementa u sortiran 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za implement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an na malom broju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ost 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eđenja i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eranja u prose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duplo više u najgorem sluč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1905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8480" y="1905120"/>
            <a:ext cx="2133720" cy="533160"/>
            <a:chOff x="4038480" y="1905120"/>
            <a:chExt cx="2133720" cy="533160"/>
          </a:xfrm>
        </p:grpSpPr>
        <p:sp>
          <p:nvSpPr>
            <p:cNvPr id="137" name=""/>
            <p:cNvSpPr/>
            <p:nvPr/>
          </p:nvSpPr>
          <p:spPr>
            <a:xfrm>
              <a:off x="40384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1905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666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0" y="2666880"/>
            <a:ext cx="1600200" cy="533160"/>
            <a:chOff x="4572000" y="2666880"/>
            <a:chExt cx="1600200" cy="533160"/>
          </a:xfrm>
        </p:grpSpPr>
        <p:sp>
          <p:nvSpPr>
            <p:cNvPr id="145" name=""/>
            <p:cNvSpPr/>
            <p:nvPr/>
          </p:nvSpPr>
          <p:spPr>
            <a:xfrm>
              <a:off x="457200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520" y="266688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0384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4191120"/>
            <a:ext cx="1600200" cy="533160"/>
            <a:chOff x="2971800" y="4191120"/>
            <a:chExt cx="1600200" cy="533160"/>
          </a:xfrm>
        </p:grpSpPr>
        <p:sp>
          <p:nvSpPr>
            <p:cNvPr id="155" name=""/>
            <p:cNvSpPr/>
            <p:nvPr/>
          </p:nvSpPr>
          <p:spPr>
            <a:xfrm>
              <a:off x="297180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4191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7200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191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69 L -0.01493 0.02893 C -0.01823 0.03541 -0.02292 0.03958 -0.02778 0.03958 C -0.03368 0.03958 -0.03819 0.03541 -0.04149 0.02893 L -0.05625 0.00069 E">
                                      <p:cBhvr>
                                        <p:cTn id="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07 L 0.01684 -0.02847 C 0.02014 -0.03518 0.02517 -0.03865 0.03003 -0.03865 C 0.03593 -0.03865 0.04045 -0.03518 0.04392 -0.02847 L 0.06007 0.0007 E">
                                      <p:cBhvr>
                                        <p:cTn id="3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0116 L -0.0151 0.02986 C -0.01857 0.03634 -0.02343 0.04004 -0.02847 0.04004 C -0.03437 0.04004 -0.03906 0.03634 -0.04253 0.02986 L -0.05816 0.00116 E">
                                      <p:cBhvr>
                                        <p:cTn id="5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69 L 0.01563 -0.02824 C 0.01892 -0.03472 0.02413 -0.0382 0.02917 -0.0382 C 0.0349 -0.0382 0.03976 -0.03472 0.04306 -0.02824 L 0.05938 0.00069 E">
                                      <p:cBhvr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1.11111E-006 L -0.02812 0.04514 C -0.03507 0.05532 -0.04479 0.06111 -0.05521 0.06111 C -0.06701 0.06111 -0.07639 0.05532 -0.08316 0.04514 L -0.11458 1.11111E-006 E">
                                      <p:cBhvr>
                                        <p:cTn id="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01597 -0.02894 C 0.01927 -0.03542 0.0243 -0.03889 0.02969 -0.03889 C 0.03559 -0.03889 0.04045 -0.03542 0.04375 -0.02894 L 0.05989 1.11111E-006 E">
                                      <p:cBhvr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1598 -0.02894 C 0.01927 -0.03542 0.02431 -0.03889 0.02969 -0.03889 C 0.03559 -0.03889 0.04045 -0.03542 0.04375 -0.02894 L 0.0599 1.11111E-006 E">
                                      <p:cBhvr>
                                        <p:cTn id="9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1.11022E-016 L -0.02934 0.03681 C -0.03611 0.04514 -0.04635 0.05 -0.05694 0.05 C -0.06892 0.05 -0.07864 0.04514 -0.08541 0.03681 L -0.1177 1.11022E-016 E">
                                      <p:cBhvr>
                                        <p:cTn id="12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1.11022E-016 L 0.01181 -0.02894 C 0.0151 -0.03542 0.02031 -0.03889 0.02552 -0.03889 C 0.0316 -0.03889 0.03663 -0.03542 0.03993 -0.02894 L 0.05625 1.11022E-016 E">
                                      <p:cBhvr>
                                        <p:cTn id="12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1.11022E-016 L 0.01336 -0.02894 C 0.01666 -0.03542 0.02187 -0.03889 0.02708 -0.03889 C 0.03316 -0.03889 0.03819 -0.03542 0.04149 -0.02894 L 0.05781 1.11022E-016 E">
                                      <p:cBhvr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void InsertionSort(int[]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i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( i = 1; i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.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; i++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dex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( (j &gt; 0) &amp;&amp; (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-1] &gt; index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= 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a umetanja (insertion sort) je spor jer se zamene odnose samo ele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te koji su fizički sus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najmanji element na kraju niza, potrebno je n koraka da dodje na poč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elova metoda je proširenje metode umetanja koja dozvoljava da se udaljeni elementi zamenju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ja je da svi elementi koji su međusobno k-udaljeni budu sorti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o niz se sastoji od k podnizova koji su sortirani, ali su međusobno izmeš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Rectangle 3"/>
          <p:cNvGraphicFramePr/>
          <p:nvPr/>
        </p:nvGraphicFramePr>
        <p:xfrm>
          <a:off x="1371600" y="1447920"/>
          <a:ext cx="533412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533412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Rectangle 3"/>
          <p:cNvGraphicFramePr/>
          <p:nvPr/>
        </p:nvGraphicFramePr>
        <p:xfrm>
          <a:off x="1447920" y="3809880"/>
          <a:ext cx="5333760" cy="19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533376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K veliko, tada ce elementi sa manje koraka brže biti pomerani ka svojim pravim pozi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o sortiranje umetanjem sa smanjivanjem K do 1 je suština Šelove meto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je kako odrediti 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 inkremente njegovog  smanjenja tj. kako generisati sekvencu rastoj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bro je generisana sekvenca rastojanja bude logaritamska, tj. da od k do 1 bude logaritamski broj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ova metod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jednostavna za implementaciju, a daje dobre rezultate i za velike niz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7T22:25:5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