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D9C-EC9E-4BCC-BFF5-42383EF1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131-789C-4747-9B2F-18A7FF08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B7C-3487-43B5-A19A-7FED8603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F16-6D94-4443-BBA6-D81D37DA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7B80-346B-4AC0-9B8F-76CB43AE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1CB-A834-4C51-AA3D-680D40BB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5048-165F-4275-AD67-F5202BB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717B-69AD-41F8-AFBC-3AC66551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4210-5BF0-4B8C-B762-4A45987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C9A3-B3A2-4E8C-93D1-A42AABDD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8FBF-4021-4659-8D22-699264E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51B-887E-4C40-83A4-33AFA7AD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1358-83B9-4741-97A2-D4B8233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0DD-9475-4DF5-B2D4-75FF07D2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5A0-A5DB-4B30-994E-B214A30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C09-6CA1-481D-8C59-FE1A67CC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3B67-18BA-4099-9E30-B02C1AFA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A8C5-051D-4F08-8851-40DE92D7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6B9B-86C2-4155-B132-B37CFCF2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615E-0AD2-4473-89DE-89F519EE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2EAA-7BC6-4597-B207-89BEF93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879D-4616-4D54-B631-4F2B7E93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91A-E028-4592-87F2-E31F45B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20CF-1A08-44F9-987F-CA145067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F6BD-5BAD-427A-9EE4-F307CB1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5DBF-FED6-433C-A100-18DBD96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148F-2EC1-4F74-B75A-4D7A2D5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5227-0A2E-46DE-8BD6-90337CF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CD5D-D9B3-4D6B-9DC1-28B7DC20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7BF5-903A-4DA0-9C7A-10A30873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5C4-A458-48B4-A62B-57CC063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2CA-D343-4EAD-9363-23614B0E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3C7-152B-4948-BDCC-572F810C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5F0-D8A3-4239-898E-D19BCA5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E20-1E75-4798-9D2D-D3CBED7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4C4-DA30-45D5-A97A-10F04CA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3814-5D8C-45F5-AECC-6FB9F93D1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E726-7052-41DC-A6A2-D2A21DE4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8BB-4185-48BE-AE0C-00050915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8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3903840" cy="4667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7320" y="129420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risti dodatni pomoćni niz (tabelu) zvan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nde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9120" y="-360"/>
            <a:ext cx="835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traživanje počinje od indeksa traženjem prvog ključa koji je veći ili jednak tražen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e naiđe na takav ključ onda se preko pokazivača pristupa bloku u kome se zapis pronalazi posle najviše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en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ečan broj poređenja prilikom pretraživanja datoteke je jednak prosečnom broju poređenja za pretraživanje indeksa plus prosečnom broju poređenja za pretraživanje blo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58920" y="4221000"/>
                <a:ext cx="30240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92720" y="4581360"/>
                <a:ext cx="936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86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r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timalna vrednost za k se dobija iz uslo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547640" y="3141720"/>
                <a:ext cx="55454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1889280"/>
            <a:ext cx="7554960" cy="4070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4200" y="17002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va nivoa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ažur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nadno ubacivanje u blok koji je popunjen nije mogu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inicijalnog formiranje indeksa se ostavlja prazan prostor u bloku koji se koristio za naknadna ubac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blok napuni, onda se novi zapisi (tzv. prekoračioci) pamte u posebnoj memorijskoj zoni gde se olančavaju u 1-struko spregnutu li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zona za prekoračioce napuni, vrši se ponovno formiranje indeksa (vrlo skupa opera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91796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2982960"/>
                <a:gridCol w="3048120"/>
              </a:tblGrid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Претраживање линеарн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претражив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. Проблем претраживањ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O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новн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се упознати са проблемом претраживања и научити основне алгоритме за претраживање линераних структура: секвенцијално и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. Напредни 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удент ће научити неке напредне алгоритме за претраживање линераних структура: интерполационо и индекс-секвенцијал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. Напредни 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удент ће научити неке напредне алгоритме за претраживање линераних структура: интерполационо и индекс-секвенцијал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nljiv samo u slučaju sortiranih niz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mulira postupak koji koriste ljudi kod pretraživanja npr. telefonskog im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traži neko ko se preziva “Antić” onda će se imenik pokušati otvoriti stranica imenika koja je bliža poče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traži neko ko se preziva “Džaković” onda će se imenik pokušati otvoriti stranica imenika koja je bliža kraju imene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postavka da ako je početno slovo prezimena bliže početku azbuke, onda se dato prezime nalazi bliže početku im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ja algorit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veza između pozicije vrednosti ključa u skupu vrednosti ključeva i pozicije u nizu zapisa sa tim ključem, pa se može izračunati (interpolirati) pozicija traženog eleme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pitati element koji se nalazi na interpoliranoj poziciji i na osnovu toga odrediti deo niza koji treba dalje pretraž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lje pretraživanje polovine niza se pretražuje na isti način rekurzivno (slično kao kod binarnog pretraživ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88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 vrednost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k pozicija zapisa sa ključ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in (Pmax) pozicija zapisa sa minimalnom (maksimalnom) vrednošću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N  (MAX) minimalna (maksimalna) vrednost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87280" y="1557360"/>
                <a:ext cx="48974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4869000"/>
                <a:ext cx="676908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 pretpostavkom da su ključevi uniformno raspoređeni, interpolaciono pretraživanje zahteva prosečno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ključevi nisu uniformno raspoređeni tad performanse algoritma mogu biti znatno pogoršan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О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obusno interpolacion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traživanj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brzo (fast searc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đenje promenljiv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azmak (R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ko da je uvek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k - Pmi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max - P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veće od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četna vre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43280" y="4076640"/>
                <a:ext cx="2737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87280" y="5013360"/>
                <a:ext cx="5256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5950080"/>
                <a:ext cx="7777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imu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Maximu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busno interpolaciono pretraživanje u proseku zahtev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najgorem slučaj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(log2N)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ređ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4T12:24:2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