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04A-979D-4483-89FA-66004942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BB9-5740-498B-A506-F1248260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0B3-24AC-4F11-958D-85C27109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E74-B747-4DC1-A910-99759EA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841-CBDA-4345-9DCC-CE89D0F3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292-14A7-4292-9E7E-2C9AC2C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6EF9-1D37-4C2D-AA58-25A2E8D2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5F3-D86C-4B5A-AE32-DB02C4F1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AD43-6B60-40BD-81FF-179CF41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980-D779-41CB-A786-4AC972F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8F7F-7CFE-4947-91B4-BAD0627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8ED-772D-467E-940F-D8C20A5C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1C69-8673-4C3E-9C81-6C06995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A071-4F59-4939-90A8-043EF16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FAF-BA1D-479F-9E33-A172E0BA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72CE-1DFE-4824-9B2D-B954929A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7C1-D961-493D-8FF9-7F2C7DFD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EE31-84BC-42FC-9DCA-F4A37687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DF4F-3AF8-4E9C-829C-4A2E2AF9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26A0-B870-4E83-8106-F4924D47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BC0A-B862-47C7-AD8A-6687CF26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C301-7688-4FCC-B114-FA80BB87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FE0-FF40-48D1-858A-0DC4DEAF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0E39-5D93-4F1D-80F3-3E557B37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5B34-9EAA-4E2A-93A8-33B63F1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2456-CFDB-4714-968B-E132D80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1DCA-166C-470B-B3AB-E6F8B6B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D497-504B-48D7-968E-5B848DE4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5086-8F92-4D03-BE02-B7DA204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A44A-41E3-4FFE-B0EC-24382FDB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117-48E0-4FD0-B38C-765B9066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A8E-B5C7-4FE6-9C2D-4D5A584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FED-42B3-4A09-971E-9882253A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4F4-B578-4C3F-A79B-1892559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1E5-0F10-4E52-B265-164D847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A08-A7C6-4D9A-95FD-5CD6AB0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D52F-0BA1-4F28-9898-7A3506BF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6879-116C-43DE-A1A0-B70F4153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5DF2-9DCF-40B6-A17A-66375D006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promaša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enje broja operacija ili koraka je opravdano kada je vreme izvršavanja neuporedivo veće od vremena potrebnog za pribavljanje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nas je u mnogim slučajevima obr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ci se nalaze na disku (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poriji pristup od operativne memor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ti se keš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promaša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i se hijerarhija keš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brzinu algoritma najviše utiče koliko podataka je već u keš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osled i način pristupa podacima je b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. da li se u matrici elementima pristupa redovima ili kolo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i se broj promašaja, tj. koliko puta se mora ići po podatke koji nisu u keš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7820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nost algoritma nije uvek tačno zavisna samo od dimenzije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u slučaju sortiranja utiče i koliko je prethodno niz već uređ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oga se traži najbolji, najgori i prosečan slučaj efikasnosti algori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naći prvo pojavljivanje broj x u ni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bolji slučaj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gori: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ek: (n+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o apsolutno vreme izvršavanje nije objektivna mera za utvrđivanje efikasnosti algorita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vremenska, a šta prostorna kompleksnost algorit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razlika između merenja broja operacija i broja kora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ima smisla primeniti brojanje promašaja pogodaka u keš memorij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razlika između najbolje, prosečne i najgore efikasnosti algorit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(n) нот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537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Анализа ефикасности алгорит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појмовима везаним за анализирање ефикасности алготир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јам комплексности алгоритма. Анализа алгорит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мом комплексности алгоритма и начинима како се она утврђу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симптотска комплексност и О(n) нот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концептом асимптотске комплексноти и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(n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(n) нот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ам комплексности алгоритма. Анализа алгорит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мом комплексности алгоритма и начинима како се она утврђу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algorit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upoređivanja dva algoritma koji obavljaju isti zada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psolutno vreme nije objektivna mera upoređ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visi od brzine računara, jezika u kome je napisan algoritam, trenutnih okolnosti u kojima se izvršava dati program,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a je objektivna mera za upoređ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analize efikasnosti algoritama je nalaženje objektivne m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jam komplek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menska i prostorna kompleks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vreme i pros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om algoritmu da obavi za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de se daje fokus na vremensku kompleks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kazuje se kao funkcija veličine problema koji se reš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rtiranje niza dimenzije N je funkcija koja zavisi 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noženje matrice dimenzije MxN je funkcija koja zavisi od parametara M i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oper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čini za utvrđivanje vremenske komplek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oper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ko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promašenih pogodaka u keš memor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oj operacija koje treba da se izvrš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abira se skup pogodnih operacija (npr. sabiranja, množenja, ubacivanja, poređenja, sl) i utvrđuje se koliko se tih operacija obavi bi algoritam uradio dati zada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operaci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nalaženje pozicije (indeksa) najvećeg broja u nizu celih bro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max(int [] a, int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 (n &lt; 1) return -1; // no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positionOfCurrentMa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 (a[positionOfCurrentMax] &lt; a[i]) positionOfCurrentMax =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turn positionOfCurrent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Broj poređenja: n-1 za n&gt;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Broj kora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koraka (instrukcija) koje treba da se izvr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ak je jedinica koja je nezavisna od veličine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čuna se tako što se analiz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ko se koraka izvrši za svaku nared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ko se svaka naredba izvršava p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 max(int [] a, int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f (n &lt; 1) return -1; // no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 positionOfCurrentMa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f (a[positionOfCurrentMax] &lt; a[i]) positionOfCurrentMax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turn positionOfCurrentM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roj koraka: 1+1+(n-1)*1 + 1 =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12:47:00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