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344-4227-4A11-880A-49C134D6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AFF-DB34-4AE3-828B-74EDD4F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CC5-3847-444E-B374-21C628AF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48D-C6F2-4278-8198-D752B872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30D-9824-4636-B246-1FC9C421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8A3-1B25-4638-996A-D19D44C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5FC-9381-4CD8-AA75-1898A2E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D1A-798D-456D-861F-0C5CA08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44BF-527F-4255-BC5A-2075B46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966-D50F-4753-90E7-0B13C2A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E43A-30C4-4928-AA83-9C90888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BC7-6DA6-4BFD-86F1-FD9D1D4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097-3D3D-43E9-B37A-2D20259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9A38-7445-404F-846C-82B427C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F45D-62C4-439F-A46E-4B42907C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8F8-E4F6-4BE6-99AB-48596F9E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0D4-FB28-419E-ACA9-D3C45D09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F545-F890-4562-9A4E-A281B00F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F20C-6B8A-487A-8912-0A362D1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B8B1-AF35-4066-A79C-57BE218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E781-0317-4DF7-9586-8F73C4E3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98AC-1A4B-41B2-8AD5-C0A320D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4C4-21AE-4028-ADE4-24EE100F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3B93-54C5-48C4-A639-6FBE87B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CB28-5EF1-4E7E-8E30-BFD91AD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F4C3-1433-4757-BB98-F0E2293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62B0-7F61-4084-B440-71AFA23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7EE4-4184-4F5B-9DE7-E38B44F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D24C-3B14-454E-BD1B-EAC93ED0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6359-073D-42E4-A4AC-50ED3852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0CF-5779-41E6-8126-5086188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CD7-C5CD-4266-9736-91D3774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21F-4BB5-4A31-8BB7-7565C05A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79D-2962-4ED9-BD81-FA89D86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E3C-5FDB-4B30-882B-3A8C9B4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3EA-1BB3-44A9-AA42-E97BD07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D9A-D9DC-42DD-9C79-BFA3C46A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6863-33C4-448B-9730-968CAFF0E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E467-6E12-45E4-A064-A5A54034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ična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dva stabla se kaže da su slična ako imaju istu strukturu, tj. tačnije ako su oba prazna ili su sva njihova podstabla sl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vivalentna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a stabla su ekvivalentna ako su slična  i imaju identičan informacioni sadržaj u odgovarajućim čvor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stabla koja su sl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914400" y="2362320"/>
          <a:ext cx="312408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12408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056200" y="2436840"/>
          <a:ext cx="3375000" cy="28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2436840"/>
                    <a:ext cx="33750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stabla koja nisu sl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914400" y="2362320"/>
          <a:ext cx="312408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12408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903920" y="2436840"/>
          <a:ext cx="3375000" cy="28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2436840"/>
                    <a:ext cx="33750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371600" y="5791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dgovarajuća podstabla stabla sa korenom C nisu sličn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 stabla koja su slična, ali nisu ekvival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514600"/>
          <a:ext cx="32004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32004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76640" y="2436840"/>
          <a:ext cx="3457800" cy="29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6640" y="2436840"/>
                    <a:ext cx="345780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371600" y="5791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adržaj čvorova B i C u levom stablu nije identičan sadržaju odgovarajućih čvorova desnog podstab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ini vezani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rminalni čvor ili list je čvor koji nema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 d je dete čvoru k ako je d koren podstabla od čvora k. Čvor k se naziva rodite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epen čvora je broj podstabala datog č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uma je skup stabala koja ne preklap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ini vezani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vo čvora je 1 ako je koren ili jednak broju čvorova koji se prodju na putu od korena do datog č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sina (ili dubina) stabla je maksimalni nivo na kome se nalazi neki čvor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ustracija termina vezanih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1600200"/>
          <a:ext cx="767556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755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se stablo može rekurzivno definis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koren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d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 aje nivo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visina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u dva stabla slič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u dva stabla ekvivalent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. Дефиниција преко АТП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дефинише стабла преко АТП. Такође, биће оспособљен да користи алгоритме за пролазак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la su nelinearne struktur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stavljaju najvažnije nelinearne strukture koje se vrlo često koriste u račun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nos između elemenata nije line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ju razgranatu ili hijerarhijsku strukturu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jihov naziv implicira vezu sa stablima (drvećem) u prirodi ili porodičnim stab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ćina terminologije potiče iz ovih iz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uktura podataka B=(K,R); K-skup čvorov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 - binarna relacija prethođenja nad skupom K, predstavlja stablo ako R zadovoljava sledeće usl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samo jedan čvor r, koga nazivamo koren, kome ne prethodi ni jedan drug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i čvor, izuzev korena, ima samo jednog preth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vaki čvor k, 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, postoji niz čvor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…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 (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=1,n) koji predstavljaju listu, t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 i=1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definisati kao poseban oblik nelinearnog graf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earni graf je skup čvorova i skup relacija (nazivaju se linije grafa) koji opisuju veze između čvorova. Linearni graf je povezan ako je svaki par čvorova u grafu povezan linij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onda može definisati kao povezan graf koji ne sadrži petlje, odnosno ako važ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lo koja dva čvora u stablu su povezana lin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n čvorova ima n-1 li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rekurzivno definisati k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korenom je konačan skup K od jednog ili više čvorova takvih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jedan specijalni čvor koji se naziva koren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ostali čvorovi (isključujući koren) se mogu podeliti u 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 0 skupov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čiji je presek prazvan skup, a koji svaki predstavlja stablo za sebe. Stabl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e nazivaju  podtsbla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va rekurzivna definicija je veoma pogodna za predstavljanje stabala u memoriji računara i obavljanje operacija nad stab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rekurzivno definisati k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korenom je konačan skup K od jednog ili više čvorova takvih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jedan specijalni čvor koji se naziva koren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ostali čvorovi (isključujući koren) se mogu podeliti u 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 0 skupov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čiji je presek prazvan skup, a koji svaki predstavlja stablo za sebe. Stabl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e nazivaju  podtsbla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va rekurzivna definicija je veoma pogodna za predstavljanje stabala u memoriji računara i obavljanje operacija nad stab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stav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fička predst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Rectangle 3"/>
          <p:cNvGraphicFramePr/>
          <p:nvPr/>
        </p:nvGraphicFramePr>
        <p:xfrm>
          <a:off x="1676520" y="2057400"/>
          <a:ext cx="4038480" cy="36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403848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01:11:2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