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EBA-88DC-4869-9C24-EDA46DD9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B12-C9B0-4BFD-93E9-01A8543C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6C0-C081-4061-81AF-59086F7D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85E-2980-4F24-9FF5-9F984532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AF13-A1E3-4B4C-BCE6-3F813AEA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B3E0-13F8-4DEF-BB50-5413E811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DFE6-1BD5-4FA7-98A6-B52BD360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6C9C-A582-409F-8475-C003F3CC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18AC-2B8D-440B-BA8C-2F705D6E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0DD7-808B-498B-89F3-50599AE5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9F16-DB44-4296-8E38-A08E16CA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AF4-8366-4FCE-A066-0C5C5FCB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6914-45BD-486D-B012-F608E733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27D0-372A-44C9-A295-CE9F5870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3341-2089-4770-AFAE-DC17FA3C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30A2-A2EB-4FA4-A111-52892A2D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7A56-0FAF-4D95-821E-5DB53B43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9CBC-A61F-4C4D-B3EF-A6AE2369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1C3D-C9DA-4542-9F8E-3E30528F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4F29-AF29-44CE-A173-5DE15077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2BCB-0D80-4A3A-9D84-2473C278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89B2-F112-47C1-9B95-6068A7EC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AC5-AD11-4B15-A354-A625B278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D743-8A3C-4006-BD3E-43FB5A3C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5015-4DB1-4E4E-B070-3AD20C67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0104-BF5F-497D-83BA-684CC764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875B-B816-4CF2-AE73-4E147C17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D5F4B-0BC9-47F8-8854-2BCC8848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AFD5-2602-4A3D-AE19-F3F0D0BF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DAD4-DCBC-40E7-9479-C4C49146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F91-EC03-44D5-A004-D901474A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2FE-31DC-4782-893E-BBADAB35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3B0-75FC-4253-92D7-064D49F6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785-2549-432A-81B3-31E9B471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774-54DF-4D06-A6AF-B1CD892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FC8-8912-4311-80CA-087BC400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250B-0302-4080-BA64-82B5023DB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9163-907C-47D8-B024-A3C2887A4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E76F-C41A-445D-A370-CC81ED002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void postfiks() { return infiksSt(koren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void postfiksSt(Cvor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fiks (k.le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fiks(k.desn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.vis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čk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fikasna implementacija preko niza moguća samo za skoro kompletno binarno stablo (SK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 SKBS je moguće numerisati čvorove da odgovaraju indeksima u nizu i to tako da za svaki čvor važ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deks levog deteta = Indeks *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deks desnog deteta = Indeks * 2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deks roditelja = Indeks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3886200" y="2370240"/>
          <a:ext cx="525780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370240"/>
                    <a:ext cx="52578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čk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o implements binStabl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e class Cvo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 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poseti() {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vo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] cvorov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visina()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id prefiks() {…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id postfiks() {…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id infiks() {…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Rectangle 3"/>
          <p:cNvGraphicFramePr/>
          <p:nvPr/>
        </p:nvGraphicFramePr>
        <p:xfrm>
          <a:off x="3581280" y="1752480"/>
          <a:ext cx="510552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510552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čk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int visina(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ur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floor (log(n)) +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8000"/>
                </a:solidFill>
                <a:latin typeface="Arial"/>
              </a:rPr>
              <a:t>// n = 2</a:t>
            </a:r>
            <a:r>
              <a:rPr b="0" lang="sr-Latn-CS" sz="2400" spc="-1" strike="noStrike" baseline="30000">
                <a:solidFill>
                  <a:srgbClr val="008000"/>
                </a:solidFill>
                <a:latin typeface="Arial"/>
              </a:rPr>
              <a:t>h</a:t>
            </a:r>
            <a:r>
              <a:rPr b="0" lang="sr-Latn-CS" sz="2400" spc="-1" strike="noStrike">
                <a:solidFill>
                  <a:srgbClr val="008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void prefiks(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g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prefiksSt(0); // pocni prefiks prolaz od ko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void prefiksSt(int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&lt; 0 or k&gt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orovi[k].vis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ksSt (k*2);  // prefiks l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ksSt (k*2+1); // prefiks de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инар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стабла и специјална бинарна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81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концептима из области нелинеарних структура, са акцентом на стаб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3. Бинарнa стабла и специјална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и објасни бинарна стабла и да идентификује специјалне врст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4. Трансформација вишегранских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трансформише вишегранска стабла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mplementacija binarnih stab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3</a:t>
                      </a: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плементација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владавање техника како се стабло може ефикасно имплементирати у меморији рачун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finicija stabla kao A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no stablo se 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e definisati kao apstraktni tip na sledeći nač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terfa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bl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ubaci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 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izbaci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 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visina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prefik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postfik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infik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narna stablo se mogu implementirati na dva 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ko dinamički spregnute struk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ko n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inamička implemen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lo fleksibilna implementacija, lako dodavanje i izbac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ma ograničenja na broj čvorova i broj nivoa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a primena za sve slučajeve i oblike binarnih stab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plementacija preko n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fikasna implementacija moguća samo za specijalni slučaj – skoro kompletno binarno 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j čvorova i nivo stabla ograničen dimenzijom n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class Stablo implements binStabl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class Cvo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inf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vor le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or des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poseti() {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Cvor kor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visina(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prefiks() {…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postfiks() {…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infiks() {…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3581280" y="1676520"/>
          <a:ext cx="510552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676520"/>
                    <a:ext cx="510552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int visina() { return VisinaSt(koren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int visinaSt(Cvor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 1+ max(visinaSt(k.levo), visinaSt(k.des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void prefiks() { return prefiksSt(koren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void prefiksSt(Cvor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.vis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ksSt (k.le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ksSt (k.desn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int infiks() { return infiksSt(koren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void infiksSt(Cvor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ks (k.le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.vis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ks(k.desn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1:22:58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