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EFD-D35D-4C45-8F01-65AFAF16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85A-05C7-43A3-AF98-57C354C2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915-0E1F-4CEC-B676-C64447CA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1F7-EADD-451D-B5B5-2CB1EF93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4A60-E71E-4B54-8F4E-006C2AE4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8DFC-E2FB-4D7D-925B-DA22AF42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D6A4-6E98-4806-8539-6CCF3674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7787-112B-44F5-8F6B-AAC99662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4E55-B9D0-4EBA-80CD-0FC918E4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EEBA-2669-49D3-BEC8-5E3A49D0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7693-68A6-49DB-ABEC-415783A8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B60-C71C-438E-B289-AECC458A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5D42-2A0D-47EC-BB25-0FC91045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E20F-DAC9-4444-BA41-17189E17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DDB3-46BE-470D-91EE-6B84C1CC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17AF-D789-49D7-93BF-640AF821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EB57-CE37-4EF0-95D7-E92417FF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9E5F-3E19-4138-9818-09E34E6E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0275-B67D-4AF0-9F59-F831A2A6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FF754-1F37-4534-B327-6CA106E0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CD7D9-677A-43B5-AE43-5FC1D3F1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68AF1-9A0A-4093-BDC8-B4C43CD9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AA0-1020-4482-86E0-9A7DF2C8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4CFC-7EDE-46B0-924D-AC54A159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5373-9F59-430A-A047-34B80600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D5CA5-27FF-4BCE-AB97-54797A7B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8D08B-BAE8-45AC-BB6E-F906432B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D2FF4-7DD7-4DAF-BD43-027A2AAD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F819C-DFF4-475E-BA79-1DD53EEE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083E1-8FCE-4903-A70D-4C17E407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BAF-2DA4-43AC-8AEC-9F08E1A7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6C3-568B-4718-9736-A945EDC9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A1D-BABE-4DF5-9079-572D4463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5B3-06AB-4899-8534-FD4551C7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9F8-F8B0-40B7-A936-A703398B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C9B-F8F7-4241-81C1-B61A2CA0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B1B5-EA7D-4887-9BC9-FC66F2BB6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ACF6-B7FF-47A2-A1AA-A6B78A452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CB3C-4C5E-421D-97D0-30A060B9A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r liste sused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Rectangle 3"/>
          <p:cNvGraphicFramePr/>
          <p:nvPr/>
        </p:nvGraphicFramePr>
        <p:xfrm>
          <a:off x="457200" y="2057400"/>
          <a:ext cx="311940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311940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191120" y="1838160"/>
          <a:ext cx="4292640" cy="287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838160"/>
                    <a:ext cx="429264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ređenje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atrice sused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ostavnije za manipula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storna kompleksnost O(n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efikasno korišćenje memorije kod retko posednutih ma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ste sused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loženije za manipula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storna kompleksnost O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ikasnije korišćenje memor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плементација графова и мре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9942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 Графови и мреж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основним концептима из области графова и мреж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1.3. Имплементација графова и мреж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основне концепте везане за графове и мреж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4. Алгоритми над графови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пролазак кроз гра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топологијски сорт, транзитивни затварач и проналазак најкраћег растоја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плементација графова и мре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.3. Имплементација графова и мреж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основне концепте везане за графове и мреж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mplementacija graf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ndardno se koriste dve tehnike za realizaciju grafo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atrice susedstva (statička implementaci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iste susedstva (dinamička implementaci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atrice sused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atrica susedstva grafa G sa n čvorova je kvadratna matrica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i, 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reda n čiji eleme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SymbolPS"/>
                <a:ea typeface="SymbolPS"/>
              </a:rPr>
              <a:t>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1, ako je čvor i susedan čvoru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Latn-CS" sz="4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SymbolPS"/>
                <a:ea typeface="SymbolPS"/>
              </a:rPr>
              <a:t>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SymbolPS"/>
                <a:ea typeface="SymbolPS"/>
              </a:rPr>
              <a:t>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0, ako čvor i i j nisu sused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ko je graf neorijentisan tada je njegova matrica susedstva simetrič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 = 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r matrice sused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Rectangle 3"/>
          <p:cNvGraphicFramePr/>
          <p:nvPr/>
        </p:nvGraphicFramePr>
        <p:xfrm>
          <a:off x="457200" y="2514600"/>
          <a:ext cx="380988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4600"/>
                    <a:ext cx="380988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876920" y="1981080"/>
          <a:ext cx="2971800" cy="2924280"/>
        </p:xfrm>
        <a:graphic>
          <a:graphicData uri="http://schemas.openxmlformats.org/drawingml/2006/table">
            <a:tbl>
              <a:tblPr/>
              <a:tblGrid>
                <a:gridCol w="484200"/>
                <a:gridCol w="444600"/>
                <a:gridCol w="446040"/>
                <a:gridCol w="444600"/>
                <a:gridCol w="384120"/>
                <a:gridCol w="384120"/>
                <a:gridCol w="384120"/>
              </a:tblGrid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mplementacija matrice sused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atrica je dvodimenzioni n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storna kompleksnost O(n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je broj čvorova grafa veliki, a sadrži mali broj lukova, onda se dobija tzv.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retko posednu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matrica, tj. matrica sa mnog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efikasno korišćenje memo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isti se bit-mat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pamćenje elementa Aij se koristi samo jedan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rebno je manipulisati  bito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dstavljanje mrež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trica susedstva se može iskoristiti za predstavljanje mrež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ement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Latn-CS" sz="4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matrice 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adrže vrednost lu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0" y="3200400"/>
          <a:ext cx="3581280" cy="2209680"/>
        </p:xfrm>
        <a:graphic>
          <a:graphicData uri="http://schemas.openxmlformats.org/drawingml/2006/table">
            <a:tbl>
              <a:tblPr/>
              <a:tblGrid>
                <a:gridCol w="787320"/>
                <a:gridCol w="660600"/>
                <a:gridCol w="787320"/>
                <a:gridCol w="722160"/>
                <a:gridCol w="623880"/>
              </a:tblGrid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838080" y="3276720"/>
          <a:ext cx="289404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276720"/>
                    <a:ext cx="289404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iste sused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sta susedstva je multi-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ista listi, tj. lista čiji elementi su lis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sta čvorova grafa od kojih svaki sadrži listu svojih sus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storna kompleksnost O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broj čvorova O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broj lukova O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ikasno korišćenje memor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20T09:07:29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