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459-3663-4307-853F-B0F71400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D66-4F81-4F32-8D8E-E1BC3557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01B-F527-48E3-B061-7440E6BC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E7C-487E-464A-BD00-BFD49F28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19D7-1DF8-4F77-8FF0-9A9CD0B7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21F9-6FFA-4C1C-ACB1-BAFB384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645-40B3-41BB-865F-F10C2923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CFF8-BBC9-4745-9DBD-A23B5710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D17D-FB7D-4058-BBC6-A5F41B7B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76D-7FE7-456E-B9EF-95F45B8B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245-3F99-4798-B46E-17649E1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2F9-8E10-4370-9023-2DAE4FC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8027-AB72-4B0B-99D4-2EC8B0CD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9BE-427D-4C2B-878E-97DA5BD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D37-4A9E-47B4-852A-F1D9485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13E9-179F-4D9D-82F3-6D13864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51E-F76F-46C6-8F5F-E4AFD48C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A3B0-33EB-4B26-90CE-F95358EB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09A5-DB81-43EF-9276-A26BAF1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EB20-211B-4C6D-B145-1D5EAAD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75C0-C2E4-4748-BD4D-C64A0469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5663-D7B1-4BF4-AE07-89868256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C93-5F2C-498F-8432-F96D914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CEA7-14CC-495F-8471-8906045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F74E-DBAF-437B-A6D8-8D2772A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4F3A-8B5D-41D3-9FDC-05E594D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F643-E64B-4901-91CA-40360E0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6D80-7245-48D6-8694-9516A654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9963-FA1C-4116-901B-872C5FCD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8EA6-50BD-458E-A5A7-EC000327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C8C-27F4-4346-965D-B200796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2AE-2D42-4A6B-A03B-BF200C1F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AF8-3481-4E8F-82E8-01D56005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11B-DAA6-4423-B80D-9D92CA5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233-28F6-44C8-8C5B-4516572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178-AE30-4397-95B0-607B8D3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DF6-2C64-4B8C-A443-A596BCA7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E5AF-85D3-4793-8F79-A66AA196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62F5-DF86-40FC-9029-8A334C5F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vadratno prob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izbora r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vadratno prob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kcesivno uvećati prethodno dobijenu adresu za kvadrat prethodnog rasto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; j=1,2,…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limično se rešava problem sekundarne koli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olanč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lem primarne kolizije se rešava uvođenjem posebne zone za  zapise koji dobiju istu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pisi koji su u koliziji se olanč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lustracija metoda olanč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Rectangle 3"/>
          <p:cNvGraphicFramePr/>
          <p:nvPr/>
        </p:nvGraphicFramePr>
        <p:xfrm>
          <a:off x="1727280" y="1087560"/>
          <a:ext cx="574020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1087560"/>
                    <a:ext cx="574020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ređenje metoda rešavanja koliz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371600"/>
          <a:ext cx="8076960" cy="4647600"/>
        </p:xfrm>
        <a:graphic>
          <a:graphicData uri="http://schemas.openxmlformats.org/drawingml/2006/table">
            <a:tbl>
              <a:tblPr/>
              <a:tblGrid>
                <a:gridCol w="2692080"/>
                <a:gridCol w="2692440"/>
                <a:gridCol w="2692440"/>
              </a:tblGrid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dostat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voreno adresir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a dodatnog memo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skog pros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 sekundarne koliz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 ola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a sekundarne koliz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dodatan memorijski pros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kvencijalno pretraživanje jednostruko spregnute li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ункција трансформ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 Претраживање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концептима претраживања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 Функција трансформ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објасни основне функције трансформ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0.2. Решавање проблема колизије кључева. Отворено адресирање. Оланча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решавање проблема колизије кључева отвореним адресирањем и оланчав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sformacija ključa u ad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0080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.2. Решавање проблема колизије кључева. Отворено адресирање. Oланча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решавање проблема колизије кључева отвореним адресирањем и оланчавање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blem koli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nsformacijom ključa u adresu (indeks) se određuje pozicija elementa u ni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(k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koli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1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1) =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Rectangle 3"/>
          <p:cNvGraphicFramePr/>
          <p:nvPr/>
        </p:nvGraphicFramePr>
        <p:xfrm>
          <a:off x="2895480" y="2965320"/>
          <a:ext cx="5105520" cy="33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65320"/>
                    <a:ext cx="5105520" cy="33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hvatanje više zapisa na jednu ad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 adresa može da prihvati vi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smeštanja ne postoji sve dok se ne popuni prostor na jednoj ad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2286000" y="2340000"/>
          <a:ext cx="647712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40000"/>
                    <a:ext cx="647712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blem koli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se dogodi kolizija kako je reš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ubacivanja: šta uraditi sa elementom koji dobiju adresu koja je već zauz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pretraživanja: kako naći traženi element ako nije na adresi dobijenoj pomoću hash 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hvatanje više zapisa na jednu adr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blažava se problem kolizije, tj. problem smeš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va standardna načina rešavanja koli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tvoreno adre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 olanč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tvoreno adres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tvoreno adresiranje se bazira na ideji da se primeni druga hash funkcija r(k) na adresu dobijenu originalnom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astopna primena r(k) dok se ne dobije slobodna ad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r(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mo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r(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mo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r(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mo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– veličina tab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nearno prob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izbora r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nearno prob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većati prethodno dobijenu adresu z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2666880" y="2800440"/>
          <a:ext cx="617220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800440"/>
                    <a:ext cx="6172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undarna koli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arna kolizija je kada različiti ključevi imaju istu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kundarna kolizija se javlja kada se sudare ključevi koji imaju različite h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tvoreno adresiranje generiše sekundarnu koliz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ećava se broj koli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8:49:13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