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A50-0672-491D-AF8F-887140DA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658-F25C-43E3-8FCB-63A78D22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E0C-5B52-4B4A-804A-366115F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6D0-6A04-42F2-8C79-EC1BD2F3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A0CA-35F8-414F-AAF0-E5594091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378-0C1E-4251-8399-89AA7C1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85A5-6B17-4CDC-9C47-21FECAF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C5D2-AFEC-4BDC-9F5B-86CEDB16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CD08-DFE5-403D-BEA5-01A6692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7F4-0F48-4244-903B-262CF878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0510-8877-4260-87FB-AB3F59CA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523-BEB2-491D-BEFD-10CAB12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24AF-5587-4370-8F23-7836214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16A-158E-4028-AA8B-4F5EA6A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4BDF-AE0E-4656-B638-5127660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864-D604-4F1B-B2B1-7E5911F6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A95-D751-46AB-8AB5-FA0A07D2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B6C7-2FD7-4315-AC23-A8D35665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3EBD-2BF5-4B99-BECD-16CE788B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7539-F4F9-4F02-9357-AEA5E219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1037-F746-4D3E-BEF6-1DD47D44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127F-7685-49D6-8A58-A2E47853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10C-A5EE-44B3-A869-762439A1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C6D2-82A7-4604-A7B1-19E94BA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BCF0-46A7-4EB9-99F7-52C14E5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DCB8-384A-4249-8FFF-B2B6D51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6F6D-A04C-453E-AE19-F047ABB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2352-6006-4F92-B0AF-E7C2FF7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0766-7609-425F-BD80-142355C6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BE0F-2813-4C4E-96F0-D5EA5D5C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936-E9EA-4B2F-A09D-D3550A2F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E65-3156-49FD-BB9F-B67D5FA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AC3-3E2C-4465-B805-89E0CFA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717-641F-4F50-9247-A625443D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3D0-DDCA-4382-9F88-A65EC47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409-452A-4A62-BC32-46C16CE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92E3-0E02-4930-8290-F5B887CB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7C8-75D2-4EFA-BB55-9143437E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8DE-3081-47E8-BD64-1147B68BB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vate void MoveRow(int row, int length)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r(int col = 0; col &lt;= length-1; col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jMatrix[row, col] = adjMatrix[row+1, col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vate void MoveCol(int col, int length)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r(int row = 0; row &lt;= length-1; row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jMatrix[row, col] = adjMatrix[row, col+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blic void TopSort()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origVerts = numVer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hile(numVertices &gt; 0)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currVertex = noSuccessor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 (currVertex == -1)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sole.WriteLine("Error: graph has cycles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Stack.Push(vertices[currVertex].labe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Vertex(currVert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sole.Write("Topological sorting order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hile (gStack.Count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sole.Write(gStack.Pop()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zitivni zatvara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nzitivni zatvar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f T je tranzitivni zatvarač grafa G akko postoji luk (i,j) u grafu T ako postoji puitanja bilo koje dužine u grafu G između čvorova i i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 – matrica sused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anje duzin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P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anje dužin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PxPx .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anje dužin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zitivni zatvara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goritam koji stepenuje matricu susedstva na n-ti stepen nije efik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arshall-ov algor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k(i,j) = 1 ako postoji putanja od i do j koja prolazi kroz čvorove koji su numerisani do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k+1(i,j) = 1 a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(i,j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k(i,k+1) and Pk(k+1,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ost je O(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Warshall-ov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oid Warshal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0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&lt;= numVertices-1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+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0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&lt;= numVertices-1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+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&lt;= numVertices-1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и над графов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3. Имплементација графова и мр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.4. Алгоритми над графовим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топологијски сорт, транзитивни затварач и проналазак најкраћег расто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лгоритми над графови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4. Алгоритми над графови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, топологијски сорт, транзитивни затварач и проналазак најкраћег расто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earno uređenje čvorova grafa tako da nijedan čvor i koji prethodi nekom čvoru j ne bude u lineranoj listi posle čvora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ljivo samo na orijentisane aciklične graf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pri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plogijski sort: A, C, E, B, D,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81080" y="1600200"/>
          <a:ext cx="381024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381024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pologijski s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ji čvor bez sledb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 ga na li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 iz grafa nađeni čvor i sve njegove luk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novi korake 1-3 sve dok graf ne ostane pra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pologijski sort zahteva dve osnovne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laženje čvora koji nema sledb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 čvora i svih njegovih lu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 za realizaciju grafa preko matrice sus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int NoSuccessors(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ool isE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row = 0; row &lt;= numVertices-1; row++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Edge =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col = 0 col &lt;= numVertices-1; col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adjMatrix[row, col] &gt; 0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Edge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!(isEdg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turn r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void DelVertex(int v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vert ! = numVertices-1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j = vert; j &lt;= numVertices-1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rtices[j] = vertices[j+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row = vert; row &lt;= numVertices-1; row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veRow[row, numVertices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col = vert; col &lt;= numVertices-1; col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veCol[row, numVertices-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5-20T14:12:5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