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D337-60CA-40AF-A86A-D014EA64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C14-B014-4957-B4D6-FFDF984F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DEF5-917F-4AA3-A72E-BA360EB1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3F4-71D4-48A5-8932-A8463B1B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AB7F-1FD3-43AC-B072-DF791408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A024-1C38-43AF-9A45-1D549143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33F3-59DE-4AFF-819F-6F82A5CC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5625-0B55-4138-B2F9-63F9BAA0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0547-7E5C-4C0F-A62B-7D577648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CEE9-710A-4E3E-8E6E-CA567B31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0B14-E0E0-4F60-8B24-4155225A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168-DFF0-4EFA-9163-4815CC14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B20C-AF15-4E73-8AE8-F68BA42B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6BF4-8B0D-4422-A8AB-2E07D37B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9F5E-182A-4B57-88F9-0F6FF00B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7190-CF3A-4807-B9C7-4AB24969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B6AC-F61B-4424-AF85-ACE81C39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AF940-629B-4EF1-9964-95FB9A16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4C913-5048-4D38-94CC-8A2D06A6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0FF45-A1B3-4C28-BBAD-FCE60BC5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208C9-38D2-4EC6-9497-A9988746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ACC09-A758-4F4A-B6A5-A47E0332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34D-9764-48A9-A93B-70DE950A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FD676-A8D2-439C-B681-586B132A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14135-184C-49A6-8A47-57E0B279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2105B-0F60-4F6C-8F0E-669D5AA1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4DF57-3C41-4AD4-AE97-91D871E8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CB647-E223-4492-B1BE-DC259771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3C8B0-835C-4DDC-9A04-368FDC37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CDEAA-53A4-40E7-8D40-25F1FA93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EAB-7000-4CE3-A531-AFF14366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A63-7965-40BA-AAB5-207DC2CD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486-036A-4F9B-A933-BD9EBB6B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768-2145-4300-A663-B0487D65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7D9-9CCE-48AD-8152-37F196E5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DFC-ED6B-4340-84C4-A1FBAA15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02B8-EE6C-4DAC-8C4D-12A6D4F89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CEEF-7864-489E-82E7-A6E24FD52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DAD0-30DE-4BFF-B296-F24ADCEF2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ivanje u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B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tupak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ivanja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B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vo se pretr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i BST da bi se našao traženi čvor za izabac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tim se nadjeni čvor izbucuje na nači koji zavisi od njegove pozi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guće su tri situacije gde se nalazi čv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vor j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vor je polu-list (Ima samo jedno de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vor je unutrašnji (Ima oba dete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tupak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z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civanja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kada je čvor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tuacija 1: Čvor j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sto se izbaci čvor iz stabla i ažurira pokazivač njegovog roditelja da sadrži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ul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: izbaciti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3886200"/>
          <a:ext cx="2050920" cy="24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86200"/>
                    <a:ext cx="205092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886200" y="3886200"/>
          <a:ext cx="2050920" cy="245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886200"/>
                    <a:ext cx="205092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705720" y="3733920"/>
          <a:ext cx="2050920" cy="24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3733920"/>
                    <a:ext cx="2050920" cy="24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tupak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z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civanja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kada je čvor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tuacija 2: Čvor je polu-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baci čvor iz stabla,  a pokazivač njegovog roditelja se ažurira da sadrži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okazivač na dete čvora koji se izbac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: izbaciti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80880" y="3809880"/>
          <a:ext cx="2051280" cy="24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9880"/>
                    <a:ext cx="205128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048120" y="4191120"/>
          <a:ext cx="2303280" cy="21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191120"/>
                    <a:ext cx="230328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172200" y="3809880"/>
          <a:ext cx="2050920" cy="245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809880"/>
                    <a:ext cx="205092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tupak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z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civanja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kada je čvor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tuacija 3: Čvor je unutrašn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nađe se njegov prvi sledbenik (ili prethodnik) koji mora biti na krajnjoj levoj (tj. desnoj) poziciji u desnom (tj. levom) podstablu. Sledbenik (tj. prethodnik) mora biti ili list ili polu-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meni se sadržaj sledbenik (tj. prethodnik) sa sadržajem traženog čv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bacuje se čvor sa pozicije sledbenika (tj. prethodnika). Ovo se svodi na slučajeve 1. i 2. izbac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ivanje u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B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r: Izbaciti 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2514600"/>
          <a:ext cx="23511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23511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2743200" y="2819520"/>
          <a:ext cx="2725560" cy="24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19520"/>
                    <a:ext cx="2725560" cy="24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748480" y="2813040"/>
          <a:ext cx="2352600" cy="25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48480" y="2813040"/>
                    <a:ext cx="2352600" cy="25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-766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fikasnost pretraživanja B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ko je stablo dobro balansirano efikasnost je O(log 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ko stablo nije balansirano, tada je efikasnost  loš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jgori slučaj je O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da se ubacuje sortirani niz brojeva, BST se degeneriše u lis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Стабло за бинарно претраживање и АВЛ стаб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8880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 Претраживање бинарн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стандардним алгоритмима за претраживање бинарн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8.1. Стабло за бинарно претраживање и АВЛ стаб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принципе функционисања стабла за бинарно претраживање и АВЛ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2. Алгоритми за претраживање, убацивање и избацивање. Анализа ефикас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и користи алгоритме за претраживање, убацивање, избацивање и анализу ефик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alibri"/>
              </a:rPr>
              <a:t>Stablo za binar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8.1. Стабло за бинарно претражи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принципе функционисања стабла за бинарно претражи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-766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alibri"/>
              </a:rPr>
              <a:t>Stablo za binarno pretraživanje (B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d običnog binarnog stabla pretraživanje se zasniva na nekom od prolaza i ima O(n) efik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ST se zasniva se na ideji da se binarno stablo organizuje tako da omogući pretraživanje slično binarnom pretraživanju n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Definicija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B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ST je binarno stablo kod koga za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svaki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vor važe sledeća 2 uslo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Svi čvorovi u levom podstablu imaju sadržaj koji je manji ili jednak sadžaju datog čv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Svi čvorovi u desnom podstablu imaju sadržaj koji je veći ili jednak sadžaju datog čv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895480" y="3581280"/>
          <a:ext cx="3505320" cy="29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581280"/>
                    <a:ext cx="3505320" cy="29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traživanje B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upak p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traživanj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B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je sadžaj korena veći od traženog ključa onda se pretražuje levo podstablo rekurziv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je sadžaj korena manji od traženog ključa onda se pretražuje desno podstablo rekurziv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je jednak po sadržaju onda je koren traženi č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8600" y="3733920"/>
          <a:ext cx="2050920" cy="24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733920"/>
                    <a:ext cx="2050920" cy="24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438280" y="3733920"/>
          <a:ext cx="2073240" cy="24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733920"/>
                    <a:ext cx="2073240" cy="24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648320" y="3809880"/>
          <a:ext cx="2054160" cy="246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809880"/>
                    <a:ext cx="20541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858000" y="3733920"/>
          <a:ext cx="2054160" cy="246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0" y="3733920"/>
                    <a:ext cx="20541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kur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vni algoritam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pr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etraživanje B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ublic Cv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traz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vor k, int 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(k == nul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nu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.inf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traz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k.levo,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.inf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traz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k.desno,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 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terativn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goritam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traživanje B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ublic Cv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traz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vor k, int 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k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.inf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 = k.lev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.inf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 = k.des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.inf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=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u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erativni algoritam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pr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traživanje B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bacivanje u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B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tupak ubacivanja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B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vo se pretr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i B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i se novi čvor na mesto nula pokazivača gde se pretraživanje završ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3809880"/>
          <a:ext cx="2050920" cy="24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9880"/>
                    <a:ext cx="205092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362320" y="3784680"/>
          <a:ext cx="2054160" cy="246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784680"/>
                    <a:ext cx="20541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516560" y="3854520"/>
          <a:ext cx="2166840" cy="237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16560" y="3854520"/>
                    <a:ext cx="216684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906560" y="4724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61160" y="3809880"/>
          <a:ext cx="2055960" cy="256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61160" y="3809880"/>
                    <a:ext cx="2055960" cy="25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12:57:53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