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226B-4B85-4E3D-87BD-1EEDB656D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29E8-0A79-4F12-9637-3B15C591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9D11-06BF-4343-A1D7-0ED140C9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2FAE-E7C9-4E68-B23E-F2426C8DD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5FE1-471F-4673-B28E-406854992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628F-A73F-4221-BB72-31293FE4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0787-157B-4D3E-9C9B-CF76F600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7AA5-C510-45D7-BDE6-4E142B5C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ACBB-0D00-478B-8276-39511610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C152-FAB9-437B-982C-52E8F66C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F688-4E79-4063-93E0-11348E3D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A1B5-97A2-46EF-8119-7669B6D0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F487-D56A-498C-BD77-009DFC89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8ACA-B6C7-4772-9758-6E6279DA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4618-72D2-4C81-A2CB-7FF81EA0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796D-4260-4CC4-A4F0-D8E6F6CF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C44E-85F6-4A2D-A98F-27688D75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48C01-F7CC-4A2F-BFC9-A7FB32B6E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DB07F-D52D-4E48-BA39-C5901FE2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09EB9-33D6-4F6A-B977-7CBA279F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F52BB-36D9-4B59-A84D-BC89AD0D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6C7B6-21A3-445B-9F36-A42AFB47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DD23-E6FB-4111-BCDA-63268E97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6A2CF-DB28-4B93-A43B-DAFC8200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FD2E5-806B-4704-B516-6B3F58CE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028F4-2B2B-4E12-B8F5-77A6A63D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2A2E6-89BB-4A88-82CB-7AF35155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E782D-4A99-45CD-AB39-60396200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CB19C-0E23-4FCD-8C34-F9F0601E8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15196-240C-48EE-BEDA-26656F7B4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824D-69A5-4A7C-AF60-F6406476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6522-240C-4B63-81B6-7458AAC1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F863-0FCD-492C-BD45-D286EBBF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8CA1-8BFA-407D-A43D-94D3F40F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14C9-6347-4831-8879-ECAE6204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7198-F238-45C0-BE06-479BB67C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B4A9-3723-4735-9F61-106BC2936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5F6F-858A-4BE0-AE01-E76062245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A782-832C-4B55-A259-D7E5BB584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Grafovi i mreže – osnovni termi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472464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. Графови и мреж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владавање основним концептима из области графова и мреж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1.1. Основни терми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 и реподукује основне концепте везане за графове и мреж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2. Пролази кроз гра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, објасни и користи алгоритме за пролазак кроз гра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Grafovi i mreže – osnovni termi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48752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.1. Основни терми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 и репродукује основне концепте везане за графове и мреж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Uv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rafovi su nelinearne strukture podat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edstavljaju najopštije strukture podat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dnos između elemenata nije linearan; jedna element može imati više sledbenika i više prethod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ema ograničenja u pogledu povezivanja elemen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lementi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raf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se nazivaju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čvoro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eze između čvorova se nazivaju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luko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-7668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Defini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truktura podataka B=(K,R); K-skup čvorova i R - binarna relacija nad skupom K i to tako da svaki par čvorova (k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€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 kažemo da obrazuje luk gra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Luk l = (k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  povezuje čvor k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sa čvorom k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i to tako da čvor k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prethodi čvoru k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inarna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vo je definicija tzv.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orijentisanih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graf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 graf kažemo da je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neorjentisa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ukoliko važ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k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€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k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k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€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snovni termi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 luk l = (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 kažemo da je 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početni čvor luka l, a za 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a je završni čvor lu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že se i da luk izlazi iz čvora k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da ulazi u čvor k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 dva čvora se kaže da su susedni ukoliko postoji luk koji ih sp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 dva luka se kaže da su susedni ukoliko imaju jedan zajednički čv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vor koji nema susednih čvorova se naziva izolovani čv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prethodnom primeru čvor E je izolovani čv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uk kod koga su identični završni i početni čvor se naziva petlj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prethodnom primeru luk nad čvorom B je pet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snovni termi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ukovi čiji završni čvor jednog je identičan početnom čvoru drugog se naziva put gra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ut kod koga su početni čvor prvog luka i završni čvor poslednjeg luka identični se naziva cik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roj lukova koji obrazuje put se naziva dužinom pu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d petlje dužina puta je 1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d neorjentisanog  grafa se umesto termina put koristi termin lana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 graf kažemo da je povezan ukoliko između svaka dva čvora postoji lan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 graf kažemo da je stogo povezan ukoliko između svaka dva čvora postoji 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Grafička predstava grafo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Rectangle 3"/>
          <p:cNvGraphicFramePr/>
          <p:nvPr/>
        </p:nvGraphicFramePr>
        <p:xfrm>
          <a:off x="2308320" y="1373040"/>
          <a:ext cx="4284720" cy="35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8320" y="1373040"/>
                    <a:ext cx="4284720" cy="35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rež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79246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Grafovi kod kojih se likovima pridružuje neki podatak se naziva mrež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mer: putna mrež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orijentisan gr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Rectangle 3"/>
          <p:cNvGraphicFramePr/>
          <p:nvPr/>
        </p:nvGraphicFramePr>
        <p:xfrm>
          <a:off x="3962520" y="2133720"/>
          <a:ext cx="401796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133720"/>
                    <a:ext cx="401796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9T20:51:59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