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3C6C-E49E-45FC-8861-79FCDAA6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7E41-0877-439E-8BB3-270CEA35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0D1D-AF65-48A0-A809-81434DEA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0A1D-B5DB-46F7-8A8C-D2E13D82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AB06-2BB2-4A42-B249-D5C7F33E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ECA8-E13C-494B-91AA-51402E93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76CE-13F2-499D-ACE3-34A1CAEC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E4D8-1C75-4716-B34D-57337647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7951-B01D-49AA-ABAB-11FD5EF0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-380880" y="-76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66A4-3089-44D8-A4B1-1DACAD93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3C79-BF2E-42F4-95CB-EA31BBFD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B909-769E-4291-AE93-184677DF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51C2-86BF-483F-B5FE-6FCCDA00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E3A0-FC34-49AF-9BFD-470FF46A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AA5C-A5D3-4863-A5C9-FD9D3C27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D5D0-AFBB-4A2A-8336-3CD3C66A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5F40-DED6-470D-B150-D6DCCF19E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5E47A-AD4D-4900-A17D-82FF4006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79B61-3972-4F9F-8E03-5849FE3C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58305-F5A4-4CD6-937B-7B117312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B878C-F906-41B2-A944-06EED936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7D625-B691-47F4-98FD-83228B16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652E-FD05-45B2-A481-2CCF8405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-380880" y="-76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7C874-7D09-473B-934B-B456C1AF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08C36-1BBD-4461-A6CB-B2407374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8A2CF-55C5-45ED-86D0-8AD3EC96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FAA25-943E-4F0E-B1A9-F3A2439C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EFDA1-5A9F-4D92-A004-8A3A5F5E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484CB-0760-4006-A247-6BEA8EDB5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53912-FB5C-4811-83A3-92263389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F8E6-E5BC-4271-A392-D10A951A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C21B-234B-4DC8-A166-71F5B805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-380880" y="-76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8CC9-B2C3-4D86-9C1C-DFCD703E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0591-D013-40EA-AFEA-C677E492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2A6E-9A59-463D-98FB-49CD4CD6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0CF4-A728-4C2C-8377-5FC23FE7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5045-6CFF-42FF-9352-842E8000D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5983-748D-4A7E-8457-411ED9FFE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465C-2E27-4E19-B205-EDA004B69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Ubacivanje u B-Stab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3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urier New"/>
              </a:rPr>
              <a:t>Primer ubacivanja 382</a:t>
            </a:r>
            <a:r>
              <a:rPr b="1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Rectangle 3"/>
          <p:cNvGraphicFramePr/>
          <p:nvPr/>
        </p:nvGraphicFramePr>
        <p:xfrm>
          <a:off x="395280" y="2349360"/>
          <a:ext cx="8353440" cy="38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349360"/>
                    <a:ext cx="835344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Ubacivanje u B-Stab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3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urier New"/>
              </a:rPr>
              <a:t>Posle ubacivanja 382 (čvor K se pocepao)</a:t>
            </a:r>
            <a:r>
              <a:rPr b="1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-181080" y="2492280"/>
          <a:ext cx="93250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2492280"/>
                    <a:ext cx="93250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Ubacivanje u B-Stab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3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Primer ubacivanja 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50920" y="2349360"/>
          <a:ext cx="8893080" cy="394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349360"/>
                    <a:ext cx="8893080" cy="39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Ubacivanje u B-Stab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3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Primer ubacivanja 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Rectangle 3"/>
          <p:cNvGraphicFramePr/>
          <p:nvPr/>
        </p:nvGraphicFramePr>
        <p:xfrm>
          <a:off x="395280" y="2292480"/>
          <a:ext cx="8424720" cy="37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92480"/>
                    <a:ext cx="8424720" cy="37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Ubacivanje u B-Stab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3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Primer ubacivanja 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Rectangle 3"/>
          <p:cNvGraphicFramePr/>
          <p:nvPr/>
        </p:nvGraphicFramePr>
        <p:xfrm>
          <a:off x="216000" y="2492280"/>
          <a:ext cx="8928000" cy="383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2492280"/>
                    <a:ext cx="8928000" cy="38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Ubacivanje u B-Stab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3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Primer ubacivanja 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79280" y="2421000"/>
          <a:ext cx="8604360" cy="37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421000"/>
                    <a:ext cx="8604360" cy="37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Ubacivanje u B-Stab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3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Primer ubacivanja 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Rectangle 3"/>
          <p:cNvGraphicFramePr/>
          <p:nvPr/>
        </p:nvGraphicFramePr>
        <p:xfrm>
          <a:off x="395280" y="1069920"/>
          <a:ext cx="874872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069920"/>
                    <a:ext cx="874872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Б, Б* и Б+ стаб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488808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 Претраживање вишегранских стаб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владавање стандардним алгоритмима за претраживање вишегранских стаб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9.1. Б, Б* и Б</a:t>
                      </a:r>
                      <a:r>
                        <a:rPr b="0" lang="sr-CS" sz="1600" spc="-1" strike="noStrike" baseline="30000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+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објасни принципе функционисања Б, Б* и Б</a:t>
                      </a:r>
                      <a:r>
                        <a:rPr b="0" lang="sr-CS" sz="16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стаб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2. Алгоритми за претраживање, убацивање и избацивање. Анализа ефикас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објасни и користи алгоритме за претраживање, убацивање, избацивање и анализу ефикас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Б, Б* и Б+ стаб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51920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.1.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Б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стабло, Алгоритми за претраживање и убацив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зумевање концепта Б-стабла и алгоритама за претраживање и убацивањ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Calibri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i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šegranska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opštenje binarnih stabala pretraži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stoji više ključeva u čv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vakom ključu pridružena dva podstab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edno podstablo je istovremeno levo desno za dva susedna ključ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vi ključevi u levom podstablu su manji, a u desnom podstablu veći od datog ključ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d stabla određuje koliko može svaki čvor imati maksimalno ključe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aximalni broj podstabala je n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i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šegranska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ablo reda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Rectangle 3"/>
          <p:cNvGraphicFramePr/>
          <p:nvPr/>
        </p:nvGraphicFramePr>
        <p:xfrm>
          <a:off x="755640" y="2852640"/>
          <a:ext cx="7772400" cy="239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852640"/>
                    <a:ext cx="7772400" cy="23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Pretraživanje višegranskog stab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8372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urier New"/>
              </a:rPr>
              <a:t>TreeNode PretVST(TreeNode Root, int klju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TreeNode node = RootV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if (node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Poz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int i = PretCvor(node, klju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if (kljuc == k(node, i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Poz =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return no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return PretVST(s(node, i), klju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B-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-Stablo reda n je višegransko stablo reda n kod koga važ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vi listovi su na istoj vis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vaki čvor, izuzev korena, ima minimalno n/2 ključe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B-stab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-Stablo reda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Rectangle 3"/>
          <p:cNvGraphicFramePr/>
          <p:nvPr/>
        </p:nvGraphicFramePr>
        <p:xfrm>
          <a:off x="755640" y="2997360"/>
          <a:ext cx="7764480" cy="142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997360"/>
                    <a:ext cx="7764480" cy="14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Ubacivanje u B-Stab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83059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urier New"/>
              </a:rPr>
              <a:t>Pronaći čvor gde se vrši ubaci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urier New"/>
              </a:rPr>
              <a:t>Koristi se algoritam za pretraži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urier New"/>
              </a:rPr>
              <a:t>Ubaciti novi klju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urier New"/>
              </a:rPr>
              <a:t>Ako ima mesta, ključ se prosto uba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urier New"/>
              </a:rPr>
              <a:t>Ako nema mesta, on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Pocepa se dati čvor na dva, i sortirani niz postojećih ključeva (uključujući i novi), osim srednjeg ključa (sredina sortiranog niza) se raspodeljuje u nove čvor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Srednji ključ se ubacuje u nadređeni čv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Postupak ubacivanja se rekurzivno ponavlja</a:t>
            </a: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8T15:01:07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