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B7D-6F37-4FC6-8954-F3F94CAE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91E-BFEC-4D0A-B207-4E6FFFB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26B-52C0-4124-94C7-D2FE8AC0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CFE-877C-4A39-9401-9B34F8FA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F87-8912-4AB1-8028-13A6F524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6791-AF70-4165-8E19-6F005B1E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84A0-34CB-4854-A728-15C7DCB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989-B63C-468E-AB9F-9886FCC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CE9-B137-4F6C-B844-E9F2645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97F0-3DC8-4571-933F-CB30E04E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14D-200C-4870-9BD0-BCE6C0E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F96-A4B9-45A4-9E87-2D0CF3B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ED2A-1BB6-47A9-B128-67EDCF2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C22E-AAD3-4E73-BA47-522F218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55C-7C03-406E-B563-744955A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6486-DADA-4763-9DC1-EB3C8D15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6D26-BC93-4E4B-9AEE-5294AD74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2A32-745C-4821-9D2A-D3946CE7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B7EF-5CB8-4FD3-B34F-BCA500B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CD22-2BDC-4506-8CEB-86A731F5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1406-8B9A-46F9-AC92-6B89E76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9530-0101-4D0E-A8EE-A3766E5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80B-E716-4207-A17F-284C003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ACD3-F2B3-40A0-81F5-E207ED8E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D882-DD32-4BB3-813A-CDD3710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C875-7B21-461C-99CA-81DF781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1ABC-FD60-4D85-8BBC-15988D5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630F-816E-4750-AF71-0EA4D1D7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C492-7A1A-4AAB-B986-BB7A88C0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6DE3-5797-44D5-B3DD-A59DD0DB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3A2-9AF2-445B-BF18-D1637724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97B-C839-4F74-9FBC-E35C15C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74D-B5A4-4650-A309-012DAA4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FDB-DB5C-4912-A85F-9B95131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140-EF75-4662-8D56-761CBEA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9C4-F19F-4F00-BC4F-FEE7EA5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323C-DD68-4533-9423-A5005C4D0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2E9-7582-4719-B9F9-93065184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7868-7B24-4E9E-A3CA-74AB9886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421000"/>
          <a:ext cx="900108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a je red stabla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upan broj ključeva u stabl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ki čvor sadrži najm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q = (m-1) div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ljuč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1095480"/>
            <a:ext cx="7113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z minimalnog broja ključeva pronalazimo da je maksimalna visina (d) B-stab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= 2(q+1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aritmujući levu i desnu stranu dobij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=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(q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1 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ređivanjem dobij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-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= (d-1)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q+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iz toga sl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 =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n/2)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B*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* - Pobol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n algoritam u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mesto da se čvor u kome nema mesta za novi ključ odmah cepa, vrše se prethodno pozajmica viška ključeva njegovoj brać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k ako pozajmica nije moguća (ako su braća popunjena) se vrši cep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B+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ava i sekvencijalni prist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2066760"/>
          <a:ext cx="89280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6760"/>
                    <a:ext cx="89280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.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2 Алгоритам за избацивање из Б-стабла; Б*-стабла, Б+-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ти поступак избацивања из Б.стабла. Упознати се са концептом Б* и Б+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slučaja izbac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ključ koji se izbacuje nalazi u čvoru koji nije lis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taj čvor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Izbacivanje iz čvor koj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i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di se na izbacivanje iz čvora koji jest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nalazi se prethodnik (ili sledbenik) datog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thodnik (sledbenik) se nalazi na krajnjoj desnoj (levoj) poziciji u krajnjem desnom (levom) čvoru u levom (desnom) podstablu datog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Izbacivanje iz čvor koj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blem se javlja ako nakon izbacivanja u listu ostaje manje od n/2 ključ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manje od n/2 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jmjuje se od levog ili desnog brata ključ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ijedan brat nema dovoljno ključeva tada se dati čvor spaja sa nekim od svoje braće. Tom prilikom se spušta njihov nadređeni ključ iz nadređe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puštanje nadređenog ključa narušava integritet onda se postupak izbacivanja rekurzivno pon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 izbacivanja ključa 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826920" y="2492280"/>
          <a:ext cx="741708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41708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750960" y="2484360"/>
          <a:ext cx="670860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484360"/>
                    <a:ext cx="6708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5640" y="2252520"/>
          <a:ext cx="7488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52520"/>
                    <a:ext cx="7488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 izbacivanja ključa 1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276640"/>
          <a:ext cx="8748720" cy="41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8748720" cy="41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6:40:5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