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F9B6-0904-441F-B8C8-7DCC86166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9E3D-A025-443F-82B6-EDB851C86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4A76-77FD-4B8A-A70B-BC44B40CB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94EB-64D0-4997-8947-337EB0A14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36D74-8093-4AAA-9E77-23FC0F42A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BDB93-5D06-4620-BF62-F5F5C2E59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09E4E-E61B-41F3-A98D-69B45F1B6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93885-9469-4927-B6DC-7E513FADA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38D61-4621-446E-AEC7-750B5B59E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B1191-C949-415F-91E3-CD8B67EB3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2047F-FD98-41E7-9D09-6F6D1F650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5544-FFCB-429E-A907-8364586B3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729C6-DBD6-4AB9-A775-80EB113A9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4CB51-405D-4D9F-9C43-29BA66866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F3926-CD8F-4987-9BA3-0252BA17F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52229-2269-4102-BBDE-23B7CE445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40472-0732-4420-ADA2-D417EED31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7F92B7-D6E1-4823-896B-FE5FD3944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5A51DB-BE73-4EEE-89EB-8397C5378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4642CD-8F29-4FE2-A65B-0030D69C1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BF7DB5-B16F-4007-92EA-0D019626E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3BEAFE-FEF1-47EF-BAB4-A331A68A4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2756-02B9-4DFC-8ED4-EAB227178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509CAD-4A33-4B03-A268-8578FB725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697BCD-16A1-4E71-B1FF-C17E097A4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7BED1C-365B-4348-A72A-D5381F03D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C30F50-C25E-474A-A3AB-463247B20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392998-2C4E-476F-97FB-4AABAE3DF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0DA240-2D84-4DB0-8863-E52C57BCD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24616D-7D48-4EA9-99D6-65CBA47AB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C2A7-EA39-4C3A-9615-10C092AE2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F71F-E432-4EEA-A51B-7B6F9276E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35F0-CAF0-46E1-8E88-AC76E8496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31E1-7448-4D71-8698-1E61EFEFE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AC28-4F46-4E28-A137-2EC6298FB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2346-3BCF-45AC-8F0D-1C5A5B2D7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7696D-EFFE-4440-B38C-16ECA5E437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4" descr=""/>
          <p:cNvPicPr/>
          <p:nvPr/>
        </p:nvPicPr>
        <p:blipFill>
          <a:blip r:embed="rId2"/>
          <a:stretch/>
        </p:blipFill>
        <p:spPr>
          <a:xfrm>
            <a:off x="-304920" y="4680"/>
            <a:ext cx="9720360" cy="687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624B6-D2BB-44B8-B635-A3AB57C236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4DE8A-04BF-4703-8614-A050943DA5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2"/>
          <a:stretch/>
        </p:blipFill>
        <p:spPr>
          <a:xfrm>
            <a:off x="-304920" y="4680"/>
            <a:ext cx="9720360" cy="687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Prolaz po dubini - pseudo k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Algoritam za prolaz po dubi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zahteva korišćenje ATP Stek (sta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vaki čvor ima stat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Čeka, spreman i obrađ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Obilaze se svi čvorovi grafa i ubacuju u stak ako već nisu posećeni ili ubačeni u red (tj. one sa statusom da čekaj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Uzima čvorove iz staka, posećuje ih i menja status da su posećeni, a zatim ubacuje sve njihove susede u stak ako već nisu posećeni ili ubačeni u stak i menja im status u speman (tj. da su ubačeni u r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Prolaz po dubin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 void prolazPo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ubin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Graf 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/ inicijalizaci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_each (cvor c u grafu g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status =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ček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/ glavna obr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_each (cvor c u grafu g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(c.status ==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ček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etiCvor(c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Prolaz po dubini – psuedo k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vate void posetiCvor(Cvor c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ic Red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new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Sta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;  //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sta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u kome se ubacuju cvorovi graf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us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; // ubaci cvor u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st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ile (!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sEmpty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 = r.Uzmi();  // uzmi cvor iz re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.visit(); // poseti 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.status == obradjen;  // promeni mu stat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// ubaci u stak sve susede od k koji čekaj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_each (cvor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koji je sused cvora k) 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(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status = čeka)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us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/ označi da je spreman, tj. da je ubacen u st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status == spreman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360" y="-766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Пролази кроз гра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57200" y="1295280"/>
          <a:ext cx="8229600" cy="4648320"/>
        </p:xfrm>
        <a:graphic>
          <a:graphicData uri="http://schemas.openxmlformats.org/drawingml/2006/table">
            <a:tbl>
              <a:tblPr/>
              <a:tblGrid>
                <a:gridCol w="942840"/>
                <a:gridCol w="1255680"/>
                <a:gridCol w="3486240"/>
                <a:gridCol w="2544840"/>
              </a:tblGrid>
              <a:tr h="811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адна недељ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ематска цели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Циљ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68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1. Графови и мреж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Овладавање основним концептима из области графова и мреж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3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ематска јединиц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.1. Основни термин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Студент ће бити способан да препозна и реподукује основне концепте везане за графове и мреже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r>
                        <a:rPr b="0" lang="sr-CS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.2. Пролази кроз гра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Студент ће бити способан да препозна, објасни и користи алгоритме за пролазак кроз гра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360" y="-766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Пролази кроз гра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304920" y="1676520"/>
          <a:ext cx="8534160" cy="1487520"/>
        </p:xfrm>
        <a:graphic>
          <a:graphicData uri="http://schemas.openxmlformats.org/drawingml/2006/table">
            <a:tbl>
              <a:tblPr/>
              <a:tblGrid>
                <a:gridCol w="990360"/>
                <a:gridCol w="2514600"/>
                <a:gridCol w="502920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Рад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недељ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Тематск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јединиц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ЦИЉ УЧЕЊ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1.2. Пролази кроз гра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Студент ће бити способан да препозна, објасни и користи алгоритме за пролазак кроз гра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Text Box 18"/>
          <p:cNvSpPr/>
          <p:nvPr/>
        </p:nvSpPr>
        <p:spPr>
          <a:xfrm>
            <a:off x="304920" y="3790800"/>
            <a:ext cx="876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333399"/>
                </a:solidFill>
                <a:latin typeface="Arial"/>
              </a:rPr>
              <a:t>НАСТАВНИ МЕТОД: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ПРЕДАВАЊ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Prolazi kroz gra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Obilazak svih čvorova grafa tačno jedn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otrebni za rešavanje raznih problem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Da li su dva čvora poveza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Nalaženje najkraćeg rastojan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ostoji više algoritama za obilazak graf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rolaz po širi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rolaz po dubi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Prolaz po širin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Čvorovi se obilaze po slojevima (nivoim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Kada se jedna čvor obiđe, onda se obilaze svi njegovi susedi, pa tek onda susedi njegovih suseda, it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rim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A, B, C, E,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Rectangle 3"/>
          <p:cNvGraphicFramePr/>
          <p:nvPr/>
        </p:nvGraphicFramePr>
        <p:xfrm>
          <a:off x="3200400" y="3048120"/>
          <a:ext cx="4506840" cy="338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3048120"/>
                    <a:ext cx="4506840" cy="338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Prolaz po širini- pseudo k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Algoritam za prolaz po širi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zahteva korišćenj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P R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ed (queu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vaki čvor ima stat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Čeka, spreman i obrađ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Obilaze se svi čvorovi grafa i ubacuju u red ako već nisu posećeni ili ubačeni u red (tj. one sa statusom da čekaj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Uzima čvorove iz reda, posećuje ih i menja status da su posećeni, a zatim ubacuje sve njihove susede u red ako već nisu posećeni ili ubačeni u red i menja im status u speman (tj. da su ubačeni u r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Prolaz po širin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 void prolazPoSirini(Graf 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/ inicijalizaci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_each (cvor c u grafu g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status =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ček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/ glavna obr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_each (cvor c u grafu g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(c.status ==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ček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etiCvor(c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Prolaz po širini – psuedo k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vate void posetiCvor(Cvor c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ic Red r = new Red();  // red u kome se ubacuju cvorovi graf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.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Enqueu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; // ubaci cvor u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ile (!r.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Empty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)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k = r.Uzmi();  // uzmi cvor iz re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k.visit(); // poseti g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k.status == obradjen;  // promeni mu stat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// ubaci u red sve susede od k koji čekaj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_each (cvor s koji je sused cvora k) {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(s.status = ček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.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Enqueu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s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status == spreman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Prolaz po dubin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Čvorovi se obilaze po dubi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Kada se jedna čvor obiđe, onda se obilazi jedna njegov sused, pa tek kad se on i njegovi susedi obiđu rekurzivno po dubini, prelazi se na obilazak ostalih suse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rim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A, B, E, D,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Rectangle 3"/>
          <p:cNvGraphicFramePr/>
          <p:nvPr/>
        </p:nvGraphicFramePr>
        <p:xfrm>
          <a:off x="3200400" y="3048120"/>
          <a:ext cx="4506840" cy="338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3048120"/>
                    <a:ext cx="4506840" cy="338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iniša Nešković</cp:lastModifiedBy>
  <dcterms:modified xsi:type="dcterms:W3CDTF">2010-04-19T20:20:11Z</dcterms:modified>
  <cp:revision>5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