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107-9891-4E92-B87C-3771FD84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9F4-E9AD-4066-BDC9-44BEB40C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E29-2B41-467A-921F-639B4E31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907-5DD9-46B7-BD16-BFCE9669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9922-C344-40BA-BE31-4CF576B1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19C4-B85A-4127-948B-211A3A78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1D1D-9689-4F3B-AFFB-921A783B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5B71-08C9-4056-813F-844FB41B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B890-0B9E-4EDA-A810-61DE4C47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B440-C539-4C5D-8B0A-1965C5DB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4F43-902B-4EE4-A697-A8C659F1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71A-FE2D-4B38-A3A4-5FE0150E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DC74-7C99-4FF4-B6C2-E2FC4F86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506E-8F54-491E-8A36-9B96C3ED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A12A-8183-44B4-AA2D-3B7E6163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9C61-9E14-4993-A0F1-F296A192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DC9F-3591-4247-860A-1751E60E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0A253-E52F-47A2-BE83-FB9CB546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87CA3-14CA-4664-A7E8-20C67BC0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74232-FE9C-4C80-8FFB-D15BF303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2C03-5B32-4314-B830-5FDB6A32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2C072-1BB3-47ED-B3A6-6D5D08E1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F4F-CBBB-4D99-8E45-74CB0479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16CC4-B4B6-4B8A-8EAB-985B74B9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10FF6-87F0-4B9C-9C97-61A82E65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472B-82D6-4441-BDC0-2B49EFCB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EA6B9-2AFD-44B3-9F09-C07584C9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8BDA-E42D-4514-A234-8D01C3B5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74263-5785-4045-899C-B1AF5D0D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14F46-1C44-44DB-ADDE-172A3353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FD5-BF75-4E87-A3E5-C819BE7F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182-538F-4975-9BDF-89C41860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77A-54E2-4C4A-8CF7-B3CA4009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94E-794B-48E1-8975-3E033CA6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2DE-4391-4C26-BCA8-75DA732D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54D-4B12-4CE1-8807-3CB8FF0F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CA74-5E5C-4CF6-B1E8-3C2F635AD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EB36-E1FE-44EB-96DD-D1F0E369C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21ED-36AB-4415-B34A-5E20E2E86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ubaci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3200400"/>
          <a:ext cx="327672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327672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724280" y="3048120"/>
          <a:ext cx="327672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048120"/>
                    <a:ext cx="327672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ubaci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590920"/>
          <a:ext cx="3352680" cy="24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3352680" cy="24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Rectangle 3"/>
          <p:cNvGraphicFramePr/>
          <p:nvPr/>
        </p:nvGraphicFramePr>
        <p:xfrm>
          <a:off x="4495680" y="2514600"/>
          <a:ext cx="3657600" cy="29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514600"/>
                    <a:ext cx="365760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ubaci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kon 1. rotaci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Rectangle 3"/>
          <p:cNvGraphicFramePr/>
          <p:nvPr/>
        </p:nvGraphicFramePr>
        <p:xfrm>
          <a:off x="685800" y="2971800"/>
          <a:ext cx="335268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1800"/>
                    <a:ext cx="335268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kon 2. rotaci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952880" y="3124080"/>
          <a:ext cx="3505320" cy="20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124080"/>
                    <a:ext cx="350532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AVL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bacivanje iz AVL stabla se vrši na sledeći na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. Izbaci se čvor na isti način kao kod 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 sluča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list – samo se izb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polu-list – preveže se dete na rodi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unutrašnji – vrši se zamena sa prethodnikom (sledbenikom) i svodi se na prva dva sluč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. Provri se debalans i vrše potrebne (jedna ili dve) rotacije kao i kod ubac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izbaci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u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50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23880" y="2962440"/>
          <a:ext cx="309564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2962440"/>
                    <a:ext cx="309564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343400" y="2895480"/>
          <a:ext cx="327672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895480"/>
                    <a:ext cx="327672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izbaci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kon izbacivanja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09480" y="2438280"/>
          <a:ext cx="4037040" cy="31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403704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105520" y="2895480"/>
          <a:ext cx="2763720" cy="21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895480"/>
                    <a:ext cx="276372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kon rota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претраживање, убацивање и избацивање. Анализа ефик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888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Претраживање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стандардним алгоритмима за претраживање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. Стабло за бинарно претраживање и АВЛ стаб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принципе функционисања стабла за бинарно претраживање и АВЛ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.2. Алгоритми за претраживање, убацивање и избацивање. Анализа ефик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и користи алгоритме за претраживање, убацивање, избацивање и анализу ефик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alibri"/>
              </a:rPr>
              <a:t>Visinski balansirana stablo - AV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.2. АВЛ стаб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принципе функционисањ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ВЛ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-766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alibri"/>
              </a:rPr>
              <a:t>Visinski balansirana stablo - AV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ST stablo kod koga za svaki čvor važi da se visina njegovog levog i desnog podstabla ne razlikuje za više od 1 se naziva visinski balansirano stablo ili AVL stab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VL po imenima naučnika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dison,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sky i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din koji su predložili ovakvo stab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ava problem najgoreg slučaja kod B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traživanje garantovano ima efikasnost O(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odnosu na BST ima modifikovani algoritme za ubacivanje i izbac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sniva se na rotac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tacije mogu biti na levo i na des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otacija na des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tacije na des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23800" y="2743200"/>
          <a:ext cx="3654360" cy="24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743200"/>
                    <a:ext cx="365436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952880" y="2819520"/>
          <a:ext cx="3654720" cy="24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819520"/>
                    <a:ext cx="36547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886200" y="3657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otacija na le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tacije na l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23800" y="2743200"/>
          <a:ext cx="3654360" cy="24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743200"/>
                    <a:ext cx="365436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886200" y="3657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76920" y="2819520"/>
          <a:ext cx="3654360" cy="24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819520"/>
                    <a:ext cx="365436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alansiranje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tacije menjaju visinski balans 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tacija na desno povećava debalans u korist desnog podstab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tacija na levo povećava debalans u korist levog podstab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o se koristi kod algoritama za ubacivanje i izbac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operacija naruši visinski balans, tj. stvori se debalans na jednoj strani, primenjuje se odgovarajuća rotacija da koriguje deba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tacije je uvek suprotna debalansu kako bi izjednačila bal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pr, ako je debalans na desno, koristi se leva rotacija i obr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AV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uje se čvor na isti način kao u slučaju B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veri se za svaki čvor u stablu njegov debal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j. 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zlika visina između levog i desnog pod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postoji debalns, onda se vrši odgovarjuća rotacija oko čvora k koji je najbliži mestu ubac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je oznaka debalansa deteta čvora k suprotna, onda se pre rotacije iz koraka 3, vrši suprotna rotacija oko tog deteta čvora 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ovom slučaju su potrebne dve rotacij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ubaci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40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3520" y="3581280"/>
          <a:ext cx="1716120" cy="18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581280"/>
                    <a:ext cx="171612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895480" y="2971800"/>
          <a:ext cx="2898720" cy="288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971800"/>
                    <a:ext cx="28987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943600" y="3657600"/>
          <a:ext cx="2830680" cy="21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657600"/>
                    <a:ext cx="283068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3:52:50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