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1BE-F3BD-4145-8ED6-EDC0E88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802-1AE6-42DD-92A0-1E6839D4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F22-4730-4ADC-A8B8-A4FBCED5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B8B-D3E5-43FA-9FAA-CE2DD5B6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3A2B-6D05-46C5-BD69-B8DF9463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355-3840-4874-936F-A18D8B87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4A68-D7DE-4CED-B51C-AFFAB4E8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D2C9-4A34-4403-8578-50A2CEE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C54E-771F-4497-B0BE-557519F3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6DDF-E1B0-4211-810B-FCBB1841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80EE-453C-4998-8D3C-F26609D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27E-8B43-4EEB-B475-E7FC34DC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68D8-48C4-447E-8960-8636F26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E6F-8070-4F2C-B337-E1761B0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512A-CA59-4827-A4FB-05D06C82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783-56D1-44D7-B36B-159A4CD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336-2F6E-4604-948C-1DD05C07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909E-06FE-4C1A-8FC3-E51FB9B1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D591-46D6-486F-A759-3F85999D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715B-C3C1-4CE8-A2EA-36062862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A958-8439-46B9-B122-A8555C51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5D1C-5E68-4110-95D4-F0AFFCED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127-ABCB-408C-809D-853EBB5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4D43-FD86-416F-B8FA-BB4442B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E332-481F-4634-BFD4-CB86499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9F44-2A89-4FBD-9216-344C7CCB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FB91-088E-4415-A961-B3CA4D2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85D3-F2F8-455D-9D60-D9F7C0F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50AF-4324-4358-A40B-310B9AEF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00C1-4EF0-4A92-9E38-AE5AF5BD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8D3-F3FE-40EC-B668-8E9FC9A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43E-6A57-4E38-B3D8-5D6C8C9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37F-1616-4700-B839-4C90DF4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47C-E1D9-4A0E-82FD-2F38070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B79-6C8B-44DF-A0D8-C637B80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533-6903-4CD4-9955-ECEB376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6524-CBF2-4A52-9EB1-E16D3615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E3F2-5ED4-4D16-8186-553E5C4D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29E-11F6-4F62-A125-4EE03377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Selekcija cif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ično je ključ numerički, pa se mogu neke cifre iz ključa uzeti kao ad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žan odabir cifa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skup od 50.000 stud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resni prostor je 0-50.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da indeks ima pet cif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ljuč studenta je MLB – 13 cif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. 1411981712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abrati pet cifara od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Selekcija cif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560" y="457164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se uzmu dd,mm,g svi rodjeni istog dana i meseca u istom veku će imati ist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olje je ako se uzmu 2 cifre opštine i tri cifre red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Rectangle 3"/>
          <p:cNvGraphicFramePr/>
          <p:nvPr/>
        </p:nvGraphicFramePr>
        <p:xfrm>
          <a:off x="1905120" y="1066680"/>
          <a:ext cx="594360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9436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 Ostatak od celobrojnog de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(k) = k mod m =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= b &lt;=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ni prostor od 0 –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e iste adrese ako je k faktor od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ako je m = 25,  svi ključevi koji su deljivi sa 5 će se preslikavati na adrese 0, 5, 10, 15 i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olje ako k i m nemaju zajednički fak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oga za m treba uzeti prost broj blizak veličini adresnog pro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ako je n = 100, m =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ideja na kojoj se zasniva hashing prist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va je potencijalna teorijska efikasnost hashing pretraži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su problemi kod hashing organizaci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 su metode za transformisanje ključa u adre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slučaju hash funkcije koja se bazira na moduo funkciji, kakve su preporu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traživanje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om ključa 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траживање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концептима претраживања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авање проблема колизије кључева. Отворено адресирање. О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ункција трансформ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kupovi kao strukture podat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up kao struktura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postoji uređenje elemenata u skupu, tj.operaci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ledeć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ethod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zadnj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emaju smi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mo se zna da je dati element član skupa, tj.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adjiPoKljuč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ino ima smi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rebne operaci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ba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izb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pecifikacija sku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izbac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ubac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nadjiPoKljucu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int 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skupa pomoću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e ključa u adresu (hashing-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z (tabela) može da pamti elemente sku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sformacijom ključa u adresu (indeks) se određuje pozicija elementa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unkcija koja vrši transformaciju se haziv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unkcija, a ceo ovaj pristup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a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da hash funkcija generiše jedinstvene ad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likom ubacivanje se pomoću hash funkcije odredi adresa i element se smešta na dat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likom pretraživanja po ključu hash funkcijom se određuje adresa gde se on nal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ganizacija zasnovana na hashing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oretski dovoljan samo 1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st O(1), potencijalno brže od svih drugih metoda pre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Rectangle 3"/>
          <p:cNvGraphicFramePr/>
          <p:nvPr/>
        </p:nvGraphicFramePr>
        <p:xfrm>
          <a:off x="2286000" y="2700360"/>
          <a:ext cx="541008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00360"/>
                    <a:ext cx="541008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i hashing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Kako pronaći idealnu hash funkciju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 da bude jednoznačna transformacija, tj. bez kolizije (sudaranja ) 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 svako k1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ko se dogodi kolizija kako je reš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ubacivanja: šta uraditi sa elementom koji dobiju adresu koja je već zauz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pretraživanja: kako naći traženi element ako nije na adresi dobijenoj pomoću hash 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ashing funkcija h(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alna (perfektna)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je konstruisati samo ako se unapred znaju svi mogući ključevi i ad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praksi ovaj uslov često nije ispun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bre osobine h(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se brzo rač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ima skoro slučajnu (uniformnu) raspodelu adresa, tj. da nema tačke nagomilavanja (sud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nogo zapisa dobija istu adr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e za realizaciju neperfektne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lekcija cif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tatak od celobrojnog delj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8:45:4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