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660-8C6E-4E36-81D1-741CF131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F48-A63C-4485-96A4-9DEEA978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81A-DF83-4F72-AF78-157D7AA2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492-9629-4C0D-80AD-B6227C68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507C-EC6C-4436-91C1-7C85FC6D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793A-755A-4D44-9FC1-B4CCA639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6A25-C3D4-4A76-BAAE-F46AFAFF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24E5-B12A-4C86-A256-563CFB3B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2DBE-865F-4981-89CE-33955CF6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3ECC-824B-4CBC-AE95-10FC5DAA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CC38-1B64-41FB-B8DC-8229B82B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F17-E072-426C-9513-E54FCBA3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7B48-D867-4489-A37C-A157E1BB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87A9-A5BB-4F12-8F24-8683F22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0351-FB7E-41ED-98F3-AD025CE4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DA81-95FE-4E96-BA27-D3B9C2EF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1D24-C04A-442A-B4F5-388FAF61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9579-238C-49F7-A88E-57EE77BD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E01D-6A87-453C-A4FA-E4A0561F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1DB1-1EB0-4E97-9F46-B1C48629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414C-C476-4AB0-897C-57D16C3A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85048-7CA8-478C-9A75-3D5C8C71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8BE-619A-4D97-B344-18D9519C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147C7-0BAA-42A1-8CEE-2D95C4DE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C102-982E-465E-97FF-CA68C350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1795D-73B7-459E-A1AD-ADB651FB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FB9C-E035-43D7-A401-B349B9DB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CD0A-B3F6-40AB-B63E-39E2CFFA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66A3-3AF3-4C94-8460-94CC5AAE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D412D-9032-452B-AF77-9EF71F23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09A-D66A-455C-882C-B2347074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A11-43C4-4890-8D83-F2C1EB65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8C2-9B06-420E-8521-5D4A0314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494-C835-4214-98EC-1B826709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DAE-0FF7-4C42-8387-6792C33D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D74-A005-44EB-BFA3-265464A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0585-D6DB-4C90-B711-DFC4B3F67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EA9E-9FCE-4C93-ACF6-EC0B7E1A1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C9FD-3F2F-4DF6-BD39-AB8CD850D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konstrukcija stabla originalnog 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kazivač nalevo je pokazivač na prvo d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kazivač na desno je pokazivač na b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362320" y="3200400"/>
          <a:ext cx="3537000" cy="31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200400"/>
                    <a:ext cx="353700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nsformacij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u striktno binarno 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sformiše bilo koje stablo u striktno binarno stab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a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Prekinu se sve veze između roditelja i dece izuzev krajnje leve ve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Povežu se sva deca ista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Dobijena slika se zarotira za 45st udes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Трансформација вишегранских у бинарна стаб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781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концептима из области нелинеарних структура, са акцентом на стаб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. Бинарнa стабла и специјална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и објасни бинарна стабла и да идентификује специјалне врсте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4. Трансформација вишегранских у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трансформише вишегранска стабла у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Трансформација вишегранских у бинарна стаб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4. Трансформација вишегранских у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трансформише вишегранска стабла у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sformiše šumu stabala u jedno binarno stab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a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Povežu se koreni svih stab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Prekinu se sve veze između roditelja i dece izuzev krajnje leve ve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Povežu se sva deca istog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. Dobijena slika se rotira za 45 stepeni udes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: šuma od 2 s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386080"/>
          <a:ext cx="784836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86080"/>
                    <a:ext cx="784836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ak 1. Povežu se koreni svih stab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16000" y="2817720"/>
          <a:ext cx="622764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817720"/>
                    <a:ext cx="62276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ak 2. Prekinu se sve veze između roditelja i dece izuzev krajnje leve v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43000" y="2895480"/>
          <a:ext cx="622764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62276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ak 3. Povežu se sva deca istog rod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43000" y="2895480"/>
          <a:ext cx="622764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62276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načni rezul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362320" y="2141640"/>
          <a:ext cx="472428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41640"/>
                    <a:ext cx="47242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6T15:00:23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