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84C-D8ED-48C6-A714-CD087BBE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5C2-621C-47E6-A5C3-2CE84EE2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05F-0A20-443A-A633-244BB182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22E-E22B-455E-866C-42A96F56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4711-62A0-440C-B444-35330ACE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C089-3800-4313-98BA-1A8A59C7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847D-A240-4DB0-B83D-D72F79A1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64F0-CF78-4F9C-9488-F3F4E3AE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1466-12B7-40A2-B8D3-5233630D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D6D8-94C1-42FE-B3BC-06856C2F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3992-033B-4EE0-8E56-B37A226E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284-EA9F-4D8B-8009-75FD11AB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7039-FDF2-4236-99FD-838FAC69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85EC-05AE-49A2-85DC-44AE16C6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F313-6A47-4853-8CB6-8538124B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2B71-D52F-4756-BE1B-E88B1011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8B4F-8A11-4788-9783-6C3FFC44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2864-193A-4A42-95CE-81C0F8AD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6A4D-C212-4F20-9696-E5F46FC4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006E-AB42-4BF1-BAEC-E977BDBA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A948-6DDA-4AD6-9199-FE902EE6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55C39-1932-4977-A976-C8DBB98A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FDF-1BC5-4429-8A65-8D920B5C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56A3A-145B-4B23-AC44-67A40895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1CED0-CE6A-4200-B7B2-EC68FC98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7DB0-4726-449B-8DB7-6E61BF68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E878-6CD6-4A5B-9261-4E6BB174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868B-116C-465B-A819-BC8C6C60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BE0A7-A908-43CD-A288-3E98CCE4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978E3-2AE1-461B-85DF-855874A4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221-70DF-415F-9BC9-6EB2CFFF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488-A662-443E-81FE-2476C194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7E2-9A82-4595-B272-C59F4AF1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8B9-0C41-411F-8520-275A5BE7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D61-4476-4E9A-B09C-7666F032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AF2-AD29-4EAF-A53A-5851DBCE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E3DA-9161-441E-B7AA-B5A2FCD80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173C-C34D-425E-9C3F-DD46FC64E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A26E-93A4-4663-9C8B-07DB91279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nfiks prol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iks prolaz (L-K-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o se posete infiks prolazom svi čvorovi levog podstabla, zatim se poseti koren, a zatim svi čvorovi desnog pod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, B, E, A, K, H, L, C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Rectangle 3"/>
          <p:cNvGraphicFramePr/>
          <p:nvPr/>
        </p:nvGraphicFramePr>
        <p:xfrm>
          <a:off x="4724280" y="3124080"/>
          <a:ext cx="39625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124080"/>
                    <a:ext cx="39625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ostfiks prol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tfiks prolaz (L-D-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o se posete postfiks prolazom svi čvorovi levog podstabla, zatim svi čvorovi desnog podstabla, a zatim se poseti k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, E, B, K, L, H, J, C,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Rectangle 3"/>
          <p:cNvGraphicFramePr/>
          <p:nvPr/>
        </p:nvGraphicFramePr>
        <p:xfrm>
          <a:off x="4724280" y="3124080"/>
          <a:ext cx="39625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124080"/>
                    <a:ext cx="39625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redstavljanje izraza preko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tematički izrazi sa binarnim operatorima se mogu predstaviti preko striktnog binarnog 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stovi su opera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nutrašnji čvorovi su binarni operatori (opera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Rectangle 3"/>
          <p:cNvGraphicFramePr/>
          <p:nvPr/>
        </p:nvGraphicFramePr>
        <p:xfrm>
          <a:off x="2666880" y="3352680"/>
          <a:ext cx="39625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352680"/>
                    <a:ext cx="39625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Notacije za zapisivanja izra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išćenjem pojedinih prolaza se dobijaju poznate notacije za predstavljanje iz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fiks prolaz: *, +, 2, 4, /, -, 15, 3,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fiks no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fiks prolaz: 2, 4, +, 15, 3, -, 6, /,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fiks (Inverzna poljska) no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fiks prolaz: 2,+,4, *, 15, -, 3, /,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fiks notacija - uobiča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ophodne zagrade zb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oriteta operatora (2+4)*(15-3)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Rectangle 3"/>
          <p:cNvGraphicFramePr/>
          <p:nvPr/>
        </p:nvGraphicFramePr>
        <p:xfrm>
          <a:off x="5715000" y="3048120"/>
          <a:ext cx="3429000" cy="28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048120"/>
                    <a:ext cx="342900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inarna stabla i prolazi kroz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концептима из области нелинеарних структура, са акцентом на стаб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1. Основни термини и врсте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везане за нелинеарне структуре, и посебно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2.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Бинарна стабла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Пролази кроз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умевање концепта бинарних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аб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 концепта пролаза кроз стабло. Студент може да се служи стандардним алгоритмима за пролазе кроз стаб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inarna stabla i prolazi kroz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2.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Бинарна стабла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Пролази кроз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умевање концепта бинарних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аб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 концепта пролаза кроз стабло. Студент може да се служи стандардним алгоритмима за пролазе кроз стаб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inarno stablo se rekurzivno definiše kao konačan skup elemenata koji je ili prazan ili se sastoji od korena i dva binarna podstabla koja se ne preklapaju (tzv. levo i desno podstablo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Rectangle 3"/>
          <p:cNvGraphicFramePr/>
          <p:nvPr/>
        </p:nvGraphicFramePr>
        <p:xfrm>
          <a:off x="2895480" y="3505320"/>
          <a:ext cx="396252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505320"/>
                    <a:ext cx="39625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riktno binarno stabl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 binarno stablo kod koga svaki čvor nema nijedno podstabla ima tačno d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2743200" y="2819520"/>
          <a:ext cx="396252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39625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ompletno binarno stabl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 striktno binarno stablo kod koga su svi listovi na istom niv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čvorova u kompletnom stablu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1, gde je h visina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Rectangle 3"/>
          <p:cNvGraphicFramePr/>
          <p:nvPr/>
        </p:nvGraphicFramePr>
        <p:xfrm>
          <a:off x="2590920" y="2590920"/>
          <a:ext cx="4876560" cy="27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90920"/>
                    <a:ext cx="487656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koro kompletno binarno stabl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 binarno stablo za koga važi da su svi nivoi u stablu popunjeni, osim eventualno zadnjeg, i to tako da se popunjavanje vrši s leva u des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Rectangle 3"/>
          <p:cNvGraphicFramePr/>
          <p:nvPr/>
        </p:nvGraphicFramePr>
        <p:xfrm>
          <a:off x="2286000" y="3505320"/>
          <a:ext cx="4876920" cy="27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505320"/>
                    <a:ext cx="487692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r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lazi kroz 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azi kroz stab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čin kako se mogu obići čvorovi datog stabla a da se pri tome posete tačno jed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više načina kako se to može učin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i su standardna nač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fiks prol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fiks prol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fiks (sufiks) prol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refiks prol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fiks prolaz (K-L-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o se poseti koren, zatim prefiks prolazom svi čvorovi levog podstabla, a zatim svi čvorovi desnog pod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, B, G, E, C, H, K, L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Rectangle 3"/>
          <p:cNvGraphicFramePr/>
          <p:nvPr/>
        </p:nvGraphicFramePr>
        <p:xfrm>
          <a:off x="4724280" y="3124080"/>
          <a:ext cx="39625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124080"/>
                    <a:ext cx="39625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0:01:5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