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BD2C-0CF4-4D33-9841-104A93116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7208-1800-48A1-97C3-FABE71E4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B45D-E9F2-4E78-8077-009C03580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6B92-CDB7-484E-A14E-7932A4ACE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A042-20EB-471D-A450-E0D744709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2336-195A-432B-AE01-47BC962E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FB6C-4E1C-4EC9-95D4-DDA02C65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7ED5-5A13-450B-AFC3-0A079982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F99B-5529-4560-8B0C-EB3C65B1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149C-3A60-4E0F-A985-9742D687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5371-FBD2-45CA-AD19-D73A5CBC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CB5E-4831-4343-915E-56B9809F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793C-C438-4003-BDB6-25EA2A6F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25C1-D6B2-4F96-9B93-822AA2CE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ADB2-33FF-4B18-9CAA-C1707305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B862-8296-4EBF-BF91-8D4FCE701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4DB0-0BC8-4CCC-A666-DEC48835C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F4761-2322-4DB6-A5C9-555DA98D9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FD1C3-03AF-4754-AA4E-C4F2710B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74147-B289-4FD5-9000-E23F864D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CC2F3-EE14-489A-8F36-264F6E76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6646E-94B4-4D07-A3FE-3047CA02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8DC3-093E-4720-B984-C8715E40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7CEB5-8E2E-4ADD-8461-1BAF78E9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736DE-7AB8-49B5-988D-91157876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3BD1C-2623-43A7-A4D4-DBADDECC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5F5EF-5842-4209-A732-F7D15B97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F1F38-8739-4828-B0BE-2E3C2EFC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D1AA1-3DD8-426E-A348-3719E6A8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7E4BF-C9D7-4422-BBE0-7A3EFCDD5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41BF-BB2C-46BF-A6D4-FFA35C5D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27AE-E74D-483F-81C6-E879D671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7C14-40C1-4C0A-96A0-9652D659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A9C3-B278-4451-9433-A1F68E75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E374-084C-4AB2-94DF-6EB8D523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8D05-E7DA-47AC-B8B1-0482AEAF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E132-6747-47CD-A884-DBEC2FA18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E344-5A98-4400-AE13-DEBA65B0B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EB93-C4A4-434E-9308-92EDE078A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2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umerička anali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0880" y="966960"/>
          <a:ext cx="8534520" cy="5670360"/>
        </p:xfrm>
        <a:graphic>
          <a:graphicData uri="http://schemas.openxmlformats.org/drawingml/2006/table">
            <a:tbl>
              <a:tblPr/>
              <a:tblGrid>
                <a:gridCol w="1106640"/>
                <a:gridCol w="1173240"/>
                <a:gridCol w="3614760"/>
                <a:gridCol w="263988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номска интерполац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познавање са и овладавање проблема полиномске интерпола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шти задатак интерпола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упознат са општим задатком интерполације са нагласком на решавање практичних пробл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гранжов интерполациони полин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изведе Лагранжов интерполациони полином, као и да га примени на решавање конкретних проблем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04920" y="1676520"/>
          <a:ext cx="8534160" cy="234288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шти задатак интерпола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упознат са општим задатком интерполације са нагласком на решавање практичних пробл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гранжов интерполациони полин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изведе Лагранжов интерполациони полином, као и да га примени на решавање конкретних проблем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 Box 18"/>
          <p:cNvSpPr/>
          <p:nvPr/>
        </p:nvSpPr>
        <p:spPr>
          <a:xfrm>
            <a:off x="228600" y="411480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Предавањ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umerička anali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809880" y="1182600"/>
                <a:ext cx="11527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  <m:r>
                      <m:t xml:space="preserve">→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2" name=""/>
          <p:cNvGrpSpPr/>
          <p:nvPr/>
        </p:nvGrpSpPr>
        <p:grpSpPr>
          <a:xfrm>
            <a:off x="3305160" y="1469880"/>
            <a:ext cx="2447640" cy="576000"/>
            <a:chOff x="3305160" y="1469880"/>
            <a:chExt cx="2447640" cy="576000"/>
          </a:xfrm>
        </p:grpSpPr>
        <mc:AlternateContent>
          <mc:Choice xmlns:a14="http://schemas.microsoft.com/office/drawing/2010/main" Requires="a14">
            <p:sp>
              <p:nvSpPr>
                <p:cNvPr id="133" name="Rectangle 3"/>
                <p:cNvSpPr txBox="1"/>
                <p:nvPr/>
              </p:nvSpPr>
              <p:spPr>
                <a:xfrm>
                  <a:off x="3305160" y="1469880"/>
                  <a:ext cx="2218320" cy="28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rPr>
                          <m:lit/>
                          <m:nor/>
                        </m:rPr>
                        <m:t xml:space="preserve">     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34" name=""/>
            <p:cNvSpPr/>
            <p:nvPr/>
          </p:nvSpPr>
          <p:spPr>
            <a:xfrm>
              <a:off x="3687840" y="1469880"/>
              <a:ext cx="0" cy="51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05160" y="1728720"/>
              <a:ext cx="24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Rectangle 3"/>
                <p:cNvSpPr txBox="1"/>
                <p:nvPr/>
              </p:nvSpPr>
              <p:spPr>
                <a:xfrm>
                  <a:off x="3349080" y="1728720"/>
                  <a:ext cx="2130840" cy="31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rPr>
                          <m:lit/>
                          <m:nor/>
                        </m:rPr>
                        <m:t xml:space="preserve">     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7" name=""/>
          <p:cNvGrpSpPr/>
          <p:nvPr/>
        </p:nvGrpSpPr>
        <p:grpSpPr>
          <a:xfrm>
            <a:off x="2152800" y="2117880"/>
            <a:ext cx="4781520" cy="2677680"/>
            <a:chOff x="2152800" y="2117880"/>
            <a:chExt cx="4781520" cy="2677680"/>
          </a:xfrm>
        </p:grpSpPr>
        <p:grpSp>
          <p:nvGrpSpPr>
            <p:cNvPr id="138" name=""/>
            <p:cNvGrpSpPr/>
            <p:nvPr/>
          </p:nvGrpSpPr>
          <p:grpSpPr>
            <a:xfrm>
              <a:off x="2152800" y="2131920"/>
              <a:ext cx="4753080" cy="2663640"/>
              <a:chOff x="2152800" y="2131920"/>
              <a:chExt cx="4753080" cy="266364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2152800" y="2131920"/>
                <a:ext cx="4753080" cy="2663640"/>
                <a:chOff x="2152800" y="2131920"/>
                <a:chExt cx="4753080" cy="26636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2152800" y="4148280"/>
                  <a:ext cx="4753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1" name=""/>
                <p:cNvGrpSpPr/>
                <p:nvPr/>
              </p:nvGrpSpPr>
              <p:grpSpPr>
                <a:xfrm>
                  <a:off x="2945160" y="2131920"/>
                  <a:ext cx="3384360" cy="2663640"/>
                  <a:chOff x="2945160" y="2131920"/>
                  <a:chExt cx="3384360" cy="266364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 flipV="1">
                    <a:off x="2945160" y="2131920"/>
                    <a:ext cx="0" cy="2663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3233880" y="2635200"/>
                    <a:ext cx="3095640" cy="82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585" h="635">
                        <a:moveTo>
                          <a:pt x="0" y="522"/>
                        </a:moveTo>
                        <a:cubicBezTo>
                          <a:pt x="94" y="393"/>
                          <a:pt x="189" y="264"/>
                          <a:pt x="317" y="204"/>
                        </a:cubicBezTo>
                        <a:cubicBezTo>
                          <a:pt x="445" y="144"/>
                          <a:pt x="605" y="144"/>
                          <a:pt x="771" y="159"/>
                        </a:cubicBezTo>
                        <a:cubicBezTo>
                          <a:pt x="937" y="174"/>
                          <a:pt x="1164" y="220"/>
                          <a:pt x="1315" y="295"/>
                        </a:cubicBezTo>
                        <a:cubicBezTo>
                          <a:pt x="1466" y="370"/>
                          <a:pt x="1550" y="635"/>
                          <a:pt x="1678" y="612"/>
                        </a:cubicBezTo>
                        <a:cubicBezTo>
                          <a:pt x="1806" y="589"/>
                          <a:pt x="1950" y="257"/>
                          <a:pt x="2086" y="159"/>
                        </a:cubicBezTo>
                        <a:cubicBezTo>
                          <a:pt x="2222" y="61"/>
                          <a:pt x="2412" y="46"/>
                          <a:pt x="2495" y="23"/>
                        </a:cubicBezTo>
                        <a:cubicBezTo>
                          <a:pt x="2578" y="0"/>
                          <a:pt x="2581" y="11"/>
                          <a:pt x="2585" y="23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3665880" y="2851200"/>
                    <a:ext cx="71280" cy="72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4026240" y="2779920"/>
                    <a:ext cx="71280" cy="72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4457880" y="2851200"/>
                    <a:ext cx="71640" cy="72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4889880" y="3067200"/>
                    <a:ext cx="71280" cy="72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5178600" y="3427560"/>
                    <a:ext cx="71640" cy="72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5537520" y="2995560"/>
                    <a:ext cx="71280" cy="72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5969160" y="2708280"/>
                    <a:ext cx="71640" cy="72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521520" y="2563920"/>
                    <a:ext cx="2736720" cy="9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92" h="582">
                        <a:moveTo>
                          <a:pt x="0" y="408"/>
                        </a:moveTo>
                        <a:cubicBezTo>
                          <a:pt x="41" y="317"/>
                          <a:pt x="83" y="226"/>
                          <a:pt x="136" y="181"/>
                        </a:cubicBezTo>
                        <a:cubicBezTo>
                          <a:pt x="189" y="136"/>
                          <a:pt x="264" y="128"/>
                          <a:pt x="317" y="136"/>
                        </a:cubicBezTo>
                        <a:cubicBezTo>
                          <a:pt x="370" y="144"/>
                          <a:pt x="370" y="212"/>
                          <a:pt x="453" y="227"/>
                        </a:cubicBezTo>
                        <a:cubicBezTo>
                          <a:pt x="536" y="242"/>
                          <a:pt x="718" y="174"/>
                          <a:pt x="816" y="227"/>
                        </a:cubicBezTo>
                        <a:cubicBezTo>
                          <a:pt x="914" y="280"/>
                          <a:pt x="975" y="506"/>
                          <a:pt x="1043" y="544"/>
                        </a:cubicBezTo>
                        <a:cubicBezTo>
                          <a:pt x="1111" y="582"/>
                          <a:pt x="1172" y="499"/>
                          <a:pt x="1225" y="454"/>
                        </a:cubicBezTo>
                        <a:cubicBezTo>
                          <a:pt x="1278" y="409"/>
                          <a:pt x="1278" y="340"/>
                          <a:pt x="1361" y="272"/>
                        </a:cubicBezTo>
                        <a:cubicBezTo>
                          <a:pt x="1444" y="204"/>
                          <a:pt x="1656" y="90"/>
                          <a:pt x="1724" y="45"/>
                        </a:cubicBezTo>
                        <a:cubicBezTo>
                          <a:pt x="1792" y="0"/>
                          <a:pt x="1762" y="7"/>
                          <a:pt x="1769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prstDash val="dash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3737160" y="2851200"/>
                    <a:ext cx="0" cy="1296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4097520" y="2851200"/>
                    <a:ext cx="0" cy="1296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4457880" y="2924280"/>
                    <a:ext cx="0" cy="1223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4889880" y="3140280"/>
                    <a:ext cx="0" cy="1007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5250240" y="3427560"/>
                    <a:ext cx="0" cy="720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5537520" y="3067200"/>
                    <a:ext cx="0" cy="1080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6042240" y="2708280"/>
                    <a:ext cx="0" cy="1439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mc:AlternateContent>
            <mc:Choice xmlns:a14="http://schemas.microsoft.com/office/drawing/2010/main" Requires="a14">
              <p:sp>
                <p:nvSpPr>
                  <p:cNvPr id="159" name="Rectangle 3"/>
                  <p:cNvSpPr txBox="1"/>
                  <p:nvPr/>
                </p:nvSpPr>
                <p:spPr>
                  <a:xfrm>
                    <a:off x="3664080" y="4148280"/>
                    <a:ext cx="196920" cy="273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0" name=""/>
                  <p:cNvSpPr txBox="1"/>
                  <p:nvPr/>
                </p:nvSpPr>
                <p:spPr>
                  <a:xfrm>
                    <a:off x="4030920" y="4156200"/>
                    <a:ext cx="182520" cy="258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1" name=""/>
                  <p:cNvSpPr txBox="1"/>
                  <p:nvPr/>
                </p:nvSpPr>
                <p:spPr>
                  <a:xfrm>
                    <a:off x="5962680" y="4150080"/>
                    <a:ext cx="211320" cy="272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62" name=""/>
                <p:cNvSpPr txBox="1"/>
                <p:nvPr/>
              </p:nvSpPr>
              <p:spPr>
                <a:xfrm>
                  <a:off x="6783480" y="4273920"/>
                  <a:ext cx="150840" cy="16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2649600" y="2117880"/>
                  <a:ext cx="165240" cy="19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736800" y="5791320"/>
                <a:ext cx="2305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⋮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889520" y="4925880"/>
                <a:ext cx="20876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66" name=""/>
          <p:cNvGraphicFramePr/>
          <p:nvPr/>
        </p:nvGraphicFramePr>
        <p:xfrm>
          <a:off x="4791240" y="5357880"/>
          <a:ext cx="2212920" cy="29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1240" y="5357880"/>
                    <a:ext cx="221292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2441520" y="4925880"/>
            <a:ext cx="3456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terpolacioni polin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41520" y="5284800"/>
            <a:ext cx="3456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terpolacioni zahtev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95880" y="220968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248520" y="2590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pšti zadatak interpolaci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747880" y="4764240"/>
                <a:ext cx="40640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554280" y="5925960"/>
                <a:ext cx="215280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k</m:t>
                    </m:r>
                    <m:limLow>
                      <m:e/>
                      <m:lim>
                        <m:r>
                          <m:t xml:space="preserve">n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33520" y="990720"/>
                <a:ext cx="2778120" cy="12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&gt;</m:t>
                        </m:r>
                        <m:r>
                          <m:t xml:space="preserve">j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665440" y="2476440"/>
                <a:ext cx="252108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480960" y="2430360"/>
            <a:ext cx="2303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eška interpolacij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2760" y="2846520"/>
            <a:ext cx="78865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terpolacioni polinom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      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za neekvidistantne čvor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      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za ekvidistantne čvor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6120" y="4255920"/>
            <a:ext cx="8166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6.2. LAGRANŽOV INTERPOLACIONI POLIN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38200" y="5264280"/>
            <a:ext cx="7356240" cy="583920"/>
            <a:chOff x="538200" y="5264280"/>
            <a:chExt cx="7356240" cy="583920"/>
          </a:xfrm>
        </p:grpSpPr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538200" y="5362560"/>
                  <a:ext cx="58392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5914800" y="5264280"/>
                  <a:ext cx="1979640" cy="58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kj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j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≠</m:t>
                                </m:r>
                                <m:r>
                                  <m:t xml:space="preserve">j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83" name=""/>
            <p:cNvSpPr/>
            <p:nvPr/>
          </p:nvSpPr>
          <p:spPr>
            <a:xfrm>
              <a:off x="1003320" y="5386320"/>
              <a:ext cx="491472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- polinom stepena ne većeg od </a:t>
              </a:r>
              <a:r>
                <a:rPr b="0" i="1" lang="sr-Latn-CS" sz="18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n 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sa osobino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3352680" y="1371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Van der Mondeova determinan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Arial"/>
              </a:rPr>
              <a:t>Opšti zadatak interpolacije; </a:t>
            </a:r>
            <a:br>
              <a:rPr sz="3000"/>
            </a:br>
            <a:r>
              <a:rPr b="0" lang="sr-Latn-CS" sz="3000" spc="-1" strike="noStrike">
                <a:solidFill>
                  <a:srgbClr val="ffffff"/>
                </a:solidFill>
                <a:latin typeface="Arial"/>
              </a:rPr>
              <a:t>Lagranžov interpolacioni polino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6" name="Rectangle 3"/>
              <p:cNvSpPr txBox="1"/>
              <p:nvPr/>
            </p:nvSpPr>
            <p:spPr>
              <a:xfrm>
                <a:off x="3124080" y="990720"/>
                <a:ext cx="303372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⋮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87" name=""/>
          <p:cNvGraphicFramePr/>
          <p:nvPr/>
        </p:nvGraphicFramePr>
        <p:xfrm>
          <a:off x="1157400" y="2452680"/>
          <a:ext cx="699588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7400" y="2452680"/>
                    <a:ext cx="699588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2340000" y="3216240"/>
          <a:ext cx="4060800" cy="113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3216240"/>
                    <a:ext cx="406080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1447920" y="5105520"/>
          <a:ext cx="6634080" cy="132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5105520"/>
                    <a:ext cx="6634080" cy="13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2198520" y="4422600"/>
          <a:ext cx="4229280" cy="50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98520" y="4422600"/>
                    <a:ext cx="422928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Lagranžov interpolacioni polin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762120" y="1600200"/>
            <a:ext cx="7543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ИТАЊ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та је основни задатак интерполациј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ква је улога интерполационих полином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лико иима интерполационих полинома степена не већег о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роз датих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ча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а је основна подела интерполационих полином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вести формулу за Лагранжов интерполациони поли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pšti zadatak interpolacije; 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Lagranžov interpolacioni polin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gor</cp:lastModifiedBy>
  <dcterms:modified xsi:type="dcterms:W3CDTF">2010-04-16T13:33:31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