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93B-C3B3-48EA-9BCB-56181BFD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552-58D7-4A38-AAE7-CD9FA747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868-879E-4166-9FFE-BC5DA5C4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CC5-FA5C-4126-AF6F-75A16C76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133F-E00C-4EC3-900F-E8CE17D5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334D-F825-4704-A498-5666F680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9A6B-8528-4970-A997-734A1B4C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3E42-0358-446C-8FC3-11F2247C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A435-7F29-445C-8028-4EE3F50C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5AF2-5526-4D21-A425-AEA5EFDF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5661-11AF-4AD3-92ED-2D92543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D8E-534B-4BC7-9765-721CDDC8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0E36-12AF-4896-A827-989E253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A29-049C-448A-B186-9B084BB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A416-471D-407B-8BCA-246694F3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CA11-7481-49E8-B7D0-17C6FD54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091B-0EA8-458E-B2E9-7EF7F642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16C6-1F90-4441-8D83-3F17C999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03F2-728B-49C8-BCEB-A5CCD73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CB70-FACB-46A4-A459-404622E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14DF-BE05-4969-894F-05F5F60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AFF0-DCEE-4A29-BE99-C61F77B2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9C6-9F44-4578-8A77-D12D9701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2854-1AA8-4BC0-9159-89B952BA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A2F0D-23B8-4F10-8718-9F4201B6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F489-A710-4747-B48B-6404473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968D-4D36-4ECF-9BAA-69EBAAE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119C-F964-4427-8920-C8AADE37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8337-BAC2-4263-945A-D2DF22A1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F7EA-09FE-4F27-B065-C8521EBF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0CB-C819-401C-8656-7B9F5309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90C-5BC7-4ECB-960D-79622770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EB2-3635-4871-8DFA-3BB6860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FBF-AA2B-45AE-A25F-32C37C12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567-ADF7-4A74-929A-C335B6E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93E-DE9B-4FCD-89C2-7A436E4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5298-E6AA-4B52-97D7-FAF34937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BD14-5913-43C4-98A6-939B9679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6160-34B7-4294-9EBF-8F13E624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номск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ачне разлике. Њутнов интерполациони полином са конач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коначним разликама и да изрази везу између подељених и коначних разлика, као и да решава конкретне пробле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зн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облемом инверзне интерполације и њеним применама и биће способан да самостално решава ову класу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8321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ачне разлике. Њутнов интерполациони полином са конач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коначним разликама и да изрази везу између подељених и коначних разлика, као и да решава конкретне проблем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зн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проблемом инверзне интерполације и њеним применама и биће способан да самостално решава ову класу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8769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2131920" y="1541520"/>
                <a:ext cx="1028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3344760" y="1535040"/>
                <a:ext cx="662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Rectangle 3"/>
              <p:cNvSpPr txBox="1"/>
              <p:nvPr/>
            </p:nvSpPr>
            <p:spPr>
              <a:xfrm>
                <a:off x="3205080" y="1938240"/>
                <a:ext cx="26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Rectangle 3"/>
              <p:cNvSpPr txBox="1"/>
              <p:nvPr/>
            </p:nvSpPr>
            <p:spPr>
              <a:xfrm>
                <a:off x="2673360" y="3273480"/>
                <a:ext cx="37940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263600" y="3787920"/>
                <a:ext cx="21528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57480" y="4270320"/>
                <a:ext cx="299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28600" y="990720"/>
            <a:ext cx="8686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ČNE RAZ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501920"/>
            <a:ext cx="6629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                 i           , on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2760" y="2352600"/>
            <a:ext cx="836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ačna razlika prvog reda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960" y="2898720"/>
            <a:ext cx="8153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ačne razlike višeg re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960" y="3774960"/>
            <a:ext cx="4762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je                                    on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načne razlike;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jutnov interpolacioni polinom sa konačnim razlik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Rectangle 3"/>
              <p:cNvSpPr txBox="1"/>
              <p:nvPr/>
            </p:nvSpPr>
            <p:spPr>
              <a:xfrm>
                <a:off x="324000" y="3035160"/>
                <a:ext cx="4644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" name=""/>
          <p:cNvGraphicFramePr/>
          <p:nvPr/>
        </p:nvGraphicFramePr>
        <p:xfrm>
          <a:off x="324000" y="4425840"/>
          <a:ext cx="81835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425840"/>
                    <a:ext cx="81835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16000" y="2793960"/>
            <a:ext cx="7429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4160" y="3587760"/>
            <a:ext cx="6667200" cy="711000"/>
            <a:chOff x="254160" y="3587760"/>
            <a:chExt cx="6667200" cy="71100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368440" y="3587760"/>
                  <a:ext cx="29509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</m:sub>
                      </m:sSub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Δ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m</m:t>
                          </m:r>
                          <m:r>
                            <m:t xml:space="preserve">!</m:t>
                          </m:r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254160" y="3809880"/>
              <a:ext cx="66672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retpostavimo da je                                                za neko </a:t>
              </a:r>
              <a:r>
                <a:rPr b="0" i="1" lang="sr-Latn-CS" sz="1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m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&lt;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8600" y="4267080"/>
            <a:ext cx="7251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066680"/>
            <a:ext cx="814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za između podeljenih i konačnih razli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3320" y="1436760"/>
          <a:ext cx="520704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3320" y="1436760"/>
                    <a:ext cx="5207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228600" y="1447920"/>
            <a:ext cx="81280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Lem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                                                             . Tada je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64960" y="1792440"/>
                <a:ext cx="12891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71800" y="2057400"/>
                <a:ext cx="283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načne razlike;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jutnov interpolacioni polinom sa konačnim razlik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752480"/>
            <a:ext cx="8305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UTNOV INTERPOLACIONI POLINOM ZA 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47880" y="2514600"/>
          <a:ext cx="58039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2514600"/>
                    <a:ext cx="58039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459080" y="4411800"/>
                <a:ext cx="2030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33520" y="4495680"/>
            <a:ext cx="2197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načne razlike;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jutnov interpolacioni polinom sa konačnim razli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Rectangle 3"/>
              <p:cNvSpPr txBox="1"/>
              <p:nvPr/>
            </p:nvSpPr>
            <p:spPr>
              <a:xfrm>
                <a:off x="449280" y="2468520"/>
                <a:ext cx="7677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Rectangle 3"/>
          <p:cNvGraphicFramePr/>
          <p:nvPr/>
        </p:nvGraphicFramePr>
        <p:xfrm>
          <a:off x="533520" y="990720"/>
          <a:ext cx="832788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3278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03200" y="2055960"/>
            <a:ext cx="34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ma tome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351240"/>
            <a:ext cx="8458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6 INVERZNA INTERPO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7680" y="3973680"/>
            <a:ext cx="7937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Zadatak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ešavanje po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dnačin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(x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=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je                       data tabelar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443560" y="3986280"/>
                <a:ext cx="14097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"/>
          <p:cNvGrpSpPr/>
          <p:nvPr/>
        </p:nvGrpSpPr>
        <p:grpSpPr>
          <a:xfrm>
            <a:off x="3417840" y="4440240"/>
            <a:ext cx="2636640" cy="576360"/>
            <a:chOff x="3417840" y="4440240"/>
            <a:chExt cx="2636640" cy="576360"/>
          </a:xfrm>
        </p:grpSpPr>
        <p:sp>
          <p:nvSpPr>
            <p:cNvPr id="172" name=""/>
            <p:cNvSpPr/>
            <p:nvPr/>
          </p:nvSpPr>
          <p:spPr>
            <a:xfrm>
              <a:off x="3606480" y="470052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Rectangle 3"/>
                <p:cNvSpPr txBox="1"/>
                <p:nvPr/>
              </p:nvSpPr>
              <p:spPr>
                <a:xfrm>
                  <a:off x="3606480" y="4440240"/>
                  <a:ext cx="222084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3989160" y="444204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" name="Rectangle 3"/>
            <p:cNvGraphicFramePr/>
            <p:nvPr/>
          </p:nvGraphicFramePr>
          <p:xfrm>
            <a:off x="3417840" y="4699080"/>
            <a:ext cx="2306520" cy="31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7840" y="4699080"/>
                      <a:ext cx="23065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7" name=""/>
          <p:cNvSpPr/>
          <p:nvPr/>
        </p:nvSpPr>
        <p:spPr>
          <a:xfrm>
            <a:off x="555480" y="5319720"/>
            <a:ext cx="7874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je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monotona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toji              i može se aproksimirati npr. Lagranžovim interpolacionim polinom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71960" y="5357880"/>
                <a:ext cx="558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27280" y="5859360"/>
                <a:ext cx="18036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verzna interpol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09960" y="2336760"/>
                <a:ext cx="11318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540160" y="3276720"/>
                <a:ext cx="34668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685800" y="4157640"/>
          <a:ext cx="58276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57640"/>
                    <a:ext cx="58276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Rectangle 3"/>
              <p:cNvSpPr txBox="1"/>
              <p:nvPr/>
            </p:nvSpPr>
            <p:spPr>
              <a:xfrm>
                <a:off x="685800" y="1295280"/>
                <a:ext cx="7986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7200" y="914400"/>
            <a:ext cx="551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kođ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9800" y="1930320"/>
            <a:ext cx="2489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nije monoto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17840" y="2349360"/>
            <a:ext cx="355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alg. jedn.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- tog step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9800" y="2946240"/>
            <a:ext cx="5956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Čvorovi ekvidistant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verzna interpol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762120" y="1600200"/>
            <a:ext cx="800100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коначне разлике првог, другог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тог реда у чвор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казати лему о вези између подељених и коначних раз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Њутно интерполациони полином за еквидистантне чво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задатак инверзне интерпол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решава проблем инверзне интерполације ако је функција моното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49:5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