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216-8848-43EC-ACC9-1EA4EA8A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813-ADC4-47E1-A77F-98EBEF7A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94F-ABA6-43A3-9762-397CF10F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6F6-D3DB-43C3-8380-47E38FB6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53A3-C7E2-4514-9A85-3DF51062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5A36-CB33-417F-BA54-25827584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24A3-55C6-4F85-A8DF-0FD685FF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32AE-8672-411A-8F08-51869DFA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0617-C40F-4920-AA35-D86433B9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8AC8-FCDE-44DB-9D80-05D5A209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BE25-BDA2-401D-8CC6-7C6D7CC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F76-E794-4494-8A87-85784D9C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AF9D-5E10-487E-9D23-4CE29180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2B9D-9777-4013-AC35-3C72808E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D5FC-0A95-4372-8EC5-0A5510AE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8A1D-5A98-46C9-9661-17529E84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C4F-D789-4FDA-983D-92E66E64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8419-85C0-401B-9E3C-25B48421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1427-5AA0-49E1-BA02-45CC0C50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4685-B0D5-49C0-8501-AFDFF490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7AFE-A5BB-4161-B2E1-BBEEEBC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1964-2361-4FD5-AFFF-681E784B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070-6460-4907-8B51-2A38D753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81BD-5E03-4E72-B2D2-4AEED6EC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DF62-90C0-47E6-9F83-2B68563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55D4-16FE-4CE4-8152-A737AE45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EC19-CFFA-48A1-B704-9664D45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F104-E839-45E0-8AD2-8646A0E8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66FF-1C18-460C-9006-06883EC5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7D2F-254B-4630-B1F1-4D76E87C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6C4-7137-4FCB-AE6C-0515570D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255-EA04-4EA2-BD9F-D83D3C95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3B3-5F6C-4B4B-BB12-1F53E863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BC6-2804-4C80-84BB-BEB3949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1B4-244C-439F-9B09-D98325E2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B5C-3A55-4F6E-A85D-24119B7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F871-6F42-4412-B48B-10B6F7958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556E-C175-455D-AA22-290220824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F894-0092-488B-9C4C-409436739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762120" y="1600200"/>
            <a:ext cx="77724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се декомпонује матрица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д Јакобијеве мет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 којим условима матиц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верзну? Наћ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формисати систе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x=b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обли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=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+B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довољним условима конвергенције Јакобије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потребним и довољним условима Јакобијеве методе? Зашто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 основна идеја Гаус – Зејделове методе? Како се она реализу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формисати систе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x=b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обл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=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+B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довољне услове конвергенције Гаус – Зајдел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потребним и довољним условима конвергенције Гаус – Зајдел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Rectangle 3"/>
          <p:cNvGraphicFramePr/>
          <p:nvPr/>
        </p:nvGraphicFramePr>
        <p:xfrm>
          <a:off x="5486400" y="3819600"/>
          <a:ext cx="12193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819600"/>
                    <a:ext cx="12193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Jakobijeva metoda;</a:t>
            </a:r>
            <a:br>
              <a:rPr sz="3000"/>
            </a:b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 Gaus – Zajdelova meto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е методе за решавање система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система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обије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Јакобијевом методом, као и са довољним и потребним и довољним условима конвергенције. Такође, биће способан за практичну примену Јакобијеве мет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ус – Зајдел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Гаус - Заједловом методом, као и са довољним и потребним и довољним условима конвергенције. Такође, биће способан за практичну примену Гаус - Заједлове мет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8321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кобије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Јакобијевом методом, као и са довољним и потребним и довољним условима конвергенције. Такође, биће способан за практичну примену Јакобијеве мет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ус – Зајдел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Гаус - Заједловом методом, као и са довољним и потребним и довољним условима конвергенције. Такође, биће способан за практичну примену Гаус - Заједлове метод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152280" y="48006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Rectangle 3"/>
              <p:cNvSpPr txBox="1"/>
              <p:nvPr/>
            </p:nvSpPr>
            <p:spPr>
              <a:xfrm>
                <a:off x="4235400" y="1427040"/>
                <a:ext cx="762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1022400" y="1833480"/>
                <a:ext cx="122400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Rectangle 3"/>
          <p:cNvGraphicFramePr/>
          <p:nvPr/>
        </p:nvGraphicFramePr>
        <p:xfrm>
          <a:off x="1504800" y="3633840"/>
          <a:ext cx="477216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3633840"/>
                    <a:ext cx="477216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58680" y="2232000"/>
                <a:ext cx="18226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71680" y="2227320"/>
                <a:ext cx="20685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632560" y="2212920"/>
                <a:ext cx="199548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8" name="Rectangle 3"/>
          <p:cNvGraphicFramePr/>
          <p:nvPr/>
        </p:nvGraphicFramePr>
        <p:xfrm>
          <a:off x="1522440" y="4822920"/>
          <a:ext cx="3537000" cy="20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4822920"/>
                    <a:ext cx="353700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842080" y="1362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67676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ciona matr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akobije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Rectangle 3"/>
          <p:cNvGraphicFramePr/>
          <p:nvPr/>
        </p:nvGraphicFramePr>
        <p:xfrm>
          <a:off x="1711440" y="882720"/>
          <a:ext cx="552924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882720"/>
                    <a:ext cx="552924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041640" y="3124080"/>
          <a:ext cx="2892600" cy="102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1640" y="3124080"/>
                    <a:ext cx="289260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68640" y="4305240"/>
                <a:ext cx="4446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50960" y="4597560"/>
                <a:ext cx="349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60720" y="4325760"/>
                <a:ext cx="2286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57200" y="1066680"/>
            <a:ext cx="62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ar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590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orema 1.(dovoljan uslov konvergencije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ko je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dijagonalno dominantna, tj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26708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a je matrica      regularna i niz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vergira 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u sist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 (1) za proizvoljno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9276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z dijagonalne dominantnosti sledi da je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040" y="4960800"/>
          <a:ext cx="90468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040" y="4960800"/>
                    <a:ext cx="9046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80880" y="1752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akobijeva metoda je specijalan slučaj metode proste iteracije ako se uzm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=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P= –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L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akobije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00400" y="2133720"/>
          <a:ext cx="236520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133720"/>
                    <a:ext cx="236520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620720" y="1754280"/>
                <a:ext cx="393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304920" y="1447920"/>
            <a:ext cx="81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2.(potreban i dovoljan uslov konvergencije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otreban i dovoljan uslov da niz       konvergira rešenju sistema (1) je da sva rešenja jedna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dovoljavaju uslov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Rectangle 3"/>
              <p:cNvSpPr txBox="1"/>
              <p:nvPr/>
            </p:nvSpPr>
            <p:spPr>
              <a:xfrm>
                <a:off x="2590920" y="3581280"/>
                <a:ext cx="495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80880" y="3962520"/>
            <a:ext cx="67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895480" y="5410080"/>
          <a:ext cx="3357720" cy="12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5410080"/>
                    <a:ext cx="33577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09480" y="5181480"/>
            <a:ext cx="19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t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4343400"/>
          <a:ext cx="669924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343400"/>
                    <a:ext cx="6699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-2286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akobije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600200" y="1447920"/>
          <a:ext cx="571500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57150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371600" y="2590920"/>
          <a:ext cx="6110280" cy="14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611028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Rectangle 3"/>
          <p:cNvGraphicFramePr/>
          <p:nvPr/>
        </p:nvGraphicFramePr>
        <p:xfrm>
          <a:off x="1905120" y="4449600"/>
          <a:ext cx="6705360" cy="240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449600"/>
                    <a:ext cx="670536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04920" y="4191120"/>
            <a:ext cx="32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kalar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us – Zajd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581280" y="1371600"/>
          <a:ext cx="1905120" cy="4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71600"/>
                    <a:ext cx="1905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714680" y="3232080"/>
                <a:ext cx="2253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2" name=""/>
          <p:cNvGraphicFramePr/>
          <p:nvPr/>
        </p:nvGraphicFramePr>
        <p:xfrm>
          <a:off x="3738600" y="4813200"/>
          <a:ext cx="233820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8600" y="4813200"/>
                    <a:ext cx="233820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90920" y="6222960"/>
                <a:ext cx="571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Rectangle 3"/>
              <p:cNvSpPr txBox="1"/>
              <p:nvPr/>
            </p:nvSpPr>
            <p:spPr>
              <a:xfrm>
                <a:off x="5156280" y="3616200"/>
                <a:ext cx="22860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57200" y="1143000"/>
            <a:ext cx="46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teraciona matr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2743200"/>
            <a:ext cx="8051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voljni uslovi konvergen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)     je simetrična i pozitivno definitna ma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dijagonalna dominantnost mat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9800" y="4064040"/>
            <a:ext cx="83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potreban i dovoljan uslov konvergencije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iz (1) konvergira rešenju sistema ako i samo ako svi koreni jedna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360" y="622296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dovoljavaju uslov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8288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aus – Zajdelova metoda je spacijalan slučaj metode proste iteracije ako se uzm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=L+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P= –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us – Zajd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91440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8280" y="1917720"/>
            <a:ext cx="83566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pomene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e Gaus – Zajdelova metoda primeni na Jakobijevu dobije se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arijanta Nekrasov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najvećem broju slučajeva Gaus – Zajdelova metoda konvergira brže od metode proste iteracije. Međutim, mogući su slučajevi kada Gaus – Zajdelova metoda konvergira sporije, pa čak i slučajevi kada metoda proste iteracije konvergira, a Gaus – Zajdelova metoda diverg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Rectangle 3"/>
              <p:cNvSpPr txBox="1"/>
              <p:nvPr/>
            </p:nvSpPr>
            <p:spPr>
              <a:xfrm>
                <a:off x="1270080" y="963720"/>
                <a:ext cx="70484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λ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λ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us – Zajd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7T20:29:1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