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2E61-0100-48BA-A51C-CEC41338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95E3-9D6F-4F72-BAD1-14D3A511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9294-DB6B-4CF7-8E0F-FE13FE28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390-D4A6-43F6-A428-488B1C8B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A618-EAA9-47A2-B5A3-709BC843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79E3-E03C-4951-B8E5-C104A5ED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8A76-2EA4-4D72-88E8-FFD7E63F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8857-480E-4983-B89E-BEEFDE53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B113-61D7-451A-9CE2-4F9F1D21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F297-CF4B-400F-8066-6F5ACCBF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96B6-DA3F-4FF7-BA01-7ABD1732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984-52D1-4320-8827-51993953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75D6-AFAD-4DD8-AFC1-BC5EB68C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4AD0-159D-4829-92F2-FE3CC59E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D36E-8FD1-4A11-825F-488C5D07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1D8D-61C3-47A1-BA1C-F069F27C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8041-80C8-46FB-B063-A8651112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4E97F-798F-4C99-AB2C-5A85C154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07241-438B-4A87-B7C5-95C4705D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00823-9B89-4047-9D12-37C6F61A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3E892-9A4E-4985-96C1-080C45EE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28AE8-F1D4-48E1-909C-17E42C14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9FA9-3FDD-4A1D-8603-60A96DAF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C0FCA-12AB-4FDA-B65A-D6A89E78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ABE9E-2D60-446E-943B-1A3FE666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5BAF2-3111-432C-B83E-903CB62F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BE585-D05E-4D74-A2F2-BB4C9E08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06374-F766-4E36-B124-530DC294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A61FB-B613-44FE-BF5F-8606BBB0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BCFF2-95EC-4212-9929-5B9B41B9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DB6-8740-4D94-A20E-089746CE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CCB-7F19-40FF-880A-93C3B7D1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307-91ED-47DA-8393-CBF3D8D1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AAB-8C9F-45E2-9065-D9370800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9FB-EB93-4F77-816F-B8CDAD5F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9A6-0FFA-4C06-B581-4A45136B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404D-B569-4DE6-8AB6-A05B765FF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03A6-4616-4D7D-B5B2-3E2C2D498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4E81-E320-4FFE-9F42-09712F5AD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300480" y="1800360"/>
                <a:ext cx="25336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744560" y="2146320"/>
                <a:ext cx="45324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h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725480" y="3029040"/>
                <a:ext cx="59914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725480" y="3759120"/>
                <a:ext cx="59914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80880" y="1031760"/>
            <a:ext cx="437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Metoda Runge – Kuta 2. r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6800" y="1454040"/>
            <a:ext cx="4800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bija se z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=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=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2. Prema (1)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6800" y="2146320"/>
            <a:ext cx="4454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 čemu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6800" y="2682720"/>
            <a:ext cx="821844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azvijanjem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Lucida Sans Unicode"/>
              </a:rPr>
              <a:t>(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Lucida Sans Unicode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Lucida Sans Unicode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menom Tejlorove formule dobij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6800" y="3336840"/>
            <a:ext cx="498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4373640"/>
            <a:ext cx="80661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z prethodne relacije i (2), izjednačavanjem odgovarajućih koeficijenata uz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Times New Roman"/>
                <a:ea typeface="Lucida Sans Unicode"/>
              </a:rPr>
              <a:t>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dobija se sistem jednač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3952800" y="4950000"/>
                <a:ext cx="12286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7486560" y="5295960"/>
            <a:ext cx="728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9040" y="6254640"/>
            <a:ext cx="81025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stem (3) sastoji se iz tri jednačine sa četiri nepoznate tako da ima beskonačno rešenja. Neka od njih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e Runge - K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0880" y="914400"/>
            <a:ext cx="422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689040" y="952560"/>
                <a:ext cx="28033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378160" y="1528920"/>
                <a:ext cx="43005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49440" y="2603520"/>
                <a:ext cx="2649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147760" y="3295800"/>
                <a:ext cx="53006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5105520" y="4332240"/>
                <a:ext cx="8841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573120" y="1298520"/>
            <a:ext cx="430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(1) ima obli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3080" y="2565360"/>
            <a:ext cx="421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3120" y="2028960"/>
            <a:ext cx="718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va metoda je poznata kao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difikovana Ojlerova metod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3120" y="2949480"/>
            <a:ext cx="430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(1) ima obli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3120" y="3794040"/>
            <a:ext cx="718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va metoda je poznata kao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boljšana Ojlerova metod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4294080"/>
            <a:ext cx="8526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ška na jednom koraku kod ovih metoda je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e Runge - K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494080" y="1720800"/>
                <a:ext cx="42624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570040" y="2373480"/>
                <a:ext cx="407196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111320" y="4869000"/>
                <a:ext cx="71150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494080" y="5522760"/>
                <a:ext cx="418608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380880" y="990720"/>
            <a:ext cx="437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Medtoda Runge – Kuta 4. r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6800" y="1413000"/>
            <a:ext cx="4800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bija se z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=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=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4 tako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6800" y="2065320"/>
            <a:ext cx="2687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 čemu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6800" y="3870360"/>
            <a:ext cx="83725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lično kao kod metode drugog reda dobija se sistem jednačina po neodređenim koeficijentima koji ima beskonačno mnogo reše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ndardna metoda Runge – Kuta četvrtog reda dobija se 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6800" y="5330880"/>
            <a:ext cx="806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e Runge - K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492360" y="1220760"/>
                <a:ext cx="2573640" cy="19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457200" y="990720"/>
            <a:ext cx="2381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d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96800" y="3525840"/>
            <a:ext cx="4916520" cy="348840"/>
            <a:chOff x="496800" y="3525840"/>
            <a:chExt cx="4916520" cy="348840"/>
          </a:xfrm>
        </p:grpSpPr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4338720" y="3565440"/>
                  <a:ext cx="84456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r>
                        <m:t xml:space="preserve">O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h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6" name=""/>
            <p:cNvSpPr/>
            <p:nvPr/>
          </p:nvSpPr>
          <p:spPr>
            <a:xfrm>
              <a:off x="496800" y="3525840"/>
              <a:ext cx="49165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Greška metode na svakom koraku je             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e Runge - K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4"/>
          <p:cNvSpPr/>
          <p:nvPr/>
        </p:nvSpPr>
        <p:spPr>
          <a:xfrm>
            <a:off x="7621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инисати Кошијев проблем за диференцијалну једначину првог р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а је разлика између аналитичких и нумеричких метода за решавање Кошијевог пробле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ко се дефинише низ узастопних апроксимација Пикарове мето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ести формулу за приближно решење Кошијевог проблема Тејлоровом мет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ести формулу за приближно решење Кошијевог проблема Ојлеровом мет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ести формулу за приближно решење Кошијевог проблема за методу Рунге – Кута другог р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280" y="1066680"/>
          <a:ext cx="8763120" cy="5486400"/>
        </p:xfrm>
        <a:graphic>
          <a:graphicData uri="http://schemas.openxmlformats.org/drawingml/2006/table">
            <a:tbl>
              <a:tblPr/>
              <a:tblGrid>
                <a:gridCol w="1136880"/>
                <a:gridCol w="1203120"/>
                <a:gridCol w="3711600"/>
                <a:gridCol w="2711520"/>
              </a:tblGrid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ичне диференцијалне једначи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владавање проблема ОДЈ и њихово решавања одговарајућом мето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каро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имени Пикарову методу на решавања ОДЈ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јлоро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имени Тејлорову методу на решавања ОДЈ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јлеро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имени Ојлерову методу на решавања ОДЈ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е Рунге - Ку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имени методу Рунге-Кута на решавања ОДЈ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80880" y="1219320"/>
          <a:ext cx="8534520" cy="3863880"/>
        </p:xfrm>
        <a:graphic>
          <a:graphicData uri="http://schemas.openxmlformats.org/drawingml/2006/table">
            <a:tbl>
              <a:tblPr/>
              <a:tblGrid>
                <a:gridCol w="99072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каро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имени Пикарову методу на решавања ОДЈ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јлоро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имени Тејлорову методу на решавања ОДЈ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јлеро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имени Ојлерову методу на решавања ОДЈ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е Рунге - Ку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имени методу Рунге-Кута на решавања ОДЈ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80880" y="54864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743200" y="990720"/>
                <a:ext cx="261144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924680" y="1676520"/>
                <a:ext cx="9208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66880" y="1905120"/>
                <a:ext cx="3033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&lt;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&lt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84080" y="2565360"/>
                <a:ext cx="31114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D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46280" y="2987640"/>
                <a:ext cx="48384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L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D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≤</m:t>
                    </m:r>
                    <m:r>
                      <m:t xml:space="preserve">L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397240" y="3639960"/>
                <a:ext cx="16128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7" name=""/>
          <p:cNvGraphicFramePr/>
          <p:nvPr/>
        </p:nvGraphicFramePr>
        <p:xfrm>
          <a:off x="5257800" y="3581280"/>
          <a:ext cx="1417680" cy="5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581280"/>
                    <a:ext cx="141768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5470560" y="952560"/>
            <a:ext cx="3071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Košijev problem         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8120" y="1643040"/>
            <a:ext cx="855360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Teorema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(o jedinstvenosti rešenja Košijevog problema):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ka je funkcija                  neprekidna u oblasti                                                , gde su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, b&gt;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 Dalje, neka su ispunjeni uslov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3429000"/>
            <a:ext cx="84582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postoji tačno jedno rešenje Košijevog problema (1) koje je 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isano i neprekidno za sve                          , pri čemu je  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05000" y="4294080"/>
            <a:ext cx="4840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9.1. PIKAROVA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8120" y="4716360"/>
            <a:ext cx="8142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pada u analitičke metode nalaženja približnog rešenja Košijevog problema (1). Diferencijalna jednačina se zamenjuje ekvivalentnom integralnom jednačin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473280" y="5522760"/>
                <a:ext cx="222732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ikar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583080" y="1298520"/>
          <a:ext cx="1317600" cy="2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3080" y="1298520"/>
                    <a:ext cx="13176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57200" y="2757600"/>
                <a:ext cx="576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9" name=""/>
          <p:cNvGraphicFramePr/>
          <p:nvPr/>
        </p:nvGraphicFramePr>
        <p:xfrm>
          <a:off x="1803240" y="2057400"/>
          <a:ext cx="5375520" cy="73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3240" y="2057400"/>
                    <a:ext cx="537552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838080" y="4038480"/>
                <a:ext cx="8827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2" name=""/>
          <p:cNvGraphicFramePr/>
          <p:nvPr/>
        </p:nvGraphicFramePr>
        <p:xfrm>
          <a:off x="1817640" y="4478400"/>
          <a:ext cx="5038920" cy="69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17640" y="4478400"/>
                    <a:ext cx="503892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070000" y="5292720"/>
                <a:ext cx="1613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954160" y="5715000"/>
                <a:ext cx="35719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≤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457200" y="990720"/>
            <a:ext cx="7950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lednja jednačina je obl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566720"/>
            <a:ext cx="791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 se za njeno rešavanje može primeniti metoda uzastopnih aproksimaci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19080" y="2795760"/>
            <a:ext cx="7526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niz rešenja jednačine (2) za koji se može pokazati da konvergira 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10160" y="1220760"/>
            <a:ext cx="884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040" y="3065400"/>
            <a:ext cx="4646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šenju Košijevog probl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581280"/>
            <a:ext cx="82184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Teorema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(o oceni greške)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eka su ispunjeni uslovi teoreme o jednistvenosti rešenja Košijevog problema. Neka j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y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rešenje Košijevog poblema i neka je niz                definisan formu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254560"/>
            <a:ext cx="4838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za svako                           važ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ikar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320840" y="2522520"/>
                <a:ext cx="4237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124160" y="2484360"/>
                <a:ext cx="1151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n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434960" y="3174840"/>
                <a:ext cx="6645240" cy="5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86320" y="3905280"/>
                <a:ext cx="23032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049480" y="4202280"/>
                <a:ext cx="55688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857240" y="5172120"/>
                <a:ext cx="58755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12680" y="5786280"/>
                <a:ext cx="61596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275440" y="5711760"/>
                <a:ext cx="4237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967360" y="5715000"/>
                <a:ext cx="4222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927840" y="5978520"/>
                <a:ext cx="2984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127240" y="6248520"/>
                <a:ext cx="5299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2895480" y="909720"/>
            <a:ext cx="3456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9.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JLOROVA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6680" y="1792440"/>
            <a:ext cx="81421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de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met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je da se primeni Tejlorov razvoj na 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šenje diferencijalne jednačine (1) u okolini neke izabrane tač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779560" y="1370160"/>
                <a:ext cx="261144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5506920" y="1332000"/>
            <a:ext cx="3071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Košijev problem         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8520" y="2522520"/>
            <a:ext cx="84484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ka je        niz tačaka definisan sa                   , pri čemu j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gt;0. Tada primenom Tejlorove formule dobij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8520" y="3713040"/>
            <a:ext cx="2803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vodimo ozn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8520" y="4903920"/>
            <a:ext cx="2459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j. u opštem sluča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0360" y="5748480"/>
            <a:ext cx="84866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ka          označava vrednost rešenj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y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u tački       , a        neka označava aproksimaciju te vrednosti Tejlorovim polinomom u okolini tačke    . Ta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02440" y="6324480"/>
            <a:ext cx="650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ejlor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454120" y="1413000"/>
                <a:ext cx="46087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6" name=""/>
          <p:cNvGraphicFramePr/>
          <p:nvPr/>
        </p:nvGraphicFramePr>
        <p:xfrm>
          <a:off x="3703680" y="2411280"/>
          <a:ext cx="2151000" cy="3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3680" y="2411280"/>
                    <a:ext cx="215100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57200" y="990720"/>
            <a:ext cx="81421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jlorova metoda red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astoji se u primeni prethodne aproksimacije. Ako se uvede oznak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989000"/>
            <a:ext cx="7297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nda se relacija (2) može napisati u obli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9040" y="2833560"/>
            <a:ext cx="84502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zborom vrednosti z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obijaju se različite numeričke metode za rešavanje Košijevog probl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32240" y="3564000"/>
            <a:ext cx="430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9.3. OJLEROVA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9040" y="4140360"/>
            <a:ext cx="84106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va metoda je specijalan slučaj Tejlorove metode kada  j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=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, tj.                                                                                Neka je niz tačaka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finisan tačkom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 korakom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a sledeći način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219800" y="4105440"/>
          <a:ext cx="161316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19800" y="4105440"/>
                    <a:ext cx="16131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2438280" y="4343400"/>
          <a:ext cx="489240" cy="38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4343400"/>
                    <a:ext cx="4892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813200" y="4356000"/>
                <a:ext cx="276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914640" y="4830840"/>
                <a:ext cx="2303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nh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372360" y="5253120"/>
                <a:ext cx="882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00" name=""/>
          <p:cNvGraphicFramePr/>
          <p:nvPr/>
        </p:nvGraphicFramePr>
        <p:xfrm>
          <a:off x="2666880" y="5486400"/>
          <a:ext cx="463680" cy="34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5486400"/>
                    <a:ext cx="4636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338640" y="5983200"/>
                <a:ext cx="31874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80880" y="5253120"/>
            <a:ext cx="78724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menom Tejlorove metode, polazeći od početnog uslova              , možemo formirati niz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a sledeći nač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jler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914640" y="5907240"/>
                <a:ext cx="18828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57200" y="990720"/>
            <a:ext cx="4878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fička interpret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5484960"/>
            <a:ext cx="4954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ška metode na jednom koraku je obl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492280" y="1490760"/>
            <a:ext cx="4408200" cy="3725640"/>
            <a:chOff x="2492280" y="1490760"/>
            <a:chExt cx="4408200" cy="3725640"/>
          </a:xfrm>
        </p:grpSpPr>
        <p:sp>
          <p:nvSpPr>
            <p:cNvPr id="209" name=""/>
            <p:cNvSpPr/>
            <p:nvPr/>
          </p:nvSpPr>
          <p:spPr>
            <a:xfrm flipV="1">
              <a:off x="2838240" y="1490760"/>
              <a:ext cx="0" cy="337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84160" y="4716360"/>
              <a:ext cx="418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1242400">
              <a:off x="3718800" y="1855440"/>
              <a:ext cx="2664000" cy="2016000"/>
            </a:xfrm>
            <a:custGeom>
              <a:avLst/>
              <a:gdLst/>
              <a:ahLst/>
              <a:rect l="l" t="t" r="r" b="b"/>
              <a:pathLst>
                <a:path w="2226" h="1403">
                  <a:moveTo>
                    <a:pt x="0" y="1355"/>
                  </a:moveTo>
                  <a:cubicBezTo>
                    <a:pt x="256" y="1379"/>
                    <a:pt x="512" y="1403"/>
                    <a:pt x="847" y="1209"/>
                  </a:cubicBezTo>
                  <a:cubicBezTo>
                    <a:pt x="1182" y="1015"/>
                    <a:pt x="1790" y="386"/>
                    <a:pt x="2008" y="193"/>
                  </a:cubicBezTo>
                  <a:cubicBezTo>
                    <a:pt x="2226" y="0"/>
                    <a:pt x="2189" y="24"/>
                    <a:pt x="2153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98720" y="3909960"/>
              <a:ext cx="39600" cy="3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51040" y="3834000"/>
              <a:ext cx="39960" cy="3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103720" y="3255840"/>
              <a:ext cx="3960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56040" y="2373480"/>
              <a:ext cx="39600" cy="3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51040" y="3909960"/>
              <a:ext cx="3816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489200" y="3409560"/>
              <a:ext cx="6145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5103000" y="3371760"/>
              <a:ext cx="3780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141520" y="2603520"/>
              <a:ext cx="65268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94200" y="2565360"/>
              <a:ext cx="39600" cy="3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794200" y="1913040"/>
              <a:ext cx="50004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760480" y="3986280"/>
              <a:ext cx="1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760480" y="3948120"/>
              <a:ext cx="7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38240" y="383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760480" y="3371760"/>
              <a:ext cx="7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38240" y="32558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760480" y="2565360"/>
              <a:ext cx="7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38240" y="241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6920" y="46785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89200" y="46785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79680" y="46785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71960" y="46785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52760" y="4869000"/>
              <a:ext cx="6904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3720960" y="4792680"/>
                  <a:ext cx="1648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4419360" y="4799160"/>
                  <a:ext cx="15228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5065560" y="4799160"/>
                  <a:ext cx="16488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5794200" y="4792680"/>
                  <a:ext cx="1648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6773760" y="4837320"/>
                  <a:ext cx="126720" cy="13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492280" y="3986280"/>
                  <a:ext cx="177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2498400" y="3762360"/>
                  <a:ext cx="16524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2492280" y="3262320"/>
                  <a:ext cx="17784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2492280" y="2489400"/>
                  <a:ext cx="177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2549160" y="1522440"/>
                  <a:ext cx="139680" cy="16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990520" y="3909960"/>
                  <a:ext cx="381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2997000" y="3684600"/>
                  <a:ext cx="36828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2952360" y="3110040"/>
                  <a:ext cx="38124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2958840" y="2297160"/>
                  <a:ext cx="3682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5794200" y="1604880"/>
                  <a:ext cx="55872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9" name=""/>
            <p:cNvSpPr/>
            <p:nvPr/>
          </p:nvSpPr>
          <p:spPr>
            <a:xfrm>
              <a:off x="3798720" y="3948120"/>
              <a:ext cx="65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jler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738760" y="1374840"/>
                <a:ext cx="9637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127320" y="1604880"/>
                <a:ext cx="384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627360" y="1951200"/>
                <a:ext cx="19591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897280" y="2757600"/>
                <a:ext cx="3994200" cy="16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⋮</m:t>
                        </m:r>
                      </m:e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781360" y="4524480"/>
                <a:ext cx="806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665520" y="4832280"/>
                <a:ext cx="1920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2743200" y="914400"/>
            <a:ext cx="4148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9.4. METODE RUNGE – KU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9960" y="1336680"/>
            <a:ext cx="85647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deja ovih metoda je da se u Tejlorovoj metodi izraz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meni jednostavnijim tj. vrednost      se izračunava po form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1800" y="2413080"/>
            <a:ext cx="1919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 čemu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4000" y="4486320"/>
            <a:ext cx="8142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određeni koeficijenti              se određuju iz jednak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467480" y="2028960"/>
            <a:ext cx="960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467480" y="4908600"/>
            <a:ext cx="960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5840" y="5369040"/>
            <a:ext cx="80280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j. iz jednačina koji se dobija izjednačavanjem koeficijenata uz iste stepen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a levoj i desnoj stra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zborom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odnosno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obijaju se metode Runge – Kuta različitog re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e Runge - K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gor</cp:lastModifiedBy>
  <dcterms:modified xsi:type="dcterms:W3CDTF">2010-04-16T13:58:39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