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CB8-AA1A-4867-A0E7-CEDF5920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9A8-4BA7-4E1D-BF6A-B635C3E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6EC-765D-44C2-A9D1-60AC37E4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AA6-CFEF-4AB2-B527-E027E454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6E70-2376-4909-81FE-FB9AF569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4DD-295A-4CC8-BB0A-DC5609A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6836-3A9B-4FE8-9412-B33708F8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C39-6511-4B31-870E-A73B3552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56F-EA7B-438C-89C9-81CBF62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852E-FD2F-4E63-B27B-7FA29EA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A37A-2009-4468-B731-9CFD07F3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149-1E67-4AF6-B143-C7A78F2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C5A7-C1FF-47F8-8880-FEC178B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3E8F-D168-438C-A5C1-4D80DF13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068-C01B-40BD-8DE6-BD84913E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5A82-4613-4151-879C-B7747F0F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DB9E-F8FA-49B9-BA47-A45C0BAD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18AC-7F63-4CE8-AD2B-026ABA5C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DF0B-4B52-4433-8734-AC34FB46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BD51-DF2D-45AA-8668-7AA1057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C6CA-F9F7-4E91-8BEC-2363FC2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E22F-8CB8-42B7-A151-D7A96A0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637-D1EB-4ED3-837C-B07E525D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E682-8AD0-4872-B63C-FCB55D3C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316F-E95E-4074-A3B0-4EF5611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DE4D-5E5A-4518-9DE1-939A092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F09CA-B8F6-474E-A0A1-708AFA6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BA33-F5B3-43AF-B23A-3B0C6C7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93FC-6395-405A-A63E-E260C0CB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FFBB-E8D4-415D-88C0-02FE2721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7E8-C934-4505-BE83-C46A94F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F75-A2E6-4A03-98C7-307338A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489-B329-4B1B-88AD-9BB35E4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DE1-8C70-4D2E-A2DE-7B7686C7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294-B8BD-483B-85DA-7741CF4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2A0-938C-425E-9B5B-9F65389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83A3-F36D-4D36-AE9B-2D6EBBC00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A72-C4F6-495F-B749-889DAA0D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83A-EBFF-4743-A42B-557EDCA1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616200" y="1177920"/>
          <a:ext cx="177804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1177920"/>
                    <a:ext cx="17780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57200" y="91440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49520" y="2332080"/>
          <a:ext cx="436248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9520" y="2332080"/>
                    <a:ext cx="43624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795760" y="3670200"/>
          <a:ext cx="36576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5760" y="3670200"/>
                    <a:ext cx="365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19560" y="4707000"/>
          <a:ext cx="241920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19560" y="4707000"/>
                    <a:ext cx="2419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69800" y="193032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9800" y="3111480"/>
            <a:ext cx="82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zadržimo na linearnim članovima u odnosu na      i    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987880" y="3125880"/>
                <a:ext cx="279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431040" y="3141720"/>
                <a:ext cx="2635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69800" y="43815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410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Rectangle 3"/>
          <p:cNvGraphicFramePr/>
          <p:nvPr/>
        </p:nvGraphicFramePr>
        <p:xfrm>
          <a:off x="2608200" y="5770440"/>
          <a:ext cx="3113280" cy="74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Rectangle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08200" y="5770440"/>
                    <a:ext cx="311328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00680" y="1333440"/>
                <a:ext cx="12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3714840" y="2425680"/>
          <a:ext cx="173808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2425680"/>
                    <a:ext cx="173808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391520" y="2819520"/>
                <a:ext cx="29196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3629160" y="3362400"/>
          <a:ext cx="205560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9160" y="3362400"/>
                    <a:ext cx="20556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66920" y="5029200"/>
                <a:ext cx="820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750000" y="5016600"/>
                <a:ext cx="8730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01720" y="280512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80880" y="9144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smo zanemarili nelinearne članove, možemo pis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019240"/>
            <a:ext cx="79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pšta ide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8280" y="276876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 je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 Red konvergencije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postoji konstanta      takva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040" y="4051440"/>
            <a:ext cx="787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1: linearna konverg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2: kvadratna konverg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952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              , konvergencija je linearna, a ako je              , konvergencija je kvadrat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5791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Rectangle 3"/>
          <p:cNvGraphicFramePr/>
          <p:nvPr/>
        </p:nvGraphicFramePr>
        <p:xfrm>
          <a:off x="3214800" y="6189840"/>
          <a:ext cx="212544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6189840"/>
                    <a:ext cx="21254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914400"/>
            <a:ext cx="81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u         biramo iz uslova da je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Rectangle 3"/>
          <p:cNvGraphicFramePr/>
          <p:nvPr/>
        </p:nvGraphicFramePr>
        <p:xfrm>
          <a:off x="1362240" y="996840"/>
          <a:ext cx="471240" cy="2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996840"/>
                    <a:ext cx="4712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Rectangle 3"/>
          <p:cNvGraphicFramePr/>
          <p:nvPr/>
        </p:nvGraphicFramePr>
        <p:xfrm>
          <a:off x="4137120" y="958680"/>
          <a:ext cx="8128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7120" y="958680"/>
                    <a:ext cx="8128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992320" y="1430280"/>
          <a:ext cx="32497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2320" y="1430280"/>
                    <a:ext cx="3249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47840" y="2274840"/>
          <a:ext cx="405108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840" y="2274840"/>
                    <a:ext cx="4051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780000" y="3637080"/>
          <a:ext cx="1893600" cy="39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637080"/>
                    <a:ext cx="1893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882800" y="4416480"/>
          <a:ext cx="578808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2800" y="4416480"/>
                    <a:ext cx="5788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230640" y="5245200"/>
          <a:ext cx="755640" cy="261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0640" y="5245200"/>
                    <a:ext cx="75564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93840" y="3238560"/>
            <a:ext cx="45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ma tom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8280" y="402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8280" y="515628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rešenju sistema              i ima najmanje kvadratnu konvergenci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762120" y="1600200"/>
            <a:ext cx="125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;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и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методом итерације и доказом основне теореме о конвергенцији. Такође, биће способан за самостално решавање практичних проблема овом метод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Њутн - Канторови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самостално решава системе нелинеарних једначина методом Њутн – Канторовича за случај две једначине, а биће упознат и са применом ове методе у општем случај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9494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методом итерације и доказом основне теореме о конвергенцији. Такође, биће способан за самостално решавање практичних проблема овом метод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Њутн - Канторови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самостално решава системе нелинеарних једначина методом Њутн – Канторовича за случај две једначине, а биће упознат и са применом ове методе у општем случај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0292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2362320" y="1905120"/>
          <a:ext cx="31240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31240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143000" y="2590920"/>
          <a:ext cx="533520" cy="32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Rectangle 3"/>
          <p:cNvGraphicFramePr/>
          <p:nvPr/>
        </p:nvGraphicFramePr>
        <p:xfrm>
          <a:off x="2286000" y="2917800"/>
          <a:ext cx="5029200" cy="4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917800"/>
                    <a:ext cx="50292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1295280"/>
            <a:ext cx="792504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th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bir geometrijskog r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je Košijev niz u prostoru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aki Košijev niz u prostoru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je konvergen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Razvoj funkcije f(x,y) u Tejlorov red u okolini tačke (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Rectangle 3"/>
          <p:cNvGraphicFramePr/>
          <p:nvPr/>
        </p:nvGraphicFramePr>
        <p:xfrm>
          <a:off x="380880" y="4800600"/>
          <a:ext cx="8610840" cy="101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800600"/>
                    <a:ext cx="861084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429000" y="990720"/>
                <a:ext cx="33796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⋮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3505320" y="2209680"/>
          <a:ext cx="3498840" cy="2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209680"/>
                    <a:ext cx="349884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429000" y="2514600"/>
          <a:ext cx="19432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514600"/>
                    <a:ext cx="19432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352680" y="4038480"/>
          <a:ext cx="32403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038480"/>
                    <a:ext cx="3240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95480" y="4419720"/>
          <a:ext cx="1922760" cy="80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4419720"/>
                    <a:ext cx="19227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882880" y="5450040"/>
          <a:ext cx="3848040" cy="14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82880" y="5450040"/>
                    <a:ext cx="38480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71600" y="18921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ktorski zap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640" y="5245200"/>
            <a:ext cx="28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vod funkcij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Rectangle 3"/>
          <p:cNvGraphicFramePr/>
          <p:nvPr/>
        </p:nvGraphicFramePr>
        <p:xfrm>
          <a:off x="4876920" y="4648320"/>
          <a:ext cx="4267080" cy="70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648320"/>
                    <a:ext cx="426708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04920" y="3581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1. METODA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778120" y="5600880"/>
          <a:ext cx="39243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8120" y="5600880"/>
                    <a:ext cx="39243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72120" y="6184800"/>
          <a:ext cx="23270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2120" y="6184800"/>
                    <a:ext cx="2327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422360" y="927000"/>
          <a:ext cx="27450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927000"/>
                    <a:ext cx="2745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651120" y="1555920"/>
                <a:ext cx="175284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2397240" y="4457880"/>
          <a:ext cx="4781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7240" y="4457880"/>
                    <a:ext cx="4781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106668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440" y="3898800"/>
            <a:ext cx="52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ži nejednak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410080"/>
            <a:ext cx="22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5943600" y="914400"/>
                <a:ext cx="950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Rectangle 3"/>
              <p:cNvSpPr txBox="1"/>
              <p:nvPr/>
            </p:nvSpPr>
            <p:spPr>
              <a:xfrm>
                <a:off x="7861320" y="900000"/>
                <a:ext cx="914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Rectangle 3"/>
              <p:cNvSpPr txBox="1"/>
              <p:nvPr/>
            </p:nvSpPr>
            <p:spPr>
              <a:xfrm>
                <a:off x="1816200" y="1343160"/>
                <a:ext cx="1082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5" name="Rectangle 3"/>
          <p:cNvGraphicFramePr/>
          <p:nvPr/>
        </p:nvGraphicFramePr>
        <p:xfrm>
          <a:off x="2897280" y="1758960"/>
          <a:ext cx="76824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1758960"/>
                    <a:ext cx="76824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186600" y="1736640"/>
          <a:ext cx="519120" cy="2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6600" y="1736640"/>
                    <a:ext cx="51912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668600" y="2316240"/>
          <a:ext cx="254304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8600" y="2316240"/>
                    <a:ext cx="25430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19120" y="3746520"/>
          <a:ext cx="644544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9120" y="3746520"/>
                    <a:ext cx="644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143000" y="4465800"/>
          <a:ext cx="7631280" cy="23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465800"/>
                    <a:ext cx="763128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853920"/>
            <a:ext cx="8191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dovoljan uslov konvergencij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                  i neka j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bar jedan                 .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Jednačina                ima jedinstveno reš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Niz definisan sa (4) konvergira 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313992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349560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.,2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4280" y="4130640"/>
            <a:ext cx="49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   . Tada važ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86080" y="4194000"/>
                <a:ext cx="533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24600" y="2197080"/>
                <a:ext cx="1666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067280" y="985680"/>
          <a:ext cx="5410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985680"/>
                    <a:ext cx="5410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992320" y="6186600"/>
          <a:ext cx="26654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92320" y="6186600"/>
                    <a:ext cx="26654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895320" y="932040"/>
          <a:ext cx="5079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5320" y="932040"/>
                    <a:ext cx="507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143080" y="1494000"/>
          <a:ext cx="508644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1494000"/>
                    <a:ext cx="50864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808280" y="3778200"/>
          <a:ext cx="5416560" cy="194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8280" y="3778200"/>
                    <a:ext cx="541656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Rectangle 3"/>
          <p:cNvGraphicFramePr/>
          <p:nvPr/>
        </p:nvGraphicFramePr>
        <p:xfrm>
          <a:off x="1144440" y="2706840"/>
          <a:ext cx="618336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Rectangle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4440" y="2706840"/>
                    <a:ext cx="6183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57200" y="927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Košijev, pa konvergira ka            . Ako u (4) pređemo na graničnu vrednost, zbog neprekidnosti preslikava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bi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1640" y="2209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nepokretna tačka preslikava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a time i rešenje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267984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9236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1640" y="574056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     i       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30080" y="5803920"/>
                <a:ext cx="3114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36520" y="5803920"/>
                <a:ext cx="4240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Rectangle 3"/>
              <p:cNvSpPr txBox="1"/>
              <p:nvPr/>
            </p:nvSpPr>
            <p:spPr>
              <a:xfrm>
                <a:off x="3828960" y="4127400"/>
                <a:ext cx="23018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Rectangle 3"/>
          <p:cNvGraphicFramePr/>
          <p:nvPr/>
        </p:nvGraphicFramePr>
        <p:xfrm>
          <a:off x="1333440" y="4751280"/>
          <a:ext cx="24300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4751280"/>
                    <a:ext cx="243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Rectangle 3"/>
          <p:cNvGraphicFramePr/>
          <p:nvPr/>
        </p:nvGraphicFramePr>
        <p:xfrm>
          <a:off x="1676520" y="4775040"/>
          <a:ext cx="26676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75040"/>
                    <a:ext cx="2667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Rectangle 3"/>
              <p:cNvSpPr txBox="1"/>
              <p:nvPr/>
            </p:nvSpPr>
            <p:spPr>
              <a:xfrm>
                <a:off x="1225440" y="5194440"/>
                <a:ext cx="5684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768920" y="5207040"/>
                <a:ext cx="714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79720" y="5918040"/>
                <a:ext cx="1276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3233880" y="1531800"/>
          <a:ext cx="261432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3880" y="1531800"/>
                    <a:ext cx="26143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57200" y="914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cena greške može se dobiti i preko poslednje iteracije              ( udžbenik, strana 1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960" y="31370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METODA NJUTN – KANTOROVI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632040"/>
            <a:ext cx="77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dat nelinearni sistem od dv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9800" y="4737240"/>
            <a:ext cx="8166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de su      i      neprekidno diferencijabilne funk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      tačno rešenje sistema (1), a    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ta aproksimacija rešenja,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jutn - Kantorovič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3T11:35:18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