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688-9214-48FD-B468-361199E1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F0B-095B-4E07-9C43-2D4C29FB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E4A-3C74-4EC3-9051-C006A6BE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3E1-68D7-4790-88D2-2A725395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6A9E-6418-424C-A818-04110EC1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1255-95E4-4FB4-AE61-89377184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2B9D-69D1-4C86-AE2C-B1DC46AB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6B10-4B0F-466C-B964-22E02662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1597-7DF4-4A3B-AC6A-76987E60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362-202F-42A0-9C78-0491E61E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B39C-09F7-4473-9733-C7A6A0AF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B42-2064-442D-A6FD-A7870514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2285-5FAF-4381-B3D1-9282DAA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88CD-B786-4DEB-91F8-0238361F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3AC9-6206-4872-A85E-25F3048C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F3F6-2E91-4116-9476-69158AE1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9766-8D49-4D36-B79E-D2815061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BBCF-CDB0-4B68-9736-855BA715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87A7-B6E4-433E-8F5B-36A7093E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43E7-0222-4A3A-B3A8-A3BC667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42D6-917B-422B-9FD4-F022293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8480-235D-441D-B41F-C57D0E1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183-5018-49BE-B8A2-0A7BADA5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472D-CC55-4CEF-9BE4-C9840148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2BD4-6A70-4DBF-8A72-C90AA32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DB2D-CD0F-4B2F-B9EE-3953857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D475-3228-46A5-A543-CA11F5B6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035D-B553-4AFB-A46C-6710D00E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3A59-0179-40D1-9A53-EA7E91CA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4631-6BE9-4BAF-9D61-6A050F02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60D-1EC5-434C-971A-EF81B1E4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261-9B5F-481E-BDC5-27F4959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06E-55FB-431D-BEE5-567167E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6AE-1E43-4663-9110-C23E2712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7F0-E053-42B7-9077-1B8BA65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03C-AB4E-4980-9FD1-D41F092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08E8-D38A-4CB7-8CCC-96BF4D675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1581-B0D5-4EFD-A9C1-AF4ECD231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DAE7-3B8D-4372-B2CA-AD69D4674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114300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Ako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36840" y="1371600"/>
          <a:ext cx="56880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71600"/>
                    <a:ext cx="5688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533520" y="2209680"/>
            <a:ext cx="160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38280" y="2590920"/>
                <a:ext cx="418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609480" y="3200400"/>
            <a:ext cx="8076960" cy="1518120"/>
            <a:chOff x="609480" y="3200400"/>
            <a:chExt cx="8076960" cy="1518120"/>
          </a:xfrm>
        </p:grpSpPr>
        <p:sp>
          <p:nvSpPr>
            <p:cNvPr id="253" name=""/>
            <p:cNvSpPr/>
            <p:nvPr/>
          </p:nvSpPr>
          <p:spPr>
            <a:xfrm>
              <a:off x="609480" y="3200400"/>
              <a:ext cx="12952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3. Ako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4" name=""/>
            <p:cNvGraphicFramePr/>
            <p:nvPr/>
          </p:nvGraphicFramePr>
          <p:xfrm>
            <a:off x="1668240" y="3429000"/>
            <a:ext cx="5576760" cy="69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68240" y="3429000"/>
                      <a:ext cx="5576760" cy="6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"/>
            <p:cNvSpPr/>
            <p:nvPr/>
          </p:nvSpPr>
          <p:spPr>
            <a:xfrm>
              <a:off x="685440" y="4114800"/>
              <a:ext cx="80010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i ako je        parna cifra primenjuje se prvo, a ako je        neparna cifra drugo pravilo (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avilo p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r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ne cifre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1599840" y="4114800"/>
                  <a:ext cx="3603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019560" y="4114800"/>
                  <a:ext cx="3603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800600"/>
            <a:ext cx="8153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5473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75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65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326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*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1143000"/>
            <a:ext cx="770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ška zaokrugljivanja broja nije veća 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791320" y="990720"/>
                <a:ext cx="1224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57200" y="1533600"/>
            <a:ext cx="115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4120" y="1893960"/>
            <a:ext cx="4392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ije došlo do povećanja. Ta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819520" y="2286000"/>
                <a:ext cx="396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09480" y="2666880"/>
            <a:ext cx="86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9480" y="3048120"/>
                <a:ext cx="792000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≤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533520" y="5254560"/>
            <a:ext cx="3959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ošlo je do povećanja. 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895480" y="5638680"/>
                <a:ext cx="4510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85800" y="6172200"/>
            <a:ext cx="86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0880" y="3129120"/>
            <a:ext cx="574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066680" y="3048120"/>
                <a:ext cx="18003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2809800" y="3129120"/>
            <a:ext cx="1944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trivijal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3200400"/>
            <a:ext cx="86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Rectangle 3"/>
              <p:cNvSpPr txBox="1"/>
              <p:nvPr/>
            </p:nvSpPr>
            <p:spPr>
              <a:xfrm>
                <a:off x="762120" y="1219320"/>
                <a:ext cx="769608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762120" y="1600200"/>
            <a:ext cx="7696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апсолутну и релативну грешку приближног бро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границе апсолутне и релативне грешке приближног бро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 цифре приближног броја су значај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 цифре приближног броја су сигур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правило заокругљи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ати да прво правило заокругљивања наступа ако је прва цифра која се одбацује мања од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ати да прво правило заокругљивања наступа ако је прва цифра која се одбацује већа од 5 или је једнака 5, а иза ње постоји цифра различита од н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ати да је број 0.1 бесконачно периодичан у бинарном запи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ни бројеви и греш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основним појмовима везаним за приближне бројеве и грешке приближних број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солутна и релативна грешка приближног бро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ојмом приближног броја у пракси и дефиницијом апсолутне и релативне грешке приближног број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округљивање број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равилима заокругљивања бројева уз илустрацију на конкретном приме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447920"/>
          <a:ext cx="8534160" cy="2555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солутна и релативна грешка приближног бро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ојмом приближног броја у пракси и дефиницијом апсолутне и релативне грешке приближног број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округљивање број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равилима заокругљивања бројева уз илустрацију на конкретном приме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228600" y="41148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2133360" cy="5713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685800" y="5181480"/>
            <a:ext cx="8001000" cy="1149120"/>
            <a:chOff x="685800" y="5181480"/>
            <a:chExt cx="8001000" cy="1149120"/>
          </a:xfrm>
        </p:grpSpPr>
        <p:sp>
          <p:nvSpPr>
            <p:cNvPr id="133" name=""/>
            <p:cNvSpPr/>
            <p:nvPr/>
          </p:nvSpPr>
          <p:spPr>
            <a:xfrm>
              <a:off x="685800" y="5181480"/>
              <a:ext cx="80010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Greška približnog broja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, kojim se zamenjuje tačan broj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je razli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3429000" y="518148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6934320" y="518148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4038840" y="5867280"/>
                  <a:ext cx="13716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sub>
                      </m:sSub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" name=""/>
          <p:cNvSpPr/>
          <p:nvPr/>
        </p:nvSpPr>
        <p:spPr>
          <a:xfrm>
            <a:off x="533520" y="914400"/>
            <a:ext cx="7848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bl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žan broj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nog broja      je broj koji s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“neznat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likuje od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k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isti se u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računavanjima umest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29000" y="91440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05120" y="129528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943600" y="129528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105520" y="914400"/>
                <a:ext cx="266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905120"/>
            <a:ext cx="7925040" cy="30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bližni brojevi se u praksi pojavljuj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zne matematičke konsta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zultati raznih merenja obeležja neprekidnog t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evi koji se upisuju u memoriju računara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 li ste zna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Broj x=0.1 ne može memorisati tačno ni jedan računar koji radi u binarnom brojnom sistem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57200" y="3352680"/>
            <a:ext cx="8229600" cy="1001520"/>
            <a:chOff x="457200" y="3352680"/>
            <a:chExt cx="8229600" cy="1001520"/>
          </a:xfrm>
        </p:grpSpPr>
        <p:sp>
          <p:nvSpPr>
            <p:cNvPr id="145" name=""/>
            <p:cNvSpPr/>
            <p:nvPr/>
          </p:nvSpPr>
          <p:spPr>
            <a:xfrm>
              <a:off x="457200" y="3352680"/>
              <a:ext cx="82296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Primer 1.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Odrediti granicu apsolutne greške broja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kao aproksim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broja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638680" y="3352680"/>
                  <a:ext cx="99072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π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4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1219320" y="4038480"/>
                  <a:ext cx="220032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41592655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48" name=""/>
          <p:cNvGraphicFramePr/>
          <p:nvPr/>
        </p:nvGraphicFramePr>
        <p:xfrm>
          <a:off x="457200" y="4419720"/>
          <a:ext cx="7648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19720"/>
                    <a:ext cx="7648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57200" y="5257800"/>
            <a:ext cx="7696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Napomen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anica apsolutne greške približnog broja se najčešće piše u obliku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467480" y="5562720"/>
                <a:ext cx="609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762120" y="6019920"/>
          <a:ext cx="14605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019920"/>
                    <a:ext cx="14605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077320" y="4572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800" y="914400"/>
            <a:ext cx="7772400" cy="2133720"/>
            <a:chOff x="685800" y="914400"/>
            <a:chExt cx="7772400" cy="2133720"/>
          </a:xfrm>
        </p:grpSpPr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4343400" y="1905120"/>
                  <a:ext cx="433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685800" y="914400"/>
              <a:ext cx="77724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psolutna greška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približnog broja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809880" y="1143000"/>
                  <a:ext cx="1981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762120" y="1905120"/>
              <a:ext cx="67816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Granica apsolutne greške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je broj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za koji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921120" y="2514600"/>
                  <a:ext cx="1758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e>
                      </m:d>
                      <m:r>
                        <m:t xml:space="preserve">≤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/>
                          </m:sSup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004760"/>
            <a:ext cx="8153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lativna greška približnog broja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količ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191120" y="9907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733920" y="1371600"/>
                <a:ext cx="1600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∗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57200" y="2452680"/>
            <a:ext cx="739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anica relativne grešk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e broj       za koji važ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245268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5562720" y="2443320"/>
          <a:ext cx="876240" cy="39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44332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57200" y="2909880"/>
            <a:ext cx="78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anica procentualne grešk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9880" y="2895480"/>
          <a:ext cx="136044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895480"/>
                    <a:ext cx="13604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352680" y="3276720"/>
          <a:ext cx="155916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276720"/>
                    <a:ext cx="15591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57200" y="3962520"/>
            <a:ext cx="8077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Primer 2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približna vrednost z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bližna vrednost z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Koja od ove dve aproksimacije je bol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?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62320" y="3962520"/>
                <a:ext cx="12826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791320" y="3992400"/>
                <a:ext cx="129528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238880" y="3962520"/>
                <a:ext cx="1224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743200" y="4343400"/>
                <a:ext cx="12193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57200" y="4876920"/>
            <a:ext cx="1219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00200" y="5029200"/>
                <a:ext cx="22096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01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67080" y="4800600"/>
                <a:ext cx="265428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/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/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5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62920" y="59436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276720"/>
            <a:ext cx="388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ranica promilne greš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649116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olja je druga aproksimaci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262160" y="3506760"/>
          <a:ext cx="53038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3506760"/>
                    <a:ext cx="53038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914400"/>
            <a:ext cx="8001000" cy="858600"/>
            <a:chOff x="457200" y="914400"/>
            <a:chExt cx="8001000" cy="858600"/>
          </a:xfrm>
        </p:grpSpPr>
        <p:sp>
          <p:nvSpPr>
            <p:cNvPr id="189" name=""/>
            <p:cNvSpPr/>
            <p:nvPr/>
          </p:nvSpPr>
          <p:spPr>
            <a:xfrm>
              <a:off x="457200" y="914400"/>
              <a:ext cx="80010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Definicija 4: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Cifra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približnog broja     je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načajna cifra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ko je različita od nule. Nula je značajna cifra ako se nalazi između cifara različitih od nule ili je desno u odnosu na sve značajne cif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286000" y="914400"/>
                  <a:ext cx="27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191120" y="91440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457200" y="1994040"/>
            <a:ext cx="77724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Primer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1.25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0.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3678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0.000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456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0.00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4030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46040" y="4853160"/>
            <a:ext cx="7289640" cy="838080"/>
            <a:chOff x="446040" y="4853160"/>
            <a:chExt cx="7289640" cy="838080"/>
          </a:xfrm>
        </p:grpSpPr>
        <p:sp>
          <p:nvSpPr>
            <p:cNvPr id="194" name=""/>
            <p:cNvSpPr/>
            <p:nvPr/>
          </p:nvSpPr>
          <p:spPr>
            <a:xfrm>
              <a:off x="446040" y="4853160"/>
              <a:ext cx="11430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 u="sng">
                  <a:solidFill>
                    <a:srgbClr val="000000"/>
                  </a:solidFill>
                  <a:uFillTx/>
                  <a:latin typeface="Arial"/>
                  <a:ea typeface="Lucida Sans Unicode"/>
                </a:rPr>
                <a:t>Primer 4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1309680" y="5292720"/>
                  <a:ext cx="6426000" cy="39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0570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761240" y="538632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648480" y="242568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57200" y="3002040"/>
            <a:ext cx="266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pis približnog bro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914400"/>
            <a:ext cx="2895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67000" y="1371600"/>
          <a:ext cx="671976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371600"/>
                    <a:ext cx="67197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33520" y="2057400"/>
            <a:ext cx="792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 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načajna cifra       približnog broja     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gurna cifr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ko 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352680" y="2057400"/>
                <a:ext cx="279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334120" y="2057400"/>
                <a:ext cx="253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590920" y="2666880"/>
                <a:ext cx="3352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sub>
                    </m:sSub>
                    <m:r>
                      <m:t xml:space="preserve">≤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ω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7" name=""/>
          <p:cNvGrpSpPr/>
          <p:nvPr/>
        </p:nvGrpSpPr>
        <p:grpSpPr>
          <a:xfrm>
            <a:off x="609480" y="3048120"/>
            <a:ext cx="6172200" cy="561960"/>
            <a:chOff x="609480" y="3048120"/>
            <a:chExt cx="6172200" cy="56196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609480" y="3048120"/>
                  <a:ext cx="10666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"/>
            <p:cNvSpPr/>
            <p:nvPr/>
          </p:nvSpPr>
          <p:spPr>
            <a:xfrm>
              <a:off x="1676160" y="3135240"/>
              <a:ext cx="51055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je sigurna u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užem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smislu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09480" y="3657600"/>
            <a:ext cx="6095880" cy="348840"/>
            <a:chOff x="609480" y="3657600"/>
            <a:chExt cx="6095880" cy="34884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609480" y="3657600"/>
                  <a:ext cx="99360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1600200" y="3657600"/>
              <a:ext cx="5105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je sigurna u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širem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smislu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28600" y="4191120"/>
            <a:ext cx="792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Primer 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rediti sigurne cifre broja                       kao aproksimacije br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924680" y="4267080"/>
          <a:ext cx="1028880" cy="2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267080"/>
                    <a:ext cx="10288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523880" y="4419720"/>
          <a:ext cx="449604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419720"/>
                    <a:ext cx="44960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57200" y="5562720"/>
            <a:ext cx="754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ifre 6,4 i 2 su sigurne u užem ( i širem ) smis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861160"/>
            <a:ext cx="80773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Napomen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za između broja sigurnih cifara i granice relativne greške data je 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[1]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om 1.3.1 na strani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486400" y="56386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psolutna i relativna greška približnog br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038480" y="4191120"/>
          <a:ext cx="114300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4191120"/>
                    <a:ext cx="11430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33520" y="5105520"/>
          <a:ext cx="312408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105520"/>
                    <a:ext cx="3124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257800" y="4952880"/>
          <a:ext cx="2514600" cy="5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4952880"/>
                    <a:ext cx="25146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okrugljivanje bro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905120"/>
            <a:ext cx="8001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 6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tupak zamene broja     brojem       sa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jim brojem značajnih cifara naziva s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okrugljiva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broj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ko se to izvodi u skladu sa pravilima zaokrugljiv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990720"/>
            <a:ext cx="7315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dat bro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25720" y="1447920"/>
                <a:ext cx="514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191120" y="19051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19051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10080" y="2133720"/>
                <a:ext cx="2667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80880" y="30481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avila za zaokrugljiva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114800"/>
            <a:ext cx="1218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 Ako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143000" y="4419720"/>
          <a:ext cx="615636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6156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57200" y="5257800"/>
            <a:ext cx="160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52480" y="5791320"/>
          <a:ext cx="523584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791320"/>
                    <a:ext cx="52358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457200" y="3429000"/>
            <a:ext cx="7848720" cy="638640"/>
            <a:chOff x="457200" y="3429000"/>
            <a:chExt cx="7848720" cy="638640"/>
          </a:xfrm>
        </p:grpSpPr>
        <p:sp>
          <p:nvSpPr>
            <p:cNvPr id="243" name=""/>
            <p:cNvSpPr/>
            <p:nvPr/>
          </p:nvSpPr>
          <p:spPr>
            <a:xfrm>
              <a:off x="457200" y="3463920"/>
              <a:ext cx="78487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Ako se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broj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amenjuj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brojem      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koji ima       cifara, to se čini na sledeći način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758960" y="342900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5137200" y="3500280"/>
                  <a:ext cx="304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919680" y="3429000"/>
                  <a:ext cx="2667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5T08:30:3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