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47.wmf" ContentType="image/x-wmf"/>
  <Override PartName="/ppt/media/image10.wmf" ContentType="image/x-wmf"/>
  <Override PartName="/ppt/media/image2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35.wmf" ContentType="image/x-wmf"/>
  <Override PartName="/ppt/media/image16.jpeg" ContentType="image/jpeg"/>
  <Override PartName="/ppt/media/image25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28.wmf" ContentType="image/x-wmf"/>
  <Override PartName="/ppt/media/image57.wmf" ContentType="image/x-wmf"/>
  <Override PartName="/ppt/media/image20.wmf" ContentType="image/x-wmf"/>
  <Override PartName="/ppt/media/image5.wmf" ContentType="image/x-wmf"/>
  <Override PartName="/ppt/media/image1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24C4-CB5E-4F26-AF9A-6D125972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D7BC-976D-40A8-8C6E-B6EC9CB6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761-BF5B-46A9-A549-3673531E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BBF1-A131-47D9-A854-A3B35D05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977B-130C-4CDB-BADF-FCA25512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9520-D894-4860-99EA-AFEB8F46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671E-CE4A-4DB8-9D05-05763364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02C7-EF26-4098-A118-A4849AF1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9F92-0125-46FA-B2CC-4398A226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8F92-D30B-4CBC-88F8-05937F38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2D4A-517D-4388-BD5A-B56770BB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4E1E-AC14-4315-B694-3161AE9E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CAB2-32B2-47A9-886B-DA338406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7F4C-1FFA-4E04-B276-84EF37D5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E885-F73B-45F7-B943-65E61FA8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EA55-93AB-450D-866B-CCCFC02A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D4FB-CDE0-44A9-B837-A09C3006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339C2-A545-48CD-AF16-A6690890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EE5FC-814A-417D-AE8C-859BBFA2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76C72-F0FD-492F-88F0-91F3AE45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3DA10-1E42-4FA9-B026-076120C1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001A5-8400-4C85-A1A7-9606805A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504F-4422-4604-8D6F-5CAC0FDE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EDD7A-E39A-4ED9-8A2D-9D402A8C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0B8AB-C488-43AD-A454-C2A99662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9DF52-3E8C-4520-8E2B-3D3C0543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01B26-4865-420B-B115-9A471737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A102F-AC04-4089-8445-3D68985A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014B0-59A1-446D-BEE5-5EF39626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5E849-6C86-4BC0-B36E-709B73A2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8922-61AA-4C17-8596-F2BAB6F5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5DD7-0810-47F5-8F40-992DA01B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3E9A-CD44-466B-A10C-B7B65825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7422-F25E-4378-8B5E-013C72CA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8310-97FD-44CC-883A-5CC287B2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A7F2-29FE-4D4A-A833-E7CB34AA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8046-37EB-45C3-91DF-B4F84326A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6336-CECE-47F2-9AD3-B37DDDC99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7F86-C87B-49FE-BA53-78AD2D42F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1.wmf"/><Relationship Id="rId2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1.wmf"/><Relationship Id="rId2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4.wmf"/><Relationship Id="rId2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0.wmf"/><Relationship Id="rId1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7200" y="99072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Teorema: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Neka                    gde je            interval izolacije korena jednačine                 Tada niz                           konvergira korenu jednačine i važ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286000" y="990720"/>
                <a:ext cx="11113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∈</m:t>
                    </m:r>
                    <m:r>
                      <m:t xml:space="preserve">C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191120" y="990720"/>
                <a:ext cx="63000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7" name=""/>
          <p:cNvGraphicFramePr/>
          <p:nvPr/>
        </p:nvGraphicFramePr>
        <p:xfrm>
          <a:off x="1579680" y="1303200"/>
          <a:ext cx="101592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9680" y="1303200"/>
                    <a:ext cx="101592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657600" y="1295280"/>
          <a:ext cx="159084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295280"/>
                    <a:ext cx="15908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013200" y="1865160"/>
                <a:ext cx="27842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ξ</m:t>
                        </m:r>
                      </m:e>
                    </m:d>
                    <m:r>
                      <m:t xml:space="preserve">≤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658880" y="3236760"/>
                <a:ext cx="5511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ξ</m:t>
                        </m:r>
                      </m:e>
                    </m:d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457200" y="2733840"/>
            <a:ext cx="27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etode zasnovane na sužavanju intervala (Metoda polovljenja intervala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 fals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Rectangle 3"/>
          <p:cNvGraphicFramePr/>
          <p:nvPr/>
        </p:nvGraphicFramePr>
        <p:xfrm>
          <a:off x="7391520" y="1295280"/>
          <a:ext cx="23796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1295280"/>
                    <a:ext cx="2379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362320" y="9144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METODA REGULA FAL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Rectangle 3"/>
          <p:cNvGraphicFramePr/>
          <p:nvPr/>
        </p:nvGraphicFramePr>
        <p:xfrm>
          <a:off x="4705200" y="4971960"/>
          <a:ext cx="4138920" cy="15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5200" y="4971960"/>
                    <a:ext cx="4138920" cy="15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Rectangle 3"/>
          <p:cNvGraphicFramePr/>
          <p:nvPr/>
        </p:nvGraphicFramePr>
        <p:xfrm>
          <a:off x="534960" y="1922400"/>
          <a:ext cx="5030640" cy="390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4960" y="1922400"/>
                    <a:ext cx="503064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etode zasnovane na sužavanju intervala (Metoda polovljenja intervala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 fals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Rectangle 3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640640" cy="5354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etode zasnovane na sužavanju intervala (Metoda polovljenja intervala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 fal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0880" y="914400"/>
            <a:ext cx="836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Teorema (o izboru fiksne tačke)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ka je                          neprekidno diferencijabilna na segmentu              i u svakoj tački                 postoji               Dalje, neka su ispunjeni uslov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952880" y="990720"/>
                <a:ext cx="13716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97" name=""/>
          <p:cNvGraphicFramePr/>
          <p:nvPr/>
        </p:nvGraphicFramePr>
        <p:xfrm>
          <a:off x="5791320" y="1219320"/>
          <a:ext cx="93348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219320"/>
                    <a:ext cx="93348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7543800" y="1219320"/>
                <a:ext cx="78732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0" name=""/>
          <p:cNvGrpSpPr/>
          <p:nvPr/>
        </p:nvGrpSpPr>
        <p:grpSpPr>
          <a:xfrm>
            <a:off x="361800" y="1946160"/>
            <a:ext cx="3716640" cy="377640"/>
            <a:chOff x="361800" y="1946160"/>
            <a:chExt cx="3716640" cy="377640"/>
          </a:xfrm>
        </p:grpSpPr>
        <p:sp>
          <p:nvSpPr>
            <p:cNvPr id="201" name=""/>
            <p:cNvSpPr/>
            <p:nvPr/>
          </p:nvSpPr>
          <p:spPr>
            <a:xfrm>
              <a:off x="361800" y="1946160"/>
              <a:ext cx="37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1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684360" y="1998360"/>
                  <a:ext cx="147312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3" name=""/>
          <p:cNvSpPr/>
          <p:nvPr/>
        </p:nvSpPr>
        <p:spPr>
          <a:xfrm>
            <a:off x="361800" y="2338560"/>
            <a:ext cx="80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          i             su stalnog znaka na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85800" y="2362320"/>
                <a:ext cx="6206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444680" y="2341440"/>
                <a:ext cx="731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267080" y="2362320"/>
                <a:ext cx="6098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376200" y="277164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u                            tačke za koje su zadovoljeni uslo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219320" y="2743200"/>
                <a:ext cx="16873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9" name=""/>
          <p:cNvGraphicFramePr/>
          <p:nvPr/>
        </p:nvGraphicFramePr>
        <p:xfrm>
          <a:off x="2430360" y="3257640"/>
          <a:ext cx="4273560" cy="43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0360" y="3257640"/>
                    <a:ext cx="42735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378000" y="3860640"/>
            <a:ext cx="76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da niz        definisan rekurentnom fomu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295280" y="3886200"/>
          <a:ext cx="49716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3886200"/>
                    <a:ext cx="4971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428920" y="4344840"/>
          <a:ext cx="3930480" cy="69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28920" y="4344840"/>
                    <a:ext cx="39304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93560" y="5167440"/>
            <a:ext cx="587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nvergira ka korenu                  jednačin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768760" y="5159520"/>
          <a:ext cx="1066680" cy="355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68760" y="5159520"/>
                    <a:ext cx="106668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851360" y="5187960"/>
                <a:ext cx="106992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7170840" y="3222720"/>
            <a:ext cx="8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84880" y="4383000"/>
            <a:ext cx="5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etode zasnovane na sužavanju intervala (Metoda polovljenja intervala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 fal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429000" y="1219320"/>
                <a:ext cx="6094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0880" y="914400"/>
            <a:ext cx="82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okaz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Pretpostavimo, određenosti rad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da je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011400" y="1389240"/>
          <a:ext cx="3465720" cy="37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1400" y="1389240"/>
                    <a:ext cx="3465720" cy="37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2084400" y="1987560"/>
          <a:ext cx="1055520" cy="3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4400" y="1987560"/>
                    <a:ext cx="105552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366840" y="1973160"/>
            <a:ext cx="692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 (1) sledi:                             i   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670200" y="1996920"/>
          <a:ext cx="1008000" cy="35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70200" y="1996920"/>
                    <a:ext cx="100800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366840" y="252576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što je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onotono rastuća biće            i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886200" y="2514600"/>
          <a:ext cx="698400" cy="36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86200" y="2514600"/>
                    <a:ext cx="6984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4724280" y="2514600"/>
          <a:ext cx="722520" cy="361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4280" y="2514600"/>
                    <a:ext cx="7225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352440" y="2975040"/>
            <a:ext cx="68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tematičkom indukcijom dokazaćemo 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517920" y="3484440"/>
          <a:ext cx="1933560" cy="351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17920" y="3484440"/>
                    <a:ext cx="193356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439560" y="4106880"/>
            <a:ext cx="41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=0 :                (tačn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150920" y="4125960"/>
          <a:ext cx="698400" cy="361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50920" y="4125960"/>
                    <a:ext cx="6984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423720" y="4673520"/>
            <a:ext cx="41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=k :                 (pretpostavka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203480" y="4686480"/>
          <a:ext cx="698400" cy="36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03480" y="4686480"/>
                    <a:ext cx="6984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425520" y="5195880"/>
            <a:ext cx="43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=k+1 :  ako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462480" y="5226120"/>
          <a:ext cx="2423880" cy="582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62480" y="5226120"/>
                    <a:ext cx="242388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3201840" y="6089760"/>
          <a:ext cx="2973600" cy="645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01840" y="6089760"/>
                    <a:ext cx="297360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395280" y="577692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nd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m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že dokazati 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9560" y="374508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j. da je niz        ograničen odoz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647720" y="3738600"/>
          <a:ext cx="465120" cy="350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647720" y="3738600"/>
                    <a:ext cx="4651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etode zasnovane na sužavanju intervala (Metoda polovljenja intervala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 fal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57200" y="914400"/>
            <a:ext cx="79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da je                                                            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469880" y="932040"/>
                <a:ext cx="37339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8" name=""/>
          <p:cNvGraphicFramePr/>
          <p:nvPr/>
        </p:nvGraphicFramePr>
        <p:xfrm>
          <a:off x="5316480" y="947880"/>
          <a:ext cx="996840" cy="2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6480" y="947880"/>
                    <a:ext cx="99684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380880" y="2286000"/>
            <a:ext cx="64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đuti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85920" y="2666880"/>
          <a:ext cx="708948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920" y="2666880"/>
                    <a:ext cx="70894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457200" y="5334120"/>
            <a:ext cx="81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rema induktivnoj hipote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52640" y="1743120"/>
            <a:ext cx="455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79560" y="1728720"/>
            <a:ext cx="59040" cy="428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473800" y="1724040"/>
            <a:ext cx="58680" cy="428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679840" y="1733400"/>
          <a:ext cx="295200" cy="36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79840" y="1733400"/>
                    <a:ext cx="29520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5380200" y="1770120"/>
          <a:ext cx="220680" cy="336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80200" y="1770120"/>
                    <a:ext cx="22068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3914640" y="1719360"/>
            <a:ext cx="59040" cy="428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817800" y="1714680"/>
          <a:ext cx="271440" cy="361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17800" y="1714680"/>
                    <a:ext cx="27144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3048120" y="4648320"/>
          <a:ext cx="2968560" cy="38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48120" y="4648320"/>
                    <a:ext cx="29685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380880" y="6019920"/>
            <a:ext cx="55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Kraj dela dokaza matematičkom indukcij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886200" y="5334120"/>
          <a:ext cx="768240" cy="395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5334120"/>
                    <a:ext cx="76824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etode zasnovane na sužavanju intervala (Metoda polovljenja intervala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 fal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3520" y="3733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unkcij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njen izv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u monotono rastući 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a, b], pa je                              i                                . Dakle                      p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6629400" y="3733920"/>
          <a:ext cx="1841400" cy="36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629400" y="3733920"/>
                    <a:ext cx="18414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762120" y="4038480"/>
          <a:ext cx="1941480" cy="362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2120" y="4038480"/>
                    <a:ext cx="194148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505320" y="4038480"/>
          <a:ext cx="1166760" cy="381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505320" y="4038480"/>
                    <a:ext cx="11667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914400"/>
            <a:ext cx="79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l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911320" y="1127160"/>
          <a:ext cx="3365640" cy="65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1320" y="1127160"/>
                    <a:ext cx="336564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500040" y="1944720"/>
            <a:ext cx="47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r je               Niz         je konvergentan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089000" y="1989000"/>
          <a:ext cx="932040" cy="3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9000" y="1989000"/>
                    <a:ext cx="9320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2405160" y="1936800"/>
          <a:ext cx="46512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5160" y="1936800"/>
                    <a:ext cx="4651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4640400" y="1930320"/>
          <a:ext cx="1238040" cy="52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0400" y="1930320"/>
                    <a:ext cx="12380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500040" y="24084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 tome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892680" y="2657520"/>
          <a:ext cx="1279440" cy="40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92680" y="2657520"/>
                    <a:ext cx="12794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542880" y="31780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elaskom u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na graničnu vrednost kad            dobija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910040" y="3273480"/>
          <a:ext cx="668520" cy="216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10040" y="3273480"/>
                    <a:ext cx="66852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139920" y="3718080"/>
          <a:ext cx="2527560" cy="70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39920" y="3718080"/>
                    <a:ext cx="252756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544680" y="447048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davde sledi da je               , a pošto je     jedini koren jednač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558880" y="4468680"/>
          <a:ext cx="889200" cy="351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58880" y="4468680"/>
                    <a:ext cx="8892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4621320" y="4464000"/>
          <a:ext cx="244440" cy="382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21320" y="4464000"/>
                    <a:ext cx="2444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7104240" y="4478400"/>
          <a:ext cx="975960" cy="352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104240" y="4478400"/>
                    <a:ext cx="9759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512640" y="4890960"/>
            <a:ext cx="75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, odnos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095480" y="4916520"/>
          <a:ext cx="566640" cy="330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095480" y="4916520"/>
                    <a:ext cx="5666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3801960" y="5235480"/>
          <a:ext cx="1143000" cy="474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801960" y="5235480"/>
                    <a:ext cx="114300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530280" y="5834160"/>
            <a:ext cx="47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raj dokaz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etode zasnovane na sužavanju intervala (Metoda polovljenja intervala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 fal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7192800" y="1197000"/>
          <a:ext cx="412920" cy="412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192800" y="1197000"/>
                    <a:ext cx="4129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80880" y="925560"/>
            <a:ext cx="74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cena greš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1535040"/>
            <a:ext cx="767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menom Lagranžove teoreme dobija 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550800" y="2178000"/>
          <a:ext cx="674676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2178000"/>
                    <a:ext cx="674676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492120" y="3103560"/>
          <a:ext cx="3430440" cy="7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2120" y="3103560"/>
                    <a:ext cx="343044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3881520" y="3105000"/>
          <a:ext cx="4889520" cy="6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1520" y="3105000"/>
                    <a:ext cx="488952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2265480" y="4143240"/>
          <a:ext cx="4579920" cy="75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5480" y="4143240"/>
                    <a:ext cx="457992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411120" y="4873680"/>
            <a:ext cx="61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 prethodnog sl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693880" y="5191200"/>
          <a:ext cx="338004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93880" y="5191200"/>
                    <a:ext cx="33800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396720" y="5904000"/>
            <a:ext cx="19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dnos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2817720" y="6105600"/>
          <a:ext cx="3059280" cy="75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17720" y="6105600"/>
                    <a:ext cx="305928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etode zasnovane na sužavanju intervala (Metoda polovljenja intervala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 fal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4"/>
          <p:cNvSpPr/>
          <p:nvPr/>
        </p:nvSpPr>
        <p:spPr>
          <a:xfrm>
            <a:off x="762120" y="1600200"/>
            <a:ext cx="8076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Т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а је интервал изолације корена једначи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вести довољне услове за изолацију кор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јаснити идеју методе половљења интерв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улисати и доказати теорему о конвергенцији методе половљења интерв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јаснити идеју мето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 Fal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улисати теорему о конвергенцији мето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 Falsi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таћи главне елементе доказа теореме о конвергенцији мето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 Falsi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вести формулу за оцену грешке мето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 Falsi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Metode zasnovane na sužavanju intervala </a:t>
            </a:r>
            <a:br>
              <a:rPr sz="2200"/>
            </a:b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(Metoda polovljenja intervala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gula falsi)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; </a:t>
            </a:r>
            <a:br>
              <a:rPr sz="2200"/>
            </a:b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Egzistencija rešenja. Izolacija koren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нети наслов тематске јединице која се обрађу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990720"/>
          <a:ext cx="8229600" cy="5548320"/>
        </p:xfrm>
        <a:graphic>
          <a:graphicData uri="http://schemas.openxmlformats.org/drawingml/2006/table">
            <a:tbl>
              <a:tblPr/>
              <a:tblGrid>
                <a:gridCol w="1066680"/>
                <a:gridCol w="1131840"/>
                <a:gridCol w="3486240"/>
                <a:gridCol w="25448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меричке методе за решавање нелинеарних једна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владавање методама за решавање нелинеарних једна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гзистенција решења. Изолација кор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препозна егзистенцију решења која ће бити илустрована графичким методама. Биће упознат са довољним условима изолованости корен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е засноване на сужавању интервала (Метода половљења интервала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 fals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суштином метода заснованих на сужавању интервала и биће способан да самостално примени методе половљења интервала 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 falsi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нети наслов тематске јединице која се обрађу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295280"/>
          <a:ext cx="8534160" cy="290340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гзистенција решења. Изолација кор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препозна егзистенцију решења која ће бити илустрована графичким методама. Биће упознат са довољним условима изолованости корен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е засноване на сужавању интервала (Метода половљења интервала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 fals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упознат са суштином метода заснованих на сужавању интервала и биће способан да самостално примени методе половљења интервала 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 falsi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80880" y="457200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Предав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gzistencija rešenja. Izolacija kor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066680"/>
            <a:ext cx="8534520" cy="41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vodne napome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znak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: 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– skup funkcija koje su neprekidne na ods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 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– skup funkcija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iji je prvi izvod neprekidan 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va Ko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ši – Bolcanova teore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Ako je funkcij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prekidna na odsečk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na krajevima odsečka ima vrednosti različitog znaka, tada postoji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takvo da je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c) 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incip matematičke indukcije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Tvrđenje T(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je tačno za svaki prirodan broj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ak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. T(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je tačno z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 (ili z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Iz pretpostavke da je T(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tačno za neko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sledi da je tačno i z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</a:rPr>
              <a:t>n=k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" name="Rectangle 3"/>
              <p:cNvSpPr txBox="1"/>
              <p:nvPr/>
            </p:nvSpPr>
            <p:spPr>
              <a:xfrm>
                <a:off x="3581280" y="914400"/>
                <a:ext cx="20545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Rectangle 3"/>
              <p:cNvSpPr txBox="1"/>
              <p:nvPr/>
            </p:nvSpPr>
            <p:spPr>
              <a:xfrm>
                <a:off x="779400" y="1476360"/>
                <a:ext cx="1371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5" name="Rectangle 3"/>
          <p:cNvGraphicFramePr/>
          <p:nvPr/>
        </p:nvGraphicFramePr>
        <p:xfrm>
          <a:off x="2141640" y="1697040"/>
          <a:ext cx="4984560" cy="29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1640" y="1697040"/>
                    <a:ext cx="498456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701640" y="4813200"/>
            <a:ext cx="8015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Etap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1) izolovanje rešenja (kore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) nalaženje približne vrednosti reš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gzistencija rešenja. Izolacija kor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3520" y="9907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Teorema: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Neka je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Tada postoji               za koje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Rectangle 3"/>
              <p:cNvSpPr txBox="1"/>
              <p:nvPr/>
            </p:nvSpPr>
            <p:spPr>
              <a:xfrm>
                <a:off x="2611440" y="1025640"/>
                <a:ext cx="248112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∈</m:t>
                    </m:r>
                    <m:r>
                      <m:t xml:space="preserve">C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Rectangle 3"/>
              <p:cNvSpPr txBox="1"/>
              <p:nvPr/>
            </p:nvSpPr>
            <p:spPr>
              <a:xfrm>
                <a:off x="6515280" y="1025640"/>
                <a:ext cx="85248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2" name="Rectangle 3"/>
          <p:cNvGraphicFramePr/>
          <p:nvPr/>
        </p:nvGraphicFramePr>
        <p:xfrm>
          <a:off x="1387440" y="1344600"/>
          <a:ext cx="83340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7440" y="1344600"/>
                    <a:ext cx="8334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Rectangle 3"/>
          <p:cNvGraphicFramePr/>
          <p:nvPr/>
        </p:nvGraphicFramePr>
        <p:xfrm>
          <a:off x="3206880" y="1779480"/>
          <a:ext cx="2987640" cy="202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6880" y="1779480"/>
                    <a:ext cx="2987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200400" y="4114800"/>
          <a:ext cx="3208320" cy="233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4114800"/>
                    <a:ext cx="3208320" cy="23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61880" y="371484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Jedinstvenost reše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011560" y="5954760"/>
                <a:ext cx="25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gzistencija rešenja. Izolacija kor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63244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a, b) – interval izolacije reš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914400"/>
            <a:ext cx="79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Teorema (o oceni greške):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Neka je     tačna, a       približna vrednost korena jednačine i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Rectangle 3"/>
              <p:cNvSpPr txBox="1"/>
              <p:nvPr/>
            </p:nvSpPr>
            <p:spPr>
              <a:xfrm>
                <a:off x="4419720" y="914400"/>
                <a:ext cx="2840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Rectangle 3"/>
              <p:cNvSpPr txBox="1"/>
              <p:nvPr/>
            </p:nvSpPr>
            <p:spPr>
              <a:xfrm>
                <a:off x="5638680" y="914400"/>
                <a:ext cx="29700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55" name="Rectangle 3"/>
          <p:cNvGraphicFramePr/>
          <p:nvPr/>
        </p:nvGraphicFramePr>
        <p:xfrm>
          <a:off x="2671920" y="1192320"/>
          <a:ext cx="452736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1920" y="1192320"/>
                    <a:ext cx="45273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519120" y="15429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Ta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622600" y="1917720"/>
                <a:ext cx="3449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ξ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</m:e>
                    </m:d>
                    <m:r>
                      <m:t xml:space="preserve">≤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9" name=""/>
          <p:cNvGraphicFramePr/>
          <p:nvPr/>
        </p:nvGraphicFramePr>
        <p:xfrm>
          <a:off x="2589120" y="3227400"/>
          <a:ext cx="3767400" cy="179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89120" y="3227400"/>
                    <a:ext cx="376740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859040" y="5883120"/>
                <a:ext cx="4626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590400" y="280044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3240" y="591516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zna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80880" y="-76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gzistencija rešenja. Izolacija kor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Lagranžova teore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76200" y="1511280"/>
            <a:ext cx="8529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NUMERIČKE METODE:   1) metode sužavanja interv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) metode zasnovane na teoremi o fiksnoj tač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etode zasnovane na sužavanju intervala (Metoda polovljenja intervala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 falsi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14400" y="9144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METODA POLOVLJENJA INTERV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Rectangle 3"/>
          <p:cNvGraphicFramePr/>
          <p:nvPr/>
        </p:nvGraphicFramePr>
        <p:xfrm>
          <a:off x="260280" y="1654200"/>
          <a:ext cx="4560840" cy="31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654200"/>
                    <a:ext cx="4560840" cy="31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Rectangle 3"/>
          <p:cNvGraphicFramePr/>
          <p:nvPr/>
        </p:nvGraphicFramePr>
        <p:xfrm>
          <a:off x="4921200" y="3575160"/>
          <a:ext cx="4035600" cy="305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21200" y="3575160"/>
                    <a:ext cx="4035600" cy="30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etode zasnovane na sužavanju intervala (Metoda polovljenja intervala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 fals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de</cp:lastModifiedBy>
  <dcterms:modified xsi:type="dcterms:W3CDTF">2010-04-16T08:08:47Z</dcterms:modified>
  <cp:revision>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