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9F59-7AF8-479D-A5DE-380889D9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2B0C-7D98-46EE-AC2D-ACB04E7A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80A9-7C48-47A3-88B4-5EBD7BD8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4BDA-85CC-4305-AD97-691750EB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7B0E-8099-4C12-A6EE-AEF3473A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41E0-C695-4B05-923A-ED8C5B80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157A-FAC0-4AA7-B656-1A754E87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37E8-E55C-4350-9777-14D0B7C0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653E-8BDC-430D-AA99-83C305DB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D9C2-0200-44B1-8932-83DFA2F8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B25E-82FA-45E5-AF7F-A8073C44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0F9A-F237-4F83-9D96-0D2E9526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8EDE-19FD-43EE-810D-7A99270B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BBDF-F49B-4BD2-BE71-191ABAAF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8A63-2162-491A-A41B-E229A14F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59F9-A361-4AC5-A5D7-C793595E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1F72-FE3F-41C1-BE11-5DBBC1A2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AC808-83B7-473F-87D8-D7B35041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FEA43-02A1-4A6E-8F4E-F4A8C783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F6CF2-E7F2-456E-9129-266A9B63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B0F5B-3F1A-4C41-AA96-18741CFD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BB262-35DA-4973-B8E7-96A41E65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2E54-DE56-4232-9358-020224D9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061E9-0A37-42DB-9B9F-B8EB719C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FCF4D-C063-4615-A143-206C9130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42416-FB74-4B2D-B916-3F871790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BE4B6-2CEC-474C-905F-A3AEC50D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BCF69-8E08-4402-AAD4-D359B92A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3DDDF-08C5-44AC-BC2A-71B8583A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BB770-9523-4D34-8635-550BDA74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2A5-F870-4BDF-9C9D-AE914F63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E95C-1B02-40E5-8D8C-7AEB7C93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DB4F-B037-475F-98E0-56C9CB3A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9065-8DB6-4376-8D4C-C39B84E6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EED0-4321-4ED1-B473-B84699DB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242E-ABD4-4D50-BD64-81622D97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3777-C593-4AD2-9CDB-D498571F7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B445-5546-4EE9-9BB2-5AA993B2D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C137-4B6B-477F-A4B2-55920E0A1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Rectangle 3"/>
          <p:cNvGraphicFramePr/>
          <p:nvPr/>
        </p:nvGraphicFramePr>
        <p:xfrm>
          <a:off x="3505320" y="3733920"/>
          <a:ext cx="22096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733920"/>
                    <a:ext cx="22096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33520" y="2666880"/>
            <a:ext cx="80136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bližno rešenje sistema (1) je tačka u kojoj funkcija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ostiže minimum, tj. određuje se iz uslova 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Rectangle 3"/>
              <p:cNvSpPr txBox="1"/>
              <p:nvPr/>
            </p:nvSpPr>
            <p:spPr>
              <a:xfrm>
                <a:off x="3276720" y="1447920"/>
                <a:ext cx="281916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533520" y="1676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unkcija odstup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određeni sistem linearnih algebarskih jednač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62120" y="160020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Т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 ког услова се изводе апроксимациони параметри у методи најмањих квадра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 је облик апроксимационе функције у општем случају линеарне апроксимациј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ко се долази до система нормалних једначина у општем случају линеарне апроксимациј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писати систем нормалних једначина у матричном обли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писати систем нормалних једначина ако је апроксимациона функција облика       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финисати функцију одступања за преодређени систем линеарних једначина. Који су услови за одређивање минимума те функциј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Rectangle 3"/>
          <p:cNvGraphicFramePr/>
          <p:nvPr/>
        </p:nvGraphicFramePr>
        <p:xfrm>
          <a:off x="2997360" y="4381560"/>
          <a:ext cx="1562040" cy="3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7360" y="4381560"/>
                    <a:ext cx="156204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966960"/>
          <a:ext cx="8534520" cy="5773680"/>
        </p:xfrm>
        <a:graphic>
          <a:graphicData uri="http://schemas.openxmlformats.org/drawingml/2006/table">
            <a:tbl>
              <a:tblPr/>
              <a:tblGrid>
                <a:gridCol w="1106640"/>
                <a:gridCol w="1173240"/>
                <a:gridCol w="3614760"/>
                <a:gridCol w="26398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оксимација функ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познавање са и овладавање проблема апроксимације функ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а најмањих квадр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укаже на проблем апроксимације функција, као и да објасни и примени методу најмањих квадрата на конкретном приме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оксимација полиноми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укаже на апроксимацију полиномима уз извођење одговарајућих система нормалних једначи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одређени системи линеарних једна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епозна преодређене системе и да на њима примени методу најмањих квадрата како би их реши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umerička anali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295280"/>
          <a:ext cx="8534160" cy="316728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а најмањих квадр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укаже на проблем апроксимације функција, као и да објасни и примени методу најмањих квадрата на конкретном приме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оксимација полиноми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укаже на апроксимацију полиномима уз извођење одговарајућих система нормалних једначи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одређени системи линеарних једна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удент ће бити способан да препозна преодређене системе и да на њима примени методу најмањих квадрата како би их реши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228600" y="50292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Преда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3809880" y="1523880"/>
            <a:ext cx="2625840" cy="648000"/>
            <a:chOff x="3809880" y="1523880"/>
            <a:chExt cx="2625840" cy="648000"/>
          </a:xfrm>
        </p:grpSpPr>
        <p:sp>
          <p:nvSpPr>
            <p:cNvPr id="132" name=""/>
            <p:cNvSpPr/>
            <p:nvPr/>
          </p:nvSpPr>
          <p:spPr>
            <a:xfrm>
              <a:off x="3944880" y="1801800"/>
              <a:ext cx="24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Rectangle 3"/>
                <p:cNvSpPr txBox="1"/>
                <p:nvPr/>
              </p:nvSpPr>
              <p:spPr>
                <a:xfrm>
                  <a:off x="3944880" y="1523880"/>
                  <a:ext cx="2259000" cy="30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     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4" name=""/>
            <p:cNvSpPr/>
            <p:nvPr/>
          </p:nvSpPr>
          <p:spPr>
            <a:xfrm>
              <a:off x="4334040" y="1523880"/>
              <a:ext cx="0" cy="5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5" name="Rectangle 3"/>
            <p:cNvGraphicFramePr/>
            <p:nvPr/>
          </p:nvGraphicFramePr>
          <p:xfrm>
            <a:off x="3809880" y="1828800"/>
            <a:ext cx="2116080" cy="343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" name="Rectangle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9880" y="1828800"/>
                      <a:ext cx="211608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37" name="Rectangle 3"/>
              <p:cNvSpPr txBox="1"/>
              <p:nvPr/>
            </p:nvSpPr>
            <p:spPr>
              <a:xfrm>
                <a:off x="2590920" y="1676520"/>
                <a:ext cx="9525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2998800" y="2387520"/>
            <a:ext cx="3581280" cy="2298240"/>
            <a:chOff x="2998800" y="2387520"/>
            <a:chExt cx="3581280" cy="2298240"/>
          </a:xfrm>
        </p:grpSpPr>
        <p:sp>
          <p:nvSpPr>
            <p:cNvPr id="139" name=""/>
            <p:cNvSpPr/>
            <p:nvPr/>
          </p:nvSpPr>
          <p:spPr>
            <a:xfrm flipV="1">
              <a:off x="3392280" y="2425320"/>
              <a:ext cx="0" cy="22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98800" y="434340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798720" y="2628360"/>
              <a:ext cx="1853640" cy="14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14560" y="2781360"/>
              <a:ext cx="4248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9960" y="3773520"/>
              <a:ext cx="4248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4680" y="3848040"/>
              <a:ext cx="4248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33680" y="2806560"/>
              <a:ext cx="4248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90960" y="3314520"/>
              <a:ext cx="4248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09720" y="3314520"/>
              <a:ext cx="4248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Rectangle 3"/>
                <p:cNvSpPr txBox="1"/>
                <p:nvPr/>
              </p:nvSpPr>
              <p:spPr>
                <a:xfrm>
                  <a:off x="6345000" y="4473360"/>
                  <a:ext cx="186840" cy="20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9" name=""/>
            <p:cNvGraphicFramePr/>
            <p:nvPr/>
          </p:nvGraphicFramePr>
          <p:xfrm>
            <a:off x="3124080" y="2387520"/>
            <a:ext cx="204120" cy="244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2387520"/>
                      <a:ext cx="204120" cy="24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3160440" y="4400280"/>
            <a:ext cx="185400" cy="262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60440" y="4400280"/>
                      <a:ext cx="185400" cy="26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265560" y="5353200"/>
                <a:ext cx="2044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735200" y="5805360"/>
                <a:ext cx="26820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89080" y="6108840"/>
                <a:ext cx="70768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471600" y="5003640"/>
            <a:ext cx="6908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proks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ci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funk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7880" y="5753160"/>
            <a:ext cx="7874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stupanje      od vrednosti u tabeli meri se nor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najmanjih kvadr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06668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7.1 METODA NAJMANJIH KVAD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Rectangle 3"/>
              <p:cNvSpPr txBox="1"/>
              <p:nvPr/>
            </p:nvSpPr>
            <p:spPr>
              <a:xfrm>
                <a:off x="2438280" y="838080"/>
                <a:ext cx="46609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Rectangle 3"/>
              <p:cNvSpPr txBox="1"/>
              <p:nvPr/>
            </p:nvSpPr>
            <p:spPr>
              <a:xfrm>
                <a:off x="800280" y="1930320"/>
                <a:ext cx="5713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Rectangle 3"/>
              <p:cNvSpPr txBox="1"/>
              <p:nvPr/>
            </p:nvSpPr>
            <p:spPr>
              <a:xfrm>
                <a:off x="2521080" y="2162160"/>
                <a:ext cx="38685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Rectangle 3"/>
              <p:cNvSpPr txBox="1"/>
              <p:nvPr/>
            </p:nvSpPr>
            <p:spPr>
              <a:xfrm>
                <a:off x="2249640" y="3665520"/>
                <a:ext cx="3236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4" name=""/>
          <p:cNvGraphicFramePr/>
          <p:nvPr/>
        </p:nvGraphicFramePr>
        <p:xfrm>
          <a:off x="3537000" y="4862520"/>
          <a:ext cx="1798560" cy="5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7000" y="4862520"/>
                    <a:ext cx="17985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887480" y="5764320"/>
                <a:ext cx="5186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893960" y="6170760"/>
                <a:ext cx="21146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957320" y="1382760"/>
            <a:ext cx="5854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 nije pogodno zbog nediferencijabilnosti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124680" y="1398600"/>
          <a:ext cx="31428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24680" y="1398600"/>
                    <a:ext cx="3142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407880" y="1890720"/>
            <a:ext cx="3632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Za           koristi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08080" y="2894040"/>
            <a:ext cx="622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 funkcija kvadratnog odstupanja – nije norma 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0840" y="3389400"/>
            <a:ext cx="81277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etoda u kojoj se aproksimacioni parametri                određuju iz uslova da vrednost funkcije       bude minimalna naziva s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etoda najmanjih kvadrata (MNK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937040" y="3378240"/>
          <a:ext cx="965160" cy="40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7040" y="3378240"/>
                    <a:ext cx="96516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382680" y="4430880"/>
            <a:ext cx="8165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ophodan ( i dovoljan ) uslov minimum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5433840"/>
            <a:ext cx="5918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šti slučaj linearne aproksimaci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75040" y="6157800"/>
            <a:ext cx="3594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unapred zadane funk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najmanjih kvadr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670120" y="1704960"/>
                <a:ext cx="48373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δ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⋯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644920" y="2886120"/>
                <a:ext cx="46861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l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324240" y="1184400"/>
                <a:ext cx="2647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485640" y="905040"/>
            <a:ext cx="6782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k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2280" y="1514520"/>
            <a:ext cx="1422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ada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Rectangle 3"/>
          <p:cNvGraphicFramePr/>
          <p:nvPr/>
        </p:nvGraphicFramePr>
        <p:xfrm>
          <a:off x="1674720" y="4648320"/>
          <a:ext cx="512928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4720" y="4648320"/>
                    <a:ext cx="512928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914400" y="4587840"/>
            <a:ext cx="7315200" cy="10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14720" y="5680080"/>
            <a:ext cx="3429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 sistem normalnih jednačin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najmanjih kvadr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781280" y="1733400"/>
          <a:ext cx="594828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1733400"/>
                    <a:ext cx="594828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524400" y="3289320"/>
                <a:ext cx="2395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3" name=""/>
          <p:cNvGraphicFramePr/>
          <p:nvPr/>
        </p:nvGraphicFramePr>
        <p:xfrm>
          <a:off x="4079880" y="1066680"/>
          <a:ext cx="160668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9880" y="1066680"/>
                    <a:ext cx="16066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457200" y="990720"/>
            <a:ext cx="2666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atrični zapis sist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3987720"/>
            <a:ext cx="8381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7.2. APROKSIMACIJA POLINOM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4800" y="4451400"/>
          <a:ext cx="242244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4800" y="4451400"/>
                    <a:ext cx="24224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89320" y="4759200"/>
                <a:ext cx="28004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200" name=""/>
          <p:cNvGraphicFramePr/>
          <p:nvPr/>
        </p:nvGraphicFramePr>
        <p:xfrm>
          <a:off x="3357720" y="5478480"/>
          <a:ext cx="2571480" cy="13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7720" y="5478480"/>
                    <a:ext cx="257148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482760" y="5130720"/>
            <a:ext cx="4356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 ovom slučaju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066680"/>
            <a:ext cx="1828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3352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sist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proksimacija polinom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567240" y="5310360"/>
                <a:ext cx="22320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x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07" name=""/>
          <p:cNvGraphicFramePr/>
          <p:nvPr/>
        </p:nvGraphicFramePr>
        <p:xfrm>
          <a:off x="3300480" y="957240"/>
          <a:ext cx="1359000" cy="3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0480" y="957240"/>
                    <a:ext cx="135900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438280" y="1422360"/>
                <a:ext cx="4275360" cy="234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⋮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nary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10" name=""/>
          <p:cNvGraphicFramePr/>
          <p:nvPr/>
        </p:nvGraphicFramePr>
        <p:xfrm>
          <a:off x="3548160" y="4227480"/>
          <a:ext cx="1955880" cy="4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48160" y="4227480"/>
                    <a:ext cx="195588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380880" y="990720"/>
            <a:ext cx="8191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stem normalnih jednačina                       ima ob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8280" y="3936960"/>
            <a:ext cx="5092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pecijalno, ako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8280" y="4724280"/>
            <a:ext cx="3505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stem gla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proksimacija polinom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754200" y="2951280"/>
            <a:ext cx="8178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stem (1) ne mora biti saglas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059520" y="3832200"/>
          <a:ext cx="2162160" cy="12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9520" y="3832200"/>
                    <a:ext cx="216216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9" name="Rectangle 3"/>
              <p:cNvSpPr txBox="1"/>
              <p:nvPr/>
            </p:nvSpPr>
            <p:spPr>
              <a:xfrm>
                <a:off x="2971800" y="1523880"/>
                <a:ext cx="317664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⋮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 flipV="1">
            <a:off x="1490760" y="3402000"/>
            <a:ext cx="0" cy="222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58760" y="5332320"/>
            <a:ext cx="347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84320" y="4392720"/>
            <a:ext cx="307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033560" y="3719520"/>
            <a:ext cx="248904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41440" y="3693960"/>
            <a:ext cx="2222640" cy="207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90760" y="425304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97120" y="42656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666160" y="4227480"/>
            <a:ext cx="4284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Rectangle 3"/>
              <p:cNvSpPr txBox="1"/>
              <p:nvPr/>
            </p:nvSpPr>
            <p:spPr>
              <a:xfrm>
                <a:off x="762120" y="4114800"/>
                <a:ext cx="2347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29" name=""/>
          <p:cNvGraphicFramePr/>
          <p:nvPr/>
        </p:nvGraphicFramePr>
        <p:xfrm>
          <a:off x="822240" y="4826160"/>
          <a:ext cx="236520" cy="42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240" y="4826160"/>
                    <a:ext cx="23652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4530600" y="5676840"/>
          <a:ext cx="23652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30600" y="5676840"/>
                    <a:ext cx="23652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579760" y="5283360"/>
          <a:ext cx="307800" cy="37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79760" y="5283360"/>
                    <a:ext cx="30780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1173240" y="3952800"/>
          <a:ext cx="331560" cy="426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73240" y="3952800"/>
                    <a:ext cx="3315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419720" y="5369040"/>
          <a:ext cx="236520" cy="261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5369040"/>
                    <a:ext cx="236520" cy="2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1235160" y="3352680"/>
          <a:ext cx="260280" cy="309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35160" y="3352680"/>
                    <a:ext cx="2602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0" y="982800"/>
            <a:ext cx="9144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7.3. PREODREĐENI SISTEM LINEARNIH ALGEBARSKIH JEDNAČ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37480" y="2087640"/>
            <a:ext cx="698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3808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određeni sistem linearnih algebarskih jednač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gor</cp:lastModifiedBy>
  <dcterms:modified xsi:type="dcterms:W3CDTF">2010-04-16T13:54:37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