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019A-2883-4A18-9491-E6107693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986-4285-4697-AB6F-57CCEE69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3E4-1D4F-4B23-8587-81F7316D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351-4CA1-42F3-96D1-2B6E20F1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0728-C699-4C40-A876-7ECE462A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A745-A492-4506-A0F4-4ADDE84A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331B-E926-4419-BAD7-E94B9A99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47D3-656D-4BB6-8C2E-0228153A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357B-AB44-4653-A2A6-A4D0FFB7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7BFC-3913-482C-977F-8E497AAB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4831-A833-495E-8378-6E52A193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16B-DD0A-4C38-A6E1-158703C5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2317-52DB-405D-8955-45CD3575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813F-90AE-437D-B486-1E849F51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6A1A-FE8F-46DD-B9A0-147F3140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510E-2A46-4FC5-9B61-1E855C72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59DA-2924-42DB-BD13-F3F5B894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0E9A-61D5-49DA-8F41-4AF19374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A381C-7B4E-443A-89D1-A96C2BB5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997D-629F-4737-88D5-5FD0A6BD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C275A-8916-4807-8DB8-B5D51615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5A6E-FF74-4292-92BF-36A3AED9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0DA-B0CA-46F9-AE4B-45DDA879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C956D-B1A0-4441-BB08-4AAC8DA8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5E4D-8FFE-4D0A-96C5-018F5998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9269C-AA1C-43BC-BF44-BC8E13BB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55D6-772B-4E7D-9CF4-ED13EB3C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A7AC-DE79-45D5-A110-DEA2F58E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523B-3CB5-4312-8563-196DE82F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06315-F835-4B69-AC0A-FCE2205A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357F-2B40-4913-A757-E4EDD5A3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78C-F998-473A-B75E-C22CDB4A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A95-E75C-48EC-8C50-DABC91E5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30A-7C51-4F92-8E50-8D77496B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94A-ED26-46F1-9BBF-CAA982EE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D51E-EEB2-4722-9A82-9C1B2822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6C0A-5612-49CB-8C60-3F655E229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FB83-B899-47DA-A137-39F657FA4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E9C4-F8C7-4F0E-B2D5-D98ACC8C8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Rectangle 3"/>
              <p:cNvSpPr txBox="1"/>
              <p:nvPr/>
            </p:nvSpPr>
            <p:spPr>
              <a:xfrm>
                <a:off x="2089080" y="905040"/>
                <a:ext cx="2412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Rectangle 3"/>
              <p:cNvSpPr txBox="1"/>
              <p:nvPr/>
            </p:nvSpPr>
            <p:spPr>
              <a:xfrm>
                <a:off x="5465880" y="1898640"/>
                <a:ext cx="4442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Rectangle 3"/>
              <p:cNvSpPr txBox="1"/>
              <p:nvPr/>
            </p:nvSpPr>
            <p:spPr>
              <a:xfrm>
                <a:off x="2970360" y="1289160"/>
                <a:ext cx="3563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…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Rectangle 3"/>
              <p:cNvSpPr txBox="1"/>
              <p:nvPr/>
            </p:nvSpPr>
            <p:spPr>
              <a:xfrm>
                <a:off x="4457880" y="1636560"/>
                <a:ext cx="7920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803680" y="1873080"/>
                <a:ext cx="12348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562720" y="990720"/>
                <a:ext cx="4824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69880" y="2660760"/>
                <a:ext cx="4921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39640" y="2952720"/>
                <a:ext cx="5479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61960" y="3676680"/>
                <a:ext cx="806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1295280" y="4191120"/>
          <a:ext cx="86688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91120"/>
                    <a:ext cx="86688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876920" y="4114800"/>
          <a:ext cx="353520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114800"/>
                    <a:ext cx="35352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25800" y="4778280"/>
          <a:ext cx="153684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5800" y="4778280"/>
                    <a:ext cx="15368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95280" y="5486400"/>
          <a:ext cx="890640" cy="31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5486400"/>
                    <a:ext cx="89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125880" y="5904000"/>
          <a:ext cx="342432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5880" y="5904000"/>
                    <a:ext cx="34243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380880" y="914400"/>
            <a:ext cx="8305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okaz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eka je     proizvoljan, ali fiksiran element          i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5680" y="1600200"/>
            <a:ext cx="81658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de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konstanta određena tako da je             . Za tako izabranu konstantu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funkci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m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 nule                     na segmentu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3080" y="2247840"/>
            <a:ext cx="7721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olova teorema nam d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1960" y="2603520"/>
            <a:ext cx="840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        ima bar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 nulu na seg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222800" y="2662200"/>
                <a:ext cx="4446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93760" y="2909880"/>
            <a:ext cx="840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        ima bar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 nule na seg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237200" y="2955960"/>
                <a:ext cx="4442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656240" y="3705120"/>
                <a:ext cx="4442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 rot="5400000">
            <a:off x="328680" y="3340080"/>
            <a:ext cx="419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5200" y="3660840"/>
            <a:ext cx="840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            ima bar jednu nulu na seg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3080" y="4140360"/>
            <a:ext cx="8013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toji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kvo da je                      tj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276720" y="4114800"/>
          <a:ext cx="1301760" cy="374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4114800"/>
                    <a:ext cx="130176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30120" y="4584600"/>
            <a:ext cx="3645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akle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5680" y="5435640"/>
            <a:ext cx="680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 neko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Iz prethodnog sledi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cena greške polinomske interpol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762120" y="1600200"/>
            <a:ext cx="77724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подељене разлике првог, другог 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– тог реда у чвору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зит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ко вредности функције у чворов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о гласи Њутнов интерполациони полином за нееквидистантне чворов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главне извођења формуле за Њутнов интерполациони полином за нееквидистантне чвор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966960"/>
          <a:ext cx="8534520" cy="5670360"/>
        </p:xfrm>
        <a:graphic>
          <a:graphicData uri="http://schemas.openxmlformats.org/drawingml/2006/table">
            <a:tbl>
              <a:tblPr/>
              <a:tblGrid>
                <a:gridCol w="1106640"/>
                <a:gridCol w="1173240"/>
                <a:gridCol w="3614760"/>
                <a:gridCol w="26398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номска интерпол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ознавање са и овладавање проблема полиномске интерпол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ељене разлике. Њутнов интерполациони полином са подељеним разлик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Њутнов интерполациони полином са подељеним разликама, као и да га примени на решавање конкретних пробл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а грешке полиномске интерпол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теоремом о оцени грешке полиномске интерполације и биће способан да теорему приме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294948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ељене разлике. Њутнов интерполациони полином са подељеним разлик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Њутнов интерполациони полином са подељеним разликама, као и да га примени на решавање конкретних пробл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а грешке полиномске интерпол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теоремом о оцени грешке полиномске интерполације и биће способан да теорему приме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80880" y="48006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VODNE NAPOM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67652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olova teorema: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funkcija f(x) neprekidna na odsečk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,b]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erencijabilna na intervalu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ako je f(a) = f(b), onda postoji tačka                     takva d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Rectangle 3"/>
          <p:cNvGraphicFramePr/>
          <p:nvPr/>
        </p:nvGraphicFramePr>
        <p:xfrm>
          <a:off x="7543800" y="1981080"/>
          <a:ext cx="1009800" cy="3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1981080"/>
                    <a:ext cx="10098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Rectangle 3"/>
          <p:cNvGraphicFramePr/>
          <p:nvPr/>
        </p:nvGraphicFramePr>
        <p:xfrm>
          <a:off x="1523880" y="2297160"/>
          <a:ext cx="106992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297160"/>
                    <a:ext cx="106992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80880" y="3048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osledica Rolove teoreme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zmeđu svake dve susedne nule diferencijabilne funkcije postoji bar jedna nula izvoda te funkci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914400"/>
            <a:ext cx="8686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6.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JUTNOV INTERPOLACIONI POLINOM ZA NEEKVIDISTANTNE ČVO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720" y="1397160"/>
            <a:ext cx="2247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eljene raz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982880" y="1755720"/>
                <a:ext cx="4192560" cy="15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⋮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444920" y="1854360"/>
            <a:ext cx="2692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( prvog reda u čvoru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703920" y="1843200"/>
                <a:ext cx="2286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186600" y="2757600"/>
            <a:ext cx="262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( k-tog reda u čvoru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8393040" y="2735280"/>
                <a:ext cx="254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647640" y="3225960"/>
            <a:ext cx="814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m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 veza podeljenih razlika i vrednosti funkcije 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886040" y="3565440"/>
                <a:ext cx="4979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49160" y="4140360"/>
            <a:ext cx="1257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p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862280" y="4518000"/>
                <a:ext cx="56530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774720" y="6045120"/>
            <a:ext cx="6540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( Dokaz leme možete pogledati u udžbeniku na strani 12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deljene razlike; Njutnov interpolacioni polinom sa podeljenim razli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12800" y="3179880"/>
                <a:ext cx="5925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3" name=""/>
          <p:cNvGraphicFramePr/>
          <p:nvPr/>
        </p:nvGraphicFramePr>
        <p:xfrm>
          <a:off x="1392120" y="4978440"/>
          <a:ext cx="641376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4978440"/>
                    <a:ext cx="641376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85800" y="2590920"/>
            <a:ext cx="4025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lik Njutnovog polino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586320" y="4021200"/>
                <a:ext cx="126360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391520" y="4038480"/>
                <a:ext cx="4824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38080" y="4267080"/>
                <a:ext cx="9702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343400" y="4267080"/>
                <a:ext cx="49536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0" name=""/>
          <p:cNvGraphicFramePr/>
          <p:nvPr/>
        </p:nvGraphicFramePr>
        <p:xfrm>
          <a:off x="5791320" y="4267080"/>
          <a:ext cx="53316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267080"/>
                    <a:ext cx="5331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962520" y="4495680"/>
          <a:ext cx="134136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4495680"/>
                    <a:ext cx="1341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495360" y="3987720"/>
            <a:ext cx="84200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Teorema 1.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eka je funkcija                     definisana na segmentu          i neka su                različite tačke segmenta        . Polinom          stepen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kojim se funkci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polira u čvorovima                       je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990720"/>
            <a:ext cx="439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sobine podeljenih razli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39960" y="1276200"/>
          <a:ext cx="5999040" cy="41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9960" y="1276200"/>
                    <a:ext cx="599904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22440" y="1917720"/>
            <a:ext cx="7886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 Podeljena razlika je simetrična funkcija čvorova, što znači da redosled čvorova nije bi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deljene razlike; Njutnov interpolacioni polinom sa podeljenim razli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990720"/>
            <a:ext cx="82170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okaz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Razmotrimo grešku interpolacije Lagranžovim interpolacionim polinomom stepen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,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j. razmotrimo razl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Rectangle 3"/>
              <p:cNvSpPr txBox="1"/>
              <p:nvPr/>
            </p:nvSpPr>
            <p:spPr>
              <a:xfrm>
                <a:off x="465120" y="1555920"/>
                <a:ext cx="7923240" cy="17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nary>
                              <m:naryPr>
                                <m:chr m:val="∑"/>
                              </m:naryPr>
                              <m:sub/>
                              <m:sup>
                                <m:r>
                                  <m:t xml:space="preserve">k</m:t>
                                </m:r>
                              </m:sup>
                              <m:e/>
                            </m:nary>
                          </m:e>
                          <m:lim>
                            <m:r>
                              <m:t xml:space="preserve">k</m:t>
                            </m:r>
                          </m:lim>
                        </m:limLow>
                      </m:e>
                    </m:eqAr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/>
                          <m:sup>
                            <m:r>
                              <m:t xml:space="preserve">k</m:t>
                            </m:r>
                          </m:sup>
                          <m:e/>
                        </m:nary>
                      </m:e>
                      <m:e/>
                      <m:e>
                        <m:r>
                          <m:t xml:space="preserve">k</m:t>
                        </m:r>
                      </m:e>
                      <m:e/>
                      <m:e/>
                      <m:e/>
                    </m:d>
                    <m:r>
                      <m:t xml:space="preserve">=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Rectangle 3"/>
              <p:cNvSpPr txBox="1"/>
              <p:nvPr/>
            </p:nvSpPr>
            <p:spPr>
              <a:xfrm>
                <a:off x="1241280" y="3468600"/>
                <a:ext cx="1371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095960" y="3422520"/>
                <a:ext cx="11862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74" name=""/>
          <p:cNvGraphicFramePr/>
          <p:nvPr/>
        </p:nvGraphicFramePr>
        <p:xfrm>
          <a:off x="1143000" y="3733920"/>
          <a:ext cx="364176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733920"/>
                    <a:ext cx="36417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133800" y="4521240"/>
                <a:ext cx="26859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354560" y="4930920"/>
                <a:ext cx="903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1640" y="5316480"/>
                <a:ext cx="1943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092400" y="5824440"/>
                <a:ext cx="35686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93840" y="3467160"/>
            <a:ext cx="8242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azlika                       je polinom stepen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+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čije su nule čvorovi                    jer je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8280" y="4203720"/>
            <a:ext cx="8077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bog tog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420040" y="3048120"/>
            <a:ext cx="482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408880" y="4459320"/>
            <a:ext cx="482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440" y="4952880"/>
            <a:ext cx="842004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ko poslednju jednakost napišemo za               i uzmemo u obzir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bićem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8280" y="6307200"/>
            <a:ext cx="8064360" cy="391680"/>
            <a:chOff x="368280" y="6307200"/>
            <a:chExt cx="8064360" cy="39168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3892680" y="6307200"/>
                  <a:ext cx="81900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>
              <a:off x="368280" y="6350040"/>
              <a:ext cx="80643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oredeći ovu jednakost sa (1), za              , dobijam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deljene razlike; Njutnov interpolacioni polinom sa podeljenim razli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225960" y="1108080"/>
                <a:ext cx="26398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73360" y="2646360"/>
                <a:ext cx="3981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22400" y="4076640"/>
                <a:ext cx="56214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19160" y="5389560"/>
                <a:ext cx="5639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…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8394840" y="266760"/>
            <a:ext cx="495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360" y="1981080"/>
            <a:ext cx="7950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z (2) i (3) sledi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2760" y="3289320"/>
            <a:ext cx="3301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z jednak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7960" y="4711680"/>
            <a:ext cx="1549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ledi d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deljene razlike; Njutnov interpolacioni polinom sa podeljenim razlik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58720" y="1346040"/>
            <a:ext cx="8331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6.4 OCENA GREŠKE POLINOMSKE INTERPOLACI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1955880"/>
            <a:ext cx="5182560" cy="360360"/>
            <a:chOff x="762120" y="1955880"/>
            <a:chExt cx="5182560" cy="360360"/>
          </a:xfrm>
        </p:grpSpPr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249280" y="1960560"/>
                  <a:ext cx="36954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[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]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"/>
            <p:cNvSpPr/>
            <p:nvPr/>
          </p:nvSpPr>
          <p:spPr>
            <a:xfrm>
              <a:off x="762120" y="1955880"/>
              <a:ext cx="14727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6299280" y="1955880"/>
            <a:ext cx="647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T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1680" y="2527200"/>
            <a:ext cx="83055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Teorema 2.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k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sad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ži svih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 čvorova interpolacije             . Neka je, dalje,                   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za proizvoljno              postoji                takvo da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541680" y="2549520"/>
                <a:ext cx="47484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842240" y="2523960"/>
                <a:ext cx="8254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17600" y="2803680"/>
                <a:ext cx="1150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638680" y="2819520"/>
                <a:ext cx="8146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162920" y="2819520"/>
                <a:ext cx="981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641680" y="4365720"/>
                <a:ext cx="30510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cena greške polinomske interpol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16T13:46:49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