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325B-F656-4F0B-B104-0272950F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F2B-8D14-4CFB-AD3B-D731F152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182-F473-421F-A7FD-1C1D65E0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96BB-F7DE-40AD-A19D-A2923140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F9CB-D02D-4330-A8C2-2D55E751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DA9A-FA8F-4ABA-B482-184F5DD1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DB11-DAEB-4F27-8ACE-3A3C3956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1CFE-08C3-45FA-AE2D-FE5B6636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CAB0-8E60-4B76-AA60-19CD077F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CD05-56B0-476B-9BCA-F2774127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BB2F-6838-4B48-9817-6FB6C13A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321-526C-427B-91CC-AEF42FCA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C9F6-C8DF-4970-A78C-8447E366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1C6F-21A6-41A1-B802-B7BE617B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74A9-F7A4-4671-895B-E456F034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08C4-B57E-4110-BD5D-1B9A14EC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CEB7-7750-4B33-AEB3-1FEAD44E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09561-30D0-4E03-A0DE-C20D1230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8DB37-F3DB-4AC0-BA9F-00AA3D23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2F381-FACD-4631-AA8D-66D03BFF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CBD7A-F0AB-4F64-873B-DD7C473A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457E0-6A20-41E0-91BC-B0353EF1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19B3-ECC1-4FED-B024-0B168EDB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AF860-C76C-4ECB-B256-276C5A84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3D837-5956-4F52-8838-33781680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060B5-27BE-4CCA-AD7C-4B0CB52B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CA432-A344-4700-80CD-B252AEB2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2B8B4-2A4C-480D-B0E4-459E8C70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D37BA-5442-4AE4-9E54-D6CA2824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4A2C-73CD-4FF1-BB32-03484A10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ACD-CADA-48A8-B13D-F605D054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1C84-995C-45AE-863E-E9BF38DA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114-31D7-4D8B-8B55-0E27173D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FBC-15E5-489A-9EC9-79886286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09A-DA9C-4081-8407-A2023CBC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519-A5EA-418A-A91F-073BBC5C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F23F-E5A1-439B-8982-7C9DF8044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B3DF-5D43-438B-B0F6-8FDBCCC12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9EF7-2794-4FAD-973B-ADC994384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914400"/>
            <a:ext cx="80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1.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ka je                i neka postoji         takvo d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Rectangle 3"/>
              <p:cNvSpPr txBox="1"/>
              <p:nvPr/>
            </p:nvSpPr>
            <p:spPr>
              <a:xfrm>
                <a:off x="2616120" y="987480"/>
                <a:ext cx="914400" cy="2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Rectangle 3"/>
              <p:cNvSpPr txBox="1"/>
              <p:nvPr/>
            </p:nvSpPr>
            <p:spPr>
              <a:xfrm>
                <a:off x="4971960" y="992160"/>
                <a:ext cx="50004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Rectangle 3"/>
              <p:cNvSpPr txBox="1"/>
              <p:nvPr/>
            </p:nvSpPr>
            <p:spPr>
              <a:xfrm>
                <a:off x="6680160" y="952560"/>
                <a:ext cx="12747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P</m:t>
                        </m:r>
                      </m:e>
                    </m:d>
                    <m:r>
                      <m:t xml:space="preserve">≤</m:t>
                    </m:r>
                    <m:r>
                      <m:t xml:space="preserve">L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Rectangle 3"/>
              <p:cNvSpPr txBox="1"/>
              <p:nvPr/>
            </p:nvSpPr>
            <p:spPr>
              <a:xfrm>
                <a:off x="944640" y="1927080"/>
                <a:ext cx="22212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31880" y="2317680"/>
                <a:ext cx="2667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768920" y="2362320"/>
                <a:ext cx="48240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56040" y="2924280"/>
                <a:ext cx="12952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k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971640" y="3384720"/>
                <a:ext cx="21952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≤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d>
                      <m:dPr>
                        <m:begChr m:val="‖"/>
                        <m:endChr m:val="‖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658280" y="4432320"/>
                <a:ext cx="685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978280" y="4737240"/>
                <a:ext cx="5079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95360" y="5664240"/>
                <a:ext cx="65786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‖"/>
                        <m:endChr m:val="‖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y</m:t>
                        </m:r>
                      </m:e>
                    </m:d>
                    <m:r>
                      <m:t xml:space="preserve">≤</m:t>
                    </m:r>
                    <m:d>
                      <m:dPr>
                        <m:begChr m:val="‖"/>
                        <m:endChr m:val="‖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P</m:t>
                        </m:r>
                      </m:e>
                    </m:d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≤</m:t>
                    </m:r>
                    <m:r>
                      <m:t xml:space="preserve">L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)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469800" y="13716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važ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680" y="1866960"/>
            <a:ext cx="77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)      je nesingularna ma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2336760"/>
            <a:ext cx="80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) Ako je     tačno rešenje sistema (1), a         niz definisan relacijom (2), onda j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5040" y="33782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7960" y="388620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9800" y="4381560"/>
            <a:ext cx="811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) Pretpostavimo da je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ngularna matrica. Tada matrična jednačina               ima netrivijalno rešenje           . ( Osobina homogenog sistema linearnih jednačina! ). Dalje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97680" y="5689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 kontradikcij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ektorske i matrične norme;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proste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914400"/>
            <a:ext cx="79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), 3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Rectangle 3"/>
          <p:cNvGraphicFramePr/>
          <p:nvPr/>
        </p:nvGraphicFramePr>
        <p:xfrm>
          <a:off x="390600" y="1231920"/>
          <a:ext cx="7431120" cy="52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1231920"/>
                    <a:ext cx="743112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ektorske i matrične norme;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proste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914400"/>
            <a:ext cx="80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sim ocene greške date u (***), koristi se i ocena greške pomoću poslednje dve iterac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Rectangle 3"/>
              <p:cNvSpPr txBox="1"/>
              <p:nvPr/>
            </p:nvSpPr>
            <p:spPr>
              <a:xfrm>
                <a:off x="1828800" y="1752480"/>
                <a:ext cx="5348160" cy="17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≤</m:t>
                        </m:r>
                        <m:r>
                          <m:t xml:space="preserve">L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L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≤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≤</m:t>
                        </m:r>
                        <m:r>
                          <m:t xml:space="preserve">L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L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den>
                        </m:f>
                        <m:d>
                          <m:dPr>
                            <m:begChr m:val="‖"/>
                            <m:endChr m:val="‖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Rectangle 3"/>
              <p:cNvSpPr txBox="1"/>
              <p:nvPr/>
            </p:nvSpPr>
            <p:spPr>
              <a:xfrm>
                <a:off x="2095560" y="4876920"/>
                <a:ext cx="393696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Rectangle 3"/>
              <p:cNvSpPr txBox="1"/>
              <p:nvPr/>
            </p:nvSpPr>
            <p:spPr>
              <a:xfrm>
                <a:off x="3479760" y="5338800"/>
                <a:ext cx="8510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457200" y="4419720"/>
            <a:ext cx="78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2.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terativni pro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283360"/>
            <a:ext cx="8458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vergira ako i samo ako je              , gde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pektralni radijus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matrice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Rectangle 3"/>
              <p:cNvSpPr txBox="1"/>
              <p:nvPr/>
            </p:nvSpPr>
            <p:spPr>
              <a:xfrm>
                <a:off x="2362320" y="5715000"/>
                <a:ext cx="51004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 je sopstvena vrednost matrice 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276720" y="6095880"/>
                <a:ext cx="3394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57200" y="36576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eorema 1. daje dovoljne uslove konvergencije iterativnog procesa (2).              U narednoj teoremi navedeni su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trebni i dovoljn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uslovi konvergenci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ektorske i matrične norme;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proste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762120" y="160020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инисати норму у линеарном векторском просто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три норме простора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инисати норму на скупу квадратних матрица реда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да је матрична норма сагласна са векторском? Навести векторске норме којима су сагласне апсолутна, Фробенијусова и униформна нор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нсформисати систем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Ax=b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облик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=Mx+B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о је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A=N –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и доказати теорему о довољном услову конвергенције методе просте итера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и доказати теорему о потребном услову конвергенције методе просте итера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е се формуле за оцену грешке користе у методи просте итерације?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ektorske i matrične norme;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proste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990720"/>
          <a:ext cx="8229600" cy="5709960"/>
        </p:xfrm>
        <a:graphic>
          <a:graphicData uri="http://schemas.openxmlformats.org/drawingml/2006/table">
            <a:tbl>
              <a:tblPr/>
              <a:tblGrid>
                <a:gridCol w="1066680"/>
                <a:gridCol w="1131840"/>
                <a:gridCol w="3486240"/>
                <a:gridCol w="25448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меричке методе за решавање система 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владавање методама за решавање система 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торске и матричне норме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а просте итер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у ће бити представљене векторске и матричне норме и биће способан за њихово израчунавање на конкретном проблем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акође, студент ће бити упознат са методом просте итерације и способан за њену практичну примен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295280"/>
          <a:ext cx="8534160" cy="261756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96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торске и матричне норме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а просте итер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у ће бити представљене векторске и матричне норме и биће способан за њихово израчунавање на конкретном проблем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акође, студент ће бити упознат са методом просте итерације и способан за њену практичну примен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228600" y="403848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914400"/>
            <a:ext cx="814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1. VEKTORSKE I MATRIČNE N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35040" y="1595520"/>
                <a:ext cx="3157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888840" y="154944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linearan vektorski pro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4280" y="1955880"/>
            <a:ext cx="792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efinicija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Prostor       je normiran ako je definisana fun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ja ima osobin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579760" y="1978200"/>
                <a:ext cx="3031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910560" y="1982880"/>
                <a:ext cx="11318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 </m:t>
                        </m:r>
                      </m:e>
                    </m:d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35040" y="2774880"/>
                <a:ext cx="167940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 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 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 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α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 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558720" y="4444920"/>
            <a:ext cx="78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ka je                                                     . Tada j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494000" y="4435560"/>
                <a:ext cx="3284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003480" y="4965840"/>
                <a:ext cx="3295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558720" y="5803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orma na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631880" y="5797440"/>
                <a:ext cx="3650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ektorske i matrične norme;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proste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3886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nejednakost troug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914400"/>
            <a:ext cx="81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pecijalni slučajev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Rectangle 3"/>
          <p:cNvGraphicFramePr/>
          <p:nvPr/>
        </p:nvGraphicFramePr>
        <p:xfrm>
          <a:off x="2708280" y="1400040"/>
          <a:ext cx="4441680" cy="20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8280" y="1400040"/>
                    <a:ext cx="444168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Rectangle 3"/>
          <p:cNvGraphicFramePr/>
          <p:nvPr/>
        </p:nvGraphicFramePr>
        <p:xfrm>
          <a:off x="1346040" y="3776760"/>
          <a:ext cx="184500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6040" y="3776760"/>
                    <a:ext cx="18450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31640" y="3759120"/>
            <a:ext cx="637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Rectangle 3"/>
              <p:cNvSpPr txBox="1"/>
              <p:nvPr/>
            </p:nvSpPr>
            <p:spPr>
              <a:xfrm>
                <a:off x="2558880" y="4524480"/>
                <a:ext cx="44024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ektorske i matrične norme;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proste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11430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    normiran prostor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astoja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zmeđu elemenata             se definiše  relacijo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Rectangle 3"/>
              <p:cNvSpPr txBox="1"/>
              <p:nvPr/>
            </p:nvSpPr>
            <p:spPr>
              <a:xfrm>
                <a:off x="1295280" y="1219320"/>
                <a:ext cx="246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Rectangle 3"/>
              <p:cNvSpPr txBox="1"/>
              <p:nvPr/>
            </p:nvSpPr>
            <p:spPr>
              <a:xfrm>
                <a:off x="3854520" y="1728720"/>
                <a:ext cx="1305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Rectangle 3"/>
              <p:cNvSpPr txBox="1"/>
              <p:nvPr/>
            </p:nvSpPr>
            <p:spPr>
              <a:xfrm>
                <a:off x="6351480" y="1225440"/>
                <a:ext cx="7174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8001000" y="2743200"/>
                <a:ext cx="2332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Rectangle 3"/>
              <p:cNvSpPr txBox="1"/>
              <p:nvPr/>
            </p:nvSpPr>
            <p:spPr>
              <a:xfrm>
                <a:off x="3460680" y="3579840"/>
                <a:ext cx="228600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 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αA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533520" y="2324160"/>
            <a:ext cx="816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efinicija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Realna funkcija      definisana na skupu kvadratnih matrica red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matrična norm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ako su za proizvoljne matric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i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i proizvoljan skalar      zadovoljeni sledeći uslov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308400" y="2382840"/>
          <a:ext cx="236520" cy="23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8400" y="2382840"/>
                    <a:ext cx="236520" cy="2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ektorske i matrične norme;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proste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914400"/>
            <a:ext cx="81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ri matričnih norm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Rectangle 3"/>
          <p:cNvGraphicFramePr/>
          <p:nvPr/>
        </p:nvGraphicFramePr>
        <p:xfrm>
          <a:off x="3181320" y="1366920"/>
          <a:ext cx="3481560" cy="22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1320" y="1366920"/>
                    <a:ext cx="3481560" cy="22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533520" y="383544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Rectangle 3"/>
              <p:cNvSpPr txBox="1"/>
              <p:nvPr/>
            </p:nvSpPr>
            <p:spPr>
              <a:xfrm>
                <a:off x="546120" y="4309920"/>
                <a:ext cx="13809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8" name="Rectangle 3"/>
          <p:cNvGraphicFramePr/>
          <p:nvPr/>
        </p:nvGraphicFramePr>
        <p:xfrm>
          <a:off x="3164040" y="4665600"/>
          <a:ext cx="3267000" cy="11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64040" y="4665600"/>
                    <a:ext cx="326700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ektorske i matrične norme;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proste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0880" y="99684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efinicija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orma matrice j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aglas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datoj vektorskoj normi ako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422520" y="1492200"/>
                <a:ext cx="14353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</m:d>
                    <m:r>
                      <m:t xml:space="preserve">≤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A</m:t>
                        </m:r>
                      </m:e>
                    </m:d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48040" y="2158920"/>
                <a:ext cx="2350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4" name=""/>
          <p:cNvGraphicFramePr/>
          <p:nvPr/>
        </p:nvGraphicFramePr>
        <p:xfrm>
          <a:off x="6121440" y="2235240"/>
          <a:ext cx="203040" cy="2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1440" y="2235240"/>
                    <a:ext cx="20304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578480" y="2752560"/>
          <a:ext cx="1474560" cy="2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8480" y="2752560"/>
                    <a:ext cx="147456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406440" y="212724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proizvoljnu kvadratnu matricu      i proizvoljan vektor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8280" y="2698920"/>
            <a:ext cx="83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že se pokazati da su matrične norme                          saglasne odgovarajućim vektorski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1640" y="3397320"/>
            <a:ext cx="81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STEMI LINEARNIH ALGEBARSKIH JEDNAČ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Rectangle 3"/>
          <p:cNvGraphicFramePr/>
          <p:nvPr/>
        </p:nvGraphicFramePr>
        <p:xfrm>
          <a:off x="1998720" y="3801960"/>
          <a:ext cx="4718160" cy="305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98720" y="3801960"/>
                    <a:ext cx="4718160" cy="30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ektorske i matrične norme;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proste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87624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stavićemo da je                      . Tada sistem (1) ima jedinstveno reše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743200" y="914400"/>
          <a:ext cx="1190520" cy="3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914400"/>
                    <a:ext cx="119052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57200" y="1447920"/>
            <a:ext cx="8458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TODE ZA REŠAVANJE SISTEMA LINEARNIH JEDNAČIN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) direktne ( Gausova, metode faktorizacije,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) iterativne (metoda  proste iteracije, Jakobijeva, Gaus-Zajdelova,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895480"/>
            <a:ext cx="77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METODA PROSTE ITER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9040" y="3390840"/>
            <a:ext cx="35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de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Rectangle 3"/>
          <p:cNvGraphicFramePr/>
          <p:nvPr/>
        </p:nvGraphicFramePr>
        <p:xfrm>
          <a:off x="2362320" y="3436920"/>
          <a:ext cx="5208480" cy="32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436920"/>
                    <a:ext cx="520848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Rectangle 3"/>
          <p:cNvGraphicFramePr/>
          <p:nvPr/>
        </p:nvGraphicFramePr>
        <p:xfrm>
          <a:off x="2311560" y="3960720"/>
          <a:ext cx="344484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11560" y="3960720"/>
                    <a:ext cx="34448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419040" y="3924360"/>
            <a:ext cx="81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terativni pro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6440" y="4432320"/>
            <a:ext cx="72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aliza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Rectangle 3"/>
              <p:cNvSpPr txBox="1"/>
              <p:nvPr/>
            </p:nvSpPr>
            <p:spPr>
              <a:xfrm>
                <a:off x="1824120" y="4614840"/>
                <a:ext cx="3284280" cy="21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b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de</cp:lastModifiedBy>
  <dcterms:modified xsi:type="dcterms:W3CDTF">2010-04-17T13:24:47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