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8E0-C61B-4BE8-97F3-A1B8B3F6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E31-578F-4FC7-92EF-AA18F01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F92-10E2-41B9-99EA-F42118C2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98B-CA8E-431D-807A-8DD3C366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A182-6CD4-492E-B9CF-61D6E992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CEF9-7F60-4900-A8CE-583BD11F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D29-34D5-45DB-AA96-9D163651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1171-9E49-4EAA-B6EB-60669A2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BAC4-DE65-4A57-83E1-C615DC76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0BDE-B609-4808-BD00-0F2F52C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5C16-F58C-4CFA-A71C-C0285D4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38F-F307-47FE-8BCB-3AADFE2A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7AB-E61A-4828-9776-89AA167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AAB8-7F44-4D9C-93D9-37C45C4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5668-F1E0-46AA-8329-2C072ADC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BFFD-85A4-4F55-8DCF-59A481E1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8D7-B887-4250-9DBE-5B60312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98D3-319B-45A9-86AD-B5092B5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9974-AEC2-4319-AB9F-AC5C7EE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2CC7-DB23-4A14-8E49-7D65E74B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B1AA-0CA0-42FD-B4A4-772879E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B170-7EDC-400A-A97D-86D18025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D0A-9989-4AF7-A491-C566D1C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6C3D-C66F-44D6-AC98-6AE02347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7490-959A-4DF2-B835-6D35C02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1EE8-C1DB-4296-85FC-1826545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EF42-77F1-4AB3-9C06-A64A7D47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B27D-F1AC-4A12-B3DB-09A5985C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B27B-5399-48D0-BD02-798806E5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B67A-DCA2-43B4-B297-D22587ED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099-AA38-469A-86B4-341A507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803-D395-4EF4-84F1-8EF2816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C2F-84D4-4141-A1BF-A9DA644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191-2720-4271-8CD2-62A0884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F41-F648-440B-9E47-3970188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DB5-DC18-499D-8F38-92414FA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241-41BF-4745-8420-0D3FBA17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834-A01E-44DD-BBF2-698320D38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68C2-BA2D-4394-BE8C-EFDCEFEF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762120" y="1600200"/>
            <a:ext cx="78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трапезног прави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трапезно правило и дати геометријску интерпретацију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код трапезн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о трапезно правило? Навести формулу за оцену грешке т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Симпсоновог прави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је алгебарски степен тачности Симпсонове форму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Симпсоново прав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основне елементе доказа о оцени грешке Симпсоновог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а Симпсонова формула? Навести формулу за оцену грешке т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066680"/>
          <a:ext cx="8763120" cy="536904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711600"/>
                <a:gridCol w="27115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 и 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нумеричког диференцирања и интег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зн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трапез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сонов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Симпсон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1447920"/>
          <a:ext cx="8534160" cy="2587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пезн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трапез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псонова форм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у Симпсона уз оцену грешке и исту примени на решавање проблема интеграције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8"/>
          <p:cNvSpPr/>
          <p:nvPr/>
        </p:nvSpPr>
        <p:spPr>
          <a:xfrm>
            <a:off x="380880" y="419112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05120" y="874800"/>
            <a:ext cx="3687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4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pezn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075040" y="1258920"/>
                <a:ext cx="5262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3" name=""/>
          <p:cNvGrpSpPr/>
          <p:nvPr/>
        </p:nvGrpSpPr>
        <p:grpSpPr>
          <a:xfrm>
            <a:off x="270000" y="1873080"/>
            <a:ext cx="2034720" cy="1525320"/>
            <a:chOff x="270000" y="1873080"/>
            <a:chExt cx="2034720" cy="1525320"/>
          </a:xfrm>
        </p:grpSpPr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805040" y="1873080"/>
                  <a:ext cx="437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5" name=""/>
            <p:cNvGrpSpPr/>
            <p:nvPr/>
          </p:nvGrpSpPr>
          <p:grpSpPr>
            <a:xfrm>
              <a:off x="270000" y="1950840"/>
              <a:ext cx="2034720" cy="1447560"/>
              <a:chOff x="270000" y="1950840"/>
              <a:chExt cx="2034720" cy="144756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576360" y="1950840"/>
                <a:ext cx="0" cy="13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0000" y="3179520"/>
                <a:ext cx="19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081600">
                <a:off x="728280" y="2257200"/>
                <a:ext cx="1226880" cy="355680"/>
              </a:xfrm>
              <a:custGeom>
                <a:avLst/>
                <a:gdLst/>
                <a:ahLst/>
                <a:rect l="l" t="t" r="r" b="b"/>
                <a:pathLst>
                  <a:path w="1016" h="249">
                    <a:moveTo>
                      <a:pt x="0" y="249"/>
                    </a:moveTo>
                    <a:cubicBezTo>
                      <a:pt x="157" y="156"/>
                      <a:pt x="315" y="64"/>
                      <a:pt x="484" y="32"/>
                    </a:cubicBezTo>
                    <a:cubicBezTo>
                      <a:pt x="653" y="0"/>
                      <a:pt x="927" y="52"/>
                      <a:pt x="101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91920" y="2064600"/>
                <a:ext cx="1536480" cy="61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84160" y="260316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66880" y="2257200"/>
                <a:ext cx="0" cy="9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84160" y="3179520"/>
                <a:ext cx="88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84160" y="2603160"/>
                <a:ext cx="882360" cy="576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9533400">
                <a:off x="958320" y="2403360"/>
                <a:ext cx="960120" cy="690480"/>
              </a:xfrm>
              <a:prstGeom prst="triangle">
                <a:avLst>
                  <a:gd name="adj" fmla="val 2849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1882800" y="2219040"/>
                    <a:ext cx="421920" cy="25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846000" y="3217680"/>
                    <a:ext cx="155160" cy="171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7" name=""/>
                  <p:cNvSpPr txBox="1"/>
                  <p:nvPr/>
                </p:nvSpPr>
                <p:spPr>
                  <a:xfrm>
                    <a:off x="1690560" y="3179520"/>
                    <a:ext cx="155160" cy="21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381480" y="2373480"/>
                <a:ext cx="460836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149720" y="4446720"/>
                <a:ext cx="13827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76720" y="4648320"/>
                <a:ext cx="5382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24320" y="4714920"/>
                <a:ext cx="8845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35200" y="5022720"/>
                <a:ext cx="2227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51040" y="6097680"/>
                <a:ext cx="4800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30600" y="3486240"/>
                <a:ext cx="2341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072040" y="3562200"/>
            <a:ext cx="407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pezno prav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429000"/>
            <a:ext cx="249084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880" y="4408560"/>
            <a:ext cx="8372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o oceni greške)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dva puta neprekidno diferenc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ilna funkcija na         . Tada postoji                takvo 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880" y="5675400"/>
            <a:ext cx="218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pezn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7920" y="1028880"/>
            <a:ext cx="1074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95280" y="914400"/>
                <a:ext cx="3686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3080" y="1503360"/>
                <a:ext cx="8564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sSup>
                                                  <m:e>
                                                    <m:r>
                                                      <m:t xml:space="preserve">h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3</m:t>
                                                    </m:r>
                                                  </m:sup>
                                                </m:sSup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  <m:sSup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(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η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004760" y="3960720"/>
          <a:ext cx="708516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3960720"/>
                    <a:ext cx="70851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886280" y="1028880"/>
            <a:ext cx="99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09520" y="2655720"/>
                <a:ext cx="3878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911840" y="2808360"/>
            <a:ext cx="384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pštena trapezna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33560" y="2577960"/>
            <a:ext cx="4071960" cy="84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760" y="3616200"/>
            <a:ext cx="287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70040" y="4691160"/>
            <a:ext cx="3840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5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sonov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03800" y="5132520"/>
            <a:ext cx="2644560" cy="1725120"/>
            <a:chOff x="6103800" y="5132520"/>
            <a:chExt cx="2644560" cy="1725120"/>
          </a:xfrm>
        </p:grpSpPr>
        <p:sp>
          <p:nvSpPr>
            <p:cNvPr id="172" name=""/>
            <p:cNvSpPr/>
            <p:nvPr/>
          </p:nvSpPr>
          <p:spPr>
            <a:xfrm>
              <a:off x="6948360" y="5419440"/>
              <a:ext cx="1112760" cy="3841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95720" y="5649840"/>
              <a:ext cx="1266840" cy="921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11600" y="515160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03800" y="6572160"/>
              <a:ext cx="23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95720" y="5611680"/>
              <a:ext cx="0" cy="960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2560" y="5533920"/>
              <a:ext cx="0" cy="10378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56160" y="5381640"/>
              <a:ext cx="384120" cy="3074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0240" y="5381640"/>
              <a:ext cx="384120" cy="3074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48400" y="5381640"/>
              <a:ext cx="384120" cy="3074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33880" y="5533920"/>
              <a:ext cx="384120" cy="3074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95720" y="5573520"/>
              <a:ext cx="384120" cy="307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70680" y="5533920"/>
              <a:ext cx="191880" cy="307440"/>
            </a:xfrm>
            <a:prstGeom prst="flowChartManualInpu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7920" y="5343480"/>
              <a:ext cx="1689120" cy="345600"/>
            </a:xfrm>
            <a:custGeom>
              <a:avLst/>
              <a:gdLst/>
              <a:ahLst/>
              <a:rect l="l" t="t" r="r" b="b"/>
              <a:pathLst>
                <a:path w="1064" h="439">
                  <a:moveTo>
                    <a:pt x="0" y="61"/>
                  </a:moveTo>
                  <a:cubicBezTo>
                    <a:pt x="82" y="210"/>
                    <a:pt x="165" y="359"/>
                    <a:pt x="242" y="399"/>
                  </a:cubicBezTo>
                  <a:cubicBezTo>
                    <a:pt x="319" y="439"/>
                    <a:pt x="404" y="339"/>
                    <a:pt x="460" y="303"/>
                  </a:cubicBezTo>
                  <a:cubicBezTo>
                    <a:pt x="516" y="267"/>
                    <a:pt x="529" y="230"/>
                    <a:pt x="581" y="182"/>
                  </a:cubicBezTo>
                  <a:cubicBezTo>
                    <a:pt x="633" y="134"/>
                    <a:pt x="718" y="24"/>
                    <a:pt x="774" y="12"/>
                  </a:cubicBezTo>
                  <a:cubicBezTo>
                    <a:pt x="830" y="0"/>
                    <a:pt x="871" y="48"/>
                    <a:pt x="919" y="109"/>
                  </a:cubicBezTo>
                  <a:cubicBezTo>
                    <a:pt x="967" y="170"/>
                    <a:pt x="1015" y="272"/>
                    <a:pt x="1064" y="3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736000">
              <a:off x="6565680" y="5343480"/>
              <a:ext cx="1766880" cy="566280"/>
            </a:xfrm>
            <a:custGeom>
              <a:avLst/>
              <a:gdLst/>
              <a:ahLst/>
              <a:rect l="l" t="t" r="r" b="b"/>
              <a:pathLst>
                <a:path w="1863" h="843">
                  <a:moveTo>
                    <a:pt x="0" y="287"/>
                  </a:moveTo>
                  <a:cubicBezTo>
                    <a:pt x="377" y="143"/>
                    <a:pt x="754" y="0"/>
                    <a:pt x="1064" y="93"/>
                  </a:cubicBezTo>
                  <a:cubicBezTo>
                    <a:pt x="1374" y="186"/>
                    <a:pt x="1730" y="722"/>
                    <a:pt x="1863" y="8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02120" y="5381640"/>
              <a:ext cx="0" cy="119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6487920" y="5189400"/>
                  <a:ext cx="439560" cy="25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276760" y="5449680"/>
                  <a:ext cx="47160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695640" y="6564240"/>
                  <a:ext cx="21132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494120" y="6580080"/>
                  <a:ext cx="19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7946640" y="6580080"/>
                  <a:ext cx="21132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225440" y="5057640"/>
                <a:ext cx="3764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25440" y="5805360"/>
                <a:ext cx="45309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Trapezna formula;</a:t>
            </a:r>
            <a:br>
              <a:rPr sz="3000"/>
            </a:br>
            <a:r>
              <a:rPr b="0" lang="sr-Latn-CS" sz="30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344760" y="914400"/>
          <a:ext cx="2859120" cy="23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4760" y="914400"/>
                    <a:ext cx="285912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352680" y="3411360"/>
                <a:ext cx="288000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14880" y="5024520"/>
                <a:ext cx="295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390840" y="4908600"/>
            <a:ext cx="280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85800" y="5830920"/>
                <a:ext cx="4071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580000" y="5946840"/>
            <a:ext cx="3335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sonovo pravi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55760" y="5676840"/>
            <a:ext cx="4359240" cy="92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32680" y="3525840"/>
            <a:ext cx="345960" cy="1382760"/>
          </a:xfrm>
          <a:custGeom>
            <a:avLst/>
            <a:gdLst>
              <a:gd name="textAreaLeft" fmla="*/ 0 w 345960"/>
              <a:gd name="textAreaRight" fmla="*/ 124920 w 345960"/>
              <a:gd name="textAreaTop" fmla="*/ 36000 h 1382760"/>
              <a:gd name="textAreaBottom" fmla="*/ 134676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066680"/>
          <a:ext cx="213372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66680"/>
                    <a:ext cx="2133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492360" y="1258920"/>
                <a:ext cx="882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22720" y="1643040"/>
                <a:ext cx="2421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14640" y="2949480"/>
                <a:ext cx="1266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98640" y="3755880"/>
                <a:ext cx="5607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47760" y="4408560"/>
                <a:ext cx="506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609480" y="5181480"/>
          <a:ext cx="757584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181480"/>
                    <a:ext cx="75758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990720"/>
            <a:ext cx="8142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 o oceni 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ške ): 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četiri puta neprekidno diferencijabilna funkcija 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[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Tada postoji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373480"/>
            <a:ext cx="85647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ako se dokazuje da Simpsonova formula ima algebarski stepen tačnosti tri, tj. d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409920"/>
            <a:ext cx="8180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linom trećeg stepena za koji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178160"/>
            <a:ext cx="5531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uje se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984920"/>
            <a:ext cx="3187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Rectangle 3"/>
          <p:cNvGraphicFramePr/>
          <p:nvPr/>
        </p:nvGraphicFramePr>
        <p:xfrm>
          <a:off x="1600200" y="1181160"/>
          <a:ext cx="25146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81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Rectangle 3"/>
          <p:cNvGraphicFramePr/>
          <p:nvPr/>
        </p:nvGraphicFramePr>
        <p:xfrm>
          <a:off x="990720" y="1752480"/>
          <a:ext cx="701028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01028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04920" y="12193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aberimo                                           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Rectangle 3"/>
          <p:cNvGraphicFramePr/>
          <p:nvPr/>
        </p:nvGraphicFramePr>
        <p:xfrm>
          <a:off x="990720" y="3956040"/>
          <a:ext cx="6324480" cy="29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956040"/>
                    <a:ext cx="63244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rštavanjem u (*)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Rectangle 3"/>
          <p:cNvGraphicFramePr/>
          <p:nvPr/>
        </p:nvGraphicFramePr>
        <p:xfrm>
          <a:off x="3346560" y="1593720"/>
          <a:ext cx="183960" cy="2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1593720"/>
                    <a:ext cx="18396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Rectangle 3"/>
          <p:cNvGraphicFramePr/>
          <p:nvPr/>
        </p:nvGraphicFramePr>
        <p:xfrm>
          <a:off x="2832120" y="1962000"/>
          <a:ext cx="476280" cy="2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2120" y="1962000"/>
                    <a:ext cx="47628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Rectangle 3"/>
          <p:cNvGraphicFramePr/>
          <p:nvPr/>
        </p:nvGraphicFramePr>
        <p:xfrm>
          <a:off x="3498840" y="1946160"/>
          <a:ext cx="1951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8840" y="1946160"/>
                    <a:ext cx="195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04920" y="1143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a Simpsonova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84560" y="1824120"/>
            <a:ext cx="3101760" cy="81000"/>
            <a:chOff x="3184560" y="1824120"/>
            <a:chExt cx="3101760" cy="81000"/>
          </a:xfrm>
        </p:grpSpPr>
        <p:sp>
          <p:nvSpPr>
            <p:cNvPr id="237" name=""/>
            <p:cNvSpPr/>
            <p:nvPr/>
          </p:nvSpPr>
          <p:spPr>
            <a:xfrm>
              <a:off x="3187800" y="1866960"/>
              <a:ext cx="30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456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5608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243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0524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03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7028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272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03960" y="1828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3280" y="1824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Rectangle 3"/>
          <p:cNvGraphicFramePr/>
          <p:nvPr/>
        </p:nvGraphicFramePr>
        <p:xfrm>
          <a:off x="3843360" y="1951200"/>
          <a:ext cx="225360" cy="31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3360" y="1951200"/>
                    <a:ext cx="22536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727600" y="1968480"/>
          <a:ext cx="44928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7600" y="1968480"/>
                    <a:ext cx="44928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140520" y="1962000"/>
          <a:ext cx="333360" cy="31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40520" y="1962000"/>
                    <a:ext cx="33336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949400" y="2381400"/>
          <a:ext cx="3557520" cy="571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49400" y="2381400"/>
                    <a:ext cx="3557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6880" y="2959200"/>
          <a:ext cx="7386480" cy="135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6880" y="2959200"/>
                    <a:ext cx="73864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197080" y="4597560"/>
          <a:ext cx="510552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97080" y="4597560"/>
                    <a:ext cx="5105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79320" y="5448240"/>
          <a:ext cx="5600880" cy="1246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9320" y="5448240"/>
                    <a:ext cx="56008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019240" y="4457880"/>
            <a:ext cx="5600880" cy="90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psonov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6:02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