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115F-0452-44A4-BC9A-F56ADC147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BE44-2BFF-4D61-9430-CE0C8C3C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402C-920E-40B8-BEE3-8C72C16D0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DF73-3CE5-47B8-B609-EC2312C43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C3D87-91CD-4B63-967D-5A5148151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DA7E4-ABCB-48C5-B081-652D6BAA4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1030D-E6DB-456C-BA74-F86804F73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9D36C-7B5F-44DD-9656-E04C291BD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474B2-0821-4F99-AEE6-DDAC45847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4FABA-622E-4AC0-AC97-602797E58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03D97-0A3B-4CEA-9DD4-F82227C8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985F-E4AF-4DE3-8E2A-F63C648FA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31542-14C1-450B-BD6B-BBA5090C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FC5CA-CE7F-4270-8625-86BD13CC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4A32F-A494-48EE-A4F1-ADF0B66E3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13F22-C59F-4D4E-AAEE-A3C97EBA0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C143D-774B-41B0-9104-EFBC9E784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D442B-40FB-4442-9158-029C14CB7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D5B9C-6444-4C7B-BA95-BA2300D7F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0A266-7872-4FB3-848D-3AC032EE5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E45B9-4D54-415B-8193-08122CE59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A76A3-8417-4079-A478-BAAD9C347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3948-CEF6-43E5-B69A-0F5A564C3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A945B-EB7A-44E0-92C3-C1A51DF17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2B2FA-F0D6-4C6E-B37F-573038E5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58091-951F-4F0A-8E27-37D56B87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28D41-0B5C-44CF-91D9-EAC5494B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583AA-92BB-49B1-8816-B7623DDA6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81DBA-7B7D-4F7E-91C6-4962ECB9F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8D958-4890-4FEB-9BF4-FCDBD49E3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1B95-AA7C-4B18-BE85-DFF94A487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F09A-43CA-4826-AC80-CEA59C2F3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96F5-6958-4A8E-9C78-F056C73A2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A2DC-4132-432D-BDED-CE469B42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6BD0-25F9-4804-B634-E7EE40E9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3CEA-45CF-4351-B5A6-F8F3C899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9FA07-913F-4388-A51B-040A3AA29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DC31E-DEEB-4DA2-8CEA-7FDA61F442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15B8F-D73E-4A4E-822D-E28BDEB40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2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2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2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17400" y="98280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incipi jednakih relativnih grešak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Rectangle 3"/>
              <p:cNvSpPr txBox="1"/>
              <p:nvPr/>
            </p:nvSpPr>
            <p:spPr>
              <a:xfrm>
                <a:off x="1143000" y="1295280"/>
                <a:ext cx="5630760" cy="369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</m:sSubSup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/>
                            </m:sSubSup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/>
                            </m:sSup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f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nary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</m:sSubSup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f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nary>
                        <m:d>
                          <m:dPr>
                            <m:begChr m:val="|"/>
                            <m:endChr m:val="|"/>
                          </m:dPr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</m:sSubSup>
                          </m:e>
                        </m:d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</m:sSubSup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</m:sSubSup>
                          </m:sub>
                        </m:sSub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f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nary>
                        <m:d>
                          <m:dPr>
                            <m:begChr m:val="|"/>
                            <m:endChr m:val="|"/>
                          </m:dPr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</m:sSubSup>
                          </m:e>
                        </m:d>
                        <m:r>
                          <m:t xml:space="preserve">ε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</m:sSubSup>
                          </m:sub>
                        </m:sSub>
                        <m:r>
                          <m:t xml:space="preserve">≤</m:t>
                        </m:r>
                        <m:f>
                          <m:num>
                            <m:r>
                              <m:t xml:space="preserve">ε</m:t>
                            </m:r>
                          </m:num>
                          <m:den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</m:sSubSup>
                                  </m:e>
                                </m:d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f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</m:nary>
                          </m:den>
                        </m:f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</m:sSubSup>
                          </m:sub>
                        </m:sSub>
                        <m:r>
                          <m:t xml:space="preserve">≤</m:t>
                        </m:r>
                        <m:f>
                          <m:num>
                            <m:r>
                              <m:t xml:space="preserve">ε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</m:sSubSup>
                              </m:e>
                            </m:d>
                          </m:num>
                          <m:den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</m:sSubSup>
                                  </m:e>
                                </m:d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f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</m:nary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Obratan problem ocene greš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4"/>
          <p:cNvSpPr/>
          <p:nvPr/>
        </p:nvSpPr>
        <p:spPr>
          <a:xfrm>
            <a:off x="762120" y="1600200"/>
            <a:ext cx="754380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ИТАЊ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финисати директан проблем оцене грешке приближне вредности функциј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ормулисати и доказати теорему о оцени грешке приближне вредности функ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вести формулу за апсолутну грешку збира и разли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вести формулу зе релативну грешку производа и колич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ко је            , доказати да је              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ко је            , доказати да је               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ормулисати обратан проблем оцене грешке приближне вредности функциј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шити обратан проблем оцене грешке ако се усвој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) принцип једнаких утица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) принцип једнаких апсолутних греша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) принцип једнаких релативних греша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Direktan problem ocene greške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; </a:t>
            </a:r>
            <a:br>
              <a:rPr sz="3200"/>
            </a:b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Obratan problem ocene greš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8" name="Rectangle 3"/>
          <p:cNvGraphicFramePr/>
          <p:nvPr/>
        </p:nvGraphicFramePr>
        <p:xfrm>
          <a:off x="1905120" y="3809880"/>
          <a:ext cx="628560" cy="34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809880"/>
                    <a:ext cx="62856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Rectangle 3"/>
          <p:cNvGraphicFramePr/>
          <p:nvPr/>
        </p:nvGraphicFramePr>
        <p:xfrm>
          <a:off x="1905120" y="4343400"/>
          <a:ext cx="685800" cy="34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4343400"/>
                    <a:ext cx="68580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Rectangle 3"/>
          <p:cNvGraphicFramePr/>
          <p:nvPr/>
        </p:nvGraphicFramePr>
        <p:xfrm>
          <a:off x="4267080" y="3809880"/>
          <a:ext cx="990720" cy="40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3" name="Rectangle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67080" y="3809880"/>
                    <a:ext cx="99072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Rectangle 3"/>
          <p:cNvGraphicFramePr/>
          <p:nvPr/>
        </p:nvGraphicFramePr>
        <p:xfrm>
          <a:off x="4267080" y="4267080"/>
          <a:ext cx="1067040" cy="601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5" name="Rectangle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67080" y="4267080"/>
                    <a:ext cx="1067040" cy="6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457200" y="990720"/>
          <a:ext cx="8229600" cy="5688000"/>
        </p:xfrm>
        <a:graphic>
          <a:graphicData uri="http://schemas.openxmlformats.org/drawingml/2006/table">
            <a:tbl>
              <a:tblPr/>
              <a:tblGrid>
                <a:gridCol w="1066680"/>
                <a:gridCol w="1131840"/>
                <a:gridCol w="3486240"/>
                <a:gridCol w="254484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дна 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тска це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и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25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ближни бројеви и греш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владавање основним појмовима везаним за приближне бројеве и грешке приближних броје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тска једин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ректан проблем оцене греш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упознат са формулом за ганицу апсолутне грешке приближне вредности функције и способан да је примени на решавање конкретних проблем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328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тан проблем оцене греш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удент ће бити упознат са обратним проблемом оцене грешке увођењем принципа једнаких утицаја, једнаких апсолутних и једнаких релативних грешак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304920" y="1371600"/>
          <a:ext cx="8534160" cy="2587680"/>
        </p:xfrm>
        <a:graphic>
          <a:graphicData uri="http://schemas.openxmlformats.org/drawingml/2006/table">
            <a:tbl>
              <a:tblPr/>
              <a:tblGrid>
                <a:gridCol w="990360"/>
                <a:gridCol w="2514600"/>
                <a:gridCol w="5029200"/>
              </a:tblGrid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ЦИЉ У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ректан проблем оцене греш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упознат са формулом за ганицу апсолутне грешке приближне вредности функције и способан да је примени на решавање конкретних проблем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тан проблем оцене греш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удент ће бити упознат са обратним проблемом оцене грешке увођењем принципа једнаких утицаја, једнаких апсолутних и једнаких релативних грешак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Text Box 18"/>
          <p:cNvSpPr/>
          <p:nvPr/>
        </p:nvSpPr>
        <p:spPr>
          <a:xfrm>
            <a:off x="380880" y="4419720"/>
            <a:ext cx="876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НАСТАВНИ МЕТОД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Предавањ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Direktan problem ocene greš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2" name="Rectangle 3"/>
          <p:cNvGraphicFramePr/>
          <p:nvPr/>
        </p:nvGraphicFramePr>
        <p:xfrm>
          <a:off x="304920" y="4267080"/>
          <a:ext cx="8610480" cy="103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267080"/>
                    <a:ext cx="8610480" cy="10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304920" y="1219320"/>
            <a:ext cx="8458200" cy="30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vodne napome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Lagranžova teorema za funkciju jedne promenlji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o je funkcija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x) neprekidna na odsečku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+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]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i diferencijabilna na intervalu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+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, onda postoji broj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1 takav da 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–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‘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x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 Δ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Lagran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žova teorema za funkciju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promenljivi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o funkcija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...,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 ima neprekidne parcijalne izvode, onda postoji broj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1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takav da 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472428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gde 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Rectangle 3"/>
          <p:cNvGraphicFramePr/>
          <p:nvPr/>
        </p:nvGraphicFramePr>
        <p:xfrm>
          <a:off x="5486400" y="4724280"/>
          <a:ext cx="2971800" cy="37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4724280"/>
                    <a:ext cx="2971800" cy="3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380880" y="5257800"/>
            <a:ext cx="8229600" cy="15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3. Ako su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0,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, …, n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onda za svako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arna nejed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i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+…+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&lt;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 besko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no mnogo rešenja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,...,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a pozitivnim komponentama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=1,...,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Rectangle 3"/>
          <p:cNvGraphicFramePr/>
          <p:nvPr/>
        </p:nvGraphicFramePr>
        <p:xfrm>
          <a:off x="3792600" y="1135080"/>
          <a:ext cx="1719360" cy="76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2600" y="1135080"/>
                    <a:ext cx="1719360" cy="7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Rectangle 3"/>
          <p:cNvGraphicFramePr/>
          <p:nvPr/>
        </p:nvGraphicFramePr>
        <p:xfrm>
          <a:off x="1589040" y="1908000"/>
          <a:ext cx="4500720" cy="51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89040" y="1908000"/>
                    <a:ext cx="4500720" cy="5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Rectangle 3"/>
          <p:cNvGraphicFramePr/>
          <p:nvPr/>
        </p:nvGraphicFramePr>
        <p:xfrm>
          <a:off x="1066680" y="2971800"/>
          <a:ext cx="7202520" cy="1484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" name="Rectangle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2971800"/>
                    <a:ext cx="7202520" cy="14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554040" y="1960560"/>
            <a:ext cx="228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Neka 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96880" y="2603520"/>
            <a:ext cx="49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Tada j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7520" y="4603680"/>
            <a:ext cx="600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U praksi se obično koristi linearna aproksimacija grešk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Rectangle 3"/>
          <p:cNvGraphicFramePr/>
          <p:nvPr/>
        </p:nvGraphicFramePr>
        <p:xfrm>
          <a:off x="3281400" y="5238720"/>
          <a:ext cx="2566800" cy="781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9" name="Rectangle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81400" y="5238720"/>
                    <a:ext cx="256680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Direktan problem ocene greš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486400" y="11430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tačna vrednost funk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152388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približna vrednost funk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23800" y="961920"/>
            <a:ext cx="27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Greška zbi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3429000" y="1295280"/>
                <a:ext cx="1779480" cy="138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: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/>
                            </m:sSup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/>
                            </m:sSup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/>
                            </m:sSup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550800" y="2908440"/>
            <a:ext cx="628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Greška razlik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3446640" y="3281400"/>
                <a:ext cx="173484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: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/>
                            </m:sSup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/>
                            </m:sSup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/>
                            </m:sSup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603360" y="4842000"/>
            <a:ext cx="31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Greška proizvo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487680" y="5132520"/>
          <a:ext cx="2005200" cy="142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87680" y="5132520"/>
                    <a:ext cx="2005200" cy="14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Direktan problem ocene greš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1" name="Rectangle 3"/>
              <p:cNvSpPr txBox="1"/>
              <p:nvPr/>
            </p:nvSpPr>
            <p:spPr>
              <a:xfrm>
                <a:off x="2695680" y="932040"/>
                <a:ext cx="35002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sSup>
                          <m:e>
                            <m:r>
                              <m:t xml:space="preserve">z</m:t>
                            </m:r>
                          </m:e>
                          <m:sup/>
                        </m:sSup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/>
                            </m:sSup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/>
                            </m:sSup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/>
                            </m:sSup>
                          </m:e>
                        </m:d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/>
                            </m:sSup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/>
                            </m:sSup>
                          </m:e>
                        </m:d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/>
                            </m:sSup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/>
                            </m:sSup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/>
                            </m:sSup>
                          </m:e>
                        </m:d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/>
                        </m:sSup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sSup>
                          <m:e>
                            <m:r>
                              <m:t xml:space="preserve">y</m:t>
                            </m:r>
                          </m:e>
                          <m:sup/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162" name="Rectangle 3"/>
          <p:cNvGraphicFramePr/>
          <p:nvPr/>
        </p:nvGraphicFramePr>
        <p:xfrm>
          <a:off x="3276720" y="2438280"/>
          <a:ext cx="209844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438280"/>
                    <a:ext cx="209844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747720" y="2251080"/>
            <a:ext cx="33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Greška količn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Rectangle 3"/>
              <p:cNvSpPr txBox="1"/>
              <p:nvPr/>
            </p:nvSpPr>
            <p:spPr>
              <a:xfrm>
                <a:off x="3311640" y="4664160"/>
                <a:ext cx="3138480" cy="15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sSup>
                          <m:e>
                            <m:r>
                              <m:t xml:space="preserve">z</m:t>
                            </m:r>
                          </m:e>
                          <m:sup/>
                        </m:sSup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/>
                                </m:sSup>
                              </m:e>
                            </m:d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/>
                                </m:sSup>
                              </m:sub>
                            </m:sSub>
                            <m:r>
                              <m:t xml:space="preserve">+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/>
                                </m:sSup>
                              </m:e>
                            </m:d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/>
                                </m:sSup>
                              </m:sub>
                            </m:sSub>
                          </m:num>
                          <m:den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p/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/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/>
                                </m:sSup>
                              </m:den>
                            </m:f>
                          </m:e>
                        </m:d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/>
                        </m:sSup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sSup>
                          <m:e>
                            <m:r>
                              <m:t xml:space="preserve">y</m:t>
                            </m:r>
                          </m:e>
                          <m:sup/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Direktan problem ocene greš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7" name="Rectangle 3"/>
              <p:cNvSpPr txBox="1"/>
              <p:nvPr/>
            </p:nvSpPr>
            <p:spPr>
              <a:xfrm>
                <a:off x="3597120" y="1467000"/>
                <a:ext cx="1811520" cy="11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/>
                            </m:sSup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f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nary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sub>
                              <m:sup/>
                            </m:sSubSup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Rectangle 3"/>
              <p:cNvSpPr txBox="1"/>
              <p:nvPr/>
            </p:nvSpPr>
            <p:spPr>
              <a:xfrm>
                <a:off x="2473200" y="3440160"/>
                <a:ext cx="231840" cy="2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69" name="Rectangle 3"/>
          <p:cNvGraphicFramePr/>
          <p:nvPr/>
        </p:nvGraphicFramePr>
        <p:xfrm>
          <a:off x="4605480" y="2867040"/>
          <a:ext cx="1277640" cy="35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5480" y="2867040"/>
                    <a:ext cx="1277640" cy="3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533520" y="2819520"/>
            <a:ext cx="77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Odrediti granice apsolutnih grešaka                       tako da granica apsolutne greške približne vrednosti funkcije bude manja od unapred zadate vrednosti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Rectangle 3"/>
              <p:cNvSpPr txBox="1"/>
              <p:nvPr/>
            </p:nvSpPr>
            <p:spPr>
              <a:xfrm>
                <a:off x="3430440" y="4224240"/>
                <a:ext cx="2225880" cy="95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f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nary>
                    <m:sSub>
                      <m:e>
                        <m:r>
                          <m:t xml:space="preserve">A</m:t>
                        </m:r>
                      </m:e>
                      <m:sub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b>
                          <m:sup/>
                        </m:sSubSup>
                      </m:sub>
                    </m:sSub>
                    <m:r>
                      <m:t xml:space="preserve">≤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Obratan problem ocene greš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773280" y="968400"/>
            <a:ext cx="55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incipi jednakih uticaj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Rectangle 3"/>
          <p:cNvGraphicFramePr/>
          <p:nvPr/>
        </p:nvGraphicFramePr>
        <p:xfrm>
          <a:off x="3443400" y="1463760"/>
          <a:ext cx="2895480" cy="64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43400" y="1463760"/>
                    <a:ext cx="289548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Rectangle 3"/>
          <p:cNvGraphicFramePr/>
          <p:nvPr/>
        </p:nvGraphicFramePr>
        <p:xfrm>
          <a:off x="3581280" y="2313000"/>
          <a:ext cx="2117880" cy="83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2313000"/>
                    <a:ext cx="211788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830160" y="3454560"/>
            <a:ext cx="64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incip jednakih apsolutnih grešak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Rectangle 3"/>
          <p:cNvGraphicFramePr/>
          <p:nvPr/>
        </p:nvGraphicFramePr>
        <p:xfrm>
          <a:off x="3214800" y="4081320"/>
          <a:ext cx="3201840" cy="136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1" name="Rectangle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14800" y="4081320"/>
                    <a:ext cx="3201840" cy="13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Obratan problem ocene greš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gor</cp:lastModifiedBy>
  <dcterms:modified xsi:type="dcterms:W3CDTF">2010-04-22T09:35:59Z</dcterms:modified>
  <cp:revision>6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