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ED2-CA31-4947-965F-8BFB2D2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808-DBBD-4859-99DB-E12C98FF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7F4-453E-47CD-A722-6F87CC5A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D23-E92E-4ADF-BC50-023E8B2F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0E23-2C62-449A-91F1-A54B859A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A40E-B74B-4007-BC08-C300550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74AF-6984-4FC2-B49F-5A9C5332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FEA-E006-4EDE-AAC7-9E693BD9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E375-5028-42C7-99B0-DAFC8956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E879-AA56-4119-959B-B0A4017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42C-E239-45DA-8710-7C19DCA2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284-219E-4488-AE47-5BAF4866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E3D2-8D5F-42DF-B23D-E107775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0D3-1038-41DB-83D4-8E3CA5B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090A-991F-492C-9B84-E987332E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4E84-6149-4896-BD28-AAD6A62C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0039-4AA7-415A-9F30-63FB2631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EF35-CC41-4EC5-A660-A329C08A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37C2-F0B6-469A-BC2C-3ED48A70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757C-98C2-4E43-9B43-4F8F03C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AD68-F98E-4AA0-9ACB-A541E1F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27D0-20B7-47E5-B74F-1C45E62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CF0-EFCB-4F35-9146-7E97DA40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73443-E780-4107-9787-36F0B69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BCBA-52AC-424B-9906-7C617F17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FDBD-0282-458B-BB3A-93D0C3D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2FDB-EC29-483F-AE9D-04039E9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C9ED-5A85-4C73-A49E-C7376FC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C696-5DB2-4126-B093-21032F83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1E2F-EAA9-43C2-B5AC-1F112529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5F9-B6B0-4AE7-B3C8-A3E8FE2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C08-582D-4F9A-8B7B-DD99D97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5D3-5881-41C3-BBF0-157AB1BA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9ED-26BB-48E4-8002-F8AEF8CF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892-644C-46CC-A92D-1C9AAAA8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42A-469D-45A9-850B-D501CF0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8D92-81EB-451A-9A2B-01566588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1CB-D00B-4BBE-A81C-03C7FD16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9287-C33B-4796-95E2-1ACEB3864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1066680"/>
            <a:ext cx="8167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je     fiksna tačka funkcije                              i neka je           neprekidna u otvorenom intervalu koji sadrži     . Ako je               , onda postoji           tako da niz definisan s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53960" y="1519200"/>
          <a:ext cx="25884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519200"/>
                    <a:ext cx="258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701880" y="1523880"/>
                <a:ext cx="1752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1" name=""/>
          <p:cNvGraphicFramePr/>
          <p:nvPr/>
        </p:nvGraphicFramePr>
        <p:xfrm>
          <a:off x="6481800" y="1506600"/>
          <a:ext cx="56052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1800" y="1506600"/>
                    <a:ext cx="5605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672000" y="1795320"/>
          <a:ext cx="258480" cy="36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2000" y="1795320"/>
                    <a:ext cx="2584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707000" y="1805040"/>
          <a:ext cx="94140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7000" y="1805040"/>
                    <a:ext cx="941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086600" y="1828800"/>
          <a:ext cx="54756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828800"/>
                    <a:ext cx="5475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174760" y="2330280"/>
          <a:ext cx="4695840" cy="43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74760" y="2330280"/>
                    <a:ext cx="469584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469800" y="2759040"/>
            <a:ext cx="69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nepokretnoj tački funkci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3040" y="3595680"/>
            <a:ext cx="8151840" cy="2809800"/>
            <a:chOff x="473040" y="3595680"/>
            <a:chExt cx="8151840" cy="2809800"/>
          </a:xfrm>
        </p:grpSpPr>
        <p:sp>
          <p:nvSpPr>
            <p:cNvPr id="263" name=""/>
            <p:cNvSpPr/>
            <p:nvPr/>
          </p:nvSpPr>
          <p:spPr>
            <a:xfrm>
              <a:off x="473040" y="3595680"/>
              <a:ext cx="71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okaz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9360" y="4052880"/>
              <a:ext cx="730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eka                       . Tada postoji           tako da 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1246320" y="4043160"/>
            <a:ext cx="1339560" cy="417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46320" y="4043160"/>
                      <a:ext cx="13395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4070160" y="4097160"/>
            <a:ext cx="601920" cy="276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0160" y="4097160"/>
                      <a:ext cx="601920" cy="2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2743200" y="4484520"/>
            <a:ext cx="3865680" cy="420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743200" y="4484520"/>
                      <a:ext cx="386568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1" name=""/>
            <p:cNvGrpSpPr/>
            <p:nvPr/>
          </p:nvGrpSpPr>
          <p:grpSpPr>
            <a:xfrm>
              <a:off x="534960" y="4922640"/>
              <a:ext cx="7970760" cy="401760"/>
              <a:chOff x="534960" y="4922640"/>
              <a:chExt cx="7970760" cy="401760"/>
            </a:xfrm>
          </p:grpSpPr>
          <p:sp>
            <p:nvSpPr>
              <p:cNvPr id="272" name=""/>
              <p:cNvSpPr/>
              <p:nvPr/>
            </p:nvSpPr>
            <p:spPr>
              <a:xfrm>
                <a:off x="534960" y="4922640"/>
                <a:ext cx="797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zbog neprekidnosti            na         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3" name=""/>
              <p:cNvGraphicFramePr/>
              <p:nvPr/>
            </p:nvGraphicFramePr>
            <p:xfrm>
              <a:off x="2608200" y="4951440"/>
              <a:ext cx="622440" cy="372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608200" y="4951440"/>
                        <a:ext cx="622440" cy="37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5" name=""/>
              <p:cNvGraphicFramePr/>
              <p:nvPr/>
            </p:nvGraphicFramePr>
            <p:xfrm>
              <a:off x="3576600" y="4968720"/>
              <a:ext cx="536760" cy="3477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276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3576600" y="4968720"/>
                        <a:ext cx="536760" cy="34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77" name=""/>
            <p:cNvGrpSpPr/>
            <p:nvPr/>
          </p:nvGrpSpPr>
          <p:grpSpPr>
            <a:xfrm>
              <a:off x="531720" y="5424480"/>
              <a:ext cx="8093160" cy="423720"/>
              <a:chOff x="531720" y="5424480"/>
              <a:chExt cx="8093160" cy="423720"/>
            </a:xfrm>
          </p:grpSpPr>
          <p:sp>
            <p:nvSpPr>
              <p:cNvPr id="278" name=""/>
              <p:cNvSpPr/>
              <p:nvPr/>
            </p:nvSpPr>
            <p:spPr>
              <a:xfrm>
                <a:off x="531720" y="5424480"/>
                <a:ext cx="809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Funkcija g preslikava segment                        na samog sebe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9" name=""/>
              <p:cNvGraphicFramePr/>
              <p:nvPr/>
            </p:nvGraphicFramePr>
            <p:xfrm>
              <a:off x="3776760" y="5456160"/>
              <a:ext cx="1431720" cy="3920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280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776760" y="5456160"/>
                        <a:ext cx="1431720" cy="392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160720" y="6014880"/>
                  <a:ext cx="54482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L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ξ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Lε</m:t>
                      </m:r>
                      <m:r>
                        <m:t xml:space="preserve">&lt;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457200" y="914400"/>
            <a:ext cx="75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4 (dovoljan uslov lokalne konvergencij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70080" y="914400"/>
            <a:ext cx="66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JUTN –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FSONOVA METODA ( METODA TANGENT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727440" y="1427040"/>
                <a:ext cx="2044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996840" y="1967040"/>
                <a:ext cx="5672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003320" y="3432240"/>
                <a:ext cx="1612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011240" y="4132440"/>
                <a:ext cx="5678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660240" y="4905360"/>
            <a:ext cx="7683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orema ( o lokalnoj konvergenciji 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ka je            neprekidna funkcija i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nekom otvorenom intervalu koji sad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i     gde je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postoji           tako da niz definisan sa (1) konvergira ka      ako j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Rectangle 3"/>
              <p:cNvSpPr txBox="1"/>
              <p:nvPr/>
            </p:nvSpPr>
            <p:spPr>
              <a:xfrm>
                <a:off x="5581800" y="4932360"/>
                <a:ext cx="639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1" name="Rectangle 3"/>
          <p:cNvGraphicFramePr/>
          <p:nvPr/>
        </p:nvGraphicFramePr>
        <p:xfrm>
          <a:off x="7683480" y="5211720"/>
          <a:ext cx="105408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3480" y="5211720"/>
                    <a:ext cx="10540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670040" y="5235480"/>
                <a:ext cx="96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794640" y="5210280"/>
                <a:ext cx="215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57400" y="5616720"/>
                <a:ext cx="6224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842240" y="5597640"/>
                <a:ext cx="10605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Rectangle 3"/>
              <p:cNvSpPr txBox="1"/>
              <p:nvPr/>
            </p:nvSpPr>
            <p:spPr>
              <a:xfrm>
                <a:off x="6896160" y="5581800"/>
                <a:ext cx="24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788320" y="55911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1295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16080" y="1531800"/>
                <a:ext cx="46720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033640" y="2395440"/>
                <a:ext cx="895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68640" y="2370240"/>
                <a:ext cx="297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916680" y="2446200"/>
                <a:ext cx="2142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45280" y="2409840"/>
                <a:ext cx="507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221600" y="2446200"/>
                <a:ext cx="834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982880" y="2776680"/>
                <a:ext cx="35146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021200" y="3208320"/>
                <a:ext cx="9302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15880" y="237024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zirom da je               i       neprekidna funkcija, postoji         i    ,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takvo da je             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7720" y="3144960"/>
            <a:ext cx="50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osnovu Teore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sledi da je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37339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Geometrijska interpreta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Rectangle 3"/>
          <p:cNvGraphicFramePr/>
          <p:nvPr/>
        </p:nvGraphicFramePr>
        <p:xfrm>
          <a:off x="3352680" y="4114800"/>
          <a:ext cx="369576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114800"/>
                    <a:ext cx="36957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57200" y="914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 o izboru početne aproksimacije 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dva puta neprekidno diferencijabilna i neka je                  . Ako su     i       stalnog znaka na         i       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203880" y="954000"/>
                <a:ext cx="1314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183200" y="1258920"/>
                <a:ext cx="1170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16760" y="1257480"/>
                <a:ext cx="3412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499080" y="12366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819000" y="1523880"/>
                <a:ext cx="514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467000" y="1511280"/>
                <a:ext cx="933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2" name=""/>
          <p:cNvGraphicFramePr/>
          <p:nvPr/>
        </p:nvGraphicFramePr>
        <p:xfrm>
          <a:off x="7086600" y="2286000"/>
          <a:ext cx="2970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0"/>
                    <a:ext cx="297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286080" y="2184480"/>
                <a:ext cx="3127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778200" y="2908440"/>
                <a:ext cx="8571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524400" y="3276720"/>
                <a:ext cx="49719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09800" y="3733920"/>
                <a:ext cx="502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516040" y="2909880"/>
                <a:ext cx="203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15960" y="4159080"/>
                <a:ext cx="1270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30520" y="4191120"/>
                <a:ext cx="238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27120" y="4578480"/>
                <a:ext cx="230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260440" y="4546440"/>
                <a:ext cx="738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3360" y="4908600"/>
                <a:ext cx="6387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25720" y="5587920"/>
                <a:ext cx="893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067200" y="5403960"/>
                <a:ext cx="1906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633840" y="6051600"/>
                <a:ext cx="2289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57200" y="2057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nda 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7960" y="2857680"/>
            <a:ext cx="59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rešenju     jednačine       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6120" y="3251160"/>
            <a:ext cx="81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tavimo da je                                                      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720" y="3746520"/>
            <a:ext cx="40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 je ograničen odozdo sa   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Rectangle 3"/>
              <p:cNvSpPr txBox="1"/>
              <p:nvPr/>
            </p:nvSpPr>
            <p:spPr>
              <a:xfrm>
                <a:off x="3911760" y="3757680"/>
                <a:ext cx="258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1790640" y="415296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r je                i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notono rastu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Rectangle 3"/>
              <p:cNvSpPr txBox="1"/>
              <p:nvPr/>
            </p:nvSpPr>
            <p:spPr>
              <a:xfrm>
                <a:off x="2459160" y="4183200"/>
                <a:ext cx="963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774720" y="4559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tpostavka:              (za neko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55245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zirom da je               i                                sled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046400" y="4975200"/>
                <a:ext cx="241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92160" y="2262240"/>
                <a:ext cx="441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49" name=""/>
          <p:cNvGraphicFramePr/>
          <p:nvPr/>
        </p:nvGraphicFramePr>
        <p:xfrm>
          <a:off x="3746520" y="2678040"/>
          <a:ext cx="1771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6520" y="2678040"/>
                    <a:ext cx="1771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676520" y="3352680"/>
                <a:ext cx="1314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≥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195880" y="3843360"/>
                <a:ext cx="770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627360" y="4275000"/>
                <a:ext cx="13273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538280" y="4979880"/>
                <a:ext cx="1889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Rectangle 3"/>
              <p:cNvSpPr txBox="1"/>
              <p:nvPr/>
            </p:nvSpPr>
            <p:spPr>
              <a:xfrm>
                <a:off x="3048120" y="914400"/>
                <a:ext cx="2073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209680" y="1600200"/>
            <a:ext cx="62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Kraj dela dokaza mat. indukcij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440" y="224964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z        je monotono opadajuć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postoji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3809880"/>
            <a:ext cx="76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(1) pređemo na graničnu vrednost kad             , dobij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8480" y="4941720"/>
            <a:ext cx="80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                               jer je      jedinstven koren jednačine na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3520" y="914400"/>
            <a:ext cx="81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 o oceni greške 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                     dva puta neprekidno diferencijabilna funkcija, onda 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Rectangle 3"/>
              <p:cNvSpPr txBox="1"/>
              <p:nvPr/>
            </p:nvSpPr>
            <p:spPr>
              <a:xfrm>
                <a:off x="4311720" y="954000"/>
                <a:ext cx="1369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Rectangle 3"/>
              <p:cNvSpPr txBox="1"/>
              <p:nvPr/>
            </p:nvSpPr>
            <p:spPr>
              <a:xfrm>
                <a:off x="3503520" y="1500120"/>
                <a:ext cx="21225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66" name="Rectangle 3"/>
          <p:cNvGraphicFramePr/>
          <p:nvPr/>
        </p:nvGraphicFramePr>
        <p:xfrm>
          <a:off x="546120" y="3013200"/>
          <a:ext cx="806436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3013200"/>
                    <a:ext cx="80643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Rectangle 3"/>
              <p:cNvSpPr txBox="1"/>
              <p:nvPr/>
            </p:nvSpPr>
            <p:spPr>
              <a:xfrm>
                <a:off x="609480" y="4724280"/>
                <a:ext cx="4873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20560" y="247644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5638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encija metode je kvadrat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22360" y="1413000"/>
          <a:ext cx="4887720" cy="37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413000"/>
                    <a:ext cx="48877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145120" y="4610160"/>
                <a:ext cx="1820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5162400" y="5372280"/>
          <a:ext cx="3821400" cy="14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2400" y="5372280"/>
                    <a:ext cx="3821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143000" y="1028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BINOVAN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jutn – Rafso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762120" y="160020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Шаудерову теорему о егзистенцији фиксне та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јединствености фиксне та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м поступком се решавање једначин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ди на одређивање фиксне тач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метод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довољном услову конвергенције методе ите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Њутн – Рафсон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локалној конвергенцији Њутн – Рафсон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главне елементе доказа теореме о избору почетне апроксима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оцену грешке Њутн – Рафсонове мет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 две методе користи комбинована метода. Ка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381880" cy="5811840"/>
        </p:xfrm>
        <a:graphic>
          <a:graphicData uri="http://schemas.openxmlformats.org/drawingml/2006/table">
            <a:tbl>
              <a:tblPr/>
              <a:tblGrid>
                <a:gridCol w="1085760"/>
                <a:gridCol w="1154160"/>
                <a:gridCol w="3322800"/>
                <a:gridCol w="28191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ме о фиксној т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фиксној тачки и способан да је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ореме о фиксној тачки на методу итерације, као и да методу итерације примени на решавање нелинеар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Њутн – Рафсон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Њутн – Рафсоновом методом и способан за њену примену на конкрета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33796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ме о фиксној та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теоремом о фиксној тачки и способан да је приме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итер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имени теореме о фиксној тачки на методу итерације, као и да методу итерације примени на решавање нелинеар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Њутн – Рафсон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ће бити упознат са Њутн – Рафсоновом методом и способан за њену примену на конкретаном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52578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8880" y="1452600"/>
            <a:ext cx="82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efinicija 1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                           . Kažemo d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fiksna ili nepokretna tačka preslikavan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489040" y="1436760"/>
          <a:ext cx="17528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436760"/>
                    <a:ext cx="1752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668600" y="2546280"/>
            <a:ext cx="6108480" cy="408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93800" y="4587840"/>
            <a:ext cx="1349640" cy="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43080" y="4602240"/>
            <a:ext cx="14040" cy="1262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38240" y="1790640"/>
                <a:ext cx="25416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24160" y="2035080"/>
                <a:ext cx="1181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oreme o fiksnoj ta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914400"/>
            <a:ext cx="82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1 (Šauderova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neka j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prekidno preslikava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Ta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 bar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u nepokretnu tač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62520" y="896760"/>
          <a:ext cx="1752480" cy="3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896760"/>
                    <a:ext cx="1752480" cy="3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09680" y="1712880"/>
            <a:ext cx="62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49520" y="2076480"/>
                <a:ext cx="16002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68360" y="2771640"/>
            <a:ext cx="82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               ili                   onda je    , odnosno      nepokretna tačk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39840" y="2798640"/>
          <a:ext cx="91296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9840" y="2798640"/>
                    <a:ext cx="9129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97240" y="2782800"/>
          <a:ext cx="97128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7240" y="2782800"/>
                    <a:ext cx="971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356000" y="2868480"/>
          <a:ext cx="216000" cy="24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2868480"/>
                    <a:ext cx="2160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627520" y="2797200"/>
          <a:ext cx="21600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27520" y="2797200"/>
                    <a:ext cx="2160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2520" y="31640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protivnom je               i              , 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039760" y="3191040"/>
          <a:ext cx="881280" cy="34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39760" y="3191040"/>
                    <a:ext cx="88128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030480" y="3227400"/>
          <a:ext cx="857160" cy="34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30480" y="3227400"/>
                    <a:ext cx="8571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55920" y="3754440"/>
          <a:ext cx="206856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5920" y="3754440"/>
                    <a:ext cx="20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41440" y="45576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zirom da je     neprekidna funkcija, postoji                 takvo da je                 tj.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70000" y="4616280"/>
          <a:ext cx="268560" cy="26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70000" y="4616280"/>
                    <a:ext cx="2685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143680" y="4583160"/>
                <a:ext cx="9745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7350120" y="4572000"/>
          <a:ext cx="941400" cy="36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350120" y="4572000"/>
                    <a:ext cx="941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8080" y="4892760"/>
          <a:ext cx="925560" cy="35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38080" y="4892760"/>
                    <a:ext cx="9255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oreme o fiksnoj ta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914400"/>
            <a:ext cx="8345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2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        diferencijabilna funkcija za koju posto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k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629080" y="91296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2" name=""/>
          <p:cNvGraphicFramePr/>
          <p:nvPr/>
        </p:nvGraphicFramePr>
        <p:xfrm>
          <a:off x="2678040" y="1738440"/>
          <a:ext cx="354960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8040" y="1738440"/>
                    <a:ext cx="3549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55480" y="1349280"/>
          <a:ext cx="124776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480" y="1349280"/>
                    <a:ext cx="12477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25520" y="2649600"/>
            <a:ext cx="77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040" y="2208240"/>
            <a:ext cx="78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 tačno jednu nepokretnu tač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040" y="3046320"/>
            <a:ext cx="81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neprekidna (jer je diferencijabilna) pa ima bar jednu nepokretnu tačku. Dokažimo da funkcija ne može imati dve nepokretne tačke. Ako pretpostavimo d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ma dve nepokretne tačke,     i     , bilo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99120" y="3608280"/>
          <a:ext cx="312840" cy="3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9120" y="3608280"/>
                    <a:ext cx="3128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616720" y="3610080"/>
          <a:ext cx="3362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16720" y="3610080"/>
                    <a:ext cx="3362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09800" y="4035600"/>
          <a:ext cx="712620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4035600"/>
                    <a:ext cx="7126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362320" y="4800600"/>
            <a:ext cx="43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ITER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181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79800" y="5362560"/>
          <a:ext cx="100980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79800" y="5362560"/>
                    <a:ext cx="10098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03200" y="575928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e na           zamenjuje ekvivalent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78360" y="6149880"/>
          <a:ext cx="1011240" cy="37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78360" y="6149880"/>
                    <a:ext cx="10112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25360" y="5791320"/>
          <a:ext cx="55260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25360" y="5791320"/>
                    <a:ext cx="5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oreme o fiksnoj tački; 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Kontradikcija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914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eneriše se niz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141640" y="965160"/>
          <a:ext cx="46980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965160"/>
                    <a:ext cx="469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612880" y="1398600"/>
          <a:ext cx="384660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2880" y="1398600"/>
                    <a:ext cx="3846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504800" y="2027160"/>
            <a:ext cx="6350040" cy="454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91120" y="3581280"/>
            <a:ext cx="0" cy="21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194000" y="5548320"/>
          <a:ext cx="18288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94000" y="5548320"/>
                    <a:ext cx="18288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159080" y="5730840"/>
            <a:ext cx="57240" cy="61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925560"/>
            <a:ext cx="83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3 (dovoljni uslovi konvergencije metode iteracij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960" y="13669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ka diferencijabilna funkcija                             zadovoljava usl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05320" y="141120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417760" y="1781280"/>
                <a:ext cx="42908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42800" y="22971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niz           konvergira ka fiksnoj tački     funkci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za svaki prirodan broj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važi ocena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92560" y="3002040"/>
          <a:ext cx="25635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2560" y="3002040"/>
                    <a:ext cx="25635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88960" y="2352600"/>
          <a:ext cx="50652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8960" y="2352600"/>
                    <a:ext cx="5065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737240" y="2336760"/>
          <a:ext cx="25848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7240" y="2336760"/>
                    <a:ext cx="2584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71600" y="3851280"/>
            <a:ext cx="70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Važ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893960" y="4232160"/>
          <a:ext cx="5761080" cy="84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3960" y="4232160"/>
                    <a:ext cx="57610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57200" y="51307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sl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oraka dobij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781360" y="5495760"/>
          <a:ext cx="3744720" cy="4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81360" y="5495760"/>
                    <a:ext cx="374472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441360" y="5938920"/>
            <a:ext cx="69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038480" y="6319800"/>
                <a:ext cx="1295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90000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001960" y="1128600"/>
          <a:ext cx="49165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960" y="1128600"/>
                    <a:ext cx="49165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71600" y="17064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080" y="1803240"/>
          <a:ext cx="21290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1803240"/>
                    <a:ext cx="21290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88880" y="2468520"/>
            <a:ext cx="25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81400" y="2666880"/>
          <a:ext cx="214308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1400" y="2666880"/>
                    <a:ext cx="2143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488880" y="3414600"/>
            <a:ext cx="772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Napomena: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cena greške može se dobiti iz poslednje dve iteracije. 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90600" y="4354560"/>
                <a:ext cx="67737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71600" y="53499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l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82880" y="5473800"/>
          <a:ext cx="276084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2880" y="5473800"/>
                    <a:ext cx="2760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26960" y="6203880"/>
            <a:ext cx="43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o za                  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882800" y="6276960"/>
          <a:ext cx="109692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82800" y="6276960"/>
                    <a:ext cx="1096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448080" y="6419880"/>
          <a:ext cx="197964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48080" y="6419880"/>
                    <a:ext cx="1979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it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6T20:24:4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