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56C-F43D-49C7-939D-31119788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B51-09FF-4A45-A7AD-A4DFDCBC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143-23B1-4AE0-B312-BC9DA2CE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9DF-E363-46AB-9D14-BF62C846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C89-3247-4953-8A7E-5AA99B5B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FF2C-70C8-4398-8617-7585EBA2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1EE3-2573-4BC4-9267-CE1BDCF2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2F41-A763-4B03-9991-B1F90939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2FA0-7D99-488F-956B-FACD4EF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62B4-F08D-4DFB-A206-24A91B2A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F84B-F9AD-4F84-9DBD-11070A9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88E-2A20-4131-920F-197DFA63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6138-EC1B-4B9F-9BD0-F6D385EA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3592-715B-4EAB-857D-E5989F4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FF61-87A8-4811-A62F-DD0D679F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72AD-8566-4A1F-9CB1-EAF3142F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88AF-9A7A-41C9-933F-B7156FE1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E0B6-4EA2-475B-B0BE-AA18AE1D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C1CE-C3FA-498E-A482-5011C45E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4712-8947-4648-949A-425C89C4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3122-4D96-4D19-9113-DA8E88BE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C301-1DFD-4AE8-9F8F-0EDC26B6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2F6-16EE-46D7-8A56-AC7AE89E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6BB6-2EF3-4B09-8194-684EE763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0CEE-0492-4C2D-8C92-2A24D1F0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4564-4808-4106-8C86-58A2D4A1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D4B2-2F81-42DF-BE33-7A6D92C8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6597-6655-4DA0-B2E7-E7AD77B5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E1B1-23D5-4CC1-BDFF-D25C098A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A543-2246-44F7-8507-4CBD2C2F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E84-8F4F-476A-BD94-B0A7687C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9D5-F10B-4E46-AFE2-4E5AFB2C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025-FBE7-40A1-9904-B0755151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CF9-B5C9-4CFD-9646-0A8AA661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E14-9E15-4114-BB9E-2D20E99E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69D-2C4D-4F45-8D2D-7726140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4945-0129-49E7-9E66-A44270867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C8B6-6E83-42DA-BDAE-E4753BC1F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3767-6AB9-4D37-94A0-A127BD6D9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762120" y="160020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се подразумева под нумеричким диференцирањ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се подразумева под нумеричком интеграциј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су квадратурне формуле? Каква је структура интерполационе квадратурне форму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алгебарски степен тачности квадратурне форму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су квадратурне формуле Њутн – Котесовог тип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име се апроксимира подинтегрална функција код правила правоугао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правило правоугаоника и дати геометријску интерпретацију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оцени грешке код правила правоугао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гласи уопштена формула правоугаоника? Навести формулу за оцену грешке те форму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990720"/>
          <a:ext cx="8763120" cy="5429160"/>
        </p:xfrm>
        <a:graphic>
          <a:graphicData uri="http://schemas.openxmlformats.org/drawingml/2006/table">
            <a:tbl>
              <a:tblPr/>
              <a:tblGrid>
                <a:gridCol w="1136880"/>
                <a:gridCol w="1203120"/>
                <a:gridCol w="337500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о диференцирање и нумеричка интегр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нумеричког диференцирања и интег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о диференц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е за нумеричко диференцирање функ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а интегр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и препозна проблем нумеричке интеграције и да дефинише алгебарски степен тачности квадратурне форму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е правоугао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е правоугаоника уз оцену грешке и исту примени на решавање проблема интегр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19320"/>
          <a:ext cx="8534160" cy="31352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о диференц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е за нумеричко диференцирање функ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а интегр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и препозна проблем нумеричке интеграције и да дефинише алгебарски степен тачности квадратурне форму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е правоугао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изведе формуле правоугаоника уз оцену грешке и исту примени на решавање проблема интегр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45720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Rectangle 3"/>
          <p:cNvGraphicFramePr/>
          <p:nvPr/>
        </p:nvGraphicFramePr>
        <p:xfrm>
          <a:off x="2949480" y="1298520"/>
          <a:ext cx="3043440" cy="3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9480" y="1298520"/>
                    <a:ext cx="30434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Rectangle 3"/>
              <p:cNvSpPr txBox="1"/>
              <p:nvPr/>
            </p:nvSpPr>
            <p:spPr>
              <a:xfrm>
                <a:off x="1955880" y="1682640"/>
                <a:ext cx="53769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Rectangle 3"/>
              <p:cNvSpPr txBox="1"/>
              <p:nvPr/>
            </p:nvSpPr>
            <p:spPr>
              <a:xfrm>
                <a:off x="380880" y="2405160"/>
                <a:ext cx="8526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Rectangle 3"/>
              <p:cNvSpPr txBox="1"/>
              <p:nvPr/>
            </p:nvSpPr>
            <p:spPr>
              <a:xfrm>
                <a:off x="452520" y="3187800"/>
                <a:ext cx="761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78160" y="3411360"/>
                <a:ext cx="4532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k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9040" y="4332240"/>
                <a:ext cx="84780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80880" y="6126120"/>
                <a:ext cx="8564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k</m:t>
                    </m:r>
                    <m:limLow>
                      <m:e/>
                      <m:lim>
                        <m:r>
                          <m:t xml:space="preserve">2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80880" y="914400"/>
            <a:ext cx="8180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1. Numeričko diferenc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040" y="1836720"/>
            <a:ext cx="1805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38280" y="4191120"/>
                <a:ext cx="4532400" cy="18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209680" y="1295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o diferenc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800440" y="952560"/>
                <a:ext cx="21891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0000" y="1414440"/>
                <a:ext cx="453060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57200" y="952560"/>
            <a:ext cx="2343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kvidistantni čvor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55880" y="3487680"/>
            <a:ext cx="5298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2. Numerička integ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952800" y="3873600"/>
                <a:ext cx="1459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31840" y="4680000"/>
                <a:ext cx="29577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≈</m:t>
                    </m:r>
                    <m:r>
                      <m:t xml:space="preserve">g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183200" y="5178600"/>
                <a:ext cx="12668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568680" y="5562720"/>
                <a:ext cx="2035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105520" y="4640400"/>
            <a:ext cx="349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kvadraturna formul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040" y="5178600"/>
            <a:ext cx="380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polacione kvadraturne form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32080" y="6176880"/>
          <a:ext cx="33210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2080" y="6176880"/>
                    <a:ext cx="33210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o diferenciranje;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integr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92400" y="2757600"/>
                <a:ext cx="29574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8" name=""/>
          <p:cNvGraphicFramePr/>
          <p:nvPr/>
        </p:nvGraphicFramePr>
        <p:xfrm>
          <a:off x="3421080" y="3929040"/>
          <a:ext cx="26067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1080" y="3929040"/>
                    <a:ext cx="2606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354800" y="4870440"/>
                <a:ext cx="830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24160" y="4832280"/>
                <a:ext cx="11574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487680" y="5522760"/>
          <a:ext cx="2279880" cy="3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7680" y="5522760"/>
                    <a:ext cx="227988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51080" y="914400"/>
          <a:ext cx="272088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51080" y="914400"/>
                    <a:ext cx="2720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952880" y="1066680"/>
            <a:ext cx="245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težinski koeficij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06880" y="1566720"/>
            <a:ext cx="4378320" cy="387000"/>
            <a:chOff x="3206880" y="1566720"/>
            <a:chExt cx="4378320" cy="38700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3206880" y="1566720"/>
                  <a:ext cx="111456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4243680" y="1604880"/>
              <a:ext cx="33415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čvorovi interpolacij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09640" y="1989000"/>
            <a:ext cx="6413400" cy="372960"/>
            <a:chOff x="1709640" y="1989000"/>
            <a:chExt cx="6413400" cy="372960"/>
          </a:xfrm>
        </p:grpSpPr>
        <p:grpSp>
          <p:nvGrpSpPr>
            <p:cNvPr id="171" name=""/>
            <p:cNvGrpSpPr/>
            <p:nvPr/>
          </p:nvGrpSpPr>
          <p:grpSpPr>
            <a:xfrm>
              <a:off x="1709640" y="1989000"/>
              <a:ext cx="1420920" cy="372960"/>
              <a:chOff x="1709640" y="1989000"/>
              <a:chExt cx="1420920" cy="372960"/>
            </a:xfrm>
          </p:grpSpPr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1709640" y="2027160"/>
                    <a:ext cx="614520" cy="3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3" name=""/>
                  <p:cNvSpPr txBox="1"/>
                  <p:nvPr/>
                </p:nvSpPr>
                <p:spPr>
                  <a:xfrm>
                    <a:off x="2554200" y="2027160"/>
                    <a:ext cx="576360" cy="32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4" name=""/>
              <p:cNvSpPr/>
              <p:nvPr/>
            </p:nvSpPr>
            <p:spPr>
              <a:xfrm>
                <a:off x="2324160" y="1989000"/>
                <a:ext cx="30780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130560" y="1989000"/>
              <a:ext cx="49924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kvadraturna formula je zatvorenog ti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65040" y="2527200"/>
            <a:ext cx="472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kvadraturne formu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3564000"/>
            <a:ext cx="8334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finici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Kvadraturna formula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gebarskog stepena tačnosti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040" y="4870440"/>
            <a:ext cx="82947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ko su čvorovi                    unapred poznati i fiksirani, koeficij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određuju iz uslova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040" y="6137280"/>
            <a:ext cx="7872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vo su kvadraturne formul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jutn – Kotesovo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i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integr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647800" y="914400"/>
                <a:ext cx="92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417680" y="914400"/>
                <a:ext cx="1238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3024360" y="1336680"/>
          <a:ext cx="30114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360" y="1336680"/>
                    <a:ext cx="30114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04920" y="914400"/>
            <a:ext cx="8103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2) Ako su                                    nepoznati, onda se određuju iz us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644480"/>
            <a:ext cx="768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pitanju s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usove kvadraturne formu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989000"/>
            <a:ext cx="8218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ocenu greške koriste 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590920"/>
            <a:ext cx="8296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 1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neprekidna funkcija i neka su                     istog znaka. Ako                                  , onda postoji               takv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32240" y="2629080"/>
          <a:ext cx="1304640" cy="27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2240" y="2629080"/>
                    <a:ext cx="130464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72400" y="2590920"/>
                <a:ext cx="14968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2235240" y="2859120"/>
          <a:ext cx="2052720" cy="37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5240" y="2859120"/>
                    <a:ext cx="20527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719680" y="2859120"/>
                <a:ext cx="8445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5" name=""/>
          <p:cNvGraphicFramePr/>
          <p:nvPr/>
        </p:nvGraphicFramePr>
        <p:xfrm>
          <a:off x="3260880" y="3205080"/>
          <a:ext cx="256860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0880" y="3205080"/>
                    <a:ext cx="25686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70040" y="4533840"/>
                <a:ext cx="1382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8" name=""/>
          <p:cNvGraphicFramePr/>
          <p:nvPr/>
        </p:nvGraphicFramePr>
        <p:xfrm>
          <a:off x="6910560" y="4495680"/>
          <a:ext cx="1304640" cy="30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10560" y="4495680"/>
                    <a:ext cx="130464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224080" y="4803840"/>
                <a:ext cx="5382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183200" y="4764240"/>
                <a:ext cx="920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76440" y="5033880"/>
                <a:ext cx="2765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0880" y="4495680"/>
            <a:ext cx="8296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 2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eka je                       neprek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funkcija i neka je                stalnog znaka na         . Tada postoji                takvo da je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integr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706920" y="2066760"/>
                <a:ext cx="4762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129200" y="4410000"/>
                <a:ext cx="844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824120" y="4640400"/>
                <a:ext cx="9223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8" name=""/>
          <p:cNvGraphicFramePr/>
          <p:nvPr/>
        </p:nvGraphicFramePr>
        <p:xfrm>
          <a:off x="3774960" y="4794120"/>
          <a:ext cx="197640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4960" y="4794120"/>
                    <a:ext cx="19764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095560" y="5722920"/>
          <a:ext cx="54514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560" y="5722920"/>
                    <a:ext cx="54514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362320" y="914400"/>
            <a:ext cx="4800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8.3. Formula pravugao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668680" y="1298520"/>
                <a:ext cx="438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ξ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4" name=""/>
          <p:cNvGrpSpPr/>
          <p:nvPr/>
        </p:nvGrpSpPr>
        <p:grpSpPr>
          <a:xfrm>
            <a:off x="749160" y="1452600"/>
            <a:ext cx="2189160" cy="1805040"/>
            <a:chOff x="749160" y="1452600"/>
            <a:chExt cx="2189160" cy="1805040"/>
          </a:xfrm>
        </p:grpSpPr>
        <p:sp>
          <p:nvSpPr>
            <p:cNvPr id="215" name=""/>
            <p:cNvSpPr/>
            <p:nvPr/>
          </p:nvSpPr>
          <p:spPr>
            <a:xfrm flipV="1">
              <a:off x="1017720" y="1452600"/>
              <a:ext cx="0" cy="18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160" y="3103560"/>
              <a:ext cx="21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47760" y="2104920"/>
              <a:ext cx="1612800" cy="308160"/>
            </a:xfrm>
            <a:custGeom>
              <a:avLst/>
              <a:gdLst/>
              <a:ahLst/>
              <a:rect l="l" t="t" r="r" b="b"/>
              <a:pathLst>
                <a:path w="1016" h="194">
                  <a:moveTo>
                    <a:pt x="0" y="194"/>
                  </a:moveTo>
                  <a:cubicBezTo>
                    <a:pt x="88" y="125"/>
                    <a:pt x="177" y="57"/>
                    <a:pt x="266" y="49"/>
                  </a:cubicBezTo>
                  <a:cubicBezTo>
                    <a:pt x="355" y="41"/>
                    <a:pt x="407" y="153"/>
                    <a:pt x="532" y="145"/>
                  </a:cubicBezTo>
                  <a:cubicBezTo>
                    <a:pt x="657" y="137"/>
                    <a:pt x="931" y="28"/>
                    <a:pt x="1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47760" y="2413080"/>
              <a:ext cx="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229716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47760" y="241308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017360" y="241308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47760" y="2413080"/>
              <a:ext cx="1114560" cy="690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54160" y="30654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09600" y="3143160"/>
                <a:ext cx="17460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324160" y="3117960"/>
                <a:ext cx="17460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19120" y="2259000"/>
                <a:ext cx="471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62360" y="1836720"/>
                <a:ext cx="4712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382840" y="2281320"/>
                <a:ext cx="5065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08280" y="3603600"/>
                <a:ext cx="2151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3657600"/>
            <a:ext cx="2649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avilo pravugao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3449520"/>
            <a:ext cx="2514600" cy="690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1360" y="4371840"/>
            <a:ext cx="82566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ore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o oceni greške):   Ako je              neprekidno diferencijabilna funkcija, onda postoji                takv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1360" y="5446800"/>
            <a:ext cx="1689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ormula pravougao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914400"/>
            <a:ext cx="8180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običajeno je da se interval integracije podeli na više ( jednakih ) de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16320" y="1298520"/>
                <a:ext cx="3879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h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3080" y="1874880"/>
                <a:ext cx="85658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=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  <m:e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f</m:t>
                            </m:r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2428920" y="4946760"/>
          <a:ext cx="49291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4946760"/>
                    <a:ext cx="49291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03160" y="3564000"/>
                <a:ext cx="3878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919760" y="3657600"/>
            <a:ext cx="422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opštena formula pravougao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3411360"/>
            <a:ext cx="4113000" cy="882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486320"/>
            <a:ext cx="288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ormula pravougao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5T14:37:4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