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BC25-4BB5-439D-8A1A-5BC6DC5DB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B8A2-02DE-4CF1-9EF2-E066A8603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702A-4D0C-4CBA-A077-8FB04B7FC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8287-7AB5-4328-BBC1-189FF6B15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B3619-D4C9-4632-9B3C-4B9EB445A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33A66-1D6C-45EF-991C-A9EB9996D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4CEA3-3868-428A-B68C-E97922F4D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AD96F-B493-46E8-928B-8C2EA273E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3F969-1420-4F39-88D7-AEB555F61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4BCA0-1BD2-4BA8-9AFF-84AB3372A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A3ADC-44F7-4041-9757-2F4A4A01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BA45-D1C5-4740-B8D9-6B003C654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54959-CC51-4B21-9324-DF2E8D15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153D3-02F5-4EA5-9BCD-D094C4B4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0976D-1307-4599-A260-D778B85C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A3BCA-2475-494F-B9C6-FCBD33E27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5B612-25A3-4C75-9375-506B78B8A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6642-5D4C-472A-86AF-01211F5E7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1832-DF28-46F8-AE70-1A358AF89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5EF5-75E2-4623-9482-5046347AE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A85D-7E6C-47FC-A66A-5D918B3DB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2D77-033E-44DE-A0DF-8F5C09EF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4060-74F3-486F-A866-1DF3FE4E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6A50-1FD1-42A8-9E8E-61D938CA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338EE-3CAE-4980-8B46-6E7C19DF35A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3400C-4CE8-422F-AFCB-F3CBDE73E6A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3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500" spc="-1" strike="noStrike">
                <a:solidFill>
                  <a:srgbClr val="cc3300"/>
                </a:solidFill>
                <a:latin typeface="Arial"/>
              </a:rPr>
              <a:t>Zdravlje i sigurnost na radu</a:t>
            </a:r>
            <a:endParaRPr b="0" lang="en-US" sz="45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03280" y="3499920"/>
            <a:ext cx="6400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Arial"/>
              </a:rPr>
              <a:t>Sektori visokog rizika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Arial"/>
              </a:rPr>
              <a:t>Uzroci nesreća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Arial"/>
              </a:rPr>
              <a:t>Prevencija nesreća na radu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baveze poslodavaca i zaposlenih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Prevencija nesreća na radu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esreće na radnom mestu mogu izazvati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fizičke opasnosti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loša praks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eodgovorno ponašanje zaposleni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ećinu smrti, povreda na radu ili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profesionalnih oboljenja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moguće je sprečiti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dgovornost je i poslodavca i zaposlenog da spreče nesreće kad god je to moguć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Obave</a:t>
            </a: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ze poslodavaca i zaposlenih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 u="sng">
                <a:solidFill>
                  <a:srgbClr val="000000"/>
                </a:solidFill>
                <a:uFillTx/>
                <a:latin typeface="Arial"/>
              </a:rPr>
              <a:t>Poslodavac je dužan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razvije sigurnu-bezbednu praksu i sigurne sisteme rad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a održava zdravo i bezbedno radno okruženj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a pismeno obaveštava zaposlene o politikama zdravlja i bezbednosti na radu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a obezbedi potreban trening zaposlenim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a zaposlenima daje informacije o potencijalnim opasnostim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 u="sng">
                <a:solidFill>
                  <a:srgbClr val="000000"/>
                </a:solidFill>
                <a:uFillTx/>
                <a:latin typeface="Arial"/>
              </a:rPr>
              <a:t>Zaposleni su dužni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 s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avesno i odgovorno vode računa o sebi i drugim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a postupaju u skladu sa merama bezbednosti i zdravlja na radu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a informišu poslodavca o svakoj situaciji koja predstavlja rizik za bezbednost ili zdravlj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Zdravlje i bezbednost na radu-RS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akonodavstvo definiše minimalne standarde u pogledu zdravlja i bezbednosti kadrova, koji moraju biti zadovoljen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Zakon o bezbednosti i zdravlju na radu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oja su obaveze poslodavaca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akva su prava zaposleni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dležna institucija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starstvo rada i socijalne politik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prava za bezbednost i zdravlje na radu u sastavu ministarst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Obaveze poslodavc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Poslodavac je duž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a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zvrši osposobljavanje zaposlenog za bezbedan i zdrav rad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kod zasnivanja radnog odnosa, odnosno premeštaja na druge poslove, prilikom uvođenja nove tehnologije ili novih sredstava za rad, kao i kod promene procesa rada koji može prouzrokovati promenu mera za bezbedan i zdrav rad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da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Arial"/>
              </a:rPr>
              <a:t>svako lic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koje se po bilo kom osnovu nalazi u radnoj okolini,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Arial"/>
              </a:rPr>
              <a:t>upozori na opasna mesta ili na štetnosti po zdravlj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koje se javljaju u tehnološkom procesu, odnosno na mere bezbednosti koje mora da primeni, i da ga usmeri na bezbedne zone za kretanj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a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zaposlenog upozna sa svim vrstama rizik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na poslovima na koje ga određuje i o konkretnim merama za bezbednost i zdravlje na rad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da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Arial"/>
              </a:rPr>
              <a:t>vidno obeleži i istakne oznake za bezbednost i/ili zdravlj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radi obaveštavanja i informisanja zaposlenih o rizicima u tehnološkom procesu, pravcima kretanja i dozvoljenim mestima zadržavanja kao i o merama za sprečavanje ili otklanjanje rizik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Kazne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Novčanom kaznom od 800.000 do 1.000.000 dinara kazniće se za prekršaj poslodavac sa svojstvom pravnog lic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ko zaposlenom ne obezbedi rad na radnom mestu i u radnoj okolini na/ u kojima su sprovedene mere bezbednosti i zdravlja na rad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ako prilikom organizovanja rada i radnog procesa ne obezbedi preventivne mere radi zaštite života i zdravlja zaposleni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ako ne izvrši osposobljavanje zaposlenog za bezbedan i zdrav ra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ako ne zaustavi svaku vrstu rada koji predstavlja neposrednu opasnost za život ili zdravlje zaposleni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ako zaposlenom odredi da obavlja poslove na kojima nisu sprovedene mere bezbednosti i zdravlja na rad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ako zaposlene ne obaveštava o uvođenju novih tehnologija i sredstava za rad, kao i opasnostima od povreda i oštećenja zdravlja koji nastaju njihovim uvođenj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Primer: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ko zaposleni ode da opere šolju od čaja posle upotrebe, oklizne se u kuhinji jer je pod klizav, i povredi se, šta mislite čija je greška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Primer: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a svako radno mesto identifikujte najmanje jednu moguću opasnost i najmanje jednu meru koju bi poslodavac mogao preduzeti u cilju smanjenja rizika za povredu na radu ili profesionalno oboljenj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adnik u restoranu brze hra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ogram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Vozač kamio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ole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893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800" spc="-1" strike="noStrike">
                <a:solidFill>
                  <a:srgbClr val="cc3300"/>
                </a:solidFill>
                <a:latin typeface="Arial"/>
              </a:rPr>
              <a:t>Podsticanje primene pravila bezbednosti</a:t>
            </a: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160" y="1522080"/>
            <a:ext cx="8234280" cy="53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12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oslodavac ne treba samo da definiše pravila o bezbednosti na radnom mestu, već i da podstakne njihovu primen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12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dređene vrste povreda mogu se sprečiti kro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7640" indent="-28584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nalizu pos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7640" indent="-28584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isana pravila/politik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7640" indent="-28584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trening iz bezbednost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7640" indent="-28584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zaštitnu oprem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7640" indent="-28584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agrade i sankcij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7640" indent="-28584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odršku menadžmen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7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Zdravlje i bezbednost na radu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dravlje i bezbednost na radu su prvenstvena briga kadrovskog menadžmen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Zdravlj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opšte stanje fizičkog, mentalnog i emocionalnog blagostanj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Bezbednost (sigurnost)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stanje u kome se štiti fizičko blagostanje ljudi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užnost je poslodavca da svojim zaposlenima obezbedi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zdravo i bezbedno okruženje za r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ezbednost zaposlenih je ključna za svaku organizaciju, bez obzira na njenu veličin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Zdravlje i bezbednost na radu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cenjuje se da svake godine 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2,2</a:t>
            </a:r>
            <a:r>
              <a:rPr b="0" lang="pl-PL" sz="2400" spc="-1" strike="noStrike" u="sng">
                <a:solidFill>
                  <a:srgbClr val="cc3300"/>
                </a:solidFill>
                <a:uFillTx/>
                <a:latin typeface="Arial"/>
              </a:rPr>
              <a:t> miliona radnik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gin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nesre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na radu il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re zbog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fesional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g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oboljenja- to je oko </a:t>
            </a:r>
            <a:r>
              <a:rPr b="0" lang="pl-PL" sz="2400" spc="-1" strike="noStrike" u="sng">
                <a:solidFill>
                  <a:srgbClr val="cc3300"/>
                </a:solidFill>
                <a:uFillTx/>
                <a:latin typeface="Arial"/>
              </a:rPr>
              <a:t>6000 ljudi svakog dan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d ovog broja, oko 1000 radnika pogine u nesreći na rad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 EU godišnje umre više od 150000 zaposlenih godišnj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8900 u nesreći na radu i 142000 zbog profesionalnih oboljenj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snovni faktori koji utiču na zdravlje i bezbednost na radu s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emijske supst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aši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gađenost vazduh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ka i vibracij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vat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adijacij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rgonomski uslovi (osvetljenje, oprema,itd.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Zdravlje i bezbednost na radu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3628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Sektori visokog rizik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Poljoprivreda-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koja trenutno zapošljava oko polovine svetske radne snage (1.3 milijardi ljudi); procenjuje se da godišnje pogine oko </a:t>
            </a:r>
            <a:r>
              <a:rPr b="0" lang="sr-Latn-CS" sz="2400" spc="-1" strike="noStrike" u="sng">
                <a:solidFill>
                  <a:srgbClr val="cc3300"/>
                </a:solidFill>
                <a:uFillTx/>
                <a:latin typeface="Arial"/>
              </a:rPr>
              <a:t>170000 radnik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u poljoprivredi; to znači da je rizik smrti radnika u poljoprivredi skoro </a:t>
            </a:r>
            <a:r>
              <a:rPr b="0" lang="sr-Latn-CS" sz="2400" spc="-1" strike="noStrike" u="sng">
                <a:solidFill>
                  <a:srgbClr val="cc3300"/>
                </a:solidFill>
                <a:uFillTx/>
                <a:latin typeface="Arial"/>
              </a:rPr>
              <a:t>dva puta već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u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nosu na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ru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sektori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Rudarstvo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pošljava oko 1% svetske radne snage, a odgovorno je za 5% ukupnog broja nesreća na rad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Građevinarstvo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godišnje se dogodi preko </a:t>
            </a:r>
            <a:r>
              <a:rPr b="0" lang="sr-Latn-CS" sz="2400" spc="-1" strike="noStrike" u="sng">
                <a:solidFill>
                  <a:srgbClr val="cc3300"/>
                </a:solidFill>
                <a:uFillTx/>
                <a:latin typeface="Arial"/>
              </a:rPr>
              <a:t>60 hiljada nesreća na gradilištim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to je otprilike jedna nesreća sa smrtnim ishodom na svakih deset minu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t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Zdravlje i bezbednost na radu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ko 80% nesreća na radu dešava se u SM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l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enjuje se da muškarci čine oko 80% smrti na rad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Starost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kod mlađih radnika postoji veći rizik od ozbiljnih nesreć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% nesreća dešava se pojedincima starosti 20-29 godin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8% nesreća dešava se zaposlenima u toku prve godine rada na određenom posl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HIV/AIDS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zaraženo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ko 26 miliona radnika širom sve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Zdravlje i bezbednost na radu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d dec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om sveta radi oko 250 miliona dece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tarost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 5 do 14 godi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akon o radu R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‘’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Radni odnos može da se zasnuje sa licem koje ima najmanje 15 godina života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Radni odnos sa licem mlađim od 18 godina života može da se zasnuje uz pismenu saglasnost roditelja, usvojioca ili staraoca, </a:t>
            </a:r>
            <a:r>
              <a:rPr b="0" i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ako takav rad ne ugrožava njegovo zdravlje, moral i obrazovanje, odnosno ako takav rad nije zabranjen zakonom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.’’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22 odsto dečaka i devojčica između 15 i 18 godina radi za nova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Zdravlje i bezbednost na radu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zroci nesreć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lizavi ili loše održavani podovi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ezaštićene električne ži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epreke u prolazima ili na stepeništ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enjanje da bi se dohvatile visoke poli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dizanje teških predme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epravilna upotreba električnih mašin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epravilno obeležavanje ili čuvanje hemikalij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pasnosti po zdravlj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anuelne operacije (podizanje teret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dijacij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upstance koje su otrovne, korozivne ili izazivaju oboljenja (azbes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asivno pušenj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nzumiranje alkohola, drog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Statistički podaci- najčešći uzroci smrti u vezi sa radom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6408720" cy="3787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443640" y="2565360"/>
            <a:ext cx="2700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32% r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23% bolesti cirkula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19% nesreće na rad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17% zarazne bole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7% oboljenja respiratornih org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Zdravlje i bezbednost na radu- troškovi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893080" cy="566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U proseku 4% bruto domaćeg proizvoda troši se zbog odsustva sa posla, bolesti zaposlenih, problema invaliditeta ili beneficija preživelima u nesrećama na radu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šak koji društvo snosi zbog nesreća na radu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ofesionalnih oboljenj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ključuje i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vremeno penzionisanj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Apsentiz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Nezaposleno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Siromašnija domaćinstv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5T20:07:06Z</dcterms:created>
  <dc:creator>Tanja</dc:creator>
  <dc:description/>
  <dc:language>en-US</dc:language>
  <cp:lastModifiedBy>w7</cp:lastModifiedBy>
  <dcterms:modified xsi:type="dcterms:W3CDTF">2010-10-31T18:31:18Z</dcterms:modified>
  <cp:revision>27</cp:revision>
  <dc:subject/>
  <dc:title>Zdravlje i sigurnost na radu</dc:title>
</cp:coreProperties>
</file>