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FB0-1BCC-4957-A2F0-C852D062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9E9-3B70-4E4A-BDC2-22221B21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25B-CFA2-4DE4-ADE9-DF3FCA83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BDD-4AFB-4F21-9BD2-00A4CD38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D96-5243-4EE8-9CA6-41A27D9E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C0D-79A8-42D3-A0BF-ED84BD0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998-8AF6-42FF-ABA8-D1DA5E1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0E6D-46CD-4B05-83FE-45CE1300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BD92-549D-4A18-BB98-1B08C38E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4776-D065-4FD3-8E93-7230FEF7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CDA2-D829-4382-8D1A-B103E934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66A-3892-401C-BC5D-F98E1B5D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B586-4167-447D-B3BB-83676D0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668-2BF2-4201-8FE8-BDDD733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619B-2F47-4130-A689-935ADF5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1358-71DD-4286-8098-35C1FB67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8BD7-92CD-4D67-A7C5-30DB685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F1B-5899-44B1-92B7-943E59FD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AA0-EA65-4060-99EE-41DB358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511-A195-4DF9-9DFA-E085EDCF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AD4-700D-4032-A101-C44F15A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086-6F58-44DC-B9BF-F728AD6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E18-460E-43E0-8301-2243C3C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8A5-533E-4C78-9981-CC86D2BB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3CAB-5078-4F23-9DE9-3CD3277639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44B5-AE56-4519-B9F0-7A39FE051F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900" spc="-1" strike="noStrike">
                <a:solidFill>
                  <a:srgbClr val="cc3300"/>
                </a:solidFill>
                <a:latin typeface="Arial"/>
              </a:rPr>
              <a:t>Razvoj </a:t>
            </a:r>
            <a:r>
              <a:rPr b="0" lang="en-US" sz="5900" spc="-1" strike="noStrike">
                <a:solidFill>
                  <a:srgbClr val="cc3300"/>
                </a:solidFill>
                <a:latin typeface="Arial"/>
              </a:rPr>
              <a:t>zaposlenih</a:t>
            </a:r>
            <a:endParaRPr b="0" lang="en-US" sz="59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07248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zvoj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posleni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Razlika između 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g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a i razvoj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Planiranje karije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iranje sukcesije</a:t>
            </a: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 menadžer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ukcesija menadžera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laniranje sukcesije menadž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35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ces identifikacije i praćenja zaposlenih sa visokim potencijalom koji će moći da popune menadžerske položaje kada se pojavi potre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99160" y="1825560"/>
            <a:ext cx="34034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planiranja sukcesij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cija položaja za koje treba planirati kad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dentifikacija zaposlenih koje treba uzeti u obz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efinisanje zahteva pos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erenje potencijala zaposleni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cena i plan zadovoljenja razvojnih potreb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vezivanje planiranja sukcesije sa drugim kadrovskim sistem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100000"/>
              </a:lnSpc>
              <a:spcBef>
                <a:spcPts val="550"/>
              </a:spcBef>
              <a:buClr>
                <a:srgbClr val="66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avanje povratnih informacija zaposlen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08620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7314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zaposlenih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 je aktivnost učenja koja je usmerena prema budućim, a ne sada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 potrebama i koja se više zanima za napredovanje u karijeri nego za neposredno izvršenj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ha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ojačati sposobnost zaposlenih za uspešno preuzimanje širih odgovornosti u organiz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čemu je razlika između razvoja i treninga kadr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like između treninga i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2276640"/>
          <a:ext cx="7556400" cy="3697200"/>
        </p:xfrm>
        <a:graphic>
          <a:graphicData uri="http://schemas.openxmlformats.org/drawingml/2006/table">
            <a:tbl>
              <a:tblPr/>
              <a:tblGrid>
                <a:gridCol w="2517840"/>
                <a:gridCol w="2520720"/>
                <a:gridCol w="2517840"/>
              </a:tblGrid>
              <a:tr h="46908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441"/>
                    </a:solidFill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441"/>
                    </a:solidFill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ZVO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441"/>
                    </a:solidFill>
                  </a:tcPr>
                </a:tc>
              </a:tr>
              <a:tr h="37764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ašnj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uć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en upotrebe radnog isku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08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ema za obavljanje sadašnjeg pos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ema za prom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šće zaposlen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avez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320" rIns="103320" tIns="51480" bIns="51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09640"/>
                          <a:tab algn="l" pos="1619280"/>
                          <a:tab algn="l" pos="2428920"/>
                          <a:tab algn="l" pos="3238560"/>
                          <a:tab algn="l" pos="4048200"/>
                          <a:tab algn="l" pos="4857840"/>
                          <a:tab algn="l" pos="5667480"/>
                          <a:tab algn="l" pos="6477120"/>
                          <a:tab algn="l" pos="7286760"/>
                          <a:tab algn="l" pos="8096400"/>
                          <a:tab algn="l" pos="8906040"/>
                          <a:tab algn="l" pos="9715680"/>
                          <a:tab algn="l" pos="1052496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ovolj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3320" marR="103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6000" y="333360"/>
            <a:ext cx="87822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c3300"/>
                </a:solidFill>
                <a:latin typeface="Arial"/>
              </a:rPr>
              <a:t>Primer: razlika između treninga i razvoja</a:t>
            </a:r>
            <a:endParaRPr b="0" lang="en-US" sz="38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87240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Metode razvoja menadžer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i razvoja na pos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kust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acija pos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iran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vetovanje menadžmen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hnika kritičnih događa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projek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vljanje ci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pomoć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i razvoja van pos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 konferen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učavanje slučajeva i igranje ulo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lovne ig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-gru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čenje na dalji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adno i</a:t>
            </a: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skustvo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 utiče na razvoj zaposlenih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vanje pos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acija pos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meštaj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đen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eranje nad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vremeni rad u         drugoj organizac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543564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47592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Razvoj kadrova i međuljudski odnosi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09600" indent="-30960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Arial"/>
              </a:rPr>
              <a:t>Mentorstv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goročni odnos u kome stariji zaposleni sa iskustvom (mentor) pomaže zaposlenom da ostvari lični razvoj i razvoj karij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ntorski programi su najuspešniji kada su dobrovolj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uspešnog mentorskog programa može se desiti da zaposleni dobije unapređenje, povišicu ili veći uticaj u organizaci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9600" indent="-309600">
              <a:lnSpc>
                <a:spcPct val="100000"/>
              </a:lnSpc>
              <a:spcBef>
                <a:spcPts val="675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ach</a:t>
            </a:r>
            <a:r>
              <a:rPr b="0" i="1" lang="sr-Latn-CS" sz="27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60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kolega ili menadžer koji radi sa zaposlenim sa ciljem da ga motiviše, pomogne mu da razvije veštine i pruža mu podršku i povratne inform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Karijera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032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radicionalna karij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enljiva karijera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tean Career</a:t>
            </a:r>
            <a:r>
              <a:rPr b="0" i="1" lang="sr-Latn-C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ijera koja se često menja usled promena interesa, sposobnosti i vrednosti pojedinca i radnog okruže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59480" y="4448160"/>
            <a:ext cx="2684520" cy="24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2519640" cy="229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73520" y="1563840"/>
            <a:ext cx="0" cy="508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333000"/>
            <a:ext cx="8731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roces planiranja karijer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3040" y="2060640"/>
            <a:ext cx="8670960" cy="35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8:07:40Z</dcterms:created>
  <dc:creator>Tanja</dc:creator>
  <dc:description/>
  <dc:language>en-US</dc:language>
  <cp:lastModifiedBy>w7</cp:lastModifiedBy>
  <dcterms:modified xsi:type="dcterms:W3CDTF">2010-11-01T11:52:04Z</dcterms:modified>
  <cp:revision>41</cp:revision>
  <dc:subject/>
  <dc:title>Razvoj kadrova</dc:title>
</cp:coreProperties>
</file>