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418A-A6A4-459A-A120-C84022AAE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ED69-AB92-4F3F-BA8B-320EBC12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491B-FFEB-4B64-9F1A-4F936769D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E7DD-191D-43D8-8B7C-D3B5B3643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8699-0242-42A1-8E53-2D664DBFC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B6F9-3E85-4A0B-B26F-ED1F1E5C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C046-699A-4576-85C3-9188D0BE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64BC-5D6D-456C-84E6-4BA4C98A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98E6-0597-45DD-8826-2E949FEB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7A78-AA2F-4D55-8C56-AC21759E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D730-A333-4A1A-BA27-13A3CC1A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6BDD-F253-49D1-B139-260A4A37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48BA-73B1-4ED5-B77E-8823D7BE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A908-4218-4B5C-BEE7-3408F5FB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8873-5803-4CFC-B6D4-A85C1B4F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B1F4-8EE6-4FD2-93D0-FBE052387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978A-9EDD-4E17-899A-089849120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BD77-8A3D-422A-A119-7EC7264E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F910-D0CE-4EC4-B38D-680BFB60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9E4B-DA78-4F5B-BB43-4D10A759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020F-0715-4640-A453-AAA063AA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3010-E11C-4993-BDF9-C8A94AC5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1BBD-76E0-4A9F-A94D-D4809C0E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3059-5769-4151-90A8-6B88550B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1E95-9F69-4FA2-8580-A94C39CCBE7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C4FC-B8C4-48A4-84B2-EE739236E9E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500" spc="-1" strike="noStrike">
                <a:solidFill>
                  <a:srgbClr val="cc3300"/>
                </a:solidFill>
                <a:latin typeface="Arial"/>
              </a:rPr>
              <a:t>Koordinacija kadrovskih aktivnosti</a:t>
            </a:r>
            <a:endParaRPr b="0" lang="en-US" sz="45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Mehanizmi koordinacij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Kadrovske politik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Preventivna i progresivna disciplin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Tipični problemi 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075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ipični problemi koji mogu zahtevati pok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nje disciplinskog postupk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šnjenja na posa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psentiz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poštovanje pravila bezbednosti na ra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oš kvalitet ra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olazak na posao pod dejstvom alkohola/dro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rađa imovine kompani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Cyberslacking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surfovanje po internetu na radnom mest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Formalna komunikacij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1700280"/>
            <a:ext cx="8497800" cy="68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ormalna komunikacija obezbeđuje informacije o drugim mehanizmima koordinacije i stvara pogodnu klimu za njihovu pri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Kadrovske informacije mogu se prenositi na različite nač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ručnici za zaposl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utije za predlo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dbori za komunikaci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rganizacioni ombuds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ličiti tipovi publika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litika otvorenih v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820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3300"/>
                </a:solidFill>
                <a:latin typeface="Arial"/>
              </a:rPr>
              <a:t>Koordinacija kadrovskih aktivnosti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ordinacija: harmonično odvijanje kadrovskih aktivnosti u organizacij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dgovornost za koordinaciju kadrovskih aktivnosti imaju kadrovsko odeljenje i linijski menadžer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ordinacija se ostvaruje kroz nekoliko mehanizama koordinacij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litik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avi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iscipl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ormalna komunikaci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Mehanizmi koordinacij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8686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-Politike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su opšte po prirod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rocedure i pravila su usmereni na specifične situacije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-Procedure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su uobičajene metode sprovođenja pojedinih aktivnosti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-Pravil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odražav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u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odluku menadžmenta o tome koju radnju treba ili ne treba preduzeti u datoj situacij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-Pravila imaju životni ciklu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3300"/>
                </a:solidFill>
                <a:latin typeface="Arial"/>
              </a:rPr>
              <a:t>Kadrovska politika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Radno vreme, pau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avila ponašanja zaposleni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tandardi komunikacij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a kolegama, nadređenima, podređenima, gostima, klijentima/potrošačima naći ya maxi ili tem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irektna komunikacija/telefon/faks/e-ma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avila oblačenja- standardi poslo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g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izgl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tički kode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Kadrovska politik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Efektivna kadrovska politika mora da bud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konzistent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razum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neophodn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primenjiva na šire grupe zaposleni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razumlji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obznanjena (npr. priručnici za zaposle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Disciplin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isciplina se odnosi na poštovanje zahtevanih ponašan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isciplina predstavlja jedan oblik treninga za primenu organizacionih pravi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oje dva pristupa discipilin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ventivni 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zne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čekuje se da nakon kažnjavanja zaposleni neće ponoviti neželjeno ponašan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reventivna disciplin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ilj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preventivne disciplin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je da se pojača svest zaposlenih o organizacionim politikama i pravili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nanje o disciplinskim kaznama može da spreči prekrša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avilo ‘vruće ringle’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t-stove rule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disciplinska praksa organizacije treba 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upozori zaposlene i ima posledice koje su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konzistentne, objektivne i trenut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77080" y="3933720"/>
            <a:ext cx="18288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7314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rogresivna disciplin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Progresivna disciplin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je trening ili oblikovanje ponašanja u cilju ispravljanja neprihvatljivog ponašan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ormalni disciplinski postupak u kome posledice postaju ozbiljnije ako zaposleni ponovi prekršaj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poslenom se daje prilika da popravi svoje ponašanje pre nego što bude otpušte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3300"/>
                </a:solidFill>
                <a:latin typeface="Arial"/>
              </a:rPr>
              <a:t>Progresivna disciplina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isciplinske mer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pomena-ukor-ukor pred isključenje-suspenzija-otpuštan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11280" y="3716280"/>
            <a:ext cx="76723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14:03:56Z</dcterms:created>
  <dc:creator>Tanja</dc:creator>
  <dc:description/>
  <dc:language>en-US</dc:language>
  <cp:lastModifiedBy>w7</cp:lastModifiedBy>
  <dcterms:modified xsi:type="dcterms:W3CDTF">2010-10-22T16:45:14Z</dcterms:modified>
  <cp:revision>7</cp:revision>
  <dc:subject/>
  <dc:title>Koordinacija kadrovskih aktivnosti</dc:title>
</cp:coreProperties>
</file>