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13C-2C94-4F49-9F71-ABCFC96C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2F1-208D-4936-A132-69B42569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F15-49A9-4681-A65E-6C8648BD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5C3-9A43-4085-A817-2C092862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FF15-B832-4077-998A-98AC33C2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1642-438D-4CFB-BCA8-67085473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A586-4460-41A2-8406-3A881F36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BC1F-3054-4B1A-AAC3-60DDA309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9A29-9063-464F-8481-6BBD9DCB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DF8F-6C57-4AB9-98A6-24B3F9F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D60E-34FA-4BAD-994B-8B8C9162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58D-F130-440F-8D04-4EF29FA7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1AD1-1097-4BD2-9B4B-C76DC27D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DE86-56C6-444A-AB1D-C3F040AA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D32D-76EF-4E1B-88CB-D7DE1721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2E0A-91AE-4770-9F79-4FBB3957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DA31-4EEF-48B8-8EE1-B74D855A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3DB-09F8-4A24-BCD9-B7982866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C44-3E7E-449E-9852-275D9224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261-E6FE-40AD-B9EC-48C61D0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AC9-0CCC-4144-9068-F0EAB224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9F6-D805-4602-8558-CEBEAA70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1A2-708B-4BEA-9115-C5EB934E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57A-6E1D-41E7-9015-124294FB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DA73-479E-4F63-95F1-19DE6C9677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9399-2429-44C1-BEBF-A4B4A25DAB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Nadoknade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3645000"/>
            <a:ext cx="607248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Vrste nadoknad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Administracija nadoknad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Razvoj sistema plać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Struktura plaćan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cenjivanje posl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cenjivanje posla 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b evalu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 u kojoj se meri relativna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 vred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lov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vrednost poslova 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ganizaci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y Guide-Chart Profile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d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sr-Latn-CS" sz="3200" spc="-1" strike="noStrike" u="sng">
                <a:solidFill>
                  <a:srgbClr val="cc3300"/>
                </a:solidFill>
                <a:uFillTx/>
                <a:latin typeface="Arial"/>
              </a:rPr>
              <a:t>Hay plan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tod ocenjivanja posla kojim se kreira profil za svaki položaj u organizaciji na osnovu tri faktor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ne veštine, znanja i sposob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šavanje problema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ni stepen analize, kreativnosti i logičkog razmišlj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govorn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truktura plać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tegorija plaćanja 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y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slovi za koje je ocenjeno da imaju približno istu vrednost obično se grupišu u jedinstvenu kategoriju plaćanja (svi poslovi u okviru jedne kategorije su plaćeni ist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Broadbanding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 koristi se manji broj kategorija plaćanja, a proširuje se rasp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on stope plaćanja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y 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ređuje minimum, maksimum i sre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ju vredno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oguće nadoknad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 zaposlenog čiji posao potpada pod određenu kategoriju plaćanj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sponi mogu da se preklapaju, tako da najveća nadoknada u jednoj kategoriji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bu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ća od 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niže nadoknade u sle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ćoj kategorij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truktura plać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nija politike plaćanja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y policy lin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ija koja povezuje nadoknade sa rezultatima (bodovima) ocenjivanja po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vena stopa plaćanja (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red-circl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ao čija je stopa plaćanja iznad raspona koji je predviđen za kategoriju plaćanja u koju je posao svrst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d</a:t>
            </a:r>
            <a:r>
              <a:rPr b="0" lang="sr-Latn-CS" sz="24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ircled employ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zaposleni koji je plaćen iznad raspona predviđenog za taj posa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lena stopa plaćanja (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green-circl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ao čija je stopa plaćanja ispod raspona koji je predviđen za kategoriju plaćanja u koju je posao svrst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een</a:t>
            </a:r>
            <a:r>
              <a:rPr b="0" lang="sr-Latn-CS" sz="24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ircled employ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zaposleni koji je plaćen ispod predviđenog rasp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 struktura plać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472440" cy="5548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05360" y="4498920"/>
            <a:ext cx="249120" cy="258840"/>
          </a:xfrm>
          <a:prstGeom prst="ellipse">
            <a:avLst/>
          </a:prstGeom>
          <a:solidFill>
            <a:srgbClr val="4ddf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85880" y="3343320"/>
            <a:ext cx="249480" cy="257040"/>
          </a:xfrm>
          <a:prstGeom prst="ellipse">
            <a:avLst/>
          </a:prstGeom>
          <a:solidFill>
            <a:srgbClr val="fd43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truktura plaćanja i stvarna pl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608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Kadrovsko odeljenje je obično odgovorno za definisanje i praćenje strukture plaćanj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a-Ratio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odnos prosečne plate zaposlenih u određenoj kategoriji plaćanja i srednje vrednosti raspona stope plaćanj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-ratio&gt;1, organizacija plaća malo više nego što je plani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-ratio&lt;1, organizacija plaća manje nego što je plani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47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-ratio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organizacija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ća onoliko koliko je plani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10200" y="1844640"/>
            <a:ext cx="4033800" cy="41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Nadoknad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 perspektive poslodavca nadoknada predstavlja moćno sredstvo za ostvarenje organizacionih cilje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doknada ima značajan uticaj na organizaci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tiče na stavove i ponašanja zaposlenih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tiče na vrste zaposlenih koje organizacija privlači i zadrž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že da uskladi interese zaposlenih sa organizacionim ciljev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matra se kao znak statusa i uspeh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doknade predstavljaju značajan trošak za organizaci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Vrste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nadoknad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ktn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novna plat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base pa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dnica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wag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: zaposleni se plaćaju na osnovu vremena provedenog na radu(po broju sati ra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lata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: zaposleni primaju plate koje su konzistentne za određeni vremenski period bez obzira na broj sati 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gr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dividual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rup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rganizac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direktn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enefic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dravstveno osiguran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laćeni godišnji odm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enziono osiguran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dgovornost za nadokn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Kadrovski specijalist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obično uspostavljaju i administriraju sistem nadokn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u organizaciji, tako što sprovode ocenjivanje poslova i radnih zadataka i vrše istraživanje nadoknada koje daju organizacije u istoj industriji da bi odredili nivo nadoknada za svoje zaposle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Operativni menadžer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okušavaju da usaglase napore zaposlenih sa nagradama koristeći smernice dobijene od kadrovskog odeljenj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itanja sa kojima se organizacije suočavaj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ed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akos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na jednakost: da li su plate fer u pogledu relativne vrednosti svakog posla za organizaciju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ksterna jednakost: da li su nadnice koje daje organizacija fer u poređenju sa visinom nadnica van organizacij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dividualna jednakost: da li je plata svakog pojedinca fer u poređenju sa platom drugih zaposlenih koji obavljaju isti ili sličan posa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epen javnosti/ tajnosti informacija o nadoknadam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9773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tavovi zaposlenih o pravednosti plat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734080"/>
            <a:ext cx="72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Šta zaposleni mogu uraditi ako smatraju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da plate nisu pravedn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803268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Administracija nadoknad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zvoj, primena i održavanje osnovnog sistema nadoknade naziva se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administracija nadoknad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novna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svrh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dministracije nadoknade je da zaposlenima obezbedi nadoknade koje su </a:t>
            </a:r>
            <a:r>
              <a:rPr b="0" lang="sr-Latn-CS" sz="2800" spc="-1" strike="noStrike">
                <a:solidFill>
                  <a:srgbClr val="cc3300"/>
                </a:solidFill>
                <a:latin typeface="Arial"/>
              </a:rPr>
              <a:t>konkurentn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800" spc="-1" strike="noStrike">
                <a:solidFill>
                  <a:srgbClr val="cc3300"/>
                </a:solidFill>
                <a:latin typeface="Arial"/>
              </a:rPr>
              <a:t>pravičn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ganizacije moraju razviti politike koje će obezbediti koordinaciju, konzistentnost i pravednost u procesu obezbeđivanja nadoknada zaposlenim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Determinante koje određuju nivo i strukturu nadoknad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Uslovi na tržištu rad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jedna od važnijih odluka koju firma mora doneti odnosi se na nivo nadoknada koji želi da ima u poređenju sa konkurencij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Zakonski okvir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odredbe Zakona o radu 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Sindikati/kolektivno pregovara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jedna od promenljivih koja utiče na politiku nadoknada u organizaciji je da li su zaposleni članovi sindikat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t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voj sistema plać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kon što kompanija definiše politiku nadoknada neophodno je razviti sistem plaćan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 kompanija razvila sistem plaćanja potrebno joj je sledeć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isi posl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koriste 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a se odredi relativna vrednost posl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cenjivanje pos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isti se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ngiranje poslova prema relativnoj vrednosti za organizac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traživanje nadnica/pl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rikupljanje podataka o nadnicama/platama koje druge organizacije nude za slične poslove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ruktura plać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0:13:01Z</dcterms:created>
  <dc:creator>Tanja</dc:creator>
  <dc:description/>
  <dc:language>en-US</dc:language>
  <cp:lastModifiedBy>w7</cp:lastModifiedBy>
  <dcterms:modified xsi:type="dcterms:W3CDTF">2010-11-01T12:03:49Z</dcterms:modified>
  <cp:revision>30</cp:revision>
  <dc:subject/>
  <dc:title>Compensating Human Resources</dc:title>
</cp:coreProperties>
</file>