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51E-5B85-46F0-B554-5EFF15E2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9E52-2BDC-4B95-82D4-1A7F4A75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B53-C78A-4CF3-8FF1-0FEA21EF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94F0-9A73-4CF7-BCB9-91CE4AFC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83FF-2A79-4CE1-8B3F-F1F4FA3D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DCA0-5896-452F-BAC9-04EA45BE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D050-DDED-4BBA-8869-F6E6F0C3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8FC7-7175-4953-9A0A-A88BE553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2B30-717A-461F-AB89-197F61BA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C619-EA08-4BE9-BC25-4A34D70E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5372-11C4-430A-BA98-7A8253D8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AEF-4B13-400C-8DF1-81B0F1A4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245F-6BC5-499C-BCC2-563C07EF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9B25-FDDE-4547-BEC6-EE12F1D2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7F01-602F-4E15-8A4D-017D2825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3EFE-6308-4F60-94A6-8B339FA3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4E12-5DF4-4950-97BA-0EBC5E54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C37-1CBD-44CC-ABDD-538EAB91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CCC-AB52-40E4-8E8D-38252712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DE8-E05B-4C99-BF8E-7E814374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A6C-FCB8-4400-AA23-76B3F9ED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8DF-322D-4A23-A5AB-42BA3B42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282-A389-476C-872B-0566F573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F69-B331-4739-B634-6F7722B1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830E-52FD-4C80-9505-E96CD66E53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3C55-1881-4B4A-A96B-9B2E923D0C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800" spc="-1" strike="noStrike">
                <a:solidFill>
                  <a:srgbClr val="cc3300"/>
                </a:solidFill>
                <a:latin typeface="Arial"/>
              </a:rPr>
              <a:t>Beneficije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Uloga benefici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Vrste benefici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90756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cc3300"/>
                </a:solidFill>
                <a:latin typeface="Arial Unicode MS"/>
              </a:rPr>
              <a:t>Udeo beneficija u ukupnim nadoknadama</a:t>
            </a:r>
            <a:endParaRPr b="0" lang="en-US" sz="38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0000" y="1763640"/>
            <a:ext cx="6296040" cy="45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 "/>
              </a:rPr>
              <a:t>Odluke o tome koje beneficije ponuditi zaposlenima treba da uzmu u obzir</a:t>
            </a:r>
            <a:r>
              <a:rPr b="0" lang="en-US" sz="3600" spc="-1" strike="noStrike">
                <a:solidFill>
                  <a:srgbClr val="000000"/>
                </a:solidFill>
                <a:latin typeface="Arial 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100" spc="-1" strike="noStrike">
                <a:solidFill>
                  <a:srgbClr val="000000"/>
                </a:solidFill>
                <a:latin typeface="Arial "/>
              </a:rPr>
              <a:t>Ciljeve organizacij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100" spc="-1" strike="noStrike">
                <a:solidFill>
                  <a:srgbClr val="000000"/>
                </a:solidFill>
                <a:latin typeface="Arial "/>
              </a:rPr>
              <a:t>Budžet organizacij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100" spc="-1" strike="noStrike">
                <a:solidFill>
                  <a:srgbClr val="000000"/>
                </a:solidFill>
                <a:latin typeface="Arial "/>
              </a:rPr>
              <a:t>Potrebe i očekivanja sadašnjih i budućih zaposlenih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12560" y="40428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 "/>
              </a:rPr>
              <a:t>Izbor vrste benefici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 "/>
              </a:rPr>
              <a:t>Izbor vrste benefici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 "/>
              </a:rPr>
              <a:t>Cafeteria-style plan</a:t>
            </a:r>
            <a:r>
              <a:rPr b="0" lang="sr-Latn-CS" sz="2800" spc="-1" strike="noStrike">
                <a:solidFill>
                  <a:srgbClr val="000000"/>
                </a:solidFill>
                <a:latin typeface="Arial 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"/>
              </a:rPr>
              <a:t>Nudi zaposlenima skup alternativa od kojih mogu izabrati vrstu i količinu beneficija koje že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"/>
              </a:rPr>
              <a:t>Koje su prednosti i nedostaci ovog pristupa</a:t>
            </a:r>
            <a:r>
              <a:rPr b="0" lang="en-US" sz="2800" spc="-1" strike="noStrike">
                <a:solidFill>
                  <a:srgbClr val="000000"/>
                </a:solidFill>
                <a:latin typeface="Arial 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56280" y="1763640"/>
            <a:ext cx="3435120" cy="40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98992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 "/>
              </a:rPr>
              <a:t>Kako obavestiti zaposlene o beneficijama?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0800" y="2665440"/>
            <a:ext cx="788364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Uloga beneficija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87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Beneficije su dodatna nadok</a:t>
            </a:r>
            <a:r>
              <a:rPr b="0" lang="sr-Latn-CS" sz="3500" spc="-1" strike="noStrike">
                <a:solidFill>
                  <a:srgbClr val="000000"/>
                </a:solidFill>
                <a:latin typeface="Arial"/>
              </a:rPr>
              <a:t>nada koja se daje zaposlenima kao nagrada za članstvo u organizaciji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87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500" spc="-1" strike="noStrike">
                <a:solidFill>
                  <a:srgbClr val="000000"/>
                </a:solidFill>
                <a:latin typeface="Arial"/>
              </a:rPr>
              <a:t>Beneficije predstavljaju indirektnu nadoknadu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87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500" spc="-1" strike="noStrike">
                <a:solidFill>
                  <a:srgbClr val="000000"/>
                </a:solidFill>
                <a:latin typeface="Arial"/>
              </a:rPr>
              <a:t>Zašto kompanije zaposlenima nude beneficij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rste benefici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ocijalno osigur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enziono osigur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mori i slobodno vre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dravstveno osigur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luge osiguranja i finansijske uslu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ruštveni život i rekreacija (organizovanje izleta, sportskih takmičenja, kulturnih događaj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ruge beneficij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laćanje troškova prevoza, korišćenje automobila kompanije, korišćenje personalnih računara i mobilnih telefona, ishrana u restoranu kompanije, plaćanje članarina u različitim klubovima, it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ocijalno osiguran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eneficije socijalnog osiguranja obezbeđuju zaštitu i sigurnost zaposlenih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vde spadaj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doknade u slučaju povrede na radu ili smrti zaposleno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doknade u slučaju nezaposlenosti (kadrovima koji su ostali bez posla i aktivno traže posao- obično oko 50-80% prosečne pla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doknade zaposlenom za čijim poslom je prestala potreba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everance pa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enzijsko osiguran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enzije- nagrade za dugogodišnji r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ržavni/privatni penzioni plano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Zakon o penzijskom i invalidskom osiguranj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ava iz penzijskog i invalidskog osiguranj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slučaj starosti - pravo na starosnu penzi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slučaj invalidnosti - pravo na invalidsku penzi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slučaj smr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o na porodičnu penzij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o na naknadu pogrebnih troško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slučaj telesnog oštećenja prouzrokovanog povredom na radu ili profesionalnom bolešću- pravo na novčanu nadoknadu za telesno oštećenj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Penzijsko osiguran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ormalno penzionisanje’’- zaposleni ide u penziju kada po zakonu ispuni uslove za penzij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 navrši 63 (muškarac), odnosno 58 (žena) godina života i najmanje 20 godina staž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 navrši 40/35 godina staža i najmanje 53 godine živo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 godina staž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dmori i slobodno vrem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ma Zakonu o radu RS zaposleni imaju pravo na nadoknadu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vreme praznika koji je neradni dan (1. i 2. januar, 7. januar, 15. februar, 1. i 2. maj, Vaskrs – od Velikog petka do drugog dana Vaskrsa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dišnjeg odmora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laćenog odsustv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ojne vežbe 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azivanja na poziv državnog organa.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Odmori i slobodno vrem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laćena odsust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posleni ima pravo n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ć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o odsust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ukupnom traj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 sedam radnih d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toku kalendarske godine, u sl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lap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rak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ja suprug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bolest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a 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porodic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d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g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aposleni ima pravo na pl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 odsustvo j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 radnih dana zbog smrt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a 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porodic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a dana za svaki sl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j dobrov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g dav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rv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’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Zdravstveno osiguran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kon o zd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stvenom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osiguranju 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va 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 obaveznog zdravstvenog osiguranj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vo na zdravstvenu zašti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vo na naknadu zarade za vreme privremene sprečenosti za rad osiguran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vezno zdravstveno osiguranje obuhvat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guranje za slučaj bolesti i povrede van 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guranje za slučaj povrede na radu ili profesionalne bole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6:06:04Z</dcterms:created>
  <dc:creator>Tanja</dc:creator>
  <dc:description/>
  <dc:language>en-US</dc:language>
  <cp:lastModifiedBy>w7</cp:lastModifiedBy>
  <dcterms:modified xsi:type="dcterms:W3CDTF">2010-11-01T13:22:31Z</dcterms:modified>
  <cp:revision>40</cp:revision>
  <dc:subject/>
  <dc:title>Beneficije</dc:title>
</cp:coreProperties>
</file>