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FAB-AE27-4027-AD28-68845E1E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42C-38B4-40E5-95F2-DC017B2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553-9ABD-4136-A915-D6573234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FC9-45BE-44F9-B48F-F6AB2AC5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360E-A580-49AA-94E6-CE74AB1A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58CE-5A89-4B7A-97EE-AC1EB60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E81C-69F9-4015-9A91-7D5FA425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C37-A996-45CD-B2F8-A97817A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619-D281-4143-8CD1-2096537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C40F-0180-4921-A28F-78B8540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631-B1DA-4DE3-9558-93CB9F0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250-43A6-4ADD-8770-FC2F7E2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D09F-B2DB-440B-AC49-41BA947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E51D-F7C2-43EE-BC11-A5DC284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2062-A7FB-4DD6-BC6D-449BC2F3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DC0A-9114-44A7-A82A-0701A2CA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5954-B270-4C41-8B84-2E713E35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B13-5590-4EF7-9825-08EE92E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0CC-23E0-420D-BF29-B953136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8BA-2C12-4DEA-822E-1A055F1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3EE-DB45-46EE-B69C-39FEA97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9F6-6F23-470B-B957-17423DA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BDA-9E20-4AB8-B789-FD8140B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9BD-00CE-4979-8E37-CBF0C9B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CDF-00BA-4018-A054-CA82A1FC13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867-CF34-407D-8EFB-398932121E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Vrednovanje 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3212640"/>
            <a:ext cx="73454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Definicija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Funkcije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sistema vrednovanja izvrše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todi vredn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e u vrednovan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Intervju o rezultatima vredno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cenjuje sve svoje zaposlene veoma niskim ocenama, osim Džej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žej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bija ocene iznad proseka zato što uvek dolazi na posao tačno na vre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eške u ocenjivanju koje pra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l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obzirnost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n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trogosti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o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‘sličan meni’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redišnje tendenci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90200" indent="-36216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n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grešk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greška strog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davanja povratnih inform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ntervju o rezultatima vrednovanj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edback sess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menadžeri mora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ti dobro pripremlje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ezbediti odgovarajući ambijent za sasta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abrati neku neutralnu lokaciju za sasta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mogućiti zaposlenom da se dobro pripre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moliti zaposlenog da popuni obrazac za samoocenjivanje pre sastan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oces davanja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vratnih informa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toku intervjua o rezultatima vrednovanja menadžeri se mogu odlučiti za jedan od tri pristu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‘kaži i prodaj’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l and sel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saopšti zaposlenom ocene i zatim objasni razloge takvog ocenjiv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rešavanja problem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lem-solv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i zaposleni zajedno rade na tome da reše probleme koji postoje u izvršenju zaposlen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‘kaži i slušaj’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l and list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: menadžer saopšti zaposlenom i zatim dopusti zaposlenom da predstavi svoje viđenje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ednov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ces kojim se procenjuje doprinos zaposlenog organizaciji u određenom periodu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unkcije vrednovanja izvrše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vanje izvršenja kao sredstvo za razvoj zaposlen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vanje izvršenja kao upravljačko sredst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-225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ednovanje izvršenja je deo sistema nagrađivanja i kažnjavanja u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65120" indent="-2253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re ocene– novčane nagrade i bonu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65120" indent="-22536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še ocene– sankcije (premeštaj na položaj nižeg ranga, otpuštanje, smanjenje pl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vrednovanja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76320" y="1600200"/>
            <a:ext cx="539136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todi vrednovanja izvrše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Komparativne procedur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Rangiranje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king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i zaposleni se  rangiraju- od najboljeg do najgor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inudna distribucij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orced Distribution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cenjivač mora da smesti određeni broj zaposlenih u svaku od nekoliko kategorija (nezadovoljavajući, zadovoljavajući, dobri, odlični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ređenje parov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aired comparison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miraju se parovi zaposlenih, ocenjivač treba da oceni ko je u svakom paru bolji izvršilac, zaposleni koji je izabran najviše puta rangira se kao prv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rednovanje prema apsolutnim standardima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Vrednovanje zasnovano na osobinam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fi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e skale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za ocenjivanje (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Graphic rating scale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3164040"/>
            <a:ext cx="747396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535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ednovanje zasnovano na ponašanj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ehnika kritičnih događaja (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critical incident method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ale koje se zasnivaju na tipičnim kriterijumima izvršenja za svakog zaposlenog- Behaviorally anchored rating scale (BA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 observation scale (B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1703520"/>
            <a:ext cx="3135240" cy="51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sistema vrednov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rednovanje zasnovano na rezultat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Upravljanje pomoću ciljev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sr-Latn-CS" sz="3000" spc="-1" strike="noStrike">
                <a:solidFill>
                  <a:srgbClr val="000000"/>
                </a:solidFill>
                <a:latin typeface="Verdana"/>
              </a:rPr>
              <a:t>Management by objectiv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spcBef>
                <a:spcPts val="75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spcBef>
                <a:spcPts val="7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9372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 vrši vrednovanje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dređeni vrednuje podređ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dređeni vrednuje nadređ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lege/ članovi tima ocenjuju jedni dru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oljni izvori- klijenti, potrošači, dobavljači..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moocenjivanje- zaposleni ocenjuje sam se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cenjivanje iz više izvor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360 degree feedb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Greške u vrednovanju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ličan meni (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milar-to-m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e u distribu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obzirnosti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iency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strogosti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rictness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Greška središnje tendencije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tral 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ndency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Greška halo efek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lo greška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o err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38124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horns greška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horns error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18080" y="1165320"/>
            <a:ext cx="35006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4:14:24Z</dcterms:created>
  <dc:creator>Tanja</dc:creator>
  <dc:description/>
  <dc:language>en-US</dc:language>
  <cp:lastModifiedBy>w7</cp:lastModifiedBy>
  <dcterms:modified xsi:type="dcterms:W3CDTF">2010-11-01T11:59:37Z</dcterms:modified>
  <cp:revision>31</cp:revision>
  <dc:subject/>
  <dc:title>Vrednovanje i razvoj kadrova Assessing Performance and Developing Employees</dc:title>
</cp:coreProperties>
</file>