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865F-3897-47B4-AE0C-8A7E23BE1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359-B930-429D-92B6-3ADB62B5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AFF-A337-43FA-BE70-1C743E00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E1D-3669-4F47-90E4-8BC00C6B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52E-7FD1-40A8-9F00-6F3C0301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294B-7C02-4ADB-8C34-B2B38EF3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2B4B-3ECB-484D-9D35-1F0E646D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2E87-6523-48CF-97AF-8735FFAB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7152-5680-4902-B105-E48C23C8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6807-3FC0-457A-ADC4-10DC6A83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0EA4-EEF5-497F-8BEC-BA2C299C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D01C-44D2-4B94-9B3D-FA5D4E8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A8D-FC33-451D-AD18-7395BB5E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34B0-F0BB-4E4E-9C40-3E4DF59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E663-1B2C-42F6-8856-360268ED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CDE1-DC43-49B1-A2F7-6D4BBC1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6971-A6EA-4049-A254-2CCB20C2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5E99-8106-4516-8DA0-5C9BC563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175-5E7D-471E-AFF6-B6FD20CF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80C-8487-4934-85A8-2DFF6219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C59-F943-45A6-8205-4AD441E3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989-38DB-4A43-B1CF-389EEDE6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157-41B2-42C7-BC21-B36B9E81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DCA-8E8A-4ADF-8DEE-34CF1EBC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70A-E23F-4C1E-9D78-FEFA19AA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9D67-616C-40BB-B414-9DDD2982DD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4CFB-1BC9-4333-83E2-F76E207708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200" spc="-1" strike="noStrike">
                <a:solidFill>
                  <a:srgbClr val="cc3300"/>
                </a:solidFill>
                <a:latin typeface="Arial"/>
              </a:rPr>
              <a:t>Planiranje i regrutovanje </a:t>
            </a:r>
            <a:r>
              <a:rPr b="0" lang="en-US" sz="5200" spc="-1" strike="noStrike">
                <a:solidFill>
                  <a:srgbClr val="cc3300"/>
                </a:solidFill>
                <a:latin typeface="Arial"/>
              </a:rPr>
              <a:t>ljudskih resursa</a:t>
            </a:r>
            <a:endParaRPr b="0" lang="en-US" sz="5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35344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laniranj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judskih resurs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egrutovanj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judskih resurs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Izvori regrutov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93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išak radne snag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64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išak radne snag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kada predviđanja pokazuju da će interna ponuda radne snage premašiti tražnju, poslodavci moraju napraviti planove da smanje ponu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ategije za planiranje viška radne sn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wnsiz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lanirano smanjenje broja zaposlenih u cilju povećanja konkurentnosti organizac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evremeno penzionisanj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grami koji podstiču starije zaposlene da dobrovoljno napuste organizacij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921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anjak radne snag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anjak radne snag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kada tražnja premašuje internu ponudu, poslodavci obično idu na eksterno tržište rada da regrutuju nove zaposle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rategije za planiranje manjka radne snag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pošljavanje radnika na određeno vreme i angažovanje radnika po ugovo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sourcin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čitava funkcija se prepušta drugoj fir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provođenje i praćenje plana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 je odgovoran za rezul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je organizacija uspela da izbegne višak ili manjak radne sn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 delovi plana su bili uspešni, a koji 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av je bio uticaj plana na iskorišćenost radne sn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Regrutovanje kadrov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2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egrutovanje podrazumeva s</a:t>
            </a:r>
            <a:r>
              <a:rPr b="1" lang="sr-Latn-CS" sz="2900" spc="-1" strike="noStrike">
                <a:solidFill>
                  <a:srgbClr val="000000"/>
                </a:solidFill>
                <a:latin typeface="Arial"/>
              </a:rPr>
              <a:t>vaku aktivnost koju organizacija sprovodi sa osnovnim ciljem da se identifikuju i privuku potencijalni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andidati za posa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ilj: zadovoljiti trenutne i buduće kadrovske potrebe na najefikasniji i najefektivniji nač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ektivno regrutovanje obazbeđuje da kompanija im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ovoljno ljudi sa pravim veštin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 obavlja regrutova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rovski specijalisti i linijski menadže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viši menadžeri mogu biti uključeni u proces regrutovanja za ključne položaje u organizacij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Regrutovanje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10080" y="1979640"/>
            <a:ext cx="5533920" cy="487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557360"/>
            <a:ext cx="3672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Tri ključna područja regrutovanj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drovske politik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Izvori regrutova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rakteristike i ponašanje poslodav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zvori regrut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2327400"/>
            <a:ext cx="4038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erni izv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terni izv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886200" cy="544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98400" y="5978520"/>
            <a:ext cx="213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nterni izvori regrut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i izvori regrutovan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ljudi koji su trenutno zaposleni u organizaciji na drugim položaj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dašnji zaposle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grutovanje preko postojeći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poslen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vši zaposle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ndidati koji su se ranije prijavljivali za posao u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nterno oglašavanje poslov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job post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: informacije o slobodnim radnim mestima se objavljuju na oglasnim tablama, u različitim publikacijama koje su dostupne zaposlenima, na intranetu, ili na bilo koji drugi način kako organizacija inače komunicira sa svojim zaposlen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fekat talasa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ipple effec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Eksterni izvori regrut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351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le i fakulte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encije za zapošljavanje (privatne, držav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ad hunters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gencije/grupa profesionalaca koji se bave pronalaženjem kadrova za najviše položaje u organizaci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-recrui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jski izvor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novine, časopisi, radio, TV, it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glašavanje slobodnih radnih mes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 u="sng">
                <a:solidFill>
                  <a:srgbClr val="000000"/>
                </a:solidFill>
                <a:uFillTx/>
                <a:latin typeface="Arial"/>
              </a:rPr>
              <a:t>Oglas za posao treba da bude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cizan, ali da predstavlja tačan opis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traktivan maksimalnom broju pravih kandi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zitivan i da daje iskrenu sliku o organizaci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levantan za posao i kandi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k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egalan- u skladu sa zakon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glašavanje slobodnih radnih mes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Konkurs za posao treba da sadrži informacije 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ji: osnovna delatnost i loka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lu: naziv radnog mesta, osnovne dužnosti i odgovornosti, kao i posebne karakterist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lovima: specijani faktori koji utiču na posa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valifikacijama i iskustv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gradama: plata, beneficije, mogućnosti treninga, razvoj karijere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cesu prijavljivanja za posao: kako se prijaviti, kontakt osoba, kontakt telefon, rok za prijavlji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4759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ibavljanje ljudskih resurs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766800" y="6230880"/>
            <a:ext cx="16686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bavljanje ljudskih resur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tvaruje se kroz tri glavna proce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kadr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utov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kci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Planiranje kadrov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Zašto se planir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Da bi organizacija ostvarila svoje poslovne cilje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Da bi ostvarila prednost nad konkurencij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o planir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drovsko odeljenje- najviši kadrovski menadžeri, kadrovski specijali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da se planir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Na kratak rok (godinu dana unapr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Srednjoročno (2-3 godin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Dugoročno (više od 3 godine unapr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Planiranje kadrova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i korak u planiranju kadrova j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repoznavanje i procena budućih relevantnih spoljnih i unutrašnjih činila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redviđanje potreba za kadrovima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ušaj da se odrede ponuda i tražnja za različitim vrstama ljudskih resursa kako bi se predvidelo u kojim delovima organizacije će se pojaviti manjak ili višak zaposleni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e predviđanja potreba za kadrovim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matičke metode (proste i slože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ode prosuđivanja (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tivno prosuđivanje ekspera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laniranje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redviđanje ponude radne sn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u ponudu r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čine svi zaposleni u jednoj organizaciji. Interna ponuda rada se stalno menja zato što novi ljudi ulaze u organizaciju, a drugi je napuštaju iz različitih razlo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ksterna ponuda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ržište rad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oblast iz koje poslodavac obično regrutuje kadrove za položaje u svojoj organizaci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98400" y="5978520"/>
            <a:ext cx="2138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ezaposlenos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adrovi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ljudi koji aktivno rade (kadrovi u funkciji) i oni koji se pripremaju za funkciju (kadrovi u pripremi za funkcij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rosni minimum za zasnivanje radnog odnosa u RS: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5 god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ezaposlena l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u ona koja trenutno ne rade, ali voljna su da rade i aktivno traže posao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L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opa zaposleno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: procenat broja kadrova koji su zaposleni u odnosu na ukupan broj radno sposobne popula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opa nezaposlenosti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ocenat broja kadrova koji traže posao u odnosu na ukupan broj radno sposobnog stanovništv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visoka stopa nezaposlenosti- labavo tržište rad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iska stopa nezaposlenosti- čvsto tržište rad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ezaposlenost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 Srbiji ima vise od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700</a:t>
            </a:r>
            <a:r>
              <a:rPr b="0" lang="pl-PL" sz="3200" spc="-1" strike="noStrike" u="sng">
                <a:solidFill>
                  <a:srgbClr val="cc3300"/>
                </a:solidFill>
                <a:uFillTx/>
                <a:latin typeface="Arial"/>
              </a:rPr>
              <a:t> 000 nezaposleni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,2%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zaposlenih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čeka na posao duže od god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d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Nezaposlenos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zaposleni prema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dužin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janj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manje 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 meseca (12,17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2 godine (18,3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3 godine (10,63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5 godina (11,90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8 godina (10,69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že 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 godina (9,12%).  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zaposleni prema godinama staros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9 godina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3,20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o 34 godine (12,50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 do 39 godina (12,01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do 49 godina (11,92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do 54 godina (11,8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do 44 godina (11,72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476280"/>
            <a:ext cx="87310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 plana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5076720" cy="5300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 rot="10800000">
            <a:off x="394920" y="2276280"/>
            <a:ext cx="3459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rajnj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vrha pla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je da omogući menadžerima da usklade raspoloživu ponudu kadrova sa predviđenom tražnj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19:24Z</dcterms:created>
  <dc:creator>Tanja</dc:creator>
  <dc:description/>
  <dc:language>en-US</dc:language>
  <cp:lastModifiedBy>w7</cp:lastModifiedBy>
  <dcterms:modified xsi:type="dcterms:W3CDTF">2010-11-01T11:42:34Z</dcterms:modified>
  <cp:revision>70</cp:revision>
  <dc:subject/>
  <dc:title>Planiranje i regrutovanje kadrova</dc:title>
</cp:coreProperties>
</file>