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FFA8-D274-4C0A-934E-B467909C1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5C39-8849-4396-90F4-9B6BAEF8D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EEC7-FCD2-427B-9D71-FB70244ED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8453-59B0-4F21-BA42-5EB815B95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A2423-A37D-47A7-90E7-5CA61F279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BB577-01DD-48E2-87D8-4977D25C6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13F86-078D-4506-94F0-FBC4C5D3F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B8285-6B10-40AF-A2BD-030AAE7C1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9F2ED-EFB9-45DC-874F-728D30DCE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985D3-9399-4155-8620-234DDE6A1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E9584-112A-452C-95FB-ADBD29F37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F2E4-6672-415E-81FC-0828366A7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93D1C-FC2B-4EAF-A0BC-59F194C15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6121F-94D9-4F0F-AE62-E2F4C3663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3871D-F090-4088-BF62-26BD057A7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6BD98-8262-49C8-9C0B-98D1D7DBC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6776D-9A9A-41C7-BB07-683E7DACA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3A93-E0EA-433E-8941-B52728BBD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5484-EA2F-45A8-8981-763682E55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1848-DEAF-4688-B15E-02DE30D4A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3694-5267-4BDE-8FC4-010DDB788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6DF2-38E2-4B35-A5C5-CAC2AD196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FE46-F2C3-4B38-88C3-ACD2E9C2A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0DF5-624D-4AB5-B3C3-A1CC67EE6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cc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8BCCB-EDE8-4CD8-9DB7-1A9EE517F891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cc33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A2B14-68EF-49FA-8B41-4A2E0C612180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33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cc33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5800" spc="-1" strike="noStrike">
                <a:solidFill>
                  <a:srgbClr val="cc3300"/>
                </a:solidFill>
                <a:latin typeface="Arial"/>
              </a:rPr>
              <a:t>Trening zaposlenih</a:t>
            </a:r>
            <a:endParaRPr b="0" lang="en-US" sz="58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618920" y="3357720"/>
            <a:ext cx="6072120" cy="22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Verdana"/>
              </a:rPr>
              <a:t>Utvrđivanje potreba za treningom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Verdana"/>
              </a:rPr>
              <a:t>Plan treninga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Verdana"/>
              </a:rPr>
              <a:t>Metode treninga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Verdana"/>
              </a:rPr>
              <a:t>Implementacija treninga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Verdana"/>
              </a:rPr>
              <a:t>Ocenjivanje treninga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Verdana"/>
              </a:rPr>
              <a:t>Primena treninga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45840" y="274680"/>
            <a:ext cx="873108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Podrška treningu- šta treba da rade menadžeri da bi podržali trening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804960" y="1665360"/>
            <a:ext cx="7937280" cy="436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45840" y="274320"/>
            <a:ext cx="873108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Plan treninga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lan treninga započinje definisanjem ciljeva trening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Zašt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70120" indent="-419400">
              <a:lnSpc>
                <a:spcPct val="90000"/>
              </a:lnSpc>
              <a:spcBef>
                <a:spcPts val="575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300" spc="-1" strike="noStrike">
                <a:solidFill>
                  <a:srgbClr val="000000"/>
                </a:solidFill>
                <a:latin typeface="Arial"/>
              </a:rPr>
              <a:t>Zaposleni će znati šta će naučiti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870120" indent="-419400">
              <a:lnSpc>
                <a:spcPct val="90000"/>
              </a:lnSpc>
              <a:spcBef>
                <a:spcPts val="575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300" spc="-1" strike="noStrike">
                <a:solidFill>
                  <a:srgbClr val="000000"/>
                </a:solidFill>
                <a:latin typeface="Arial"/>
              </a:rPr>
              <a:t>Organizacija može da meri da li je trening zadovoljio postavljene ciljev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Ciljevi treninga treba da obuhvate tri komponen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70120" indent="-419400">
              <a:lnSpc>
                <a:spcPct val="90000"/>
              </a:lnSpc>
              <a:spcBef>
                <a:spcPts val="575"/>
              </a:spcBef>
              <a:buClr>
                <a:srgbClr val="cc3300"/>
              </a:buClr>
              <a:buSzPct val="75000"/>
              <a:buFont typeface="Arial"/>
              <a:buAutoNum type="arabicPeriod"/>
              <a:tabLst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300" spc="-1" strike="noStrike">
                <a:solidFill>
                  <a:srgbClr val="000000"/>
                </a:solidFill>
                <a:latin typeface="Arial"/>
              </a:rPr>
              <a:t>Šta se od zaposlenog očekuje da radi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870120" indent="-419400">
              <a:lnSpc>
                <a:spcPct val="90000"/>
              </a:lnSpc>
              <a:spcBef>
                <a:spcPts val="575"/>
              </a:spcBef>
              <a:buClr>
                <a:srgbClr val="cc3300"/>
              </a:buClr>
              <a:buSzPct val="75000"/>
              <a:buFont typeface="Arial"/>
              <a:buAutoNum type="arabicPeriod"/>
              <a:tabLst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300" spc="-1" strike="noStrike">
                <a:solidFill>
                  <a:srgbClr val="000000"/>
                </a:solidFill>
                <a:latin typeface="Arial"/>
              </a:rPr>
              <a:t>Prihvatljivi nivo izvršenja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870120" indent="-419400">
              <a:lnSpc>
                <a:spcPct val="90000"/>
              </a:lnSpc>
              <a:spcBef>
                <a:spcPts val="575"/>
              </a:spcBef>
              <a:buClr>
                <a:srgbClr val="cc3300"/>
              </a:buClr>
              <a:buSzPct val="75000"/>
              <a:buFont typeface="Arial"/>
              <a:buAutoNum type="arabicPeriod"/>
              <a:tabLst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300" spc="-1" strike="noStrike">
                <a:solidFill>
                  <a:srgbClr val="000000"/>
                </a:solidFill>
                <a:latin typeface="Arial"/>
              </a:rPr>
              <a:t>Uslovi pod kojima se od zaposlenog očekuje da primeni ono što je naučio u toku treninga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45840" y="274320"/>
            <a:ext cx="873108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Metode treninga 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735200" y="1492200"/>
            <a:ext cx="5878440" cy="523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45840" y="274320"/>
            <a:ext cx="873108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Implementacija treninga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Trening treba da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870120" indent="-419400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Omogući zaposlenima da povežu trening sa poslom koji obavljaju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870120" indent="-419400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Omogući zaposlenima da sami primene i uvežbaju ono što su naučil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870120" indent="-419400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Obezbediti feedback (povratne informacije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870120" indent="-419400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Omogući zaposlenima da zapamte sadržaj trening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45840" y="274320"/>
            <a:ext cx="873108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Kako p</a:t>
            </a: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omoći zaposlenima da uče</a:t>
            </a: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124000" y="1484280"/>
            <a:ext cx="5292720" cy="507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45840" y="274320"/>
            <a:ext cx="873108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Ocenjivanje treninga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Ocenjivanje treninga - pokušaj da se pribavi informacija o efektima programa treninga i da se proceni vrednost trening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Zadovoljstvo zaposlenih trening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70120" indent="-419400">
              <a:lnSpc>
                <a:spcPct val="90000"/>
              </a:lnSpc>
              <a:spcBef>
                <a:spcPts val="524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Da li se trening svideo zaposlenom?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Nove veštine, stečena znanj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70120" indent="-41940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Da li je zaposleni naučio nešto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fer tr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ng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70120" indent="-419400">
              <a:lnSpc>
                <a:spcPct val="90000"/>
              </a:lnSpc>
              <a:spcBef>
                <a:spcPts val="524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Da li zaposleni može da koristi to što je naučio na treningu?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oboljšanje izvršenja posl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70120" indent="-41940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li je došlo do poboljšanja učink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70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cc3300"/>
                </a:solidFill>
                <a:latin typeface="Arial"/>
              </a:rPr>
              <a:t>Definicije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 u="sng">
                <a:solidFill>
                  <a:srgbClr val="000000"/>
                </a:solidFill>
                <a:uFillTx/>
                <a:latin typeface="Arial"/>
              </a:rPr>
              <a:t>Učenje</a:t>
            </a:r>
            <a:r>
              <a:rPr b="0" lang="sr-Latn-CS" sz="2700" spc="-1" strike="noStrike">
                <a:solidFill>
                  <a:srgbClr val="000000"/>
                </a:solidFill>
                <a:latin typeface="Arial"/>
              </a:rPr>
              <a:t> je relativno stalna promena ponašanja koja se događa kao rezultat prethodne prakse ili iskustva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 u="sng">
                <a:solidFill>
                  <a:srgbClr val="000000"/>
                </a:solidFill>
                <a:uFillTx/>
                <a:latin typeface="Arial"/>
              </a:rPr>
              <a:t>Obrazovanje</a:t>
            </a:r>
            <a:r>
              <a:rPr b="0" lang="sr-Latn-CS" sz="2700" spc="-1" strike="noStrike">
                <a:solidFill>
                  <a:srgbClr val="000000"/>
                </a:solidFill>
                <a:latin typeface="Arial"/>
              </a:rPr>
              <a:t> je dugoročna aktivnost učenja koja ima za cilj da pripremi pojedinca za različite uloge u društvu- kao građanina, radnika i člana porodice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 u="sng">
                <a:solidFill>
                  <a:srgbClr val="000000"/>
                </a:solidFill>
                <a:uFillTx/>
                <a:latin typeface="Arial"/>
              </a:rPr>
              <a:t>Trening</a:t>
            </a:r>
            <a:r>
              <a:rPr b="0" lang="sr-Latn-CS" sz="2700" spc="-1" strike="noStrike">
                <a:solidFill>
                  <a:srgbClr val="000000"/>
                </a:solidFill>
                <a:latin typeface="Arial"/>
              </a:rPr>
              <a:t> je bilo koja aktivnost učenja usmerena na sticanje specifičnih znanja i veština neophodnih za uspešno obavljanje određenog posla ili zadatka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 u="sng">
                <a:solidFill>
                  <a:srgbClr val="000000"/>
                </a:solidFill>
                <a:uFillTx/>
                <a:latin typeface="Arial"/>
              </a:rPr>
              <a:t>Razvoj</a:t>
            </a:r>
            <a:r>
              <a:rPr b="0" lang="sr-Latn-CS" sz="2700" spc="-1" strike="noStrike">
                <a:solidFill>
                  <a:srgbClr val="000000"/>
                </a:solidFill>
                <a:latin typeface="Arial"/>
              </a:rPr>
              <a:t> je aktivnost učenja koja je usmerena prema budućim, a ne sadašnim potrebama i koja se više zanima za napredovanje u karijeri nego za neposredno izvršenje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0560" y="404280"/>
            <a:ext cx="912636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Orijentacija 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90000"/>
              </a:lnSpc>
              <a:spcBef>
                <a:spcPts val="799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ijentacija je posebna vrsta treninga sa ciljem da se novozaposlenom obezbede osnovne informacije koje su mu neophodne za rad u organizacij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6600" indent="-336600">
              <a:lnSpc>
                <a:spcPct val="90000"/>
              </a:lnSpc>
              <a:spcBef>
                <a:spcPts val="799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Efektivan sistem orijentacije uključuje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35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Pripremanje za novozaposleno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35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Određivanje šta novozaposleni treba da zna odma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35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Indukcioni tren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35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Preliminarno ocenjivanje potreba za trening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35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Probni perio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35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Ocenjivanje i praćenje orijentacij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366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cc3300"/>
                </a:solidFill>
                <a:latin typeface="Arial"/>
              </a:rPr>
              <a:t>Trening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"/>
          <p:cNvSpPr/>
          <p:nvPr/>
        </p:nvSpPr>
        <p:spPr>
          <a:xfrm>
            <a:off x="673200" y="1816200"/>
            <a:ext cx="822960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36600" indent="-3366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825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4000" y="1700280"/>
            <a:ext cx="8820000" cy="51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36600" indent="-336600">
              <a:lnSpc>
                <a:spcPct val="100000"/>
              </a:lnSpc>
              <a:spcBef>
                <a:spcPts val="9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adrovsko odeljenje je obično zaduženo za koordinaciju aktivnosti u vezi sa treningo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9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9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dgovornost za trening dele </a:t>
            </a: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viši menadžment,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linijski menadžeri i trening menadžer</a:t>
            </a: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kadrovski menadžeri, instruktori</a:t>
            </a: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, nadzornici, i sami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aposlen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825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12560" y="404280"/>
            <a:ext cx="873108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Osnovne faze treninga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132000" y="1703520"/>
            <a:ext cx="3435480" cy="515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45840" y="274320"/>
            <a:ext cx="873108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Utvrđivanje potreba za treningom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36600" indent="-336600">
              <a:lnSpc>
                <a:spcPct val="100000"/>
              </a:lnSpc>
              <a:spcBef>
                <a:spcPts val="9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oces ocenjivanja organizacije, zaposlenih, i njihovih zadataka u cilju utvrđivanja koje vrste treninga su potrebne.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366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3660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3660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45840" y="274320"/>
            <a:ext cx="873108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Utvrđivanje potreba za treningom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68400" y="1852560"/>
            <a:ext cx="7545240" cy="412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45840" y="274320"/>
            <a:ext cx="873108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Primer:</a:t>
            </a: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Trening najefektivnije utiče na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870120" indent="-419400">
              <a:lnSpc>
                <a:spcPct val="100000"/>
              </a:lnSpc>
              <a:spcBef>
                <a:spcPts val="799"/>
              </a:spcBef>
              <a:buClr>
                <a:srgbClr val="cc3300"/>
              </a:buClr>
              <a:buSzPct val="75000"/>
              <a:buFont typeface="Arial"/>
              <a:buAutoNum type="alphaLcPeriod"/>
              <a:tabLst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robleme sa motivacijo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870120" indent="-419400">
              <a:lnSpc>
                <a:spcPct val="100000"/>
              </a:lnSpc>
              <a:spcBef>
                <a:spcPts val="799"/>
              </a:spcBef>
              <a:buClr>
                <a:srgbClr val="cc3300"/>
              </a:buClr>
              <a:buSzPct val="75000"/>
              <a:buFont typeface="Arial"/>
              <a:buAutoNum type="alphaLcPeriod"/>
              <a:tabLst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Nedostatak veština i sposobnost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870120" indent="-419400">
              <a:lnSpc>
                <a:spcPct val="100000"/>
              </a:lnSpc>
              <a:spcBef>
                <a:spcPts val="799"/>
              </a:spcBef>
              <a:buClr>
                <a:srgbClr val="cc3300"/>
              </a:buClr>
              <a:buSzPct val="75000"/>
              <a:buFont typeface="Arial"/>
              <a:buAutoNum type="alphaLcPeriod"/>
              <a:tabLst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Nedostatak povratnih informacija o učinku na poslu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870120" indent="-419400">
              <a:lnSpc>
                <a:spcPct val="100000"/>
              </a:lnSpc>
              <a:spcBef>
                <a:spcPts val="799"/>
              </a:spcBef>
              <a:buClr>
                <a:srgbClr val="cc3300"/>
              </a:buClr>
              <a:buSzPct val="75000"/>
              <a:buFont typeface="Arial"/>
              <a:buAutoNum type="alphaLcPeriod"/>
              <a:tabLst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Nedostatak resursa za obavljanje posl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45840" y="274320"/>
            <a:ext cx="873108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Spremnost zaposlenih za trening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90000"/>
              </a:lnSpc>
              <a:spcBef>
                <a:spcPts val="799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ombinacija karakteristika zaposlenog i pozitivne radne sredine koja dozvoljava implementaciju trening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6600" indent="-336600">
              <a:lnSpc>
                <a:spcPct val="90000"/>
              </a:lnSpc>
              <a:spcBef>
                <a:spcPts val="799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Neophodne karakteristike zaposlenog uključuju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3508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Sposobnost da nauče određenu materij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3508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ovoljne stavove prema trening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3508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Motivaciju za učenj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6600" indent="-336600">
              <a:lnSpc>
                <a:spcPct val="90000"/>
              </a:lnSpc>
              <a:spcBef>
                <a:spcPts val="799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zitivno radno okruženje je okruženje koje podstič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e učenj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6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9T10:13:27Z</dcterms:created>
  <dc:creator>Tanja</dc:creator>
  <dc:description/>
  <dc:language>en-US</dc:language>
  <cp:lastModifiedBy>w7</cp:lastModifiedBy>
  <dcterms:modified xsi:type="dcterms:W3CDTF">2010-11-01T11:53:36Z</dcterms:modified>
  <cp:revision>19</cp:revision>
  <dc:subject/>
  <dc:title>Trening kadrova</dc:title>
</cp:coreProperties>
</file>