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322-EABB-4FD8-AE04-3170CDC4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F96-7127-4E2A-9AFE-E05C9D22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152-4E61-4ED3-89ED-1A74415A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40F-337B-4C7C-AF16-95A7977A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DCAF-AFEC-4E81-A6D9-580BDEB7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FD7B-CE3D-4C43-8670-58EA039C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8413-0606-4A6F-B5FF-109AF972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C6DD-9E0D-433F-9FCA-B8453E5D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2C4D-27C8-44EB-B808-F5E1A34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7552-733A-4E1B-801C-150BB081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3778-C76B-463F-A98D-31220E7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7BD-4DD5-45D4-9AAF-884D08B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3440-F757-4D1F-87E7-263534E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9272-B05C-48C2-A4E3-947D55E7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5791-DA45-42D6-AE2C-3FC4943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11E8-66AE-4A60-BF02-FBBE8A0C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8131-4432-4B65-BF92-A727D2A8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DA2-6BF3-44E8-B515-987A7C42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356-F2A3-4B50-98BB-359D7D4F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CA7-2CD2-4443-8247-85A4C3CA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145-F684-4F9A-ACF9-48DD82E7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CDF-4E4F-4656-A11B-7E2D19E8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882-4121-46FB-89F1-1527DC24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AA3-F68E-41BD-9842-EAAABCA3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2023-4091-4F01-8F81-75FFE74EBF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E32-86B9-4030-AFAE-34287F6E39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Na</a:t>
            </a:r>
            <a:r>
              <a:rPr b="0" lang="en-US" sz="5800" spc="-1" strike="noStrike">
                <a:solidFill>
                  <a:srgbClr val="cc3300"/>
                </a:solidFill>
                <a:latin typeface="Arial"/>
              </a:rPr>
              <a:t>gr</a:t>
            </a: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a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07248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cipi nagra</a:t>
            </a:r>
            <a:r>
              <a:rPr b="0" lang="sr-Latn-RS" sz="2700" spc="-1" strike="noStrike">
                <a:solidFill>
                  <a:srgbClr val="000000"/>
                </a:solidFill>
                <a:latin typeface="Arial"/>
              </a:rPr>
              <a:t>điv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Vrste nagrad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rganizacione nagrade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 u="sng">
                <a:solidFill>
                  <a:srgbClr val="000000"/>
                </a:solidFill>
                <a:uFillTx/>
                <a:latin typeface="Arial"/>
              </a:rPr>
              <a:t>Skenlonov pla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na zamisao je da efikasnost zavisi od timskog rada i saradnje u organizacij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aj plan uključuje participaciju zaposlenih u smanjivanju troškova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posleni dobijaju nagradu za uštedu troškova bez obzira da li je kompanija ostvarila profit ili 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štede koje nastanu usled aktuelnih i očekivanih proporcija idu u fond iz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g se isplaćuju bonu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pična raspodela bonusa izgleda ovak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0% za zaposl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5% za poslodav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5% za fond za nepredviđene događa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svaki od navedenih poslova identifikujte najbolju vrstu nagr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jasnite svoj odgov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eti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rovski menadž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s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41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dava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992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ividual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992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up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992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doknade koje se daju najvišim menadž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m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e nadoknade često uključuju nagrade i daju se obično ljudima koji se nalaze na dva najviša nivoa u kompaniji (predsednik ili potpredsednik kompanije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ket nadoknada koji se daje najvišim menadžerima obično se sastoji od četiri komponent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na pl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efi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u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vo da kupuju akcije kompanije po nižoj ceni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tock opt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grada je dodatna nadoknada koja je u vezi s izvršenj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azna tačka je sledeć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i poslovi doprinose uspehu organizacije više od drug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i zaposleni rade bolje od drugi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posleni koji rade bolje bi trebalo da dobiju veću nadokna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de se javljaju dva osnovna pitanj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bi trebalo učinak meriti i nagrađivati na osnovu individualnog, grupnog učinka ili učinka na organizacionom nivou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bi ovaj učinak trebalo meriti kratkoročno ili dugoročno (duže od godinu dana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rganizacije mogu davati nagrade na osnov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ividualnog učinka zaposleni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tvarenog prof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niorat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enior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- pretpostavlja da razlike u plaćanju zavise isključivo od iskustva ili dužine radnog staža zaposlen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 ovom sistemu nagrađuju se stabilni, iskusni kadro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ih mera uspeh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anizacije odlučuju o tome kakve će nagrade dati svojim zaposleni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9773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Principi dobrog plana nagrađivanj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70596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248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nagr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2028600" cy="113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2055960" cy="214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202104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248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dividual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2038320" cy="2752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2708280"/>
            <a:ext cx="615636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stem plaćanja po jedinici proizvod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 ovom sistemu zaposleni dobijaju nadnice po fiksnoj stopi za svaku jedinicu proizv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diferencijalni sistem plaćanja po jedinici proizvoda: zaposleni su plaćeni po jednoj stopi ako proizvedu manje jedinica proizvoda od predviđenog standarda, a ako proizvedu više plaćaju se po višoj stop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55736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ividualne nagrade imaju za cilj da nagrade napor i učinak pojedina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dividual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651672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Bonus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jednokratna plaćanja koja se daju zaposlenima za ostvarivanje cilja organizacij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2240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2284200" cy="2349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59280" y="4076640"/>
            <a:ext cx="5833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vizij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adoknada koja se izračunava kao procenat od novčanog iznosa ukupnog broja ostvarenih prodaja. Međutim, ovaj vid nagrađivanja može da smanji timski rad, jer se zaposleni takmiče jedan sa drug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Grup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583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a vrsta podsticaja pr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vako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a mog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st da dobije bonus koji 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sniva na output-u tima kao c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je su prednosti i nedostaci grupnih nagra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6784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rganizacione nagr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700280"/>
            <a:ext cx="8893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one nagrade se daju svim zaposlenima u organizaciji na osnovu toga kako je organizacija poslovala tokom godine.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lanovi za udeo u profit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rofit shar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i planovi distribuiraju deo profita organizacije zaposlen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posleni dobijaju bonus koji obično predstavlja određeni procenat profita kompanije (npr. 10-3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iljevi: povećanje produktivnosti, privlačenje i zadržavanje zaposlenih, poboljšanje kvaliteta proizvoda/usluga, povećanje morala zaposleni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EOS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mployee stock ownership pl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lan kojim se zaposlenima omogućava da kupuju akcije svoje kompanije; na taj način zaposleni postaju vlasnici kompanije u kojoj 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2:03:37Z</dcterms:created>
  <dc:creator>w7</dc:creator>
  <dc:description/>
  <dc:language>en-US</dc:language>
  <cp:lastModifiedBy>w7</cp:lastModifiedBy>
  <dcterms:modified xsi:type="dcterms:W3CDTF">2010-11-01T12:03:38Z</dcterms:modified>
  <cp:revision>1</cp:revision>
  <dc:subject/>
  <dc:title>Nagrade</dc:title>
</cp:coreProperties>
</file>