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757-CD22-4218-869D-B47910AC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C37-7172-4564-B2EB-91568FF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583-BA59-44B8-B4B8-5BAE4C0D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21F-BFEC-401F-93A7-66A014C4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5C77-4502-43D3-9D3B-D1D40F7E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4FEF-EA79-4B31-AB6B-FA6FDA83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8CE6-CEE1-4329-86F7-18F93A8B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6BC2-F638-434A-B609-C24C5ADF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AECB-D0E0-40AD-88A2-EA639A6F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2D8F-9C17-4E96-A991-971020CD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C6B-FDAD-4F85-BCCF-AB251AF9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4E0-3070-4618-B0E2-7E08A118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6D4D-5F41-448D-BCCC-BB75E20D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1392-1BD1-4BE5-9B87-DC26D43C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C397-A8C1-4286-A148-F1BEA8AD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889D-6188-46DE-AB54-F2947B82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7394-9CB4-4F3C-8D07-84A51EBF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632-67EE-4AE8-8180-A193014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E02-63BF-43F7-A1CD-6F6F81BD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390-4A58-4EAA-9044-3F47BDCE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40C-B96C-4578-94CF-34F918F1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17F-2D5C-4976-A59A-F63EE2CA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3A8-5149-4095-A0C1-692B0E2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090-18F7-4C38-89F4-895483A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B5A-EDEE-4E01-BC2A-237D5A6705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1F4B-C0B8-408E-807C-CC1A41FAA7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cc3300"/>
                </a:solidFill>
                <a:latin typeface="Arial"/>
              </a:rPr>
              <a:t>UVOD U MENADŽMENT LJUDSKIH RESURSA</a:t>
            </a:r>
            <a:endParaRPr b="0" lang="en-US" sz="5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nadžment ljudskih resursa-defini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rovske aktiv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rovski stručnja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 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straživanja pokazuju da redosled kadrovskih aktivnosti prema njihovom prioritetu za organizaciju izgleda ovak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grutovanje i selekcija- 5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ning i razvoj- 46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eficije- 36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oknade- 32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dni odnosi/odnosi između zaposlenih-28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9360" y="451080"/>
            <a:ext cx="86374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 je odgovoran za kadrov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Ko bi trebalo da se bavi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rovskim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itanjima u organizaciji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amo kadrovska odeljen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amo menadžeri (rukovodio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ukovodioci i kadrovsk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delje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948360" cy="462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12640" y="333360"/>
            <a:ext cx="85759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 odgovornosti menadžer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30800" y="451080"/>
            <a:ext cx="86374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69520" y="1703520"/>
            <a:ext cx="857412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kompaniji o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__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poslenih postoji potreba za jednom osobom nadležnom za kadrovska pitan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972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i stručnjac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rovska odeljenja su sastavljena od kadrovskih generalista i kadrovskih specijal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rovski general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oba odgovorna za izvršenje čitavog niza kadrovskih aktiv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rovski specijal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oba koja poseduje produbljeno znanje i stručnost u određenom (ograničen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 kadrovskom područj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eštine kadrovskih stručnja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đuljudsk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n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ština komunika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govar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imskog 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štine odlučiv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št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erst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hničke veš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56000" y="1998720"/>
            <a:ext cx="453708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Šta su ljudski resursi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496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Ljudski resursi (kadrovi) = z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osleni u organizaciji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i njihove karakteristike koje mogu da donesu ekonomsku vrednost organizacij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kon o radu RS definiše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zaposlenog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o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fizičko lice koje je u radnom odnosu kod poslodavc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slodavca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o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pravno ili fizičko lice koje zapošljava, odnosno radno angažuje, jedno ili više l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 kadrovima se podrazumevaju ljudi koji aktivno rade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adrovi u funkcij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i oni koji se pripremaju za funkciju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adrovi u pripremi za funkci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rosni minimum za zasnivanje radnog odnosa kod nas 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od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je vrednosti zaposleni donose organizaciji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judski resursi stvaraju održivu konkurentsku prednost kompanije zato što s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edni resur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tki resur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mogu se kopira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mogu se zamen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701640" y="315720"/>
            <a:ext cx="93441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Me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džment ljudskih resurs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</a:rPr>
              <a:t>Menadžment ljudskih resurs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=kadrovski menadžment=upravljanje ljudskim resursi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kup aktivnosti usmeren na efektivnu upotrebu ljudskih resursa u organizacij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adrovske aktiv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31640" y="1433520"/>
            <a:ext cx="65167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naliza poslova i radnih zadata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 obuhvata pos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ojektovanje poslova i radnih zadata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organizovati i podeliti pos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laniranje kadr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ifikacija broja i vrste zaposlenih koji su potrebni organizacij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 ostvarila svoje cilj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egrutovanj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adr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pronaći najbolje kandidate za pos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0080" y="1920960"/>
            <a:ext cx="2293920" cy="49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993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elekcija kadr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oceniti sposobnosti i motivaciju kandida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Tr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obezbediti da zaposleni svoje sadašnje poslove obavljaju na najefikasniji nač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brazovanje i razvoj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adrov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pripremiti zaposlene za napredovanje u karijeri i prihvatanje novih izazov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redno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merimo i podstičemo bolje rezultate rada naših zaposlenih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laniranje i kontrola nadoknada i benefi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obezbediti da nadoknade budu fer i interno i ekster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efi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maksimizirati zadovoljstvo zaposlenog i istovremeno držati troškove pod kontrol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drža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ordinacija, kadrovsko istraživanje i evidencije, zdravlje i sigurnost kadr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adni 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no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šta je moguće učiniti da zaposleni budu koliko je moguće i produktivni i zadovolj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e aktivnos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drovske politi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Usklađenost sa zakonodavstv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kako znati da li je kadrovska praksa u skladu sa važećim zakonodavstv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ticaj kadrovskog menadžmen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62864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rovski menadžment utiče na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 radi u organizaciji (vrste ljudskog kapit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ko ovi ljudi rade (ponašanje lju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g kapit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5229000"/>
            <a:ext cx="88200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i ljudski resursi mogu stvoriti konkurentsku prednost organizacije i tako doprineti ostvarenju osnovnih ciljeva organizacije- kvalitet, profitabilnost, zadovoljstvo potrošač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643360" cy="289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26:45Z</dcterms:created>
  <dc:creator>Tanja</dc:creator>
  <dc:description/>
  <dc:language>en-US</dc:language>
  <cp:lastModifiedBy>w7</cp:lastModifiedBy>
  <dcterms:modified xsi:type="dcterms:W3CDTF">2010-10-22T16:47:21Z</dcterms:modified>
  <cp:revision>95</cp:revision>
  <dc:subject/>
  <dc:title>Slide 1</dc:title>
</cp:coreProperties>
</file>