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4E22-8EA2-459A-BDE9-C7089BDC9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DC38-8EE7-4FDC-B078-039D5A15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C1A7-6258-47F2-8268-1AFC7B282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AE26-CD8F-4C98-AB95-F479E1D2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D4D7-D182-47CC-8534-B1ADF9B1B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54F6-7D31-4E07-AF63-1B65EFD0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24D5-6A55-4303-A590-6599A001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7FEC-EAE6-4380-B689-3E568CF1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DBE7-598D-465D-BB29-2C9E9D75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A403-A23B-44FC-AD68-2E3A9135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02C5-98C7-4F30-BFA3-81F65AC2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2BD0-65D7-4FA8-BD43-1AD7CDF2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87B5-75FD-4B39-BC09-C82202C4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4077-87A9-429A-8920-828E3EB9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022E-B608-45CD-8541-3EBDD175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4D80-8EF5-49B2-B955-6145C0A5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35A9-81E7-4B4E-8788-B4B9CC8F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57E8-2D15-492E-9739-A2AFC704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01F0-5583-4070-A1E8-E0A23895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FA1F-1C6E-40AE-B9E7-DDA98FF8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4C5F-418B-46EC-80B6-C1973CF3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7D7B-3A6B-4781-AF36-08E3A83F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BCB0-4FA8-47E6-A782-FDCA2BBA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9143-D2E3-4729-BCAF-8D12B0FD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EB4C-8F61-4F3D-906E-76B13A852DD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0664-AFB2-431B-B0DC-17B0DAA2CC6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8930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800" spc="-1" strike="noStrike">
                <a:solidFill>
                  <a:srgbClr val="cc3300"/>
                </a:solidFill>
                <a:latin typeface="Arial"/>
              </a:rPr>
              <a:t>Selekcija </a:t>
            </a:r>
            <a:r>
              <a:rPr b="0" lang="en-US" sz="5800" spc="-1" strike="noStrike">
                <a:solidFill>
                  <a:srgbClr val="cc3300"/>
                </a:solidFill>
                <a:latin typeface="Arial"/>
              </a:rPr>
              <a:t>ljudskih resursa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63280" y="3284640"/>
            <a:ext cx="6072120" cy="22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ces selekcij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Prijave za posao i rezim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Metode selekcij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Testovi za selekciju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Donošenje odluke o selekciji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66720" y="274320"/>
            <a:ext cx="87314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Vrste intervju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ituacioni intervj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90000"/>
              </a:lnSpc>
              <a:spcBef>
                <a:spcPts val="726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Arial"/>
              </a:rPr>
              <a:t>Ispitivač opisuje situaciju koja se može desiti na poslu, i postavlja pitanje kandidatu šta bi on uradio u toj situacij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Intervju za opisivanje ponašanj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90000"/>
              </a:lnSpc>
              <a:spcBef>
                <a:spcPts val="726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Arial"/>
              </a:rPr>
              <a:t>Ispitivač postavlja pitanje kandidatu da opiše kako je postupao u određenim situacijama u prošlost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66720" y="274320"/>
            <a:ext cx="87314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rimer:</a:t>
            </a: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je od sledećih pitanja je dozvoljeno postaviti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a li će nega deteta uticati na mogućnost da dolazite na posa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a li imate automobil kako biste mogli da stignete na vre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-41940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Arial"/>
              <a:buAutoNum type="alphaLcPeriod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vaj posao zahteva od Vas da budete na radnom mestu od 8 do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a li možete da zadovoljite ovaj zahte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0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2560" y="33300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Dozvoljena/nedozvoljena pitanj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3763800" cy="50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Selekcija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 ljudskih resurs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6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Proces izbora pojedinaca koji imaju relevantne kvalifikacije da dobiju posao u organizaciji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6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Proces u kome organizacija odlučuje ko će, odnosno ko neće ući u organizaciju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774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100" spc="-1" strike="noStrike">
                <a:solidFill>
                  <a:srgbClr val="000000"/>
                </a:solidFill>
                <a:latin typeface="Arial"/>
              </a:rPr>
              <a:t>U čemu je razlika između regrutovanja i selekcij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roces selekcij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49280" y="2492280"/>
            <a:ext cx="8694720" cy="27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560" y="25992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regled prijava za posao i rezimea 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java za posao sadrži sledeće informaci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6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Lični podaci kandidata-kontakt informacij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6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Radno iskustvo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6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Obrazovanje kandidata,itd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726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Arial"/>
              </a:rPr>
              <a:t>Rezime (Curriculum Vitae-CV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560" y="33300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Vrste testov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estovi sposobnost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estovi kojima se meri sposobnost pojedinca da razvije posebne veštine i znanja u budućnost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estovi izvršenj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estovi kojima se mere postojeća znanja i veštine pojedin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2560" y="40428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Test iskrenosti- primer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76440" y="1965240"/>
            <a:ext cx="822636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Intervju za selekciju kadrov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ju je najčešće korišćeno sredstvo za selekcij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tervju sa kandidatom obično vode kadrovski specijalista i osoba koja će biti neposredni nadređeni kandidatu ako dobije posao. Ako više osoba treba da obavi intervju sa kandidatom , to se može uraditi pomoću panel intervjua (gde više ispitivača obavlja razgovor sa kandidatom odjedn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vrha intervju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 se pronađe najbolja osoba za posa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 obezbedi da kandidati razumeju šta posao uključuje, kakve su mogućnosti za napredovanje u karijeri,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 pruži najbolju moguću sliku o organizacij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 ponudi fer tretman svim kandidatima, bez obzira da li će dobiti posao ili 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2560" y="40428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Saveti za efektivan intervju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860480"/>
            <a:ext cx="4032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5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Odlučite šta tražite od kandidat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90000"/>
              </a:lnSpc>
              <a:spcBef>
                <a:spcPts val="5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Pripremite se za intervju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90000"/>
              </a:lnSpc>
              <a:spcBef>
                <a:spcPts val="5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Nemojte otežavati kandidatu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90000"/>
              </a:lnSpc>
              <a:spcBef>
                <a:spcPts val="5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Pratite listu pitanja koju ste sastavili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90000"/>
              </a:lnSpc>
              <a:spcBef>
                <a:spcPts val="5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Slušajte šta kandidat govori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90000"/>
              </a:lnSpc>
              <a:spcBef>
                <a:spcPts val="5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Pravite belešk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90000"/>
              </a:lnSpc>
              <a:spcBef>
                <a:spcPts val="5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Ljubazno završite intervju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08560" y="2046240"/>
            <a:ext cx="4003560" cy="322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2560" y="33300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Vrste intervju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estrukturisan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spitivač ima slobodu da izabere pitanja koja će postaviti kandidat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itanja se ne planiraju unap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lustrukturisani intervj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san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rv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va pitanja se planiraju unap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risti standardizovan skup pitanja koja se postavljaju svim kandidatima po istom red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25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4:46:57Z</dcterms:created>
  <dc:creator>Tanja</dc:creator>
  <dc:description/>
  <dc:language>en-US</dc:language>
  <cp:lastModifiedBy>w7</cp:lastModifiedBy>
  <dcterms:modified xsi:type="dcterms:W3CDTF">2010-11-01T11:45:30Z</dcterms:modified>
  <cp:revision>23</cp:revision>
  <dc:subject/>
  <dc:title>Selekcija kadrova</dc:title>
</cp:coreProperties>
</file>