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1A43-3DC7-4437-9265-9B765E6B6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Naci novi prime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641-516E-4138-A5CF-14AF7311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FB6-A41A-4A9D-8B4E-B790F75B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969-EC35-402D-A735-83E839EC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7927-CD64-4037-85F3-8E571477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F960-013B-4064-A8FC-75AE4729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88AD-9FF8-450B-9067-C8220B86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70BF-E897-4F89-B5B5-0D3BE4AF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015D-F601-4325-93B1-56D89143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5F23-D453-4F09-9B67-0AE3954B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529D-D55B-4FA3-8006-9A4BFF0C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6139-469F-4A98-A868-943208CB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7794-4BA0-47C9-B485-B000959E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ABF3-14CA-41F8-A9E8-6D2B3A79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65AF-E839-492D-827D-1FC925C7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5231-0D91-4499-9435-C5507C7F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3971-18A8-4DBD-B8B0-DE673408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1F85-CF3C-49AB-9445-42B4EA87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F1D-5AE0-44CE-856C-DA5BC141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C10-338A-4F5B-9D2A-F189F061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3B9C-7CEC-4A8F-92AD-F6ABE906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620-09C6-43CB-AA3E-34771977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014-419C-4B0D-8E54-BBBE8CC9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E2E-D152-47DF-ACD2-587B438D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7E5E-8795-4788-B147-676AD0AD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490B-2E36-4CCC-99C7-48B978D3471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B8FC-F260-4D18-AB74-22FDBB9EC83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200" spc="-1" strike="noStrike">
                <a:solidFill>
                  <a:srgbClr val="cc3300"/>
                </a:solidFill>
                <a:latin typeface="Arial"/>
              </a:rPr>
              <a:t>Analiza i projektovanje poslova i radnih zadataka</a:t>
            </a:r>
            <a:endParaRPr b="0" lang="en-US" sz="5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Definicija posl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Analiza poslova</a:t>
            </a: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 i radnih zadatak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Projektovanje poslova</a:t>
            </a: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 i radnih zadatak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Fleksibilni rasporedi rad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2560" y="33300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Specifi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čne metode analize poslova i radnih zadatak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itnik za analizu položaja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Position Analysis Questionnair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ndardizovan upitnik za analizu poslova koji se sastoji od 194 pitanja o ponašanju na poslu, uslovima rada i karakteristikama pos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kcionalna analiza poslov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li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lova pravljenjem standardizovanih opisa poslova koji se mogu koristiti u različitim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ganizacijam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pitnik za opis menadžerskih položaja 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Management Position Description Questionnair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560" y="40428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imer: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ji od navedenih poslova bi bilo najbolje analizirati metodom posmatranja u cilju dobijanja informacija o posl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Finansijski analitič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ek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ekretar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Generalni direk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547640" y="1846440"/>
          <a:ext cx="5788080" cy="50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846440"/>
                    <a:ext cx="578808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02200" y="3357720"/>
            <a:ext cx="239688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0040" bIns="50040" anchor="t">
            <a:spAutoFit/>
          </a:bodyPr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sr-Latn-CS" sz="2700" spc="-1" strike="noStrike" u="sng">
                <a:solidFill>
                  <a:srgbClr val="ffffff"/>
                </a:solidFill>
                <a:uFillTx/>
                <a:latin typeface="Arial"/>
              </a:rPr>
              <a:t>Analiza posl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74200" y="5300640"/>
            <a:ext cx="163620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0040" bIns="50040" anchor="t">
            <a:spAutoFit/>
          </a:bodyPr>
          <a:p>
            <a:pPr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redno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91280" y="6237360"/>
            <a:ext cx="12247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0040" bIns="50040" anchor="t">
            <a:spAutoFit/>
          </a:bodyPr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elek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5120" y="6451560"/>
            <a:ext cx="19472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0040" bIns="50040" anchor="t">
            <a:spAutoFit/>
          </a:bodyPr>
          <a:p>
            <a:pPr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ening i razv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00760" y="2781360"/>
            <a:ext cx="15098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0040" bIns="50040" anchor="t">
            <a:spAutoFit/>
          </a:bodyPr>
          <a:p>
            <a:pPr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dokn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0400" y="1700280"/>
            <a:ext cx="22442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0040" bIns="50040" anchor="t">
            <a:spAutoFit/>
          </a:bodyPr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laniranje karij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8080" y="1700280"/>
            <a:ext cx="291168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0040" bIns="50040" anchor="t">
            <a:spAutoFit/>
          </a:bodyPr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aciona 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9640" y="3141720"/>
            <a:ext cx="140760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0040" bIns="50040" anchor="t">
            <a:spAutoFit/>
          </a:bodyPr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laniran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dr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760" y="5300640"/>
            <a:ext cx="17215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0040" bIns="50040" anchor="t">
            <a:spAutoFit/>
          </a:bodyPr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gruto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Značaj analize poslov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ojektovanje poslova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i radnih zadatak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oces u kome se definiše način na koji će se posao obavljati i zadaci koje posao obuhv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707868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9960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Tehnike motivacije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zaposlenih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većavanje posla 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 enlargemen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širivanje raspona posla povećavanjem broja različitih zadataka koje obavlja pojedina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tacija posla 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 rotatio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dnik se periodično premešta sa jednog posla na drugi, sa ciljem razbijanja monotonije rutinskog pos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ogaćivanje posla 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 enrichmen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anje većeg značaja zaposlenima, tako što im se daje mogućnost da donose neke odluk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ćava se odgovornost, širina i izazovi pos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utonomni timovi 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f-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ag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eam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imovi koji preuzimaju odgovornost za posao koji odrađuju; timovi obično sami određuju raspored rada, sami određuju članove tima, rešavaju probleme koji su u vezi sa radom tima, i obavljaju druge dužnosti koje su tradicionalno obavljali menadže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ja od ovih tehnika ima najjači uticaj na motivaciju zaposleni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22560" y="2637000"/>
            <a:ext cx="6121440" cy="3519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560" y="40428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Model obeležja posl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2421000"/>
            <a:ext cx="309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del obeležja posla opisuje poslove u pogledu sledećih karakteristi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novrsnost veš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poznatljivost za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načaj za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utonom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vratna v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148428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tovanje posla mora uzeti u obzir faktore koji povećavaju motivaciju zaposlenih za r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979640" y="1533600"/>
            <a:ext cx="5549760" cy="5022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2560" y="40428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Fleksibilni rasporedi rad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9520" y="1433520"/>
            <a:ext cx="857412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26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Fleksibilni rasporedi rad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eksibilno radno vre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extime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zaposleni sa punim radnim vremenom imaju mogućnost da sami izaberu vreme početka i završetka rada u skladu sa pravilima organizacije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Deljenje posl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job sharing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-dva zaposlena sa skraćenim radnim vremenom  dele jedan posao koji zahteva puno radno vre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Zbijena radna nedelj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compressed workweek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- zaposleni obavljaju posao za manje od pet dana u nedelj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Telework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telecommuting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zaposleni obavljaju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ao izvan kancelari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8760" y="2743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Šta je posao?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osao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koji zadaci se mogu pripisati određenom poslu ili položaj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Posao je skup povezanih zadataka, dužnosti i odgovornos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ložaj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koje zadatke treba da obavlja konkretan pojedin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Položaj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je skup zadataka, dužnosti i odgovornosti koje obavlja jedna osob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ao može da obuhvata više od jednog položa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8760" y="2743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Šta je posao?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Zadatak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 definiše metode, procedure i tehnike pomoću kojih se obavljaju dužnos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astoji se od pokre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datak je jasno prepoznatljiva radna aktivn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eba da pokaž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342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šta se radi (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kcij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342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ako se radi (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cedure, materijali, alati, oprem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342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što se radi (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ilj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Dužnos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 veći odsečak rada koji obavlja jedna osob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to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je skup zadata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većina poslova sadrži od 4 do 8 dužno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Odgovornos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obaveza za izvršenje određenih zadataka i dužnos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Analiza poslova i radnih zadatak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Analiza poslova i radnih zadatak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roces prikupljanja detaljnih informacija o poslov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o je osnovna kadrovska aktivn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što je neophodna analiza posl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3769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za poslov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je informacije koje su neophodne za skoro sve kadrovske aktiv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je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vrste informacij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se prikupljaju u analizi posl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3769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ne aktivnosti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htevan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našan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3769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kcija sa drugim osoba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3769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 r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3769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sijski uticaj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3769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sak mašina i opreme koja se kori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3769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lovi r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3769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nos nadređenosti i podređenosti u organizacij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3769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rebno znanje, veštine i sposob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pis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osl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820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Krajnji rezultat analize posla su </a:t>
            </a:r>
            <a:r>
              <a:rPr b="1" lang="sr-Latn-CS" sz="2300" spc="-1" strike="noStrike" u="sng">
                <a:solidFill>
                  <a:srgbClr val="000000"/>
                </a:solidFill>
                <a:uFillTx/>
                <a:latin typeface="Arial"/>
              </a:rPr>
              <a:t>opis poslova i radnih zadataka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sr-Latn-CS" sz="2300" spc="-1" strike="noStrike" u="sng">
                <a:solidFill>
                  <a:srgbClr val="000000"/>
                </a:solidFill>
                <a:uFillTx/>
                <a:latin typeface="Arial"/>
              </a:rPr>
              <a:t>specifikacija posl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Arial"/>
              </a:rPr>
              <a:t>Razlika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opis posla se odnosi na </a:t>
            </a:r>
            <a:r>
              <a:rPr b="0" lang="pl-PL" sz="2300" spc="-1" strike="noStrike">
                <a:solidFill>
                  <a:srgbClr val="cc3300"/>
                </a:solidFill>
                <a:latin typeface="Arial"/>
              </a:rPr>
              <a:t>POSAO</a:t>
            </a: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, a specifikacija posla na </a:t>
            </a:r>
            <a:r>
              <a:rPr b="0" lang="pl-PL" sz="2300" spc="-1" strike="noStrike">
                <a:solidFill>
                  <a:srgbClr val="cc3300"/>
                </a:solidFill>
                <a:latin typeface="Arial"/>
              </a:rPr>
              <a:t>OSOBU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Opis poslova i radnih zadatak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od čega se posao sastoj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Arial"/>
              </a:rPr>
              <a:t>spisak zadataka, dužnosti i odgovornosti koje konkretan posao uključuj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Opis poslova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i radnih zadataka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ukazuje na to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šta se radi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zašto se radi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gde se radi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kako se rad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Tipičan opis poslova i radnih zadataka sadrži tri glavna dela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Arial"/>
              </a:rPr>
              <a:t>Identifikacija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-  naziv posla, odeljenje, nadređeni, podređen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Arial"/>
              </a:rPr>
              <a:t>Opšti rezime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-opšte odgovornosti i komponente po kojima se posao razlikuje od drugih poslov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Arial"/>
              </a:rPr>
              <a:t>Specifične dužnosti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- jasno i precizno definisani zadaci, dužnosti, odgovornost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pecifikacija posl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pecifikacija pos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a treba da poseduje osoba da bi obavljala posa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pisak znanja, veština, sposobnosti i drugih karakteristika koje koje osoba treba da ima da bi mogla da obavlja posao na zadovoljavajući nač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pisanju specifikacije posla važno je navesti samo one veštine, znanja, sposobnosti koje su suštinske za uspešno izvršenje posla, i to samo one stavke koje su u vezi sa poslom a nisu diskriminator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pecifikacija posla je obično podeljena na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neophodne zahtev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željene zahte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pecifikacija posla obuhvat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kustvo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valifikacij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čne karakteristike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imer: opis posl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ova i radnih zadatak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573200"/>
            <a:ext cx="457992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imer: specifikacija posl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425680" y="1546200"/>
            <a:ext cx="45799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pšte metode analize poslova i radnih zadatak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51228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ko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pronaći pouzdane izvore informacija o poslovi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matranj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vj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itni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808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Ekspertska poro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51640" y="1484280"/>
            <a:ext cx="3492360" cy="23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3:28:05Z</dcterms:created>
  <dc:creator>Tanja</dc:creator>
  <dc:description/>
  <dc:language>en-US</dc:language>
  <cp:lastModifiedBy>w7</cp:lastModifiedBy>
  <dcterms:modified xsi:type="dcterms:W3CDTF">2010-11-01T11:35:42Z</dcterms:modified>
  <cp:revision>76</cp:revision>
  <dc:subject/>
  <dc:title>Slide 1</dc:title>
</cp:coreProperties>
</file>