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641-D452-459B-9F31-901B2838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700-24CC-4B8C-B013-83C4DAD3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303-E968-439F-A21E-2D3D52FB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EB8-B71D-48B1-85A3-BCB367E1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5D1-63A4-492D-A75C-AB8F062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9FF-6265-4294-83DC-ED41640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385-5211-4F7E-B5FB-4B33DD28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331-DB94-4E41-B4C8-738DCEE7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140-0E7C-4942-AE92-613D16B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BAF-778E-4B2E-992F-47C73A4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99D-50DC-49EB-B557-800F2908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D82-04F4-42D3-AF2E-D8B3FC89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7BDF-7D61-45F6-83A1-6B1BA3971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RTIVNA KOMUNIK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STILOVI KOMUNI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83808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ASIVNA KOMUNIKA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– indirektnost, izbegavanje konflikata, skrivanje osećanja i mišljenja, druga osoba ne zna vaše pravo mišlj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 se kada se plašimo da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ga ne izgubimo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da 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mopoštovan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 niskom nivo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ili kada ne želimo da zauzimamo stav u vezi određene te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335268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GRESIVNA KOMUNIKACIJ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– kontrola nad drugima, ponižavanje drugih, dominacija, napad, konstantna potreba d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et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avu, okrivl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anje drug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 se kada želimo da imamo kontrolu, nesigurni smo, p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imo se ili ne cenimo tuđa mišljenja, ž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 da dokažemo da je neko 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avu ili 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SERTIVNA KOMUN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ASERTIVNA KOMUN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orma komunikac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u okviru koje se zalažemo za svoja prava ali uzimamo u obzir i prava i osećanja drug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98764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em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Pravedn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Direktn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Takt i osećajnos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Iskre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30639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KAKO ASERTIVNO KOMUNICIR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1932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i dela u razvoju asertivnih iz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Vaša perspektiva/percepcija situaci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Vaša osećanja u vezi situaci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Vaše želje u vezi situacije ili reš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5320" indent="-361800" algn="just">
              <a:spcBef>
                <a:spcPts val="64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ja-poru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95320" indent="-361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način saopštavanja pomoću kojeg otvoreno i jasno iskazujemo svoje opažanje situacije, svoja osećanja i potrebe u vezi sa tom situacijom i saopštavamo kako bismo želeli da se ta situacija razreši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 da naša potreba bude zadovolj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95320" indent="-3618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služe izražavanju vlastitih osećanja, opažanja, iskustava, doživljaja, sećanja, misli, potreba, želja, zanimanja, ideja, očekivanja, verovanja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OSNOVNE PORUKE U KOMUNIK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2. ti-poru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nude gotova rešenj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se koriste pri vređanju, napadanju,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ebacivanju, osuđivanju, ocenjivanju,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kažnjavanju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se odnose na dru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3. mi-poru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koje jačaju vlastiti položaj ili prikrivaju vlastito mišljenje i vlastite žel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77320" indent="-3542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ruke pomoću kojih pokušavamo da utičemo na druge zaobilazno, indirektno, smanjujemo ili otklanjamo vlastitu odgovornost i obaveze u vezi sa sadržajem komunik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OSNOVNE PORUKE U KOMUNIK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1. ”Kada vidim/primetim da ... 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 govorimo o postupku druge os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- opis koji nije vrednovanje ni ocenjiv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Arial"/>
              </a:rPr>
              <a:t>2. ”...osećam se... ” ili ” ... želim da ... 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govorimo o svojoj reakciji bez samooptuživanja i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avd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3.”</a:t>
            </a: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..ž</a:t>
            </a: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eleo-la bih da..”</a:t>
            </a: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ili ”</a:t>
            </a: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..</a:t>
            </a:r>
            <a:r>
              <a:rPr b="1" lang="fr-FR" sz="2600" spc="-1" strike="noStrike">
                <a:solidFill>
                  <a:srgbClr val="6600cc"/>
                </a:solidFill>
                <a:latin typeface="Arial"/>
              </a:rPr>
              <a:t>voleo-la bih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govorimo o željenom ishodu bez naredbi i u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STRUKTURA JA-POR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V E Ž B A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371600"/>
          <a:ext cx="8382240" cy="5181480"/>
        </p:xfrm>
        <a:graphic>
          <a:graphicData uri="http://schemas.openxmlformats.org/drawingml/2006/table">
            <a:tbl>
              <a:tblPr/>
              <a:tblGrid>
                <a:gridCol w="1905120"/>
                <a:gridCol w="2286000"/>
                <a:gridCol w="2514600"/>
                <a:gridCol w="16765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an opis situacij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da vidim/primetim da .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da primetim da me laže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ja reakc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ećam se ili želim da 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ećam se povređenom i izneveren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hod koji bi voleo/l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o što bih ja više voleo/la ili želeo/la je da 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o š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h ja više volela je da mi kažeš istinu ma koliko ona bolel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604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8080"/>
            <a:ext cx="8077320" cy="0"/>
          </a:xfrm>
          <a:prstGeom prst="line">
            <a:avLst/>
          </a:prstGeom>
          <a:ln w="63360">
            <a:solidFill>
              <a:srgbClr val="4a3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8120"/>
            <a:ext cx="85345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d1941"/>
                </a:solidFill>
                <a:latin typeface="Arial"/>
              </a:rPr>
              <a:t>V E Ž B A  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687600" indent="-687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cc"/>
                </a:solidFill>
                <a:latin typeface="Arial"/>
              </a:rPr>
              <a:t>PREUZIMANJE ODGOVOR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i me ne slušaš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i nikada ne vrednuješ moj rad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Zašto si ljut/a na mene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Da li ti sve ovo zapisuješ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ilena, šta si uradila sa finansijskim izveštajem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etpostavka: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novo napisana izjava:______________________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7600" indent="-687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8:54:20Z</dcterms:created>
  <dc:creator>w7</dc:creator>
  <dc:description/>
  <dc:language>en-US</dc:language>
  <cp:lastModifiedBy>w7</cp:lastModifiedBy>
  <dcterms:modified xsi:type="dcterms:W3CDTF">2010-10-31T18:54:57Z</dcterms:modified>
  <cp:revision>2</cp:revision>
  <dc:subject/>
  <dc:title>Slide 1</dc:title>
</cp:coreProperties>
</file>