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95C-7EEF-441B-AFC2-88111279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CF2-17CA-4592-9B1F-01DFD844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3BB-77D7-4DE4-8B91-2F82A528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1A4-E8EF-4C04-B432-B7CF5376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2060-DE7C-4191-A938-8BD28C25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140-8941-454E-A2C8-E9B45A4C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A449-1B1D-4106-8E6E-A0617DD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B33F-D38A-40C2-B710-E312BBA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BEE-9A79-48E7-B725-B2E75C7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D03F-E77A-4ED4-A4E2-43A9070C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9E0A-B066-4930-91C9-1E41F00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311-72CA-4241-B69A-1B8C963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10B3-5A14-4A55-B1B6-CFE6660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2F4C-13C1-4A7C-B0FD-295DFF4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F4BB-86D3-4791-ABF5-694D28F3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9F2F-937C-4ECE-83CC-FECB0D10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1431-56D6-4199-86F0-DE003632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573-753F-4472-8259-CBA4FB20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F4C-4861-45AD-93E8-2177C697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430-C5EC-4B61-89F9-12A5F9DA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578-6AA7-47EA-9A44-598226A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3F8-ED7E-4493-8E4D-8E8CAE0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5EB-D487-4AB1-9219-78CF814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E53-6E9B-44FA-9C79-8033833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B438-D5C3-4FC7-B8EE-18663B2092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E0A9-A2F4-4794-B9C5-428B47AB98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900" spc="-1" strike="noStrike">
                <a:solidFill>
                  <a:srgbClr val="cc3300"/>
                </a:solidFill>
                <a:latin typeface="Arial"/>
              </a:rPr>
              <a:t>Sindikati</a:t>
            </a:r>
            <a:endParaRPr b="0" lang="en-US" sz="59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3573000"/>
            <a:ext cx="607212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jam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loga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ces organizovanja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rste sindik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lektiv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5080" y="388800"/>
            <a:ext cx="87825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epravedno postupanje sa zaposlenim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eat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etn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pretiti zaposlenima otkazom ili zatvaranjem kompanije ako glasaju za sindik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rogat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ispitivan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pitati zaposlene kako će glas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i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obećan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obećati zaposlenima povišice ako ne glasaju za sindik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špijuniran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 može poslati svog špijua na sastanke sindik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lektivno pregovaranje </a:t>
            </a:r>
            <a:br>
              <a:rPr sz="4000"/>
            </a:b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sr-Latn-CS" sz="40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ollective </a:t>
            </a:r>
            <a:r>
              <a:rPr b="0" i="1" lang="sr-Latn-CS" sz="4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argaining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govaranje između predstavnika sindikata i predstavnika menadžmenta da se napravi ugovor koji definiše uslove zaposlenja i da se administrira ugov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govor obično sadrž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be 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j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ilima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šavanju pritužb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5400" y="1960560"/>
            <a:ext cx="197172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lektivno pregova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ste pregovaračkih odnos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oružano primir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ć u pregovaran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lagođa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rad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ćutno razumev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uktura pregovaran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an poslodavac-jedan sindik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jedan poslodavac-više sindik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više poslodavaca-jedan sindikat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olektivno pregova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ipovi ponašanja u kolektivnom pregovaran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istributiv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nteraktiv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rukturisanje stavo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nutarorganizaciono pregovar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da pregovaranje ne da rezultat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raj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ektivna odluka članova sindikata da ne rade dok se ne ispune određeni zahtevi ili uslo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ste štraj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onomski štra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rajk zbog nepravednih prak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vlji štra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egalni štraj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e altern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dija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find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bitraž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2305080" cy="2441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84720" y="4076640"/>
            <a:ext cx="266256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stupak za rešavanje pritužb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ostupak za rešavanje pritužbe (</a:t>
            </a:r>
            <a:r>
              <a:rPr b="0" i="1" lang="sr-Latn-CS" sz="2500" spc="-1" strike="noStrike">
                <a:solidFill>
                  <a:srgbClr val="000000"/>
                </a:solidFill>
                <a:latin typeface="Arial"/>
              </a:rPr>
              <a:t>grievance procedure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Zaposleni se obraća nadređen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Ako se konflikt ne reši na ovaj način, zaposleni se obraća predstavniku sindik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redstavnik sindikata razgovara sa linijskim menadže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Sindikat razgovara o pritužbi sa menadžerom organizacione jedinice ili sa kadrovskim specijalist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redstavnik sindikata se sastaje sa predstavnikom menadžmenta kompan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624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Poziva se treća osoba/arbitar da presudi u konkretnom sluča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loga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dikati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ganizacije koje se formiraju sa ciljem da predstavljaju interese svojih članova i rešavaju konflikte sa poslodavc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ilj sindikata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boljšanje ekonomskih i drugih uslova zapošljavanja (kao što su nadnice, radno vreme beneficije, itd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nastoje da ostvare ove ciljeve kroz kolektivno pregovaran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indikat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akon o radu R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aposlenima se jamči sloboda sindikalnog organizovanja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dikatom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matr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ostaln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mokratsk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zavisn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aposlenih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oju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brovo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dru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astup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dstav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apre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te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voj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esional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konomsk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cijal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ultur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ug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jedina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olektivnih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es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lodavac je dužan da zaposlenom koji je član sindikata na ime sindikalne članarine odbije iznos od zarade na osnovu njegove pismene izjave i da taj iznos uplati na odgovarajući račun sindikata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loga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sleni se organizuju u sindikate iz jednog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snovnog razlog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nezadovoljni su načinom na koji ih poslodavci tretiraju i smatraju da će sindikat popraviti njihovu situacij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ki od važnijih faktora s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dovoljstvo nadnicama i beneficij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dovoljstvo bezbednošću na radu ili sigurnošću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š tretman od strane nadređenog, uključujući i nedovoljnu komunikac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ogućnost da bilo šta prom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zanatl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šti sindika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u industrij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ndikati pojedinačnih profes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dikati č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%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upnog broja zaposlenih u u S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639800"/>
            <a:ext cx="6458040" cy="5218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indikati- t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end u SA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Ciljevi svake grup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 pogledu radnih odnosa koji su ciljev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7560" indent="-3942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nadžm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njenje troško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ćanje output-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7560" indent="-3942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indik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tvoriti uslove (u pogledu plate i uslova rada) koji zadovoljavaju član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ati članovima glas u donošenju odluka koje se njih tič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-357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Jednaka plata za jednak r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0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Procenjuje se da je ukupan ekefat sindikata na nadnice oko 10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organizovanja sindik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400" y="1433520"/>
            <a:ext cx="370188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klamiranje- sa ciljem stvaranja interesovanja zaposlenih za sindik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posleni potpisuju kartu odobr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or sindik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las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vr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62440" y="1773360"/>
            <a:ext cx="5281560" cy="44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7:54:35Z</dcterms:created>
  <dc:creator>Tanja</dc:creator>
  <dc:description/>
  <dc:language>en-US</dc:language>
  <cp:lastModifiedBy>w7</cp:lastModifiedBy>
  <dcterms:modified xsi:type="dcterms:W3CDTF">2010-11-01T11:58:26Z</dcterms:modified>
  <cp:revision>55</cp:revision>
  <dc:subject/>
  <dc:title>Kolektivno pregovaranje i radni odnosi</dc:title>
</cp:coreProperties>
</file>