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7A80-1206-4BAB-9BE3-AA4635122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DD32-D4D0-42A1-8C6C-D92BC058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C125-7028-488E-86D8-106662516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7705-0083-4001-87B8-211F84758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FB9C-A825-418A-943D-4C3BD7E8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0C55-C212-427A-8776-F3FE6C17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2003-7D37-4AE6-AE0E-46188927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2722-7899-4281-A1FE-BD00A3FE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2A96-49DF-4F45-9D16-0461AB96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97D9-AD94-40DE-8154-AB4F8DE7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398A-FBDB-4F98-8D12-6F90C80B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7455-E810-40F8-8C1B-6954F33F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49B2-F9AB-4934-A0F4-7D22C82E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7076-AB59-46EF-ADA9-97DB1FC7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D0AA-E5E0-4AE1-A064-AD5A5DFB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20FA-2322-4332-8D95-ED55A77A3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3C6C-FEA8-427B-A9E3-E8B9750C8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71D8-D3BC-4307-8D21-B7C92467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8477-0B16-406F-9D35-23961CA1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489F-D8D3-4204-8FB4-27130826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FAD9-319F-43A3-9A88-42253B75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212C-BBAE-41CE-8D63-8DF5077B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DFD2-5A1F-43D2-8C07-1D2379E0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9109-2442-4D8C-9E12-7B9B761E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A131-96E0-4CBD-BE56-2AA2CBBC3C5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182B-66BA-4DE7-B69B-A5D62257D89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The Cover Letter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The primary purpose of the cover letter is to acquaint the prospective employer with your unique talents and skills, and to arrange an interview to discuss employment possibiliti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ction Statemen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is statement should somehow ensure action beyond simply reading the letter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is should urge the employer to tak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avorable action on your employ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didacy or that your intentions are to call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e.g. I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will plan to call you next week to determine if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you are interested in discussing this matter      further and, if appropriate, to arrange for 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meeting with you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atement of Appreci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nce most employers are busy you should express your appreci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e.g. Thank you for your consider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e.g. I hope that you will give the enclosed resume favorable consideration. Thank you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lements of Bad Cover Let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or overall appear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or grammar, punctuation, and misspelled word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ambling – lack of focu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lf-focused versus employer focus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land, boring tex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ross exaggeration – bragg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ggressive, pushy ton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lf-depreci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ample Cover Let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ity, State, Zip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000) 237-0000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at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argaret W. Willi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irecto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each Tree Day Care Cente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7120 Greenwood Av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eltsville, MD 21000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ear Dr. Willis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aving worked in three day care centers as a volunteer and student intern, I wa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quite excited to learn from Professor Jan Jenkins that you have an opening for a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eacher at Peach Tree Day Care Center. I would very much like to be considered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r that position and feel qualified for several reason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ccording to Dr. Jenkins, you are interested in incorporating educational objectiv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nto play programs. I am not only committed to such an approach but, a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y enclosed resume illustrates, I have had the opportunity to design and implemen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uch programs at two different day care facilities. Children, teachers and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rents were all enthusiastic about how educational yet captivating these session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urned out to be, and I thoroughly enjoyed both planning them and working wit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e children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 was also informed that Peach Tree Day Care Center is heavily used by African-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merican and Hispanic families and that you strive to meet their unique needs. I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ddition to studying the culture of urban minorities, for the past two summers I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ave also been a ‘‘Big Sister’’ for two African-American children, ages 4 and 6,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living in Philadelphia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 would appreciate the opportunity to discuss these and other experiences wit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you and to find out more about Peach Tree. Spring break lasts from March x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rough the x. Would it be possible to meet with you some time then?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 look forward to hearing from you soon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ncerely,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chele Nit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hings to rememb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tterhead is obligatory!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elling should be impeccable!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body of the letter should be divided into paragraph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y attention to the layou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milies and similar symbols are not allow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mmon Mistak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ar Mr.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ncerely yours, manag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uidelines to rememb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 not duplicate what is said on your resu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The cover letter should highlight your resume by identifying how you are qualified for the position and reasons why it will be to the employers advantage to hire you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ver letter should be brief – limit it to one pag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etter should not be addressed to sir, madam, or director of personnel…find out who is responsible for hiring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uidelines to rememb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31376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lan your letter before you write i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dapt the letter carefully to conditions of the job opportun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n with the idea that captures the attention of the prospective employer so that the letter and resume are considered worth read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ose your letter with a request for an interview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209160"/>
            <a:ext cx="7313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void jarg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e good quality stationery and have the letter typed in a professional manner- never use form lette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ecial attention should be given to grammar, spelling and neatness. The cover letter should represent your very best efforts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Important Elements of a Cover Let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69284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An introductory paragrap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a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s interest get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tes or implies employment intere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I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A value-selling paragrap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a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nstrates your ability to be value add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ghlights your key strengths and abili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II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A background summary paragrap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a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iefly summarizes your relevant education and experien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V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Action stat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statement that either “compels or ensures follow up action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A statement of appreci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roductory Paragraph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re are three effective techniques f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ing a personal, customized touch in th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troductory paragraph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  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Use of personal contac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e.g.   During recent discussions with Steve Temple, you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Manager of Accounting, I became aware of you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concern about the need to automate the account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payable function. Perhaps I can be of help…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-97560"/>
            <a:ext cx="7313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I   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Use of specific company knowledg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e.g.   I read the article concerning Champion Corporation’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use of modern organization development techniques       in the August 2 issue of Business Week. As a season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O.D. Professional, I found this article unusual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interesting, and it has prompted my decision to app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for employment with your company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II  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Use of a compli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A colleague of mine has told me of your excell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reputation as an executive search firm that specializ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in the recruitment of financial executiv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alue Selling Paragraph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7691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is paragraph describes the value that  you can bring to the hiring organizatio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is IS NOT simply a listing of you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trengths. Instead, it lists specific resul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chieved and contributions mad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is provides a key opportunity to marke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yourself to prospective employer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ackground Summar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provides a brief synopsis of your relev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 and experie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ncludes the academic degree held, major field o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y, number of years of experience and a sh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ption of job-relevant experie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urpose is to convey that you have th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ropriate training, experience and seasoning 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ort the position for which you are apply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ep it brief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0:50:11Z</dcterms:created>
  <dc:creator>she</dc:creator>
  <dc:description/>
  <dc:language>en-US</dc:language>
  <cp:lastModifiedBy>Sandra Jednak</cp:lastModifiedBy>
  <dcterms:modified xsi:type="dcterms:W3CDTF">2008-11-27T07:30:10Z</dcterms:modified>
  <cp:revision>5</cp:revision>
  <dc:subject/>
  <dc:title>The Cover Letter</dc:title>
</cp:coreProperties>
</file>