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CA5-71C1-44DA-BFDE-85A1EB00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90B-1667-41DA-AEDE-1ACF7C42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3F0-4B8C-43DF-85E9-E4AFE5C0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6BC-8722-40EA-B797-90895CD2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05E0-7A58-4335-8E3E-127F4B61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D25-6F42-4770-8634-53F328B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8E6E-D14C-44E0-B3F1-63A2B5F4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57E-7F91-4EF0-992C-D91F108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B04B-8ED3-40FF-9894-43D52860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0639-F96A-460C-9B3B-FEBB819D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6189-7C30-48D8-8C0F-2D0A50A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99E-DFD9-448A-9740-3713C7C6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CFC5-1EBC-4FEE-8C56-C99CDD8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664F-6946-4B84-BDD6-0B30C7D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2299-A4B5-4C23-9801-A82B397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2537-7019-4D49-9086-0C89AF7E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8473-5EF5-4B57-8731-361557E3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EA22-E9C2-4D05-B4F3-4A1D2800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B9DC-D2FF-47F2-9EA0-31625193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C292-7F47-461F-948F-5CDDFA4A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0189C-C243-443E-9F72-7FAB500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008E-FF23-4622-9165-9377A0AB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14B-414E-40C1-B4EC-D1ECD89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DC15-4645-4D72-8F62-D9B97518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83D5-AA27-4F03-86C9-3E016B0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2825-29C8-435A-8138-BEE7FB38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5119-937E-4AC2-896E-95900F8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61C1-C0D7-4EEE-9C1C-E264C27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25AB-26CB-4CF0-B402-35BABCAD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547D-C626-4741-B2E9-86A35D26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DA48-67EB-468F-A84E-8AF385F0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8442-53FB-4D4D-A186-51039FE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24B3E-499C-473D-B374-E2675B1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9D7-8EB8-41C1-8D18-0C4F5F2D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B440-DD59-4913-A797-CF8FF9B0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B42B-C59E-4BA5-9087-307C67F3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464D-3AD2-4809-AB0B-CC0EB0B6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80E2-12FD-4F63-A8D2-E3E03CC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788C-96BA-4C13-8493-8BFAF26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5F884-6269-49FB-BDFC-69834ED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DA80-BB47-499D-84B6-49FA44A5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2E39E-61FA-49E5-B656-6F13C8FC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0BC6-E7F0-47D4-A813-792FF4B5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FDC8-79C8-402E-A5F7-D81E5607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429-9F1D-4166-819D-763D4254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5C52-6D74-4A83-A065-BADD8D7E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993B-83C2-47FD-944D-1EBDF03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ABFD-04D9-4367-BE76-47B960B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6B2C-5FDC-4918-9AC3-E35CCC18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6CC0-19F0-4266-BA28-EF7B2F2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9BD96-A641-4222-9D9E-FE2564D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EC43A-3ADE-4896-887B-FA48417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8F18-FFDB-48A6-AB62-97C3175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B3F4-75A8-4BFE-8DDA-900EFB13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A19B-A025-4D75-A270-828E2FFF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1A9-092C-4F70-A08A-701346F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E098A-2831-4B89-BE33-FDC08117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6CB-7489-40F8-8ECB-84019A9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CF1-9D54-43C0-B09E-9841A9CB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78E-B253-4777-B1D9-D59F060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9CA3-4A21-4A5E-B97B-A21AAA628C49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E321-B114-4B74-9FB7-99BECBD355B2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5AA-77F3-4A0F-882B-DAFCC2BD7C74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7368-E149-472E-93C7-916BAF313F12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DF63-CEC3-4450-8F78-24D4DF545F5C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66"/>
                </a:solidFill>
                <a:latin typeface="Franklin Gothic Book"/>
              </a:rPr>
              <a:t>Kolokvijum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U obzir dolaz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Congratulation letters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Thank you letter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Employment letter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a) Cover letter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b) Resu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c) Recommendation let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d) Meeting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e) Company profi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666666"/>
                </a:solidFill>
                <a:latin typeface="Franklin Gothic Book"/>
              </a:rPr>
              <a:t>Company Profile </a:t>
            </a:r>
            <a:endParaRPr b="0" lang="en-US" sz="54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 company profile briefly outlines the company’s products or services, its mission, employees, and a few unique aspe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Purpose of a company profile 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engage and attract the right customers or supporters for busi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acquire financ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or media atten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o attract the best candidates when posting job ap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How to start?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e.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Dear Mr. Hunt,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lease find attached the information requested by your cli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e.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We are pleased to present the basic information on ZZ Company  covering legal status, location, the company profile outline and development and investment prospec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What to include (1)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name and legal status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loc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conta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Key Executiv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Branch Lo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ompany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ovide a short history of your company including the number of years in business, a description of your company’s activities, and a tangible sense of what you do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What to include (2)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escriptions of the company’s main services or product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Number of employe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ission and philosophy of the compan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ommunity involve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(welfare activities, donations, volunteering and community support, teams, cultural institutions, and events that your company sponsors. This ads human personality to a profile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It’s important to…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onvey important fac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 precise, while including all the details about the compan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e honest and interesting to the read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Use short descriptive sentences with lots of action verb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laim the company’s unique asse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Franklin Gothic Book"/>
              </a:rPr>
              <a:t>Correspondence regarding meetings</a:t>
            </a:r>
            <a:endParaRPr b="0" lang="en-US" sz="3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inviting somebody to a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nnouncing a mee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confirming your presence at a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Perpet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cancelling a mee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Always mentio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date, time and the venue of the meet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agenda (topics and main issues to be discussed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he names of delegation/committee/ board members  who are to be pres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09040" indent="-5090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6666"/>
                </a:solidFill>
                <a:latin typeface="Franklin Gothic Book"/>
              </a:rPr>
              <a:t>Official Document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856880"/>
            <a:ext cx="77724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uthorizat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Engag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Invoic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ceip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Etc</a:t>
            </a:r>
            <a:r>
              <a:rPr b="1" lang="en-GB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1:32:07Z</dcterms:created>
  <dc:creator>Jelena Plecas</dc:creator>
  <dc:description/>
  <dc:language>en-US</dc:language>
  <cp:lastModifiedBy>Jelena Plecas</cp:lastModifiedBy>
  <dcterms:modified xsi:type="dcterms:W3CDTF">2009-12-22T22:17:53Z</dcterms:modified>
  <cp:revision>6</cp:revision>
  <dc:subject/>
  <dc:title>Slide 1</dc:title>
</cp:coreProperties>
</file>