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9B5-1B0A-4F1B-9D4D-6ADACEA1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97D-F08E-41CB-A870-4F3A9C47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81C6-AFBD-4764-ACFE-EF433A3B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74E-A4F8-49D8-B501-C10B5E43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4A32-05D3-4DE6-8082-1AC9DDBE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DA20-9B70-4CA2-9125-1F9A34BB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88F5-5ADA-437F-9D13-B26A1C0E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D8F6-C5B2-4564-9243-025A7F70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83FB-1F8E-4FA9-8B4F-CD07ACF9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E1B1-89C7-4E7D-AFD9-E80CB894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7D00-0D44-487C-9524-125DA730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D4B-AC03-4109-BA50-519A77CB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DCCF-DD7A-4DAA-BE32-6BFFFB75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C0C5-D84B-46CF-A7CC-198CEB60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E8B7-611C-4AA0-B773-DFE427AA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6E59-6618-4406-AA48-388D4478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340E-01CC-44A7-AB08-445F9A09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D680-06FE-4CD8-99F4-3C8B4550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147-39DF-409B-B547-26A61C2E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B7C-5A59-4520-BEB3-B51E084E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79E-DF7A-42C3-A6E4-3F53186C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F0B0-C730-4A0D-8DFB-22DC5B14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837-A681-43BB-8AE1-A18CA8B4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6F41-1F0C-4038-AC47-55AD4717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5EB7-092A-4D10-AF94-1A3174FAC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FA56-210B-4AEA-B103-F04F6EE62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b.olin.edu/mechanics/Backup/FALL04/images/mechanics.gif&amp;imgrefurl=http://wb.olin.edu/mechanics/Backup/FALL04/&amp;usg=__ivnPOfn-lbBBqPkqn0EpE4IX0TI=&amp;h=306&amp;w=450&amp;sz=36&amp;hl=sr&amp;start=1&amp;tbnid=0uAvZbco7FKn_M:&amp;tbnh=86&amp;tbnw=127&amp;prev=/images%3Fq%3Dmechanics%26gbv%3D2%26ndsp%3D18%26hl%3Dsr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a26d18"/>
                </a:solidFill>
                <a:latin typeface="Comic Sans MS"/>
              </a:rPr>
              <a:t>Business </a:t>
            </a:r>
            <a:br>
              <a:rPr sz="4800"/>
            </a:br>
            <a:r>
              <a:rPr b="0" i="1" lang="en-US" sz="4800" spc="-1" strike="noStrike">
                <a:solidFill>
                  <a:srgbClr val="a26d18"/>
                </a:solidFill>
                <a:latin typeface="Comic Sans MS"/>
              </a:rPr>
              <a:t>Letter Writing </a:t>
            </a:r>
            <a:br>
              <a:rPr sz="4800"/>
            </a:b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omic Sans MS"/>
              </a:rPr>
              <a:t>MECHANIC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4292640"/>
            <a:ext cx="25192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Envelopes</a:t>
            </a:r>
            <a:r>
              <a:rPr b="1" lang="en-US" sz="4400" spc="-1" strike="noStrike">
                <a:solidFill>
                  <a:srgbClr val="a26d18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velopes should match the stationary in colour, weight, general style and letterhea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turn address should be imprinted in the upper left corner of the front of the envelo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492360" y="3716280"/>
            <a:ext cx="5132520" cy="26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Envelope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iling direct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(airmail, third class, special deliver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ould be under the area where the postage will g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times the phrase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“Private and Confidentia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y be written on the envelope. Other variations are: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nfidential, Strictly confidential, and Classified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or print all address information in capital let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76720" y="4076640"/>
            <a:ext cx="3672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est preference is an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ptical-character-reader (OCR) format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for your envelop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207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a26d18"/>
                </a:solidFill>
                <a:latin typeface="Comic Sans MS"/>
              </a:rPr>
              <a:t>OCR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Points to remember *1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 business letter is always pri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Black ink is always prefer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ccuracy is important. Pay special attention to titles, names and addresses, prices and specifications, enclos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sk yourself if the letter represents your organization in a correct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sk yourself if the recipient will understand your letter quick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nclude just the right amount of information in your letter (better include too much than too litt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ake sure your signature tells your reader what he/she needs to know about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Points to remember *2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lan your letter before you start writing to make sure it says everything you want to say and says it in a logical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he layout and presentation of your letter is important as they give the reader the first impression of the firm’s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Use a simple but polite style of language. Beware of idio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ith a very few exceptions, business correspondence is being word processed in most places of busines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Your letter should be clear. Take care with abbreviations and figure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 be continued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17492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Business stationery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76440" y="1523880"/>
            <a:ext cx="5991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Letterhead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55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Letterhead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ndatory elemen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m nam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 (including zip code and area cod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ephone numb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x number (if it is use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ptional elemen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log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executive’s name and titl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list of board directors or other governing bodie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good letterhead sh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able, informative and attractive 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too attention occupy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Letterhead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561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Second sheets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be the same quality of the letterhead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have the printed logo of the company, but the print is smaller and the address is not inclu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Enclosures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mall enclosures (checks, folded flyers, business cards) are placed inside the folds of the let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safeguard against overlooking them inclu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n enclosure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your le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your enclosures are bulkier, use an appropriately sized manila envelo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Folding and inserting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ld the paper in horizontal third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ert the paper with the back of the top third facing the fla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the recipient pulls out the letter and flips up the top third, he is ready to begin read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using window envelope, the letters are to be folded so that the name and address appear in the wind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6d18"/>
                </a:solidFill>
                <a:latin typeface="Comic Sans MS"/>
              </a:rPr>
              <a:t>Folding and inserting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6696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6T08:48:19Z</dcterms:created>
  <dc:creator>FON</dc:creator>
  <dc:description/>
  <dc:language>en-US</dc:language>
  <cp:lastModifiedBy>FON</cp:lastModifiedBy>
  <dcterms:modified xsi:type="dcterms:W3CDTF">2000-01-16T10:34:27Z</dcterms:modified>
  <cp:revision>3</cp:revision>
  <dc:subject/>
  <dc:title>Business  Letter Writing  </dc:title>
</cp:coreProperties>
</file>