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E45-6EE2-474E-8B8D-AD12B856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CE4-D103-4CF5-88E0-C7F37C2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A49-0D5B-464D-91F9-75D5AE7F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8BE-41CF-473D-AEC8-E2B2E3A4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6134-FC1C-4A02-8121-D3A88462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D1CD-B659-4DC5-88BC-49061D0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18AD-8277-438E-A047-B07C7446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54F2-184E-4E28-A3A6-6B912458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1E97-D7D2-4FE7-B1C8-52BA8149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9CA2-A4D5-4E11-994C-A4C5524E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6CA3-4D49-4470-837D-FEC3D275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207-6AED-4845-93C8-CFD62922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E7F9-E6D5-4A37-8923-302EFCF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C761-FC53-4B6F-93A5-AC7EA41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0924-DBD7-42BE-8CCB-13EBCC51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702B-ADF0-43CE-B9A2-32C33DD1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57E8-AD6F-47A6-8071-0B576C64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5AE-A15F-4F5E-A4BB-5D1173C9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223-0A24-4614-AD59-3FFA97C4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631-CEE3-4EC7-9E23-9D044243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8EC-E8D0-4F55-8A92-6D59FB0F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652-A7B7-4BCF-9474-8AFB7A0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B02-E087-43DE-8538-EAF8F8D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9D2-42B3-4680-ACBE-C8D04EDB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595C-79CE-4006-9CA5-9315786FAA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A81-D6B4-4056-AC2F-E3D5B24ADC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TTERS REGARDING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Occas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s for a job, proposals, suggestions, letter of application, CV and résumé writing, complaints, announcements, company policies change, interviews, references, recommendations, meetings, raises, promotions, requests, resignations, retirement, et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What to sa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letter should be brief, descriptive and dynam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your interest in the company or the jo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ase you are turning down an applicant, state clearly the reasons you are not able to accept him for the position he is applying f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ositive comments on the person’s credent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thee reasons why you think you are suited for the job and what you can do for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be as clear in your intentions as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letter should be brief and to the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What not to say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let negative emotions appear in letters between employer and employ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be ru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simply what your intentions are; do not make it too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Some useful phrases and sentenc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am proud to be part of such a creative and enthusiastic team – I hope you are, to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hear of any openings of the company, I would certainly appreciate knowing about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carefully considered your letter of application … and have been most favourably impre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with regret that we accept your resignation, effective April 2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be glad to provide a good 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363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keep your application in file in case we should have any openings in the near fu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ould like to offer my services to the compa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you are aware, we continue to be highly interested in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k you for applying for the position of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solve this problem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ease accept my resignation, effectiv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time to discuss this in the next couple of days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ying for a Jo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pplication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urriculum Vit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over Letters for CV and Résum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35:30Z</dcterms:created>
  <dc:creator>she</dc:creator>
  <dc:description/>
  <dc:language>en-US</dc:language>
  <cp:lastModifiedBy>she</cp:lastModifiedBy>
  <dcterms:modified xsi:type="dcterms:W3CDTF">2008-11-24T11:00:21Z</dcterms:modified>
  <cp:revision>2</cp:revision>
  <dc:subject/>
  <dc:title>LETTERS REGARDING EMPLOYMENT</dc:title>
</cp:coreProperties>
</file>