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EFC-2E15-4B44-B8B8-D03DD14A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243-4DC5-4ABF-B6D8-B600EDE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866-64AF-45F2-8480-A7D15A3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453-DDAE-4178-AFDB-26B4959A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FBD-D54E-4668-8013-3695CA24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671F-09DE-4B6A-83C7-4727693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2053-31ED-468A-A8D3-D68B248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F49-CF29-428C-8DF6-B5F0B08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5787-B0A4-48DA-B13C-15B7CF39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FD5-3DED-4C30-8D5E-184EF27A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999-23A2-4BC0-BACE-FE90C2A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9F4-AE71-415B-8872-A9F9470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55A2-3C64-4C67-89AC-BFDA7BE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18A-D094-4E88-A8E6-C62E45A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1EE-EC0C-455E-9976-7A434AC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EAC3-7854-4023-B554-9364E12C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3D1F-7133-4B1D-A91D-E6DE1781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34A-D092-40FD-98AE-169013C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415-5984-45F0-B8F5-5E11DE05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0BE-BA9E-4E4D-B30B-5047E71D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650-6004-49F1-B62E-75D7D869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AA8-3464-4C9A-9557-2202ED0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7F9-A93B-450E-88CB-866E935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DDD-93E8-4CD9-9F17-5DDF198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BCBD-689B-408A-8D3A-411EF6E148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2821-C2E4-4BE5-8108-F0FC2842A8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penclipart.org/people/barretr/barretr_Pencil.pn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usiness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Letter Writing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2471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dress of the recipi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undsonic L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arwick House, Warwick Stree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rrest Hi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ondon SE23 1J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ITED KINGD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on the left and single spac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ipient’s name (if stated) is followed by the company’s name, the department or division, the street address, city postal code and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the lines is very long, put half of it on the next line, indenting two or three spa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p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cipient’s name (if stated) and the title are separated by a com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itle can be underneath the name or omit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re writing to more than one person, make a list of the names in alphabet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tention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ttn: Sales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used when you do not know the name of the person you are writing 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ne can also be printed before the address of the compan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jec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BJECT: Quadraphonic sou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bject ti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further referenc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introducing the subject in the first paragrap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ly draws attention to the topic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writer to refer to it throughout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ly identifies the purpose of the let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less than one line/ one or two wor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f No: 99887/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indicate what the letter refers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Your Ref.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correspondence to refer to when replying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Our Ref.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referring to an order number or to a reference number used by you or your recipient, make sure you quote all references accuratel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laced instead of the subject tit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adam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Sir or Mad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ar Mr. J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written below the address and with a space of one or two lines before the body of the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ollowed by a comma (,) or a colon (:), which is op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of the let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s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iv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letter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ort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u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make a letter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ear, informative and accu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possib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ngth depends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bject of the let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yle and the language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 length includes the right amount of inform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necessary points should be made in a logical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iece of information linking with the previous one in a pattern that can be follow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put the ideas and information in logical or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lang, jargon, buzz words, and elitis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the passive vo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ll rather than abbreviated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active voice and active verb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brief. Give short but clear explanations, instructions, reas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pecific. State the fac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pleasant, positive, lively, and encourag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ord “you” in the opening sentence, but avoid using too many “you”-s in your let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”-s should be used when you are speaking about yoursel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”-s should be used when speaking on behalf of your company or a group of associ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unbiased language and avoid gender-biased languag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39640" y="1341360"/>
          <a:ext cx="8229600" cy="596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bi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person, business executive, 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rperson, moderator, chair, group l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ed African-Ameri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esperson, sales agent, sales represent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 man/wo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lder 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factured, hand-built, hand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 business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terhead or return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or confidential no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 addres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tion lin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t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or referenc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or tex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mentary clo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d title lin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losure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ies l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scri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rst paragrap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main idea in the first or second sentence of your lett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sentences should catch the reader’s eye and get him to react to your lette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rst paragraph you wi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nk your correspondent for his letter (if replying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yourself and your company if necessar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the subject of the letter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ut the purpose of the let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cond paragraph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in part of the le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concerned with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s that need to be ma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wers you want to give 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 you want to as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losing the letter …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the person for writing, if you re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further enquiries and corresponden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tion that you look forward to be hearing from the person so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issues from the previous paragraphs may be rest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imentary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sincere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faithfull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Yours truly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ruly you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Sir, Dear Sirs, Dear Madam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Dear Sir or Mada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faithfull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letter begin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personal nam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ear Mr Ja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it will close with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ours sincer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a after the complementary close is opt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e one line between the body of the letter and the complimentary clo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type your name after your handwritten signature and your position in the firm. That is known as the signature bloc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ndwritten signature should be between the complimentary close and the typed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and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or more spaces should be left below the complimentary close for your name and tit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urtesy title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r, Mrs, Miss, 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may be includ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mit the name and title if they appear on the letterhea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 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er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 pr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ometimes used in signatures and mean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or and on behalf o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closur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Enc. or Encl.: Bill of loading (5 copies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losures may include leaflets, prospectuses, CV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mentioned at the bottom of the letter aft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c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a number of documents, these are lis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pies line - c.c. (carbon cop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.c. Mr. J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s written when copies are sent to people other than the named recipi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.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and list the individuals receiving the copies of the letter by full name and tit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.c.c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(blind carbon copie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ritten on the copies themselves (not on the top copy) if you do not want the named recipient to know that other people have received cop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scrip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.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te for additional attention is usually put on the left, two or three lines below the last l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27320" y="138960"/>
            <a:ext cx="443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Letter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27320" y="404640"/>
          <a:ext cx="4691160" cy="6556320"/>
        </p:xfrm>
        <a:graphic>
          <a:graphicData uri="http://schemas.openxmlformats.org/drawingml/2006/table">
            <a:tbl>
              <a:tblPr/>
              <a:tblGrid>
                <a:gridCol w="904680"/>
                <a:gridCol w="378648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der’s address/Business Lett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dgade 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K 12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enhagen K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4922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NMA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mber 27, 2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ide   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ndsonic Lt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wick House, Warwick Street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rest Hil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don SE23 1J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 the attention of the Sales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ject tit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draphonic sound syst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r Sir or Madam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le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ease would you send me details of your quadraphonic sound systems which were advertised in the April edition of Sound Monthl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am particularly interested in the Omega range of  equipment that you specialize 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imentary cl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rs faithfully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Kaasen (M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 (p.p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Mana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loading (5 cop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l of exchange (1 cop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.c. Messrs. Poole &amp; Jackson Ltd. Solici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4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ments of a letter should be neither too widespread nor too den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letter is brief, use larger fonts. It will look bett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mat should convey information clearly and logically, reflecting your organization’s sty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terhead Sta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company is not using letterhead stationary, it has to include its addres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wo lines immediately preceding the date lin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K, in contrast to the practice in some countries, it is not usual to write the sender’s name before the sender’s add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e is written bellow the sender’s address, sometimes separated from it by a spa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n the right-hand side of the pag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ost common for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vember 27, 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 November, 2009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nth is never abbreviated, the day is never spelled out, and endings for numbers (27th) are not usually us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hortened date can also be us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/27/2009 (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7/11/2009  (B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 or personal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ivate &amp; confid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w the date but above the address of the person you are writing to (recipi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date line and the inside addres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ame notation should be put on the envelop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8:49:16Z</dcterms:created>
  <dc:creator>FON</dc:creator>
  <dc:description/>
  <dc:language>en-US</dc:language>
  <cp:lastModifiedBy>FON</cp:lastModifiedBy>
  <dcterms:modified xsi:type="dcterms:W3CDTF">2000-01-18T11:16:16Z</dcterms:modified>
  <cp:revision>5</cp:revision>
  <dc:subject/>
  <dc:title>Slide 1</dc:title>
</cp:coreProperties>
</file>