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630-847D-45DC-B89D-DB4C8D63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A64-550F-4C3C-B7A4-8D224921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50A-81C9-4332-8214-57D8CDB8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86F-C7F3-4B0B-A06C-F59A7CA1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9B5-04D0-41E0-B824-EB90C41C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7DBA-2E24-4806-928E-4CCD599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9A6B-1343-428F-82C0-811E5A4D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152F-5C8A-49D6-BB60-4EC1724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931-908C-4AEA-BD68-1D604B9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805D-541E-4208-9293-84D99EA0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25E2-4D1F-423D-BA5C-6BF1205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3B1-C12C-48F3-891F-4D44CB5F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C1F5-9367-4A26-A0B9-88AAB941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3A80-83CE-4244-B6A3-14E2338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2657-2BE2-4A01-98B5-27562FE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8C6-8B32-487F-9F9A-66E78B5C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59CA-678C-4EFA-AD91-D0EC398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58C3-BDB6-440F-9B18-2678032B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475A-BC27-4CF1-BB80-082944D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FE74-3210-4B8B-9B51-8009896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2EEF-AC92-4C22-B82F-5BBDCD9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664B-B776-4871-873A-C0C2A633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63D-2202-4CA6-B417-E5FA969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224B-B4DA-4E09-93EE-8EDC8EC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E6A4-48EA-4DFE-8078-8A9CF92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133D-35C1-49E4-98F1-334F8D69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8131-2A42-45AC-B9FE-EABFEE8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C037-94D1-4E01-B459-871B36D4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3515-4548-4F9E-876D-657B10AA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C646-B2B7-4730-A903-9619A026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1673-C07D-4595-A124-4C418E30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6494-33E5-46BC-A172-123335B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B5F7-D0B1-43B0-A6C6-D80A14A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CCC-A532-43CF-AD91-817DBCFD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351E-EC6B-4E36-AA0D-47EF9528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31BE-8D23-41F9-9F01-97B5621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6826-BD05-42A2-A531-2BE29D92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0F53-94E9-48B5-AB0F-2A9BAA51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2038-2A7E-41DC-8898-68E0879A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2523F-3374-4094-BA0F-24F1AAF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E073-2A1E-4329-8413-5295DF8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7F5F-AF1C-49DF-B100-5C8211E3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4741D-3505-48CB-8D1F-5409234B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A9B-AA6F-47D7-9210-F233287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0E9-415D-4B75-AA29-922B6B10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B4D-5CC9-4FDE-8A9F-BB95D2D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CF4-F983-4F7E-8C76-B7BC1F9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EF7-5C76-44F8-8A1F-E40E8394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1269-834E-4FC5-92C3-98BD9A34EA76}" type="slidenum">
              <a:rPr b="0" lang="en-US" sz="1200" spc="-1" strike="noStrike">
                <a:solidFill>
                  <a:srgbClr val="64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b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7DF5-3511-4173-9154-62C271456AC4}" type="slidenum">
              <a:rPr b="0" lang="en-US" sz="1200" spc="-1" strike="noStrike">
                <a:solidFill>
                  <a:srgbClr val="dedb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b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CBB9-52D8-4575-8141-B6BD398CC54E}" type="slidenum">
              <a:rPr b="0" lang="en-US" sz="1200" spc="-1" strike="noStrike">
                <a:solidFill>
                  <a:srgbClr val="dedb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a170a">
                  <a:alpha val="45098"/>
                </a:srgbClr>
              </a:gs>
              <a:gs pos="100000">
                <a:srgbClr val="a08451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c6946">
                  <a:alpha val="45098"/>
                </a:srgbClr>
              </a:gs>
              <a:gs pos="100000">
                <a:srgbClr val="9e15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b2d1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28e6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9562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16E7-E8A1-4163-BA68-C3A951E71363}" type="slidenum">
              <a:rPr b="0" lang="en-US" sz="1200" spc="-1" strike="noStrike">
                <a:solidFill>
                  <a:srgbClr val="64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6137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  <a:ea typeface="宋体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Semicolon (;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To separate the clauses of a compound sentence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(except the ones with and, or, but, no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Some firms went bankrupt; others have survive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When one or both clauses have internal comm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i="1" lang="en-US" sz="19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</a:rPr>
              <a:t>The issues that top security analysts favour include Bristol Myers, NYSE, $42, among drug companies; McDonald's, NYSE, $72, in restaurants; and Lockheed, NYSE, $115, in aerospa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To separate clauses of a compound sentence joined by </a:t>
            </a:r>
            <a:r>
              <a:rPr b="1" i="1" lang="en-US" sz="2200" spc="-1" strike="noStrike">
                <a:solidFill>
                  <a:srgbClr val="9b2d1f"/>
                </a:solidFill>
                <a:latin typeface="Comic Sans MS"/>
              </a:rPr>
              <a:t>nonetheless, however,</a:t>
            </a: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 or </a:t>
            </a:r>
            <a:r>
              <a:rPr b="1" i="1" lang="en-US" sz="2200" spc="-1" strike="noStrike">
                <a:solidFill>
                  <a:srgbClr val="9b2d1f"/>
                </a:solidFill>
                <a:latin typeface="Comic Sans MS"/>
              </a:rPr>
              <a:t>for example</a:t>
            </a:r>
            <a:r>
              <a:rPr b="1" lang="en-US" sz="2200" spc="-1" strike="noStrike">
                <a:solidFill>
                  <a:srgbClr val="9b2d1f"/>
                </a:solidFill>
                <a:latin typeface="Comic Sans MS"/>
              </a:rPr>
              <a:t>: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2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We will produce the product; however, it will cost $15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lon (: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introduce words, phrases, or clauses that explain, amplify, or summarize what has preced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re are several courses you can take: anthropology, psychology, or sociology. The verdict is in: accept the propos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introduce a li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 the session we will also discu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consumption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s proj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lon (: )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eparate hour and minute in ti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3:45 p.m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llowing a salutation in a business lett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Ladies and Gentlem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Apostrophe (‘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ossessive case of singular and plural nou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Sam's final re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y friends'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lurals of figures, letters, or word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the 1900'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n omission of figures in d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the class of '8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Hyphen (-)</a:t>
            </a:r>
            <a:r>
              <a:rPr b="0" lang="en-US" sz="3600" spc="-1" strike="noStrike">
                <a:solidFill>
                  <a:srgbClr val="696464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join the elements of some compoun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Cost- effectiveness      self- employed        cost-of-living ind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ubstitute for the word to between figures or wor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3-5 month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Brackets ( 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aterial that is not an essential part of the sentenc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he Pittsburgh television (KDKA) director John Down is highly respec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igures following and confirming written-out numb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We placed twelve (12) telephone calls to Euro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Period - Full stop (.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complete a declarative sentenc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He completed the work on tim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abbrevi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Inc. Etc. Lt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Italics</a:t>
            </a:r>
            <a:r>
              <a:rPr b="1" i="1" lang="en-US" sz="3600" spc="-1" strike="noStrike">
                <a:solidFill>
                  <a:srgbClr val="9b2d1f"/>
                </a:solidFill>
                <a:latin typeface="Comic Sans MS"/>
              </a:rPr>
              <a:t> (italics)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the titles of books, plays, long poems, magazines, newspapers, TV se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he Saturday Review        When Harry Met Sal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the names of paintings and sculpt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Mona Lis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Quotation Mark (“   ”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enclose direct quotations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“We couldn't complete the work.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set off the titles of articles, essays, short stories, short poems, TV and radio programs, short musical piec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Linguistics: “An Introducti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SPELLING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Forming Possessive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o form a possessive of a singular noun add an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’s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to the noun.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June's advice                    judge's verdict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Arkansas's economy        boss’s request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For a plural noun that ends in s, add only an apostrophe: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witnesses' testimo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42217"/>
                </a:solidFill>
                <a:latin typeface="Comic Sans MS"/>
              </a:rPr>
              <a:t>BASIC RULES OF LETTER WRITING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mpeccable use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pit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nct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umer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Forming Possessive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possessive form is used in many common expressions that refer to time and measur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an hour's time               this morning's mee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Possessives in holidays are usually sin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Father's Day                      New Year's Ev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96464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NUMERAL US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Spell out numbers from zero to ten and use figures for numbers 11 and above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   seven applicants               13 candida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hen a sentence begins with a number, spell it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( calendar years are the exception)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Fifteen thousand feet of wire was los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write decimals in fig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100.23 m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Numbers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hen two or more numbers appear in one sentence, use figures if one is below 10 and the other above 10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About 15 orders were delivered on 2 tru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use figures with abbreviations and symbols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      #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16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If a number forms part of a corporate name or a set phrase, use the exact style on the letter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Twentieth Century-Fox Film Cor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Money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Use figures to express amounts of money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$18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oney in even amounts of a million or more may be expressed partially in words or in abbreviatio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$8.5 billion or $8.5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pell out indefinite amounts of mone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several thousands of doll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6705720" y="4352760"/>
            <a:ext cx="2438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Percentages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Express percentages in figures and spell out the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word percent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.g. The interest is 5 percent a y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lock Tim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Always use figures with 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a.m. or p.m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     3:50 p.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Measurement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Measurements are expressed in fig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.g. A higher rate is charged on packages over 3.5 kil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Roman Numera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Roman numerals are used for proper names,  divisions of literary and legislative material and in dates on public building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696464"/>
                </a:solidFill>
                <a:latin typeface="Comic Sans MS"/>
              </a:rPr>
              <a:t>e.g. King Edward VII              Part VI           Chapter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Calibri"/>
              </a:rPr>
              <a:t>Correct the mistakes in this letter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rs. Clara Wint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2187 s. Polo dr. 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airfax, VA 2203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26.5.200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Tiny Tots Toy comp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fteen 456 pyramid Wa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llege park, FL 3313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ear “customer  service Representative”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recently purchased 1 of your Tiny Tents (Model #four seven four) for my daugh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nfortunately  after viewing the components that came with the product I discovered that 3 of the parts were miss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am writing to request replacements; for the missing part If reasonable arrangements are not made within 7 business days: I will return the tent to the store I purchased it from and expect a full refund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 sincerely hope this is a one time incident - and that; any future Purchases I make will live up to the standard, we have  come to expect from your Comp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ncerely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lara winte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582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mrs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ra Win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2187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.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lo d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airfax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 2203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6.5.2002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ny Tots Toy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ifte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456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yramid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llege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par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FL 3313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“customer  service Representativ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recently purchased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your Tiny Tents (Model #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four seven fou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for my daugh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Unfortunately after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ewing the components that came with the product I discovered that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parts were missi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 writing to request replacements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or the missing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art If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asonable arrangements are not made within 7 business days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will return the tent to the store I purchased it from and expect a full refund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 sincerely hope this is a one time incident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that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 future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urchas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 make will live up to the standard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, w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ave  come to expect from your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incerely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ra </a:t>
            </a: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winter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742217"/>
                </a:solidFill>
                <a:latin typeface="Constantia"/>
              </a:rPr>
              <a:t>Thank you for your attention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b2d1f"/>
                </a:solidFill>
                <a:uFillTx/>
                <a:latin typeface="Comic Sans MS"/>
              </a:rPr>
              <a:t>The first word of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Every sente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4a3128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ry is paying interest on troubles that may never come tru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A direct quot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"</a:t>
            </a:r>
            <a:r>
              <a:rPr b="0" i="1" lang="en-US" sz="1800" spc="-1" strike="noStrike">
                <a:solidFill>
                  <a:srgbClr val="4a3128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 shook hands with the minister" he sai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The salutation and complimentary close of a lette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2d1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ar Mr. Adam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ry truly you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Comic Sans MS"/>
              </a:rPr>
              <a:t>Each item displayed in a list or outl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 1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ings to remembe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ak clear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eak confidentl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 articula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b2d1f"/>
                </a:solidFill>
                <a:uFillTx/>
                <a:latin typeface="Comic Sans MS"/>
              </a:rPr>
              <a:t>Proper nou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people, corporations, organizations, historical periods and event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izabeth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le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vironmenta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otection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gency, the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vi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places and reg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reet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th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le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w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rk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ina, the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uth,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ooklyn </a:t>
            </a:r>
            <a:r>
              <a:rPr b="0" i="1" lang="en-US" sz="18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rivers, lakes, mountains, seas, and oceans</a:t>
            </a:r>
            <a:r>
              <a:rPr b="0" i="1" lang="en-US" sz="2000" spc="-1" strike="noStrike">
                <a:solidFill>
                  <a:srgbClr val="9b2d1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lantic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ean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ssissippi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ver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k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ctoria, 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p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Names of nationalities and languag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rican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rb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elic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itles of peop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ief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stice Williams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ident Alexander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neral Patton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pe John Paul I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ister Jordan,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een Elizabe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itles of publications and artistic works</a:t>
            </a:r>
            <a:r>
              <a:rPr b="0" lang="en-US" sz="28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reet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n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hington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Days, Months, and Holidays</a:t>
            </a:r>
            <a:r>
              <a:rPr b="1" lang="en-US" sz="1400" spc="-1" strike="noStrike" u="sng">
                <a:solidFill>
                  <a:srgbClr val="9b2d1f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d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moria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ristm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c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uprem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urt of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pea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apitalize…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Abbreviations and Acrony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e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Dr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J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IB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Lt. Gov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Sincla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reaties, laws, pacts and  amend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fth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ndment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vil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ghts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t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saw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Trademarks and Service Ma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rox           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eenex       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nd-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Scientific Na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ddl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lky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y                    </a:t>
            </a:r>
            <a:r>
              <a:rPr b="0" i="1" lang="en-US" sz="2000" spc="-1" strike="noStrike">
                <a:solidFill>
                  <a:srgbClr val="cc9900"/>
                </a:solidFill>
                <a:latin typeface="Comic Sans MS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Comic Sans MS"/>
              </a:rPr>
              <a:t>PUNCTUATION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use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Comma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,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Semicolo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;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Colo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: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Apostrophe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‘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Exclamation Point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!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Hyphen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-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Brackets (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Period - Full stop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Question Mark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?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9b2d1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Italics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italics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Quotation Mark 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9b2d1f"/>
                </a:solidFill>
                <a:latin typeface="Comic Sans MS"/>
              </a:rPr>
              <a:t>“   ”</a:t>
            </a:r>
            <a:r>
              <a:rPr b="0" i="1" lang="en-US" sz="2400" spc="-1" strike="noStrike">
                <a:solidFill>
                  <a:srgbClr val="9b2d1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6172200" y="1066680"/>
            <a:ext cx="2362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mma </a:t>
            </a:r>
            <a:r>
              <a:rPr b="0" lang="en-US" sz="3600" spc="-1" strike="noStrike">
                <a:solidFill>
                  <a:srgbClr val="9b2d1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9b2d1f"/>
                </a:solidFill>
                <a:latin typeface="Comic Sans MS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Words, phrases, or clauses loosely added on to the end of a sente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 I am happy about the results</a:t>
            </a:r>
            <a:r>
              <a:rPr b="0" i="1" lang="en-US" sz="2000" spc="-1" strike="noStrike">
                <a:solidFill>
                  <a:srgbClr val="cc99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ally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Nonessential expressi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 There is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o doubt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n explanation for the change in pla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nstantia"/>
              </a:rPr>
              <a:t>A nonrestrictive clause or phrase</a:t>
            </a:r>
            <a:r>
              <a:rPr b="0" lang="en-US" sz="2400" spc="-1" strike="noStrike">
                <a:solidFill>
                  <a:srgbClr val="9b2d1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b2d1f"/>
                </a:solidFill>
                <a:latin typeface="Constanti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e.g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re is a fine line between editing and formatting</a:t>
            </a:r>
            <a:r>
              <a:rPr b="0" i="1" lang="en-US" sz="2000" spc="-1" strike="noStrike">
                <a:solidFill>
                  <a:srgbClr val="9b2d1f"/>
                </a:solidFill>
                <a:latin typeface="Constantia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which is covered in the following sections.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b2d1f"/>
                </a:solidFill>
                <a:latin typeface="Constanti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9b2d1f"/>
                </a:solidFill>
                <a:latin typeface="Comic Sans MS"/>
              </a:rPr>
              <a:t>Comma (,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Words used in direct address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r. Stone, please submit your report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ome titles and degrees from surnames and from</a:t>
            </a:r>
            <a:r>
              <a:rPr b="1" lang="en-US" sz="2400" spc="-1" strike="noStrike" u="sng">
                <a:solidFill>
                  <a:srgbClr val="9b2d1f"/>
                </a:solidFill>
                <a:uFillTx/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the rest of a sente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US" sz="2000" spc="-1" strike="noStrike">
                <a:solidFill>
                  <a:srgbClr val="9b2d1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ohn P. Jamison, Jr., wrote………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usan H. Greenfield, Ph.D., presented………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Series of four or more figures into thousands, millions, and so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g. 5,000                        15,000                     5,000,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mic Sans MS"/>
              </a:rPr>
              <a:t>Year from the month and day in full dates</a:t>
            </a:r>
            <a:r>
              <a:rPr b="1" lang="en-US" sz="2800" spc="-1" strike="noStrike">
                <a:solidFill>
                  <a:srgbClr val="9b2d1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 meeting was held on February 6, 1991, in Chica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a28e6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35:19Z</dcterms:created>
  <dc:creator>she</dc:creator>
  <dc:description/>
  <dc:language>en-US</dc:language>
  <cp:lastModifiedBy>seser</cp:lastModifiedBy>
  <dcterms:modified xsi:type="dcterms:W3CDTF">2009-10-21T08:26:55Z</dcterms:modified>
  <cp:revision>17</cp:revision>
  <dc:subject/>
  <dc:title>BASIC RULES OF LETTER WRITING</dc:title>
</cp:coreProperties>
</file>